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897200" y="6350040"/>
            <a:ext cx="573696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IBIS Open Forum, China, 27</a:t>
            </a:r>
            <a:r>
              <a:rPr b="1" lang="en-US" sz="1600" spc="-1" strike="noStrike" baseline="30000">
                <a:solidFill>
                  <a:srgbClr val="ff99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 October 200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81880" y="6161040"/>
            <a:ext cx="762120" cy="6969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570800" y="6141960"/>
            <a:ext cx="1573200" cy="71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0120" y="6143760"/>
            <a:ext cx="506160" cy="53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00"/>
                </a:solidFill>
                <a:latin typeface="Arial"/>
              </a:rPr>
              <a:t> </a:t>
            </a:r>
            <a:fld id="{FD0C9D2C-421D-4311-89A0-E95B8380372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920" y="191880"/>
            <a:ext cx="6728040" cy="37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9900"/>
                </a:solidFill>
                <a:latin typeface="Arial Black"/>
              </a:rPr>
              <a:t>IBIS modeling of DDR2 in conjunction with linear channel analysis</a:t>
            </a:r>
            <a:br>
              <a:rPr sz="2600"/>
            </a:b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26000" y="2971800"/>
            <a:ext cx="4518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 Black"/>
              </a:rPr>
              <a:t>Ian Dodd</a:t>
            </a:r>
            <a:endParaRPr b="0" lang="en-US" sz="25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rchitect, High Speed Too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279360" y="5816520"/>
            <a:ext cx="41148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Mentor Graphics Corp., 2006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e by written permission only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6728" r="0" b="11542"/>
          <a:stretch/>
        </p:blipFill>
        <p:spPr>
          <a:xfrm>
            <a:off x="6689880" y="352440"/>
            <a:ext cx="2271600" cy="21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</p:pic>
      <p:sp>
        <p:nvSpPr>
          <p:cNvPr id="86" name=""/>
          <p:cNvSpPr/>
          <p:nvPr/>
        </p:nvSpPr>
        <p:spPr>
          <a:xfrm flipV="1">
            <a:off x="4349880" y="2533680"/>
            <a:ext cx="2219040" cy="648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9920" y="2486160"/>
            <a:ext cx="4186080" cy="3157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34360" y="44956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7th October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61720" y="3809880"/>
            <a:ext cx="24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an_dodd@mentor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igh performance source synchronous buses, including DDR2 are known to be susceptible to resonanc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blished solution is to add compensation capacito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 is difficult to demonstrate these resonances in traditional time domain SI simulator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onance only occurs with specific repeated bit sequen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near channel analysis can identify the resonances but has limitations in its ability to determine if they are harmfu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DR2 drivers exhibit non-linearity's which may affect characteristics such as overshoo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 paper describes the early results of our analysis of resonances in DDR2 buses using of both tradition circuit simulation using IBIS 4.2 models and linear channel analysi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nalysis Step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Extract DDR2 Address net from layout</a:t>
            </a:r>
            <a:endParaRPr b="1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 has motherboard, 2 DDR2 modules and connecto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Measure pulse response of the net using standard circuit simulation</a:t>
            </a:r>
            <a:endParaRPr b="1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BIS 4.2 driver and receiver mode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ulating multiple pulses allows the degree of non-linearity to be determin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Linear channel analysis</a:t>
            </a:r>
            <a:endParaRPr b="1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rmine worst case bit sequ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eye diagram with linearized drivers and receiv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Standard circuit simulation using worst case bit sequence</a:t>
            </a:r>
            <a:endParaRPr b="1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eye diagram without lineariz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lvl="1" marL="914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1. DDR2 address net extracted from layout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576840" cy="5156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. Full non-linear simulation to establish pulse response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095880" cy="4929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3. Linear Channel Analysis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400800" cy="494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476520" cy="3390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-92160" y="6796080"/>
            <a:ext cx="2835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5638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ye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50292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st Case Stim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1066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% Non-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4. Full Non-linear simulation using Worst Case Stimulus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93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Further Work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is paper is based on the early results of this investigation into resonances on DDR2 bus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plan to further examine the detailed affects of channel layouts, connector characteristics and the optimization of compensation capacitors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Jorge T Juliano, Jr.</dc:creator>
  <dc:description/>
  <dc:language>en-US</dc:language>
  <cp:lastModifiedBy>Bob Ross</cp:lastModifiedBy>
  <cp:lastPrinted>2002-05-03T20:18:08Z</cp:lastPrinted>
  <dcterms:modified xsi:type="dcterms:W3CDTF">2006-09-29T23:20:58Z</dcterms:modified>
  <cp:revision>362</cp:revision>
  <dc:subject/>
  <dc:title>No Slide Title</dc:title>
</cp:coreProperties>
</file>