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9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9281C-F6F5-4D71-AEBE-13F8BE31A6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447560" y="35712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6836E-3D24-4CBB-BE4B-E4B5EA15F3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0007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336A5-5BF1-46D2-BE65-522B8C4B3F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9188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13620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44756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79188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13620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8B98C-B9A2-40ED-8B82-FE29592180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2080" y="-360"/>
            <a:ext cx="7088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A2B56-D238-4C11-B3CF-8B8E41B244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007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47560" y="35712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0007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79188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13620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4756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79188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13620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C6206-C03D-4D3C-B3C9-DF3130A4C8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71D52-AD66-419F-AFA0-5576BBB60E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6BCE1-494D-4388-A595-EFA216BDB1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522080" y="-360"/>
            <a:ext cx="7088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B1B0E-3DBA-4A6F-A6DD-20613CD1A7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424DA-B569-494A-B634-FC9A46430A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007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EF65D-FF0A-4ED7-A15A-3C9C443906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AD6AC-AB38-47DC-8D84-0DD4C0C3C6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23760" y="6248520"/>
            <a:ext cx="329904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9/27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Other brands and names are the property of their respective own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266720" y="62485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1A28376F-41D2-4588-8F77-F142DBBB1CA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219320" y="457200"/>
            <a:ext cx="7544880" cy="612720"/>
            <a:chOff x="1219320" y="457200"/>
            <a:chExt cx="7544880" cy="612720"/>
          </a:xfrm>
        </p:grpSpPr>
        <p:sp>
          <p:nvSpPr>
            <p:cNvPr id="4" name=""/>
            <p:cNvSpPr/>
            <p:nvPr/>
          </p:nvSpPr>
          <p:spPr>
            <a:xfrm>
              <a:off x="8588880" y="457200"/>
              <a:ext cx="175320" cy="14760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52" y="47"/>
                  </a:move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89" y="12"/>
                  </a:lnTo>
                  <a:lnTo>
                    <a:pt x="92" y="14"/>
                  </a:lnTo>
                  <a:lnTo>
                    <a:pt x="92" y="17"/>
                  </a:lnTo>
                  <a:lnTo>
                    <a:pt x="96" y="17"/>
                  </a:lnTo>
                  <a:lnTo>
                    <a:pt x="96" y="21"/>
                  </a:lnTo>
                  <a:lnTo>
                    <a:pt x="99" y="23"/>
                  </a:lnTo>
                  <a:lnTo>
                    <a:pt x="99" y="25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4" y="36"/>
                  </a:lnTo>
                  <a:lnTo>
                    <a:pt x="104" y="38"/>
                  </a:lnTo>
                  <a:lnTo>
                    <a:pt x="104" y="40"/>
                  </a:lnTo>
                  <a:lnTo>
                    <a:pt x="104" y="42"/>
                  </a:lnTo>
                  <a:lnTo>
                    <a:pt x="104" y="47"/>
                  </a:lnTo>
                  <a:lnTo>
                    <a:pt x="104" y="49"/>
                  </a:lnTo>
                  <a:lnTo>
                    <a:pt x="104" y="51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4" y="59"/>
                  </a:lnTo>
                  <a:lnTo>
                    <a:pt x="104" y="62"/>
                  </a:lnTo>
                  <a:lnTo>
                    <a:pt x="101" y="62"/>
                  </a:lnTo>
                  <a:lnTo>
                    <a:pt x="101" y="64"/>
                  </a:lnTo>
                  <a:lnTo>
                    <a:pt x="101" y="66"/>
                  </a:lnTo>
                  <a:lnTo>
                    <a:pt x="99" y="70"/>
                  </a:lnTo>
                  <a:lnTo>
                    <a:pt x="99" y="72"/>
                  </a:lnTo>
                  <a:lnTo>
                    <a:pt x="96" y="72"/>
                  </a:lnTo>
                  <a:lnTo>
                    <a:pt x="96" y="74"/>
                  </a:lnTo>
                  <a:lnTo>
                    <a:pt x="92" y="77"/>
                  </a:lnTo>
                  <a:lnTo>
                    <a:pt x="89" y="79"/>
                  </a:lnTo>
                  <a:lnTo>
                    <a:pt x="87" y="83"/>
                  </a:lnTo>
                  <a:lnTo>
                    <a:pt x="85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78" y="87"/>
                  </a:lnTo>
                  <a:lnTo>
                    <a:pt x="75" y="87"/>
                  </a:lnTo>
                  <a:lnTo>
                    <a:pt x="73" y="89"/>
                  </a:lnTo>
                  <a:lnTo>
                    <a:pt x="70" y="89"/>
                  </a:lnTo>
                  <a:lnTo>
                    <a:pt x="66" y="92"/>
                  </a:lnTo>
                  <a:lnTo>
                    <a:pt x="63" y="92"/>
                  </a:lnTo>
                  <a:lnTo>
                    <a:pt x="61" y="92"/>
                  </a:lnTo>
                  <a:lnTo>
                    <a:pt x="59" y="92"/>
                  </a:lnTo>
                  <a:lnTo>
                    <a:pt x="56" y="92"/>
                  </a:lnTo>
                  <a:lnTo>
                    <a:pt x="52" y="92"/>
                  </a:lnTo>
                  <a:lnTo>
                    <a:pt x="49" y="92"/>
                  </a:lnTo>
                  <a:lnTo>
                    <a:pt x="47" y="92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37" y="89"/>
                  </a:lnTo>
                  <a:lnTo>
                    <a:pt x="35" y="89"/>
                  </a:lnTo>
                  <a:lnTo>
                    <a:pt x="33" y="89"/>
                  </a:lnTo>
                  <a:lnTo>
                    <a:pt x="33" y="87"/>
                  </a:lnTo>
                  <a:lnTo>
                    <a:pt x="30" y="87"/>
                  </a:lnTo>
                  <a:lnTo>
                    <a:pt x="26" y="87"/>
                  </a:lnTo>
                  <a:lnTo>
                    <a:pt x="23" y="85"/>
                  </a:lnTo>
                  <a:lnTo>
                    <a:pt x="21" y="83"/>
                  </a:lnTo>
                  <a:lnTo>
                    <a:pt x="18" y="79"/>
                  </a:lnTo>
                  <a:lnTo>
                    <a:pt x="16" y="77"/>
                  </a:lnTo>
                  <a:lnTo>
                    <a:pt x="11" y="74"/>
                  </a:lnTo>
                  <a:lnTo>
                    <a:pt x="11" y="72"/>
                  </a:lnTo>
                  <a:lnTo>
                    <a:pt x="9" y="72"/>
                  </a:lnTo>
                  <a:lnTo>
                    <a:pt x="9" y="70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7" y="62"/>
                  </a:lnTo>
                  <a:lnTo>
                    <a:pt x="4" y="62"/>
                  </a:lnTo>
                  <a:lnTo>
                    <a:pt x="4" y="59"/>
                  </a:lnTo>
                  <a:lnTo>
                    <a:pt x="4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11" y="21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2" y="4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219320" y="1042920"/>
              <a:ext cx="7458120" cy="27000"/>
            </a:xfrm>
            <a:custGeom>
              <a:avLst/>
              <a:gdLst/>
              <a:ahLst/>
              <a:rect l="l" t="t" r="r" b="b"/>
              <a:pathLst>
                <a:path w="4461" h="17">
                  <a:moveTo>
                    <a:pt x="4460" y="8"/>
                  </a:moveTo>
                  <a:lnTo>
                    <a:pt x="446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60" y="16"/>
                  </a:lnTo>
                  <a:lnTo>
                    <a:pt x="4460" y="8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659080" y="603360"/>
              <a:ext cx="31680" cy="441360"/>
            </a:xfrm>
            <a:custGeom>
              <a:avLst/>
              <a:gdLst/>
              <a:ahLst/>
              <a:rect l="l" t="t" r="r" b="b"/>
              <a:pathLst>
                <a:path w="19" h="278">
                  <a:moveTo>
                    <a:pt x="9" y="277"/>
                  </a:moveTo>
                  <a:lnTo>
                    <a:pt x="18" y="27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9" y="27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6400800" y="6324480"/>
            <a:ext cx="2590920" cy="378000"/>
          </a:xfrm>
          <a:prstGeom prst="rect">
            <a:avLst/>
          </a:prstGeom>
          <a:ln w="0">
            <a:noFill/>
          </a:ln>
        </p:spPr>
      </p:pic>
      <p:grpSp>
        <p:nvGrpSpPr>
          <p:cNvPr id="9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sp>
          <p:nvSpPr>
            <p:cNvPr id="10" name=""/>
            <p:cNvSpPr/>
            <p:nvPr/>
          </p:nvSpPr>
          <p:spPr>
            <a:xfrm>
              <a:off x="0" y="0"/>
              <a:ext cx="990720" cy="6856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914400" y="0"/>
              <a:ext cx="152280" cy="838080"/>
            </a:xfrm>
            <a:prstGeom prst="rect">
              <a:avLst/>
            </a:prstGeom>
            <a:solidFill>
              <a:srgbClr val="00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" name="" descr=""/>
            <p:cNvPicPr/>
            <p:nvPr/>
          </p:nvPicPr>
          <p:blipFill>
            <a:blip r:embed="rId3"/>
            <a:stretch/>
          </p:blipFill>
          <p:spPr>
            <a:xfrm>
              <a:off x="0" y="6019920"/>
              <a:ext cx="990720" cy="60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" name=""/>
            <p:cNvGrpSpPr/>
            <p:nvPr/>
          </p:nvGrpSpPr>
          <p:grpSpPr>
            <a:xfrm>
              <a:off x="27720" y="990720"/>
              <a:ext cx="939960" cy="760680"/>
              <a:chOff x="27720" y="990720"/>
              <a:chExt cx="939960" cy="760680"/>
            </a:xfrm>
          </p:grpSpPr>
          <p:sp>
            <p:nvSpPr>
              <p:cNvPr id="14" name=""/>
              <p:cNvSpPr/>
              <p:nvPr/>
            </p:nvSpPr>
            <p:spPr>
              <a:xfrm flipH="1" rot="8916600">
                <a:off x="38160" y="1238040"/>
                <a:ext cx="919080" cy="29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1102"/>
                    </a:moveTo>
                    <a:arcTo wR="10800" hR="10800" stAng="96163" swAng="106714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1102"/>
                    </a:moveTo>
                    <a:arcTo wR="10800" hR="10800" stAng="96163" swAng="10671432"/>
                  </a:path>
                </a:pathLst>
              </a:custGeom>
              <a:noFill/>
              <a:ln w="28440">
                <a:solidFill>
                  <a:srgbClr val="4c3d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" name=""/>
              <p:cNvGrpSpPr/>
              <p:nvPr/>
            </p:nvGrpSpPr>
            <p:grpSpPr>
              <a:xfrm>
                <a:off x="222480" y="1165320"/>
                <a:ext cx="566640" cy="428400"/>
                <a:chOff x="222480" y="1165320"/>
                <a:chExt cx="566640" cy="428400"/>
              </a:xfrm>
            </p:grpSpPr>
            <p:sp>
              <p:nvSpPr>
                <p:cNvPr id="16" name=""/>
                <p:cNvSpPr txBox="1"/>
                <p:nvPr/>
              </p:nvSpPr>
              <p:spPr>
                <a:xfrm>
                  <a:off x="554040" y="1165320"/>
                  <a:ext cx="235080" cy="4284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eaeaea"/>
                          </a:gs>
                          <a:gs pos="100000">
                            <a:srgbClr val="cbcbcb"/>
                          </a:gs>
                        </a:gsLst>
                        <a:lin ang="13500000"/>
                      </a:gradFill>
                      <a:latin typeface="Times New Roman"/>
                    </a:rPr>
                    <a:t>I</a:t>
                  </a:r>
                  <a:endPara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cbcbcb"/>
                        </a:gs>
                      </a:gsLst>
                      <a:lin ang="13500000"/>
                    </a:gra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17" name=""/>
                <p:cNvSpPr txBox="1"/>
                <p:nvPr/>
              </p:nvSpPr>
              <p:spPr>
                <a:xfrm>
                  <a:off x="222480" y="1165320"/>
                  <a:ext cx="283320" cy="4284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eaeaea"/>
                          </a:gs>
                          <a:gs pos="100000">
                            <a:srgbClr val="cbcbcb"/>
                          </a:gs>
                        </a:gsLst>
                        <a:lin ang="13500000"/>
                      </a:gradFill>
                      <a:latin typeface="Times New Roman"/>
                    </a:rPr>
                    <a:t>S</a:t>
                  </a:r>
                  <a:endPara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cbcbcb"/>
                        </a:gs>
                      </a:gsLst>
                      <a:lin ang="13500000"/>
                    </a:gradFill>
                    <a:latin typeface="Times New Roman"/>
                    <a:ea typeface="Times New Roman"/>
                  </a:endParaRPr>
                </a:p>
              </p:txBody>
            </p:sp>
          </p:grpSp>
          <p:sp>
            <p:nvSpPr>
              <p:cNvPr id="18" name=""/>
              <p:cNvSpPr/>
              <p:nvPr/>
            </p:nvSpPr>
            <p:spPr>
              <a:xfrm flipH="1" rot="8916600">
                <a:off x="36720" y="1237680"/>
                <a:ext cx="918360" cy="29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" y="10985"/>
                    </a:moveTo>
                    <a:arcTo wR="10800" hR="10800" stAng="10741070" swAng="111253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" y="10985"/>
                    </a:moveTo>
                    <a:arcTo wR="10800" hR="10800" stAng="10741070" swAng="11125369"/>
                  </a:path>
                </a:pathLst>
              </a:custGeom>
              <a:noFill/>
              <a:ln w="28440">
                <a:solidFill>
                  <a:srgbClr val="4c3d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 txBox="1"/>
              <p:nvPr/>
            </p:nvSpPr>
            <p:spPr>
              <a:xfrm>
                <a:off x="800280" y="990720"/>
                <a:ext cx="137880" cy="12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12600">
                      <a:solidFill>
                        <a:srgbClr val="3333cc"/>
                      </a:solidFill>
                      <a:miter/>
                    </a:ln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581ddb"/>
                        </a:gs>
                        <a:gs pos="100000">
                          <a:srgbClr val="000000"/>
                        </a:gs>
                      </a:gsLst>
                      <a:lin ang="13500000"/>
                    </a:gra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Times New Roman"/>
                  </a:rPr>
                  <a:t>e</a:t>
                </a:r>
                <a:endParaRPr b="1" lang="en-US" sz="2400" spc="1" strike="noStrike">
                  <a:ln w="12600">
                    <a:solidFill>
                      <a:srgbClr val="3333cc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50000">
                        <a:srgbClr val="581ddb"/>
                      </a:gs>
                      <a:gs pos="100000">
                        <a:srgbClr val="000000"/>
                      </a:gs>
                    </a:gsLst>
                    <a:lin ang="13500000"/>
                  </a:gra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15235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523880" y="2438280"/>
            <a:ext cx="7316640" cy="612720"/>
            <a:chOff x="1523880" y="2438280"/>
            <a:chExt cx="7316640" cy="612720"/>
          </a:xfrm>
        </p:grpSpPr>
        <p:sp>
          <p:nvSpPr>
            <p:cNvPr id="58" name=""/>
            <p:cNvSpPr/>
            <p:nvPr/>
          </p:nvSpPr>
          <p:spPr>
            <a:xfrm>
              <a:off x="8670600" y="2438280"/>
              <a:ext cx="169920" cy="14760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52" y="47"/>
                  </a:move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89" y="12"/>
                  </a:lnTo>
                  <a:lnTo>
                    <a:pt x="92" y="14"/>
                  </a:lnTo>
                  <a:lnTo>
                    <a:pt x="92" y="17"/>
                  </a:lnTo>
                  <a:lnTo>
                    <a:pt x="96" y="17"/>
                  </a:lnTo>
                  <a:lnTo>
                    <a:pt x="96" y="21"/>
                  </a:lnTo>
                  <a:lnTo>
                    <a:pt x="99" y="23"/>
                  </a:lnTo>
                  <a:lnTo>
                    <a:pt x="99" y="25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4" y="36"/>
                  </a:lnTo>
                  <a:lnTo>
                    <a:pt x="104" y="38"/>
                  </a:lnTo>
                  <a:lnTo>
                    <a:pt x="104" y="40"/>
                  </a:lnTo>
                  <a:lnTo>
                    <a:pt x="104" y="42"/>
                  </a:lnTo>
                  <a:lnTo>
                    <a:pt x="104" y="47"/>
                  </a:lnTo>
                  <a:lnTo>
                    <a:pt x="104" y="49"/>
                  </a:lnTo>
                  <a:lnTo>
                    <a:pt x="104" y="51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4" y="59"/>
                  </a:lnTo>
                  <a:lnTo>
                    <a:pt x="104" y="62"/>
                  </a:lnTo>
                  <a:lnTo>
                    <a:pt x="101" y="62"/>
                  </a:lnTo>
                  <a:lnTo>
                    <a:pt x="101" y="64"/>
                  </a:lnTo>
                  <a:lnTo>
                    <a:pt x="101" y="66"/>
                  </a:lnTo>
                  <a:lnTo>
                    <a:pt x="99" y="70"/>
                  </a:lnTo>
                  <a:lnTo>
                    <a:pt x="99" y="72"/>
                  </a:lnTo>
                  <a:lnTo>
                    <a:pt x="96" y="72"/>
                  </a:lnTo>
                  <a:lnTo>
                    <a:pt x="96" y="74"/>
                  </a:lnTo>
                  <a:lnTo>
                    <a:pt x="92" y="77"/>
                  </a:lnTo>
                  <a:lnTo>
                    <a:pt x="89" y="79"/>
                  </a:lnTo>
                  <a:lnTo>
                    <a:pt x="87" y="83"/>
                  </a:lnTo>
                  <a:lnTo>
                    <a:pt x="85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78" y="87"/>
                  </a:lnTo>
                  <a:lnTo>
                    <a:pt x="75" y="87"/>
                  </a:lnTo>
                  <a:lnTo>
                    <a:pt x="73" y="89"/>
                  </a:lnTo>
                  <a:lnTo>
                    <a:pt x="70" y="89"/>
                  </a:lnTo>
                  <a:lnTo>
                    <a:pt x="66" y="92"/>
                  </a:lnTo>
                  <a:lnTo>
                    <a:pt x="63" y="92"/>
                  </a:lnTo>
                  <a:lnTo>
                    <a:pt x="61" y="92"/>
                  </a:lnTo>
                  <a:lnTo>
                    <a:pt x="59" y="92"/>
                  </a:lnTo>
                  <a:lnTo>
                    <a:pt x="56" y="92"/>
                  </a:lnTo>
                  <a:lnTo>
                    <a:pt x="52" y="92"/>
                  </a:lnTo>
                  <a:lnTo>
                    <a:pt x="49" y="92"/>
                  </a:lnTo>
                  <a:lnTo>
                    <a:pt x="47" y="92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37" y="89"/>
                  </a:lnTo>
                  <a:lnTo>
                    <a:pt x="35" y="89"/>
                  </a:lnTo>
                  <a:lnTo>
                    <a:pt x="33" y="89"/>
                  </a:lnTo>
                  <a:lnTo>
                    <a:pt x="33" y="87"/>
                  </a:lnTo>
                  <a:lnTo>
                    <a:pt x="30" y="87"/>
                  </a:lnTo>
                  <a:lnTo>
                    <a:pt x="26" y="87"/>
                  </a:lnTo>
                  <a:lnTo>
                    <a:pt x="23" y="85"/>
                  </a:lnTo>
                  <a:lnTo>
                    <a:pt x="21" y="83"/>
                  </a:lnTo>
                  <a:lnTo>
                    <a:pt x="18" y="79"/>
                  </a:lnTo>
                  <a:lnTo>
                    <a:pt x="16" y="77"/>
                  </a:lnTo>
                  <a:lnTo>
                    <a:pt x="11" y="74"/>
                  </a:lnTo>
                  <a:lnTo>
                    <a:pt x="11" y="72"/>
                  </a:lnTo>
                  <a:lnTo>
                    <a:pt x="9" y="72"/>
                  </a:lnTo>
                  <a:lnTo>
                    <a:pt x="9" y="70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7" y="62"/>
                  </a:lnTo>
                  <a:lnTo>
                    <a:pt x="4" y="62"/>
                  </a:lnTo>
                  <a:lnTo>
                    <a:pt x="4" y="59"/>
                  </a:lnTo>
                  <a:lnTo>
                    <a:pt x="4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11" y="21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2" y="4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23880" y="3024360"/>
              <a:ext cx="7232400" cy="26640"/>
            </a:xfrm>
            <a:custGeom>
              <a:avLst/>
              <a:gdLst/>
              <a:ahLst/>
              <a:rect l="l" t="t" r="r" b="b"/>
              <a:pathLst>
                <a:path w="4461" h="17">
                  <a:moveTo>
                    <a:pt x="4460" y="8"/>
                  </a:moveTo>
                  <a:lnTo>
                    <a:pt x="446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60" y="16"/>
                  </a:lnTo>
                  <a:lnTo>
                    <a:pt x="4460" y="8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738640" y="2584440"/>
              <a:ext cx="30600" cy="441360"/>
            </a:xfrm>
            <a:custGeom>
              <a:avLst/>
              <a:gdLst/>
              <a:ahLst/>
              <a:rect l="l" t="t" r="r" b="b"/>
              <a:pathLst>
                <a:path w="19" h="278">
                  <a:moveTo>
                    <a:pt x="9" y="277"/>
                  </a:moveTo>
                  <a:lnTo>
                    <a:pt x="18" y="27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9" y="27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629400" y="6324480"/>
            <a:ext cx="2286000" cy="381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315200" y="152280"/>
            <a:ext cx="21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ntel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sp>
          <p:nvSpPr>
            <p:cNvPr id="64" name=""/>
            <p:cNvSpPr/>
            <p:nvPr/>
          </p:nvSpPr>
          <p:spPr>
            <a:xfrm>
              <a:off x="0" y="0"/>
              <a:ext cx="990720" cy="6856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0"/>
              <a:ext cx="152280" cy="838080"/>
            </a:xfrm>
            <a:prstGeom prst="rect">
              <a:avLst/>
            </a:prstGeom>
            <a:solidFill>
              <a:srgbClr val="00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3"/>
            <a:stretch/>
          </p:blipFill>
          <p:spPr>
            <a:xfrm>
              <a:off x="0" y="6019920"/>
              <a:ext cx="990720" cy="60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" name=""/>
            <p:cNvGrpSpPr/>
            <p:nvPr/>
          </p:nvGrpSpPr>
          <p:grpSpPr>
            <a:xfrm>
              <a:off x="27720" y="990720"/>
              <a:ext cx="939960" cy="760680"/>
              <a:chOff x="27720" y="990720"/>
              <a:chExt cx="939960" cy="760680"/>
            </a:xfrm>
          </p:grpSpPr>
          <p:sp>
            <p:nvSpPr>
              <p:cNvPr id="68" name=""/>
              <p:cNvSpPr/>
              <p:nvPr/>
            </p:nvSpPr>
            <p:spPr>
              <a:xfrm flipH="1" rot="8916600">
                <a:off x="38160" y="1238040"/>
                <a:ext cx="919080" cy="29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1102"/>
                    </a:moveTo>
                    <a:arcTo wR="10800" hR="10800" stAng="96163" swAng="106714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1102"/>
                    </a:moveTo>
                    <a:arcTo wR="10800" hR="10800" stAng="96163" swAng="10671432"/>
                  </a:path>
                </a:pathLst>
              </a:custGeom>
              <a:noFill/>
              <a:ln w="28440">
                <a:solidFill>
                  <a:srgbClr val="4c3d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" name=""/>
              <p:cNvGrpSpPr/>
              <p:nvPr/>
            </p:nvGrpSpPr>
            <p:grpSpPr>
              <a:xfrm>
                <a:off x="222480" y="1165320"/>
                <a:ext cx="566640" cy="428400"/>
                <a:chOff x="222480" y="1165320"/>
                <a:chExt cx="566640" cy="428400"/>
              </a:xfrm>
            </p:grpSpPr>
            <p:sp>
              <p:nvSpPr>
                <p:cNvPr id="70" name=""/>
                <p:cNvSpPr txBox="1"/>
                <p:nvPr/>
              </p:nvSpPr>
              <p:spPr>
                <a:xfrm>
                  <a:off x="554040" y="1165320"/>
                  <a:ext cx="235080" cy="4284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eaeaea"/>
                          </a:gs>
                          <a:gs pos="100000">
                            <a:srgbClr val="cbcbcb"/>
                          </a:gs>
                        </a:gsLst>
                        <a:lin ang="13500000"/>
                      </a:gradFill>
                      <a:latin typeface="Times New Roman"/>
                    </a:rPr>
                    <a:t>I</a:t>
                  </a:r>
                  <a:endPara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cbcbcb"/>
                        </a:gs>
                      </a:gsLst>
                      <a:lin ang="13500000"/>
                    </a:gra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222480" y="1165320"/>
                  <a:ext cx="283320" cy="4284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eaeaea"/>
                          </a:gs>
                          <a:gs pos="100000">
                            <a:srgbClr val="cbcbcb"/>
                          </a:gs>
                        </a:gsLst>
                        <a:lin ang="13500000"/>
                      </a:gradFill>
                      <a:latin typeface="Times New Roman"/>
                    </a:rPr>
                    <a:t>S</a:t>
                  </a:r>
                  <a:endPara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cbcbcb"/>
                        </a:gs>
                      </a:gsLst>
                      <a:lin ang="13500000"/>
                    </a:gradFill>
                    <a:latin typeface="Times New Roman"/>
                    <a:ea typeface="Times New Roman"/>
                  </a:endParaRPr>
                </a:p>
              </p:txBody>
            </p:sp>
          </p:grpSp>
          <p:sp>
            <p:nvSpPr>
              <p:cNvPr id="72" name=""/>
              <p:cNvSpPr/>
              <p:nvPr/>
            </p:nvSpPr>
            <p:spPr>
              <a:xfrm flipH="1" rot="8916600">
                <a:off x="36720" y="1237680"/>
                <a:ext cx="918360" cy="29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" y="10985"/>
                    </a:moveTo>
                    <a:arcTo wR="10800" hR="10800" stAng="10741070" swAng="111253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" y="10985"/>
                    </a:moveTo>
                    <a:arcTo wR="10800" hR="10800" stAng="10741070" swAng="11125369"/>
                  </a:path>
                </a:pathLst>
              </a:custGeom>
              <a:noFill/>
              <a:ln w="28440">
                <a:solidFill>
                  <a:srgbClr val="4c3d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 txBox="1"/>
              <p:nvPr/>
            </p:nvSpPr>
            <p:spPr>
              <a:xfrm>
                <a:off x="800280" y="990720"/>
                <a:ext cx="137880" cy="12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12600">
                      <a:solidFill>
                        <a:srgbClr val="3333cc"/>
                      </a:solidFill>
                      <a:miter/>
                    </a:ln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581ddb"/>
                        </a:gs>
                        <a:gs pos="100000">
                          <a:srgbClr val="000000"/>
                        </a:gs>
                      </a:gsLst>
                      <a:lin ang="13500000"/>
                    </a:gra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Times New Roman"/>
                  </a:rPr>
                  <a:t>e</a:t>
                </a:r>
                <a:endParaRPr b="1" lang="en-US" sz="2400" spc="1" strike="noStrike">
                  <a:ln w="12600">
                    <a:solidFill>
                      <a:srgbClr val="3333cc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50000">
                        <a:srgbClr val="581ddb"/>
                      </a:gs>
                      <a:gs pos="100000">
                        <a:srgbClr val="000000"/>
                      </a:gs>
                    </a:gsLst>
                    <a:lin ang="13500000"/>
                  </a:gra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74" name=""/>
          <p:cNvSpPr/>
          <p:nvPr/>
        </p:nvSpPr>
        <p:spPr>
          <a:xfrm>
            <a:off x="990720" y="6172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ttp://www-fmec.fm.intel.com/s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da.org/pub/ibis/summits/oct03/muranyi.pdf" TargetMode="External"/><Relationship Id="rId2" Type="http://schemas.openxmlformats.org/officeDocument/2006/relationships/hyperlink" Target="http://www.eda.org/pub/ibis/summits/oct03/muranyi.pdf" TargetMode="External"/><Relationship Id="rId3" Type="http://schemas.openxmlformats.org/officeDocument/2006/relationships/hyperlink" Target="http://www.eda.org/pub/ibis/summits/oct03/muranyi.pdf" TargetMode="External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da.org/pub/ibis/summits/oct03/muranyi.pdf" TargetMode="External"/><Relationship Id="rId2" Type="http://schemas.openxmlformats.org/officeDocument/2006/relationships/hyperlink" Target="http://www.eda.org/pub/ibis/summits/oct03/muranyi.pdf" TargetMode="External"/><Relationship Id="rId3" Type="http://schemas.openxmlformats.org/officeDocument/2006/relationships/hyperlink" Target="http://www.eda.org/pub/ibis/summits/oct03/muranyi.pdf" TargetMode="External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080" y="267948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ulti-Element C_comp Model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7920" y="1143000"/>
            <a:ext cx="72388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71760" y="4259160"/>
            <a:ext cx="172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Michael Mir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Intel Corpo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IBIS Su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PCB East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October 4,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805CF-8318-4C3C-A254-83FF3463850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nother New Approac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53720" y="1143000"/>
            <a:ext cx="7899480" cy="520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irst C_comp adjustment attempt made two assump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66"/>
                </a:solidFill>
                <a:latin typeface="Arial"/>
              </a:rPr>
              <a:t>Differential buffers can be “split” in tw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66"/>
                </a:solidFill>
                <a:latin typeface="Arial"/>
              </a:rPr>
              <a:t>Each can be modeled adequately with a single C_com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dditional data calls at least one assumption into ques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ingle C_comp does not permit frequency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 differential component appears at some frequenc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posal: Stay in AC Domain for C_comp Measur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ttempt to match AC behavior of simulation mod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nce model correlates in frequency of interest, add data into IBIS mod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9966"/>
                </a:solidFill>
                <a:latin typeface="Arial"/>
              </a:rPr>
              <a:t>This may stretch IBIS 3.2/4.0 beyond available keywor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4CC77-5A0D-4D39-816E-0F14DA7CFF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ur Target Behavio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47920" y="114300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622520" y="1181160"/>
            <a:ext cx="6737040" cy="5040000"/>
            <a:chOff x="1622520" y="1181160"/>
            <a:chExt cx="6737040" cy="5040000"/>
          </a:xfrm>
        </p:grpSpPr>
        <p:pic>
          <p:nvPicPr>
            <p:cNvPr id="293" name="" descr=""/>
            <p:cNvPicPr/>
            <p:nvPr/>
          </p:nvPicPr>
          <p:blipFill>
            <a:blip r:embed="rId1"/>
            <a:stretch/>
          </p:blipFill>
          <p:spPr>
            <a:xfrm>
              <a:off x="1622520" y="1181160"/>
              <a:ext cx="6737040" cy="50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 flipV="1">
              <a:off x="5508360" y="5496120"/>
              <a:ext cx="2208240" cy="61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 flipV="1">
              <a:off x="2306520" y="5318280"/>
              <a:ext cx="1690920" cy="71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952680" y="5688000"/>
              <a:ext cx="18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902280" y="571176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437560" y="5688000"/>
              <a:ext cx="18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02920" y="56167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083680" y="2093760"/>
              <a:ext cx="0" cy="307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699200" y="165744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6725160" y="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 Black"/>
              </a:rPr>
              <a:t>from April ’04 Su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155920" y="1447920"/>
            <a:ext cx="1359000" cy="507960"/>
          </a:xfrm>
          <a:prstGeom prst="line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6552720" y="3835440"/>
            <a:ext cx="1359000" cy="507960"/>
          </a:xfrm>
          <a:prstGeom prst="line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635880" y="1262160"/>
            <a:ext cx="1162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~ 14-15 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33880" y="3433680"/>
            <a:ext cx="930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~ 5-7 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52440" y="5249880"/>
            <a:ext cx="752400" cy="8240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ilte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C9F24-43E7-44A2-9990-02081B8CF8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187280" y="1595520"/>
            <a:ext cx="7378920" cy="473220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call L. Giacotto’s Slides…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53720" y="1143000"/>
            <a:ext cx="7899480" cy="520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002: Luca Giacotto presented twice on buffer impedanc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arting with observations by A. Murany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0" y="2189160"/>
            <a:ext cx="3225960" cy="1900080"/>
            <a:chOff x="0" y="2189160"/>
            <a:chExt cx="3225960" cy="1900080"/>
          </a:xfrm>
        </p:grpSpPr>
        <p:sp>
          <p:nvSpPr>
            <p:cNvPr id="312" name=""/>
            <p:cNvSpPr/>
            <p:nvPr/>
          </p:nvSpPr>
          <p:spPr>
            <a:xfrm>
              <a:off x="1244520" y="3124080"/>
              <a:ext cx="1981440" cy="965160"/>
            </a:xfrm>
            <a:prstGeom prst="ellipse">
              <a:avLst/>
            </a:prstGeom>
            <a:noFill/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60240" y="2844720"/>
              <a:ext cx="584280" cy="49536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0" y="2189160"/>
              <a:ext cx="157464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Two caps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two resis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39BB4-D281-4265-B361-C7400547F1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4880" y="-360"/>
            <a:ext cx="754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riginal Giacotto-Muranyi C_comp Mod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6" name=""/>
          <p:cNvSpPr/>
          <p:nvPr/>
        </p:nvSpPr>
        <p:spPr>
          <a:xfrm>
            <a:off x="6948360" y="2016000"/>
            <a:ext cx="281160" cy="28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03840" y="2157480"/>
            <a:ext cx="3055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58920" y="2155680"/>
            <a:ext cx="1752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144880" y="2160360"/>
            <a:ext cx="0" cy="46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213520" y="2155320"/>
            <a:ext cx="0" cy="46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793200" y="1601640"/>
            <a:ext cx="561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931760" y="3730320"/>
            <a:ext cx="345960" cy="592560"/>
            <a:chOff x="1931760" y="3730320"/>
            <a:chExt cx="345960" cy="592560"/>
          </a:xfrm>
        </p:grpSpPr>
        <p:sp>
          <p:nvSpPr>
            <p:cNvPr id="323" name=""/>
            <p:cNvSpPr/>
            <p:nvPr/>
          </p:nvSpPr>
          <p:spPr>
            <a:xfrm flipV="1">
              <a:off x="2104920" y="3730320"/>
              <a:ext cx="0" cy="46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1931760" y="419436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1982520" y="425772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2028600" y="432288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6377040" y="3189240"/>
            <a:ext cx="468360" cy="93600"/>
            <a:chOff x="6377040" y="3189240"/>
            <a:chExt cx="468360" cy="93600"/>
          </a:xfrm>
        </p:grpSpPr>
        <p:sp>
          <p:nvSpPr>
            <p:cNvPr id="328" name=""/>
            <p:cNvSpPr/>
            <p:nvPr/>
          </p:nvSpPr>
          <p:spPr>
            <a:xfrm>
              <a:off x="6377040" y="328284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377040" y="318924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819080" y="136188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607080" y="2174760"/>
            <a:ext cx="0" cy="10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6428880" y="3719160"/>
            <a:ext cx="345960" cy="592560"/>
            <a:chOff x="6428880" y="3719160"/>
            <a:chExt cx="345960" cy="592560"/>
          </a:xfrm>
        </p:grpSpPr>
        <p:sp>
          <p:nvSpPr>
            <p:cNvPr id="333" name=""/>
            <p:cNvSpPr/>
            <p:nvPr/>
          </p:nvSpPr>
          <p:spPr>
            <a:xfrm flipV="1">
              <a:off x="6602040" y="3719160"/>
              <a:ext cx="0" cy="46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6428880" y="418320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6479640" y="424656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6525720" y="43117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6605640" y="3306600"/>
            <a:ext cx="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969960" y="2973240"/>
            <a:ext cx="14821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Com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7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4944960" y="4307040"/>
            <a:ext cx="468360" cy="93600"/>
            <a:chOff x="4944960" y="4307040"/>
            <a:chExt cx="468360" cy="93600"/>
          </a:xfrm>
        </p:grpSpPr>
        <p:sp>
          <p:nvSpPr>
            <p:cNvPr id="340" name=""/>
            <p:cNvSpPr/>
            <p:nvPr/>
          </p:nvSpPr>
          <p:spPr>
            <a:xfrm>
              <a:off x="4944960" y="440064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944960" y="430704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4984560" y="4849560"/>
            <a:ext cx="345960" cy="592560"/>
            <a:chOff x="4984560" y="4849560"/>
            <a:chExt cx="345960" cy="592560"/>
          </a:xfrm>
        </p:grpSpPr>
        <p:sp>
          <p:nvSpPr>
            <p:cNvPr id="343" name=""/>
            <p:cNvSpPr/>
            <p:nvPr/>
          </p:nvSpPr>
          <p:spPr>
            <a:xfrm flipV="1">
              <a:off x="5157720" y="4849560"/>
              <a:ext cx="0" cy="46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984560" y="531360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5035320" y="537696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5081400" y="54421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160960" y="4424400"/>
            <a:ext cx="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471120" y="4208400"/>
            <a:ext cx="14317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8.3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849920" y="2611440"/>
            <a:ext cx="352080" cy="1090080"/>
            <a:chOff x="4849920" y="2611440"/>
            <a:chExt cx="352080" cy="1090080"/>
          </a:xfrm>
        </p:grpSpPr>
        <p:sp>
          <p:nvSpPr>
            <p:cNvPr id="350" name=""/>
            <p:cNvSpPr/>
            <p:nvPr/>
          </p:nvSpPr>
          <p:spPr>
            <a:xfrm flipH="1">
              <a:off x="4879800" y="2611440"/>
              <a:ext cx="32220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 flipV="1">
              <a:off x="4878360" y="2788920"/>
              <a:ext cx="32220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4876920" y="2970000"/>
              <a:ext cx="32256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4875120" y="3147480"/>
              <a:ext cx="322200" cy="18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4851360" y="3342960"/>
              <a:ext cx="32220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4849920" y="3520800"/>
              <a:ext cx="32256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1782720" y="2635200"/>
            <a:ext cx="352080" cy="1090440"/>
            <a:chOff x="1782720" y="2635200"/>
            <a:chExt cx="352080" cy="1090440"/>
          </a:xfrm>
        </p:grpSpPr>
        <p:sp>
          <p:nvSpPr>
            <p:cNvPr id="357" name=""/>
            <p:cNvSpPr/>
            <p:nvPr/>
          </p:nvSpPr>
          <p:spPr>
            <a:xfrm flipH="1">
              <a:off x="1812600" y="2635200"/>
              <a:ext cx="32220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 flipV="1">
              <a:off x="1811160" y="2812680"/>
              <a:ext cx="32220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1809720" y="2994120"/>
              <a:ext cx="32256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flipV="1">
              <a:off x="1807920" y="3171960"/>
              <a:ext cx="32220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1784160" y="3367080"/>
              <a:ext cx="32220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1782720" y="3544560"/>
              <a:ext cx="32256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5160960" y="3703680"/>
            <a:ext cx="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137320" y="2894040"/>
            <a:ext cx="881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99520" y="2968560"/>
            <a:ext cx="628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65480" y="3527280"/>
            <a:ext cx="438120" cy="1764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10400" y="5302080"/>
            <a:ext cx="1486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-V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89320" y="1185840"/>
            <a:ext cx="2812680" cy="824040"/>
          </a:xfrm>
          <a:prstGeom prst="rect">
            <a:avLst/>
          </a:pr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ne side of our differen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uffer (built-in pulldow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urrent source is AC high-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96240" y="4475160"/>
            <a:ext cx="2696760" cy="824040"/>
          </a:xfrm>
          <a:prstGeom prst="rect">
            <a:avLst/>
          </a:pr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Near DC, only 45 </a:t>
            </a:r>
            <a:r>
              <a:rPr b="0" lang="el-GR" sz="1600" spc="-1" strike="noStrike">
                <a:solidFill>
                  <a:srgbClr val="000000"/>
                </a:solidFill>
                <a:latin typeface="Arial Black"/>
              </a:rPr>
              <a:t>Ω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t low AC, caps look mo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like ~ 14 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228000" y="5402160"/>
            <a:ext cx="2428560" cy="824040"/>
          </a:xfrm>
          <a:prstGeom prst="rect">
            <a:avLst/>
          </a:pr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 of R1 depends 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equency of drop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pacitance to ~ 7 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BB385-BD7F-4CF6-8321-E89DB3BF11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odel vs. AC Analysis of Buffe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057320" y="1022400"/>
            <a:ext cx="8086680" cy="5619600"/>
            <a:chOff x="1057320" y="1022400"/>
            <a:chExt cx="8086680" cy="5619600"/>
          </a:xfrm>
        </p:grpSpPr>
        <p:pic>
          <p:nvPicPr>
            <p:cNvPr id="374" name="" descr=""/>
            <p:cNvPicPr/>
            <p:nvPr/>
          </p:nvPicPr>
          <p:blipFill>
            <a:blip r:embed="rId1"/>
            <a:stretch/>
          </p:blipFill>
          <p:spPr>
            <a:xfrm>
              <a:off x="1057320" y="1022400"/>
              <a:ext cx="8086680" cy="561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5899320" y="4899600"/>
              <a:ext cx="1160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ransistor mode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 flipH="1">
            <a:off x="6413040" y="4978440"/>
            <a:ext cx="1359000" cy="507960"/>
          </a:xfrm>
          <a:prstGeom prst="line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99960" y="1236600"/>
            <a:ext cx="1924200" cy="337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gnoring voltage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58159-0D03-4EC6-93D7-72BC1ACCCA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dified G-M Mod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9" name=""/>
          <p:cNvSpPr/>
          <p:nvPr/>
        </p:nvSpPr>
        <p:spPr>
          <a:xfrm>
            <a:off x="6648480" y="1832040"/>
            <a:ext cx="280800" cy="28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603600" y="1973160"/>
            <a:ext cx="3056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859040" y="197172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1844640" y="1976040"/>
            <a:ext cx="0" cy="46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3278160" y="1958760"/>
            <a:ext cx="0" cy="41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459840" y="1353960"/>
            <a:ext cx="561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1631520" y="3546000"/>
            <a:ext cx="345960" cy="592560"/>
            <a:chOff x="1631520" y="3546000"/>
            <a:chExt cx="345960" cy="592560"/>
          </a:xfrm>
        </p:grpSpPr>
        <p:sp>
          <p:nvSpPr>
            <p:cNvPr id="386" name=""/>
            <p:cNvSpPr/>
            <p:nvPr/>
          </p:nvSpPr>
          <p:spPr>
            <a:xfrm flipV="1">
              <a:off x="1804680" y="3546000"/>
              <a:ext cx="0" cy="46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1631520" y="401004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682280" y="407340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1728360" y="413856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6076800" y="3005280"/>
            <a:ext cx="468360" cy="93600"/>
            <a:chOff x="6076800" y="3005280"/>
            <a:chExt cx="468360" cy="93600"/>
          </a:xfrm>
        </p:grpSpPr>
        <p:sp>
          <p:nvSpPr>
            <p:cNvPr id="391" name=""/>
            <p:cNvSpPr/>
            <p:nvPr/>
          </p:nvSpPr>
          <p:spPr>
            <a:xfrm>
              <a:off x="6076800" y="309888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076800" y="300528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752480" y="134280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307200" y="1990800"/>
            <a:ext cx="0" cy="10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6129000" y="3534840"/>
            <a:ext cx="345960" cy="592560"/>
            <a:chOff x="6129000" y="3534840"/>
            <a:chExt cx="345960" cy="592560"/>
          </a:xfrm>
        </p:grpSpPr>
        <p:sp>
          <p:nvSpPr>
            <p:cNvPr id="396" name=""/>
            <p:cNvSpPr/>
            <p:nvPr/>
          </p:nvSpPr>
          <p:spPr>
            <a:xfrm flipV="1">
              <a:off x="6302160" y="3534840"/>
              <a:ext cx="0" cy="46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6129000" y="399888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6179760" y="406224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6225840" y="41274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6305400" y="3122640"/>
            <a:ext cx="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670080" y="2789280"/>
            <a:ext cx="12963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Com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009960" y="4059360"/>
            <a:ext cx="468360" cy="93600"/>
            <a:chOff x="3009960" y="4059360"/>
            <a:chExt cx="468360" cy="93600"/>
          </a:xfrm>
        </p:grpSpPr>
        <p:sp>
          <p:nvSpPr>
            <p:cNvPr id="403" name=""/>
            <p:cNvSpPr/>
            <p:nvPr/>
          </p:nvSpPr>
          <p:spPr>
            <a:xfrm>
              <a:off x="3009960" y="415296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009960" y="405936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3049200" y="4589640"/>
            <a:ext cx="345960" cy="591840"/>
            <a:chOff x="3049200" y="4589640"/>
            <a:chExt cx="345960" cy="591840"/>
          </a:xfrm>
        </p:grpSpPr>
        <p:sp>
          <p:nvSpPr>
            <p:cNvPr id="406" name=""/>
            <p:cNvSpPr/>
            <p:nvPr/>
          </p:nvSpPr>
          <p:spPr>
            <a:xfrm flipV="1">
              <a:off x="3222360" y="4589640"/>
              <a:ext cx="0" cy="46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3049200" y="505296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3099960" y="511632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3146040" y="518148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3225960" y="4176720"/>
            <a:ext cx="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390120" y="3998880"/>
            <a:ext cx="12459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8.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2914560" y="2363760"/>
            <a:ext cx="352080" cy="1090440"/>
            <a:chOff x="2914560" y="2363760"/>
            <a:chExt cx="352080" cy="1090440"/>
          </a:xfrm>
        </p:grpSpPr>
        <p:sp>
          <p:nvSpPr>
            <p:cNvPr id="413" name=""/>
            <p:cNvSpPr/>
            <p:nvPr/>
          </p:nvSpPr>
          <p:spPr>
            <a:xfrm flipH="1">
              <a:off x="2944440" y="2363760"/>
              <a:ext cx="32220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2943000" y="2541240"/>
              <a:ext cx="32220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2941560" y="2722680"/>
              <a:ext cx="32256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2939760" y="2900520"/>
              <a:ext cx="32220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916000" y="3095640"/>
              <a:ext cx="32220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 flipV="1">
              <a:off x="2914560" y="3273120"/>
              <a:ext cx="32256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1482840" y="2451240"/>
            <a:ext cx="352080" cy="1090080"/>
            <a:chOff x="1482840" y="2451240"/>
            <a:chExt cx="352080" cy="1090080"/>
          </a:xfrm>
        </p:grpSpPr>
        <p:sp>
          <p:nvSpPr>
            <p:cNvPr id="420" name=""/>
            <p:cNvSpPr/>
            <p:nvPr/>
          </p:nvSpPr>
          <p:spPr>
            <a:xfrm flipH="1">
              <a:off x="1512720" y="2451240"/>
              <a:ext cx="32220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flipV="1">
              <a:off x="1511280" y="2628720"/>
              <a:ext cx="32220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1509840" y="2809800"/>
              <a:ext cx="32256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 flipV="1">
              <a:off x="1508040" y="2987280"/>
              <a:ext cx="322200" cy="18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484280" y="3182760"/>
              <a:ext cx="32220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flipV="1">
              <a:off x="1482840" y="3360600"/>
              <a:ext cx="32256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3225960" y="3456000"/>
            <a:ext cx="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837080" y="2709720"/>
            <a:ext cx="881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02640" y="2630520"/>
            <a:ext cx="55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5143680" y="1969560"/>
            <a:ext cx="0" cy="46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4875120" y="4121280"/>
            <a:ext cx="468360" cy="93600"/>
            <a:chOff x="4875120" y="4121280"/>
            <a:chExt cx="468360" cy="93600"/>
          </a:xfrm>
        </p:grpSpPr>
        <p:sp>
          <p:nvSpPr>
            <p:cNvPr id="431" name=""/>
            <p:cNvSpPr/>
            <p:nvPr/>
          </p:nvSpPr>
          <p:spPr>
            <a:xfrm>
              <a:off x="4875120" y="421488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75120" y="412128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4914720" y="4650840"/>
            <a:ext cx="345960" cy="592560"/>
            <a:chOff x="4914720" y="4650840"/>
            <a:chExt cx="345960" cy="592560"/>
          </a:xfrm>
        </p:grpSpPr>
        <p:sp>
          <p:nvSpPr>
            <p:cNvPr id="434" name=""/>
            <p:cNvSpPr/>
            <p:nvPr/>
          </p:nvSpPr>
          <p:spPr>
            <a:xfrm flipV="1">
              <a:off x="5087880" y="4650840"/>
              <a:ext cx="0" cy="46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4914720" y="511488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4965480" y="517824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5011560" y="52434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5091120" y="4238640"/>
            <a:ext cx="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4780080" y="2425680"/>
            <a:ext cx="352080" cy="1090440"/>
            <a:chOff x="4780080" y="2425680"/>
            <a:chExt cx="352080" cy="1090440"/>
          </a:xfrm>
        </p:grpSpPr>
        <p:sp>
          <p:nvSpPr>
            <p:cNvPr id="440" name=""/>
            <p:cNvSpPr/>
            <p:nvPr/>
          </p:nvSpPr>
          <p:spPr>
            <a:xfrm flipH="1">
              <a:off x="4809960" y="2425680"/>
              <a:ext cx="32220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 flipV="1">
              <a:off x="4808520" y="2603160"/>
              <a:ext cx="32220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4807080" y="2784600"/>
              <a:ext cx="32256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 flipV="1">
              <a:off x="4805280" y="2962440"/>
              <a:ext cx="32220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4781520" y="3157560"/>
              <a:ext cx="32220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 flipV="1">
              <a:off x="4780080" y="3335040"/>
              <a:ext cx="32256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5091120" y="3517920"/>
            <a:ext cx="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82200" y="2473200"/>
            <a:ext cx="55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255280" y="4292640"/>
            <a:ext cx="10173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4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965240" y="3343320"/>
            <a:ext cx="438120" cy="1763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612800" y="5143680"/>
            <a:ext cx="1544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-V Cur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69040" y="4309920"/>
            <a:ext cx="2697120" cy="824040"/>
          </a:xfrm>
          <a:prstGeom prst="rect">
            <a:avLst/>
          </a:pr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Near DC, only 45 </a:t>
            </a:r>
            <a:r>
              <a:rPr b="0" lang="el-GR" sz="1600" spc="-1" strike="noStrike">
                <a:solidFill>
                  <a:srgbClr val="000000"/>
                </a:solidFill>
                <a:latin typeface="Arial Black"/>
              </a:rPr>
              <a:t>Ω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t low AC, caps still add to ~ 14 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269040" y="5249880"/>
            <a:ext cx="2697120" cy="824040"/>
          </a:xfrm>
          <a:prstGeom prst="rect">
            <a:avLst/>
          </a:pr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dding new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 cause new “break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n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CF82E-811E-4003-939B-AE89102F98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dified Model AC Analysi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838080" y="974880"/>
            <a:ext cx="8124840" cy="5349600"/>
            <a:chOff x="838080" y="974880"/>
            <a:chExt cx="8124840" cy="5349600"/>
          </a:xfrm>
        </p:grpSpPr>
        <p:grpSp>
          <p:nvGrpSpPr>
            <p:cNvPr id="456" name=""/>
            <p:cNvGrpSpPr/>
            <p:nvPr/>
          </p:nvGrpSpPr>
          <p:grpSpPr>
            <a:xfrm>
              <a:off x="838080" y="974880"/>
              <a:ext cx="8124840" cy="5349600"/>
              <a:chOff x="838080" y="974880"/>
              <a:chExt cx="8124840" cy="5349600"/>
            </a:xfrm>
          </p:grpSpPr>
          <p:pic>
            <p:nvPicPr>
              <p:cNvPr id="45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38080" y="974880"/>
                <a:ext cx="8124840" cy="534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>
                <a:off x="5781600" y="4667400"/>
                <a:ext cx="266760" cy="107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5813280" y="4656960"/>
              <a:ext cx="101772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ransistor mode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 flipH="1">
            <a:off x="6806880" y="4902120"/>
            <a:ext cx="1359000" cy="507960"/>
          </a:xfrm>
          <a:prstGeom prst="line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299960" y="1236600"/>
            <a:ext cx="1924200" cy="337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gnoring voltage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3C33D-02E1-4AA6-9E80-A005880F3A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054080" y="1143000"/>
            <a:ext cx="7899480" cy="52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odel is a fair match up to ~ 2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blems ar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66"/>
                </a:solidFill>
                <a:latin typeface="Arial"/>
              </a:rPr>
              <a:t>A single C_comp value is no longer adequ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66"/>
                </a:solidFill>
                <a:latin typeface="Arial"/>
              </a:rPr>
              <a:t>No IBIS keywords support this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66"/>
                </a:solidFill>
                <a:latin typeface="Arial"/>
              </a:rPr>
              <a:t>Still need to “back out” these elements from V-t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del Assessmen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4" name=""/>
          <p:cNvSpPr/>
          <p:nvPr/>
        </p:nvSpPr>
        <p:spPr>
          <a:xfrm>
            <a:off x="6978600" y="2949480"/>
            <a:ext cx="281160" cy="28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933720" y="3090960"/>
            <a:ext cx="3056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189160" y="308916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174760" y="3094200"/>
            <a:ext cx="0" cy="46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3608280" y="3076560"/>
            <a:ext cx="0" cy="417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386840" y="3157560"/>
            <a:ext cx="561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1961640" y="4663800"/>
            <a:ext cx="345960" cy="592560"/>
            <a:chOff x="1961640" y="4663800"/>
            <a:chExt cx="345960" cy="592560"/>
          </a:xfrm>
        </p:grpSpPr>
        <p:sp>
          <p:nvSpPr>
            <p:cNvPr id="471" name=""/>
            <p:cNvSpPr/>
            <p:nvPr/>
          </p:nvSpPr>
          <p:spPr>
            <a:xfrm flipV="1">
              <a:off x="2134800" y="4663800"/>
              <a:ext cx="0" cy="46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1961640" y="512784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2012400" y="519120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2058480" y="525636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6407280" y="4122720"/>
            <a:ext cx="468360" cy="93600"/>
            <a:chOff x="6407280" y="4122720"/>
            <a:chExt cx="468360" cy="93600"/>
          </a:xfrm>
        </p:grpSpPr>
        <p:sp>
          <p:nvSpPr>
            <p:cNvPr id="476" name=""/>
            <p:cNvSpPr/>
            <p:nvPr/>
          </p:nvSpPr>
          <p:spPr>
            <a:xfrm>
              <a:off x="6407280" y="421632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07280" y="412272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676160" y="18507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37320" y="3108240"/>
            <a:ext cx="0" cy="10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6465600" y="4649400"/>
            <a:ext cx="345960" cy="592560"/>
            <a:chOff x="6465600" y="4649400"/>
            <a:chExt cx="345960" cy="592560"/>
          </a:xfrm>
        </p:grpSpPr>
        <p:sp>
          <p:nvSpPr>
            <p:cNvPr id="481" name=""/>
            <p:cNvSpPr/>
            <p:nvPr/>
          </p:nvSpPr>
          <p:spPr>
            <a:xfrm flipV="1">
              <a:off x="6638760" y="4649400"/>
              <a:ext cx="0" cy="46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6465600" y="511344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6516360" y="517680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6562440" y="524196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6635880" y="4240080"/>
            <a:ext cx="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000200" y="3906720"/>
            <a:ext cx="12963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Com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3340080" y="5176800"/>
            <a:ext cx="468360" cy="93600"/>
            <a:chOff x="3340080" y="5176800"/>
            <a:chExt cx="468360" cy="93600"/>
          </a:xfrm>
        </p:grpSpPr>
        <p:sp>
          <p:nvSpPr>
            <p:cNvPr id="488" name=""/>
            <p:cNvSpPr/>
            <p:nvPr/>
          </p:nvSpPr>
          <p:spPr>
            <a:xfrm>
              <a:off x="3340080" y="527040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340080" y="517680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3379320" y="5706720"/>
            <a:ext cx="345960" cy="592560"/>
            <a:chOff x="3379320" y="5706720"/>
            <a:chExt cx="345960" cy="592560"/>
          </a:xfrm>
        </p:grpSpPr>
        <p:sp>
          <p:nvSpPr>
            <p:cNvPr id="491" name=""/>
            <p:cNvSpPr/>
            <p:nvPr/>
          </p:nvSpPr>
          <p:spPr>
            <a:xfrm flipV="1">
              <a:off x="3552480" y="5706720"/>
              <a:ext cx="0" cy="46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3379320" y="617076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3430080" y="623412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3476160" y="629928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556080" y="5294160"/>
            <a:ext cx="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720240" y="5116680"/>
            <a:ext cx="12459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8.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3244680" y="3481560"/>
            <a:ext cx="352080" cy="1090080"/>
            <a:chOff x="3244680" y="3481560"/>
            <a:chExt cx="352080" cy="1090080"/>
          </a:xfrm>
        </p:grpSpPr>
        <p:sp>
          <p:nvSpPr>
            <p:cNvPr id="498" name=""/>
            <p:cNvSpPr/>
            <p:nvPr/>
          </p:nvSpPr>
          <p:spPr>
            <a:xfrm flipH="1">
              <a:off x="3274560" y="3481560"/>
              <a:ext cx="32220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 flipV="1">
              <a:off x="3273120" y="3659040"/>
              <a:ext cx="32220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3271680" y="3840120"/>
              <a:ext cx="32256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3269880" y="4017600"/>
              <a:ext cx="322200" cy="18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3246120" y="4213080"/>
              <a:ext cx="32220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 flipV="1">
              <a:off x="3244680" y="4390920"/>
              <a:ext cx="32256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1812960" y="3568680"/>
            <a:ext cx="352080" cy="1090440"/>
            <a:chOff x="1812960" y="3568680"/>
            <a:chExt cx="352080" cy="1090440"/>
          </a:xfrm>
        </p:grpSpPr>
        <p:sp>
          <p:nvSpPr>
            <p:cNvPr id="505" name=""/>
            <p:cNvSpPr/>
            <p:nvPr/>
          </p:nvSpPr>
          <p:spPr>
            <a:xfrm flipH="1">
              <a:off x="1842840" y="3568680"/>
              <a:ext cx="32220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 flipV="1">
              <a:off x="1841400" y="3746160"/>
              <a:ext cx="32220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1839960" y="3927600"/>
              <a:ext cx="32256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 flipV="1">
              <a:off x="1838160" y="4105440"/>
              <a:ext cx="32220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1814400" y="4300560"/>
              <a:ext cx="32220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 flipV="1">
              <a:off x="1812960" y="4478040"/>
              <a:ext cx="32256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3556080" y="4573440"/>
            <a:ext cx="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167200" y="3827520"/>
            <a:ext cx="881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582360" y="3557520"/>
            <a:ext cx="1443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1=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 k</a:t>
            </a:r>
            <a:r>
              <a:rPr b="1" lang="el-GR" sz="2400" spc="-1" strike="noStrike">
                <a:solidFill>
                  <a:srgbClr val="ff3300"/>
                </a:solidFill>
                <a:latin typeface="Times New Roman"/>
              </a:rPr>
              <a:t>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5473800" y="3087360"/>
            <a:ext cx="0" cy="46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5205240" y="5238720"/>
            <a:ext cx="468360" cy="93600"/>
            <a:chOff x="5205240" y="5238720"/>
            <a:chExt cx="468360" cy="93600"/>
          </a:xfrm>
        </p:grpSpPr>
        <p:sp>
          <p:nvSpPr>
            <p:cNvPr id="516" name=""/>
            <p:cNvSpPr/>
            <p:nvPr/>
          </p:nvSpPr>
          <p:spPr>
            <a:xfrm>
              <a:off x="5205240" y="533232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205240" y="523872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5244840" y="5768640"/>
            <a:ext cx="345960" cy="592560"/>
            <a:chOff x="5244840" y="5768640"/>
            <a:chExt cx="345960" cy="592560"/>
          </a:xfrm>
        </p:grpSpPr>
        <p:sp>
          <p:nvSpPr>
            <p:cNvPr id="519" name=""/>
            <p:cNvSpPr/>
            <p:nvPr/>
          </p:nvSpPr>
          <p:spPr>
            <a:xfrm flipV="1">
              <a:off x="5418000" y="5768640"/>
              <a:ext cx="0" cy="46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5244840" y="623268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5295600" y="629604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5341680" y="63612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5421240" y="5356080"/>
            <a:ext cx="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5110200" y="3543480"/>
            <a:ext cx="352080" cy="1090080"/>
            <a:chOff x="5110200" y="3543480"/>
            <a:chExt cx="352080" cy="1090080"/>
          </a:xfrm>
        </p:grpSpPr>
        <p:sp>
          <p:nvSpPr>
            <p:cNvPr id="525" name=""/>
            <p:cNvSpPr/>
            <p:nvPr/>
          </p:nvSpPr>
          <p:spPr>
            <a:xfrm flipH="1">
              <a:off x="5140080" y="3543480"/>
              <a:ext cx="32220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 flipV="1">
              <a:off x="5138640" y="3720960"/>
              <a:ext cx="32220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5137200" y="3902040"/>
              <a:ext cx="32256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 flipV="1">
              <a:off x="5135400" y="4079520"/>
              <a:ext cx="322200" cy="18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5111640" y="4275000"/>
              <a:ext cx="32220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flipV="1">
              <a:off x="5110200" y="4452840"/>
              <a:ext cx="32256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5421240" y="4635360"/>
            <a:ext cx="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511960" y="3362400"/>
            <a:ext cx="1055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0 </a:t>
            </a:r>
            <a:r>
              <a:rPr b="1" lang="el-GR" sz="2400" spc="-1" strike="noStrike">
                <a:solidFill>
                  <a:srgbClr val="ff3300"/>
                </a:solidFill>
                <a:latin typeface="Times New Roman"/>
              </a:rPr>
              <a:t>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585400" y="5410080"/>
            <a:ext cx="10173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4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95360" y="4460760"/>
            <a:ext cx="285840" cy="1090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12800" y="5511960"/>
            <a:ext cx="1544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-V Cur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F1A60-0AC9-42F8-9F49-82B30FC04D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41200" y="-360"/>
            <a:ext cx="746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riginal C_comp Adjustmen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165320" y="3240000"/>
            <a:ext cx="7180560" cy="2991960"/>
            <a:chOff x="1165320" y="3240000"/>
            <a:chExt cx="7180560" cy="2991960"/>
          </a:xfrm>
        </p:grpSpPr>
        <p:sp>
          <p:nvSpPr>
            <p:cNvPr id="539" name=""/>
            <p:cNvSpPr/>
            <p:nvPr/>
          </p:nvSpPr>
          <p:spPr>
            <a:xfrm>
              <a:off x="4118400" y="3976560"/>
              <a:ext cx="293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444400" y="3974760"/>
              <a:ext cx="1681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7163280" y="4055760"/>
              <a:ext cx="0" cy="47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58720" y="3353400"/>
              <a:ext cx="5616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3" name=""/>
            <p:cNvGrpSpPr/>
            <p:nvPr/>
          </p:nvGrpSpPr>
          <p:grpSpPr>
            <a:xfrm>
              <a:off x="6958800" y="5636520"/>
              <a:ext cx="332280" cy="595440"/>
              <a:chOff x="6958800" y="5636520"/>
              <a:chExt cx="332280" cy="595440"/>
            </a:xfrm>
          </p:grpSpPr>
          <p:sp>
            <p:nvSpPr>
              <p:cNvPr id="544" name=""/>
              <p:cNvSpPr/>
              <p:nvPr/>
            </p:nvSpPr>
            <p:spPr>
              <a:xfrm flipV="1">
                <a:off x="7125120" y="5636520"/>
                <a:ext cx="0" cy="47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6958800" y="6102720"/>
                <a:ext cx="332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7007760" y="6166440"/>
                <a:ext cx="236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7052040" y="6231960"/>
                <a:ext cx="146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3760560" y="4987800"/>
              <a:ext cx="449280" cy="93600"/>
              <a:chOff x="3760560" y="4987800"/>
              <a:chExt cx="449280" cy="93600"/>
            </a:xfrm>
          </p:grpSpPr>
          <p:sp>
            <p:nvSpPr>
              <p:cNvPr id="549" name=""/>
              <p:cNvSpPr/>
              <p:nvPr/>
            </p:nvSpPr>
            <p:spPr>
              <a:xfrm>
                <a:off x="3760560" y="5081400"/>
                <a:ext cx="449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760560" y="4987800"/>
                <a:ext cx="449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>
              <a:off x="3981240" y="3966840"/>
              <a:ext cx="0" cy="101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3810240" y="5521680"/>
              <a:ext cx="332280" cy="595440"/>
              <a:chOff x="3810240" y="5521680"/>
              <a:chExt cx="332280" cy="595440"/>
            </a:xfrm>
          </p:grpSpPr>
          <p:sp>
            <p:nvSpPr>
              <p:cNvPr id="553" name=""/>
              <p:cNvSpPr/>
              <p:nvPr/>
            </p:nvSpPr>
            <p:spPr>
              <a:xfrm flipV="1">
                <a:off x="3976560" y="5521680"/>
                <a:ext cx="0" cy="47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>
                <a:off x="3810240" y="5987880"/>
                <a:ext cx="332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3859200" y="6051600"/>
                <a:ext cx="236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H="1">
                <a:off x="3903480" y="6117120"/>
                <a:ext cx="146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7" name=""/>
            <p:cNvSpPr/>
            <p:nvPr/>
          </p:nvSpPr>
          <p:spPr>
            <a:xfrm>
              <a:off x="3979800" y="5105880"/>
              <a:ext cx="0" cy="58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279680" y="5097960"/>
              <a:ext cx="69120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o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6815880" y="4534200"/>
              <a:ext cx="338040" cy="1096560"/>
              <a:chOff x="6815880" y="4534200"/>
              <a:chExt cx="338040" cy="1096560"/>
            </a:xfrm>
          </p:grpSpPr>
          <p:sp>
            <p:nvSpPr>
              <p:cNvPr id="560" name=""/>
              <p:cNvSpPr/>
              <p:nvPr/>
            </p:nvSpPr>
            <p:spPr>
              <a:xfrm flipH="1">
                <a:off x="6845040" y="4534200"/>
                <a:ext cx="30888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 flipV="1">
                <a:off x="6843600" y="4712400"/>
                <a:ext cx="30888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>
                <a:off x="6841440" y="4894920"/>
                <a:ext cx="30924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 flipV="1">
                <a:off x="6840720" y="5073840"/>
                <a:ext cx="308880" cy="18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6817680" y="5270400"/>
                <a:ext cx="30888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 flipV="1">
                <a:off x="6815880" y="5448960"/>
                <a:ext cx="30924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7415280" y="4872960"/>
              <a:ext cx="93060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ixtur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039800" y="3834000"/>
              <a:ext cx="269640" cy="282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453360" y="4407840"/>
              <a:ext cx="0" cy="1528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585600" y="4340520"/>
              <a:ext cx="0" cy="1528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165320" y="3383640"/>
              <a:ext cx="1271520" cy="1659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486880" y="3695400"/>
              <a:ext cx="865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278360" y="3757680"/>
              <a:ext cx="977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ff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ri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617920" y="3240000"/>
              <a:ext cx="70524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ri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999880" y="4716000"/>
              <a:ext cx="52668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397480" y="4880880"/>
              <a:ext cx="75384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ix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977760" y="1090440"/>
            <a:ext cx="803916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driv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) = 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ca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) + 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ixtu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ca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C_comp * dV/dt where dV/dt is instantaneous V-t slo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ixtu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V-t/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ixtu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taken at every tim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-less” V-t curve = 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driv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) *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ix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iver is pullup curve set with internal pulldow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ix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0, since there is no active, driving pulld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16BB2-6789-4C4A-9DC4-3F92FBFCEE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7445520" y="4687920"/>
            <a:ext cx="0" cy="1290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dified Approac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101600" y="1071720"/>
            <a:ext cx="7410600" cy="38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driv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) = 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ca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) + 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ixtu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) + 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ca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C_comp * dV/dt where dV/dt is instant. slope of V-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ixtu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V-t/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ixtu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taken at every tim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-less” V-t curve = 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driv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) *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ix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) =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d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) = {V-t –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)}/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) =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d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) = {V-t –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)}/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421160" y="4357800"/>
            <a:ext cx="2674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894040" y="4356000"/>
            <a:ext cx="1535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7199280" y="4424040"/>
            <a:ext cx="0" cy="39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921000" y="3830760"/>
            <a:ext cx="1782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d (V-t curv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7013520" y="5757480"/>
            <a:ext cx="303120" cy="503640"/>
            <a:chOff x="7013520" y="5757480"/>
            <a:chExt cx="303120" cy="503640"/>
          </a:xfrm>
        </p:grpSpPr>
        <p:sp>
          <p:nvSpPr>
            <p:cNvPr id="588" name=""/>
            <p:cNvSpPr/>
            <p:nvPr/>
          </p:nvSpPr>
          <p:spPr>
            <a:xfrm flipV="1">
              <a:off x="7164720" y="5757480"/>
              <a:ext cx="0" cy="39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7013520" y="6151680"/>
              <a:ext cx="303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7057800" y="6205680"/>
              <a:ext cx="21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7098120" y="6261120"/>
              <a:ext cx="13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4095720" y="5210280"/>
            <a:ext cx="409680" cy="79200"/>
            <a:chOff x="4095720" y="5210280"/>
            <a:chExt cx="409680" cy="79200"/>
          </a:xfrm>
        </p:grpSpPr>
        <p:sp>
          <p:nvSpPr>
            <p:cNvPr id="593" name=""/>
            <p:cNvSpPr/>
            <p:nvPr/>
          </p:nvSpPr>
          <p:spPr>
            <a:xfrm>
              <a:off x="4095720" y="5289480"/>
              <a:ext cx="409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095720" y="5210280"/>
              <a:ext cx="409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4295880" y="4348080"/>
            <a:ext cx="0" cy="8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4140360" y="5660640"/>
            <a:ext cx="303120" cy="503640"/>
            <a:chOff x="4140360" y="5660640"/>
            <a:chExt cx="303120" cy="503640"/>
          </a:xfrm>
        </p:grpSpPr>
        <p:sp>
          <p:nvSpPr>
            <p:cNvPr id="597" name=""/>
            <p:cNvSpPr/>
            <p:nvPr/>
          </p:nvSpPr>
          <p:spPr>
            <a:xfrm flipV="1">
              <a:off x="4291560" y="5660640"/>
              <a:ext cx="0" cy="39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4140360" y="6054840"/>
              <a:ext cx="303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4184640" y="6108840"/>
              <a:ext cx="21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4224960" y="6164280"/>
              <a:ext cx="13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4295880" y="5310360"/>
            <a:ext cx="0" cy="493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380120" y="4865760"/>
            <a:ext cx="6912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Co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6881400" y="4827600"/>
            <a:ext cx="309600" cy="926280"/>
            <a:chOff x="6881400" y="4827600"/>
            <a:chExt cx="309600" cy="926280"/>
          </a:xfrm>
        </p:grpSpPr>
        <p:sp>
          <p:nvSpPr>
            <p:cNvPr id="604" name=""/>
            <p:cNvSpPr/>
            <p:nvPr/>
          </p:nvSpPr>
          <p:spPr>
            <a:xfrm flipH="1">
              <a:off x="6908040" y="4827600"/>
              <a:ext cx="282960" cy="153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 flipV="1">
              <a:off x="6906960" y="4978080"/>
              <a:ext cx="282960" cy="153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6904800" y="5132520"/>
              <a:ext cx="283320" cy="153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 flipV="1">
              <a:off x="6904080" y="5283720"/>
              <a:ext cx="282960" cy="15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6883200" y="5449320"/>
              <a:ext cx="282960" cy="153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 flipV="1">
              <a:off x="6881400" y="5600160"/>
              <a:ext cx="283320" cy="153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7323840" y="4656240"/>
            <a:ext cx="93060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ixtu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086600" y="4237200"/>
            <a:ext cx="246240" cy="23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935520" y="4664160"/>
            <a:ext cx="0" cy="1290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727280" y="4160880"/>
            <a:ext cx="1160280" cy="811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981160" y="4452840"/>
            <a:ext cx="7891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789920" y="4172040"/>
            <a:ext cx="977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980080" y="4383000"/>
            <a:ext cx="7052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403800" y="4979880"/>
            <a:ext cx="526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562880" y="5213520"/>
            <a:ext cx="753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ix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5288040" y="5513400"/>
            <a:ext cx="409320" cy="79200"/>
            <a:chOff x="5288040" y="5513400"/>
            <a:chExt cx="409320" cy="79200"/>
          </a:xfrm>
        </p:grpSpPr>
        <p:sp>
          <p:nvSpPr>
            <p:cNvPr id="620" name=""/>
            <p:cNvSpPr/>
            <p:nvPr/>
          </p:nvSpPr>
          <p:spPr>
            <a:xfrm>
              <a:off x="5288040" y="5592600"/>
              <a:ext cx="409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288040" y="5513400"/>
              <a:ext cx="409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5355720" y="5601960"/>
            <a:ext cx="303480" cy="501840"/>
            <a:chOff x="5355720" y="5601960"/>
            <a:chExt cx="303480" cy="501840"/>
          </a:xfrm>
        </p:grpSpPr>
        <p:sp>
          <p:nvSpPr>
            <p:cNvPr id="623" name=""/>
            <p:cNvSpPr/>
            <p:nvPr/>
          </p:nvSpPr>
          <p:spPr>
            <a:xfrm flipV="1">
              <a:off x="5507640" y="5601960"/>
              <a:ext cx="0" cy="396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5355720" y="5994720"/>
              <a:ext cx="303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5400000" y="6048360"/>
              <a:ext cx="21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5440680" y="6103800"/>
              <a:ext cx="133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6102000" y="4660920"/>
            <a:ext cx="208080" cy="564840"/>
            <a:chOff x="6102000" y="4660920"/>
            <a:chExt cx="208080" cy="564840"/>
          </a:xfrm>
        </p:grpSpPr>
        <p:sp>
          <p:nvSpPr>
            <p:cNvPr id="628" name=""/>
            <p:cNvSpPr/>
            <p:nvPr/>
          </p:nvSpPr>
          <p:spPr>
            <a:xfrm flipH="1">
              <a:off x="6120000" y="4660920"/>
              <a:ext cx="190080" cy="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 flipV="1">
              <a:off x="6119280" y="4753080"/>
              <a:ext cx="190080" cy="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6117840" y="4846680"/>
              <a:ext cx="190440" cy="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 flipV="1">
              <a:off x="6117120" y="4938840"/>
              <a:ext cx="190080" cy="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6103080" y="5040000"/>
              <a:ext cx="190080" cy="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 flipV="1">
              <a:off x="6102000" y="5132160"/>
              <a:ext cx="190440" cy="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5301720" y="4659480"/>
            <a:ext cx="208080" cy="564480"/>
            <a:chOff x="5301720" y="4659480"/>
            <a:chExt cx="208080" cy="564480"/>
          </a:xfrm>
        </p:grpSpPr>
        <p:sp>
          <p:nvSpPr>
            <p:cNvPr id="635" name=""/>
            <p:cNvSpPr/>
            <p:nvPr/>
          </p:nvSpPr>
          <p:spPr>
            <a:xfrm flipH="1">
              <a:off x="5319720" y="4659480"/>
              <a:ext cx="190080" cy="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 flipV="1">
              <a:off x="5319000" y="4751280"/>
              <a:ext cx="190080" cy="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5317560" y="4845240"/>
              <a:ext cx="190440" cy="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 flipV="1">
              <a:off x="5316840" y="4937400"/>
              <a:ext cx="190080" cy="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5302800" y="5038560"/>
              <a:ext cx="190080" cy="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 flipV="1">
              <a:off x="5301720" y="5130360"/>
              <a:ext cx="190440" cy="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5500800" y="4370400"/>
            <a:ext cx="0" cy="30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311880" y="435780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499000" y="5222880"/>
            <a:ext cx="0" cy="30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6064200" y="5532480"/>
            <a:ext cx="409680" cy="79200"/>
            <a:chOff x="6064200" y="5532480"/>
            <a:chExt cx="409680" cy="79200"/>
          </a:xfrm>
        </p:grpSpPr>
        <p:sp>
          <p:nvSpPr>
            <p:cNvPr id="645" name=""/>
            <p:cNvSpPr/>
            <p:nvPr/>
          </p:nvSpPr>
          <p:spPr>
            <a:xfrm>
              <a:off x="6064200" y="5611680"/>
              <a:ext cx="409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064200" y="5532480"/>
              <a:ext cx="409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6134040" y="5611680"/>
            <a:ext cx="301680" cy="501840"/>
            <a:chOff x="6134040" y="5611680"/>
            <a:chExt cx="301680" cy="501840"/>
          </a:xfrm>
        </p:grpSpPr>
        <p:sp>
          <p:nvSpPr>
            <p:cNvPr id="648" name=""/>
            <p:cNvSpPr/>
            <p:nvPr/>
          </p:nvSpPr>
          <p:spPr>
            <a:xfrm flipV="1">
              <a:off x="6284520" y="5611680"/>
              <a:ext cx="0" cy="39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6134040" y="6004440"/>
              <a:ext cx="301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6177600" y="6058080"/>
              <a:ext cx="214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6218280" y="6113520"/>
              <a:ext cx="132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6275520" y="5232240"/>
            <a:ext cx="0" cy="30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207040" y="4552920"/>
            <a:ext cx="0" cy="1290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06960" y="4575240"/>
            <a:ext cx="0" cy="1290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496120" y="5607000"/>
            <a:ext cx="4122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350040" y="5594400"/>
            <a:ext cx="4122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492880" y="4675320"/>
            <a:ext cx="4122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293160" y="4595760"/>
            <a:ext cx="4122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881600" y="4411800"/>
            <a:ext cx="33624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718240" y="4387680"/>
            <a:ext cx="33624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423040" y="5268960"/>
            <a:ext cx="156960" cy="1191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189840" y="5299200"/>
            <a:ext cx="156960" cy="1206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570640" y="5175360"/>
            <a:ext cx="4122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Times New Roman"/>
              </a:rPr>
              <a:t>V</a:t>
            </a:r>
            <a:r>
              <a:rPr b="1" lang="en-US" sz="18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391440" y="5195880"/>
            <a:ext cx="4122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Times New Roman"/>
              </a:rPr>
              <a:t>V</a:t>
            </a:r>
            <a:r>
              <a:rPr b="1" lang="en-US" sz="1800" spc="-1" strike="noStrike" baseline="-25000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251240" y="2627280"/>
            <a:ext cx="451080" cy="1327320"/>
          </a:xfrm>
          <a:custGeom>
            <a:avLst/>
            <a:gdLst>
              <a:gd name="textAreaLeft" fmla="*/ 0 w 451080"/>
              <a:gd name="textAreaRight" fmla="*/ 162720 w 451080"/>
              <a:gd name="textAreaTop" fmla="*/ 34560 h 1327320"/>
              <a:gd name="textAreaBottom" fmla="*/ 1292760 h 132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901760" y="2752560"/>
            <a:ext cx="3254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e don’t know V or I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32A25-7762-40AF-B42C-F2A8A4BC74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920" y="1143000"/>
            <a:ext cx="72388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kgr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all C_comp “Back Out” Experi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ient Match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 Differential- and Common-mode Behavi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reating a Better AC Model for C_co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ulation Data in AC Doma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iacotto-Muranyi Mod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ovements on the G-M Mod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tic vs. EDA Tool Solu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ing G-M Models to the Differential C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11360" y="5792760"/>
            <a:ext cx="48196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Note: many slides in this presentation are anim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EDAFD-62FD-43F2-96B1-E9098AEC12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dified Approach (2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98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006560" y="1128600"/>
            <a:ext cx="7924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es, we do know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C charge equation is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A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-t/R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ee Horowitz and Hill,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The Art of Electronic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Chapte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arbitrary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t), this bec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) =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d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dt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192560" y="4340160"/>
            <a:ext cx="2787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600280" y="4338720"/>
            <a:ext cx="1598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7088040" y="4410000"/>
            <a:ext cx="0" cy="417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798600" y="3787920"/>
            <a:ext cx="1782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d (V-t curv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6892920" y="5810040"/>
            <a:ext cx="316080" cy="527400"/>
            <a:chOff x="6892920" y="5810040"/>
            <a:chExt cx="316080" cy="527400"/>
          </a:xfrm>
        </p:grpSpPr>
        <p:sp>
          <p:nvSpPr>
            <p:cNvPr id="676" name=""/>
            <p:cNvSpPr/>
            <p:nvPr/>
          </p:nvSpPr>
          <p:spPr>
            <a:xfrm flipV="1">
              <a:off x="7050600" y="5810040"/>
              <a:ext cx="0" cy="416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6892920" y="6222960"/>
              <a:ext cx="316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6939000" y="6279480"/>
              <a:ext cx="224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6981120" y="6337440"/>
              <a:ext cx="138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852720" y="5235480"/>
            <a:ext cx="427320" cy="82800"/>
            <a:chOff x="3852720" y="5235480"/>
            <a:chExt cx="427320" cy="82800"/>
          </a:xfrm>
        </p:grpSpPr>
        <p:sp>
          <p:nvSpPr>
            <p:cNvPr id="681" name=""/>
            <p:cNvSpPr/>
            <p:nvPr/>
          </p:nvSpPr>
          <p:spPr>
            <a:xfrm>
              <a:off x="3852720" y="5318280"/>
              <a:ext cx="427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852720" y="5235480"/>
              <a:ext cx="427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4062240" y="4330800"/>
            <a:ext cx="0" cy="89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3900240" y="5706720"/>
            <a:ext cx="314280" cy="528840"/>
            <a:chOff x="3900240" y="5706720"/>
            <a:chExt cx="314280" cy="528840"/>
          </a:xfrm>
        </p:grpSpPr>
        <p:sp>
          <p:nvSpPr>
            <p:cNvPr id="685" name=""/>
            <p:cNvSpPr/>
            <p:nvPr/>
          </p:nvSpPr>
          <p:spPr>
            <a:xfrm flipV="1">
              <a:off x="4057560" y="5706720"/>
              <a:ext cx="0" cy="41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3900240" y="6120720"/>
              <a:ext cx="314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3946680" y="6177240"/>
              <a:ext cx="22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3988440" y="6235560"/>
              <a:ext cx="138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4060800" y="5340240"/>
            <a:ext cx="0" cy="517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146840" y="4873680"/>
            <a:ext cx="6912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Co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6757560" y="4834080"/>
            <a:ext cx="320760" cy="970560"/>
            <a:chOff x="6757560" y="4834080"/>
            <a:chExt cx="320760" cy="970560"/>
          </a:xfrm>
        </p:grpSpPr>
        <p:sp>
          <p:nvSpPr>
            <p:cNvPr id="692" name=""/>
            <p:cNvSpPr/>
            <p:nvPr/>
          </p:nvSpPr>
          <p:spPr>
            <a:xfrm flipH="1">
              <a:off x="6785280" y="4834080"/>
              <a:ext cx="293040" cy="16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 flipV="1">
              <a:off x="6783840" y="4991760"/>
              <a:ext cx="293040" cy="16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6782040" y="5153400"/>
              <a:ext cx="293400" cy="16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flipV="1">
              <a:off x="6780960" y="5311440"/>
              <a:ext cx="293040" cy="16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6759360" y="5485680"/>
              <a:ext cx="293040" cy="16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 flipV="1">
              <a:off x="6757560" y="5643720"/>
              <a:ext cx="293400" cy="16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7328520" y="5133960"/>
            <a:ext cx="9306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ixtu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970680" y="4213080"/>
            <a:ext cx="255600" cy="25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236000" y="4686480"/>
            <a:ext cx="0" cy="1353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686040" y="4662360"/>
            <a:ext cx="0" cy="1354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384200" y="3814920"/>
            <a:ext cx="1209600" cy="1469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641680" y="4091040"/>
            <a:ext cx="8222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469160" y="4146480"/>
            <a:ext cx="977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34120" y="3649680"/>
            <a:ext cx="7052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130560" y="4992840"/>
            <a:ext cx="526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385040" y="4498920"/>
            <a:ext cx="753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ix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5094360" y="5551560"/>
            <a:ext cx="426960" cy="84240"/>
            <a:chOff x="5094360" y="5551560"/>
            <a:chExt cx="426960" cy="84240"/>
          </a:xfrm>
        </p:grpSpPr>
        <p:sp>
          <p:nvSpPr>
            <p:cNvPr id="709" name=""/>
            <p:cNvSpPr/>
            <p:nvPr/>
          </p:nvSpPr>
          <p:spPr>
            <a:xfrm>
              <a:off x="5094360" y="5635800"/>
              <a:ext cx="42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094360" y="5551560"/>
              <a:ext cx="42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5167080" y="5644800"/>
            <a:ext cx="315720" cy="528840"/>
            <a:chOff x="5167080" y="5644800"/>
            <a:chExt cx="315720" cy="528840"/>
          </a:xfrm>
        </p:grpSpPr>
        <p:sp>
          <p:nvSpPr>
            <p:cNvPr id="712" name=""/>
            <p:cNvSpPr/>
            <p:nvPr/>
          </p:nvSpPr>
          <p:spPr>
            <a:xfrm flipV="1">
              <a:off x="5325120" y="5644800"/>
              <a:ext cx="0" cy="41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5167080" y="6058800"/>
              <a:ext cx="315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5213160" y="6115320"/>
              <a:ext cx="224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5255640" y="6173640"/>
              <a:ext cx="138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5944680" y="4657680"/>
            <a:ext cx="216000" cy="592920"/>
            <a:chOff x="5944680" y="4657680"/>
            <a:chExt cx="216000" cy="592920"/>
          </a:xfrm>
        </p:grpSpPr>
        <p:sp>
          <p:nvSpPr>
            <p:cNvPr id="717" name=""/>
            <p:cNvSpPr/>
            <p:nvPr/>
          </p:nvSpPr>
          <p:spPr>
            <a:xfrm flipH="1">
              <a:off x="5963400" y="4657680"/>
              <a:ext cx="197280" cy="9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 flipV="1">
              <a:off x="5962680" y="4753800"/>
              <a:ext cx="197280" cy="9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5960880" y="4852800"/>
              <a:ext cx="197640" cy="9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flipV="1">
              <a:off x="5960520" y="4949280"/>
              <a:ext cx="197280" cy="9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5946120" y="5055840"/>
              <a:ext cx="197280" cy="9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 flipV="1">
              <a:off x="5944680" y="5152320"/>
              <a:ext cx="197640" cy="9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5109840" y="4656240"/>
            <a:ext cx="216000" cy="592920"/>
            <a:chOff x="5109840" y="4656240"/>
            <a:chExt cx="216000" cy="592920"/>
          </a:xfrm>
        </p:grpSpPr>
        <p:sp>
          <p:nvSpPr>
            <p:cNvPr id="724" name=""/>
            <p:cNvSpPr/>
            <p:nvPr/>
          </p:nvSpPr>
          <p:spPr>
            <a:xfrm flipH="1">
              <a:off x="5128560" y="4656240"/>
              <a:ext cx="197280" cy="9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 flipV="1">
              <a:off x="5127840" y="4752360"/>
              <a:ext cx="197280" cy="9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5126040" y="4851360"/>
              <a:ext cx="197640" cy="9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 flipV="1">
              <a:off x="5125680" y="4947840"/>
              <a:ext cx="197280" cy="9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5111280" y="5054400"/>
              <a:ext cx="197280" cy="9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 flipV="1">
              <a:off x="5109840" y="5150880"/>
              <a:ext cx="197640" cy="9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5318280" y="4354560"/>
            <a:ext cx="0" cy="320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162840" y="4340160"/>
            <a:ext cx="0" cy="320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315040" y="5248440"/>
            <a:ext cx="0" cy="320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5904000" y="5573880"/>
            <a:ext cx="426960" cy="82440"/>
            <a:chOff x="5904000" y="5573880"/>
            <a:chExt cx="426960" cy="82440"/>
          </a:xfrm>
        </p:grpSpPr>
        <p:sp>
          <p:nvSpPr>
            <p:cNvPr id="734" name=""/>
            <p:cNvSpPr/>
            <p:nvPr/>
          </p:nvSpPr>
          <p:spPr>
            <a:xfrm>
              <a:off x="5904000" y="5656320"/>
              <a:ext cx="42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904000" y="5573880"/>
              <a:ext cx="42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5976720" y="5654160"/>
            <a:ext cx="315720" cy="529200"/>
            <a:chOff x="5976720" y="5654160"/>
            <a:chExt cx="315720" cy="529200"/>
          </a:xfrm>
        </p:grpSpPr>
        <p:sp>
          <p:nvSpPr>
            <p:cNvPr id="737" name=""/>
            <p:cNvSpPr/>
            <p:nvPr/>
          </p:nvSpPr>
          <p:spPr>
            <a:xfrm flipV="1">
              <a:off x="6134760" y="5654160"/>
              <a:ext cx="0" cy="41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5976720" y="6068520"/>
              <a:ext cx="315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6022800" y="6125040"/>
              <a:ext cx="224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6065280" y="6183360"/>
              <a:ext cx="138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1" name=""/>
          <p:cNvSpPr/>
          <p:nvPr/>
        </p:nvSpPr>
        <p:spPr>
          <a:xfrm>
            <a:off x="6124680" y="5257800"/>
            <a:ext cx="0" cy="320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010120" y="4545000"/>
            <a:ext cx="0" cy="1354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845320" y="4568760"/>
            <a:ext cx="0" cy="1354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311800" y="5653080"/>
            <a:ext cx="4122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202440" y="5638680"/>
            <a:ext cx="4122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308560" y="4673520"/>
            <a:ext cx="4122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140520" y="4591080"/>
            <a:ext cx="4122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672080" y="4397400"/>
            <a:ext cx="33624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42200" y="4371840"/>
            <a:ext cx="33624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237280" y="5295960"/>
            <a:ext cx="163440" cy="125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033960" y="5329080"/>
            <a:ext cx="163800" cy="1256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389560" y="5197320"/>
            <a:ext cx="4122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Times New Roman"/>
              </a:rPr>
              <a:t>V</a:t>
            </a:r>
            <a:r>
              <a:rPr b="1" lang="en-US" sz="18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245280" y="5219640"/>
            <a:ext cx="4122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Times New Roman"/>
              </a:rPr>
              <a:t>V</a:t>
            </a:r>
            <a:r>
              <a:rPr b="1" lang="en-US" sz="1800" spc="-1" strike="noStrike" baseline="-25000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3368520" y="2421000"/>
                <a:ext cx="412272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RC</m:t>
                                </m:r>
                              </m:den>
                            </m:f>
                          </m:sup>
                        </m:sSup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F6060-A651-4AF8-9F40-20730C8F77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dified Approach (3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98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249800" y="3927600"/>
            <a:ext cx="3056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505240" y="392580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7423200" y="4006440"/>
            <a:ext cx="0" cy="46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104960" y="3308400"/>
            <a:ext cx="1782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d (V-t curv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7210080" y="5576400"/>
            <a:ext cx="345960" cy="592560"/>
            <a:chOff x="7210080" y="5576400"/>
            <a:chExt cx="345960" cy="592560"/>
          </a:xfrm>
        </p:grpSpPr>
        <p:sp>
          <p:nvSpPr>
            <p:cNvPr id="762" name=""/>
            <p:cNvSpPr/>
            <p:nvPr/>
          </p:nvSpPr>
          <p:spPr>
            <a:xfrm flipV="1">
              <a:off x="7383240" y="5576400"/>
              <a:ext cx="0" cy="46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7210080" y="604044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7260840" y="610380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7306920" y="616896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3876840" y="4932360"/>
            <a:ext cx="468000" cy="93600"/>
            <a:chOff x="3876840" y="4932360"/>
            <a:chExt cx="468000" cy="93600"/>
          </a:xfrm>
        </p:grpSpPr>
        <p:sp>
          <p:nvSpPr>
            <p:cNvPr id="767" name=""/>
            <p:cNvSpPr/>
            <p:nvPr/>
          </p:nvSpPr>
          <p:spPr>
            <a:xfrm>
              <a:off x="3876840" y="5025960"/>
              <a:ext cx="468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876840" y="4932360"/>
              <a:ext cx="468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4106880" y="3917880"/>
            <a:ext cx="0" cy="10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3928680" y="5462280"/>
            <a:ext cx="345960" cy="592560"/>
            <a:chOff x="3928680" y="5462280"/>
            <a:chExt cx="345960" cy="592560"/>
          </a:xfrm>
        </p:grpSpPr>
        <p:sp>
          <p:nvSpPr>
            <p:cNvPr id="771" name=""/>
            <p:cNvSpPr/>
            <p:nvPr/>
          </p:nvSpPr>
          <p:spPr>
            <a:xfrm flipV="1">
              <a:off x="4101840" y="5462280"/>
              <a:ext cx="0" cy="46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3928680" y="592632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3979440" y="598968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4025520" y="6054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4105440" y="5049720"/>
            <a:ext cx="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197600" y="4525920"/>
            <a:ext cx="6912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Co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7061040" y="4481640"/>
            <a:ext cx="352080" cy="1090080"/>
            <a:chOff x="7061040" y="4481640"/>
            <a:chExt cx="352080" cy="1090080"/>
          </a:xfrm>
        </p:grpSpPr>
        <p:sp>
          <p:nvSpPr>
            <p:cNvPr id="778" name=""/>
            <p:cNvSpPr/>
            <p:nvPr/>
          </p:nvSpPr>
          <p:spPr>
            <a:xfrm flipH="1">
              <a:off x="7090920" y="4481640"/>
              <a:ext cx="32220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7089480" y="4659120"/>
              <a:ext cx="32220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7088040" y="4840200"/>
              <a:ext cx="32256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 flipV="1">
              <a:off x="7086240" y="5017680"/>
              <a:ext cx="322200" cy="18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7062480" y="5213160"/>
              <a:ext cx="32220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 flipV="1">
              <a:off x="7061040" y="5391000"/>
              <a:ext cx="32256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7683840" y="4818240"/>
            <a:ext cx="9306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ixtu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294680" y="3786120"/>
            <a:ext cx="280800" cy="281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585200" y="4316400"/>
            <a:ext cx="0" cy="1519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693960" y="4289400"/>
            <a:ext cx="0" cy="1519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171440" y="3338640"/>
            <a:ext cx="1325520" cy="1649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549520" y="3648240"/>
            <a:ext cx="901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311840" y="3710160"/>
            <a:ext cx="977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684880" y="3195720"/>
            <a:ext cx="7052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083040" y="4660920"/>
            <a:ext cx="526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745400" y="4105440"/>
            <a:ext cx="753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ix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035000" y="1214280"/>
            <a:ext cx="7896240" cy="38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tricky differential equa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ier solution – use EDA tool to generate dat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netlist as sh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ive PWL source with original V-t data set(s), at p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CCS into load = Rfixture provides “adjusted” V-t cur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5238720" y="5288040"/>
            <a:ext cx="468360" cy="93600"/>
            <a:chOff x="5238720" y="5288040"/>
            <a:chExt cx="468360" cy="93600"/>
          </a:xfrm>
        </p:grpSpPr>
        <p:sp>
          <p:nvSpPr>
            <p:cNvPr id="797" name=""/>
            <p:cNvSpPr/>
            <p:nvPr/>
          </p:nvSpPr>
          <p:spPr>
            <a:xfrm>
              <a:off x="5238720" y="538164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238720" y="528804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5317920" y="5392440"/>
            <a:ext cx="345960" cy="592560"/>
            <a:chOff x="5317920" y="5392440"/>
            <a:chExt cx="345960" cy="592560"/>
          </a:xfrm>
        </p:grpSpPr>
        <p:sp>
          <p:nvSpPr>
            <p:cNvPr id="800" name=""/>
            <p:cNvSpPr/>
            <p:nvPr/>
          </p:nvSpPr>
          <p:spPr>
            <a:xfrm flipV="1">
              <a:off x="5491080" y="5392440"/>
              <a:ext cx="0" cy="46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5317920" y="585648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5368680" y="591984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5414760" y="5985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6170400" y="4284720"/>
            <a:ext cx="236520" cy="664920"/>
            <a:chOff x="6170400" y="4284720"/>
            <a:chExt cx="236520" cy="664920"/>
          </a:xfrm>
        </p:grpSpPr>
        <p:sp>
          <p:nvSpPr>
            <p:cNvPr id="805" name=""/>
            <p:cNvSpPr/>
            <p:nvPr/>
          </p:nvSpPr>
          <p:spPr>
            <a:xfrm flipH="1">
              <a:off x="6190920" y="4284720"/>
              <a:ext cx="21600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6189840" y="4393080"/>
              <a:ext cx="21600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6188400" y="4503600"/>
              <a:ext cx="21636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 flipV="1">
              <a:off x="6187680" y="4611960"/>
              <a:ext cx="21600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6171840" y="4731120"/>
              <a:ext cx="21600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 flipV="1">
              <a:off x="6170400" y="4839480"/>
              <a:ext cx="21636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5256000" y="4282920"/>
            <a:ext cx="236520" cy="664920"/>
            <a:chOff x="5256000" y="4282920"/>
            <a:chExt cx="236520" cy="664920"/>
          </a:xfrm>
        </p:grpSpPr>
        <p:sp>
          <p:nvSpPr>
            <p:cNvPr id="812" name=""/>
            <p:cNvSpPr/>
            <p:nvPr/>
          </p:nvSpPr>
          <p:spPr>
            <a:xfrm flipH="1">
              <a:off x="5276520" y="4282920"/>
              <a:ext cx="21600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 flipV="1">
              <a:off x="5275440" y="4391280"/>
              <a:ext cx="21600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5274000" y="4501800"/>
              <a:ext cx="21636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 flipV="1">
              <a:off x="5273280" y="4610160"/>
              <a:ext cx="21600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5257440" y="4729320"/>
              <a:ext cx="21600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 flipV="1">
              <a:off x="5256000" y="4837680"/>
              <a:ext cx="21636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5483160" y="39434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408720" y="392760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479920" y="49467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6126120" y="5311800"/>
            <a:ext cx="468360" cy="93600"/>
            <a:chOff x="6126120" y="5311800"/>
            <a:chExt cx="468360" cy="93600"/>
          </a:xfrm>
        </p:grpSpPr>
        <p:sp>
          <p:nvSpPr>
            <p:cNvPr id="822" name=""/>
            <p:cNvSpPr/>
            <p:nvPr/>
          </p:nvSpPr>
          <p:spPr>
            <a:xfrm>
              <a:off x="6126120" y="540540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126120" y="531180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6205320" y="5403600"/>
            <a:ext cx="345960" cy="592560"/>
            <a:chOff x="6205320" y="5403600"/>
            <a:chExt cx="345960" cy="592560"/>
          </a:xfrm>
        </p:grpSpPr>
        <p:sp>
          <p:nvSpPr>
            <p:cNvPr id="825" name=""/>
            <p:cNvSpPr/>
            <p:nvPr/>
          </p:nvSpPr>
          <p:spPr>
            <a:xfrm flipV="1">
              <a:off x="6378480" y="5403600"/>
              <a:ext cx="0" cy="46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6205320" y="586764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6256080" y="593100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6302160" y="599616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6367320" y="49579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146560" y="4157640"/>
            <a:ext cx="0" cy="1519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060960" y="4184640"/>
            <a:ext cx="0" cy="1519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475240" y="5398920"/>
            <a:ext cx="4122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451560" y="5384880"/>
            <a:ext cx="4122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472360" y="4302000"/>
            <a:ext cx="4122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386760" y="4208400"/>
            <a:ext cx="4122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773600" y="3990960"/>
            <a:ext cx="33624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729400" y="3963960"/>
            <a:ext cx="33624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394240" y="5000760"/>
            <a:ext cx="179640" cy="14112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269040" y="5037120"/>
            <a:ext cx="179280" cy="1414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561280" y="4890960"/>
            <a:ext cx="4122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Times New Roman"/>
              </a:rPr>
              <a:t>V</a:t>
            </a:r>
            <a:r>
              <a:rPr b="1" lang="en-US" sz="18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499440" y="4915080"/>
            <a:ext cx="4122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Times New Roman"/>
              </a:rPr>
              <a:t>V</a:t>
            </a:r>
            <a:r>
              <a:rPr b="1" lang="en-US" sz="1800" spc="-1" strike="noStrike" baseline="-25000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98990-0BA7-44E4-A043-22B8D1BBB7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179360" y="-360"/>
            <a:ext cx="743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ew “Cap-less” Main V-t Tabl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" descr=""/>
          <p:cNvPicPr/>
          <p:nvPr/>
        </p:nvPicPr>
        <p:blipFill>
          <a:blip r:embed="rId1"/>
          <a:stretch/>
        </p:blipFill>
        <p:spPr>
          <a:xfrm>
            <a:off x="965160" y="1092240"/>
            <a:ext cx="8026560" cy="5321160"/>
          </a:xfrm>
          <a:prstGeom prst="rect">
            <a:avLst/>
          </a:prstGeom>
          <a:ln w="0">
            <a:noFill/>
          </a:ln>
        </p:spPr>
      </p:pic>
      <p:sp>
        <p:nvSpPr>
          <p:cNvPr id="845" name=""/>
          <p:cNvSpPr/>
          <p:nvPr/>
        </p:nvSpPr>
        <p:spPr>
          <a:xfrm>
            <a:off x="7392960" y="117324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Rising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A0C29-A0FD-40C1-8A11-FEB4C3765F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riginal V-t and First Adjust…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990720" y="973080"/>
            <a:ext cx="8153280" cy="553896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7392960" y="117324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Rising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BDE2C-4857-4901-A39E-91729720924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ssessmen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053720" y="1143000"/>
            <a:ext cx="7899480" cy="520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e can now adjust V-t curves for AC C_co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66"/>
                </a:solidFill>
                <a:latin typeface="Arial"/>
              </a:rPr>
              <a:t>Enabling each portion of differential buffer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66"/>
                </a:solidFill>
                <a:latin typeface="Arial"/>
              </a:rPr>
              <a:t>Take a separate V-t curve (Main Only, Boost onl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66"/>
                </a:solidFill>
                <a:latin typeface="Arial"/>
              </a:rPr>
              <a:t>Take AC domain frequency response for entire buff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ingle-ended response only analyzed so f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66"/>
                </a:solidFill>
                <a:latin typeface="Arial"/>
              </a:rPr>
              <a:t>Match AC domain with model &amp; extract adjusted V-t cur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n we repeat the process for differential behavior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2535840" y="3519360"/>
            <a:ext cx="4320360" cy="2638440"/>
            <a:chOff x="2535840" y="3519360"/>
            <a:chExt cx="4320360" cy="2638440"/>
          </a:xfrm>
        </p:grpSpPr>
        <p:graphicFrame>
          <p:nvGraphicFramePr>
            <p:cNvPr id="853" name=""/>
            <p:cNvGraphicFramePr/>
            <p:nvPr/>
          </p:nvGraphicFramePr>
          <p:xfrm>
            <a:off x="2535840" y="3519360"/>
            <a:ext cx="4320360" cy="2638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35840" y="3519360"/>
                      <a:ext cx="4320360" cy="26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5" name=""/>
            <p:cNvSpPr/>
            <p:nvPr/>
          </p:nvSpPr>
          <p:spPr>
            <a:xfrm flipV="1">
              <a:off x="4961520" y="5646600"/>
              <a:ext cx="1373400" cy="36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 flipV="1">
              <a:off x="2990880" y="5483520"/>
              <a:ext cx="1007280" cy="48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877000" y="578664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858640" y="579708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995200" y="578664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24640" y="57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776680" y="3884040"/>
              <a:ext cx="0" cy="1624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537640" y="365328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1219680" y="5249880"/>
            <a:ext cx="816120" cy="8240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ilte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2FE62-D32E-4EF1-8297-F932E85E255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179360" y="-360"/>
            <a:ext cx="743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about differential C_comp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00080" y="739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702560" y="1380960"/>
            <a:ext cx="280800" cy="268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657680" y="1515960"/>
            <a:ext cx="3056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4834080" y="1501560"/>
            <a:ext cx="0" cy="446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3676680" y="1468440"/>
            <a:ext cx="0" cy="39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525080" y="1887480"/>
            <a:ext cx="561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620960" y="2473200"/>
            <a:ext cx="345960" cy="561960"/>
            <a:chOff x="4620960" y="2473200"/>
            <a:chExt cx="345960" cy="561960"/>
          </a:xfrm>
        </p:grpSpPr>
        <p:sp>
          <p:nvSpPr>
            <p:cNvPr id="872" name=""/>
            <p:cNvSpPr/>
            <p:nvPr/>
          </p:nvSpPr>
          <p:spPr>
            <a:xfrm flipV="1">
              <a:off x="4794120" y="2473200"/>
              <a:ext cx="0" cy="44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4620960" y="291312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4671720" y="297324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4717800" y="303516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7130880" y="2496960"/>
            <a:ext cx="468360" cy="88920"/>
            <a:chOff x="7130880" y="2496960"/>
            <a:chExt cx="468360" cy="88920"/>
          </a:xfrm>
        </p:grpSpPr>
        <p:sp>
          <p:nvSpPr>
            <p:cNvPr id="877" name=""/>
            <p:cNvSpPr/>
            <p:nvPr/>
          </p:nvSpPr>
          <p:spPr>
            <a:xfrm>
              <a:off x="7130880" y="258588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130880" y="249696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7361280" y="1531800"/>
            <a:ext cx="0" cy="95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7183080" y="3000240"/>
            <a:ext cx="345960" cy="563760"/>
            <a:chOff x="7183080" y="3000240"/>
            <a:chExt cx="345960" cy="563760"/>
          </a:xfrm>
        </p:grpSpPr>
        <p:sp>
          <p:nvSpPr>
            <p:cNvPr id="881" name=""/>
            <p:cNvSpPr/>
            <p:nvPr/>
          </p:nvSpPr>
          <p:spPr>
            <a:xfrm flipV="1">
              <a:off x="7356240" y="3000240"/>
              <a:ext cx="0" cy="44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7183080" y="344160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7233840" y="350172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7279920" y="3564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"/>
          <p:cNvSpPr/>
          <p:nvPr/>
        </p:nvSpPr>
        <p:spPr>
          <a:xfrm>
            <a:off x="7359480" y="2608200"/>
            <a:ext cx="0" cy="55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730640" y="2355840"/>
            <a:ext cx="13770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Comp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4505400" y="1278720"/>
            <a:ext cx="145440" cy="487440"/>
            <a:chOff x="4505400" y="1278720"/>
            <a:chExt cx="145440" cy="487440"/>
          </a:xfrm>
        </p:grpSpPr>
        <p:sp>
          <p:nvSpPr>
            <p:cNvPr id="888" name=""/>
            <p:cNvSpPr/>
            <p:nvPr/>
          </p:nvSpPr>
          <p:spPr>
            <a:xfrm>
              <a:off x="4650840" y="1278720"/>
              <a:ext cx="0" cy="48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4505400" y="1279080"/>
              <a:ext cx="0" cy="48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3438000" y="2398680"/>
            <a:ext cx="345960" cy="563760"/>
            <a:chOff x="3438000" y="2398680"/>
            <a:chExt cx="345960" cy="563760"/>
          </a:xfrm>
        </p:grpSpPr>
        <p:sp>
          <p:nvSpPr>
            <p:cNvPr id="891" name=""/>
            <p:cNvSpPr/>
            <p:nvPr/>
          </p:nvSpPr>
          <p:spPr>
            <a:xfrm flipV="1">
              <a:off x="3611160" y="2398680"/>
              <a:ext cx="0" cy="44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3438000" y="284004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3488760" y="290016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3534840" y="29624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"/>
          <p:cNvSpPr/>
          <p:nvPr/>
        </p:nvSpPr>
        <p:spPr>
          <a:xfrm>
            <a:off x="4037760" y="993600"/>
            <a:ext cx="13269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8.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3313080" y="1835280"/>
            <a:ext cx="352080" cy="574200"/>
            <a:chOff x="3313080" y="1835280"/>
            <a:chExt cx="352080" cy="574200"/>
          </a:xfrm>
        </p:grpSpPr>
        <p:sp>
          <p:nvSpPr>
            <p:cNvPr id="897" name=""/>
            <p:cNvSpPr/>
            <p:nvPr/>
          </p:nvSpPr>
          <p:spPr>
            <a:xfrm flipH="1">
              <a:off x="3342960" y="183528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 flipV="1">
              <a:off x="3341520" y="192852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3340080" y="2024280"/>
              <a:ext cx="32256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 flipV="1">
              <a:off x="3338280" y="2117880"/>
              <a:ext cx="32220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3314520" y="222084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 flipV="1">
              <a:off x="3313080" y="2314080"/>
              <a:ext cx="32256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4471920" y="1954080"/>
            <a:ext cx="352080" cy="512640"/>
            <a:chOff x="4471920" y="1954080"/>
            <a:chExt cx="352080" cy="512640"/>
          </a:xfrm>
        </p:grpSpPr>
        <p:sp>
          <p:nvSpPr>
            <p:cNvPr id="904" name=""/>
            <p:cNvSpPr/>
            <p:nvPr/>
          </p:nvSpPr>
          <p:spPr>
            <a:xfrm flipH="1">
              <a:off x="4501800" y="1954080"/>
              <a:ext cx="322200" cy="8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 flipV="1">
              <a:off x="4500360" y="2037600"/>
              <a:ext cx="322200" cy="8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4498920" y="2122920"/>
              <a:ext cx="322560" cy="8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 flipV="1">
              <a:off x="4497120" y="2206440"/>
              <a:ext cx="322200" cy="8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4473360" y="2298240"/>
              <a:ext cx="322200" cy="8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4471920" y="2381760"/>
              <a:ext cx="322560" cy="8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0" name=""/>
          <p:cNvSpPr/>
          <p:nvPr/>
        </p:nvSpPr>
        <p:spPr>
          <a:xfrm>
            <a:off x="4826520" y="2200320"/>
            <a:ext cx="881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688560" y="1987560"/>
            <a:ext cx="596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6197760" y="1512360"/>
            <a:ext cx="0" cy="44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5929200" y="3086280"/>
            <a:ext cx="468360" cy="88560"/>
            <a:chOff x="5929200" y="3086280"/>
            <a:chExt cx="468360" cy="88560"/>
          </a:xfrm>
        </p:grpSpPr>
        <p:sp>
          <p:nvSpPr>
            <p:cNvPr id="914" name=""/>
            <p:cNvSpPr/>
            <p:nvPr/>
          </p:nvSpPr>
          <p:spPr>
            <a:xfrm>
              <a:off x="5929200" y="317484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929200" y="308628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5959080" y="3159000"/>
            <a:ext cx="345960" cy="563760"/>
            <a:chOff x="5959080" y="3159000"/>
            <a:chExt cx="345960" cy="563760"/>
          </a:xfrm>
        </p:grpSpPr>
        <p:sp>
          <p:nvSpPr>
            <p:cNvPr id="917" name=""/>
            <p:cNvSpPr/>
            <p:nvPr/>
          </p:nvSpPr>
          <p:spPr>
            <a:xfrm flipV="1">
              <a:off x="6132240" y="3159000"/>
              <a:ext cx="0" cy="44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5959080" y="360036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>
              <a:off x="6009840" y="366048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6055920" y="372276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5834160" y="1946160"/>
            <a:ext cx="352080" cy="563760"/>
            <a:chOff x="5834160" y="1946160"/>
            <a:chExt cx="352080" cy="563760"/>
          </a:xfrm>
        </p:grpSpPr>
        <p:sp>
          <p:nvSpPr>
            <p:cNvPr id="922" name=""/>
            <p:cNvSpPr/>
            <p:nvPr/>
          </p:nvSpPr>
          <p:spPr>
            <a:xfrm flipH="1">
              <a:off x="5864040" y="1946160"/>
              <a:ext cx="322200" cy="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 flipV="1">
              <a:off x="5862600" y="2037960"/>
              <a:ext cx="322200" cy="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5861160" y="2131560"/>
              <a:ext cx="322560" cy="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 flipV="1">
              <a:off x="5859360" y="2223000"/>
              <a:ext cx="322200" cy="9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5835600" y="2324520"/>
              <a:ext cx="322200" cy="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 flipV="1">
              <a:off x="5834160" y="2416320"/>
              <a:ext cx="322560" cy="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6145200" y="2511360"/>
            <a:ext cx="0" cy="55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250680" y="1990800"/>
            <a:ext cx="596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192000" y="2657520"/>
            <a:ext cx="10983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4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673440" y="1504800"/>
            <a:ext cx="82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2648520" y="2770200"/>
            <a:ext cx="471240" cy="76320"/>
            <a:chOff x="2648520" y="2770200"/>
            <a:chExt cx="471240" cy="76320"/>
          </a:xfrm>
        </p:grpSpPr>
        <p:sp>
          <p:nvSpPr>
            <p:cNvPr id="933" name=""/>
            <p:cNvSpPr/>
            <p:nvPr/>
          </p:nvSpPr>
          <p:spPr>
            <a:xfrm>
              <a:off x="2648520" y="2846520"/>
              <a:ext cx="4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648520" y="2770200"/>
              <a:ext cx="4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2867040" y="2849400"/>
            <a:ext cx="0" cy="830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993000" y="3805200"/>
            <a:ext cx="280800" cy="26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948120" y="3940200"/>
            <a:ext cx="3056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4124160" y="3925440"/>
            <a:ext cx="0" cy="446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9" name=""/>
          <p:cNvGrpSpPr/>
          <p:nvPr/>
        </p:nvGrpSpPr>
        <p:grpSpPr>
          <a:xfrm>
            <a:off x="3903480" y="4962240"/>
            <a:ext cx="345960" cy="563760"/>
            <a:chOff x="3903480" y="4962240"/>
            <a:chExt cx="345960" cy="563760"/>
          </a:xfrm>
        </p:grpSpPr>
        <p:sp>
          <p:nvSpPr>
            <p:cNvPr id="940" name=""/>
            <p:cNvSpPr/>
            <p:nvPr/>
          </p:nvSpPr>
          <p:spPr>
            <a:xfrm flipV="1">
              <a:off x="4076640" y="4962240"/>
              <a:ext cx="0" cy="44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3903480" y="540360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H="1">
              <a:off x="3954240" y="546372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>
              <a:off x="4000320" y="5526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4" name=""/>
          <p:cNvGrpSpPr/>
          <p:nvPr/>
        </p:nvGrpSpPr>
        <p:grpSpPr>
          <a:xfrm>
            <a:off x="6421320" y="4921200"/>
            <a:ext cx="468360" cy="88920"/>
            <a:chOff x="6421320" y="4921200"/>
            <a:chExt cx="468360" cy="88920"/>
          </a:xfrm>
        </p:grpSpPr>
        <p:sp>
          <p:nvSpPr>
            <p:cNvPr id="945" name=""/>
            <p:cNvSpPr/>
            <p:nvPr/>
          </p:nvSpPr>
          <p:spPr>
            <a:xfrm>
              <a:off x="6421320" y="501012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421320" y="492120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7" name=""/>
          <p:cNvSpPr/>
          <p:nvPr/>
        </p:nvSpPr>
        <p:spPr>
          <a:xfrm>
            <a:off x="6651720" y="3956040"/>
            <a:ext cx="0" cy="95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6473520" y="5424120"/>
            <a:ext cx="345960" cy="563760"/>
            <a:chOff x="6473520" y="5424120"/>
            <a:chExt cx="345960" cy="563760"/>
          </a:xfrm>
        </p:grpSpPr>
        <p:sp>
          <p:nvSpPr>
            <p:cNvPr id="949" name=""/>
            <p:cNvSpPr/>
            <p:nvPr/>
          </p:nvSpPr>
          <p:spPr>
            <a:xfrm flipV="1">
              <a:off x="6646680" y="5424120"/>
              <a:ext cx="0" cy="44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6473520" y="586548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>
              <a:off x="6524280" y="592560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6570360" y="598788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3" name=""/>
          <p:cNvSpPr/>
          <p:nvPr/>
        </p:nvSpPr>
        <p:spPr>
          <a:xfrm>
            <a:off x="6649920" y="5032440"/>
            <a:ext cx="0" cy="55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021440" y="4714920"/>
            <a:ext cx="13924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Comp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3795840" y="3701160"/>
            <a:ext cx="145440" cy="488880"/>
            <a:chOff x="3795840" y="3701160"/>
            <a:chExt cx="145440" cy="488880"/>
          </a:xfrm>
        </p:grpSpPr>
        <p:sp>
          <p:nvSpPr>
            <p:cNvPr id="956" name=""/>
            <p:cNvSpPr/>
            <p:nvPr/>
          </p:nvSpPr>
          <p:spPr>
            <a:xfrm>
              <a:off x="3941280" y="3701160"/>
              <a:ext cx="0" cy="48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V="1">
              <a:off x="3795840" y="3701520"/>
              <a:ext cx="0" cy="48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3762360" y="4376880"/>
            <a:ext cx="352080" cy="623160"/>
            <a:chOff x="3762360" y="4376880"/>
            <a:chExt cx="352080" cy="623160"/>
          </a:xfrm>
        </p:grpSpPr>
        <p:sp>
          <p:nvSpPr>
            <p:cNvPr id="959" name=""/>
            <p:cNvSpPr/>
            <p:nvPr/>
          </p:nvSpPr>
          <p:spPr>
            <a:xfrm flipH="1">
              <a:off x="3792240" y="4376880"/>
              <a:ext cx="32220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 flipV="1">
              <a:off x="3790800" y="4478040"/>
              <a:ext cx="32220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>
              <a:off x="3789360" y="4582080"/>
              <a:ext cx="32256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 flipV="1">
              <a:off x="3787560" y="4683240"/>
              <a:ext cx="32220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3763800" y="4795560"/>
              <a:ext cx="32220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 flipV="1">
              <a:off x="3762360" y="4896720"/>
              <a:ext cx="32256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5" name=""/>
          <p:cNvSpPr/>
          <p:nvPr/>
        </p:nvSpPr>
        <p:spPr>
          <a:xfrm>
            <a:off x="3038400" y="3925800"/>
            <a:ext cx="74772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116960" y="4622760"/>
            <a:ext cx="881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086280" y="4343400"/>
            <a:ext cx="616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5487840" y="3936600"/>
            <a:ext cx="0" cy="44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5229360" y="5526000"/>
            <a:ext cx="468000" cy="88920"/>
            <a:chOff x="5229360" y="5526000"/>
            <a:chExt cx="468000" cy="88920"/>
          </a:xfrm>
        </p:grpSpPr>
        <p:sp>
          <p:nvSpPr>
            <p:cNvPr id="970" name=""/>
            <p:cNvSpPr/>
            <p:nvPr/>
          </p:nvSpPr>
          <p:spPr>
            <a:xfrm>
              <a:off x="5229360" y="5614920"/>
              <a:ext cx="468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229360" y="5526000"/>
              <a:ext cx="468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5268600" y="5599080"/>
            <a:ext cx="345960" cy="563760"/>
            <a:chOff x="5268600" y="5599080"/>
            <a:chExt cx="345960" cy="563760"/>
          </a:xfrm>
        </p:grpSpPr>
        <p:sp>
          <p:nvSpPr>
            <p:cNvPr id="973" name=""/>
            <p:cNvSpPr/>
            <p:nvPr/>
          </p:nvSpPr>
          <p:spPr>
            <a:xfrm flipV="1">
              <a:off x="5441760" y="5599080"/>
              <a:ext cx="0" cy="44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>
              <a:off x="5268600" y="604044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>
              <a:off x="5319360" y="610056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5365440" y="6162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5124600" y="4370400"/>
            <a:ext cx="352080" cy="573120"/>
            <a:chOff x="5124600" y="4370400"/>
            <a:chExt cx="352080" cy="573120"/>
          </a:xfrm>
        </p:grpSpPr>
        <p:sp>
          <p:nvSpPr>
            <p:cNvPr id="978" name=""/>
            <p:cNvSpPr/>
            <p:nvPr/>
          </p:nvSpPr>
          <p:spPr>
            <a:xfrm flipH="1">
              <a:off x="5154480" y="4370400"/>
              <a:ext cx="32220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 flipV="1">
              <a:off x="5153040" y="4463640"/>
              <a:ext cx="32220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5151600" y="4558680"/>
              <a:ext cx="32256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 flipV="1">
              <a:off x="5149800" y="4651920"/>
              <a:ext cx="322200" cy="9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H="1">
              <a:off x="5126040" y="4754880"/>
              <a:ext cx="32220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 flipV="1">
              <a:off x="5124600" y="4848480"/>
              <a:ext cx="32256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5445000" y="4952880"/>
            <a:ext cx="0" cy="55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542200" y="4414680"/>
            <a:ext cx="616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706560" y="3282840"/>
            <a:ext cx="13420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8.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V="1">
            <a:off x="3057480" y="3935160"/>
            <a:ext cx="0" cy="37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2819160" y="4848120"/>
            <a:ext cx="345960" cy="563760"/>
            <a:chOff x="2819160" y="4848120"/>
            <a:chExt cx="345960" cy="563760"/>
          </a:xfrm>
        </p:grpSpPr>
        <p:sp>
          <p:nvSpPr>
            <p:cNvPr id="989" name=""/>
            <p:cNvSpPr/>
            <p:nvPr/>
          </p:nvSpPr>
          <p:spPr>
            <a:xfrm flipV="1">
              <a:off x="2992320" y="4848120"/>
              <a:ext cx="0" cy="44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>
              <a:off x="2819160" y="528948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>
              <a:off x="2869920" y="534960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>
              <a:off x="2916000" y="541188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2693880" y="4284720"/>
            <a:ext cx="352080" cy="574200"/>
            <a:chOff x="2693880" y="4284720"/>
            <a:chExt cx="352080" cy="574200"/>
          </a:xfrm>
        </p:grpSpPr>
        <p:sp>
          <p:nvSpPr>
            <p:cNvPr id="994" name=""/>
            <p:cNvSpPr/>
            <p:nvPr/>
          </p:nvSpPr>
          <p:spPr>
            <a:xfrm flipH="1">
              <a:off x="2723760" y="428472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 flipV="1">
              <a:off x="2722320" y="437796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2720880" y="4473720"/>
              <a:ext cx="32256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 flipV="1">
              <a:off x="2719080" y="4567320"/>
              <a:ext cx="32220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>
              <a:off x="2695320" y="467028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H="1" flipV="1">
              <a:off x="2693880" y="4763520"/>
              <a:ext cx="32256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0" name=""/>
          <p:cNvSpPr/>
          <p:nvPr/>
        </p:nvSpPr>
        <p:spPr>
          <a:xfrm>
            <a:off x="6816960" y="4395960"/>
            <a:ext cx="561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511240" y="5087880"/>
            <a:ext cx="11134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4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025640" y="1955880"/>
            <a:ext cx="1593360" cy="24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match 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4.5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high 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(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C2P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C2N 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up, ac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differentially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554200" y="1701720"/>
            <a:ext cx="622440" cy="2133720"/>
          </a:xfrm>
          <a:prstGeom prst="rect">
            <a:avLst/>
          </a:prstGeom>
          <a:noFill/>
          <a:ln w="1908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854440" y="1960560"/>
            <a:ext cx="0" cy="83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730600" y="1803240"/>
            <a:ext cx="228600" cy="24156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743200" y="3556080"/>
            <a:ext cx="228600" cy="2412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724280" y="1384200"/>
            <a:ext cx="228600" cy="24156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013280" y="3822840"/>
            <a:ext cx="228600" cy="2412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606840" y="1384200"/>
            <a:ext cx="228600" cy="24156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959200" y="3822840"/>
            <a:ext cx="228600" cy="2412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389600" y="5846760"/>
            <a:ext cx="2259720" cy="370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here should 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Black"/>
              </a:rPr>
              <a:t>diff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g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D080E-AA37-47C1-92CD-B2FB5B3ADA3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179360" y="-360"/>
            <a:ext cx="743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about differential C_comp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00080" y="739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702560" y="1380960"/>
            <a:ext cx="280800" cy="268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657680" y="1515960"/>
            <a:ext cx="3056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4834080" y="1520640"/>
            <a:ext cx="0" cy="446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H="1" flipV="1">
            <a:off x="3676680" y="1506600"/>
            <a:ext cx="6480" cy="33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525080" y="1887480"/>
            <a:ext cx="561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9" name=""/>
          <p:cNvGrpSpPr/>
          <p:nvPr/>
        </p:nvGrpSpPr>
        <p:grpSpPr>
          <a:xfrm>
            <a:off x="4620960" y="2473200"/>
            <a:ext cx="345960" cy="561960"/>
            <a:chOff x="4620960" y="2473200"/>
            <a:chExt cx="345960" cy="561960"/>
          </a:xfrm>
        </p:grpSpPr>
        <p:sp>
          <p:nvSpPr>
            <p:cNvPr id="1020" name=""/>
            <p:cNvSpPr/>
            <p:nvPr/>
          </p:nvSpPr>
          <p:spPr>
            <a:xfrm flipV="1">
              <a:off x="4794120" y="2473200"/>
              <a:ext cx="0" cy="44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4620960" y="291312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4671720" y="297324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H="1">
              <a:off x="4717800" y="303516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7130880" y="2496960"/>
            <a:ext cx="468360" cy="88920"/>
            <a:chOff x="7130880" y="2496960"/>
            <a:chExt cx="468360" cy="88920"/>
          </a:xfrm>
        </p:grpSpPr>
        <p:sp>
          <p:nvSpPr>
            <p:cNvPr id="1025" name=""/>
            <p:cNvSpPr/>
            <p:nvPr/>
          </p:nvSpPr>
          <p:spPr>
            <a:xfrm>
              <a:off x="7130880" y="258588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130880" y="249696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7" name=""/>
          <p:cNvSpPr/>
          <p:nvPr/>
        </p:nvSpPr>
        <p:spPr>
          <a:xfrm>
            <a:off x="7361280" y="1531800"/>
            <a:ext cx="0" cy="95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8" name=""/>
          <p:cNvGrpSpPr/>
          <p:nvPr/>
        </p:nvGrpSpPr>
        <p:grpSpPr>
          <a:xfrm>
            <a:off x="7183080" y="3000240"/>
            <a:ext cx="345960" cy="563760"/>
            <a:chOff x="7183080" y="3000240"/>
            <a:chExt cx="345960" cy="563760"/>
          </a:xfrm>
        </p:grpSpPr>
        <p:sp>
          <p:nvSpPr>
            <p:cNvPr id="1029" name=""/>
            <p:cNvSpPr/>
            <p:nvPr/>
          </p:nvSpPr>
          <p:spPr>
            <a:xfrm flipV="1">
              <a:off x="7356240" y="3000240"/>
              <a:ext cx="0" cy="44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7183080" y="344160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7233840" y="350172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>
              <a:off x="7279920" y="3564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7359480" y="2608200"/>
            <a:ext cx="0" cy="55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730640" y="2355840"/>
            <a:ext cx="13770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Comp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4505400" y="1278720"/>
            <a:ext cx="145440" cy="487440"/>
            <a:chOff x="4505400" y="1278720"/>
            <a:chExt cx="145440" cy="487440"/>
          </a:xfrm>
        </p:grpSpPr>
        <p:sp>
          <p:nvSpPr>
            <p:cNvPr id="1036" name=""/>
            <p:cNvSpPr/>
            <p:nvPr/>
          </p:nvSpPr>
          <p:spPr>
            <a:xfrm>
              <a:off x="4650840" y="1278720"/>
              <a:ext cx="0" cy="48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V="1">
              <a:off x="4505400" y="1279080"/>
              <a:ext cx="0" cy="48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3438000" y="2398680"/>
            <a:ext cx="345960" cy="563760"/>
            <a:chOff x="3438000" y="2398680"/>
            <a:chExt cx="345960" cy="563760"/>
          </a:xfrm>
        </p:grpSpPr>
        <p:sp>
          <p:nvSpPr>
            <p:cNvPr id="1039" name=""/>
            <p:cNvSpPr/>
            <p:nvPr/>
          </p:nvSpPr>
          <p:spPr>
            <a:xfrm flipV="1">
              <a:off x="3611160" y="2398680"/>
              <a:ext cx="0" cy="44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>
              <a:off x="3438000" y="284004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>
              <a:off x="3488760" y="290016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>
              <a:off x="3534840" y="29624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4037760" y="993600"/>
            <a:ext cx="13269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8.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4" name=""/>
          <p:cNvGrpSpPr/>
          <p:nvPr/>
        </p:nvGrpSpPr>
        <p:grpSpPr>
          <a:xfrm>
            <a:off x="3313080" y="1835280"/>
            <a:ext cx="352080" cy="574200"/>
            <a:chOff x="3313080" y="1835280"/>
            <a:chExt cx="352080" cy="574200"/>
          </a:xfrm>
        </p:grpSpPr>
        <p:sp>
          <p:nvSpPr>
            <p:cNvPr id="1045" name=""/>
            <p:cNvSpPr/>
            <p:nvPr/>
          </p:nvSpPr>
          <p:spPr>
            <a:xfrm flipH="1">
              <a:off x="3342960" y="183528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 flipV="1">
              <a:off x="3341520" y="192852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>
              <a:off x="3340080" y="2024280"/>
              <a:ext cx="32256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 flipV="1">
              <a:off x="3338280" y="2117880"/>
              <a:ext cx="32220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3314520" y="222084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 flipV="1">
              <a:off x="3313080" y="2314080"/>
              <a:ext cx="32256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4471920" y="1954080"/>
            <a:ext cx="352080" cy="512640"/>
            <a:chOff x="4471920" y="1954080"/>
            <a:chExt cx="352080" cy="512640"/>
          </a:xfrm>
        </p:grpSpPr>
        <p:sp>
          <p:nvSpPr>
            <p:cNvPr id="1052" name=""/>
            <p:cNvSpPr/>
            <p:nvPr/>
          </p:nvSpPr>
          <p:spPr>
            <a:xfrm flipH="1">
              <a:off x="4501800" y="1954080"/>
              <a:ext cx="322200" cy="8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 flipV="1">
              <a:off x="4500360" y="2037600"/>
              <a:ext cx="322200" cy="8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>
              <a:off x="4498920" y="2122920"/>
              <a:ext cx="322560" cy="8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 flipV="1">
              <a:off x="4497120" y="2206440"/>
              <a:ext cx="322200" cy="8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H="1">
              <a:off x="4473360" y="2298240"/>
              <a:ext cx="322200" cy="8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 flipV="1">
              <a:off x="4471920" y="2381760"/>
              <a:ext cx="322560" cy="8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8" name=""/>
          <p:cNvSpPr/>
          <p:nvPr/>
        </p:nvSpPr>
        <p:spPr>
          <a:xfrm>
            <a:off x="4826520" y="2200320"/>
            <a:ext cx="881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692520" y="1758960"/>
            <a:ext cx="75240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5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6197760" y="1512360"/>
            <a:ext cx="0" cy="44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5929200" y="3086280"/>
            <a:ext cx="468360" cy="88560"/>
            <a:chOff x="5929200" y="3086280"/>
            <a:chExt cx="468360" cy="88560"/>
          </a:xfrm>
        </p:grpSpPr>
        <p:sp>
          <p:nvSpPr>
            <p:cNvPr id="1062" name=""/>
            <p:cNvSpPr/>
            <p:nvPr/>
          </p:nvSpPr>
          <p:spPr>
            <a:xfrm>
              <a:off x="5929200" y="317484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929200" y="308628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4" name=""/>
          <p:cNvGrpSpPr/>
          <p:nvPr/>
        </p:nvGrpSpPr>
        <p:grpSpPr>
          <a:xfrm>
            <a:off x="5959080" y="3159000"/>
            <a:ext cx="345960" cy="563760"/>
            <a:chOff x="5959080" y="3159000"/>
            <a:chExt cx="345960" cy="563760"/>
          </a:xfrm>
        </p:grpSpPr>
        <p:sp>
          <p:nvSpPr>
            <p:cNvPr id="1065" name=""/>
            <p:cNvSpPr/>
            <p:nvPr/>
          </p:nvSpPr>
          <p:spPr>
            <a:xfrm flipV="1">
              <a:off x="6132240" y="3159000"/>
              <a:ext cx="0" cy="44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>
              <a:off x="5959080" y="360036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>
              <a:off x="6009840" y="366048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H="1">
              <a:off x="6055920" y="372276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5834160" y="1946160"/>
            <a:ext cx="352080" cy="563760"/>
            <a:chOff x="5834160" y="1946160"/>
            <a:chExt cx="352080" cy="563760"/>
          </a:xfrm>
        </p:grpSpPr>
        <p:sp>
          <p:nvSpPr>
            <p:cNvPr id="1070" name=""/>
            <p:cNvSpPr/>
            <p:nvPr/>
          </p:nvSpPr>
          <p:spPr>
            <a:xfrm flipH="1">
              <a:off x="5864040" y="1946160"/>
              <a:ext cx="322200" cy="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 flipV="1">
              <a:off x="5862600" y="2037960"/>
              <a:ext cx="322200" cy="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5861160" y="2131560"/>
              <a:ext cx="322560" cy="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 flipV="1">
              <a:off x="5859360" y="2223000"/>
              <a:ext cx="322200" cy="9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5835600" y="2324520"/>
              <a:ext cx="322200" cy="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 flipV="1">
              <a:off x="5834160" y="2416320"/>
              <a:ext cx="322560" cy="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6" name=""/>
          <p:cNvSpPr/>
          <p:nvPr/>
        </p:nvSpPr>
        <p:spPr>
          <a:xfrm>
            <a:off x="6145200" y="2511360"/>
            <a:ext cx="0" cy="55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254280" y="1768320"/>
            <a:ext cx="73548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192000" y="2657520"/>
            <a:ext cx="10983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4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673440" y="1511280"/>
            <a:ext cx="82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916680" y="4091040"/>
            <a:ext cx="281160" cy="26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871800" y="4232160"/>
            <a:ext cx="3056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4048200" y="4217760"/>
            <a:ext cx="0" cy="446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3827160" y="5279760"/>
            <a:ext cx="345960" cy="563760"/>
            <a:chOff x="3827160" y="5279760"/>
            <a:chExt cx="345960" cy="563760"/>
          </a:xfrm>
        </p:grpSpPr>
        <p:sp>
          <p:nvSpPr>
            <p:cNvPr id="1084" name=""/>
            <p:cNvSpPr/>
            <p:nvPr/>
          </p:nvSpPr>
          <p:spPr>
            <a:xfrm flipV="1">
              <a:off x="4000320" y="5279760"/>
              <a:ext cx="0" cy="44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3827160" y="572112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3877920" y="578124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H="1">
              <a:off x="3924000" y="5843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6345360" y="5213520"/>
            <a:ext cx="468360" cy="88560"/>
            <a:chOff x="6345360" y="5213520"/>
            <a:chExt cx="468360" cy="88560"/>
          </a:xfrm>
        </p:grpSpPr>
        <p:sp>
          <p:nvSpPr>
            <p:cNvPr id="1089" name=""/>
            <p:cNvSpPr/>
            <p:nvPr/>
          </p:nvSpPr>
          <p:spPr>
            <a:xfrm>
              <a:off x="6345360" y="530208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345360" y="521352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1" name=""/>
          <p:cNvSpPr/>
          <p:nvPr/>
        </p:nvSpPr>
        <p:spPr>
          <a:xfrm>
            <a:off x="6575400" y="4248000"/>
            <a:ext cx="0" cy="95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6397200" y="5716440"/>
            <a:ext cx="345960" cy="563760"/>
            <a:chOff x="6397200" y="5716440"/>
            <a:chExt cx="345960" cy="563760"/>
          </a:xfrm>
        </p:grpSpPr>
        <p:sp>
          <p:nvSpPr>
            <p:cNvPr id="1093" name=""/>
            <p:cNvSpPr/>
            <p:nvPr/>
          </p:nvSpPr>
          <p:spPr>
            <a:xfrm flipV="1">
              <a:off x="6570360" y="5716440"/>
              <a:ext cx="0" cy="44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>
              <a:off x="6397200" y="615780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6447960" y="621792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6494040" y="62802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7" name=""/>
          <p:cNvSpPr/>
          <p:nvPr/>
        </p:nvSpPr>
        <p:spPr>
          <a:xfrm>
            <a:off x="6573960" y="5324400"/>
            <a:ext cx="0" cy="55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945120" y="5006880"/>
            <a:ext cx="13924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Comp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9" name=""/>
          <p:cNvGrpSpPr/>
          <p:nvPr/>
        </p:nvGrpSpPr>
        <p:grpSpPr>
          <a:xfrm>
            <a:off x="3719520" y="3992400"/>
            <a:ext cx="145800" cy="488880"/>
            <a:chOff x="3719520" y="3992400"/>
            <a:chExt cx="145800" cy="488880"/>
          </a:xfrm>
        </p:grpSpPr>
        <p:sp>
          <p:nvSpPr>
            <p:cNvPr id="1100" name=""/>
            <p:cNvSpPr/>
            <p:nvPr/>
          </p:nvSpPr>
          <p:spPr>
            <a:xfrm>
              <a:off x="3865320" y="3992400"/>
              <a:ext cx="0" cy="488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V="1">
              <a:off x="3719520" y="3992400"/>
              <a:ext cx="0" cy="488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3686040" y="4668840"/>
            <a:ext cx="352080" cy="623160"/>
            <a:chOff x="3686040" y="4668840"/>
            <a:chExt cx="352080" cy="623160"/>
          </a:xfrm>
        </p:grpSpPr>
        <p:sp>
          <p:nvSpPr>
            <p:cNvPr id="1103" name=""/>
            <p:cNvSpPr/>
            <p:nvPr/>
          </p:nvSpPr>
          <p:spPr>
            <a:xfrm flipH="1">
              <a:off x="3715920" y="4668840"/>
              <a:ext cx="32220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 flipV="1">
              <a:off x="3714480" y="4770000"/>
              <a:ext cx="32220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3713040" y="4874040"/>
              <a:ext cx="32256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 flipV="1">
              <a:off x="3711240" y="4975200"/>
              <a:ext cx="32220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3687480" y="5087520"/>
              <a:ext cx="32220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 flipV="1">
              <a:off x="3686040" y="5188680"/>
              <a:ext cx="32256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9" name=""/>
          <p:cNvSpPr/>
          <p:nvPr/>
        </p:nvSpPr>
        <p:spPr>
          <a:xfrm>
            <a:off x="2968560" y="4218120"/>
            <a:ext cx="74160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040640" y="4915080"/>
            <a:ext cx="881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987640" y="4514760"/>
            <a:ext cx="75240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5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V="1">
            <a:off x="5411880" y="4229280"/>
            <a:ext cx="0" cy="44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3" name=""/>
          <p:cNvGrpSpPr/>
          <p:nvPr/>
        </p:nvGrpSpPr>
        <p:grpSpPr>
          <a:xfrm>
            <a:off x="5153040" y="5818320"/>
            <a:ext cx="468360" cy="88920"/>
            <a:chOff x="5153040" y="5818320"/>
            <a:chExt cx="468360" cy="88920"/>
          </a:xfrm>
        </p:grpSpPr>
        <p:sp>
          <p:nvSpPr>
            <p:cNvPr id="1114" name=""/>
            <p:cNvSpPr/>
            <p:nvPr/>
          </p:nvSpPr>
          <p:spPr>
            <a:xfrm>
              <a:off x="5153040" y="590724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153040" y="581832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6" name=""/>
          <p:cNvGrpSpPr/>
          <p:nvPr/>
        </p:nvGrpSpPr>
        <p:grpSpPr>
          <a:xfrm>
            <a:off x="5192280" y="5891040"/>
            <a:ext cx="345960" cy="563760"/>
            <a:chOff x="5192280" y="5891040"/>
            <a:chExt cx="345960" cy="563760"/>
          </a:xfrm>
        </p:grpSpPr>
        <p:sp>
          <p:nvSpPr>
            <p:cNvPr id="1117" name=""/>
            <p:cNvSpPr/>
            <p:nvPr/>
          </p:nvSpPr>
          <p:spPr>
            <a:xfrm flipV="1">
              <a:off x="5365440" y="5891040"/>
              <a:ext cx="0" cy="44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H="1">
              <a:off x="5192280" y="633240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>
              <a:off x="5243040" y="639252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5289120" y="64548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5048280" y="4662360"/>
            <a:ext cx="352080" cy="573120"/>
            <a:chOff x="5048280" y="4662360"/>
            <a:chExt cx="352080" cy="573120"/>
          </a:xfrm>
        </p:grpSpPr>
        <p:sp>
          <p:nvSpPr>
            <p:cNvPr id="1122" name=""/>
            <p:cNvSpPr/>
            <p:nvPr/>
          </p:nvSpPr>
          <p:spPr>
            <a:xfrm flipH="1">
              <a:off x="5078160" y="4662360"/>
              <a:ext cx="32220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H="1" flipV="1">
              <a:off x="5076720" y="4755600"/>
              <a:ext cx="32220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>
              <a:off x="5075280" y="4850640"/>
              <a:ext cx="32256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 flipV="1">
              <a:off x="5073480" y="4943880"/>
              <a:ext cx="322200" cy="9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H="1">
              <a:off x="5049720" y="5046840"/>
              <a:ext cx="32220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H="1" flipV="1">
              <a:off x="5048280" y="5140440"/>
              <a:ext cx="32256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8" name=""/>
          <p:cNvSpPr/>
          <p:nvPr/>
        </p:nvSpPr>
        <p:spPr>
          <a:xfrm>
            <a:off x="5369040" y="5245200"/>
            <a:ext cx="0" cy="55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462280" y="4497480"/>
            <a:ext cx="73548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630240" y="3575160"/>
            <a:ext cx="13420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8.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V="1">
            <a:off x="2981160" y="4227480"/>
            <a:ext cx="0" cy="37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2768400" y="5140080"/>
            <a:ext cx="345960" cy="563760"/>
            <a:chOff x="2768400" y="5140080"/>
            <a:chExt cx="345960" cy="563760"/>
          </a:xfrm>
        </p:grpSpPr>
        <p:sp>
          <p:nvSpPr>
            <p:cNvPr id="1133" name=""/>
            <p:cNvSpPr/>
            <p:nvPr/>
          </p:nvSpPr>
          <p:spPr>
            <a:xfrm flipV="1">
              <a:off x="2941560" y="5140080"/>
              <a:ext cx="0" cy="44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2768400" y="558144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2819160" y="564156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2865240" y="5703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2617920" y="4576680"/>
            <a:ext cx="352080" cy="574560"/>
            <a:chOff x="2617920" y="4576680"/>
            <a:chExt cx="352080" cy="574560"/>
          </a:xfrm>
        </p:grpSpPr>
        <p:sp>
          <p:nvSpPr>
            <p:cNvPr id="1138" name=""/>
            <p:cNvSpPr/>
            <p:nvPr/>
          </p:nvSpPr>
          <p:spPr>
            <a:xfrm flipH="1">
              <a:off x="2647800" y="457668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 flipV="1">
              <a:off x="2646360" y="466992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2644920" y="4765680"/>
              <a:ext cx="32256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 flipV="1">
              <a:off x="2643120" y="4859640"/>
              <a:ext cx="32220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2619360" y="496224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 flipV="1">
              <a:off x="2617920" y="5055840"/>
              <a:ext cx="32256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4" name=""/>
          <p:cNvSpPr/>
          <p:nvPr/>
        </p:nvSpPr>
        <p:spPr>
          <a:xfrm>
            <a:off x="6740640" y="4687920"/>
            <a:ext cx="561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435280" y="5380200"/>
            <a:ext cx="11134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4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982080" y="1955880"/>
            <a:ext cx="1680480" cy="29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match 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2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high Hz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C2P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C2N 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up, ac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differenti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2592360" y="1816200"/>
            <a:ext cx="622440" cy="2133360"/>
          </a:xfrm>
          <a:prstGeom prst="rect">
            <a:avLst/>
          </a:prstGeom>
          <a:noFill/>
          <a:ln w="1908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H="1" flipV="1">
            <a:off x="3003120" y="1506240"/>
            <a:ext cx="12600" cy="981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2678040" y="2482920"/>
            <a:ext cx="352080" cy="574200"/>
            <a:chOff x="2678040" y="2482920"/>
            <a:chExt cx="352080" cy="574200"/>
          </a:xfrm>
        </p:grpSpPr>
        <p:sp>
          <p:nvSpPr>
            <p:cNvPr id="1150" name=""/>
            <p:cNvSpPr/>
            <p:nvPr/>
          </p:nvSpPr>
          <p:spPr>
            <a:xfrm flipH="1">
              <a:off x="2707920" y="248292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 flipV="1">
              <a:off x="2706480" y="257616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2705040" y="2671920"/>
              <a:ext cx="32256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 flipV="1">
              <a:off x="2703240" y="2765520"/>
              <a:ext cx="32220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2679480" y="286848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 flipV="1">
              <a:off x="2678040" y="2961720"/>
              <a:ext cx="32256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6" name=""/>
          <p:cNvSpPr/>
          <p:nvPr/>
        </p:nvSpPr>
        <p:spPr>
          <a:xfrm flipV="1">
            <a:off x="2978280" y="3068280"/>
            <a:ext cx="0" cy="11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003480" y="1511280"/>
            <a:ext cx="66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255320" y="1125360"/>
            <a:ext cx="1035720" cy="337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ias = 0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341360" y="5942160"/>
            <a:ext cx="2225520" cy="370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e need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R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 Black"/>
              </a:rPr>
              <a:t>diff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not 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Black"/>
              </a:rPr>
              <a:t>diff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144FE-B97E-4BDA-9DE9-27B1A16442E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179360" y="-360"/>
            <a:ext cx="743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ifferential C_comp (Bias = 0 V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2" name="" descr=""/>
          <p:cNvPicPr/>
          <p:nvPr/>
        </p:nvPicPr>
        <p:blipFill>
          <a:blip r:embed="rId1"/>
          <a:stretch/>
        </p:blipFill>
        <p:spPr>
          <a:xfrm>
            <a:off x="870120" y="1003320"/>
            <a:ext cx="8051760" cy="5334120"/>
          </a:xfrm>
          <a:prstGeom prst="rect">
            <a:avLst/>
          </a:prstGeom>
          <a:ln w="0">
            <a:noFill/>
          </a:ln>
        </p:spPr>
      </p:pic>
      <p:sp>
        <p:nvSpPr>
          <p:cNvPr id="1163" name=""/>
          <p:cNvSpPr/>
          <p:nvPr/>
        </p:nvSpPr>
        <p:spPr>
          <a:xfrm>
            <a:off x="2049480" y="4640400"/>
            <a:ext cx="2808360" cy="8240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iff. C_comp resembles a pass-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ilter (BW ~ 1/R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10FA6-4DB0-44D9-A624-34B29BACCA8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179360" y="-360"/>
            <a:ext cx="743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about differential C_comp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00080" y="739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7702560" y="1380960"/>
            <a:ext cx="280800" cy="268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657680" y="1515960"/>
            <a:ext cx="3056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V="1">
            <a:off x="4834080" y="1520640"/>
            <a:ext cx="0" cy="446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H="1" flipV="1">
            <a:off x="3676680" y="1506600"/>
            <a:ext cx="6480" cy="33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525080" y="1887480"/>
            <a:ext cx="561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4620960" y="2473200"/>
            <a:ext cx="345960" cy="561960"/>
            <a:chOff x="4620960" y="2473200"/>
            <a:chExt cx="345960" cy="561960"/>
          </a:xfrm>
        </p:grpSpPr>
        <p:sp>
          <p:nvSpPr>
            <p:cNvPr id="1172" name=""/>
            <p:cNvSpPr/>
            <p:nvPr/>
          </p:nvSpPr>
          <p:spPr>
            <a:xfrm flipV="1">
              <a:off x="4794120" y="2473200"/>
              <a:ext cx="0" cy="44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4620960" y="291312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4671720" y="297324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4717800" y="303516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7130880" y="2496960"/>
            <a:ext cx="468360" cy="88920"/>
            <a:chOff x="7130880" y="2496960"/>
            <a:chExt cx="468360" cy="88920"/>
          </a:xfrm>
        </p:grpSpPr>
        <p:sp>
          <p:nvSpPr>
            <p:cNvPr id="1177" name=""/>
            <p:cNvSpPr/>
            <p:nvPr/>
          </p:nvSpPr>
          <p:spPr>
            <a:xfrm>
              <a:off x="7130880" y="258588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130880" y="249696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7361280" y="1531800"/>
            <a:ext cx="0" cy="95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7183080" y="3000240"/>
            <a:ext cx="345960" cy="563760"/>
            <a:chOff x="7183080" y="3000240"/>
            <a:chExt cx="345960" cy="563760"/>
          </a:xfrm>
        </p:grpSpPr>
        <p:sp>
          <p:nvSpPr>
            <p:cNvPr id="1181" name=""/>
            <p:cNvSpPr/>
            <p:nvPr/>
          </p:nvSpPr>
          <p:spPr>
            <a:xfrm flipV="1">
              <a:off x="7356240" y="3000240"/>
              <a:ext cx="0" cy="44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H="1">
              <a:off x="7183080" y="344160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>
              <a:off x="7233840" y="350172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H="1">
              <a:off x="7279920" y="3564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5" name=""/>
          <p:cNvSpPr/>
          <p:nvPr/>
        </p:nvSpPr>
        <p:spPr>
          <a:xfrm>
            <a:off x="7359480" y="2608200"/>
            <a:ext cx="0" cy="55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730640" y="2355840"/>
            <a:ext cx="13770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Comp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"/>
          <p:cNvGrpSpPr/>
          <p:nvPr/>
        </p:nvGrpSpPr>
        <p:grpSpPr>
          <a:xfrm>
            <a:off x="4505400" y="1278720"/>
            <a:ext cx="145440" cy="487440"/>
            <a:chOff x="4505400" y="1278720"/>
            <a:chExt cx="145440" cy="487440"/>
          </a:xfrm>
        </p:grpSpPr>
        <p:sp>
          <p:nvSpPr>
            <p:cNvPr id="1188" name=""/>
            <p:cNvSpPr/>
            <p:nvPr/>
          </p:nvSpPr>
          <p:spPr>
            <a:xfrm>
              <a:off x="4650840" y="1278720"/>
              <a:ext cx="0" cy="48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4505400" y="1279080"/>
              <a:ext cx="0" cy="48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0" name=""/>
          <p:cNvGrpSpPr/>
          <p:nvPr/>
        </p:nvGrpSpPr>
        <p:grpSpPr>
          <a:xfrm>
            <a:off x="3438000" y="2398680"/>
            <a:ext cx="345960" cy="563760"/>
            <a:chOff x="3438000" y="2398680"/>
            <a:chExt cx="345960" cy="563760"/>
          </a:xfrm>
        </p:grpSpPr>
        <p:sp>
          <p:nvSpPr>
            <p:cNvPr id="1191" name=""/>
            <p:cNvSpPr/>
            <p:nvPr/>
          </p:nvSpPr>
          <p:spPr>
            <a:xfrm flipV="1">
              <a:off x="3611160" y="2398680"/>
              <a:ext cx="0" cy="44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>
              <a:off x="3438000" y="284004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H="1">
              <a:off x="3488760" y="290016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H="1">
              <a:off x="3534840" y="29624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" name=""/>
          <p:cNvSpPr/>
          <p:nvPr/>
        </p:nvSpPr>
        <p:spPr>
          <a:xfrm>
            <a:off x="4037760" y="993600"/>
            <a:ext cx="1402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8.3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3313080" y="1835280"/>
            <a:ext cx="352080" cy="574200"/>
            <a:chOff x="3313080" y="1835280"/>
            <a:chExt cx="352080" cy="574200"/>
          </a:xfrm>
        </p:grpSpPr>
        <p:sp>
          <p:nvSpPr>
            <p:cNvPr id="1197" name=""/>
            <p:cNvSpPr/>
            <p:nvPr/>
          </p:nvSpPr>
          <p:spPr>
            <a:xfrm flipH="1">
              <a:off x="3342960" y="183528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 flipV="1">
              <a:off x="3341520" y="192852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H="1">
              <a:off x="3340080" y="2024280"/>
              <a:ext cx="32256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H="1" flipV="1">
              <a:off x="3338280" y="2117880"/>
              <a:ext cx="32220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>
              <a:off x="3314520" y="222084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H="1" flipV="1">
              <a:off x="3313080" y="2314080"/>
              <a:ext cx="32256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3" name=""/>
          <p:cNvGrpSpPr/>
          <p:nvPr/>
        </p:nvGrpSpPr>
        <p:grpSpPr>
          <a:xfrm>
            <a:off x="4471920" y="1954080"/>
            <a:ext cx="352080" cy="512640"/>
            <a:chOff x="4471920" y="1954080"/>
            <a:chExt cx="352080" cy="512640"/>
          </a:xfrm>
        </p:grpSpPr>
        <p:sp>
          <p:nvSpPr>
            <p:cNvPr id="1204" name=""/>
            <p:cNvSpPr/>
            <p:nvPr/>
          </p:nvSpPr>
          <p:spPr>
            <a:xfrm flipH="1">
              <a:off x="4501800" y="1954080"/>
              <a:ext cx="322200" cy="8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 flipV="1">
              <a:off x="4500360" y="2037600"/>
              <a:ext cx="322200" cy="8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>
              <a:off x="4498920" y="2122920"/>
              <a:ext cx="322560" cy="8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 flipV="1">
              <a:off x="4497120" y="2206440"/>
              <a:ext cx="322200" cy="8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>
              <a:off x="4473360" y="2298240"/>
              <a:ext cx="322200" cy="8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 flipV="1">
              <a:off x="4471920" y="2381760"/>
              <a:ext cx="322560" cy="8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0" name=""/>
          <p:cNvSpPr/>
          <p:nvPr/>
        </p:nvSpPr>
        <p:spPr>
          <a:xfrm>
            <a:off x="4826520" y="2200320"/>
            <a:ext cx="881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692520" y="1758960"/>
            <a:ext cx="75240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5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6197760" y="1512360"/>
            <a:ext cx="0" cy="44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5929200" y="3086280"/>
            <a:ext cx="468360" cy="88560"/>
            <a:chOff x="5929200" y="3086280"/>
            <a:chExt cx="468360" cy="88560"/>
          </a:xfrm>
        </p:grpSpPr>
        <p:sp>
          <p:nvSpPr>
            <p:cNvPr id="1214" name=""/>
            <p:cNvSpPr/>
            <p:nvPr/>
          </p:nvSpPr>
          <p:spPr>
            <a:xfrm>
              <a:off x="5929200" y="317484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929200" y="308628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5959080" y="3159000"/>
            <a:ext cx="345960" cy="563760"/>
            <a:chOff x="5959080" y="3159000"/>
            <a:chExt cx="345960" cy="563760"/>
          </a:xfrm>
        </p:grpSpPr>
        <p:sp>
          <p:nvSpPr>
            <p:cNvPr id="1217" name=""/>
            <p:cNvSpPr/>
            <p:nvPr/>
          </p:nvSpPr>
          <p:spPr>
            <a:xfrm flipV="1">
              <a:off x="6132240" y="3159000"/>
              <a:ext cx="0" cy="44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>
              <a:off x="5959080" y="360036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H="1">
              <a:off x="6009840" y="366048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H="1">
              <a:off x="6055920" y="372276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1" name=""/>
          <p:cNvGrpSpPr/>
          <p:nvPr/>
        </p:nvGrpSpPr>
        <p:grpSpPr>
          <a:xfrm>
            <a:off x="5834160" y="1946160"/>
            <a:ext cx="352080" cy="563760"/>
            <a:chOff x="5834160" y="1946160"/>
            <a:chExt cx="352080" cy="563760"/>
          </a:xfrm>
        </p:grpSpPr>
        <p:sp>
          <p:nvSpPr>
            <p:cNvPr id="1222" name=""/>
            <p:cNvSpPr/>
            <p:nvPr/>
          </p:nvSpPr>
          <p:spPr>
            <a:xfrm flipH="1">
              <a:off x="5864040" y="1946160"/>
              <a:ext cx="322200" cy="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H="1" flipV="1">
              <a:off x="5862600" y="2037960"/>
              <a:ext cx="322200" cy="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H="1">
              <a:off x="5861160" y="2131560"/>
              <a:ext cx="322560" cy="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H="1" flipV="1">
              <a:off x="5859360" y="2223000"/>
              <a:ext cx="322200" cy="9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H="1">
              <a:off x="5835600" y="2324520"/>
              <a:ext cx="322200" cy="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flipH="1" flipV="1">
              <a:off x="5834160" y="2416320"/>
              <a:ext cx="322560" cy="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8" name=""/>
          <p:cNvSpPr/>
          <p:nvPr/>
        </p:nvSpPr>
        <p:spPr>
          <a:xfrm>
            <a:off x="6145200" y="2511360"/>
            <a:ext cx="0" cy="55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254280" y="1768320"/>
            <a:ext cx="73548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6169320" y="2486160"/>
            <a:ext cx="120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33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673440" y="1511280"/>
            <a:ext cx="82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916680" y="4091040"/>
            <a:ext cx="281160" cy="26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871800" y="4232160"/>
            <a:ext cx="3056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4048200" y="4217760"/>
            <a:ext cx="0" cy="446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5" name=""/>
          <p:cNvGrpSpPr/>
          <p:nvPr/>
        </p:nvGrpSpPr>
        <p:grpSpPr>
          <a:xfrm>
            <a:off x="3827160" y="5279760"/>
            <a:ext cx="345960" cy="563760"/>
            <a:chOff x="3827160" y="5279760"/>
            <a:chExt cx="345960" cy="563760"/>
          </a:xfrm>
        </p:grpSpPr>
        <p:sp>
          <p:nvSpPr>
            <p:cNvPr id="1236" name=""/>
            <p:cNvSpPr/>
            <p:nvPr/>
          </p:nvSpPr>
          <p:spPr>
            <a:xfrm flipV="1">
              <a:off x="4000320" y="5279760"/>
              <a:ext cx="0" cy="44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H="1">
              <a:off x="3827160" y="572112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H="1">
              <a:off x="3877920" y="578124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H="1">
              <a:off x="3924000" y="5843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0" name=""/>
          <p:cNvGrpSpPr/>
          <p:nvPr/>
        </p:nvGrpSpPr>
        <p:grpSpPr>
          <a:xfrm>
            <a:off x="6345360" y="5213520"/>
            <a:ext cx="468360" cy="88560"/>
            <a:chOff x="6345360" y="5213520"/>
            <a:chExt cx="468360" cy="88560"/>
          </a:xfrm>
        </p:grpSpPr>
        <p:sp>
          <p:nvSpPr>
            <p:cNvPr id="1241" name=""/>
            <p:cNvSpPr/>
            <p:nvPr/>
          </p:nvSpPr>
          <p:spPr>
            <a:xfrm>
              <a:off x="6345360" y="530208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345360" y="521352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3" name=""/>
          <p:cNvSpPr/>
          <p:nvPr/>
        </p:nvSpPr>
        <p:spPr>
          <a:xfrm>
            <a:off x="6575400" y="4248000"/>
            <a:ext cx="0" cy="95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4" name=""/>
          <p:cNvGrpSpPr/>
          <p:nvPr/>
        </p:nvGrpSpPr>
        <p:grpSpPr>
          <a:xfrm>
            <a:off x="6397200" y="5716440"/>
            <a:ext cx="345960" cy="563760"/>
            <a:chOff x="6397200" y="5716440"/>
            <a:chExt cx="345960" cy="563760"/>
          </a:xfrm>
        </p:grpSpPr>
        <p:sp>
          <p:nvSpPr>
            <p:cNvPr id="1245" name=""/>
            <p:cNvSpPr/>
            <p:nvPr/>
          </p:nvSpPr>
          <p:spPr>
            <a:xfrm flipV="1">
              <a:off x="6570360" y="5716440"/>
              <a:ext cx="0" cy="44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>
              <a:off x="6397200" y="615780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 flipH="1">
              <a:off x="6447960" y="621792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>
              <a:off x="6494040" y="62802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9" name=""/>
          <p:cNvSpPr/>
          <p:nvPr/>
        </p:nvSpPr>
        <p:spPr>
          <a:xfrm>
            <a:off x="6573960" y="5324400"/>
            <a:ext cx="0" cy="55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945120" y="5006880"/>
            <a:ext cx="13924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Comp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1" name=""/>
          <p:cNvGrpSpPr/>
          <p:nvPr/>
        </p:nvGrpSpPr>
        <p:grpSpPr>
          <a:xfrm>
            <a:off x="3719520" y="3992400"/>
            <a:ext cx="145800" cy="488880"/>
            <a:chOff x="3719520" y="3992400"/>
            <a:chExt cx="145800" cy="488880"/>
          </a:xfrm>
        </p:grpSpPr>
        <p:sp>
          <p:nvSpPr>
            <p:cNvPr id="1252" name=""/>
            <p:cNvSpPr/>
            <p:nvPr/>
          </p:nvSpPr>
          <p:spPr>
            <a:xfrm>
              <a:off x="3865320" y="3992400"/>
              <a:ext cx="0" cy="488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V="1">
              <a:off x="3719520" y="3992400"/>
              <a:ext cx="0" cy="488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4" name=""/>
          <p:cNvGrpSpPr/>
          <p:nvPr/>
        </p:nvGrpSpPr>
        <p:grpSpPr>
          <a:xfrm>
            <a:off x="3686040" y="4668840"/>
            <a:ext cx="352080" cy="623160"/>
            <a:chOff x="3686040" y="4668840"/>
            <a:chExt cx="352080" cy="623160"/>
          </a:xfrm>
        </p:grpSpPr>
        <p:sp>
          <p:nvSpPr>
            <p:cNvPr id="1255" name=""/>
            <p:cNvSpPr/>
            <p:nvPr/>
          </p:nvSpPr>
          <p:spPr>
            <a:xfrm flipH="1">
              <a:off x="3715920" y="4668840"/>
              <a:ext cx="32220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H="1" flipV="1">
              <a:off x="3714480" y="4770000"/>
              <a:ext cx="32220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3713040" y="4874040"/>
              <a:ext cx="32256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H="1" flipV="1">
              <a:off x="3711240" y="4975200"/>
              <a:ext cx="32220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H="1">
              <a:off x="3687480" y="5087520"/>
              <a:ext cx="32220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 flipV="1">
              <a:off x="3686040" y="5188680"/>
              <a:ext cx="32256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1" name=""/>
          <p:cNvSpPr/>
          <p:nvPr/>
        </p:nvSpPr>
        <p:spPr>
          <a:xfrm flipV="1">
            <a:off x="2987640" y="4215960"/>
            <a:ext cx="6937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040640" y="4915080"/>
            <a:ext cx="881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987640" y="4514760"/>
            <a:ext cx="75240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5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flipV="1">
            <a:off x="5411880" y="4229280"/>
            <a:ext cx="0" cy="44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5" name=""/>
          <p:cNvGrpSpPr/>
          <p:nvPr/>
        </p:nvGrpSpPr>
        <p:grpSpPr>
          <a:xfrm>
            <a:off x="5153040" y="5818320"/>
            <a:ext cx="468360" cy="88920"/>
            <a:chOff x="5153040" y="5818320"/>
            <a:chExt cx="468360" cy="88920"/>
          </a:xfrm>
        </p:grpSpPr>
        <p:sp>
          <p:nvSpPr>
            <p:cNvPr id="1266" name=""/>
            <p:cNvSpPr/>
            <p:nvPr/>
          </p:nvSpPr>
          <p:spPr>
            <a:xfrm>
              <a:off x="5153040" y="590724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153040" y="581832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8" name=""/>
          <p:cNvGrpSpPr/>
          <p:nvPr/>
        </p:nvGrpSpPr>
        <p:grpSpPr>
          <a:xfrm>
            <a:off x="5192280" y="5891040"/>
            <a:ext cx="345960" cy="563760"/>
            <a:chOff x="5192280" y="5891040"/>
            <a:chExt cx="345960" cy="563760"/>
          </a:xfrm>
        </p:grpSpPr>
        <p:sp>
          <p:nvSpPr>
            <p:cNvPr id="1269" name=""/>
            <p:cNvSpPr/>
            <p:nvPr/>
          </p:nvSpPr>
          <p:spPr>
            <a:xfrm flipV="1">
              <a:off x="5365440" y="5891040"/>
              <a:ext cx="0" cy="44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5192280" y="633240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5243040" y="639252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>
              <a:off x="5289120" y="64548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3" name=""/>
          <p:cNvGrpSpPr/>
          <p:nvPr/>
        </p:nvGrpSpPr>
        <p:grpSpPr>
          <a:xfrm>
            <a:off x="5048280" y="4662360"/>
            <a:ext cx="352080" cy="573120"/>
            <a:chOff x="5048280" y="4662360"/>
            <a:chExt cx="352080" cy="573120"/>
          </a:xfrm>
        </p:grpSpPr>
        <p:sp>
          <p:nvSpPr>
            <p:cNvPr id="1274" name=""/>
            <p:cNvSpPr/>
            <p:nvPr/>
          </p:nvSpPr>
          <p:spPr>
            <a:xfrm flipH="1">
              <a:off x="5078160" y="4662360"/>
              <a:ext cx="32220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H="1" flipV="1">
              <a:off x="5076720" y="4755600"/>
              <a:ext cx="32220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5075280" y="4850640"/>
              <a:ext cx="32256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H="1" flipV="1">
              <a:off x="5073480" y="4943880"/>
              <a:ext cx="322200" cy="9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5049720" y="5046840"/>
              <a:ext cx="32220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H="1" flipV="1">
              <a:off x="5048280" y="5140440"/>
              <a:ext cx="32256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0" name=""/>
          <p:cNvSpPr/>
          <p:nvPr/>
        </p:nvSpPr>
        <p:spPr>
          <a:xfrm>
            <a:off x="5369040" y="5245200"/>
            <a:ext cx="0" cy="55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462280" y="4497480"/>
            <a:ext cx="73548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630240" y="3575160"/>
            <a:ext cx="141804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8.3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V="1">
            <a:off x="2981160" y="4227480"/>
            <a:ext cx="0" cy="37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4" name=""/>
          <p:cNvGrpSpPr/>
          <p:nvPr/>
        </p:nvGrpSpPr>
        <p:grpSpPr>
          <a:xfrm>
            <a:off x="2768400" y="5140080"/>
            <a:ext cx="345960" cy="563760"/>
            <a:chOff x="2768400" y="5140080"/>
            <a:chExt cx="345960" cy="563760"/>
          </a:xfrm>
        </p:grpSpPr>
        <p:sp>
          <p:nvSpPr>
            <p:cNvPr id="1285" name=""/>
            <p:cNvSpPr/>
            <p:nvPr/>
          </p:nvSpPr>
          <p:spPr>
            <a:xfrm flipV="1">
              <a:off x="2941560" y="5140080"/>
              <a:ext cx="0" cy="44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H="1">
              <a:off x="2768400" y="558144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>
              <a:off x="2819160" y="564156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2865240" y="5703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9" name=""/>
          <p:cNvGrpSpPr/>
          <p:nvPr/>
        </p:nvGrpSpPr>
        <p:grpSpPr>
          <a:xfrm>
            <a:off x="2617920" y="4576680"/>
            <a:ext cx="352080" cy="574560"/>
            <a:chOff x="2617920" y="4576680"/>
            <a:chExt cx="352080" cy="574560"/>
          </a:xfrm>
        </p:grpSpPr>
        <p:sp>
          <p:nvSpPr>
            <p:cNvPr id="1290" name=""/>
            <p:cNvSpPr/>
            <p:nvPr/>
          </p:nvSpPr>
          <p:spPr>
            <a:xfrm flipH="1">
              <a:off x="2647800" y="457668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H="1" flipV="1">
              <a:off x="2646360" y="466992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H="1">
              <a:off x="2644920" y="4765680"/>
              <a:ext cx="32256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H="1" flipV="1">
              <a:off x="2643120" y="4859640"/>
              <a:ext cx="32220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2619360" y="496224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H="1" flipV="1">
              <a:off x="2617920" y="5055840"/>
              <a:ext cx="32256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6" name=""/>
          <p:cNvSpPr/>
          <p:nvPr/>
        </p:nvSpPr>
        <p:spPr>
          <a:xfrm>
            <a:off x="6740640" y="4687920"/>
            <a:ext cx="561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402520" y="5237280"/>
            <a:ext cx="120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33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982080" y="1955880"/>
            <a:ext cx="1680480" cy="29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match 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2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high Hz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C2P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C2N 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up, ac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differenti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2592360" y="1816200"/>
            <a:ext cx="622440" cy="2133360"/>
          </a:xfrm>
          <a:prstGeom prst="rect">
            <a:avLst/>
          </a:prstGeom>
          <a:noFill/>
          <a:ln w="1908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H="1" flipV="1">
            <a:off x="3003120" y="1506240"/>
            <a:ext cx="12600" cy="981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2678040" y="2482920"/>
            <a:ext cx="352080" cy="574200"/>
            <a:chOff x="2678040" y="2482920"/>
            <a:chExt cx="352080" cy="574200"/>
          </a:xfrm>
        </p:grpSpPr>
        <p:sp>
          <p:nvSpPr>
            <p:cNvPr id="1302" name=""/>
            <p:cNvSpPr/>
            <p:nvPr/>
          </p:nvSpPr>
          <p:spPr>
            <a:xfrm flipH="1">
              <a:off x="2707920" y="248292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 flipV="1">
              <a:off x="2706480" y="257616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H="1">
              <a:off x="2705040" y="2671920"/>
              <a:ext cx="32256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 flipV="1">
              <a:off x="2703240" y="2765520"/>
              <a:ext cx="32220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H="1">
              <a:off x="2679480" y="286848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H="1" flipV="1">
              <a:off x="2678040" y="2961720"/>
              <a:ext cx="32256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8" name=""/>
          <p:cNvSpPr/>
          <p:nvPr/>
        </p:nvSpPr>
        <p:spPr>
          <a:xfrm flipV="1">
            <a:off x="2978280" y="3068280"/>
            <a:ext cx="0" cy="11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003480" y="1511280"/>
            <a:ext cx="66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288440" y="1125360"/>
            <a:ext cx="1375560" cy="337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ias =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0.75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32D2D-8C65-47C9-B434-2D516114EB0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179360" y="-360"/>
            <a:ext cx="743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iff. C_comp (Bias = 0.75 V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3" name="" descr=""/>
          <p:cNvPicPr/>
          <p:nvPr/>
        </p:nvPicPr>
        <p:blipFill>
          <a:blip r:embed="rId1"/>
          <a:stretch/>
        </p:blipFill>
        <p:spPr>
          <a:xfrm>
            <a:off x="946080" y="901800"/>
            <a:ext cx="7962840" cy="553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88E9B-3473-4744-A459-8189B69CF7F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3840" y="-360"/>
            <a:ext cx="7316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w is C_comp data collected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47920" y="1143000"/>
            <a:ext cx="7248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66"/>
                </a:solidFill>
                <a:latin typeface="Arial"/>
              </a:rPr>
              <a:t>Common method for single-ended buffer C_co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Vsource with known edge rate, dV/d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 the input curr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ate capacitance (may have to take an averag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016000" y="1492200"/>
            <a:ext cx="5581800" cy="1896840"/>
            <a:chOff x="2016000" y="1492200"/>
            <a:chExt cx="5581800" cy="1896840"/>
          </a:xfrm>
        </p:grpSpPr>
        <p:sp>
          <p:nvSpPr>
            <p:cNvPr id="120" name=""/>
            <p:cNvSpPr/>
            <p:nvPr/>
          </p:nvSpPr>
          <p:spPr>
            <a:xfrm rot="5400000">
              <a:off x="2124000" y="1383840"/>
              <a:ext cx="1091160" cy="13075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88240" y="2041920"/>
              <a:ext cx="101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12840" y="1863000"/>
              <a:ext cx="76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Dri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93040" y="2274120"/>
              <a:ext cx="800280" cy="73044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02360" y="2033640"/>
              <a:ext cx="0" cy="231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3777480" y="2230560"/>
              <a:ext cx="1023120" cy="74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2360" y="2995920"/>
              <a:ext cx="0" cy="23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94640" y="3219480"/>
              <a:ext cx="42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68800" y="3296880"/>
              <a:ext cx="26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51600" y="3371760"/>
              <a:ext cx="11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607920" y="1878840"/>
              <a:ext cx="7916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5396400" y="2368800"/>
              <a:ext cx="2081160" cy="627120"/>
              <a:chOff x="5396400" y="2368800"/>
              <a:chExt cx="2081160" cy="627120"/>
            </a:xfrm>
          </p:grpSpPr>
          <p:sp>
            <p:nvSpPr>
              <p:cNvPr id="132" name=""/>
              <p:cNvSpPr/>
              <p:nvPr/>
            </p:nvSpPr>
            <p:spPr>
              <a:xfrm flipV="1">
                <a:off x="6027480" y="2377080"/>
                <a:ext cx="827280" cy="6181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855120" y="2368800"/>
                <a:ext cx="62244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396400" y="2995920"/>
                <a:ext cx="62244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 rot="13786800">
              <a:off x="6506640" y="2499480"/>
              <a:ext cx="412560" cy="889560"/>
            </a:xfrm>
            <a:custGeom>
              <a:avLst/>
              <a:gdLst>
                <a:gd name="textAreaLeft" fmla="*/ 263520 w 412560"/>
                <a:gd name="textAreaRight" fmla="*/ 412920 w 412560"/>
                <a:gd name="textAreaTop" fmla="*/ 23040 h 889560"/>
                <a:gd name="textAreaBottom" fmla="*/ 866520 h 88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5480" y="1510560"/>
              <a:ext cx="24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69400" y="2456280"/>
              <a:ext cx="18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96560" y="2490480"/>
              <a:ext cx="94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V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97240" y="3023280"/>
              <a:ext cx="70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dV/d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448000" y="4479840"/>
            <a:ext cx="4781520" cy="996840"/>
            <a:chOff x="2448000" y="4479840"/>
            <a:chExt cx="4781520" cy="996840"/>
          </a:xfrm>
        </p:grpSpPr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2448000" y="4479840"/>
                  <a:ext cx="1473120" cy="81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C</m:t>
                      </m:r>
                      <m:r>
                        <m:t xml:space="preserve">∗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2" name=""/>
                <p:cNvSpPr txBox="1"/>
                <p:nvPr/>
              </p:nvSpPr>
              <p:spPr>
                <a:xfrm>
                  <a:off x="5654520" y="4498920"/>
                  <a:ext cx="1575000" cy="97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I</m:t>
                          </m:r>
                        </m:num>
                        <m:den>
                          <m:r>
                            <m:t xml:space="preserve">(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43" name=""/>
            <p:cNvSpPr/>
            <p:nvPr/>
          </p:nvSpPr>
          <p:spPr>
            <a:xfrm>
              <a:off x="4479840" y="4886280"/>
              <a:ext cx="6764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663560" y="5524560"/>
            <a:ext cx="6769080" cy="660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hat about for the differential cas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ow about pre-emphasis (wired-or structures)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25160" y="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 Black"/>
              </a:rPr>
              <a:t>from April ’04 Su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CD464-F67D-4C51-BE1F-2554DDCAE4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1179360" y="-360"/>
            <a:ext cx="743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about differential C_comp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100080" y="739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7702560" y="1380960"/>
            <a:ext cx="280800" cy="268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4657680" y="1515960"/>
            <a:ext cx="3056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4834080" y="1520640"/>
            <a:ext cx="0" cy="446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H="1" flipV="1">
            <a:off x="3676680" y="1506600"/>
            <a:ext cx="6480" cy="33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525080" y="1887480"/>
            <a:ext cx="561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1" name=""/>
          <p:cNvGrpSpPr/>
          <p:nvPr/>
        </p:nvGrpSpPr>
        <p:grpSpPr>
          <a:xfrm>
            <a:off x="4620960" y="2473200"/>
            <a:ext cx="345960" cy="561960"/>
            <a:chOff x="4620960" y="2473200"/>
            <a:chExt cx="345960" cy="561960"/>
          </a:xfrm>
        </p:grpSpPr>
        <p:sp>
          <p:nvSpPr>
            <p:cNvPr id="1322" name=""/>
            <p:cNvSpPr/>
            <p:nvPr/>
          </p:nvSpPr>
          <p:spPr>
            <a:xfrm flipV="1">
              <a:off x="4794120" y="2473200"/>
              <a:ext cx="0" cy="44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H="1">
              <a:off x="4620960" y="291312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H="1">
              <a:off x="4671720" y="297324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H="1">
              <a:off x="4717800" y="303516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7130880" y="2496960"/>
            <a:ext cx="468360" cy="88920"/>
            <a:chOff x="7130880" y="2496960"/>
            <a:chExt cx="468360" cy="88920"/>
          </a:xfrm>
        </p:grpSpPr>
        <p:sp>
          <p:nvSpPr>
            <p:cNvPr id="1327" name=""/>
            <p:cNvSpPr/>
            <p:nvPr/>
          </p:nvSpPr>
          <p:spPr>
            <a:xfrm>
              <a:off x="7130880" y="258588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130880" y="249696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9" name=""/>
          <p:cNvSpPr/>
          <p:nvPr/>
        </p:nvSpPr>
        <p:spPr>
          <a:xfrm>
            <a:off x="7361280" y="1531800"/>
            <a:ext cx="0" cy="95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0" name=""/>
          <p:cNvGrpSpPr/>
          <p:nvPr/>
        </p:nvGrpSpPr>
        <p:grpSpPr>
          <a:xfrm>
            <a:off x="7183080" y="3000240"/>
            <a:ext cx="345960" cy="563760"/>
            <a:chOff x="7183080" y="3000240"/>
            <a:chExt cx="345960" cy="563760"/>
          </a:xfrm>
        </p:grpSpPr>
        <p:sp>
          <p:nvSpPr>
            <p:cNvPr id="1331" name=""/>
            <p:cNvSpPr/>
            <p:nvPr/>
          </p:nvSpPr>
          <p:spPr>
            <a:xfrm flipV="1">
              <a:off x="7356240" y="3000240"/>
              <a:ext cx="0" cy="44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H="1">
              <a:off x="7183080" y="344160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>
              <a:off x="7233840" y="350172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H="1">
              <a:off x="7279920" y="3564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5" name=""/>
          <p:cNvSpPr/>
          <p:nvPr/>
        </p:nvSpPr>
        <p:spPr>
          <a:xfrm>
            <a:off x="7359480" y="2608200"/>
            <a:ext cx="0" cy="55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426080" y="2749680"/>
            <a:ext cx="16815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Comp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6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7" name=""/>
          <p:cNvGrpSpPr/>
          <p:nvPr/>
        </p:nvGrpSpPr>
        <p:grpSpPr>
          <a:xfrm>
            <a:off x="4505400" y="1278720"/>
            <a:ext cx="145440" cy="487440"/>
            <a:chOff x="4505400" y="1278720"/>
            <a:chExt cx="145440" cy="487440"/>
          </a:xfrm>
        </p:grpSpPr>
        <p:sp>
          <p:nvSpPr>
            <p:cNvPr id="1338" name=""/>
            <p:cNvSpPr/>
            <p:nvPr/>
          </p:nvSpPr>
          <p:spPr>
            <a:xfrm>
              <a:off x="4650840" y="1278720"/>
              <a:ext cx="0" cy="48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V="1">
              <a:off x="4505400" y="1279080"/>
              <a:ext cx="0" cy="48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0" name=""/>
          <p:cNvGrpSpPr/>
          <p:nvPr/>
        </p:nvGrpSpPr>
        <p:grpSpPr>
          <a:xfrm>
            <a:off x="3438000" y="2398680"/>
            <a:ext cx="345960" cy="563760"/>
            <a:chOff x="3438000" y="2398680"/>
            <a:chExt cx="345960" cy="563760"/>
          </a:xfrm>
        </p:grpSpPr>
        <p:sp>
          <p:nvSpPr>
            <p:cNvPr id="1341" name=""/>
            <p:cNvSpPr/>
            <p:nvPr/>
          </p:nvSpPr>
          <p:spPr>
            <a:xfrm flipV="1">
              <a:off x="3611160" y="2398680"/>
              <a:ext cx="0" cy="44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3438000" y="284004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>
              <a:off x="3488760" y="290016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H="1">
              <a:off x="3534840" y="29624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5" name=""/>
          <p:cNvSpPr/>
          <p:nvPr/>
        </p:nvSpPr>
        <p:spPr>
          <a:xfrm>
            <a:off x="4038120" y="993600"/>
            <a:ext cx="15552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.86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3313080" y="1835280"/>
            <a:ext cx="352080" cy="574200"/>
            <a:chOff x="3313080" y="1835280"/>
            <a:chExt cx="352080" cy="574200"/>
          </a:xfrm>
        </p:grpSpPr>
        <p:sp>
          <p:nvSpPr>
            <p:cNvPr id="1347" name=""/>
            <p:cNvSpPr/>
            <p:nvPr/>
          </p:nvSpPr>
          <p:spPr>
            <a:xfrm flipH="1">
              <a:off x="3342960" y="183528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H="1" flipV="1">
              <a:off x="3341520" y="192852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>
              <a:off x="3340080" y="2024280"/>
              <a:ext cx="32256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 flipV="1">
              <a:off x="3338280" y="2117880"/>
              <a:ext cx="32220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H="1">
              <a:off x="3314520" y="222084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H="1" flipV="1">
              <a:off x="3313080" y="2314080"/>
              <a:ext cx="32256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4471920" y="1954080"/>
            <a:ext cx="352080" cy="512640"/>
            <a:chOff x="4471920" y="1954080"/>
            <a:chExt cx="352080" cy="512640"/>
          </a:xfrm>
        </p:grpSpPr>
        <p:sp>
          <p:nvSpPr>
            <p:cNvPr id="1354" name=""/>
            <p:cNvSpPr/>
            <p:nvPr/>
          </p:nvSpPr>
          <p:spPr>
            <a:xfrm flipH="1">
              <a:off x="4501800" y="1954080"/>
              <a:ext cx="322200" cy="8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 flipV="1">
              <a:off x="4500360" y="2037600"/>
              <a:ext cx="322200" cy="8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4498920" y="2122920"/>
              <a:ext cx="322560" cy="8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H="1" flipV="1">
              <a:off x="4497120" y="2206440"/>
              <a:ext cx="322200" cy="8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4473360" y="2298240"/>
              <a:ext cx="322200" cy="8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H="1" flipV="1">
              <a:off x="4471920" y="2381760"/>
              <a:ext cx="322560" cy="8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0" name=""/>
          <p:cNvSpPr/>
          <p:nvPr/>
        </p:nvSpPr>
        <p:spPr>
          <a:xfrm>
            <a:off x="4826520" y="2200320"/>
            <a:ext cx="881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692520" y="1758960"/>
            <a:ext cx="75240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5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V="1">
            <a:off x="6197760" y="1512360"/>
            <a:ext cx="0" cy="44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3" name=""/>
          <p:cNvGrpSpPr/>
          <p:nvPr/>
        </p:nvGrpSpPr>
        <p:grpSpPr>
          <a:xfrm>
            <a:off x="5929200" y="3086280"/>
            <a:ext cx="468360" cy="88560"/>
            <a:chOff x="5929200" y="3086280"/>
            <a:chExt cx="468360" cy="88560"/>
          </a:xfrm>
        </p:grpSpPr>
        <p:sp>
          <p:nvSpPr>
            <p:cNvPr id="1364" name=""/>
            <p:cNvSpPr/>
            <p:nvPr/>
          </p:nvSpPr>
          <p:spPr>
            <a:xfrm>
              <a:off x="5929200" y="3174840"/>
              <a:ext cx="4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929200" y="3086280"/>
              <a:ext cx="4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6" name=""/>
          <p:cNvGrpSpPr/>
          <p:nvPr/>
        </p:nvGrpSpPr>
        <p:grpSpPr>
          <a:xfrm>
            <a:off x="5971680" y="3171600"/>
            <a:ext cx="345960" cy="563760"/>
            <a:chOff x="5971680" y="3171600"/>
            <a:chExt cx="345960" cy="563760"/>
          </a:xfrm>
        </p:grpSpPr>
        <p:sp>
          <p:nvSpPr>
            <p:cNvPr id="1367" name=""/>
            <p:cNvSpPr/>
            <p:nvPr/>
          </p:nvSpPr>
          <p:spPr>
            <a:xfrm flipV="1">
              <a:off x="6144840" y="3171600"/>
              <a:ext cx="0" cy="44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H="1">
              <a:off x="5971680" y="361296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>
              <a:off x="6022440" y="367308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>
              <a:off x="6068520" y="373536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1" name=""/>
          <p:cNvGrpSpPr/>
          <p:nvPr/>
        </p:nvGrpSpPr>
        <p:grpSpPr>
          <a:xfrm>
            <a:off x="5834160" y="1946160"/>
            <a:ext cx="352080" cy="563760"/>
            <a:chOff x="5834160" y="1946160"/>
            <a:chExt cx="352080" cy="563760"/>
          </a:xfrm>
        </p:grpSpPr>
        <p:sp>
          <p:nvSpPr>
            <p:cNvPr id="1372" name=""/>
            <p:cNvSpPr/>
            <p:nvPr/>
          </p:nvSpPr>
          <p:spPr>
            <a:xfrm flipH="1">
              <a:off x="5864040" y="1946160"/>
              <a:ext cx="322200" cy="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 flipV="1">
              <a:off x="5862600" y="2037960"/>
              <a:ext cx="322200" cy="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H="1">
              <a:off x="5861160" y="2131560"/>
              <a:ext cx="322560" cy="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 flipV="1">
              <a:off x="5859360" y="2223000"/>
              <a:ext cx="322200" cy="9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H="1">
              <a:off x="5835600" y="2324520"/>
              <a:ext cx="322200" cy="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H="1" flipV="1">
              <a:off x="5834160" y="2416320"/>
              <a:ext cx="322560" cy="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8" name=""/>
          <p:cNvSpPr/>
          <p:nvPr/>
        </p:nvSpPr>
        <p:spPr>
          <a:xfrm>
            <a:off x="6145200" y="2511360"/>
            <a:ext cx="0" cy="55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254640" y="1768320"/>
            <a:ext cx="88776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8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168960" y="2486160"/>
            <a:ext cx="120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.6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673440" y="1511280"/>
            <a:ext cx="82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916680" y="4091040"/>
            <a:ext cx="281160" cy="26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871800" y="4232160"/>
            <a:ext cx="3056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4048200" y="4217760"/>
            <a:ext cx="0" cy="446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5" name=""/>
          <p:cNvGrpSpPr/>
          <p:nvPr/>
        </p:nvGrpSpPr>
        <p:grpSpPr>
          <a:xfrm>
            <a:off x="3827160" y="5279760"/>
            <a:ext cx="345960" cy="563760"/>
            <a:chOff x="3827160" y="5279760"/>
            <a:chExt cx="345960" cy="563760"/>
          </a:xfrm>
        </p:grpSpPr>
        <p:sp>
          <p:nvSpPr>
            <p:cNvPr id="1386" name=""/>
            <p:cNvSpPr/>
            <p:nvPr/>
          </p:nvSpPr>
          <p:spPr>
            <a:xfrm flipV="1">
              <a:off x="4000320" y="5279760"/>
              <a:ext cx="0" cy="44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>
              <a:off x="3827160" y="572112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H="1">
              <a:off x="3877920" y="578124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H="1">
              <a:off x="3924000" y="5843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6345360" y="5213520"/>
            <a:ext cx="468360" cy="88560"/>
            <a:chOff x="6345360" y="5213520"/>
            <a:chExt cx="468360" cy="88560"/>
          </a:xfrm>
        </p:grpSpPr>
        <p:sp>
          <p:nvSpPr>
            <p:cNvPr id="1391" name=""/>
            <p:cNvSpPr/>
            <p:nvPr/>
          </p:nvSpPr>
          <p:spPr>
            <a:xfrm>
              <a:off x="6345360" y="530208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345360" y="521352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3" name=""/>
          <p:cNvSpPr/>
          <p:nvPr/>
        </p:nvSpPr>
        <p:spPr>
          <a:xfrm>
            <a:off x="6575400" y="4248000"/>
            <a:ext cx="0" cy="95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4" name=""/>
          <p:cNvGrpSpPr/>
          <p:nvPr/>
        </p:nvGrpSpPr>
        <p:grpSpPr>
          <a:xfrm>
            <a:off x="6397200" y="5716440"/>
            <a:ext cx="345960" cy="563760"/>
            <a:chOff x="6397200" y="5716440"/>
            <a:chExt cx="345960" cy="563760"/>
          </a:xfrm>
        </p:grpSpPr>
        <p:sp>
          <p:nvSpPr>
            <p:cNvPr id="1395" name=""/>
            <p:cNvSpPr/>
            <p:nvPr/>
          </p:nvSpPr>
          <p:spPr>
            <a:xfrm flipV="1">
              <a:off x="6570360" y="5716440"/>
              <a:ext cx="0" cy="44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H="1">
              <a:off x="6397200" y="615780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H="1">
              <a:off x="6447960" y="621792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H="1">
              <a:off x="6494040" y="62802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9" name=""/>
          <p:cNvSpPr/>
          <p:nvPr/>
        </p:nvSpPr>
        <p:spPr>
          <a:xfrm>
            <a:off x="6573960" y="5324400"/>
            <a:ext cx="0" cy="55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945120" y="5006880"/>
            <a:ext cx="169704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Comp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6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1" name=""/>
          <p:cNvGrpSpPr/>
          <p:nvPr/>
        </p:nvGrpSpPr>
        <p:grpSpPr>
          <a:xfrm>
            <a:off x="3719520" y="3992400"/>
            <a:ext cx="145800" cy="488880"/>
            <a:chOff x="3719520" y="3992400"/>
            <a:chExt cx="145800" cy="488880"/>
          </a:xfrm>
        </p:grpSpPr>
        <p:sp>
          <p:nvSpPr>
            <p:cNvPr id="1402" name=""/>
            <p:cNvSpPr/>
            <p:nvPr/>
          </p:nvSpPr>
          <p:spPr>
            <a:xfrm>
              <a:off x="3865320" y="3992400"/>
              <a:ext cx="0" cy="488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V="1">
              <a:off x="3719520" y="3992400"/>
              <a:ext cx="0" cy="488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3686040" y="4668840"/>
            <a:ext cx="352080" cy="623160"/>
            <a:chOff x="3686040" y="4668840"/>
            <a:chExt cx="352080" cy="623160"/>
          </a:xfrm>
        </p:grpSpPr>
        <p:sp>
          <p:nvSpPr>
            <p:cNvPr id="1405" name=""/>
            <p:cNvSpPr/>
            <p:nvPr/>
          </p:nvSpPr>
          <p:spPr>
            <a:xfrm flipH="1">
              <a:off x="3715920" y="4668840"/>
              <a:ext cx="32220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 flipV="1">
              <a:off x="3714480" y="4770000"/>
              <a:ext cx="32220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H="1">
              <a:off x="3713040" y="4874040"/>
              <a:ext cx="32256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 flipH="1" flipV="1">
              <a:off x="3711240" y="4975200"/>
              <a:ext cx="32220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>
              <a:off x="3687480" y="5087520"/>
              <a:ext cx="32220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H="1" flipV="1">
              <a:off x="3686040" y="5188680"/>
              <a:ext cx="32256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1" name=""/>
          <p:cNvSpPr/>
          <p:nvPr/>
        </p:nvSpPr>
        <p:spPr>
          <a:xfrm flipV="1">
            <a:off x="2987640" y="4215960"/>
            <a:ext cx="6937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040640" y="4915080"/>
            <a:ext cx="881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987640" y="4514760"/>
            <a:ext cx="75240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5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 flipV="1">
            <a:off x="5411880" y="4229280"/>
            <a:ext cx="0" cy="44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5" name=""/>
          <p:cNvGrpSpPr/>
          <p:nvPr/>
        </p:nvGrpSpPr>
        <p:grpSpPr>
          <a:xfrm>
            <a:off x="5153040" y="5818320"/>
            <a:ext cx="468360" cy="88920"/>
            <a:chOff x="5153040" y="5818320"/>
            <a:chExt cx="468360" cy="88920"/>
          </a:xfrm>
        </p:grpSpPr>
        <p:sp>
          <p:nvSpPr>
            <p:cNvPr id="1416" name=""/>
            <p:cNvSpPr/>
            <p:nvPr/>
          </p:nvSpPr>
          <p:spPr>
            <a:xfrm>
              <a:off x="5153040" y="590724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153040" y="581832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8" name=""/>
          <p:cNvGrpSpPr/>
          <p:nvPr/>
        </p:nvGrpSpPr>
        <p:grpSpPr>
          <a:xfrm>
            <a:off x="5192280" y="5891040"/>
            <a:ext cx="345960" cy="563760"/>
            <a:chOff x="5192280" y="5891040"/>
            <a:chExt cx="345960" cy="563760"/>
          </a:xfrm>
        </p:grpSpPr>
        <p:sp>
          <p:nvSpPr>
            <p:cNvPr id="1419" name=""/>
            <p:cNvSpPr/>
            <p:nvPr/>
          </p:nvSpPr>
          <p:spPr>
            <a:xfrm flipV="1">
              <a:off x="5365440" y="5891040"/>
              <a:ext cx="0" cy="44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5192280" y="633240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5243040" y="639252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5289120" y="64548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3" name=""/>
          <p:cNvGrpSpPr/>
          <p:nvPr/>
        </p:nvGrpSpPr>
        <p:grpSpPr>
          <a:xfrm>
            <a:off x="5048280" y="4662360"/>
            <a:ext cx="352080" cy="573120"/>
            <a:chOff x="5048280" y="4662360"/>
            <a:chExt cx="352080" cy="573120"/>
          </a:xfrm>
        </p:grpSpPr>
        <p:sp>
          <p:nvSpPr>
            <p:cNvPr id="1424" name=""/>
            <p:cNvSpPr/>
            <p:nvPr/>
          </p:nvSpPr>
          <p:spPr>
            <a:xfrm flipH="1">
              <a:off x="5078160" y="4662360"/>
              <a:ext cx="32220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 flipV="1">
              <a:off x="5076720" y="4755600"/>
              <a:ext cx="32220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H="1">
              <a:off x="5075280" y="4850640"/>
              <a:ext cx="32256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 flipV="1">
              <a:off x="5073480" y="4943880"/>
              <a:ext cx="322200" cy="9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5049720" y="5046840"/>
              <a:ext cx="32220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 flipV="1">
              <a:off x="5048280" y="5140440"/>
              <a:ext cx="32256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0" name=""/>
          <p:cNvSpPr/>
          <p:nvPr/>
        </p:nvSpPr>
        <p:spPr>
          <a:xfrm>
            <a:off x="5369040" y="5245200"/>
            <a:ext cx="0" cy="55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462280" y="4497480"/>
            <a:ext cx="88776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8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630240" y="3575160"/>
            <a:ext cx="15703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.86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 flipV="1">
            <a:off x="2981160" y="4227480"/>
            <a:ext cx="0" cy="37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4" name=""/>
          <p:cNvGrpSpPr/>
          <p:nvPr/>
        </p:nvGrpSpPr>
        <p:grpSpPr>
          <a:xfrm>
            <a:off x="2768400" y="5140080"/>
            <a:ext cx="345960" cy="563760"/>
            <a:chOff x="2768400" y="5140080"/>
            <a:chExt cx="345960" cy="563760"/>
          </a:xfrm>
        </p:grpSpPr>
        <p:sp>
          <p:nvSpPr>
            <p:cNvPr id="1435" name=""/>
            <p:cNvSpPr/>
            <p:nvPr/>
          </p:nvSpPr>
          <p:spPr>
            <a:xfrm flipV="1">
              <a:off x="2941560" y="5140080"/>
              <a:ext cx="0" cy="44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2768400" y="558144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>
              <a:off x="2819160" y="564156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H="1">
              <a:off x="2865240" y="5703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9" name=""/>
          <p:cNvGrpSpPr/>
          <p:nvPr/>
        </p:nvGrpSpPr>
        <p:grpSpPr>
          <a:xfrm>
            <a:off x="2617920" y="4576680"/>
            <a:ext cx="352080" cy="574560"/>
            <a:chOff x="2617920" y="4576680"/>
            <a:chExt cx="352080" cy="574560"/>
          </a:xfrm>
        </p:grpSpPr>
        <p:sp>
          <p:nvSpPr>
            <p:cNvPr id="1440" name=""/>
            <p:cNvSpPr/>
            <p:nvPr/>
          </p:nvSpPr>
          <p:spPr>
            <a:xfrm flipH="1">
              <a:off x="2647800" y="457668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 flipV="1">
              <a:off x="2646360" y="466992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2644920" y="4765680"/>
              <a:ext cx="32256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H="1" flipV="1">
              <a:off x="2643120" y="4859640"/>
              <a:ext cx="32220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>
              <a:off x="2619360" y="496224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H="1" flipV="1">
              <a:off x="2617920" y="5055840"/>
              <a:ext cx="32256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6" name=""/>
          <p:cNvSpPr/>
          <p:nvPr/>
        </p:nvSpPr>
        <p:spPr>
          <a:xfrm>
            <a:off x="6740640" y="4687920"/>
            <a:ext cx="561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5402160" y="5237280"/>
            <a:ext cx="120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.6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982080" y="1955880"/>
            <a:ext cx="1680480" cy="29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match 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2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high Hz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C2P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C2N 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up, ac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differenti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2592360" y="1816200"/>
            <a:ext cx="622440" cy="2133360"/>
          </a:xfrm>
          <a:prstGeom prst="rect">
            <a:avLst/>
          </a:prstGeom>
          <a:noFill/>
          <a:ln w="1908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 flipV="1">
            <a:off x="3003120" y="1506240"/>
            <a:ext cx="12600" cy="981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1" name=""/>
          <p:cNvGrpSpPr/>
          <p:nvPr/>
        </p:nvGrpSpPr>
        <p:grpSpPr>
          <a:xfrm>
            <a:off x="2678040" y="2482920"/>
            <a:ext cx="352080" cy="574200"/>
            <a:chOff x="2678040" y="2482920"/>
            <a:chExt cx="352080" cy="574200"/>
          </a:xfrm>
        </p:grpSpPr>
        <p:sp>
          <p:nvSpPr>
            <p:cNvPr id="1452" name=""/>
            <p:cNvSpPr/>
            <p:nvPr/>
          </p:nvSpPr>
          <p:spPr>
            <a:xfrm flipH="1">
              <a:off x="2707920" y="248292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H="1" flipV="1">
              <a:off x="2706480" y="257616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H="1">
              <a:off x="2705040" y="2671920"/>
              <a:ext cx="32256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H="1" flipV="1">
              <a:off x="2703240" y="2765520"/>
              <a:ext cx="32220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>
              <a:off x="2679480" y="286848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H="1" flipV="1">
              <a:off x="2678040" y="2961720"/>
              <a:ext cx="32256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8" name=""/>
          <p:cNvSpPr/>
          <p:nvPr/>
        </p:nvSpPr>
        <p:spPr>
          <a:xfrm flipV="1">
            <a:off x="2978280" y="3068280"/>
            <a:ext cx="0" cy="11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003480" y="1511280"/>
            <a:ext cx="66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279080" y="1125360"/>
            <a:ext cx="1260000" cy="337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ias =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1.5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FA587-EA60-44ED-9998-C719E21A3A8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1179360" y="-360"/>
            <a:ext cx="743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iff. C_comp (Bias = 1.5 V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3" name="" descr=""/>
          <p:cNvPicPr/>
          <p:nvPr/>
        </p:nvPicPr>
        <p:blipFill>
          <a:blip r:embed="rId1"/>
          <a:stretch/>
        </p:blipFill>
        <p:spPr>
          <a:xfrm>
            <a:off x="939960" y="927000"/>
            <a:ext cx="8204040" cy="547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C5A0C-8288-4A1B-A63E-688813EC556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mmary and Next Step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1053720" y="1143000"/>
            <a:ext cx="7899480" cy="520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 new method for adjusting V-t curves is show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66"/>
                </a:solidFill>
                <a:latin typeface="Arial"/>
              </a:rPr>
              <a:t>Based on frequency-domain capacitance profi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66"/>
                </a:solidFill>
                <a:latin typeface="Arial"/>
              </a:rPr>
              <a:t>Fit to a circuit expanded from Giacotto-Muranyi mod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66"/>
                </a:solidFill>
                <a:latin typeface="Arial"/>
              </a:rPr>
              <a:t>Covers both differential and single-ended AC behavi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mments and Next Ste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66"/>
                </a:solidFill>
                <a:latin typeface="Arial"/>
              </a:rPr>
              <a:t>Method is untested in system simulation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DA tool method (CCCS) does not generate clean V-t da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IBIS creation tools will choke on “noise” in V-t da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66"/>
                </a:solidFill>
                <a:latin typeface="Arial"/>
              </a:rPr>
              <a:t>Need analytic method of model value f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s here determined using trial-and-error; fit isn’t gre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iacotto proposed pole-zero analysi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luck in getting PZ to generate matching RC valu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ll all models have the same RC model profile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66"/>
                </a:solidFill>
                <a:latin typeface="Arial"/>
              </a:rPr>
              <a:t>Need to incorporate more voltage bias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66"/>
                </a:solidFill>
                <a:latin typeface="Arial"/>
              </a:rPr>
              <a:t>Need a recommendation for model bandwid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7B203-E8A9-447A-A156-6E11C5EC56A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1166760" y="3263400"/>
            <a:ext cx="743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ACKUP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B847F-5B1C-4417-8B39-4BDE96C3DBA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" descr=""/>
          <p:cNvPicPr/>
          <p:nvPr/>
        </p:nvPicPr>
        <p:blipFill>
          <a:blip r:embed="rId1"/>
          <a:stretch/>
        </p:blipFill>
        <p:spPr>
          <a:xfrm>
            <a:off x="1028880" y="1104840"/>
            <a:ext cx="7657920" cy="5099040"/>
          </a:xfrm>
          <a:prstGeom prst="rect">
            <a:avLst/>
          </a:prstGeom>
          <a:ln w="0">
            <a:noFill/>
          </a:ln>
        </p:spPr>
      </p:pic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027080" y="-360"/>
            <a:ext cx="768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ingle-ended C_comp – Alternate View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502B7-47C5-4D45-95E9-07427AF460B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28600" y="228600"/>
            <a:ext cx="7405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BIS for SerDes Pre-Emphasi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"/>
          <p:cNvSpPr/>
          <p:nvPr/>
        </p:nvSpPr>
        <p:spPr>
          <a:xfrm>
            <a:off x="2562120" y="2019240"/>
            <a:ext cx="684360" cy="638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03400" y="2084400"/>
            <a:ext cx="0" cy="50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03400" y="182880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03400" y="2657520"/>
            <a:ext cx="0" cy="3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16000" y="3040200"/>
            <a:ext cx="177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16000" y="304020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92600" y="304020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810800" y="3357720"/>
            <a:ext cx="204840" cy="3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92600" y="3357720"/>
            <a:ext cx="204840" cy="3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16000" y="3676680"/>
            <a:ext cx="0" cy="76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92600" y="3676680"/>
            <a:ext cx="0" cy="76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47960" y="4186080"/>
            <a:ext cx="136440" cy="128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11160" y="5207040"/>
            <a:ext cx="40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79560" y="5270400"/>
            <a:ext cx="27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47960" y="533412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016000" y="4441680"/>
            <a:ext cx="204840" cy="636120"/>
            <a:chOff x="2016000" y="4441680"/>
            <a:chExt cx="204840" cy="636120"/>
          </a:xfrm>
        </p:grpSpPr>
        <p:sp>
          <p:nvSpPr>
            <p:cNvPr id="163" name=""/>
            <p:cNvSpPr/>
            <p:nvPr/>
          </p:nvSpPr>
          <p:spPr>
            <a:xfrm>
              <a:off x="2016000" y="444168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16000" y="4653720"/>
              <a:ext cx="20484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2016000" y="475992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016000" y="454752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16000" y="486612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016000" y="4971600"/>
              <a:ext cx="20484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016000" y="507852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87760" y="5207040"/>
            <a:ext cx="40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56160" y="5270400"/>
            <a:ext cx="27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24200" y="533412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792600" y="4441680"/>
            <a:ext cx="204840" cy="636120"/>
            <a:chOff x="3792600" y="4441680"/>
            <a:chExt cx="204840" cy="636120"/>
          </a:xfrm>
        </p:grpSpPr>
        <p:sp>
          <p:nvSpPr>
            <p:cNvPr id="174" name=""/>
            <p:cNvSpPr/>
            <p:nvPr/>
          </p:nvSpPr>
          <p:spPr>
            <a:xfrm>
              <a:off x="3792600" y="444168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92600" y="4653720"/>
              <a:ext cx="20484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3792600" y="475992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792600" y="454752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92600" y="486612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3792600" y="4971600"/>
              <a:ext cx="20484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3792600" y="507852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24200" y="3805200"/>
            <a:ext cx="136440" cy="1270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84400" y="4251240"/>
            <a:ext cx="16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77080" y="2019240"/>
            <a:ext cx="684000" cy="638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19800" y="2084400"/>
            <a:ext cx="0" cy="50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19800" y="182880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19800" y="2657520"/>
            <a:ext cx="0" cy="3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30960" y="3040200"/>
            <a:ext cx="1776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30960" y="304020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207200" y="304020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225760" y="3357720"/>
            <a:ext cx="204840" cy="3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207200" y="3357720"/>
            <a:ext cx="204840" cy="3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40080" y="322416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80960" y="323064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01760" y="323064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87280" y="323064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32280" y="393228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X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0" y="3581280"/>
            <a:ext cx="47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X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4632480" y="4437000"/>
            <a:ext cx="2241360" cy="1822680"/>
            <a:chOff x="4632480" y="4437000"/>
            <a:chExt cx="2241360" cy="1822680"/>
          </a:xfrm>
        </p:grpSpPr>
        <p:sp>
          <p:nvSpPr>
            <p:cNvPr id="199" name=""/>
            <p:cNvSpPr/>
            <p:nvPr/>
          </p:nvSpPr>
          <p:spPr>
            <a:xfrm>
              <a:off x="4632480" y="4437000"/>
              <a:ext cx="2225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 Black"/>
                </a:rPr>
                <a:t>Pre-Empha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A = 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C = 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B = 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D = 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05520" y="497844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19920" y="497844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648320" y="5435640"/>
              <a:ext cx="2225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 Black"/>
                </a:rPr>
                <a:t>De-Empha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A = 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C = 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B = 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D = 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05520" y="59691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19920" y="57405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1781640" y="213372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32080" y="2133720"/>
            <a:ext cx="72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o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10080" y="36576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38862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86400" y="38862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86200" y="42670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238880" y="3657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76520" y="1600200"/>
            <a:ext cx="2438280" cy="1371600"/>
          </a:xfrm>
          <a:prstGeom prst="rect">
            <a:avLst/>
          </a:prstGeom>
          <a:noFill/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39880" y="1287360"/>
            <a:ext cx="207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Pullup – Main (+ &amp; -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81480" y="1600200"/>
            <a:ext cx="2438640" cy="1371600"/>
          </a:xfrm>
          <a:prstGeom prst="rect">
            <a:avLst/>
          </a:prstGeom>
          <a:noFill/>
          <a:ln w="12600">
            <a:solidFill>
              <a:srgbClr val="00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58240" y="1295280"/>
            <a:ext cx="21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66"/>
                </a:solidFill>
                <a:latin typeface="Arial Black"/>
              </a:rPr>
              <a:t>Pullup – Boost (+ &amp; -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3962520"/>
            <a:ext cx="3048120" cy="1523880"/>
          </a:xfrm>
          <a:prstGeom prst="rect">
            <a:avLst/>
          </a:prstGeom>
          <a:noFill/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80520" y="5734080"/>
            <a:ext cx="166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Ground Clam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ain + &amp;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725160" y="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 Black"/>
              </a:rPr>
              <a:t>from April ’04 Su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546960" y="4221000"/>
            <a:ext cx="2444760" cy="1310760"/>
          </a:xfrm>
          <a:prstGeom prst="rect">
            <a:avLst/>
          </a:prstGeom>
          <a:noFill/>
          <a:ln w="1260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Arial Black"/>
              </a:rPr>
              <a:t>1) Extract C_co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Arial Black"/>
              </a:rPr>
              <a:t>for entire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Arial Black"/>
              </a:rPr>
              <a:t>2) Split C_co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Arial Black"/>
              </a:rPr>
              <a:t>across Main, Bo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1ABE7-DBB9-4325-8F21-BB88F38CF6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26880" y="-360"/>
            <a:ext cx="7383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sults of First Attemp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946080" y="961920"/>
            <a:ext cx="8197920" cy="55152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5024520" y="3021120"/>
            <a:ext cx="1847880" cy="11206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6725160" y="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 Black"/>
              </a:rPr>
              <a:t>from April ’04 Su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58080" y="3962520"/>
            <a:ext cx="888840" cy="203040"/>
          </a:xfrm>
          <a:prstGeom prst="ellipse">
            <a:avLst/>
          </a:pr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51240" y="1079640"/>
            <a:ext cx="6006960" cy="660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ransistor vs. Combination IBIS into R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57680" y="4208400"/>
            <a:ext cx="261000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_comp =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8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98F07-6B62-4D80-B418-9C85FE06AF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posed Fix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72644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Method 2: Adjust all V-t curves for the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otal</a:t>
            </a: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 C_comp value before using the models for sim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Each V-t curve reflects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total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C_comp lo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Adjust each curve (Main, Boost) for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total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C_com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Set IBIS C_comp for Main, Boost to 0 p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Add external cap equal to original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total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C_com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727280" y="3510000"/>
            <a:ext cx="2800440" cy="16970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128600" y="5173560"/>
            <a:ext cx="8015400" cy="674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388160" y="5910120"/>
            <a:ext cx="368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cc00"/>
                </a:solidFill>
                <a:latin typeface="Arial Black"/>
              </a:rPr>
              <a:t>images and equations from A. Murany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778120" y="3742920"/>
            <a:ext cx="558720" cy="343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78320" y="3567240"/>
            <a:ext cx="11696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Vwfm_pu (V-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57360" y="3998880"/>
            <a:ext cx="66096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Vfx_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fix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654360" y="4251240"/>
            <a:ext cx="495360" cy="1396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58000" y="3583080"/>
            <a:ext cx="2423880" cy="106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urrent through fix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s function of curr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rough pullup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rough die 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35280" y="4467240"/>
            <a:ext cx="171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35280" y="4533840"/>
            <a:ext cx="171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20960" y="4295880"/>
            <a:ext cx="0" cy="171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20960" y="4543560"/>
            <a:ext cx="468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27360" y="4729320"/>
            <a:ext cx="199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60480" y="4765680"/>
            <a:ext cx="1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93960" y="4802040"/>
            <a:ext cx="66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14480" y="4289400"/>
            <a:ext cx="67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25160" y="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 Black"/>
              </a:rPr>
              <a:t>from April ’04 Su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AA57D-6026-49BF-A8DF-98EB83D31D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sults of Using New Metho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888840" y="660240"/>
            <a:ext cx="8255160" cy="58928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5064120" y="4246560"/>
            <a:ext cx="261000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atches only when c_comp set =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14pF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427640" y="2830680"/>
            <a:ext cx="2203200" cy="11779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725160" y="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 Black"/>
              </a:rPr>
              <a:t>from April ’04 Su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00680" y="812880"/>
            <a:ext cx="2006280" cy="20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E4C3C-60BD-4BA0-A840-0557DA7C1E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Further Complica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47920" y="114300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istor model capacitance behaviors are not simp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pacitance varies with frequency and bias 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requency-based measurement result is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a consta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16680" y="2849400"/>
            <a:ext cx="2984400" cy="16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Recall A. Muranyi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nalys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 Black"/>
                <a:hlinkClick r:id="rId1"/>
              </a:rPr>
              <a:t>Details 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 Black"/>
                <a:hlinkClick r:id="rId2"/>
              </a:rPr>
              <a:t>True Differential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 Black"/>
                <a:hlinkClick r:id="rId3"/>
              </a:rPr>
              <a:t>Characterization Revisited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ctober,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305000" y="2209680"/>
            <a:ext cx="4590720" cy="4049640"/>
            <a:chOff x="1305000" y="2209680"/>
            <a:chExt cx="4590720" cy="4049640"/>
          </a:xfrm>
        </p:grpSpPr>
        <p:pic>
          <p:nvPicPr>
            <p:cNvPr id="259" name="" descr=""/>
            <p:cNvPicPr/>
            <p:nvPr/>
          </p:nvPicPr>
          <p:blipFill>
            <a:blip r:embed="rId4"/>
            <a:stretch/>
          </p:blipFill>
          <p:spPr>
            <a:xfrm>
              <a:off x="1305000" y="2209680"/>
              <a:ext cx="4590720" cy="404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 flipV="1">
              <a:off x="3952800" y="5676840"/>
              <a:ext cx="1504800" cy="49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1771200" y="5533920"/>
              <a:ext cx="1152360" cy="57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37040" y="5830920"/>
              <a:ext cx="184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909320" y="585000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60480" y="5830920"/>
              <a:ext cx="183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75160" y="577368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619280" y="2943000"/>
              <a:ext cx="0" cy="246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362600" y="259236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6725160" y="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 Black"/>
              </a:rPr>
              <a:t>from April ’04 Su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70600" y="6006960"/>
            <a:ext cx="1282680" cy="0"/>
          </a:xfrm>
          <a:prstGeom prst="line">
            <a:avLst/>
          </a:prstGeom>
          <a:ln w="57240">
            <a:solidFill>
              <a:srgbClr val="ff505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75360" y="4805280"/>
            <a:ext cx="2903400" cy="824040"/>
          </a:xfrm>
          <a:prstGeom prst="rect">
            <a:avLst/>
          </a:prstGeom>
          <a:noFill/>
          <a:ln w="1260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ingle-ended capaci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f our “</a:t>
            </a:r>
            <a:r>
              <a:rPr b="0" lang="en-US" sz="1600" spc="-1" strike="noStrike">
                <a:solidFill>
                  <a:srgbClr val="ff5050"/>
                </a:solidFill>
                <a:latin typeface="Arial Black"/>
              </a:rPr>
              <a:t>8 pF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”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s. V &amp;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4FE34-D841-4AF0-891E-F058CECB92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Further Complica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447920" y="1057320"/>
            <a:ext cx="7315200" cy="473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ial view of transistor model capaci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ifferential capacitance not included in adjusted mod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te that finding of femto-farad differential capacitances described in previous summits may not always apply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16680" y="2849400"/>
            <a:ext cx="2984400" cy="16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Recall A. Muranyi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nalys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 Black"/>
                <a:hlinkClick r:id="rId1"/>
              </a:rPr>
              <a:t>Details 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 Black"/>
                <a:hlinkClick r:id="rId2"/>
              </a:rPr>
              <a:t>True Differential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 Black"/>
                <a:hlinkClick r:id="rId3"/>
              </a:rPr>
              <a:t>Characterization Revisited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ctober,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418040" y="2427120"/>
            <a:ext cx="4320360" cy="3692520"/>
            <a:chOff x="1418040" y="2427120"/>
            <a:chExt cx="4320360" cy="3692520"/>
          </a:xfrm>
        </p:grpSpPr>
        <p:graphicFrame>
          <p:nvGraphicFramePr>
            <p:cNvPr id="275" name=""/>
            <p:cNvGraphicFramePr/>
            <p:nvPr/>
          </p:nvGraphicFramePr>
          <p:xfrm>
            <a:off x="1418040" y="2427120"/>
            <a:ext cx="4320360" cy="36925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7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418040" y="2427120"/>
                      <a:ext cx="4320360" cy="369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7" name=""/>
            <p:cNvSpPr/>
            <p:nvPr/>
          </p:nvSpPr>
          <p:spPr>
            <a:xfrm flipV="1">
              <a:off x="3843720" y="5404320"/>
              <a:ext cx="1373400" cy="50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flipV="1">
              <a:off x="1873080" y="5176080"/>
              <a:ext cx="1007280" cy="67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59200" y="5599080"/>
              <a:ext cx="184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40840" y="561636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877400" y="5599080"/>
              <a:ext cx="184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806840" y="554616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658880" y="2937600"/>
              <a:ext cx="0" cy="227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419840" y="26143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6725160" y="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 Black"/>
              </a:rPr>
              <a:t>from April ’04 Su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75360" y="4805280"/>
            <a:ext cx="2903400" cy="824040"/>
          </a:xfrm>
          <a:prstGeom prst="rect">
            <a:avLst/>
          </a:prstGeom>
          <a:noFill/>
          <a:ln w="1260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Differential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capaci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f our “</a:t>
            </a:r>
            <a:r>
              <a:rPr b="0" lang="en-US" sz="1600" spc="-1" strike="noStrike">
                <a:solidFill>
                  <a:srgbClr val="ff5050"/>
                </a:solidFill>
                <a:latin typeface="Arial Black"/>
              </a:rPr>
              <a:t>8 pF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”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s. V &amp;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870600" y="6006960"/>
            <a:ext cx="1282680" cy="0"/>
          </a:xfrm>
          <a:prstGeom prst="line">
            <a:avLst/>
          </a:prstGeom>
          <a:ln w="57240">
            <a:solidFill>
              <a:srgbClr val="ff505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4C326-2F09-43EB-B7F1-D3C595EC1D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9T02:00:46Z</dcterms:created>
  <dc:creator>Michael Mirmak</dc:creator>
  <dc:description/>
  <dc:language>en-US</dc:language>
  <cp:lastModifiedBy>Michael Mirmak</cp:lastModifiedBy>
  <cp:lastPrinted>1998-11-04T21:31:56Z</cp:lastPrinted>
  <dcterms:modified xsi:type="dcterms:W3CDTF">2004-10-01T17:53:48Z</dcterms:modified>
  <cp:revision>715</cp:revision>
  <dc:subject>Pre-emphasis buffer treatments of die cap., Part 2</dc:subject>
  <dc:title>Multi-Element C_comp Modeling</dc:title>
</cp:coreProperties>
</file>