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7458-11C2-41C6-825A-7EAE60A6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A93-229B-47F2-B3DB-80C37555B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702E-CFE7-49E4-A725-062197AE6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72F-7503-46EC-A9A0-15F24825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7ACD-5E1F-4321-8B8F-C29F9513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3983-D83F-4654-BE44-7070F762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E5DC-0215-42F3-9817-6D136C49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C5F8-A73A-4C28-AEF1-FCA733C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04EF-CC7D-4F85-A5A3-7752EAAC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F6F57-5AE7-46E1-ABD8-3F8D71FD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ED92-3062-4873-ACD6-B93E5E05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9E06-48F4-4AAE-9958-C07EE53E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F889-EAFD-4F1F-BF3B-A2C734A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3402C-77B6-4373-96FC-5A30911E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F7E7-F249-4866-A980-2A7726FE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8604-131B-42DC-8DE6-E5354BA12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9D52-F674-4548-A00F-D9D2C073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4900-C335-4CE6-8A90-1F7100BA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9D3C-5859-4E36-AE7F-94E400A6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65B-98E5-4A97-B5C0-7BE4DF290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670572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A892-8EE8-4BF5-BDE8-71B3A6469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8F42-6645-4D80-8B29-3FAA6D1E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CFC1-7506-4558-BA1B-211615C0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84B2-C9CF-4D8E-B513-545D24B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67057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B East 2004 IBIS Summi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0320-DC73-442A-BBF9-87FCFD341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flipH="1">
            <a:off x="228240" y="2590920"/>
            <a:ext cx="2730600" cy="3276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90920" y="6991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&amp; Roadmap Updat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352320" y="3047760"/>
            <a:ext cx="54104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B East 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4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4246560"/>
            <a:ext cx="1424160" cy="155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929F-25EC-4FE4-B18F-D859206FCD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28600" y="1155240"/>
            <a:ext cx="861048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4.1 Parser Development underwa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eta code to be completed shor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BIRDs being generated as issues are un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M 1.0 support appearing in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IRDs being generated for inclusion in ICM 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Tokyo IBIS Summit with J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First ever in Asia!  Slated for Feb-March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holding at 21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4 IBIS 4.x parser licensees; 5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BIS 3.2 to be reballoted for ANSI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book, Futures and Quality Committees hard at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updates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op-level pages and model library upd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ibis-information.org redirect available and 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Progres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705720" y="64764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886880" y="150480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7E0-5E8A-45E3-8C4E-2FAB03DAAB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680" y="234360"/>
            <a:ext cx="6705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 Black"/>
              </a:rPr>
              <a:t>Dangers Lurking</a:t>
            </a:r>
            <a:endParaRPr b="0" lang="en-US" sz="40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15640" y="920520"/>
            <a:ext cx="8445240" cy="47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below budgeted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eed four (4) more to meet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GEIA commi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Parser may be put on ho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Parser is on-track for completion by Dec.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unds only cover two of three paym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Still insufficient funds today to ensure completion of par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Need at least two (2) more parser license 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568944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IBIS Open Forum needs your ongoing suppor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204040" y="0"/>
            <a:ext cx="939960" cy="17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705720" y="64764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886880" y="150480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7F07-6B44-483F-9BDD-48956669A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09480" y="3654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478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081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71760" y="39546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353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971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5752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1968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782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184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022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625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243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4780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35360" y="4106880"/>
            <a:ext cx="1084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19680" y="410688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0220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47800" y="3801960"/>
            <a:ext cx="1082880" cy="152280"/>
            <a:chOff x="1747800" y="3801960"/>
            <a:chExt cx="1082880" cy="152280"/>
          </a:xfrm>
        </p:grpSpPr>
        <p:sp>
          <p:nvSpPr>
            <p:cNvPr id="114" name=""/>
            <p:cNvSpPr/>
            <p:nvPr/>
          </p:nvSpPr>
          <p:spPr>
            <a:xfrm>
              <a:off x="17478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1747800" y="3858840"/>
              <a:ext cx="1082880" cy="90360"/>
              <a:chOff x="1747800" y="3858840"/>
              <a:chExt cx="1082880" cy="9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17478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83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91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9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08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63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4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33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414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9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580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663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747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830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2835360" y="3801960"/>
            <a:ext cx="1084320" cy="152280"/>
            <a:chOff x="2835360" y="3801960"/>
            <a:chExt cx="1084320" cy="152280"/>
          </a:xfrm>
        </p:grpSpPr>
        <p:sp>
          <p:nvSpPr>
            <p:cNvPr id="131" name=""/>
            <p:cNvSpPr/>
            <p:nvPr/>
          </p:nvSpPr>
          <p:spPr>
            <a:xfrm>
              <a:off x="28353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835360" y="3858840"/>
              <a:ext cx="1084320" cy="90360"/>
              <a:chOff x="2835360" y="3858840"/>
              <a:chExt cx="1084320" cy="90360"/>
            </a:xfrm>
          </p:grpSpPr>
          <p:sp>
            <p:nvSpPr>
              <p:cNvPr id="133" name=""/>
              <p:cNvSpPr/>
              <p:nvPr/>
            </p:nvSpPr>
            <p:spPr>
              <a:xfrm>
                <a:off x="28353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002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85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68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2522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5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18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02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85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669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52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36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919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7" name=""/>
          <p:cNvGrpSpPr/>
          <p:nvPr/>
        </p:nvGrpSpPr>
        <p:grpSpPr>
          <a:xfrm>
            <a:off x="3919680" y="3801960"/>
            <a:ext cx="1082520" cy="152280"/>
            <a:chOff x="3919680" y="3801960"/>
            <a:chExt cx="1082520" cy="152280"/>
          </a:xfrm>
        </p:grpSpPr>
        <p:sp>
          <p:nvSpPr>
            <p:cNvPr id="148" name=""/>
            <p:cNvSpPr/>
            <p:nvPr/>
          </p:nvSpPr>
          <p:spPr>
            <a:xfrm>
              <a:off x="391968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919680" y="3858840"/>
              <a:ext cx="1082520" cy="90360"/>
              <a:chOff x="3919680" y="3858840"/>
              <a:chExt cx="1082520" cy="90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91968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002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086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69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52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335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19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0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8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8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52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35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18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002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5002200" y="3801960"/>
            <a:ext cx="1085760" cy="152280"/>
            <a:chOff x="5002200" y="3801960"/>
            <a:chExt cx="1085760" cy="152280"/>
          </a:xfrm>
        </p:grpSpPr>
        <p:sp>
          <p:nvSpPr>
            <p:cNvPr id="165" name=""/>
            <p:cNvSpPr/>
            <p:nvPr/>
          </p:nvSpPr>
          <p:spPr>
            <a:xfrm>
              <a:off x="50022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002200" y="3858840"/>
              <a:ext cx="1085760" cy="90360"/>
              <a:chOff x="5002200" y="3858840"/>
              <a:chExt cx="1085760" cy="90360"/>
            </a:xfrm>
          </p:grpSpPr>
          <p:sp>
            <p:nvSpPr>
              <p:cNvPr id="167" name=""/>
              <p:cNvSpPr/>
              <p:nvPr/>
            </p:nvSpPr>
            <p:spPr>
              <a:xfrm>
                <a:off x="50022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085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6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52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335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19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503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586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670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753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37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20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004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087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/>
          <p:nvPr/>
        </p:nvSpPr>
        <p:spPr>
          <a:xfrm>
            <a:off x="261360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018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815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79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4832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0868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1708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3444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9300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8796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7084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7960" y="3801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87960" y="3801960"/>
            <a:ext cx="1082880" cy="152280"/>
            <a:chOff x="6087960" y="3801960"/>
            <a:chExt cx="1082880" cy="152280"/>
          </a:xfrm>
        </p:grpSpPr>
        <p:sp>
          <p:nvSpPr>
            <p:cNvPr id="195" name=""/>
            <p:cNvSpPr/>
            <p:nvPr/>
          </p:nvSpPr>
          <p:spPr>
            <a:xfrm>
              <a:off x="60879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087960" y="3858840"/>
              <a:ext cx="1082880" cy="90360"/>
              <a:chOff x="6087960" y="3858840"/>
              <a:chExt cx="1082880" cy="90360"/>
            </a:xfrm>
          </p:grpSpPr>
          <p:sp>
            <p:nvSpPr>
              <p:cNvPr id="197" name=""/>
              <p:cNvSpPr/>
              <p:nvPr/>
            </p:nvSpPr>
            <p:spPr>
              <a:xfrm>
                <a:off x="60879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171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2542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337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2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0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8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7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54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83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2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03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08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170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1" name=""/>
          <p:cNvGrpSpPr/>
          <p:nvPr/>
        </p:nvGrpSpPr>
        <p:grpSpPr>
          <a:xfrm>
            <a:off x="7170840" y="3801960"/>
            <a:ext cx="1085760" cy="152280"/>
            <a:chOff x="7170840" y="3801960"/>
            <a:chExt cx="1085760" cy="152280"/>
          </a:xfrm>
        </p:grpSpPr>
        <p:sp>
          <p:nvSpPr>
            <p:cNvPr id="212" name=""/>
            <p:cNvSpPr/>
            <p:nvPr/>
          </p:nvSpPr>
          <p:spPr>
            <a:xfrm>
              <a:off x="717084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7170840" y="3858840"/>
              <a:ext cx="1085760" cy="90360"/>
              <a:chOff x="7170840" y="3858840"/>
              <a:chExt cx="1085760" cy="90360"/>
            </a:xfrm>
          </p:grpSpPr>
          <p:sp>
            <p:nvSpPr>
              <p:cNvPr id="214" name=""/>
              <p:cNvSpPr/>
              <p:nvPr/>
            </p:nvSpPr>
            <p:spPr>
              <a:xfrm>
                <a:off x="717084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54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37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4214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04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88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671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755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839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92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00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089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172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56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8" name=""/>
          <p:cNvSpPr/>
          <p:nvPr/>
        </p:nvSpPr>
        <p:spPr>
          <a:xfrm>
            <a:off x="6956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413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Original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1193760"/>
            <a:ext cx="401328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7760" y="232740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464400" y="3654360"/>
            <a:ext cx="1279800" cy="604800"/>
            <a:chOff x="464400" y="3654360"/>
            <a:chExt cx="1279800" cy="604800"/>
          </a:xfrm>
        </p:grpSpPr>
        <p:sp>
          <p:nvSpPr>
            <p:cNvPr id="237" name=""/>
            <p:cNvSpPr/>
            <p:nvPr/>
          </p:nvSpPr>
          <p:spPr>
            <a:xfrm>
              <a:off x="464400" y="3654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7080" y="3954240"/>
              <a:ext cx="358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5640" y="3954240"/>
              <a:ext cx="361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87440" y="3954240"/>
              <a:ext cx="3567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080" y="4106880"/>
              <a:ext cx="10771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1’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667080" y="3801960"/>
              <a:ext cx="1077120" cy="152280"/>
              <a:chOff x="667080" y="3801960"/>
              <a:chExt cx="1077120" cy="152280"/>
            </a:xfrm>
          </p:grpSpPr>
          <p:sp>
            <p:nvSpPr>
              <p:cNvPr id="243" name=""/>
              <p:cNvSpPr/>
              <p:nvPr/>
            </p:nvSpPr>
            <p:spPr>
              <a:xfrm>
                <a:off x="667080" y="3801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67080" y="3858840"/>
                <a:ext cx="1077120" cy="90360"/>
                <a:chOff x="667080" y="3858840"/>
                <a:chExt cx="1077120" cy="903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67080" y="38588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498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32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9154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9982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0810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164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246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298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4126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4954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578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610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4420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59" name=""/>
          <p:cNvSpPr/>
          <p:nvPr/>
        </p:nvSpPr>
        <p:spPr>
          <a:xfrm>
            <a:off x="627120" y="27097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981000" y="3157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67000" y="264960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3724200" y="309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0720" y="55879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200" y="58896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3280" y="43084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68280" y="429408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22720" y="26845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457880" y="30938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76680" y="3084480"/>
            <a:ext cx="65700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114720" y="350352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47600" y="4294080"/>
            <a:ext cx="14940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27680" y="430992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04040" y="3122640"/>
            <a:ext cx="733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67280" y="3547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94400" y="313200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883560" y="3551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3840" y="3122640"/>
            <a:ext cx="7459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952640" y="3541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42160" y="269064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8067600" y="31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38960" y="433872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4289400"/>
            <a:ext cx="22356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4097160"/>
            <a:ext cx="80056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02200" y="38070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15040" y="43038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89680" y="42894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46720" y="5797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9384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58040" y="4367160"/>
            <a:ext cx="0" cy="42876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1080" y="435780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72240" y="4376880"/>
            <a:ext cx="0" cy="428400"/>
          </a:xfrm>
          <a:prstGeom prst="line">
            <a:avLst/>
          </a:prstGeom>
          <a:ln w="12600">
            <a:solidFill>
              <a:srgbClr val="66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7287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36880" y="479916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8320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0228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35920" y="4808520"/>
            <a:ext cx="946080" cy="231120"/>
          </a:xfrm>
          <a:prstGeom prst="rect">
            <a:avLst/>
          </a:prstGeom>
          <a:noFill/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-Roadshow”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84480" y="2297160"/>
            <a:ext cx="1800" cy="14698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705720" y="18252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7886880" y="10396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F1A3-A95F-43A2-BD82-5D5F8CAE06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509480" y="3654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478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1081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471760" y="3954600"/>
            <a:ext cx="3589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353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971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5752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91968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782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184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0220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62560" y="3954600"/>
            <a:ext cx="361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436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4780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35360" y="4106880"/>
            <a:ext cx="1084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19680" y="4106880"/>
            <a:ext cx="1082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4’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0220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1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747800" y="3801960"/>
            <a:ext cx="1082880" cy="152280"/>
            <a:chOff x="1747800" y="3801960"/>
            <a:chExt cx="1082880" cy="152280"/>
          </a:xfrm>
        </p:grpSpPr>
        <p:sp>
          <p:nvSpPr>
            <p:cNvPr id="323" name=""/>
            <p:cNvSpPr/>
            <p:nvPr/>
          </p:nvSpPr>
          <p:spPr>
            <a:xfrm>
              <a:off x="17478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1747800" y="3858840"/>
              <a:ext cx="1082880" cy="90360"/>
              <a:chOff x="1747800" y="3858840"/>
              <a:chExt cx="1082880" cy="90360"/>
            </a:xfrm>
          </p:grpSpPr>
          <p:sp>
            <p:nvSpPr>
              <p:cNvPr id="325" name=""/>
              <p:cNvSpPr/>
              <p:nvPr/>
            </p:nvSpPr>
            <p:spPr>
              <a:xfrm>
                <a:off x="17478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3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91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99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8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63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3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414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49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80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663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47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830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2835360" y="3801960"/>
            <a:ext cx="1084320" cy="152280"/>
            <a:chOff x="2835360" y="3801960"/>
            <a:chExt cx="1084320" cy="152280"/>
          </a:xfrm>
        </p:grpSpPr>
        <p:sp>
          <p:nvSpPr>
            <p:cNvPr id="340" name=""/>
            <p:cNvSpPr/>
            <p:nvPr/>
          </p:nvSpPr>
          <p:spPr>
            <a:xfrm>
              <a:off x="28353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835360" y="3858840"/>
              <a:ext cx="1084320" cy="90360"/>
              <a:chOff x="2835360" y="3858840"/>
              <a:chExt cx="1084320" cy="90360"/>
            </a:xfrm>
          </p:grpSpPr>
          <p:sp>
            <p:nvSpPr>
              <p:cNvPr id="342" name=""/>
              <p:cNvSpPr/>
              <p:nvPr/>
            </p:nvSpPr>
            <p:spPr>
              <a:xfrm>
                <a:off x="28353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91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002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85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68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522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335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18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502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585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669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752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836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19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6" name=""/>
          <p:cNvGrpSpPr/>
          <p:nvPr/>
        </p:nvGrpSpPr>
        <p:grpSpPr>
          <a:xfrm>
            <a:off x="3919680" y="3801960"/>
            <a:ext cx="1082520" cy="152280"/>
            <a:chOff x="3919680" y="3801960"/>
            <a:chExt cx="1082520" cy="152280"/>
          </a:xfrm>
        </p:grpSpPr>
        <p:sp>
          <p:nvSpPr>
            <p:cNvPr id="357" name=""/>
            <p:cNvSpPr/>
            <p:nvPr/>
          </p:nvSpPr>
          <p:spPr>
            <a:xfrm>
              <a:off x="391968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3919680" y="3858840"/>
              <a:ext cx="1082520" cy="90360"/>
              <a:chOff x="3919680" y="3858840"/>
              <a:chExt cx="1082520" cy="90360"/>
            </a:xfrm>
          </p:grpSpPr>
          <p:sp>
            <p:nvSpPr>
              <p:cNvPr id="359" name=""/>
              <p:cNvSpPr/>
              <p:nvPr/>
            </p:nvSpPr>
            <p:spPr>
              <a:xfrm>
                <a:off x="391968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002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086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169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252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35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19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50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58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668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52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835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918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002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3" name=""/>
          <p:cNvGrpSpPr/>
          <p:nvPr/>
        </p:nvGrpSpPr>
        <p:grpSpPr>
          <a:xfrm>
            <a:off x="5002200" y="3801960"/>
            <a:ext cx="1085760" cy="152280"/>
            <a:chOff x="5002200" y="3801960"/>
            <a:chExt cx="1085760" cy="152280"/>
          </a:xfrm>
        </p:grpSpPr>
        <p:sp>
          <p:nvSpPr>
            <p:cNvPr id="374" name=""/>
            <p:cNvSpPr/>
            <p:nvPr/>
          </p:nvSpPr>
          <p:spPr>
            <a:xfrm>
              <a:off x="500220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5002200" y="3858840"/>
              <a:ext cx="1085760" cy="90360"/>
              <a:chOff x="5002200" y="3858840"/>
              <a:chExt cx="1085760" cy="90360"/>
            </a:xfrm>
          </p:grpSpPr>
          <p:sp>
            <p:nvSpPr>
              <p:cNvPr id="376" name=""/>
              <p:cNvSpPr/>
              <p:nvPr/>
            </p:nvSpPr>
            <p:spPr>
              <a:xfrm>
                <a:off x="500220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85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688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2527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3359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194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03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86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670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753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370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920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004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087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261360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018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815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67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8796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48320" y="3954600"/>
            <a:ext cx="3603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08680" y="3954600"/>
            <a:ext cx="3621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7084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u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34440" y="3954600"/>
            <a:ext cx="3585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93000" y="3954600"/>
            <a:ext cx="363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87960" y="4106880"/>
            <a:ext cx="10828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2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170840" y="4106880"/>
            <a:ext cx="108576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Q3’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87960" y="3801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087960" y="3801960"/>
            <a:ext cx="1082880" cy="152280"/>
            <a:chOff x="6087960" y="3801960"/>
            <a:chExt cx="1082880" cy="152280"/>
          </a:xfrm>
        </p:grpSpPr>
        <p:sp>
          <p:nvSpPr>
            <p:cNvPr id="404" name=""/>
            <p:cNvSpPr/>
            <p:nvPr/>
          </p:nvSpPr>
          <p:spPr>
            <a:xfrm>
              <a:off x="608796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087960" y="3858840"/>
              <a:ext cx="1082880" cy="90360"/>
              <a:chOff x="6087960" y="3858840"/>
              <a:chExt cx="1082880" cy="90360"/>
            </a:xfrm>
          </p:grpSpPr>
          <p:sp>
            <p:nvSpPr>
              <p:cNvPr id="406" name=""/>
              <p:cNvSpPr/>
              <p:nvPr/>
            </p:nvSpPr>
            <p:spPr>
              <a:xfrm>
                <a:off x="608796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71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2542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337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420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04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87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70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54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8374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206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38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873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7084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0" name=""/>
          <p:cNvGrpSpPr/>
          <p:nvPr/>
        </p:nvGrpSpPr>
        <p:grpSpPr>
          <a:xfrm>
            <a:off x="7170840" y="3801960"/>
            <a:ext cx="1085760" cy="152280"/>
            <a:chOff x="7170840" y="3801960"/>
            <a:chExt cx="1085760" cy="152280"/>
          </a:xfrm>
        </p:grpSpPr>
        <p:sp>
          <p:nvSpPr>
            <p:cNvPr id="421" name=""/>
            <p:cNvSpPr/>
            <p:nvPr/>
          </p:nvSpPr>
          <p:spPr>
            <a:xfrm>
              <a:off x="7170840" y="380196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7170840" y="3858840"/>
              <a:ext cx="1085760" cy="90360"/>
              <a:chOff x="7170840" y="3858840"/>
              <a:chExt cx="1085760" cy="90360"/>
            </a:xfrm>
          </p:grpSpPr>
          <p:sp>
            <p:nvSpPr>
              <p:cNvPr id="423" name=""/>
              <p:cNvSpPr/>
              <p:nvPr/>
            </p:nvSpPr>
            <p:spPr>
              <a:xfrm>
                <a:off x="7170840" y="385884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43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375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14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5045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5880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719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7551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8390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92216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00568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0892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17272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256600" y="3863880"/>
                <a:ext cx="0" cy="8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7" name=""/>
          <p:cNvSpPr/>
          <p:nvPr/>
        </p:nvSpPr>
        <p:spPr>
          <a:xfrm>
            <a:off x="695628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041320" y="3649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98600" y="5649840"/>
            <a:ext cx="14904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77720" y="5925960"/>
            <a:ext cx="193680" cy="152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09760" y="5367240"/>
            <a:ext cx="12996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12840" y="2286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 Black"/>
              </a:rPr>
              <a:t>Updated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Timelin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3" name=""/>
          <p:cNvSpPr/>
          <p:nvPr/>
        </p:nvSpPr>
        <p:spPr>
          <a:xfrm>
            <a:off x="1066680" y="1193760"/>
            <a:ext cx="4013280" cy="835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July, 2002: IBIS 4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pt., 2003: ICM 1.0 appro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54080" y="2187720"/>
            <a:ext cx="152640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pec Activ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4400" y="3654360"/>
            <a:ext cx="1279800" cy="604800"/>
            <a:chOff x="464400" y="3654360"/>
            <a:chExt cx="1279800" cy="604800"/>
          </a:xfrm>
        </p:grpSpPr>
        <p:sp>
          <p:nvSpPr>
            <p:cNvPr id="446" name=""/>
            <p:cNvSpPr/>
            <p:nvPr/>
          </p:nvSpPr>
          <p:spPr>
            <a:xfrm>
              <a:off x="464400" y="3654360"/>
              <a:ext cx="250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7080" y="3954240"/>
              <a:ext cx="35820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J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25640" y="3954240"/>
              <a:ext cx="36144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387440" y="3954240"/>
              <a:ext cx="35676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67080" y="4106880"/>
              <a:ext cx="10771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Q1’0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667080" y="3801960"/>
              <a:ext cx="1077120" cy="152280"/>
              <a:chOff x="667080" y="3801960"/>
              <a:chExt cx="1077120" cy="152280"/>
            </a:xfrm>
          </p:grpSpPr>
          <p:sp>
            <p:nvSpPr>
              <p:cNvPr id="452" name=""/>
              <p:cNvSpPr/>
              <p:nvPr/>
            </p:nvSpPr>
            <p:spPr>
              <a:xfrm>
                <a:off x="667080" y="380196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67080" y="3858840"/>
                <a:ext cx="1077120" cy="90360"/>
                <a:chOff x="667080" y="3858840"/>
                <a:chExt cx="1077120" cy="903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67080" y="385884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98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832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9154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9982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10810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1164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124668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3298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126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4954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5782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66104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1744200" y="3863880"/>
                  <a:ext cx="0" cy="8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8" name=""/>
          <p:cNvSpPr/>
          <p:nvPr/>
        </p:nvSpPr>
        <p:spPr>
          <a:xfrm>
            <a:off x="627120" y="270972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981000" y="315720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267080" y="2662200"/>
            <a:ext cx="619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4597560" y="30906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10720" y="558792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ignCon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48440" y="5318280"/>
            <a:ext cx="56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3200" y="58896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CB E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13280" y="430848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8280" y="429408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51600" y="2684520"/>
            <a:ext cx="669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527800" y="3136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662360" y="3141720"/>
            <a:ext cx="6573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pos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127480" y="354816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047600" y="4294080"/>
            <a:ext cx="149400" cy="15264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827680" y="4309920"/>
            <a:ext cx="130320" cy="152640"/>
          </a:xfrm>
          <a:prstGeom prst="rect">
            <a:avLst/>
          </a:prstGeom>
          <a:solidFill>
            <a:srgbClr val="deece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57760" y="3137040"/>
            <a:ext cx="733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6148440" y="35618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494400" y="313200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1.</a:t>
            </a:r>
            <a:r>
              <a:rPr b="0" lang="en-US" sz="9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883560" y="355140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261200" y="3137040"/>
            <a:ext cx="7462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CM Cookboo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635960" y="3541680"/>
            <a:ext cx="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42160" y="2690640"/>
            <a:ext cx="669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rov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67600" y="310968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238960" y="4338720"/>
            <a:ext cx="193680" cy="152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9080" y="50245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61880" y="501336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556000" y="4289400"/>
            <a:ext cx="22356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57200" y="4097160"/>
            <a:ext cx="80056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2200" y="3807000"/>
            <a:ext cx="3240" cy="4935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15040" y="4303800"/>
            <a:ext cx="149040" cy="152280"/>
          </a:xfrm>
          <a:prstGeom prst="ellipse">
            <a:avLst/>
          </a:prstGeom>
          <a:solidFill>
            <a:srgbClr val="ffcc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89680" y="4289400"/>
            <a:ext cx="223920" cy="201600"/>
          </a:xfrm>
          <a:prstGeom prst="star5">
            <a:avLst/>
          </a:prstGeom>
          <a:solidFill>
            <a:srgbClr val="00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951520" y="5275440"/>
            <a:ext cx="101736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mm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69920" y="5265720"/>
            <a:ext cx="2674080" cy="3988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-Roadshows on 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38840" y="4572000"/>
            <a:ext cx="139680" cy="239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0680" y="4683240"/>
            <a:ext cx="139680" cy="239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16480" y="46990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BIS Summit Tok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49360" y="2897280"/>
            <a:ext cx="2813040" cy="14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65200" y="2693880"/>
            <a:ext cx="992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IS 4.1 Pars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6705720" y="169920"/>
            <a:ext cx="1833480" cy="219528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7886880" y="102708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3984480" y="2297160"/>
            <a:ext cx="1800" cy="1469880"/>
          </a:xfrm>
          <a:prstGeom prst="line">
            <a:avLst/>
          </a:prstGeom>
          <a:ln w="7632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D89-46FB-4B4C-8C0F-56C511D83C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647640" y="4051440"/>
            <a:ext cx="8004240" cy="95724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95200" y="37836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pecial Thanks…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76280" y="1347480"/>
            <a:ext cx="843912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BIS Officers &amp; Advi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ed Huq, Vice-Chair &amp; Webm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y Wolff,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b Ross, Postmaster &amp; Parser Cont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ce Wang, Librar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04640" y="5237280"/>
            <a:ext cx="83091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The Open Forum is deeply appreciative to the people above, who help “make IBIS happe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6705720" y="198360"/>
            <a:ext cx="1833480" cy="219564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7886880" y="1055520"/>
            <a:ext cx="1257120" cy="13003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906480" y="4133880"/>
            <a:ext cx="76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nd of course to our IBIS members and parser license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5121-2BA1-4827-8A45-9AB557E103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4-09-28T05:50:32Z</dcterms:modified>
  <cp:revision>123</cp:revision>
  <dc:subject>Update at 2004 PCB East Summit</dc:subject>
  <dc:title>IBIS Chair's Report and Roadmap Update</dc:title>
</cp:coreProperties>
</file>