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4044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5320" y="163656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65556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4044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5320" y="3502440"/>
            <a:ext cx="255672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55200" y="225000"/>
            <a:ext cx="814572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4640" y="350244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4640" y="1636560"/>
            <a:ext cx="387504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55560" y="3502440"/>
            <a:ext cx="7940880" cy="1703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 fontScale="97000"/>
          </a:bodyPr>
          <a:p>
            <a:pPr marL="229320" indent="-2293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72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8668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164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56640">
              <a:lnSpc>
                <a:spcPct val="95000"/>
              </a:lnSpc>
              <a:spcBef>
                <a:spcPts val="1500"/>
              </a:spcBef>
              <a:buClr>
                <a:srgbClr val="000000"/>
              </a:buClr>
              <a:buFont typeface="Arial"/>
              <a:buChar char="»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6362730C-106E-48F9-9D82-F8E557B5097E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24301B27-539A-4EC8-873F-D3B3CF1B8665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002BC637-F27B-4ECD-BFB6-348E312E3AE7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1874160" y="663408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© 2004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76320" y="6466320"/>
            <a:ext cx="1828800" cy="35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Using the IBIS Quality Checkli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398520" y="1273320"/>
            <a:ext cx="1216080" cy="650880"/>
            <a:chOff x="398520" y="1273320"/>
            <a:chExt cx="1216080" cy="650880"/>
          </a:xfrm>
        </p:grpSpPr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98520" y="1273320"/>
              <a:ext cx="1216080" cy="650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398520" y="1273320"/>
              <a:ext cx="1216080" cy="650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6" name=""/>
          <p:cNvSpPr/>
          <p:nvPr/>
        </p:nvSpPr>
        <p:spPr>
          <a:xfrm>
            <a:off x="0" y="2205000"/>
            <a:ext cx="9144000" cy="4653000"/>
          </a:xfrm>
          <a:prstGeom prst="rect">
            <a:avLst/>
          </a:prstGeom>
          <a:solidFill>
            <a:srgbClr val="dce4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720" rIns="72720" tIns="36360" bIns="36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420560" y="2779200"/>
            <a:ext cx="6949800" cy="830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417880" y="6603480"/>
            <a:ext cx="68760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EA822023-236E-4D38-A9F1-5FF46BEEC6E1}" type="slidenum">
              <a:rPr b="0" lang="en-US" sz="9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874160" y="6634080"/>
            <a:ext cx="2001240" cy="18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700" spc="-1" strike="noStrike">
                <a:solidFill>
                  <a:srgbClr val="808080"/>
                </a:solidFill>
                <a:latin typeface="Arial"/>
              </a:rPr>
              <a:t>© 2004 Cisco Systems, Inc. All rights reserved.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6562080"/>
            <a:ext cx="1904760" cy="21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 anchorCtr="1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900" spc="-1" strike="noStrike">
                <a:solidFill>
                  <a:srgbClr val="808080"/>
                </a:solidFill>
                <a:latin typeface="Arial"/>
              </a:rPr>
              <a:t>Using the IBIS Quality Checklis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-6480" y="2039760"/>
            <a:ext cx="9147240" cy="243000"/>
          </a:xfrm>
          <a:custGeom>
            <a:avLst/>
            <a:gdLst/>
            <a:ahLst/>
            <a:rect l="l" t="t" r="r" b="b"/>
            <a:pathLst>
              <a:path w="5762" h="153">
                <a:moveTo>
                  <a:pt x="0" y="153"/>
                </a:moveTo>
                <a:lnTo>
                  <a:pt x="0" y="72"/>
                </a:lnTo>
                <a:lnTo>
                  <a:pt x="3846" y="71"/>
                </a:lnTo>
                <a:lnTo>
                  <a:pt x="3913" y="0"/>
                </a:lnTo>
                <a:lnTo>
                  <a:pt x="5762" y="0"/>
                </a:lnTo>
                <a:lnTo>
                  <a:pt x="5761" y="153"/>
                </a:lnTo>
                <a:lnTo>
                  <a:pt x="0" y="153"/>
                </a:lnTo>
                <a:close/>
              </a:path>
            </a:pathLst>
          </a:cu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720" rIns="72720" tIns="36360" bIns="36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lnSpc>
                <a:spcPct val="95000"/>
              </a:lnSpc>
              <a:spcBef>
                <a:spcPts val="1250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54240" algn="ctr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604880" algn="ctr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60488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5.pn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20560" y="2779200"/>
            <a:ext cx="6949800" cy="8305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ing the IBIS Quality Checklis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434960" y="3740040"/>
            <a:ext cx="7261200" cy="4190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ke LaBonte, Cisco System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IS Open Forum Summ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 October 2004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861840" y="914400"/>
            <a:ext cx="4621320" cy="5410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2" name=""/>
          <p:cNvGraphicFramePr/>
          <p:nvPr/>
        </p:nvGraphicFramePr>
        <p:xfrm>
          <a:off x="4038480" y="3392640"/>
          <a:ext cx="4637160" cy="1407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038480" y="3392640"/>
                    <a:ext cx="4637160" cy="140796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838080" y="6019920"/>
            <a:ext cx="2514600" cy="304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838080" y="3352320"/>
            <a:ext cx="3200400" cy="2667240"/>
          </a:xfrm>
          <a:prstGeom prst="line">
            <a:avLst/>
          </a:prstGeom>
          <a:ln w="1908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3352680" y="4876560"/>
            <a:ext cx="5410440" cy="1447560"/>
          </a:xfrm>
          <a:prstGeom prst="line">
            <a:avLst/>
          </a:prstGeom>
          <a:ln w="1908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28600" y="1486080"/>
          <a:ext cx="5276880" cy="1409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1486080"/>
                    <a:ext cx="5276880" cy="140940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 rot="16200000">
            <a:off x="2747880" y="2671560"/>
            <a:ext cx="2209680" cy="2048040"/>
          </a:xfrm>
          <a:custGeom>
            <a:avLst/>
            <a:gdLst>
              <a:gd name="textAreaLeft" fmla="*/ 0 w 2209680"/>
              <a:gd name="textAreaRight" fmla="*/ 2210040 w 2209680"/>
              <a:gd name="textAreaTop" fmla="*/ 0 h 2048040"/>
              <a:gd name="textAreaBottom" fmla="*/ 2048400 h 2048040"/>
            </a:gdLst>
            <a:ahLst/>
            <a:rect l="textAreaLeft" t="textAreaTop" r="textAreaRight" b="textAreaBottom"/>
            <a:pathLst>
              <a:path w="21600" h="21600">
                <a:moveTo>
                  <a:pt x="10890" y="16889"/>
                </a:moveTo>
                <a:arcTo wR="-6090" hR="-6090" stAng="5349199" swAng="-5349199"/>
                <a:lnTo>
                  <a:pt x="0" y="10800"/>
                </a:lnTo>
                <a:arcTo wR="10800" hR="10800" stAng="10800000" swAng="5349199"/>
                <a:lnTo>
                  <a:pt x="10601" y="-2699"/>
                </a:lnTo>
                <a:lnTo>
                  <a:pt x="15730" y="2281"/>
                </a:lnTo>
                <a:lnTo>
                  <a:pt x="10750" y="7410"/>
                </a:lnTo>
                <a:close/>
              </a:path>
            </a:pathLst>
          </a:custGeom>
          <a:noFill/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53676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Q Checklist has multiple shee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715000" y="1142640"/>
            <a:ext cx="3276720" cy="1981080"/>
          </a:xfrm>
          <a:prstGeom prst="rect">
            <a:avLst/>
          </a:prstGeom>
          <a:solidFill>
            <a:srgbClr val="ffffff"/>
          </a:solidFill>
          <a:ln w="1908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heet for each Component and Mod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py and rename as need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eck the [Component]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228600" y="1371600"/>
          <a:ext cx="526428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371600"/>
                    <a:ext cx="526428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1949400" y="2066760"/>
          <a:ext cx="6432480" cy="4181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49400" y="2066760"/>
                    <a:ext cx="6432480" cy="418176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37" name=""/>
          <p:cNvSpPr/>
          <p:nvPr/>
        </p:nvSpPr>
        <p:spPr>
          <a:xfrm>
            <a:off x="3657600" y="1905120"/>
            <a:ext cx="1295280" cy="76176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895480"/>
            <a:ext cx="1066680" cy="320040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943600" y="1143000"/>
            <a:ext cx="2819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19920" y="1218960"/>
            <a:ext cx="2666880" cy="160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l in the na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N/A for irrelevant item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" y="1143000"/>
            <a:ext cx="8077320" cy="259092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3962520"/>
            <a:ext cx="8077320" cy="2133360"/>
          </a:xfrm>
          <a:prstGeom prst="rect">
            <a:avLst/>
          </a:prstGeom>
          <a:solidFill>
            <a:srgbClr val="99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38080" y="2819520"/>
            <a:ext cx="7269120" cy="740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[Pin] must not use the same Model for two pins if their electrical performance diff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mon error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33520" y="1219320"/>
          <a:ext cx="7848360" cy="142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219320"/>
                    <a:ext cx="7848360" cy="142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7" name=""/>
          <p:cNvGraphicFramePr/>
          <p:nvPr/>
        </p:nvGraphicFramePr>
        <p:xfrm>
          <a:off x="533520" y="4038480"/>
          <a:ext cx="7848360" cy="930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4038480"/>
                    <a:ext cx="7848360" cy="9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"/>
          <p:cNvSpPr/>
          <p:nvPr/>
        </p:nvSpPr>
        <p:spPr>
          <a:xfrm>
            <a:off x="838080" y="5181480"/>
            <a:ext cx="7269120" cy="74052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ample: [Pin] must not have pin name “A02” if the datasheet has “A2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380880" y="1343160"/>
          <a:ext cx="6629400" cy="384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343160"/>
                    <a:ext cx="6629400" cy="38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1981080" y="2028960"/>
          <a:ext cx="6239160" cy="4143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2028960"/>
                    <a:ext cx="6239160" cy="414324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eck the [Model]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657600" y="1905120"/>
            <a:ext cx="1295280" cy="76176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133720" y="2895480"/>
            <a:ext cx="1066680" cy="320040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1143000"/>
            <a:ext cx="281952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spAutoFit/>
          </a:bodyPr>
          <a:p>
            <a:pPr>
              <a:lnSpc>
                <a:spcPct val="90000"/>
              </a:lnSpc>
              <a:spcBef>
                <a:spcPts val="1874"/>
              </a:spcBef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19920" y="1218960"/>
            <a:ext cx="2666880" cy="1600200"/>
          </a:xfrm>
          <a:prstGeom prst="rect">
            <a:avLst/>
          </a:prstGeom>
          <a:solidFill>
            <a:srgbClr val="ffffff"/>
          </a:solidFill>
          <a:ln w="1908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ll in the na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N/A for irrelevant items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g. Vinl and Vinh for an Outpu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About IQ level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55560" y="3249360"/>
            <a:ext cx="7940880" cy="22366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SSes LEVEL 0 check for reasonable C_comp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rectness not checked by any mea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ummary LEVEL is highest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checked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is a LEVEL 0 model (at bes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36680" y="1447920"/>
          <a:ext cx="8173800" cy="1344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6680" y="1447920"/>
                    <a:ext cx="8173800" cy="13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3" name=""/>
          <p:cNvSpPr/>
          <p:nvPr/>
        </p:nvSpPr>
        <p:spPr>
          <a:xfrm>
            <a:off x="1066680" y="1676520"/>
            <a:ext cx="7086600" cy="91440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228600" y="1533600"/>
          <a:ext cx="3400560" cy="67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33600"/>
                    <a:ext cx="340056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ummarize IQ level on each she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04920" y="4114440"/>
            <a:ext cx="3504960" cy="1523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…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d again on the Summary she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e overall IQ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80880" y="2057400"/>
          <a:ext cx="3343320" cy="695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2057400"/>
                    <a:ext cx="3343320" cy="69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33520" y="2581200"/>
          <a:ext cx="3343320" cy="695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520" y="2581200"/>
                    <a:ext cx="334332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2" name=""/>
          <p:cNvGraphicFramePr/>
          <p:nvPr/>
        </p:nvGraphicFramePr>
        <p:xfrm>
          <a:off x="685800" y="3133800"/>
          <a:ext cx="3343320" cy="676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85800" y="3133800"/>
                    <a:ext cx="3343320" cy="67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4105440" y="1214280"/>
          <a:ext cx="4657680" cy="44294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7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05440" y="1214280"/>
                    <a:ext cx="4657680" cy="44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"/>
          <p:cNvSpPr/>
          <p:nvPr/>
        </p:nvSpPr>
        <p:spPr>
          <a:xfrm rot="20679000">
            <a:off x="2133720" y="1599840"/>
            <a:ext cx="533160" cy="23623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38680" y="3352680"/>
            <a:ext cx="3276720" cy="1676520"/>
          </a:xfrm>
          <a:prstGeom prst="ellipse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py spreadsheet conten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28840" y="1219320"/>
            <a:ext cx="3567240" cy="137160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7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lect all |IQ lines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ke sure every copied line has the |IQ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75000"/>
              </a:lnSpc>
              <a:spcBef>
                <a:spcPts val="125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clipboard Cop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57200" y="1219320"/>
          <a:ext cx="428472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219320"/>
                    <a:ext cx="428472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2" name=""/>
          <p:cNvGraphicFramePr/>
          <p:nvPr/>
        </p:nvGraphicFramePr>
        <p:xfrm>
          <a:off x="5105520" y="2733840"/>
          <a:ext cx="3352680" cy="2939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2733840"/>
                    <a:ext cx="3352680" cy="29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4" name=""/>
          <p:cNvSpPr/>
          <p:nvPr/>
        </p:nvSpPr>
        <p:spPr>
          <a:xfrm>
            <a:off x="5105520" y="3733920"/>
            <a:ext cx="1143000" cy="99036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2819520"/>
            <a:ext cx="1828800" cy="838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3816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issing |IQ 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Paste into the IBIS fil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762120" y="1219320"/>
          <a:ext cx="585936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19320"/>
                    <a:ext cx="585936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409720" y="1636200"/>
            <a:ext cx="3186360" cy="2783160"/>
          </a:xfrm>
          <a:prstGeom prst="rect">
            <a:avLst/>
          </a:prstGeom>
          <a:solidFill>
            <a:srgbClr val="ffffff"/>
          </a:solidFill>
          <a:ln w="1908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 [Notes] is a good lo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ISCHK the file again, to guard against tabs and lines exceeding 80 charact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checks require a curve viewer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74680" y="1219320"/>
          <a:ext cx="8564400" cy="5333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4680" y="1219320"/>
                    <a:ext cx="8564400" cy="533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3" name=""/>
          <p:cNvGraphicFramePr/>
          <p:nvPr/>
        </p:nvGraphicFramePr>
        <p:xfrm>
          <a:off x="2438280" y="4819680"/>
          <a:ext cx="6477120" cy="81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438280" y="4819680"/>
                    <a:ext cx="6477120" cy="81900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5" name=""/>
          <p:cNvGraphicFramePr/>
          <p:nvPr/>
        </p:nvGraphicFramePr>
        <p:xfrm>
          <a:off x="380880" y="1219320"/>
          <a:ext cx="8382240" cy="5181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219320"/>
                    <a:ext cx="8382240" cy="518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ome checks require combined I/V table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1295280" y="1905120"/>
          <a:ext cx="6629400" cy="93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905120"/>
                    <a:ext cx="6629400" cy="93168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BIS Quality Subcommitte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Q Purpose: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 Maker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produce IBIS files that users tru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del Users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eive IBIS file that wor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IS Quality Specifica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sisoft.com/ibis-quality/docs/IQ_specification.tx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8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BIS Quality Checklis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8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sisoft.com/ibis-quality/docs/IQ_checklist.x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8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specification is needed to understand checklist item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We need your feedback !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t the IQ Checklist Kit and try it yourself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ttp://www.sisoft.com/ibis-quality/docs/IQ_checklist_kit.zi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t us know what needs to chang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nd checked IBIS files back to the vend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ow can we get a checker program written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 algn="ctr">
              <a:lnSpc>
                <a:spcPct val="95000"/>
              </a:lnSpc>
              <a:spcBef>
                <a:spcPts val="150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k your vendors to send you IBIS files with IQ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0">
              <a:lnSpc>
                <a:spcPct val="95000"/>
              </a:lnSpc>
              <a:spcBef>
                <a:spcPts val="1250"/>
              </a:spcBef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Overview of using the IQ Checklis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55560" y="1636560"/>
            <a:ext cx="7940880" cy="357192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hat you need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BIS fi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Q Checklist spreadsheet (copy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IQ Spec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bischk3 or ibischk4 pr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>
              <a:lnSpc>
                <a:spcPct val="95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–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IBIS file viewer that display I/V and V/T curv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8640" y="225000"/>
            <a:ext cx="814536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Start with a blank IQ Checklist spreadsheet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52680" y="1265400"/>
          <a:ext cx="4551480" cy="498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52680" y="1265400"/>
                    <a:ext cx="4551480" cy="49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8" name=""/>
          <p:cNvGraphicFramePr/>
          <p:nvPr/>
        </p:nvGraphicFramePr>
        <p:xfrm>
          <a:off x="1469880" y="1636560"/>
          <a:ext cx="6310440" cy="357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69880" y="1636560"/>
                    <a:ext cx="6310440" cy="357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Fill in basic information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295280" y="3200400"/>
            <a:ext cx="4572000" cy="130644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Run IBISCHK on the IBIS fil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952520" y="1636200"/>
            <a:ext cx="3886200" cy="2173320"/>
          </a:xfrm>
          <a:prstGeom prst="rect">
            <a:avLst/>
          </a:prstGeom>
          <a:solidFill>
            <a:srgbClr val="ffffff"/>
          </a:solidFill>
          <a:ln w="19080">
            <a:solidFill>
              <a:srgbClr val="9999cc"/>
            </a:solidFill>
            <a:miter/>
          </a:ln>
          <a:effectLst>
            <a:outerShdw dist="107932" dir="2700000" blurRad="0" rotWithShape="0">
              <a:srgbClr val="000000">
                <a:alpha val="50000"/>
              </a:srgbClr>
            </a:outerShdw>
          </a:effectLst>
        </p:spPr>
        <p:txBody>
          <a:bodyPr lIns="82080" rIns="82080" tIns="41040" bIns="41040" anchor="t">
            <a:normAutofit/>
          </a:bodyPr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 the latest IBISCHK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5000"/>
              </a:lnSpc>
              <a:spcBef>
                <a:spcPts val="1500"/>
              </a:spcBef>
              <a:buClr>
                <a:srgbClr val="339999"/>
              </a:buClr>
              <a:buFont typeface="Arial"/>
              <a:buChar char="•"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hange [IBIS ver] in the file to match the IBISCHK use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6520" indent="0">
              <a:lnSpc>
                <a:spcPct val="95000"/>
              </a:lnSpc>
              <a:spcBef>
                <a:spcPts val="1500"/>
              </a:spcBef>
              <a:buNone/>
              <a:tabLst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593640" y="3932280"/>
          <a:ext cx="7940880" cy="18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3640" y="3932280"/>
                    <a:ext cx="7940880" cy="18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609480" y="1752480"/>
            <a:ext cx="4095720" cy="5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655560" y="1793880"/>
          <a:ext cx="7940880" cy="264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1793880"/>
                    <a:ext cx="7940880" cy="264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Enter the ibischk results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80880" y="1447920"/>
            <a:ext cx="4876920" cy="144756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5800" y="3733920"/>
            <a:ext cx="1828800" cy="60948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Use the IQ Specification as a reference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371600" y="1295280"/>
          <a:ext cx="6599160" cy="4829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295280"/>
                    <a:ext cx="6599160" cy="48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04920" y="1295280"/>
          <a:ext cx="7940520" cy="2913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295280"/>
                    <a:ext cx="7940520" cy="291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55200" y="225000"/>
            <a:ext cx="8145720" cy="83844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heck each IBIS file header item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2057400" y="3311640"/>
          <a:ext cx="6781680" cy="2708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057400" y="3311640"/>
                    <a:ext cx="6781680" cy="2708280"/>
                  </a:xfrm>
                  <a:prstGeom prst="rect">
                    <a:avLst/>
                  </a:prstGeom>
                  <a:ln w="19080">
                    <a:solidFill>
                      <a:srgbClr val="9999cc"/>
                    </a:solidFill>
                    <a:miter/>
                  </a:ln>
                  <a:effectLst>
                    <a:outerShdw dist="107932" dir="2700000" blurRad="0" rotWithShape="0">
                      <a:srgbClr val="000000">
                        <a:alpha val="50000"/>
                      </a:srgbClr>
                    </a:outerShdw>
                  </a:effectLst>
                </p:spPr>
              </p:pic>
            </p:oleObj>
          </a:graphicData>
        </a:graphic>
      </p:graphicFrame>
      <p:sp>
        <p:nvSpPr>
          <p:cNvPr id="120" name=""/>
          <p:cNvSpPr/>
          <p:nvPr/>
        </p:nvSpPr>
        <p:spPr>
          <a:xfrm>
            <a:off x="2438280" y="4419720"/>
            <a:ext cx="838440" cy="1523880"/>
          </a:xfrm>
          <a:prstGeom prst="ellipse">
            <a:avLst/>
          </a:prstGeom>
          <a:noFill/>
          <a:ln w="7632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1T14:01:38Z</dcterms:created>
  <dc:creator>Mike LaBonte</dc:creator>
  <dc:description/>
  <dc:language>en-US</dc:language>
  <cp:lastModifiedBy>Mike LaBonte</cp:lastModifiedBy>
  <dcterms:modified xsi:type="dcterms:W3CDTF">2004-09-23T19:48:40Z</dcterms:modified>
  <cp:revision>21</cp:revision>
  <dc:subject/>
  <dc:title>Using the IBIS Quality Checklist</dc:title>
</cp:coreProperties>
</file>