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95560" y="0"/>
            <a:ext cx="298008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702280"/>
            <a:ext cx="297972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95560" y="8702280"/>
            <a:ext cx="2980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108A1A-2411-456D-AE75-4C13A2FDE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Afternoon (morning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Bob Haller Principal Consultant for Si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oft is a SI  EDA Software and Si consulting services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will present a tour of the ibis quality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renamed from IBIS Quality Docu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written a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ontains levels and appropriat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an example ibis file an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the practicality of performing th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would like some Semiconductor Vend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odel Makers in general to try and implemen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is encouraged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dditional information availab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BIS quality created specific quality levels to distinguish different levels of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ith IBIS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section recently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8BE7-28E0-4B4C-B1CB-0B601AC62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205A-B604-46B1-9395-607E5D75A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6C9B-1179-4CB6-8D47-ABC2CFC8D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2973-127D-4341-AD9F-6A1B64CD6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4AB-664E-464A-A599-6BC8344655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BED-5689-42CF-BCDA-A36B846F0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3CC-653E-4141-915D-8F890DA8F9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B1E-0033-49A5-BF6A-80C4D72BA3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939-573B-49CB-9763-5FB931CEF5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7F4-0DE5-402A-90F0-7B89CED323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E8D-F5D6-40B6-BC2B-D993D4DFE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DA20-0808-4422-AB26-B18CB48B2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4C6-1330-4EFF-876F-1515728AD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7AD-2C97-4766-8B52-93D028297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89C-5412-47FC-AFB8-E0A11AC9C4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DE1-2F49-44C9-957A-E5F8F802B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7F7-5B52-43DC-B76A-03B5F6683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8AB-57CB-426E-AC50-98E1B67EC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85D4-692D-4B8C-B196-74F7DE2AF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60BA-3082-4F98-9AFE-2235202BE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0AFE-2450-4F7E-AC69-5D9D29A02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7AF0-F2C3-422B-9E59-C229AE4DF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C19D-C3F7-4C97-927B-A7F5D8B46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654D-657F-411D-9D1E-E03042D99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141360" y="6267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EC3-E066-4C24-ABDA-7E2077B68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91F-8478-42D9-A60B-0E406FE5F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isoft.com/ibis-quality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59280"/>
            <a:ext cx="9144000" cy="13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Arial Narrow"/>
              </a:rPr>
              <a:t>Can IBIS Accurately Model SSO ? 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Arial Narrow"/>
              </a:rPr>
              <a:t>PCB East IBIS Summit Oct 4, 2004</a:t>
            </a:r>
            <a:endParaRPr b="0" lang="en-US" sz="4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5760" y="45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obert Haller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haller@sisoft.com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Signal Integrity Software, Inc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6 Clock Tower Place – Suite 25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Maynard MA. 01754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978-461-0449 X 1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0" name="IBIS%20BrianA" descr=""/>
          <p:cNvPicPr/>
          <p:nvPr/>
        </p:nvPicPr>
        <p:blipFill>
          <a:blip r:embed="rId2"/>
          <a:stretch/>
        </p:blipFill>
        <p:spPr>
          <a:xfrm>
            <a:off x="2859120" y="272880"/>
            <a:ext cx="3666960" cy="293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Summary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Can IBIS model SSO 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ometim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On-die power network (decoupling) critica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Buyer bewa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Are IT tables the answer 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learly current is an issu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ork for another day…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Additional Resource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Plug for the IBIS Quality Committee !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Q_Specification.txt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Q_Example.i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Q_Checklist.x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Mailing lis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bis-quality@freelists.or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http://www.freelists.org/archives/ibis-qual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Web s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ccff"/>
                </a:solidFill>
                <a:uFillTx/>
                <a:latin typeface="Arial Narrow"/>
                <a:hlinkClick r:id="rId2"/>
              </a:rPr>
              <a:t>http://www.sisoft.com/ibis-qual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http://www.sisoft.com/ibis-quality/do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Questions 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Can IBIS Accurately Model SSO ?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ometimes 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ssues Inclu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Accurate IBIS mod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Accurate Package mod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at does Simulator do with crossover current 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Voltage/Current on IO  Pin can be correc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Voltage/Current on Power Node ?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Voltage/Current on Ground Node ?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Do we need IT tables 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dded complex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y be difficult to bench characteriz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ains required current inform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What Is SSO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Two major contributors to Simultaneous Switching Output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Inductance in Power/Ground of Package causes rails collaps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Coupling in Package Signal path can also cause pull-in or push-out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sso" descr=""/>
          <p:cNvPicPr/>
          <p:nvPr/>
        </p:nvPicPr>
        <p:blipFill>
          <a:blip r:embed="rId2"/>
          <a:stretch/>
        </p:blipFill>
        <p:spPr>
          <a:xfrm>
            <a:off x="1557360" y="2519280"/>
            <a:ext cx="57499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A Simple Circui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for_bob1" descr=""/>
          <p:cNvPicPr/>
          <p:nvPr/>
        </p:nvPicPr>
        <p:blipFill>
          <a:blip r:embed="rId2"/>
          <a:stretch/>
        </p:blipFill>
        <p:spPr>
          <a:xfrm>
            <a:off x="638280" y="1876320"/>
            <a:ext cx="7556400" cy="36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Voltage - Pin of I/O Buffer</a:t>
            </a:r>
            <a:br>
              <a:rPr sz="3200"/>
            </a:br>
            <a:r>
              <a:rPr b="0" lang="en-GB" sz="2000" spc="-1" strike="noStrike">
                <a:solidFill>
                  <a:srgbClr val="e5ffff"/>
                </a:solidFill>
                <a:latin typeface="Arial Narrow"/>
              </a:rPr>
              <a:t>IBIS versus Spice</a:t>
            </a: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1" name="ih_vpin" descr=""/>
          <p:cNvPicPr/>
          <p:nvPr/>
        </p:nvPicPr>
        <p:blipFill>
          <a:blip r:embed="rId2"/>
          <a:stretch/>
        </p:blipFill>
        <p:spPr>
          <a:xfrm>
            <a:off x="4678200" y="2305080"/>
            <a:ext cx="4326120" cy="3521160"/>
          </a:xfrm>
          <a:prstGeom prst="rect">
            <a:avLst/>
          </a:prstGeom>
          <a:ln w="0">
            <a:noFill/>
          </a:ln>
        </p:spPr>
      </p:pic>
      <p:pic>
        <p:nvPicPr>
          <p:cNvPr id="102" name="ih2_vpin" descr=""/>
          <p:cNvPicPr/>
          <p:nvPr/>
        </p:nvPicPr>
        <p:blipFill>
          <a:blip r:embed="rId3"/>
          <a:stretch/>
        </p:blipFill>
        <p:spPr>
          <a:xfrm>
            <a:off x="190440" y="2305080"/>
            <a:ext cx="433404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Current - Pin of I/O Buffer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ih_ipin" descr=""/>
          <p:cNvPicPr/>
          <p:nvPr/>
        </p:nvPicPr>
        <p:blipFill>
          <a:blip r:embed="rId2"/>
          <a:stretch/>
        </p:blipFill>
        <p:spPr>
          <a:xfrm>
            <a:off x="4602240" y="2089080"/>
            <a:ext cx="4478400" cy="3645000"/>
          </a:xfrm>
          <a:prstGeom prst="rect">
            <a:avLst/>
          </a:prstGeom>
          <a:ln w="0">
            <a:noFill/>
          </a:ln>
        </p:spPr>
      </p:pic>
      <p:pic>
        <p:nvPicPr>
          <p:cNvPr id="106" name="ih2_ipin" descr=""/>
          <p:cNvPicPr/>
          <p:nvPr/>
        </p:nvPicPr>
        <p:blipFill>
          <a:blip r:embed="rId3"/>
          <a:stretch/>
        </p:blipFill>
        <p:spPr>
          <a:xfrm>
            <a:off x="76320" y="2122560"/>
            <a:ext cx="4413240" cy="359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Current - Power Node of I/O Buffer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9" name="ih_ipwr" descr=""/>
          <p:cNvPicPr/>
          <p:nvPr/>
        </p:nvPicPr>
        <p:blipFill>
          <a:blip r:embed="rId2"/>
          <a:stretch/>
        </p:blipFill>
        <p:spPr>
          <a:xfrm>
            <a:off x="4645080" y="2063880"/>
            <a:ext cx="4400640" cy="3581280"/>
          </a:xfrm>
          <a:prstGeom prst="rect">
            <a:avLst/>
          </a:prstGeom>
          <a:ln w="0">
            <a:noFill/>
          </a:ln>
        </p:spPr>
      </p:pic>
      <p:pic>
        <p:nvPicPr>
          <p:cNvPr id="110" name="ih2_ipwr" descr=""/>
          <p:cNvPicPr/>
          <p:nvPr/>
        </p:nvPicPr>
        <p:blipFill>
          <a:blip r:embed="rId3"/>
          <a:stretch/>
        </p:blipFill>
        <p:spPr>
          <a:xfrm>
            <a:off x="139680" y="2079720"/>
            <a:ext cx="4363920" cy="355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Current - Ground Node of I/O Buffer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3" name="ih_ignd" descr=""/>
          <p:cNvPicPr/>
          <p:nvPr/>
        </p:nvPicPr>
        <p:blipFill>
          <a:blip r:embed="rId2"/>
          <a:stretch/>
        </p:blipFill>
        <p:spPr>
          <a:xfrm>
            <a:off x="4645080" y="2155680"/>
            <a:ext cx="4335480" cy="3527640"/>
          </a:xfrm>
          <a:prstGeom prst="rect">
            <a:avLst/>
          </a:prstGeom>
          <a:ln w="0">
            <a:noFill/>
          </a:ln>
        </p:spPr>
      </p:pic>
      <p:pic>
        <p:nvPicPr>
          <p:cNvPr id="114" name="ih2_gnd" descr=""/>
          <p:cNvPicPr/>
          <p:nvPr/>
        </p:nvPicPr>
        <p:blipFill>
          <a:blip r:embed="rId3"/>
          <a:stretch/>
        </p:blipFill>
        <p:spPr>
          <a:xfrm>
            <a:off x="150840" y="2152800"/>
            <a:ext cx="4362480" cy="355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Arial Narrow"/>
              </a:rPr>
              <a:t>Complex SSO (SPICE simulation)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7" name="ih_complex" descr=""/>
          <p:cNvPicPr/>
          <p:nvPr/>
        </p:nvPicPr>
        <p:blipFill>
          <a:blip r:embed="rId2"/>
          <a:stretch/>
        </p:blipFill>
        <p:spPr>
          <a:xfrm>
            <a:off x="1674720" y="1289160"/>
            <a:ext cx="6089760" cy="495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6:46:21Z</dcterms:created>
  <dc:creator>Robert Haller</dc:creator>
  <dc:description/>
  <dc:language>en-US</dc:language>
  <cp:lastModifiedBy>Robert Haller</cp:lastModifiedBy>
  <dcterms:modified xsi:type="dcterms:W3CDTF">2004-10-04T13:46:39Z</dcterms:modified>
  <cp:revision>264</cp:revision>
  <dc:subject/>
  <dc:title>SS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6878831</vt:r8>
  </property>
  <property fmtid="{D5CDD505-2E9C-101B-9397-08002B2CF9AE}" pid="3" name="_AuthorEmail">
    <vt:lpwstr>whayden@sisoft.com</vt:lpwstr>
  </property>
  <property fmtid="{D5CDD505-2E9C-101B-9397-08002B2CF9AE}" pid="4" name="_AuthorEmailDisplayName">
    <vt:lpwstr>Warren Hayden</vt:lpwstr>
  </property>
  <property fmtid="{D5CDD505-2E9C-101B-9397-08002B2CF9AE}" pid="5" name="_EmailSubject">
    <vt:lpwstr>template.ppt</vt:lpwstr>
  </property>
</Properties>
</file>