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26A-E37C-462F-9C1F-731B603A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18C-CFDB-4CFB-A504-3EFE5D31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A0F-F73D-41B8-99EA-DC19C8D9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0D2-815C-4CFB-8083-8BA2211E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AE01-9545-4B06-96D9-85AB9F7A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D5DE-A20D-441E-9B95-56D97193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404E-0751-49EB-BF3F-F6FA26F0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D5C2-A8AB-4A11-930D-CAF872EF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335-DFEF-4614-8EB9-90A8E027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A331-C1FF-40A7-B64C-833F18B0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0D4C-4FF3-4565-81AC-01D72D65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96E-426C-4103-8941-7E385210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50C2-A421-4BE3-B18C-CDCC698C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8942-BAEA-43FF-90A7-199C56C6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29A8-5A03-405E-8AB3-A63325A8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DA67-7B40-4037-BEC7-7B559737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E2FE-7DE8-4D5C-868D-1954DF0A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5FD-943C-49F3-9730-5D3AF13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DCD-A21C-4C3F-820F-837AD178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0359-0AE1-477A-80A7-30D3809F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39B-C81F-4C6B-A92E-08B51415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7EB-6D20-4B7C-BE91-BAEA2AA0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605-5E6A-4E33-88E0-D2D74EA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7A5-3D66-4310-B38B-E204956F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FC1B-8FE0-4D5D-B8E4-1AD962989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1040" y="644688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0D63-6038-401A-95A4-787273EA4F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209680" cy="334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872A-4DBE-4D9A-BE2A-0C11536B8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1040" y="6446880"/>
            <a:ext cx="1055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2240" y="6400800"/>
            <a:ext cx="79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EBB2-CFE2-4F42-B14D-D2254AE9D17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04920"/>
            <a:ext cx="0" cy="6095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04920"/>
            <a:ext cx="800100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71800" y="4172040"/>
            <a:ext cx="313704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ce.ncsu.edu/erl/ibis/s2ibis3/s2ibis3.h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2IB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st, Present and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49528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rish Varm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varma@ncsu.ed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0481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ctober 21,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.Fu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cromodeling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76320" y="2514600"/>
            <a:ext cx="7529400" cy="2832120"/>
            <a:chOff x="-76320" y="2514600"/>
            <a:chExt cx="7529400" cy="2832120"/>
          </a:xfrm>
        </p:grpSpPr>
        <p:grpSp>
          <p:nvGrpSpPr>
            <p:cNvPr id="137" name=""/>
            <p:cNvGrpSpPr/>
            <p:nvPr/>
          </p:nvGrpSpPr>
          <p:grpSpPr>
            <a:xfrm>
              <a:off x="-76320" y="2514600"/>
              <a:ext cx="6468840" cy="2374920"/>
              <a:chOff x="-76320" y="2514600"/>
              <a:chExt cx="6468840" cy="2374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-76320" y="2514600"/>
                <a:ext cx="5072040" cy="2374920"/>
                <a:chOff x="-76320" y="2514600"/>
                <a:chExt cx="5072040" cy="23749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-76320" y="3225960"/>
                  <a:ext cx="4038840" cy="166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dbaf57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71320" y="3822840"/>
                  <a:ext cx="635040" cy="3556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359000" y="4152960"/>
                  <a:ext cx="635040" cy="35568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71520" y="4534200"/>
                  <a:ext cx="635040" cy="355320"/>
                </a:xfrm>
                <a:prstGeom prst="rect">
                  <a:avLst/>
                </a:prstGeom>
                <a:solidFill>
                  <a:srgbClr val="cc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 txBox="1"/>
                <p:nvPr/>
              </p:nvSpPr>
              <p:spPr>
                <a:xfrm>
                  <a:off x="1709640" y="2514600"/>
                  <a:ext cx="3286080" cy="8636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SlantUp">
                    <a:avLst>
                      <a:gd name="adj" fmla="val 55556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Macromodel 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 Black"/>
                    </a:rPr>
                    <a:t>Core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  <a:ea typeface="Arial Black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962160" y="4378320"/>
                <a:ext cx="754200" cy="360360"/>
                <a:chOff x="3962160" y="4378320"/>
                <a:chExt cx="754200" cy="3603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962160" y="4378320"/>
                  <a:ext cx="754200" cy="3603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162320" y="4674960"/>
                  <a:ext cx="215640" cy="63720"/>
                </a:xfrm>
                <a:prstGeom prst="line">
                  <a:avLst/>
                </a:prstGeom>
                <a:ln w="9360">
                  <a:solidFill>
                    <a:srgbClr val="003300"/>
                  </a:solidFill>
                  <a:miter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416120" y="4547880"/>
                  <a:ext cx="216000" cy="63720"/>
                </a:xfrm>
                <a:prstGeom prst="line">
                  <a:avLst/>
                </a:prstGeom>
                <a:ln w="9360">
                  <a:solidFill>
                    <a:srgbClr val="003300"/>
                  </a:solidFill>
                  <a:miter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817880" y="3910320"/>
                <a:ext cx="754200" cy="360360"/>
                <a:chOff x="4817880" y="3910320"/>
                <a:chExt cx="754200" cy="36036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4817880" y="3910320"/>
                  <a:ext cx="754200" cy="3603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18040" y="4206960"/>
                  <a:ext cx="215640" cy="63720"/>
                </a:xfrm>
                <a:prstGeom prst="line">
                  <a:avLst/>
                </a:prstGeom>
                <a:ln w="9360">
                  <a:solidFill>
                    <a:srgbClr val="003300"/>
                  </a:solidFill>
                  <a:miter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271840" y="4079880"/>
                  <a:ext cx="216000" cy="63720"/>
                </a:xfrm>
                <a:prstGeom prst="line">
                  <a:avLst/>
                </a:prstGeom>
                <a:ln w="9360">
                  <a:solidFill>
                    <a:srgbClr val="003300"/>
                  </a:solidFill>
                  <a:miter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638680" y="3438720"/>
                <a:ext cx="753840" cy="360360"/>
                <a:chOff x="5638680" y="3438720"/>
                <a:chExt cx="753840" cy="36036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638680" y="3438720"/>
                  <a:ext cx="753840" cy="3603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38480" y="3735360"/>
                  <a:ext cx="215280" cy="63720"/>
                </a:xfrm>
                <a:prstGeom prst="line">
                  <a:avLst/>
                </a:prstGeom>
                <a:ln w="9360">
                  <a:solidFill>
                    <a:srgbClr val="003300"/>
                  </a:solidFill>
                  <a:miter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92280" y="3608280"/>
                  <a:ext cx="215640" cy="63720"/>
                </a:xfrm>
                <a:prstGeom prst="line">
                  <a:avLst/>
                </a:prstGeom>
                <a:ln w="9360">
                  <a:solidFill>
                    <a:srgbClr val="003300"/>
                  </a:solidFill>
                  <a:miter/>
                  <a:tailEnd len="lg" type="oval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6308640" y="3543480"/>
              <a:ext cx="1144440" cy="558720"/>
              <a:chOff x="6308640" y="3543480"/>
              <a:chExt cx="1144440" cy="558720"/>
            </a:xfrm>
          </p:grpSpPr>
          <p:graphicFrame>
            <p:nvGraphicFramePr>
              <p:cNvPr id="157" name=""/>
              <p:cNvGraphicFramePr/>
              <p:nvPr/>
            </p:nvGraphicFramePr>
            <p:xfrm>
              <a:off x="6431040" y="3543480"/>
              <a:ext cx="936360" cy="5587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31040" y="3543480"/>
                        <a:ext cx="936360" cy="558720"/>
                      </a:xfrm>
                      <a:prstGeom prst="rect">
                        <a:avLst/>
                      </a:prstGeom>
                      <a:ln w="9360">
                        <a:solidFill>
                          <a:srgbClr val="ff99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pSp>
            <p:nvGrpSpPr>
              <p:cNvPr id="159" name=""/>
              <p:cNvGrpSpPr/>
              <p:nvPr/>
            </p:nvGrpSpPr>
            <p:grpSpPr>
              <a:xfrm>
                <a:off x="6308640" y="3576600"/>
                <a:ext cx="85680" cy="486000"/>
                <a:chOff x="6308640" y="3576600"/>
                <a:chExt cx="85680" cy="486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308640" y="4062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308640" y="40179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308640" y="39718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308640" y="3927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308640" y="38862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308640" y="38419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308640" y="37958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308640" y="37512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308640" y="3711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308640" y="36673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308640" y="36212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308640" y="3576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7367400" y="3576600"/>
                <a:ext cx="85680" cy="486000"/>
                <a:chOff x="7367400" y="3576600"/>
                <a:chExt cx="85680" cy="486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7367400" y="4062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367400" y="40179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67400" y="39718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367400" y="3927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367400" y="38862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67400" y="38419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67400" y="37958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67400" y="37512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67400" y="3711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67400" y="36673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67400" y="36212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67400" y="35766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5610240" y="4165560"/>
              <a:ext cx="1144440" cy="558720"/>
              <a:chOff x="5610240" y="4165560"/>
              <a:chExt cx="1144440" cy="558720"/>
            </a:xfrm>
          </p:grpSpPr>
          <p:graphicFrame>
            <p:nvGraphicFramePr>
              <p:cNvPr id="186" name=""/>
              <p:cNvGraphicFramePr/>
              <p:nvPr/>
            </p:nvGraphicFramePr>
            <p:xfrm>
              <a:off x="5732640" y="4165560"/>
              <a:ext cx="936360" cy="558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732640" y="4165560"/>
                        <a:ext cx="936360" cy="558720"/>
                      </a:xfrm>
                      <a:prstGeom prst="rect">
                        <a:avLst/>
                      </a:prstGeom>
                      <a:ln w="9360">
                        <a:solidFill>
                          <a:srgbClr val="ff99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pSp>
            <p:nvGrpSpPr>
              <p:cNvPr id="188" name=""/>
              <p:cNvGrpSpPr/>
              <p:nvPr/>
            </p:nvGrpSpPr>
            <p:grpSpPr>
              <a:xfrm>
                <a:off x="5610240" y="4198680"/>
                <a:ext cx="85680" cy="486000"/>
                <a:chOff x="5610240" y="4198680"/>
                <a:chExt cx="85680" cy="486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610240" y="4684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610240" y="46400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610240" y="45939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610240" y="4549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610240" y="45082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610240" y="44640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10240" y="44179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10240" y="43732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10240" y="4333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610240" y="42894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610240" y="42433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610240" y="4198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9000" y="4198680"/>
                <a:ext cx="85680" cy="486000"/>
                <a:chOff x="6669000" y="4198680"/>
                <a:chExt cx="85680" cy="4860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9000" y="4684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669000" y="46400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669000" y="45939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669000" y="4549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69000" y="45082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669000" y="44640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669000" y="44179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669000" y="43732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669000" y="4333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669000" y="42894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669000" y="42433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669000" y="41986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683240" y="4788000"/>
              <a:ext cx="1144440" cy="558720"/>
              <a:chOff x="4683240" y="4788000"/>
              <a:chExt cx="1144440" cy="558720"/>
            </a:xfrm>
          </p:grpSpPr>
          <p:graphicFrame>
            <p:nvGraphicFramePr>
              <p:cNvPr id="215" name=""/>
              <p:cNvGraphicFramePr/>
              <p:nvPr/>
            </p:nvGraphicFramePr>
            <p:xfrm>
              <a:off x="4805640" y="4788000"/>
              <a:ext cx="936360" cy="558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1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05640" y="4788000"/>
                        <a:ext cx="936360" cy="558720"/>
                      </a:xfrm>
                      <a:prstGeom prst="rect">
                        <a:avLst/>
                      </a:prstGeom>
                      <a:ln w="9360">
                        <a:solidFill>
                          <a:srgbClr val="ff99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grpSp>
            <p:nvGrpSpPr>
              <p:cNvPr id="217" name=""/>
              <p:cNvGrpSpPr/>
              <p:nvPr/>
            </p:nvGrpSpPr>
            <p:grpSpPr>
              <a:xfrm>
                <a:off x="4683240" y="4821120"/>
                <a:ext cx="85680" cy="486000"/>
                <a:chOff x="4683240" y="4821120"/>
                <a:chExt cx="85680" cy="48600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683240" y="5307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683240" y="52624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683240" y="52164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3240" y="5172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683240" y="51307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683240" y="50864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83240" y="50403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683240" y="49957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83240" y="4956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683240" y="49118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683240" y="48657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683240" y="4821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742000" y="4821120"/>
                <a:ext cx="85680" cy="486000"/>
                <a:chOff x="5742000" y="4821120"/>
                <a:chExt cx="85680" cy="486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742000" y="5307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742000" y="526248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742000" y="521640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742000" y="5172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742000" y="51307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42000" y="50864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742000" y="50403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742000" y="49957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42000" y="4956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742000" y="491184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742000" y="486576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742000" y="4821120"/>
                  <a:ext cx="85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3" name=""/>
          <p:cNvGrpSpPr/>
          <p:nvPr/>
        </p:nvGrpSpPr>
        <p:grpSpPr>
          <a:xfrm>
            <a:off x="671400" y="4635360"/>
            <a:ext cx="1896480" cy="1152360"/>
            <a:chOff x="671400" y="4635360"/>
            <a:chExt cx="1896480" cy="1152360"/>
          </a:xfrm>
        </p:grpSpPr>
        <p:sp>
          <p:nvSpPr>
            <p:cNvPr id="244" name=""/>
            <p:cNvSpPr/>
            <p:nvPr/>
          </p:nvSpPr>
          <p:spPr>
            <a:xfrm rot="19829400">
              <a:off x="1765440" y="4824000"/>
              <a:ext cx="812520" cy="173160"/>
            </a:xfrm>
            <a:prstGeom prst="rightArrow">
              <a:avLst>
                <a:gd name="adj1" fmla="val 50000"/>
                <a:gd name="adj2" fmla="val 117308"/>
              </a:avLst>
            </a:prstGeom>
            <a:gradFill rotWithShape="0">
              <a:gsLst>
                <a:gs pos="0">
                  <a:srgbClr val="ffcc66"/>
                </a:gs>
                <a:gs pos="100000">
                  <a:srgbClr val="dbaf5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671400" y="5079600"/>
              <a:ext cx="1322280" cy="708120"/>
              <a:chOff x="671400" y="5079600"/>
              <a:chExt cx="1322280" cy="708120"/>
            </a:xfrm>
          </p:grpSpPr>
          <p:sp>
            <p:nvSpPr>
              <p:cNvPr id="246" name=""/>
              <p:cNvSpPr/>
              <p:nvPr/>
            </p:nvSpPr>
            <p:spPr>
              <a:xfrm>
                <a:off x="671400" y="5086440"/>
                <a:ext cx="1322280" cy="693720"/>
              </a:xfrm>
              <a:prstGeom prst="rect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dbaf57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 rot="1298400">
                <a:off x="1020600" y="5193000"/>
                <a:ext cx="707760" cy="480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9999"/>
                      </a:solidFill>
                      <a:miter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Times New Roman"/>
                  </a:rPr>
                  <a:t>IBIS</a:t>
                </a:r>
                <a:endParaRPr b="0" lang="en-US" sz="1200" spc="1" strike="noStrike">
                  <a:ln w="9360">
                    <a:solidFill>
                      <a:srgbClr val="009999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9360">
                      <a:solidFill>
                        <a:srgbClr val="009999"/>
                      </a:solidFill>
                      <a:miter/>
                    </a:ln>
                    <a:solidFill>
                      <a:srgbClr val="336699"/>
                    </a:solidFill>
                    <a:effectLst>
                      <a:outerShdw dist="40186" dir="1096358" blurRad="0" rotWithShape="0">
                        <a:srgbClr val="c0c0c0"/>
                      </a:outerShdw>
                    </a:effectLst>
                    <a:latin typeface="Times New Roman"/>
                  </a:rPr>
                  <a:t>MODEL</a:t>
                </a:r>
                <a:endParaRPr b="0" lang="en-US" sz="1200" spc="1" strike="noStrike">
                  <a:ln w="9360">
                    <a:solidFill>
                      <a:srgbClr val="009999"/>
                    </a:solidFill>
                    <a:miter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7626240" y="3429000"/>
            <a:ext cx="1371600" cy="3009960"/>
            <a:chOff x="7626240" y="3429000"/>
            <a:chExt cx="1371600" cy="3009960"/>
          </a:xfrm>
        </p:grpSpPr>
        <p:graphicFrame>
          <p:nvGraphicFramePr>
            <p:cNvPr id="249" name=""/>
            <p:cNvGraphicFramePr/>
            <p:nvPr/>
          </p:nvGraphicFramePr>
          <p:xfrm>
            <a:off x="7769160" y="3429000"/>
            <a:ext cx="1228680" cy="3009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5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69160" y="3429000"/>
                      <a:ext cx="1228680" cy="3009960"/>
                    </a:xfrm>
                    <a:prstGeom prst="rect">
                      <a:avLst/>
                    </a:prstGeom>
                    <a:ln w="9360">
                      <a:solidFill>
                        <a:srgbClr val="ff9900"/>
                      </a:solidFill>
                      <a:miter/>
                    </a:ln>
                  </p:spPr>
                </p:pic>
              </p:oleObj>
            </a:graphicData>
          </a:graphic>
        </p:graphicFrame>
        <p:grpSp>
          <p:nvGrpSpPr>
            <p:cNvPr id="251" name=""/>
            <p:cNvGrpSpPr/>
            <p:nvPr/>
          </p:nvGrpSpPr>
          <p:grpSpPr>
            <a:xfrm>
              <a:off x="7626240" y="5715000"/>
              <a:ext cx="85680" cy="485640"/>
              <a:chOff x="7626240" y="5715000"/>
              <a:chExt cx="85680" cy="485640"/>
            </a:xfrm>
          </p:grpSpPr>
          <p:sp>
            <p:nvSpPr>
              <p:cNvPr id="252" name=""/>
              <p:cNvSpPr/>
              <p:nvPr/>
            </p:nvSpPr>
            <p:spPr>
              <a:xfrm>
                <a:off x="7626240" y="62006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26240" y="61560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626240" y="61099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26240" y="60656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626240" y="60242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26240" y="59799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626240" y="59338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26240" y="58892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26240" y="58496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626240" y="58053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26240" y="57592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626240" y="57150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626240" y="5181480"/>
              <a:ext cx="85680" cy="486000"/>
              <a:chOff x="7626240" y="5181480"/>
              <a:chExt cx="85680" cy="486000"/>
            </a:xfrm>
          </p:grpSpPr>
          <p:sp>
            <p:nvSpPr>
              <p:cNvPr id="265" name=""/>
              <p:cNvSpPr/>
              <p:nvPr/>
            </p:nvSpPr>
            <p:spPr>
              <a:xfrm>
                <a:off x="7626240" y="56674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626240" y="56228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26240" y="55767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26240" y="55324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626240" y="54910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26240" y="54468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626240" y="54007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626240" y="53560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26240" y="53164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26240" y="52722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626240" y="52261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26240" y="51814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626240" y="4648320"/>
              <a:ext cx="85680" cy="485640"/>
              <a:chOff x="7626240" y="4648320"/>
              <a:chExt cx="85680" cy="485640"/>
            </a:xfrm>
          </p:grpSpPr>
          <p:sp>
            <p:nvSpPr>
              <p:cNvPr id="278" name=""/>
              <p:cNvSpPr/>
              <p:nvPr/>
            </p:nvSpPr>
            <p:spPr>
              <a:xfrm>
                <a:off x="7626240" y="51339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26240" y="50893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26240" y="50432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26240" y="49989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6240" y="49575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626240" y="49132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626240" y="48672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626240" y="48225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26240" y="47829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26240" y="47386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26240" y="46926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26240" y="46483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26240" y="4114800"/>
              <a:ext cx="85680" cy="485640"/>
              <a:chOff x="7626240" y="4114800"/>
              <a:chExt cx="85680" cy="48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7626240" y="46004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6240" y="45558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626240" y="45097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626240" y="44654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26240" y="4424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26240" y="43797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26240" y="43336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626240" y="42890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626240" y="42494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626240" y="42051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26240" y="41590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626240" y="41148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626240" y="3581280"/>
              <a:ext cx="85680" cy="486000"/>
              <a:chOff x="7626240" y="3581280"/>
              <a:chExt cx="85680" cy="486000"/>
            </a:xfrm>
          </p:grpSpPr>
          <p:sp>
            <p:nvSpPr>
              <p:cNvPr id="304" name=""/>
              <p:cNvSpPr/>
              <p:nvPr/>
            </p:nvSpPr>
            <p:spPr>
              <a:xfrm>
                <a:off x="7626240" y="40672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26240" y="402264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26240" y="397656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26240" y="39322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626240" y="38908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626240" y="38466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626240" y="38005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26240" y="37558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26240" y="37162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26240" y="36720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26240" y="362592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626240" y="358128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.Fu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oise Issue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>
            <a:lum bright="-6000"/>
          </a:blip>
          <a:srcRect l="8206" t="3296" r="13959" b="0"/>
          <a:stretch/>
        </p:blipFill>
        <p:spPr>
          <a:xfrm>
            <a:off x="609480" y="1981080"/>
            <a:ext cx="8153640" cy="448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380880" y="2895480"/>
            <a:ext cx="1905120" cy="60984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 in quit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mpleted s2ibis3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iting response from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ntend to validate research work with industry collaborator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est accuracy of models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st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ibis1, s2ib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pa Project ‘NeoCad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2ibis3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uture Work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more features to s2ibi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 issues (S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clusion</a:t>
            </a:r>
            <a:endParaRPr b="1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2ibis1 and s2ibis2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arpa Project ‘NeoCad’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200400" y="4343400"/>
            <a:ext cx="3581280" cy="1523880"/>
            <a:chOff x="3200400" y="4343400"/>
            <a:chExt cx="3581280" cy="1523880"/>
          </a:xfrm>
        </p:grpSpPr>
        <p:sp>
          <p:nvSpPr>
            <p:cNvPr id="100" name=""/>
            <p:cNvSpPr/>
            <p:nvPr/>
          </p:nvSpPr>
          <p:spPr>
            <a:xfrm>
              <a:off x="3225960" y="4343400"/>
              <a:ext cx="3555720" cy="152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286240" y="4363920"/>
              <a:ext cx="13716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006800" y="5155920"/>
              <a:ext cx="187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0400" y="4579920"/>
              <a:ext cx="2130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Verdana"/>
                  <a:ea typeface="Arial"/>
                </a:rPr>
                <a:t>Automated Design Tools for Integrated Mixed Signal Microsystems (NeoCA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2ibis3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e program runs on Windows, Unix,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 issue with h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s user to enter desired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needed for other simul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ex, Yacc for par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.s2ibis3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eyword Coverag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Series Mosfet] and all the related key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eries pin mapping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series switch groups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bright="-18000"/>
          </a:blip>
          <a:srcRect l="0" t="0" r="17857" b="0"/>
          <a:stretch/>
        </p:blipFill>
        <p:spPr>
          <a:xfrm>
            <a:off x="2743200" y="3581280"/>
            <a:ext cx="35053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.s2ibis3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ol flow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2819520"/>
            <a:ext cx="7848000" cy="2590200"/>
            <a:chOff x="762120" y="2819520"/>
            <a:chExt cx="7848000" cy="2590200"/>
          </a:xfrm>
        </p:grpSpPr>
        <p:sp>
          <p:nvSpPr>
            <p:cNvPr id="112" name=""/>
            <p:cNvSpPr/>
            <p:nvPr/>
          </p:nvSpPr>
          <p:spPr>
            <a:xfrm>
              <a:off x="762120" y="2820600"/>
              <a:ext cx="1523520" cy="83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2IB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and 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Header inform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omponent Descrip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2819520"/>
              <a:ext cx="144720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Extracts all releva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rom Command fi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95680" y="4038480"/>
              <a:ext cx="1442520" cy="76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HSPICE,PSPICE,SPICE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ICE3,SPECTR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8840" y="3657240"/>
              <a:ext cx="304560" cy="380880"/>
            </a:xfrm>
            <a:prstGeom prst="upDownArrow">
              <a:avLst>
                <a:gd name="adj1" fmla="val 50000"/>
                <a:gd name="adj2" fmla="val 2489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19360" y="2819520"/>
              <a:ext cx="152352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2IB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Calls Spice, analyzes da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nts resul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160" y="2819520"/>
              <a:ext cx="121896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BIS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4440" y="3124080"/>
              <a:ext cx="352080" cy="220320"/>
            </a:xfrm>
            <a:prstGeom prst="rightArrow">
              <a:avLst>
                <a:gd name="adj1" fmla="val 50000"/>
                <a:gd name="adj2" fmla="val 399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3240" y="4419360"/>
              <a:ext cx="352080" cy="220320"/>
            </a:xfrm>
            <a:prstGeom prst="rightArrow">
              <a:avLst>
                <a:gd name="adj1" fmla="val 50000"/>
                <a:gd name="adj2" fmla="val 399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2514240" y="3809880"/>
              <a:ext cx="1582560" cy="15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114440" y="4419360"/>
              <a:ext cx="358560" cy="151920"/>
            </a:xfrm>
            <a:prstGeom prst="rightArrow">
              <a:avLst>
                <a:gd name="adj1" fmla="val 50000"/>
                <a:gd name="adj2" fmla="val 5900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6298920" y="3911400"/>
              <a:ext cx="2311200" cy="1071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3" name=""/>
            <p:cNvSpPr/>
            <p:nvPr/>
          </p:nvSpPr>
          <p:spPr>
            <a:xfrm>
              <a:off x="6857640" y="3657240"/>
              <a:ext cx="228240" cy="242640"/>
            </a:xfrm>
            <a:prstGeom prst="downArrow">
              <a:avLst>
                <a:gd name="adj1" fmla="val 50000"/>
                <a:gd name="adj2" fmla="val 2657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5200" y="3124080"/>
              <a:ext cx="253800" cy="228240"/>
            </a:xfrm>
            <a:prstGeom prst="rightArrow">
              <a:avLst>
                <a:gd name="adj1" fmla="val 50000"/>
                <a:gd name="adj2" fmla="val 278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68800" y="3136680"/>
              <a:ext cx="253440" cy="228240"/>
            </a:xfrm>
            <a:prstGeom prst="rightArrow">
              <a:avLst>
                <a:gd name="adj1" fmla="val 50000"/>
                <a:gd name="adj2" fmla="val 277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99840" y="434304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ircuit Lay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.s2ibis3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vailable for download at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ce.ncsu.edu/erl/ibis/s2ibis3/s2ibis3.ht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3733920"/>
            <a:ext cx="4495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 version available curren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DK 1.4.1 needed to run s2ibis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back is needed to improve t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2ibis2 V s2ibis3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295280" y="1905120"/>
          <a:ext cx="6858000" cy="4081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0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2ibis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2ibis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2.1 and 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3.2, 2.1 and 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 hard to imp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 next 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por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able eas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Lex, Ya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s a command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s s2ibis2 like command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s multiple spice simulations from within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s multiple spice simulations from within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ore features to s2ibis3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to plot 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integration for automatic validation of the output IBIS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 for file and library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lex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sweep ran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between TYP, MIN and MAX process cor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4:43:44Z</dcterms:created>
  <dc:creator>Ambrish Varma</dc:creator>
  <dc:description/>
  <dc:language>en-US</dc:language>
  <cp:lastModifiedBy>Ambrish Varma</cp:lastModifiedBy>
  <dcterms:modified xsi:type="dcterms:W3CDTF">2003-10-16T05:55:33Z</dcterms:modified>
  <cp:revision>12</cp:revision>
  <dc:subject/>
  <dc:title>S2IBIS   Past, Present and 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12652972</vt:r8>
  </property>
  <property fmtid="{D5CDD505-2E9C-101B-9397-08002B2CF9AE}" pid="3" name="_AuthorEmail">
    <vt:lpwstr>akvarma@ncsu.edu</vt:lpwstr>
  </property>
  <property fmtid="{D5CDD505-2E9C-101B-9397-08002B2CF9AE}" pid="4" name="_AuthorEmailDisplayName">
    <vt:lpwstr>Ambrish Varma</vt:lpwstr>
  </property>
  <property fmtid="{D5CDD505-2E9C-101B-9397-08002B2CF9AE}" pid="5" name="_EmailSubject">
    <vt:lpwstr>Status</vt:lpwstr>
  </property>
</Properties>
</file>