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18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2"/>
          </p:nvPr>
        </p:nvSpPr>
        <p:spPr>
          <a:xfrm>
            <a:off x="38844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D3B9F9-18C2-475A-9ABC-141BA545E028}" type="datetime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1200" y="65412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2960" y="4334040"/>
            <a:ext cx="5032080" cy="4162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3"/>
          </p:nvPr>
        </p:nvSpPr>
        <p:spPr>
          <a:xfrm>
            <a:off x="-18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4"/>
          </p:nvPr>
        </p:nvSpPr>
        <p:spPr>
          <a:xfrm>
            <a:off x="38844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38B9D3-C95C-4FCD-85EA-241F8AEBA661}" type="slidenum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260844-CB48-4498-9DD2-34CE24637311}" type="slidenum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18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18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2E1696-F315-4862-A50B-DD4A99954031}" type="datetime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1600" y="6778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95320" y="4354200"/>
            <a:ext cx="508464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94114A-B3DB-4BB0-B5F1-6DC6DF4F4C39}" type="slidenum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1800" y="86515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18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6120"/>
            <a:ext cx="297468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B84CE0-7940-49CC-84B4-D5DDD50A4F61}" type="datetime">
              <a:rPr b="0" i="1" lang="en-US" sz="9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1600" y="6778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95320" y="4354200"/>
            <a:ext cx="508464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F837-AC2A-486D-8C2D-83A10EA7D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0F35-3050-4212-AB50-5ED8B3BC5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4CBE-5896-4CAF-88D7-E196A4EE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629A-AFA3-4D95-9E61-C44A228F5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E2F8-F59E-4E93-A5F3-19961A105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214B-CC01-48E6-BE9D-6E5077309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9A1A-8667-4D12-AB86-2F5C88D8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F466-B631-4EAF-9157-0C26245C9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9986-98DC-44C8-B849-F51F17548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BB42-5117-46FD-B292-A24FE1434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32C2-5129-40DF-A056-2CE4CDBBD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F9A0-4301-4574-A934-0C1A46E7A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14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907162-B95B-4966-AA6B-63E47290F6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pub/ibis/icm_ver1.0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09680" y="1371600"/>
          <a:ext cx="57150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715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8960" y="10663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CM Example Using a Semiconductor Device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Summit at PCB East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1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anks to Kelly Green for data testing ass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2D84-55E8-4498-9F3F-F22E34001D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168560"/>
            <a:ext cx="777240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Begin ICM Model] diff-two-pair-long-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Nodal Path Description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Die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A1 A2 A3 A4  11 12 13 14 ) Mult=1     wirebo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11 12 13 14  21 22 23 24 ) Len=4.0e-3 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21 22        31 32      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23 24        33 34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x1 x2      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x3 x4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B1 B2      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B3 B4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Ball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ICM Node Map] Die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pin node nam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 A1 Die_Pair1_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 A2 Die_Pair1_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 A3 Die_Pair2_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 A4 Die_Pair2_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ICM Node Map] Ball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pin node nam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1 B1 Ball_Pair1_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 B2 Ball_Pair1_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3 B3 Ball_Pair2_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 B4 Ball_Pair2_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 ICM Family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EF81-F65D-42F0-9BA8-AC9BDBF68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Begin ICM Section] TR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erivation Method] Distribut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Note - resistance and conductance data taken at 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esis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.88360411759953 0.1122120358629589 0.1122120358629535 0.11221203586295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.88360411759959 0.1122120358629578 0.112212035862969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.88360411759938 0.112212035863026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.8836041175994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762471117800315e-007  1.574556825167307e-007  4.166419413304077e-008  2.533102103479589e-0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746270568634125e-007  7.829217743956544e-008  4.167732136295897e-0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74695722999582e-007  1.575422041099422e-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764080626393532e-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apaci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13724568263412e-010 -3.699327364720182e-011  -3.195922952611326e-012  -1.703330485507162e-0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161253452991748e-010  -1.420237001727346e-011 -3.194945464961537e-0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160998680089507e-010 -3.698488552069936e-0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135869774794572e-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onductance Matrix] Diagona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End ICM Section] TR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940E-A43E-49F2-83EE-AB67FD9CD9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Begin ICM Section] platingb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Derivation Method] Distribu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Note - resistance and conductance data taken at D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esis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447272395548234 0.0615763546797993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.4472723955478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875774956956585e-007   1.453875900301228e-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876372566358464e-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Capaci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28751177567252e-010 -4.55112340759e-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28294743230235e-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Conductance Matrix] Diagona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ICM Section] platingb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F9F3-135E-4E22-8E71-6E9008152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Begin ICM Section] bal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Note - resistance and conductance data taken at D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esis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122974     5.92605e-00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12130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91849e-011     4.81629e-0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0174e-01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Capacitance Matrix] Ful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99986e-014    -5.64816e-0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.84177e-01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Conductance Matrix] Diagonal_matri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ICM Section] bal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7F97-A1E0-4DBC-AD3D-E945A61DE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977760" y="6261120"/>
            <a:ext cx="35942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Begin ICM Section] wireb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Note - resistance and conductance data taken at 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esis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357348   0.0153167 0.000203431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360486  0.00520121 0.000603478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358009   0.0157098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356194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.12277e-009     1.01577e-009     3.05886e-010     2.22836e-010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.02065e-009     4.47214e-010     2.93897e-010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.99636e-009     9.45824e-010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.01787e-009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apacitance Matrix] Ful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03601e-013    -1.28769e-013    -1.50353e-014    -8.75617e-015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19554e-013    -3.78802e-014    -1.42581e-014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16062e-013    -1.22606e-013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ow]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06634e-013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onductance Matrix] Diagonal_matri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End ICM Section] wireb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1595-B28E-4282-862D-4FC6A6ABDC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Begin ICM Section]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Note - resistance and conductance data taken at D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esistance Matrix] Full_matr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.00301846 0.000640491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.00304867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6.42506e-011     2.56352e-011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.96354e-011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Capacitance Matrix] Full_matr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.81705e-013    -8.01111e-014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ow]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4.89624e-013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Conductance Matrix] Diagonal_matr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 ICM Section]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7D66-FE01-49EE-8D1A-9E840D114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1.0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ach section can be independently mode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dal scheme used, the number of paths in each section does not need to match that of any other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upling can be represented directly per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-section coupling missing in IBIS PK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M is a major enhan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ductance is added as a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PKG RLC -&gt; ICM RLG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data format very cleanly converts other matrix data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can be scri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- vs. upper-half matrix format the only irri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CBFF-82A4-42A7-9373-83C160E33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as for Improv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equency Depen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present, all values taken at DC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values and equations can only be included using com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equency dependence using an additional subparameter would enable ICM to use tabular-frequenc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Matrix parameters for 1 MHz, 100 MHz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ing ICM with IBIS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d now that ICM&lt;-&gt;IBIS link handled by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 to [Alternate Package Model] and/or [Package Model] keywords could add link to I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additional subparameters to map ICM node/pin maps to IBIS [Pin] keywor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93A-05D1-4C29-93B6-C5DD58D32E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ata Iss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CM cookbook has been prop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mat, scripting, extraction ad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okbook may also need data checking recommend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um” frequency for data extraction appropriate to the interfa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parameters: appropriate bandwidth for extracted da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parameters: passivity may be an issue for data being used for transient sim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se checks are inappropriate to the golden syntax pars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68F9-7BDB-4E03-A07C-8DDC9A123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4D3E-2258-4ADB-B87B-1730DF8E59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GA Packag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ckage Modeling in IBIS 4.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4.x Package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ICM 1.0 Example Using a BGA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as for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ta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stions and Free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C9FD-F495-44DE-864A-9F02B4336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= IB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n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deling Spec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sion 1.0 approved September 12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l documents posted October 1, 200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da.org/pub/ibis/icm_ver1.0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velopment of a parser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e about 25% compl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pha test version expected early Nove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383E-E9E3-4E56-9850-8942303BD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1480" y="1104840"/>
            <a:ext cx="7632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ckage modeling: a direct application of IC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GA (Ball Grid Array) Packag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-par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wire (usually gold) – connects die pad to subs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e trace – routing path in subs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– connects trace to solder 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er ball – attach point for device to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ing par – stub left from separation of packages during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93120" y="1752480"/>
            <a:ext cx="4876920" cy="1486440"/>
            <a:chOff x="2193120" y="1752480"/>
            <a:chExt cx="4876920" cy="1486440"/>
          </a:xfrm>
        </p:grpSpPr>
        <p:grpSp>
          <p:nvGrpSpPr>
            <p:cNvPr id="128" name=""/>
            <p:cNvGrpSpPr/>
            <p:nvPr/>
          </p:nvGrpSpPr>
          <p:grpSpPr>
            <a:xfrm>
              <a:off x="3590280" y="1752480"/>
              <a:ext cx="3479760" cy="1020600"/>
              <a:chOff x="3590280" y="1752480"/>
              <a:chExt cx="3479760" cy="1020600"/>
            </a:xfrm>
          </p:grpSpPr>
          <p:sp>
            <p:nvSpPr>
              <p:cNvPr id="129" name=""/>
              <p:cNvSpPr/>
              <p:nvPr/>
            </p:nvSpPr>
            <p:spPr>
              <a:xfrm>
                <a:off x="4199040" y="1859760"/>
                <a:ext cx="1348560" cy="107280"/>
              </a:xfrm>
              <a:prstGeom prst="parallelogram">
                <a:avLst>
                  <a:gd name="adj" fmla="val 314262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21840" y="1859760"/>
                <a:ext cx="1348200" cy="107280"/>
              </a:xfrm>
              <a:prstGeom prst="parallelogram">
                <a:avLst>
                  <a:gd name="adj" fmla="val 314178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91520" y="2020680"/>
                <a:ext cx="86760" cy="429840"/>
              </a:xfrm>
              <a:prstGeom prst="can">
                <a:avLst>
                  <a:gd name="adj" fmla="val 25000"/>
                </a:avLst>
              </a:prstGeom>
              <a:solidFill>
                <a:srgbClr val="33cc33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73720" y="1913400"/>
                <a:ext cx="5220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34720" y="1913400"/>
                <a:ext cx="0" cy="1609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90280" y="1859760"/>
                <a:ext cx="783000" cy="107280"/>
              </a:xfrm>
              <a:prstGeom prst="parallelogram">
                <a:avLst>
                  <a:gd name="adj" fmla="val 318471"/>
                </a:avLst>
              </a:prstGeom>
              <a:solidFill>
                <a:srgbClr val="33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025160" y="1752480"/>
                <a:ext cx="434520" cy="321480"/>
                <a:chOff x="4025160" y="1752480"/>
                <a:chExt cx="434520" cy="321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025520" y="1752480"/>
                  <a:ext cx="434160" cy="32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4025160" y="1752480"/>
                  <a:ext cx="434160" cy="32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5547960" y="2558160"/>
                <a:ext cx="173880" cy="214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34720" y="2450880"/>
                <a:ext cx="0" cy="107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937600" y="1967400"/>
              <a:ext cx="3524040" cy="1020240"/>
              <a:chOff x="2937600" y="1967400"/>
              <a:chExt cx="3524040" cy="1020240"/>
            </a:xfrm>
          </p:grpSpPr>
          <p:sp>
            <p:nvSpPr>
              <p:cNvPr id="141" name=""/>
              <p:cNvSpPr/>
              <p:nvPr/>
            </p:nvSpPr>
            <p:spPr>
              <a:xfrm>
                <a:off x="4808520" y="2074680"/>
                <a:ext cx="1653120" cy="107280"/>
              </a:xfrm>
              <a:prstGeom prst="parallelogram">
                <a:avLst>
                  <a:gd name="adj" fmla="val 315108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937600" y="1967400"/>
                <a:ext cx="2044440" cy="1020240"/>
                <a:chOff x="2937600" y="1967400"/>
                <a:chExt cx="2044440" cy="1020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559680" y="2074680"/>
                  <a:ext cx="1066680" cy="107280"/>
                </a:xfrm>
                <a:prstGeom prst="parallelogram">
                  <a:avLst>
                    <a:gd name="adj" fmla="val 303812"/>
                  </a:avLst>
                </a:prstGeom>
                <a:solidFill>
                  <a:srgbClr val="ffcc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48880" y="212832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37600" y="2074680"/>
                  <a:ext cx="799920" cy="107280"/>
                </a:xfrm>
                <a:prstGeom prst="parallelogram">
                  <a:avLst>
                    <a:gd name="adj" fmla="val 325353"/>
                  </a:avLst>
                </a:prstGeom>
                <a:solidFill>
                  <a:srgbClr val="3399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382200" y="1967400"/>
                  <a:ext cx="443880" cy="321480"/>
                  <a:chOff x="3382200" y="1967400"/>
                  <a:chExt cx="443880" cy="3214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382560" y="1967400"/>
                    <a:ext cx="443520" cy="3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>
                    <a:off x="3382200" y="1967400"/>
                    <a:ext cx="443520" cy="3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4626720" y="2128320"/>
                  <a:ext cx="177840" cy="859320"/>
                  <a:chOff x="4626720" y="2128320"/>
                  <a:chExt cx="177840" cy="8593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671000" y="2235600"/>
                    <a:ext cx="88560" cy="4298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33cc33"/>
                  </a:solidFill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715280" y="2128320"/>
                    <a:ext cx="0" cy="1609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626720" y="2772720"/>
                    <a:ext cx="177840" cy="214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715280" y="2665440"/>
                    <a:ext cx="0" cy="1072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4" name=""/>
            <p:cNvGrpSpPr/>
            <p:nvPr/>
          </p:nvGrpSpPr>
          <p:grpSpPr>
            <a:xfrm>
              <a:off x="2193120" y="2119680"/>
              <a:ext cx="4135320" cy="1119240"/>
              <a:chOff x="2193120" y="2119680"/>
              <a:chExt cx="4135320" cy="1119240"/>
            </a:xfrm>
          </p:grpSpPr>
          <p:sp>
            <p:nvSpPr>
              <p:cNvPr id="155" name=""/>
              <p:cNvSpPr/>
              <p:nvPr/>
            </p:nvSpPr>
            <p:spPr>
              <a:xfrm>
                <a:off x="2890080" y="2289600"/>
                <a:ext cx="1348560" cy="107280"/>
              </a:xfrm>
              <a:prstGeom prst="parallelogram">
                <a:avLst>
                  <a:gd name="adj" fmla="val 314262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12160" y="2289600"/>
                <a:ext cx="1348560" cy="107280"/>
              </a:xfrm>
              <a:prstGeom prst="parallelogram">
                <a:avLst>
                  <a:gd name="adj" fmla="val 314262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81480" y="2450880"/>
                <a:ext cx="87480" cy="429480"/>
              </a:xfrm>
              <a:prstGeom prst="can">
                <a:avLst>
                  <a:gd name="adj" fmla="val 25000"/>
                </a:avLst>
              </a:prstGeom>
              <a:solidFill>
                <a:srgbClr val="33cc33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64400" y="2343240"/>
                <a:ext cx="5216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25400" y="2343240"/>
                <a:ext cx="0" cy="1609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80240" y="2289600"/>
                <a:ext cx="783720" cy="107280"/>
              </a:xfrm>
              <a:prstGeom prst="parallelogram">
                <a:avLst>
                  <a:gd name="adj" fmla="val 318764"/>
                </a:avLst>
              </a:prstGeom>
              <a:solidFill>
                <a:srgbClr val="33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2715840" y="2182320"/>
                <a:ext cx="434520" cy="321480"/>
                <a:chOff x="2715840" y="2182320"/>
                <a:chExt cx="434520" cy="3214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716200" y="2182320"/>
                  <a:ext cx="434160" cy="32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2715840" y="2182320"/>
                  <a:ext cx="434160" cy="32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238640" y="2987640"/>
                <a:ext cx="173160" cy="214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25400" y="2880360"/>
                <a:ext cx="0" cy="107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23800" y="254916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e p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93120" y="2119680"/>
                <a:ext cx="51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ond w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64680" y="2549160"/>
                <a:ext cx="697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ckage tr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79080" y="233352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lating b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00000" y="3086280"/>
                <a:ext cx="53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older b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65120" y="265572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GA Packa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30360" y="30067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drawing courtesy A. Murany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31920" y="343080"/>
            <a:ext cx="7912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ckage modeling in IBIS 4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1171440"/>
            <a:ext cx="739620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Package]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each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ypical (optionally minimum and maximum)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_pkg, L_pkg and C_p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Pin]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in can have a distinct R_pin, L_pin or C_pin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rides the values under the [Package] key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single value can be used (no corn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Package Model] key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ference an external file or [Define Package Model] within the same .IB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rides the values under the [Package] key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3472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hods possible curr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pled, single-lump RLC matrix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7160">
              <a:lnSpc>
                <a:spcPct val="10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full, banded, and sparse matrix formats avail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coupled multi-section description using RLC,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Alternate Package Model]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51080" y="5940360"/>
            <a:ext cx="726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Adapted from A. Muranyi, “Introduction to IBIS Models and IBIS Model Ma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9548-751A-4C56-A1EB-5823C9E4A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954760" y="1206360"/>
            <a:ext cx="2973240" cy="766440"/>
            <a:chOff x="5954760" y="1206360"/>
            <a:chExt cx="2973240" cy="766440"/>
          </a:xfrm>
        </p:grpSpPr>
        <p:sp>
          <p:nvSpPr>
            <p:cNvPr id="178" name=""/>
            <p:cNvSpPr/>
            <p:nvPr/>
          </p:nvSpPr>
          <p:spPr>
            <a:xfrm>
              <a:off x="6474960" y="1287000"/>
              <a:ext cx="1152000" cy="80640"/>
            </a:xfrm>
            <a:prstGeom prst="parallelogram">
              <a:avLst>
                <a:gd name="adj" fmla="val 357143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6000" y="1287000"/>
              <a:ext cx="1152000" cy="80640"/>
            </a:xfrm>
            <a:prstGeom prst="parallelogram">
              <a:avLst>
                <a:gd name="adj" fmla="val 357143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0" y="1407960"/>
              <a:ext cx="74160" cy="322920"/>
            </a:xfrm>
            <a:prstGeom prst="can">
              <a:avLst>
                <a:gd name="adj" fmla="val 25000"/>
              </a:avLst>
            </a:prstGeom>
            <a:solidFill>
              <a:srgbClr val="33cc33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78280" y="1327320"/>
              <a:ext cx="445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01480" y="1327320"/>
              <a:ext cx="0" cy="120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4760" y="1287000"/>
              <a:ext cx="668880" cy="80640"/>
            </a:xfrm>
            <a:prstGeom prst="parallelogram">
              <a:avLst>
                <a:gd name="adj" fmla="val 361930"/>
              </a:avLst>
            </a:prstGeom>
            <a:solidFill>
              <a:srgbClr val="33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325920" y="1206360"/>
              <a:ext cx="371880" cy="241560"/>
              <a:chOff x="6325920" y="1206360"/>
              <a:chExt cx="371880" cy="241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326640" y="1206360"/>
                <a:ext cx="371160" cy="24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6325560" y="1206360"/>
                <a:ext cx="371160" cy="24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627320" y="1811520"/>
              <a:ext cx="148680" cy="16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1480" y="1730880"/>
              <a:ext cx="0" cy="80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97480" y="1368360"/>
            <a:ext cx="3011400" cy="764640"/>
            <a:chOff x="5397480" y="1368360"/>
            <a:chExt cx="3011400" cy="764640"/>
          </a:xfrm>
        </p:grpSpPr>
        <p:sp>
          <p:nvSpPr>
            <p:cNvPr id="190" name=""/>
            <p:cNvSpPr/>
            <p:nvPr/>
          </p:nvSpPr>
          <p:spPr>
            <a:xfrm>
              <a:off x="6996240" y="1448640"/>
              <a:ext cx="1412640" cy="80640"/>
            </a:xfrm>
            <a:prstGeom prst="parallelogram">
              <a:avLst>
                <a:gd name="adj" fmla="val 358224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397480" y="1368360"/>
              <a:ext cx="1747080" cy="764640"/>
              <a:chOff x="5397480" y="1368360"/>
              <a:chExt cx="1747080" cy="764640"/>
            </a:xfrm>
          </p:grpSpPr>
          <p:sp>
            <p:nvSpPr>
              <p:cNvPr id="192" name=""/>
              <p:cNvSpPr/>
              <p:nvPr/>
            </p:nvSpPr>
            <p:spPr>
              <a:xfrm>
                <a:off x="5928840" y="1448640"/>
                <a:ext cx="911520" cy="80640"/>
              </a:xfrm>
              <a:prstGeom prst="parallelogram">
                <a:avLst>
                  <a:gd name="adj" fmla="val 345387"/>
                </a:avLst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88800" y="1488960"/>
                <a:ext cx="4557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97480" y="1448640"/>
                <a:ext cx="683640" cy="80640"/>
              </a:xfrm>
              <a:prstGeom prst="parallelogram">
                <a:avLst>
                  <a:gd name="adj" fmla="val 369917"/>
                </a:avLst>
              </a:prstGeom>
              <a:solidFill>
                <a:srgbClr val="33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777280" y="1368360"/>
                <a:ext cx="379080" cy="240840"/>
                <a:chOff x="5777280" y="1368360"/>
                <a:chExt cx="379080" cy="2408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777640" y="1368360"/>
                  <a:ext cx="378720" cy="24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777280" y="1368360"/>
                  <a:ext cx="378720" cy="24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840720" y="1488960"/>
                <a:ext cx="151920" cy="644040"/>
                <a:chOff x="6840720" y="1488960"/>
                <a:chExt cx="151920" cy="644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878520" y="1569240"/>
                  <a:ext cx="75960" cy="32220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cc33"/>
                </a:solidFill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16680" y="1488960"/>
                  <a:ext cx="0" cy="1206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840720" y="1972080"/>
                  <a:ext cx="151920" cy="1609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916680" y="1891800"/>
                  <a:ext cx="0" cy="802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3" name=""/>
          <p:cNvSpPr/>
          <p:nvPr/>
        </p:nvSpPr>
        <p:spPr>
          <a:xfrm>
            <a:off x="5357880" y="1609560"/>
            <a:ext cx="1152360" cy="81000"/>
          </a:xfrm>
          <a:prstGeom prst="parallelogram">
            <a:avLst>
              <a:gd name="adj" fmla="val 355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7840" y="1609560"/>
            <a:ext cx="1152720" cy="81000"/>
          </a:xfrm>
          <a:prstGeom prst="parallelogram">
            <a:avLst>
              <a:gd name="adj" fmla="val 355778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46960" y="1731960"/>
            <a:ext cx="74520" cy="32220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61200" y="1650960"/>
            <a:ext cx="4460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3320" y="1650960"/>
            <a:ext cx="0" cy="12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36960" y="1609560"/>
            <a:ext cx="669960" cy="81000"/>
          </a:xfrm>
          <a:prstGeom prst="parallelogram">
            <a:avLst>
              <a:gd name="adj" fmla="val 360904"/>
            </a:avLst>
          </a:prstGeom>
          <a:solidFill>
            <a:srgbClr val="33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208120" y="1530360"/>
            <a:ext cx="371880" cy="240840"/>
            <a:chOff x="5208120" y="1530360"/>
            <a:chExt cx="371880" cy="240840"/>
          </a:xfrm>
        </p:grpSpPr>
        <p:sp>
          <p:nvSpPr>
            <p:cNvPr id="210" name=""/>
            <p:cNvSpPr/>
            <p:nvPr/>
          </p:nvSpPr>
          <p:spPr>
            <a:xfrm>
              <a:off x="5208840" y="1530360"/>
              <a:ext cx="37116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207760" y="1530360"/>
              <a:ext cx="37116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510240" y="2133720"/>
            <a:ext cx="147600" cy="16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83320" y="2054160"/>
            <a:ext cx="0" cy="79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60360" y="17413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e 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13200" y="1317600"/>
            <a:ext cx="56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nd 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8360" y="180504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age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25680" y="164448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ting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32360" y="2206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der b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98920" y="189720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25360" y="1079640"/>
            <a:ext cx="36860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*********************************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Define Package Model] BGA exa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Manufacturer]         Noname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OEM]                  Noname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Description]          B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Number Of Sections]  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Number Of Pins]      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Pin Number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1 Len=0 R=0.160 L=5.0n /      | bond 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4.00 L=0.170n C=0.250p /   | package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80 L=0.200n C=0.100p / | plating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010 L=0.010n C=0.020p /  | v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 C=2.0p /                 | Bal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2 Len=0 R=0.160 L=5.0n /      | bond 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2.50 L=0.170n C=0.250p /   | package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80 L=0.200n C=0.100p / | plating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010 L=0.010n C=0.020p /  | v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 C=2.0p /                 | Ball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3 Len=0 R=0.160 L=5.0n /      | bond 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4.00 L=0.170n C=0.250p /   | package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80 L=0.200n C=0.100p / | plating 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.010 L=0.010n C=0.020p /  | v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en=0 C=2.0p /                 | Ball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40200" y="2403360"/>
            <a:ext cx="3973680" cy="3961440"/>
            <a:chOff x="4840200" y="2403360"/>
            <a:chExt cx="3973680" cy="3961440"/>
          </a:xfrm>
        </p:grpSpPr>
        <p:sp>
          <p:nvSpPr>
            <p:cNvPr id="222" name=""/>
            <p:cNvSpPr/>
            <p:nvPr/>
          </p:nvSpPr>
          <p:spPr>
            <a:xfrm>
              <a:off x="4907520" y="2463840"/>
              <a:ext cx="3193200" cy="39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 The resistance matrix for this package ha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 no coup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esistance Matrix]     Banded_matr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Bandwidth]            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Inductance Matrix]     Full_matr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3.04859e-07      4.73185e-08      1.3428e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3.04859e-07      4.73185e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3.04859e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Capacitance Matrix]    Sparse_matr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[Row]  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840200" y="2403360"/>
              <a:ext cx="3973680" cy="3505320"/>
              <a:chOff x="4840200" y="2403360"/>
              <a:chExt cx="3973680" cy="3505320"/>
            </a:xfrm>
          </p:grpSpPr>
          <p:sp>
            <p:nvSpPr>
              <p:cNvPr id="224" name=""/>
              <p:cNvSpPr/>
              <p:nvPr/>
            </p:nvSpPr>
            <p:spPr>
              <a:xfrm>
                <a:off x="4840200" y="2403360"/>
                <a:ext cx="0" cy="35053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40200" y="2403360"/>
                <a:ext cx="39736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4.x Packag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ump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GA device package, five-par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l interface, 9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. impe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LGC nodal structu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designed using Cadence* tools (MCM form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 data extracted using Ansoft* tools into lumped matrix and distributed HSPICE* W-element format (not tabular frequenc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s extracted as pairs or pair-of-pai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66B9-7C47-4457-93FD-EC74FCB2E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The following example corresponds to a BGA wirebond package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ICM Ver]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File Rev]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File Name]  bga_example.ic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ate]       10/15/200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Source]     From SPICE model da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Notes]      This is an example wirebond BGA package model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isclaimer] This model is provided as an example only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opyright]  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Support]    http://www.yourcompanyhere.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edistribution] Y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End Header]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Begin ICM Family]  Wirebond_Pack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Manufacturer]      Nona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ICM Family Description] A wirebond BGA package desig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ICM Model List]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Name                   Mating         Min_Slew_Time    Im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ff-two-pair-short-TRL   Mated          1000ps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ff-two-pair-mid-TRL     Mated          1000ps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ff-two-pair-long-TRL    Mated          1000ps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         wirebond   TRL   via     bal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Die_side &gt;--------&lt; &gt;---&lt; &gt;---&lt; &gt;--------&lt; Ball_sid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                              |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                              |platingbar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BEBB-DBA5-4EEB-ACFC-EF072D8775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ICM 1.0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*************************************************************************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Units below assumed to be met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Begin ICM Model] diff-two-pair-short-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Nodal Path Description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Die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A1 A2 A3 A4  11 12 13 14 ) Mult=1     wirebo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11 12 13 14  21 22 23 24 ) Len=1.0e-3 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21 22        31 32      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23 24        33 34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x1 x2      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x3 x4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B1 B2      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B3 B4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Ball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Begin ICM Model] diff-two-pair-mid-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Nodal Path Description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Die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A1 A2 A3 A4  11 12 13 14 ) Mult=1     wirebo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11 12 13 14  21 22 23 24 ) Len=2.5e-3 TR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21 22        31 32      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23 24        33 34 ) Mult=1     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x1 x2      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x3 x4 ) Len=1.0e-3 platingb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31 32        B1 B2      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_section (      33 34        B3 B4 ) Mult=1     b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el_nodemap Ball_si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8D0B-7623-477A-A275-DF3E3C61B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3-10-27T17:24:28Z</dcterms:modified>
  <cp:revision>554</cp:revision>
  <dc:subject>IBIS Interconnect Modeling Specification</dc:subject>
  <dc:title>An ICM Example of a Semiconductor Device Package</dc:title>
</cp:coreProperties>
</file>