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91A9-35D8-4BF1-8D87-86892611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D038-7C02-4A65-A1E8-846C9F99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347-B0BB-4623-BF34-93A0DFE9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CFC-A4E4-468B-9BDC-2EFC7DF0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6A11-DF45-4D4D-BBC7-B2DD040A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B9A8-BB1D-4221-B9C5-6A14E685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4C5C-6AE1-4DFE-A325-5B10C2DB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E55F-8FCB-42D0-85F5-E06FCA2C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8F74-3487-4193-9BDB-30C38AC4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67057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3464-7111-4B02-93F6-80B24620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69CB-4626-495D-AD32-AFBB2C8D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BF04-2F66-45C0-BF2C-D0A400DF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7258-EECA-4A4C-84AF-01D9D74F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C660-6A98-402F-8E6E-D202FCEB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9BBA-7BA9-42A2-B6FF-E4A24EAC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C58C-CE63-44CE-98FD-245AEBFE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55CB-CEDE-4D21-BB92-166B65A4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2F6-62E9-485E-AB47-6D2C6A31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449D-01CA-4EA8-B9D8-06BF5535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07D3-E498-456B-A4F4-3E48086E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67057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2BA-DF02-4767-88D9-42215650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AFA5-7897-4AB8-BDB6-84702CB9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7AC1-3E8D-43D0-8EF3-6E13A3DA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B7E-1490-4AF4-AE5C-2443EEC4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B East 2003 IBIS Summi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B9BE-C908-49D7-BA20-A682522FF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889280" cy="226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7920" y="774720"/>
            <a:ext cx="6248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0854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9369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flipH="1">
            <a:off x="228240" y="2590920"/>
            <a:ext cx="2730600" cy="3276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90920" y="13690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Chair’s Repor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352320" y="3048120"/>
            <a:ext cx="5410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Mirm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Co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B East 2003 IBIS Su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AB3C-6909-442C-ACB8-3F9D35A378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Today's Agend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s &amp; Welcoming Rema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Chair's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Quality Committee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User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IBIS3 - Past, Present and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CM Example Using a Semiconductor Device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 Keyword in IBIS 4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s on True Differential Buffer Characterization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Discussion and Ad Hoc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E46-B76C-4FFC-A75D-91258FE9F8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76720" y="5791320"/>
            <a:ext cx="3047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4.0 parser activities near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companies have purchased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4.0 features in code with one open BUG rem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ipating final code release before Dec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M 1.0 approved and annou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M parser under development by Kelly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a expected to become available for testing in early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 is still gr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ly added 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id organization for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Quality Committee continue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ation of accuracy and correlation unde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4.1 final review about to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technical clarifications 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reading” approval cycle begins at Oct. 24 Open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BIS is working to stay on the “leading edge” of technology and industr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240" y="60696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Status Updat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D31-AE6E-4A48-A616-F97F0CD865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048680"/>
            <a:ext cx="6705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Upcoming Challenge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en the pace of specifica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 all IBIS 4.1 work by January 1,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sure IBIS 4.2 documents for ANSI ballot before J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IBIS enhancements in the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kbook update to 4.0 is under way; incorporate Quality Committee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e 4.1 language extensions in trade pub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 widespread ICM ad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the ICM with a cookbook, example models and tool enab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 BIRD and BUG processes for ICM enhanc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international support and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 participation in European IBIS Sum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al for “Electronic Roadshow” to support Asia and Europe with presentations from US summit 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th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to offer value to our current members, while attracting new 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5791320"/>
            <a:ext cx="7239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As always, thank you for your suppor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85A-3468-44C1-83B4-1D6299383C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Michael Mirmak</dc:creator>
  <dc:description/>
  <dc:language>en-US</dc:language>
  <cp:lastModifiedBy>Michael Mirmak</cp:lastModifiedBy>
  <dcterms:modified xsi:type="dcterms:W3CDTF">2003-10-14T23:49:26Z</dcterms:modified>
  <cp:revision>46</cp:revision>
  <dc:subject>Update at 2003 PCBEast Summit</dc:subject>
  <dc:title>IBIS Chair'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51907186</vt:r8>
  </property>
  <property fmtid="{D5CDD505-2E9C-101B-9397-08002B2CF9AE}" pid="3" name="_AuthorEmail">
    <vt:lpwstr>michael.mirmak@intel.com</vt:lpwstr>
  </property>
  <property fmtid="{D5CDD505-2E9C-101B-9397-08002B2CF9AE}" pid="4" name="_AuthorEmailDisplayName">
    <vt:lpwstr>Mirmak, Michael</vt:lpwstr>
  </property>
  <property fmtid="{D5CDD505-2E9C-101B-9397-08002B2CF9AE}" pid="5" name="_EmailSubject">
    <vt:lpwstr>Chair's Report slides...</vt:lpwstr>
  </property>
</Properties>
</file>