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Arial Narrow"/>
              </a:rPr>
              <a:t>Click to move the slide</a:t>
            </a: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58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58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A5665E0-B0F5-45D7-A863-D1D779DA4D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 I’m going to be talking about some critical issues many companies are facing. For this, I’m going to use the QDR interface on the IXP2800 Network Process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Soft has worked closely with Intel in the design and analysis of the packaging and interfaces on the IXP2800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DEDC5-F6F5-4C9C-8A9D-B245D8F6CD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8229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841560"/>
            <a:ext cx="8229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54797-FE45-4161-99E4-4A99F8A88D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37628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156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84156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DE13A-B63C-4052-B119-C0859AF9B2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2649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376280"/>
            <a:ext cx="2649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376280"/>
            <a:ext cx="2649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841560"/>
            <a:ext cx="2649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841560"/>
            <a:ext cx="2649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841560"/>
            <a:ext cx="2649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83E30-67B0-4961-9A3E-EABF127F17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C88C-B6C5-4288-AF8F-38E3A674CAE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376280"/>
            <a:ext cx="8229600" cy="471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005F-B2F3-4243-9718-5C77B278976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82296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6E96-E11A-4EE5-82F3-16BABFA2E02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4015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376280"/>
            <a:ext cx="4015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B4EF-2B85-4D9A-A081-4CCF6BBC2F8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4F1D-0546-411F-9473-698F6404C9F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37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94FB-22FC-4B11-B0B1-1159A98E88E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376280"/>
            <a:ext cx="4015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84156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6BFE-CD5E-46AA-B938-2A0FBC88D1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376280"/>
            <a:ext cx="8229600" cy="471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CE361-05AF-4C28-B52A-E3D48A11D2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4015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37628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84156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F045-AFA2-4B3E-A1F1-D023E3806C6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37628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841560"/>
            <a:ext cx="8229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BC1C-65A3-4597-9E03-8DE5B3E7A19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8229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841560"/>
            <a:ext cx="8229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E14B-3517-4662-A3E2-039C74B6705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37628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156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84156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A066-40E5-471F-B96F-9710C7B88F4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2649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376280"/>
            <a:ext cx="2649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376280"/>
            <a:ext cx="2649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841560"/>
            <a:ext cx="2649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841560"/>
            <a:ext cx="2649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841560"/>
            <a:ext cx="2649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032D-BFE1-4BD3-83CA-F43321E98D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82296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94BFD-FA82-4740-8DC7-56C1426AFA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4015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376280"/>
            <a:ext cx="4015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E88D0-A0E3-49D3-8E9D-352A01EAF1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653FE-5F33-4B8D-BE56-E182E62450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37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E2165-8DF0-4DA5-B970-64492D179A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376280"/>
            <a:ext cx="4015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84156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81CC0-3CBF-4BBD-9573-329A3F507C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4015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37628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84156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7DE8C-B08D-47EE-A981-9ADEBA7353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76280"/>
            <a:ext cx="40158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841560"/>
            <a:ext cx="8229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C51BF-0040-4DFC-BA48-F4FEAD7C61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Arial Narrow"/>
              </a:rPr>
              <a:t>Click to edit the title text format</a:t>
            </a: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6280"/>
            <a:ext cx="82296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-176040"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801720" indent="-16848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3" marL="1096920" indent="-18108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4" marL="1378080" indent="-16668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5" marL="1378080" indent="-16668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6" marL="1378080" indent="-16668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141360" y="62672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14251-26E2-409C-A8D1-52B4CC9AE2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120600" y="6297480"/>
            <a:ext cx="1033560" cy="397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Arial Narrow"/>
              </a:rPr>
              <a:t>Click to edit the title text format</a:t>
            </a: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C99E7-FB10-449D-AE00-3667C260F3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03200" y="318960"/>
            <a:ext cx="1811520" cy="6955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2" marL="633240" algn="ctr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3" marL="915840" algn="ctr">
              <a:spcBef>
                <a:spcPts val="4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lvl="4" marL="1211400" algn="ctr">
              <a:spcBef>
                <a:spcPts val="4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lvl="5" marL="1211400">
              <a:spcBef>
                <a:spcPts val="4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lvl="6" marL="1211400">
              <a:spcBef>
                <a:spcPts val="4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ffff"/>
                </a:solidFill>
                <a:latin typeface="Arial Narrow"/>
              </a:rPr>
              <a:t>IBIS QUALITY COMMITTEE UPDATE</a:t>
            </a:r>
            <a:br>
              <a:rPr sz="4000"/>
            </a:br>
            <a:r>
              <a:rPr b="1" lang="en-GB" sz="4000" spc="-1" strike="noStrike">
                <a:solidFill>
                  <a:srgbClr val="e5ffff"/>
                </a:solidFill>
                <a:latin typeface="Arial Narrow"/>
              </a:rPr>
              <a:t>PCB_EAST IBIS SUMMIT Oct 21, 2003</a:t>
            </a:r>
            <a:endParaRPr b="0" lang="en-US" sz="40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6237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Robert Haller 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spcBef>
                <a:spcPts val="3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rhaller@sisoft.com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spcBef>
                <a:spcPts val="3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 Narrow"/>
              </a:rPr>
              <a:t>Signal Integrity Software, Inc.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spcBef>
                <a:spcPts val="3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 Narrow"/>
              </a:rPr>
              <a:t>6 Clock Tower Place – Suite 250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spcBef>
                <a:spcPts val="3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 Narrow"/>
              </a:rPr>
              <a:t>Maynard MA. 01754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spcBef>
                <a:spcPts val="3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 Narrow"/>
              </a:rPr>
              <a:t>978-461-0449 X 15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964200" y="336600"/>
            <a:ext cx="1435320" cy="1039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5ffff"/>
                </a:solidFill>
                <a:latin typeface="Arial Narrow"/>
              </a:rPr>
              <a:t>Quality IBIS Models Imperative</a:t>
            </a: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482840" y="1293840"/>
            <a:ext cx="6553080" cy="4914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5ffff"/>
                </a:solidFill>
                <a:latin typeface="Arial Narrow"/>
              </a:rPr>
              <a:t>IBIS Quality Subcommittee Group Effort !</a:t>
            </a: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82296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488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Narrow"/>
              </a:rPr>
              <a:t>Committee is represented by Semiconductor vendors, EDA vendors, and IBIS end-users.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 Narrow"/>
              </a:rPr>
              <a:t>SiSoft - Barry Katz (Chairman), Robert Haller, Eric Brock, Kevin Fisher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 Narrow"/>
              </a:rPr>
              <a:t>Siemens – Eckhard Lenski, Katja Koller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 Narrow"/>
              </a:rPr>
              <a:t>IBM – Greg Edlund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 Narrow"/>
              </a:rPr>
              <a:t>EMC – Brian Arsenault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 Narrow"/>
              </a:rPr>
              <a:t>Cadence – Lynne Green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 Narrow"/>
              </a:rPr>
              <a:t>Apple – John  Figueroa, Kim Helliwell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 Narrow"/>
              </a:rPr>
              <a:t>Mentor –John Angulo, Hazem Hegazy, Sherif Hammad,  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 Narrow"/>
              </a:rPr>
              <a:t>Cisco – Mike LaBonte, Todd Westerhoff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 Narrow"/>
              </a:rPr>
              <a:t>Hitachi ULSI Systems – Shoji Kazuyoshi, Nonoyama Sadahiro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 Narrow"/>
              </a:rPr>
              <a:t>Leventhal Design &amp; Communications – Roy Leventhal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 Narrow"/>
              </a:rPr>
              <a:t>Intel – Benjamin Silva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 Narrow"/>
              </a:rPr>
              <a:t>Teraspeed – Bob Ross, Tom Dagostino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 Narrow"/>
              </a:rPr>
              <a:t>AMCC  - Peter LaFlamme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 Narrow"/>
              </a:rPr>
              <a:t>Fairchild – Adam Tambone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5ffff"/>
                </a:solidFill>
                <a:latin typeface="Arial Narrow"/>
              </a:rPr>
              <a:t>IBIS Problem Areas</a:t>
            </a:r>
            <a:br>
              <a:rPr sz="3200"/>
            </a:br>
            <a:r>
              <a:rPr b="1" lang="en-GB" sz="3200" spc="-1" strike="noStrike">
                <a:solidFill>
                  <a:srgbClr val="e5ffff"/>
                </a:solidFill>
                <a:latin typeface="Arial Narrow"/>
              </a:rPr>
              <a:t>IQ committee belaboured</a:t>
            </a: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82296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lnSpc>
                <a:spcPct val="98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C_comp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503280" indent="-170640">
              <a:lnSpc>
                <a:spcPct val="98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Varies with voltage and frequency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503280" indent="-170640">
              <a:lnSpc>
                <a:spcPct val="98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Varies for Driver vs. Receiver (I/O cell)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221400" indent="-221400">
              <a:lnSpc>
                <a:spcPct val="98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On Die termination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503280" indent="-170640">
              <a:lnSpc>
                <a:spcPct val="98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Both Curves Over entire Range (No interpolation)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221400" indent="-221400">
              <a:lnSpc>
                <a:spcPct val="98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Excessive Currents in IV curve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21400" indent="-221400">
              <a:lnSpc>
                <a:spcPct val="98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VT Table “Lead in time”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503280" indent="-170640">
              <a:lnSpc>
                <a:spcPct val="98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Excessive "lead in” causes over-clocking issue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503280" indent="-170640">
              <a:lnSpc>
                <a:spcPct val="98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How to specify “excessive dead time”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221400" indent="-221400">
              <a:lnSpc>
                <a:spcPct val="98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VT versus  IV crosscheck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21400" indent="-221400">
              <a:lnSpc>
                <a:spcPct val="98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Differential Models with Only Ramp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503280" indent="-170640">
              <a:lnSpc>
                <a:spcPct val="98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Are 4 curves necessary ?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221400" indent="-221400">
              <a:lnSpc>
                <a:spcPct val="98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SPICE2IBIS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503280" indent="-170640">
              <a:lnSpc>
                <a:spcPct val="98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creates some of these problems !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503280" indent="0">
              <a:lnSpc>
                <a:spcPct val="98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221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5ffff"/>
                </a:solidFill>
                <a:latin typeface="Arial Narrow"/>
              </a:rPr>
              <a:t>IBIS Confusion</a:t>
            </a:r>
            <a:br>
              <a:rPr sz="3200"/>
            </a:br>
            <a:r>
              <a:rPr b="1" lang="en-GB" sz="3200" spc="-1" strike="noStrike">
                <a:solidFill>
                  <a:srgbClr val="e5ffff"/>
                </a:solidFill>
                <a:latin typeface="Arial Narrow"/>
              </a:rPr>
              <a:t>Among so called “experts”</a:t>
            </a: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82296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8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Terminology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-176040">
              <a:lnSpc>
                <a:spcPct val="98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Corner Conditions Fast Slow versus min and max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-228600">
              <a:lnSpc>
                <a:spcPct val="98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What does IBISCHK Check and limits ?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-228600">
              <a:lnSpc>
                <a:spcPct val="98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C_comp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-176040">
              <a:lnSpc>
                <a:spcPct val="98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Min Typ Max versus Process Corner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-228600">
              <a:lnSpc>
                <a:spcPct val="98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On Die termination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-228600">
              <a:lnSpc>
                <a:spcPct val="98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Non-Monotonic/Combination of Curve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-176040">
              <a:lnSpc>
                <a:spcPct val="98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Pull_up and Clamp</a:t>
            </a:r>
            <a:r>
              <a:rPr b="1" lang="en-GB" sz="1800" spc="-1" strike="noStrike">
                <a:solidFill>
                  <a:srgbClr val="ffffff"/>
                </a:solidFill>
                <a:latin typeface="Arial Narrow"/>
              </a:rPr>
              <a:t>s</a:t>
            </a: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-176040">
              <a:lnSpc>
                <a:spcPct val="98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Pull_down and Clamp</a:t>
            </a:r>
            <a:r>
              <a:rPr b="1" lang="en-GB" sz="1800" spc="-1" strike="noStrike">
                <a:solidFill>
                  <a:srgbClr val="ffffff"/>
                </a:solidFill>
                <a:latin typeface="Arial Narrow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-228600">
              <a:lnSpc>
                <a:spcPct val="98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Package mod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-176040">
              <a:lnSpc>
                <a:spcPct val="98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Vendors translates IBIS models, Added features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-176040">
              <a:lnSpc>
                <a:spcPct val="98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Lumped versus distributed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5ffff"/>
                </a:solidFill>
                <a:latin typeface="Arial Narrow"/>
              </a:rPr>
              <a:t>IBIS Quality Subcommittee</a:t>
            </a: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82296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Narrow"/>
              </a:rPr>
              <a:t>Goal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-176040">
              <a:spcBef>
                <a:spcPts val="499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Rating system that is easy to understand and adopt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-176040">
              <a:spcBef>
                <a:spcPts val="499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Communicate to vendors/users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-176040">
              <a:spcBef>
                <a:spcPts val="499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Cover overall file, component, and model section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-176040">
              <a:spcBef>
                <a:spcPts val="499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Check for completeness, correctness, accuracy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-176040">
              <a:spcBef>
                <a:spcPts val="499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Leverage of prior work Meet every 2 weeks (Tuesdays 11:00 EDT for 1 hour)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-228600">
              <a:spcBef>
                <a:spcPts val="601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Narrow"/>
              </a:rPr>
              <a:t>Mailing lis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-176040">
              <a:spcBef>
                <a:spcPts val="499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Ibis-quality@freelists.org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-176040">
              <a:spcBef>
                <a:spcPts val="499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http://www.freelists.org/archives/ibis-quality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-228600">
              <a:spcBef>
                <a:spcPts val="601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Narrow"/>
              </a:rPr>
              <a:t>Web Sit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-176040">
              <a:spcBef>
                <a:spcPts val="499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http://www.sisoft.com/ibis-quality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5ffff"/>
                </a:solidFill>
                <a:latin typeface="Arial Narrow"/>
              </a:rPr>
              <a:t>Status and To Do</a:t>
            </a: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82296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Narrow"/>
              </a:rPr>
              <a:t>Preliminary Documentation Availabl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-176040">
              <a:spcBef>
                <a:spcPts val="499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Quality level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2" marL="801720" indent="-16848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Level 0 – Passes IBISCHK (checked by Software)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2" marL="801720" indent="-16848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Level 1 – Complete and correct (manual checks)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2" marL="801720" indent="-16848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Level 2a, 2b – Correlation: Simulation, Measurement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2" marL="801720" indent="-16848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Level 3 – All of the above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-176040">
              <a:spcBef>
                <a:spcPts val="499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Reference IBIS Accuracy Handbook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-228600">
              <a:lnSpc>
                <a:spcPct val="98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Narrow"/>
              </a:rPr>
              <a:t>Need to update IBIS Quality checklis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519120" indent="-176040">
              <a:spcBef>
                <a:spcPts val="499"/>
              </a:spcBef>
              <a:buClr>
                <a:srgbClr val="ffff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http://www.sisoft.com/ibis-quality/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-228600">
              <a:spcBef>
                <a:spcPts val="601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Narrow"/>
              </a:rPr>
              <a:t>Submit BIRDS and IBISCHK enhancement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-228600">
              <a:spcBef>
                <a:spcPts val="601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Narrow"/>
              </a:rPr>
              <a:t>Final Documentation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5ffff"/>
                </a:solidFill>
                <a:latin typeface="Arial Narrow"/>
              </a:rPr>
              <a:t>Summary</a:t>
            </a:r>
            <a:endParaRPr b="0" lang="en-US" sz="3200" spc="-1" strike="noStrike">
              <a:solidFill>
                <a:srgbClr val="e5ffff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76280"/>
            <a:ext cx="82296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8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Narrow"/>
              </a:rPr>
              <a:t>Quality IBIS models Imperativ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-228600">
              <a:spcBef>
                <a:spcPts val="601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Narrow"/>
              </a:rPr>
              <a:t>IBIS problems and confusion among “experts”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-228600">
              <a:lnSpc>
                <a:spcPct val="98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Narrow"/>
              </a:rPr>
              <a:t>Draft Documentation Available !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-228600">
              <a:spcBef>
                <a:spcPts val="601"/>
              </a:spcBef>
              <a:buClr>
                <a:srgbClr val="ffffff"/>
              </a:buClr>
              <a:buSzPct val="6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Narrow"/>
              </a:rPr>
              <a:t>Please Review Documentation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31T16:46:21Z</dcterms:created>
  <dc:creator>Warren Hayden</dc:creator>
  <dc:description/>
  <dc:language>en-US</dc:language>
  <cp:lastModifiedBy>Bob Ross</cp:lastModifiedBy>
  <dcterms:modified xsi:type="dcterms:W3CDTF">2003-10-15T21:21:45Z</dcterms:modified>
  <cp:revision>200</cp:revision>
  <dc:subject/>
  <dc:title>Slide 1</dc:title>
</cp:coreProperties>
</file>