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55E5-DAF5-4FFE-B3C8-8393CE1AD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8B04-A0D1-489D-9F3F-541BB1990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2B2A-341C-4C02-B352-B329A756C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6D9C-F4D4-482A-8AB7-83016156E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DCF6-FDB3-484A-AACC-5475AB1965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8927-FACF-4EFB-A59D-C85CD8F309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49D6-941C-4FB1-8362-8CC7ADD69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24D6-CFB0-4B6D-AFBE-E5A24302E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8EA4-382D-4E1D-855C-C35B91FCF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D18B-F077-4F1B-A0BF-185116EA0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E656-10C4-4CA7-8ACD-A2D21649F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FEF6-19E9-4852-AD5D-E35C2503E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03C4-3354-4908-85AC-415533790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1059-2BC0-49F3-9A76-6F6773662E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7E88-8291-4A74-A31A-ADB27FFDE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5A36-093A-4E09-B654-ADF4AD1B36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3180-8082-4149-A458-9E7C6169F6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7D94-0EA9-4C54-BD4D-6A4798924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5517-480E-4578-9E77-6A3FB9429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C9F1-5A4D-4FC4-8743-3D74E16FB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1DC7-04C5-4933-B5EA-EBFF53DF8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3DB7-DDF1-4F0E-BBB7-FE28C4913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DFAE-85D5-436E-9560-C87B6582E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5A16-E1B9-4436-B9D2-097ED9467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7BA-DE0A-4F39-A831-840F2D135C6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42040" y="6443640"/>
            <a:ext cx="336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324480" y="6629400"/>
            <a:ext cx="2514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Summit, October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Summit, October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58E-96AB-46DA-953B-62BDDF3D2F6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 of [Ramp] in IBIS 4.1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4730760"/>
            <a:ext cx="67197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nne Gr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6EA0-5D87-4684-A130-0CF1198FC5C0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Ramp] in IBIS 4.1</a:t>
            </a:r>
            <a:br>
              <a:rPr sz="2300"/>
            </a:br>
            <a:br>
              <a:rPr sz="2300"/>
            </a:b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 85: Slew Time Estimate Clarifica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Note that when using [External Model], the [Ramp] keyword is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intended to provide EDA tools with a quick first-order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estimate of driver slew characteristics.  Therefore, data for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[Ramp] may be measured using a load that conforms to th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driver's intended operation, rather than the load recommended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*|   in Section 9: Notes on Data Derivation Method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B07B-E4B6-42CD-AFE2-B7419818AFE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992160"/>
            <a:ext cx="7543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87000"/>
          </a:bodyPr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[Model] ExBufferSPI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Model_type I/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Vinh = 2.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Vinl = 0.8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[Voltage Range]   3.3</a:t>
            </a: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 3.0</a:t>
            </a: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3.6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[Ramp]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dV/dt_r   1.57/0.36n   1.44/0.57n   1.73/0.28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dV/dt_f   1.57/0.35n   1.46/0.44n   1.68/0.28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|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[External Model]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Language SPI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Corner    Typ    buffer_typ.spi    buffer_io_ty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436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E295-CB65-4875-926A-D3ACFDC27656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1872" b="35878"/>
          <a:stretch/>
        </p:blipFill>
        <p:spPr>
          <a:xfrm>
            <a:off x="2895480" y="289548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1600" y="1295280"/>
            <a:ext cx="670572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anks to all who contributed to the 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John Angulo, Bob Ross, Michael Mirmak, Stephen Peters, and all of the other IBIS Open Forum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7C4C-57CD-4ADC-B2B6-60544349B002}" type="slidenum">
              <a:t>12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istory of [Ramp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use in EDA too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with differential mod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with external mod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in IBIS 4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10FA-ABF4-4AC6-81C6-BBEE8E641F06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istory of [Ramp]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dates back to IBIS 1.0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use and deriv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inear V-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load to Vcc or Gn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CL: Rload is 50 Ohms to -2V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added V-t tables lat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eal transitions are not linear (or even monotoni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ill a required keyword (back compatibility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AFC6-8448-4613-87C8-8C553DF980E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[Ramp] use in EDA tools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used in simulation only if no V-t tabl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is still used by EDA too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d in pre-simulation algorithms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itial simulation time step (dt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stimating crosstalk (dt, Vcc or dV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4d4d4d"/>
                </a:solidFill>
                <a:uFillTx/>
                <a:latin typeface="Arial"/>
              </a:rPr>
              <a:t>Valid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dV and dt are needed in models!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load is not a critical paramet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s long as Rload is a typical loa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E8D5-E0EE-48B4-AF80-3505DFA46A9C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[Ramp] use in EDA tools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A tools do not require full-swing I/O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y “normal” loading is OK for most EDA too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20% to 80% voltage swing into “normal” loa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oad under the actual expected operating condi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ample: standard for LVDS gives normal load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A tools have robust code for [Ramp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deal solution uses existing cod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84A7-FFED-410F-ADB3-F71AE1573B98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[Ramp] with differential models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rmal” load is differenti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load to Vcc or Gnd might not make sen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gnals usually not rail-to-rai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ill use 20% to 80% voltage sw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orks for both current- and voltage-mode driv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elpful to add comments in model about the actual loa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Rload of 100ohms between the LVDS output pins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3E16-45F4-4154-B8B7-60C770022FB5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[Ramp] with external models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ore complex driver circuit desig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ogrammable or time-varying slew rat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e-emphasis, multi-level logic, etc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ore complex termina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ogrammable termin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ermination not purely resistive (RC network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PICE and AMS models in external fil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 information in the external files on d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402C-C743-4735-917B-9BDF90128D6B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[Ramp] with external models</a:t>
            </a:r>
            <a:br>
              <a:rPr sz="2700"/>
            </a:b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A tools use dt to estimate time ste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is already (mis-)applied as needed toda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ometimes with a comment on the actual loa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ogistics: Where to put the information in IBIS 4.1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 tool simulates to get dV and d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at load and time-step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ere to store dV and dt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w keyword or subparamet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[Ramp] already contains all of the needed inform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Ramp] with broader definition of loa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DF0F-8234-46A2-AF3D-CBF59251BC63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Ramp] in IBIS 4.1</a:t>
            </a:r>
            <a:br>
              <a:rPr sz="2300"/>
            </a:br>
            <a:br>
              <a:rPr sz="2300"/>
            </a:b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Why keep it as a required keyword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A tools need dt, could use dV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uld make Rload option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s this data readily available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 the datasheet for the I/O buff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rom the transistor-level simulation resul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rom measured test-bench dat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0A0-5A45-4AA7-AB4B-C0CCF95BFB20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23:02Z</dcterms:created>
  <dc:creator>administrator</dc:creator>
  <dc:description/>
  <dc:language>en-US</dc:language>
  <cp:lastModifiedBy>Lynne Green</cp:lastModifiedBy>
  <cp:lastPrinted>2001-02-02T22:51:20Z</cp:lastPrinted>
  <dcterms:modified xsi:type="dcterms:W3CDTF">2003-10-14T18:00:22Z</dcterms:modified>
  <cp:revision>14</cp:revision>
  <dc:subject/>
  <dc:title>CORPORATE TEMPLATE</dc:title>
</cp:coreProperties>
</file>