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bisdeveloper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Timothy.Coyle@sun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5920" y="4737240"/>
            <a:ext cx="4606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spcAft>
                <a:spcPts val="136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unSans-Demi"/>
                <a:ea typeface="HG Mincho Light J"/>
              </a:rPr>
              <a:t>Tim Coy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136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unSans-Demi"/>
                <a:ea typeface="HG Mincho Light J"/>
              </a:rPr>
              <a:t>IBIS Summit Mee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136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SunSans-Demi"/>
                <a:ea typeface="HG Mincho Light J"/>
              </a:rPr>
              <a:t>October 21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85240" y="3461760"/>
            <a:ext cx="467640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SunSans-Demi"/>
                <a:ea typeface="HG Mincho Light J"/>
              </a:rPr>
              <a:t>IBIS User Exper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What to do about accu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The proof is in th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Need to start having an open-dialog with your vend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Understand their process for creating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sk for data such as tester data, char data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sk them if they would make/break a system based up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It's not just  accuracy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Other aspects of IBIS modeling that are still open-ended, some basic, some no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Package models (ICM solution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ESD clamps (Kamps of curren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Tool issues (it goes beyond tech suppo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The IBIS Commu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For a non-proprietary specification, the IBIS community is rather qu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at are some possible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lo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Maybe not as proprietary as you th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Modeling advant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oftware 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IBIS – The Parado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BIS will always battle 2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s it as accurate as SP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How fast can it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ere's the proof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The 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The only answer is invol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at if we gave a list of IBIS issues to the best modelers, put them in a room with no affiliation to company/self interest/etc., just pure engine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My 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anted to keep track of current going-ons of IBIS (new app notes, articles,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anted a venue not associated with any company or organization to freely discuss IBIS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y not a websi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The Webs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8440" indent="-2912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SunSans Regular"/>
                <a:hlinkClick r:id="rId1"/>
              </a:rPr>
              <a:t>www.ibisdeveloper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-2912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Hosting out of my own pocket (no affiliation with Sun or anyone el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-2912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ill announce in a couple of wee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-2912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orst Case sce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-2584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 good links page for IBIS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440" indent="-2912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Best Case sce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240" indent="-2584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 cohesive community of IBIS develo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The Webs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f you want to contrib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SunSans Regular"/>
                <a:hlinkClick r:id="rId1"/>
              </a:rPr>
              <a:t>Timothy.Coyle@sun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Model Maker to Model U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pent last 2 years making IBIS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Now using other people's IBIS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Where is IBIS at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ell recognized modeling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Over 25+ companies members of the IBIS Open Forum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olid 3.2 sp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Future AMS enhanc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12720"/>
            <a:ext cx="860904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What do you get today for a </a:t>
            </a:r>
            <a:br>
              <a:rPr sz="4800"/>
            </a:b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3.2 model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lmost all IBIS files will pass par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Either it's a good model or a really ba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Timing load inlaced (vref,cref,rre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V/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So what's the problem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Accuracy is th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o the IBIS file passes the parser, and the I/V and V/T curves look valid, but what is the accuracy of the mod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Why it's Importa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BIS files used for  timing marg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f the model is off, then the timing is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People are basing designs off of simulation of IBIS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How do you define accu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Have to overcome issues such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at tests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What tool to use for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Previous work done with Accuracy Hand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Current work being done with Quality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How do you get accurac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Don't count on manufactur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How many manufacturer's have devoted resource to IBIS? Most are either designer or applications engineer playing an IBIS mod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Do manufacturer's understand how IBIS files are being used by the custome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Is a curve check enough of a valid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43840" y="152280"/>
            <a:ext cx="1258920" cy="858960"/>
          </a:xfrm>
          <a:prstGeom prst="roundRect">
            <a:avLst>
              <a:gd name="adj" fmla="val 1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9966cc"/>
                </a:solidFill>
                <a:latin typeface="SunSans Demi"/>
                <a:ea typeface="HG Mincho Light J"/>
              </a:rPr>
              <a:t>An example of my proced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1899720"/>
            <a:ext cx="860904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Create min/typ/max HSPICE netlists from design database (no package, include es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Simulate HSPICE models to ensure they meet datasheet sp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Run simulations to extract I/V and V/T cur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Check with parser, compare IBIS in t-line load to SPICE in t-line l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unSans Regular"/>
              </a:rPr>
              <a:t>But what did I miss? What is the accuracy spec mis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80480" y="247680"/>
            <a:ext cx="1191960" cy="51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