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F26-4B27-47A4-9E78-9D686ABA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22C-F7F7-445C-B006-5C11109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824-59D1-4727-A87E-36EBB35E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A61-FC42-4DF6-A230-BFD0C882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112-B46E-41C8-8F91-AEE037EB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FC9-0AE4-4E63-849A-8EB6FA3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47B-D0D3-4AAE-8CAD-740EDC3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675-1FB2-4405-B996-1B881E2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DE74-8B25-4885-B8E6-A94EC003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A6F9-7675-4EE7-9C86-E6E8284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7AF8-C8E5-431C-AB0B-411E8FFA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BA1-C69A-4501-BEBE-94B818DA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96D-2BBC-4B19-8A00-4BA6E2D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2080-0940-4AE4-9B9B-4E3068A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4D65-014C-4C07-A8BA-7864C1AE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CC2-8F52-45CA-9632-5C2521BF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7614-115C-4D06-9399-58027B8F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5D2-9F34-4B36-812A-466AE20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BD6-1A3E-456A-8929-02D1341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A70-2914-4BD5-BDDC-CEE66F6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422-AE73-440D-A012-E8A19442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F7A-F0D9-410E-BE79-B0A606E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948-24C8-414A-9C12-87B483C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475-875B-48A6-8548-E32DB66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B66B-D17D-4F45-8F16-A88CBEB169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East Summit Oct.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0EAC-D40A-48C7-8E28-011AF3C7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A3E-360A-46C6-BB6E-F0584B5F73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D3A-0409-4AE2-A41A-9AAC2E7B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Interconnect Spec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, 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9289-21DC-423D-96B8-D0A6AFA421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urrent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interconnect spec ICM 1.0 released for review (Yeah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IBIS website under the “Connector Info”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have been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eature changes from las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echnical items wer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CM 1.0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encompasses both connectors and package style inter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ependant effects are captured via S-parameter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regular and non-regular connectors are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development -- funding, contractor,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into multi-lingual modeling proposal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52E-7DCF-4898-9A7E-5652D7770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verview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.icm file supports one (1) interconnect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terconnect family includes one or more individual interconnec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interconnect descriptions include the follo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nfo like manufacture, description, mating conditions, model limit (max slew rate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type (MLM, SLM or S-parame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th description, either ‘tree’ or ‘nodal’, that describes how the matrices are inter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pplicable, info that allows pin swa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between external pins/node of interconnect and the rows of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es contain either RLGC or S-parameter data (via external Touchstone fi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FE5-094E-4616-A703-735AEFE35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verview (cont.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supports three different types of inter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(no pins missing) rectangular 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thable, can use either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, non-rectangular conn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wathable, can use either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egular connector/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wathable, must use nodal path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vs. Tree type path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ree Path Description] cascades matrices back to back, each row of matrix corresponds to a single pin, same # of pins front an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odal Path Description] connects matrices via explicit node names, can build arbitrary structures with missing pins, different size matric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B1F-7A54-47BD-A1E3-126F1271B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LM and SLM Mode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M = Multi-line (coupled)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or including pin-to-pin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specifies partial inductance values and Maxwell capacitance values i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 is to support xtalk and return path sim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M = Single lines (un-coupled)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M_EvenMode/OddMode/Quiescent models have documented ground return paths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M_General only documents GSR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specifies loop inductance i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nt is to ‘bracket’ interconnect performance under specif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arameter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inition are coupled models, unused terminals terminated by reference impe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A1E-DAF2-4DF9-87AD-B2BEDED48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ength vs. Multiplier Matrix Spec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scription specifies how to interpret the data in an RLGC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= per-unit-length, intended for distributed transmission line elements.  Expansion by multi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 = lumped elements, intended to be rendered into circuit netlists. Expansion by cascading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parameter is always lumped, non-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erivation Method] keyword in matrix section provides a cross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tyles for two different purpo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unit length results from a 2-D extraction of parallel structures (I.e. package tr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ultiplier results from a 3-D extraction of non-regular structure (I.e. conn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858-33FB-4F5C-84D5-B65879592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10:06Z</dcterms:created>
  <dc:creator>sjpeters</dc:creator>
  <dc:description/>
  <dc:language>en-US</dc:language>
  <cp:lastModifiedBy>Stephen Peters</cp:lastModifiedBy>
  <dcterms:modified xsi:type="dcterms:W3CDTF">2002-10-14T01:12:32Z</dcterms:modified>
  <cp:revision>14</cp:revision>
  <dc:subject/>
  <dc:title>IBIS Interconnect Specification</dc:title>
</cp:coreProperties>
</file>