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A40-C957-4312-937B-55002AD1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E4B-53A8-4A19-8890-AFF08CF1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1C8-88DF-42BD-86EB-534DE48D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761-9BF6-46FF-980A-305BF2F0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C179-9630-408C-98BF-0FFF6AF8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482B-7783-41F8-A8BE-1F3A383A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BD5A-7DB4-4D69-AC1F-43CD2AA3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649A-F776-42D0-880E-9B208F04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570-5FCA-4140-97A4-9375B06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015B-F80A-49D8-91F3-E0ABA1C0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27E9-87C7-4F65-8DBB-DE555A66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757-61FA-48EC-949B-AD2A1D15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81D8-645D-4C95-9333-DF5296C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1B63-0A5C-4944-BB7C-A6DA2A0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C718-AFC3-407E-B26C-0FCF34E8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958C-51C4-416D-A942-904F0C13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ACDE-92D3-41CE-AC4B-9A81D426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C67-082C-493A-A9EF-446609A0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9C1-E3A4-437F-AB37-E2ADCB6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48C-D63B-468F-A3D6-6EFC9C40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D6F-DC40-4610-A5EC-451A667E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0DE-E16D-4260-A1B6-20A39052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9BE-2653-4CDA-B50F-DE908259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6F1-F943-4B2C-8123-5203ABCD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Summit Oct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1D28-89E9-4F42-85A0-A2DB4C23C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Status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P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2 PCB East Summi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0A99-81AB-4104-B7B7-0FD80BDF33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oday's Meet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Statu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onnect Specification De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from the Qualit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Base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vs.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l Buffer Modeling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 Hoc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890-89DA-4D78-BDB3-A83F0C6895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60696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tus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 steady at 30 pai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quality issues are being add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ingual proposal (Bird 75) set to propel us in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Events in 2H’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4.0 has been voted on and accep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ser developer has been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ng the development is still an iss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ICM 1.0 now out for review (yeah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package models are now a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continues on EMI/EMC descriptions using I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09B-4CC0-4B7A-9705-0B37FED0D2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sjpeters</dc:creator>
  <dc:description/>
  <dc:language>en-US</dc:language>
  <cp:lastModifiedBy>Bob Ross</cp:lastModifiedBy>
  <dcterms:modified xsi:type="dcterms:W3CDTF">2002-10-10T18:10:42Z</dcterms:modified>
  <cp:revision>19</cp:revision>
  <dc:subject/>
  <dc:title>IBIS Annual Report</dc:title>
</cp:coreProperties>
</file>