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435720"/>
            <a:ext cx="9142560" cy="226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cc"/>
                </a:solidFill>
                <a:latin typeface="Arial"/>
              </a:rPr>
              <a:t>PAGE </a:t>
            </a:r>
            <a:fld id="{AB00511A-53C4-4AB2-AB8B-9D6C3CDBA4B7}" type="slidenum">
              <a:rPr b="1" lang="en-US" sz="900" spc="-1" strike="noStrike">
                <a:solidFill>
                  <a:srgbClr val="0033cc"/>
                </a:solidFill>
                <a:latin typeface="Arial"/>
              </a:rPr>
              <a:t>&lt;number&gt;</a:t>
            </a:fld>
            <a:endParaRPr b="0" lang="en-US" sz="900" spc="-1" strike="noStrike">
              <a:solidFill>
                <a:srgbClr val="000000"/>
              </a:solidFill>
              <a:latin typeface="Times New Roman"/>
            </a:endParaRPr>
          </a:p>
        </p:txBody>
      </p:sp>
      <p:grpSp>
        <p:nvGrpSpPr>
          <p:cNvPr id="1" name=""/>
          <p:cNvGrpSpPr/>
          <p:nvPr/>
        </p:nvGrpSpPr>
        <p:grpSpPr>
          <a:xfrm>
            <a:off x="257040" y="6257880"/>
            <a:ext cx="663480" cy="350640"/>
            <a:chOff x="257040" y="6257880"/>
            <a:chExt cx="663480" cy="350640"/>
          </a:xfrm>
        </p:grpSpPr>
        <p:grpSp>
          <p:nvGrpSpPr>
            <p:cNvPr id="2" name=""/>
            <p:cNvGrpSpPr/>
            <p:nvPr/>
          </p:nvGrpSpPr>
          <p:grpSpPr>
            <a:xfrm>
              <a:off x="257040" y="6257880"/>
              <a:ext cx="554040" cy="350640"/>
              <a:chOff x="257040" y="6257880"/>
              <a:chExt cx="554040" cy="350640"/>
            </a:xfrm>
          </p:grpSpPr>
          <p:sp>
            <p:nvSpPr>
              <p:cNvPr id="3" name=""/>
              <p:cNvSpPr/>
              <p:nvPr/>
            </p:nvSpPr>
            <p:spPr>
              <a:xfrm>
                <a:off x="258480" y="6257880"/>
                <a:ext cx="42840" cy="45720"/>
              </a:xfrm>
              <a:prstGeom prst="rect">
                <a:avLst/>
              </a:prstGeom>
              <a:solidFill>
                <a:srgbClr val="3333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 name=""/>
              <p:cNvSpPr/>
              <p:nvPr/>
            </p:nvSpPr>
            <p:spPr>
              <a:xfrm>
                <a:off x="257040" y="6327360"/>
                <a:ext cx="44280" cy="1918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95000" y="6257880"/>
                <a:ext cx="316080" cy="350640"/>
              </a:xfrm>
              <a:custGeom>
                <a:avLst/>
                <a:gdLst/>
                <a:ahLst/>
                <a:rect l="l" t="t" r="r" b="b"/>
                <a:pathLst>
                  <a:path w="2989" h="3082">
                    <a:moveTo>
                      <a:pt x="1349" y="1974"/>
                    </a:moveTo>
                    <a:lnTo>
                      <a:pt x="2104" y="1974"/>
                    </a:lnTo>
                    <a:lnTo>
                      <a:pt x="2096" y="1890"/>
                    </a:lnTo>
                    <a:lnTo>
                      <a:pt x="2071" y="1814"/>
                    </a:lnTo>
                    <a:lnTo>
                      <a:pt x="1990" y="1705"/>
                    </a:lnTo>
                    <a:lnTo>
                      <a:pt x="1877" y="1629"/>
                    </a:lnTo>
                    <a:lnTo>
                      <a:pt x="1738" y="1613"/>
                    </a:lnTo>
                    <a:lnTo>
                      <a:pt x="1584" y="1637"/>
                    </a:lnTo>
                    <a:lnTo>
                      <a:pt x="1470" y="1713"/>
                    </a:lnTo>
                    <a:lnTo>
                      <a:pt x="1389" y="1831"/>
                    </a:lnTo>
                    <a:lnTo>
                      <a:pt x="1349" y="1974"/>
                    </a:lnTo>
                    <a:lnTo>
                      <a:pt x="1349" y="2310"/>
                    </a:lnTo>
                    <a:lnTo>
                      <a:pt x="1380" y="2444"/>
                    </a:lnTo>
                    <a:lnTo>
                      <a:pt x="1454" y="2579"/>
                    </a:lnTo>
                    <a:lnTo>
                      <a:pt x="1568" y="2671"/>
                    </a:lnTo>
                    <a:lnTo>
                      <a:pt x="1648" y="2704"/>
                    </a:lnTo>
                    <a:lnTo>
                      <a:pt x="1738" y="2713"/>
                    </a:lnTo>
                    <a:lnTo>
                      <a:pt x="1852" y="2696"/>
                    </a:lnTo>
                    <a:lnTo>
                      <a:pt x="1949" y="2654"/>
                    </a:lnTo>
                    <a:lnTo>
                      <a:pt x="2022" y="2587"/>
                    </a:lnTo>
                    <a:lnTo>
                      <a:pt x="2071" y="2502"/>
                    </a:lnTo>
                    <a:lnTo>
                      <a:pt x="2493" y="2502"/>
                    </a:lnTo>
                    <a:lnTo>
                      <a:pt x="2453" y="2620"/>
                    </a:lnTo>
                    <a:lnTo>
                      <a:pt x="2396" y="2730"/>
                    </a:lnTo>
                    <a:lnTo>
                      <a:pt x="2315" y="2830"/>
                    </a:lnTo>
                    <a:lnTo>
                      <a:pt x="2225" y="2914"/>
                    </a:lnTo>
                    <a:lnTo>
                      <a:pt x="2112" y="2990"/>
                    </a:lnTo>
                    <a:lnTo>
                      <a:pt x="1998" y="3040"/>
                    </a:lnTo>
                    <a:lnTo>
                      <a:pt x="1868" y="3065"/>
                    </a:lnTo>
                    <a:lnTo>
                      <a:pt x="1738" y="3082"/>
                    </a:lnTo>
                    <a:lnTo>
                      <a:pt x="1600" y="3065"/>
                    </a:lnTo>
                    <a:lnTo>
                      <a:pt x="1462" y="3032"/>
                    </a:lnTo>
                    <a:lnTo>
                      <a:pt x="1332" y="2965"/>
                    </a:lnTo>
                    <a:lnTo>
                      <a:pt x="1210" y="2881"/>
                    </a:lnTo>
                    <a:lnTo>
                      <a:pt x="1104" y="2771"/>
                    </a:lnTo>
                    <a:lnTo>
                      <a:pt x="1016" y="2645"/>
                    </a:lnTo>
                    <a:lnTo>
                      <a:pt x="950" y="2494"/>
                    </a:lnTo>
                    <a:lnTo>
                      <a:pt x="910" y="2327"/>
                    </a:lnTo>
                    <a:lnTo>
                      <a:pt x="674" y="2334"/>
                    </a:lnTo>
                    <a:lnTo>
                      <a:pt x="504" y="2310"/>
                    </a:lnTo>
                    <a:lnTo>
                      <a:pt x="431" y="2285"/>
                    </a:lnTo>
                    <a:lnTo>
                      <a:pt x="374" y="2242"/>
                    </a:lnTo>
                    <a:lnTo>
                      <a:pt x="325" y="2184"/>
                    </a:lnTo>
                    <a:lnTo>
                      <a:pt x="292" y="2108"/>
                    </a:lnTo>
                    <a:lnTo>
                      <a:pt x="268" y="2007"/>
                    </a:lnTo>
                    <a:lnTo>
                      <a:pt x="261" y="1890"/>
                    </a:lnTo>
                    <a:lnTo>
                      <a:pt x="261" y="940"/>
                    </a:lnTo>
                    <a:lnTo>
                      <a:pt x="0" y="940"/>
                    </a:lnTo>
                    <a:lnTo>
                      <a:pt x="0" y="605"/>
                    </a:lnTo>
                    <a:lnTo>
                      <a:pt x="276" y="605"/>
                    </a:lnTo>
                    <a:lnTo>
                      <a:pt x="276" y="0"/>
                    </a:lnTo>
                    <a:lnTo>
                      <a:pt x="674" y="0"/>
                    </a:lnTo>
                    <a:lnTo>
                      <a:pt x="674" y="605"/>
                    </a:lnTo>
                    <a:lnTo>
                      <a:pt x="991" y="605"/>
                    </a:lnTo>
                    <a:lnTo>
                      <a:pt x="991" y="940"/>
                    </a:lnTo>
                    <a:lnTo>
                      <a:pt x="682" y="940"/>
                    </a:lnTo>
                    <a:lnTo>
                      <a:pt x="682" y="1756"/>
                    </a:lnTo>
                    <a:lnTo>
                      <a:pt x="699" y="1865"/>
                    </a:lnTo>
                    <a:lnTo>
                      <a:pt x="731" y="1931"/>
                    </a:lnTo>
                    <a:lnTo>
                      <a:pt x="797" y="1965"/>
                    </a:lnTo>
                    <a:lnTo>
                      <a:pt x="902" y="1982"/>
                    </a:lnTo>
                    <a:lnTo>
                      <a:pt x="918" y="1982"/>
                    </a:lnTo>
                    <a:lnTo>
                      <a:pt x="950" y="1831"/>
                    </a:lnTo>
                    <a:lnTo>
                      <a:pt x="1007" y="1696"/>
                    </a:lnTo>
                    <a:lnTo>
                      <a:pt x="1089" y="1579"/>
                    </a:lnTo>
                    <a:lnTo>
                      <a:pt x="1186" y="1470"/>
                    </a:lnTo>
                    <a:lnTo>
                      <a:pt x="1300" y="1385"/>
                    </a:lnTo>
                    <a:lnTo>
                      <a:pt x="1429" y="1319"/>
                    </a:lnTo>
                    <a:lnTo>
                      <a:pt x="1576" y="1276"/>
                    </a:lnTo>
                    <a:lnTo>
                      <a:pt x="1738" y="1259"/>
                    </a:lnTo>
                    <a:lnTo>
                      <a:pt x="1893" y="1276"/>
                    </a:lnTo>
                    <a:lnTo>
                      <a:pt x="2030" y="1319"/>
                    </a:lnTo>
                    <a:lnTo>
                      <a:pt x="2161" y="1394"/>
                    </a:lnTo>
                    <a:lnTo>
                      <a:pt x="2274" y="1486"/>
                    </a:lnTo>
                    <a:lnTo>
                      <a:pt x="2372" y="1604"/>
                    </a:lnTo>
                    <a:lnTo>
                      <a:pt x="2453" y="1739"/>
                    </a:lnTo>
                    <a:lnTo>
                      <a:pt x="2501" y="1890"/>
                    </a:lnTo>
                    <a:lnTo>
                      <a:pt x="2534" y="2050"/>
                    </a:lnTo>
                    <a:lnTo>
                      <a:pt x="2566" y="2050"/>
                    </a:lnTo>
                    <a:lnTo>
                      <a:pt x="2566" y="0"/>
                    </a:lnTo>
                    <a:lnTo>
                      <a:pt x="2989" y="0"/>
                    </a:lnTo>
                    <a:lnTo>
                      <a:pt x="2989" y="2310"/>
                    </a:lnTo>
                    <a:lnTo>
                      <a:pt x="1349" y="2310"/>
                    </a:lnTo>
                    <a:lnTo>
                      <a:pt x="1349" y="197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33000" y="6322680"/>
                <a:ext cx="154080" cy="196560"/>
              </a:xfrm>
              <a:custGeom>
                <a:avLst/>
                <a:gdLst/>
                <a:ahLst/>
                <a:rect l="l" t="t" r="r" b="b"/>
                <a:pathLst>
                  <a:path w="1463" h="1739">
                    <a:moveTo>
                      <a:pt x="463" y="571"/>
                    </a:moveTo>
                    <a:lnTo>
                      <a:pt x="512" y="495"/>
                    </a:lnTo>
                    <a:lnTo>
                      <a:pt x="577" y="445"/>
                    </a:lnTo>
                    <a:lnTo>
                      <a:pt x="651" y="411"/>
                    </a:lnTo>
                    <a:lnTo>
                      <a:pt x="739" y="403"/>
                    </a:lnTo>
                    <a:lnTo>
                      <a:pt x="870" y="428"/>
                    </a:lnTo>
                    <a:lnTo>
                      <a:pt x="967" y="495"/>
                    </a:lnTo>
                    <a:lnTo>
                      <a:pt x="1015" y="613"/>
                    </a:lnTo>
                    <a:lnTo>
                      <a:pt x="1032" y="688"/>
                    </a:lnTo>
                    <a:lnTo>
                      <a:pt x="1040" y="773"/>
                    </a:lnTo>
                    <a:lnTo>
                      <a:pt x="1040" y="1739"/>
                    </a:lnTo>
                    <a:lnTo>
                      <a:pt x="1463" y="1739"/>
                    </a:lnTo>
                    <a:lnTo>
                      <a:pt x="1463" y="688"/>
                    </a:lnTo>
                    <a:lnTo>
                      <a:pt x="1454" y="529"/>
                    </a:lnTo>
                    <a:lnTo>
                      <a:pt x="1430" y="394"/>
                    </a:lnTo>
                    <a:lnTo>
                      <a:pt x="1365" y="243"/>
                    </a:lnTo>
                    <a:lnTo>
                      <a:pt x="1316" y="176"/>
                    </a:lnTo>
                    <a:lnTo>
                      <a:pt x="1251" y="117"/>
                    </a:lnTo>
                    <a:lnTo>
                      <a:pt x="1178" y="75"/>
                    </a:lnTo>
                    <a:lnTo>
                      <a:pt x="1089" y="34"/>
                    </a:lnTo>
                    <a:lnTo>
                      <a:pt x="886" y="0"/>
                    </a:lnTo>
                    <a:lnTo>
                      <a:pt x="707" y="25"/>
                    </a:lnTo>
                    <a:lnTo>
                      <a:pt x="577" y="92"/>
                    </a:lnTo>
                    <a:lnTo>
                      <a:pt x="496" y="185"/>
                    </a:lnTo>
                    <a:lnTo>
                      <a:pt x="430" y="285"/>
                    </a:lnTo>
                    <a:lnTo>
                      <a:pt x="422" y="285"/>
                    </a:lnTo>
                    <a:lnTo>
                      <a:pt x="430" y="34"/>
                    </a:lnTo>
                    <a:lnTo>
                      <a:pt x="0" y="34"/>
                    </a:lnTo>
                    <a:lnTo>
                      <a:pt x="0" y="1739"/>
                    </a:lnTo>
                    <a:lnTo>
                      <a:pt x="422" y="1739"/>
                    </a:lnTo>
                    <a:lnTo>
                      <a:pt x="422" y="814"/>
                    </a:lnTo>
                    <a:lnTo>
                      <a:pt x="430" y="680"/>
                    </a:lnTo>
                    <a:lnTo>
                      <a:pt x="463" y="57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 name=""/>
            <p:cNvSpPr/>
            <p:nvPr/>
          </p:nvSpPr>
          <p:spPr>
            <a:xfrm>
              <a:off x="826920" y="6397560"/>
              <a:ext cx="9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1000" spc="-1" strike="noStrike">
                  <a:solidFill>
                    <a:srgbClr val="3333cc"/>
                  </a:solidFill>
                  <a:latin typeface="Arial"/>
                </a:rPr>
                <a:t>®</a:t>
              </a:r>
              <a:endParaRPr b="0" lang="en-US" sz="1000" spc="-1" strike="noStrike">
                <a:solidFill>
                  <a:srgbClr val="000000"/>
                </a:solidFill>
                <a:latin typeface="Times New Roman"/>
              </a:endParaRPr>
            </a:p>
          </p:txBody>
        </p:sp>
      </p:grpSp>
      <p:pic>
        <p:nvPicPr>
          <p:cNvPr id="8" name="pcg_treatment_color" descr=""/>
          <p:cNvPicPr/>
          <p:nvPr/>
        </p:nvPicPr>
        <p:blipFill>
          <a:blip r:embed="rId2"/>
          <a:stretch/>
        </p:blipFill>
        <p:spPr>
          <a:xfrm>
            <a:off x="7540560" y="6078600"/>
            <a:ext cx="1387440" cy="614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257040" y="6257880"/>
            <a:ext cx="663480" cy="350640"/>
            <a:chOff x="257040" y="6257880"/>
            <a:chExt cx="663480" cy="350640"/>
          </a:xfrm>
        </p:grpSpPr>
        <p:grpSp>
          <p:nvGrpSpPr>
            <p:cNvPr id="46" name=""/>
            <p:cNvGrpSpPr/>
            <p:nvPr/>
          </p:nvGrpSpPr>
          <p:grpSpPr>
            <a:xfrm>
              <a:off x="257040" y="6257880"/>
              <a:ext cx="554040" cy="350640"/>
              <a:chOff x="257040" y="6257880"/>
              <a:chExt cx="554040" cy="350640"/>
            </a:xfrm>
          </p:grpSpPr>
          <p:sp>
            <p:nvSpPr>
              <p:cNvPr id="47" name=""/>
              <p:cNvSpPr/>
              <p:nvPr/>
            </p:nvSpPr>
            <p:spPr>
              <a:xfrm>
                <a:off x="258480" y="6257880"/>
                <a:ext cx="42840" cy="45720"/>
              </a:xfrm>
              <a:prstGeom prst="rect">
                <a:avLst/>
              </a:prstGeom>
              <a:solidFill>
                <a:srgbClr val="3333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8" name=""/>
              <p:cNvSpPr/>
              <p:nvPr/>
            </p:nvSpPr>
            <p:spPr>
              <a:xfrm>
                <a:off x="257040" y="6327360"/>
                <a:ext cx="44280" cy="1918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95000" y="6257880"/>
                <a:ext cx="316080" cy="350640"/>
              </a:xfrm>
              <a:custGeom>
                <a:avLst/>
                <a:gdLst/>
                <a:ahLst/>
                <a:rect l="l" t="t" r="r" b="b"/>
                <a:pathLst>
                  <a:path w="2989" h="3082">
                    <a:moveTo>
                      <a:pt x="1349" y="1974"/>
                    </a:moveTo>
                    <a:lnTo>
                      <a:pt x="2104" y="1974"/>
                    </a:lnTo>
                    <a:lnTo>
                      <a:pt x="2096" y="1890"/>
                    </a:lnTo>
                    <a:lnTo>
                      <a:pt x="2071" y="1814"/>
                    </a:lnTo>
                    <a:lnTo>
                      <a:pt x="1990" y="1705"/>
                    </a:lnTo>
                    <a:lnTo>
                      <a:pt x="1877" y="1629"/>
                    </a:lnTo>
                    <a:lnTo>
                      <a:pt x="1738" y="1613"/>
                    </a:lnTo>
                    <a:lnTo>
                      <a:pt x="1584" y="1637"/>
                    </a:lnTo>
                    <a:lnTo>
                      <a:pt x="1470" y="1713"/>
                    </a:lnTo>
                    <a:lnTo>
                      <a:pt x="1389" y="1831"/>
                    </a:lnTo>
                    <a:lnTo>
                      <a:pt x="1349" y="1974"/>
                    </a:lnTo>
                    <a:lnTo>
                      <a:pt x="1349" y="2310"/>
                    </a:lnTo>
                    <a:lnTo>
                      <a:pt x="1380" y="2444"/>
                    </a:lnTo>
                    <a:lnTo>
                      <a:pt x="1454" y="2579"/>
                    </a:lnTo>
                    <a:lnTo>
                      <a:pt x="1568" y="2671"/>
                    </a:lnTo>
                    <a:lnTo>
                      <a:pt x="1648" y="2704"/>
                    </a:lnTo>
                    <a:lnTo>
                      <a:pt x="1738" y="2713"/>
                    </a:lnTo>
                    <a:lnTo>
                      <a:pt x="1852" y="2696"/>
                    </a:lnTo>
                    <a:lnTo>
                      <a:pt x="1949" y="2654"/>
                    </a:lnTo>
                    <a:lnTo>
                      <a:pt x="2022" y="2587"/>
                    </a:lnTo>
                    <a:lnTo>
                      <a:pt x="2071" y="2502"/>
                    </a:lnTo>
                    <a:lnTo>
                      <a:pt x="2493" y="2502"/>
                    </a:lnTo>
                    <a:lnTo>
                      <a:pt x="2453" y="2620"/>
                    </a:lnTo>
                    <a:lnTo>
                      <a:pt x="2396" y="2730"/>
                    </a:lnTo>
                    <a:lnTo>
                      <a:pt x="2315" y="2830"/>
                    </a:lnTo>
                    <a:lnTo>
                      <a:pt x="2225" y="2914"/>
                    </a:lnTo>
                    <a:lnTo>
                      <a:pt x="2112" y="2990"/>
                    </a:lnTo>
                    <a:lnTo>
                      <a:pt x="1998" y="3040"/>
                    </a:lnTo>
                    <a:lnTo>
                      <a:pt x="1868" y="3065"/>
                    </a:lnTo>
                    <a:lnTo>
                      <a:pt x="1738" y="3082"/>
                    </a:lnTo>
                    <a:lnTo>
                      <a:pt x="1600" y="3065"/>
                    </a:lnTo>
                    <a:lnTo>
                      <a:pt x="1462" y="3032"/>
                    </a:lnTo>
                    <a:lnTo>
                      <a:pt x="1332" y="2965"/>
                    </a:lnTo>
                    <a:lnTo>
                      <a:pt x="1210" y="2881"/>
                    </a:lnTo>
                    <a:lnTo>
                      <a:pt x="1104" y="2771"/>
                    </a:lnTo>
                    <a:lnTo>
                      <a:pt x="1016" y="2645"/>
                    </a:lnTo>
                    <a:lnTo>
                      <a:pt x="950" y="2494"/>
                    </a:lnTo>
                    <a:lnTo>
                      <a:pt x="910" y="2327"/>
                    </a:lnTo>
                    <a:lnTo>
                      <a:pt x="674" y="2334"/>
                    </a:lnTo>
                    <a:lnTo>
                      <a:pt x="504" y="2310"/>
                    </a:lnTo>
                    <a:lnTo>
                      <a:pt x="431" y="2285"/>
                    </a:lnTo>
                    <a:lnTo>
                      <a:pt x="374" y="2242"/>
                    </a:lnTo>
                    <a:lnTo>
                      <a:pt x="325" y="2184"/>
                    </a:lnTo>
                    <a:lnTo>
                      <a:pt x="292" y="2108"/>
                    </a:lnTo>
                    <a:lnTo>
                      <a:pt x="268" y="2007"/>
                    </a:lnTo>
                    <a:lnTo>
                      <a:pt x="261" y="1890"/>
                    </a:lnTo>
                    <a:lnTo>
                      <a:pt x="261" y="940"/>
                    </a:lnTo>
                    <a:lnTo>
                      <a:pt x="0" y="940"/>
                    </a:lnTo>
                    <a:lnTo>
                      <a:pt x="0" y="605"/>
                    </a:lnTo>
                    <a:lnTo>
                      <a:pt x="276" y="605"/>
                    </a:lnTo>
                    <a:lnTo>
                      <a:pt x="276" y="0"/>
                    </a:lnTo>
                    <a:lnTo>
                      <a:pt x="674" y="0"/>
                    </a:lnTo>
                    <a:lnTo>
                      <a:pt x="674" y="605"/>
                    </a:lnTo>
                    <a:lnTo>
                      <a:pt x="991" y="605"/>
                    </a:lnTo>
                    <a:lnTo>
                      <a:pt x="991" y="940"/>
                    </a:lnTo>
                    <a:lnTo>
                      <a:pt x="682" y="940"/>
                    </a:lnTo>
                    <a:lnTo>
                      <a:pt x="682" y="1756"/>
                    </a:lnTo>
                    <a:lnTo>
                      <a:pt x="699" y="1865"/>
                    </a:lnTo>
                    <a:lnTo>
                      <a:pt x="731" y="1931"/>
                    </a:lnTo>
                    <a:lnTo>
                      <a:pt x="797" y="1965"/>
                    </a:lnTo>
                    <a:lnTo>
                      <a:pt x="902" y="1982"/>
                    </a:lnTo>
                    <a:lnTo>
                      <a:pt x="918" y="1982"/>
                    </a:lnTo>
                    <a:lnTo>
                      <a:pt x="950" y="1831"/>
                    </a:lnTo>
                    <a:lnTo>
                      <a:pt x="1007" y="1696"/>
                    </a:lnTo>
                    <a:lnTo>
                      <a:pt x="1089" y="1579"/>
                    </a:lnTo>
                    <a:lnTo>
                      <a:pt x="1186" y="1470"/>
                    </a:lnTo>
                    <a:lnTo>
                      <a:pt x="1300" y="1385"/>
                    </a:lnTo>
                    <a:lnTo>
                      <a:pt x="1429" y="1319"/>
                    </a:lnTo>
                    <a:lnTo>
                      <a:pt x="1576" y="1276"/>
                    </a:lnTo>
                    <a:lnTo>
                      <a:pt x="1738" y="1259"/>
                    </a:lnTo>
                    <a:lnTo>
                      <a:pt x="1893" y="1276"/>
                    </a:lnTo>
                    <a:lnTo>
                      <a:pt x="2030" y="1319"/>
                    </a:lnTo>
                    <a:lnTo>
                      <a:pt x="2161" y="1394"/>
                    </a:lnTo>
                    <a:lnTo>
                      <a:pt x="2274" y="1486"/>
                    </a:lnTo>
                    <a:lnTo>
                      <a:pt x="2372" y="1604"/>
                    </a:lnTo>
                    <a:lnTo>
                      <a:pt x="2453" y="1739"/>
                    </a:lnTo>
                    <a:lnTo>
                      <a:pt x="2501" y="1890"/>
                    </a:lnTo>
                    <a:lnTo>
                      <a:pt x="2534" y="2050"/>
                    </a:lnTo>
                    <a:lnTo>
                      <a:pt x="2566" y="2050"/>
                    </a:lnTo>
                    <a:lnTo>
                      <a:pt x="2566" y="0"/>
                    </a:lnTo>
                    <a:lnTo>
                      <a:pt x="2989" y="0"/>
                    </a:lnTo>
                    <a:lnTo>
                      <a:pt x="2989" y="2310"/>
                    </a:lnTo>
                    <a:lnTo>
                      <a:pt x="1349" y="2310"/>
                    </a:lnTo>
                    <a:lnTo>
                      <a:pt x="1349" y="197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33000" y="6322680"/>
                <a:ext cx="154080" cy="196560"/>
              </a:xfrm>
              <a:custGeom>
                <a:avLst/>
                <a:gdLst/>
                <a:ahLst/>
                <a:rect l="l" t="t" r="r" b="b"/>
                <a:pathLst>
                  <a:path w="1463" h="1739">
                    <a:moveTo>
                      <a:pt x="463" y="571"/>
                    </a:moveTo>
                    <a:lnTo>
                      <a:pt x="512" y="495"/>
                    </a:lnTo>
                    <a:lnTo>
                      <a:pt x="577" y="445"/>
                    </a:lnTo>
                    <a:lnTo>
                      <a:pt x="651" y="411"/>
                    </a:lnTo>
                    <a:lnTo>
                      <a:pt x="739" y="403"/>
                    </a:lnTo>
                    <a:lnTo>
                      <a:pt x="870" y="428"/>
                    </a:lnTo>
                    <a:lnTo>
                      <a:pt x="967" y="495"/>
                    </a:lnTo>
                    <a:lnTo>
                      <a:pt x="1015" y="613"/>
                    </a:lnTo>
                    <a:lnTo>
                      <a:pt x="1032" y="688"/>
                    </a:lnTo>
                    <a:lnTo>
                      <a:pt x="1040" y="773"/>
                    </a:lnTo>
                    <a:lnTo>
                      <a:pt x="1040" y="1739"/>
                    </a:lnTo>
                    <a:lnTo>
                      <a:pt x="1463" y="1739"/>
                    </a:lnTo>
                    <a:lnTo>
                      <a:pt x="1463" y="688"/>
                    </a:lnTo>
                    <a:lnTo>
                      <a:pt x="1454" y="529"/>
                    </a:lnTo>
                    <a:lnTo>
                      <a:pt x="1430" y="394"/>
                    </a:lnTo>
                    <a:lnTo>
                      <a:pt x="1365" y="243"/>
                    </a:lnTo>
                    <a:lnTo>
                      <a:pt x="1316" y="176"/>
                    </a:lnTo>
                    <a:lnTo>
                      <a:pt x="1251" y="117"/>
                    </a:lnTo>
                    <a:lnTo>
                      <a:pt x="1178" y="75"/>
                    </a:lnTo>
                    <a:lnTo>
                      <a:pt x="1089" y="34"/>
                    </a:lnTo>
                    <a:lnTo>
                      <a:pt x="886" y="0"/>
                    </a:lnTo>
                    <a:lnTo>
                      <a:pt x="707" y="25"/>
                    </a:lnTo>
                    <a:lnTo>
                      <a:pt x="577" y="92"/>
                    </a:lnTo>
                    <a:lnTo>
                      <a:pt x="496" y="185"/>
                    </a:lnTo>
                    <a:lnTo>
                      <a:pt x="430" y="285"/>
                    </a:lnTo>
                    <a:lnTo>
                      <a:pt x="422" y="285"/>
                    </a:lnTo>
                    <a:lnTo>
                      <a:pt x="430" y="34"/>
                    </a:lnTo>
                    <a:lnTo>
                      <a:pt x="0" y="34"/>
                    </a:lnTo>
                    <a:lnTo>
                      <a:pt x="0" y="1739"/>
                    </a:lnTo>
                    <a:lnTo>
                      <a:pt x="422" y="1739"/>
                    </a:lnTo>
                    <a:lnTo>
                      <a:pt x="422" y="814"/>
                    </a:lnTo>
                    <a:lnTo>
                      <a:pt x="430" y="680"/>
                    </a:lnTo>
                    <a:lnTo>
                      <a:pt x="463" y="57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 name=""/>
            <p:cNvSpPr/>
            <p:nvPr/>
          </p:nvSpPr>
          <p:spPr>
            <a:xfrm>
              <a:off x="826920" y="6397560"/>
              <a:ext cx="9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1000" spc="-1" strike="noStrike">
                  <a:solidFill>
                    <a:srgbClr val="3333cc"/>
                  </a:solidFill>
                  <a:latin typeface="Arial"/>
                </a:rPr>
                <a:t>®</a:t>
              </a:r>
              <a:endParaRPr b="0" lang="en-US" sz="1000" spc="-1" strike="noStrike">
                <a:solidFill>
                  <a:srgbClr val="000000"/>
                </a:solidFill>
                <a:latin typeface="Times New Roman"/>
              </a:endParaRPr>
            </a:p>
          </p:txBody>
        </p:sp>
      </p:grpSp>
      <p:pic>
        <p:nvPicPr>
          <p:cNvPr id="52" name="pcg_treatment_color" descr=""/>
          <p:cNvPicPr/>
          <p:nvPr/>
        </p:nvPicPr>
        <p:blipFill>
          <a:blip r:embed="rId2"/>
          <a:stretch/>
        </p:blipFill>
        <p:spPr>
          <a:xfrm>
            <a:off x="7540560" y="6078600"/>
            <a:ext cx="1387440" cy="614160"/>
          </a:xfrm>
          <a:prstGeom prst="rect">
            <a:avLst/>
          </a:prstGeom>
          <a:ln w="0">
            <a:noFill/>
          </a:ln>
        </p:spPr>
      </p:pic>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a:rPr>
              <a:t>Click to edit the title text format</a:t>
            </a:r>
            <a:endParaRPr b="1" lang="en-US" sz="4800" spc="-1" strike="noStrike">
              <a:solidFill>
                <a:srgbClr val="0033cc"/>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outline text format</a:t>
            </a:r>
            <a:endParaRPr b="1" lang="en-US" sz="3200" spc="-1" strike="noStrike">
              <a:solidFill>
                <a:srgbClr val="0033cc"/>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econd Outline Level</a:t>
            </a:r>
            <a:endParaRPr b="1" lang="en-US" sz="2800" spc="-1" strike="noStrike">
              <a:solidFill>
                <a:srgbClr val="0033cc"/>
              </a:solidFill>
              <a:latin typeface="Arial"/>
            </a:endParaRPr>
          </a:p>
          <a:p>
            <a:pPr lvl="2" marL="914400" algn="ctr">
              <a:buClr>
                <a:srgbClr val="99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ird Outline Level</a:t>
            </a:r>
            <a:endParaRPr b="1" lang="en-US" sz="2400" spc="-1" strike="noStrike">
              <a:solidFill>
                <a:srgbClr val="0033cc"/>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3149640"/>
            <a:ext cx="9144000" cy="1158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IBIS Summit at PCB Conference Eas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Westford, M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October 15, 2002</a:t>
            </a:r>
            <a:endParaRPr b="0" lang="en-US" sz="2000" spc="-1" strike="noStrike">
              <a:solidFill>
                <a:srgbClr val="000000"/>
              </a:solidFill>
              <a:latin typeface="Times New Roman"/>
            </a:endParaRPr>
          </a:p>
        </p:txBody>
      </p:sp>
      <p:sp>
        <p:nvSpPr>
          <p:cNvPr id="92" name=""/>
          <p:cNvSpPr/>
          <p:nvPr/>
        </p:nvSpPr>
        <p:spPr>
          <a:xfrm>
            <a:off x="0" y="4854240"/>
            <a:ext cx="9144000" cy="11282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rpad Murany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gnal Integrity Engineer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Intel Corpo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rpad.muranyi@intel.com</a:t>
            </a:r>
            <a:endParaRPr b="0" lang="en-US" sz="1400" spc="-1" strike="noStrike">
              <a:solidFill>
                <a:srgbClr val="000000"/>
              </a:solidFill>
              <a:latin typeface="Times New Roman"/>
            </a:endParaRPr>
          </a:p>
        </p:txBody>
      </p:sp>
      <p:graphicFrame>
        <p:nvGraphicFramePr>
          <p:cNvPr id="93" name=""/>
          <p:cNvGraphicFramePr/>
          <p:nvPr/>
        </p:nvGraphicFramePr>
        <p:xfrm>
          <a:off x="7610400" y="246240"/>
          <a:ext cx="1228680" cy="2286000"/>
        </p:xfrm>
        <a:graphic>
          <a:graphicData uri="http://schemas.openxmlformats.org/presentationml/2006/ole">
            <p:oleObj r:id="rId1" spid="">
              <p:embed/>
              <p:pic>
                <p:nvPicPr>
                  <p:cNvPr id="94" name="" descr=""/>
                  <p:cNvPicPr/>
                  <p:nvPr/>
                </p:nvPicPr>
                <p:blipFill>
                  <a:blip r:embed="rId2"/>
                  <a:stretch/>
                </p:blipFill>
                <p:spPr>
                  <a:xfrm>
                    <a:off x="7610400" y="246240"/>
                    <a:ext cx="1228680" cy="2286000"/>
                  </a:xfrm>
                  <a:prstGeom prst="rect">
                    <a:avLst/>
                  </a:prstGeom>
                  <a:ln w="0">
                    <a:noFill/>
                  </a:ln>
                </p:spPr>
              </p:pic>
            </p:oleObj>
          </a:graphicData>
        </a:graphic>
      </p:graphicFrame>
      <p:grpSp>
        <p:nvGrpSpPr>
          <p:cNvPr id="95" name=""/>
          <p:cNvGrpSpPr/>
          <p:nvPr/>
        </p:nvGrpSpPr>
        <p:grpSpPr>
          <a:xfrm>
            <a:off x="27360" y="349200"/>
            <a:ext cx="939240" cy="760680"/>
            <a:chOff x="27360" y="349200"/>
            <a:chExt cx="939240" cy="760680"/>
          </a:xfrm>
        </p:grpSpPr>
        <p:sp>
          <p:nvSpPr>
            <p:cNvPr id="96" name=""/>
            <p:cNvSpPr/>
            <p:nvPr/>
          </p:nvSpPr>
          <p:spPr>
            <a:xfrm flipH="1" rot="8916600">
              <a:off x="38520" y="597240"/>
              <a:ext cx="918360" cy="294840"/>
            </a:xfrm>
            <a:custGeom>
              <a:avLst/>
              <a:gdLst/>
              <a:ahLst/>
              <a:rect l="l" t="t" r="r" b="b"/>
              <a:pathLst>
                <a:path stroke="0" w="21600" h="21600">
                  <a:moveTo>
                    <a:pt x="21596" y="11102"/>
                  </a:moveTo>
                  <a:arcTo wR="10800" hR="10800" stAng="96163" swAng="10671432"/>
                  <a:lnTo>
                    <a:pt x="10800" y="10800"/>
                  </a:lnTo>
                  <a:close/>
                </a:path>
                <a:path fill="none" w="21600" h="21600">
                  <a:moveTo>
                    <a:pt x="21596" y="11102"/>
                  </a:moveTo>
                  <a:arcTo wR="10800" hR="10800" stAng="96163" swAng="10671432"/>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2120" y="523800"/>
              <a:ext cx="566640" cy="428760"/>
              <a:chOff x="222120" y="523800"/>
              <a:chExt cx="566640" cy="428760"/>
            </a:xfrm>
          </p:grpSpPr>
          <p:sp>
            <p:nvSpPr>
              <p:cNvPr id="98" name=""/>
              <p:cNvSpPr txBox="1"/>
              <p:nvPr/>
            </p:nvSpPr>
            <p:spPr>
              <a:xfrm>
                <a:off x="553680" y="523800"/>
                <a:ext cx="235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I</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sp>
            <p:nvSpPr>
              <p:cNvPr id="99" name=""/>
              <p:cNvSpPr txBox="1"/>
              <p:nvPr/>
            </p:nvSpPr>
            <p:spPr>
              <a:xfrm>
                <a:off x="222120" y="523800"/>
                <a:ext cx="2836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S</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grpSp>
        <p:sp>
          <p:nvSpPr>
            <p:cNvPr id="100" name=""/>
            <p:cNvSpPr/>
            <p:nvPr/>
          </p:nvSpPr>
          <p:spPr>
            <a:xfrm flipH="1" rot="8916600">
              <a:off x="36360" y="596160"/>
              <a:ext cx="919080" cy="293760"/>
            </a:xfrm>
            <a:custGeom>
              <a:avLst/>
              <a:gdLst/>
              <a:ahLst/>
              <a:rect l="l" t="t" r="r" b="b"/>
              <a:pathLst>
                <a:path stroke="0" w="21600" h="21600">
                  <a:moveTo>
                    <a:pt x="2" y="10985"/>
                  </a:moveTo>
                  <a:arcTo wR="10800" hR="10800" stAng="10741070" swAng="11125369"/>
                  <a:lnTo>
                    <a:pt x="10800" y="10800"/>
                  </a:lnTo>
                  <a:close/>
                </a:path>
                <a:path fill="none" w="21600" h="21600">
                  <a:moveTo>
                    <a:pt x="2" y="10985"/>
                  </a:moveTo>
                  <a:arcTo wR="10800" hR="10800" stAng="10741070" swAng="11125369"/>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txBox="1"/>
            <p:nvPr/>
          </p:nvSpPr>
          <p:spPr>
            <a:xfrm>
              <a:off x="800280" y="349200"/>
              <a:ext cx="137880" cy="13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rPr>
                <a:t>e</a:t>
              </a:r>
              <a:endPar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ea typeface="Times New Roman"/>
              </a:endParaRPr>
            </a:p>
          </p:txBody>
        </p:sp>
      </p:grpSp>
      <p:sp>
        <p:nvSpPr>
          <p:cNvPr id="102" name=""/>
          <p:cNvSpPr/>
          <p:nvPr/>
        </p:nvSpPr>
        <p:spPr>
          <a:xfrm>
            <a:off x="914400" y="914400"/>
            <a:ext cx="6934320" cy="1684440"/>
          </a:xfrm>
          <a:prstGeom prst="rect">
            <a:avLst/>
          </a:prstGeom>
          <a:noFill/>
          <a:ln w="0">
            <a:noFill/>
          </a:ln>
        </p:spPr>
        <p:style>
          <a:lnRef idx="0"/>
          <a:fillRef idx="0"/>
          <a:effectRef idx="0"/>
          <a:fontRef idx="minor"/>
        </p:style>
        <p:txBody>
          <a:bodyPr lIns="90360" rIns="90360" tIns="44280" bIns="442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re Details on True Differential Buffer Characteriza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ifferential IV curve and impedance</a:t>
            </a:r>
            <a:endParaRPr b="0" lang="en-US" sz="4000" spc="-1" strike="noStrike">
              <a:solidFill>
                <a:srgbClr val="000000"/>
              </a:solidFill>
              <a:latin typeface="Times New Roman"/>
            </a:endParaRPr>
          </a:p>
        </p:txBody>
      </p:sp>
      <p:grpSp>
        <p:nvGrpSpPr>
          <p:cNvPr id="321" name=""/>
          <p:cNvGrpSpPr/>
          <p:nvPr/>
        </p:nvGrpSpPr>
        <p:grpSpPr>
          <a:xfrm>
            <a:off x="31680" y="1146240"/>
            <a:ext cx="9080640" cy="4455000"/>
            <a:chOff x="31680" y="1146240"/>
            <a:chExt cx="9080640" cy="4455000"/>
          </a:xfrm>
        </p:grpSpPr>
        <p:grpSp>
          <p:nvGrpSpPr>
            <p:cNvPr id="322" name=""/>
            <p:cNvGrpSpPr/>
            <p:nvPr/>
          </p:nvGrpSpPr>
          <p:grpSpPr>
            <a:xfrm>
              <a:off x="4578480" y="1146240"/>
              <a:ext cx="4533840" cy="4455000"/>
              <a:chOff x="4578480" y="1146240"/>
              <a:chExt cx="4533840" cy="4455000"/>
            </a:xfrm>
          </p:grpSpPr>
          <p:sp>
            <p:nvSpPr>
              <p:cNvPr id="323" name=""/>
              <p:cNvSpPr/>
              <p:nvPr/>
            </p:nvSpPr>
            <p:spPr>
              <a:xfrm>
                <a:off x="5173560" y="4741920"/>
                <a:ext cx="334440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Differential impedance (when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is low)</a:t>
                </a:r>
                <a:endParaRPr b="0" lang="en-US" sz="2400" spc="-1" strike="noStrike">
                  <a:solidFill>
                    <a:srgbClr val="000000"/>
                  </a:solidFill>
                  <a:latin typeface="Times New Roman"/>
                </a:endParaRPr>
              </a:p>
            </p:txBody>
          </p:sp>
          <p:pic>
            <p:nvPicPr>
              <p:cNvPr id="324" name="" descr=""/>
              <p:cNvPicPr/>
              <p:nvPr/>
            </p:nvPicPr>
            <p:blipFill>
              <a:blip r:embed="rId1"/>
              <a:stretch/>
            </p:blipFill>
            <p:spPr>
              <a:xfrm>
                <a:off x="4578480" y="1146240"/>
                <a:ext cx="4533840" cy="3402000"/>
              </a:xfrm>
              <a:prstGeom prst="rect">
                <a:avLst/>
              </a:prstGeom>
              <a:ln w="0">
                <a:noFill/>
              </a:ln>
            </p:spPr>
          </p:pic>
        </p:grpSp>
        <p:grpSp>
          <p:nvGrpSpPr>
            <p:cNvPr id="325" name=""/>
            <p:cNvGrpSpPr/>
            <p:nvPr/>
          </p:nvGrpSpPr>
          <p:grpSpPr>
            <a:xfrm>
              <a:off x="31680" y="1146240"/>
              <a:ext cx="4533840" cy="4455000"/>
              <a:chOff x="31680" y="1146240"/>
              <a:chExt cx="4533840" cy="4455000"/>
            </a:xfrm>
          </p:grpSpPr>
          <p:sp>
            <p:nvSpPr>
              <p:cNvPr id="326" name=""/>
              <p:cNvSpPr/>
              <p:nvPr/>
            </p:nvSpPr>
            <p:spPr>
              <a:xfrm>
                <a:off x="866880" y="4741920"/>
                <a:ext cx="286200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Differential current (when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is low)</a:t>
                </a:r>
                <a:endParaRPr b="0" lang="en-US" sz="2400" spc="-1" strike="noStrike">
                  <a:solidFill>
                    <a:srgbClr val="000000"/>
                  </a:solidFill>
                  <a:latin typeface="Times New Roman"/>
                </a:endParaRPr>
              </a:p>
            </p:txBody>
          </p:sp>
          <p:grpSp>
            <p:nvGrpSpPr>
              <p:cNvPr id="327" name=""/>
              <p:cNvGrpSpPr/>
              <p:nvPr/>
            </p:nvGrpSpPr>
            <p:grpSpPr>
              <a:xfrm>
                <a:off x="31680" y="1146240"/>
                <a:ext cx="4533840" cy="3460680"/>
                <a:chOff x="31680" y="1146240"/>
                <a:chExt cx="4533840" cy="3460680"/>
              </a:xfrm>
            </p:grpSpPr>
            <p:pic>
              <p:nvPicPr>
                <p:cNvPr id="328" name="" descr=""/>
                <p:cNvPicPr/>
                <p:nvPr/>
              </p:nvPicPr>
              <p:blipFill>
                <a:blip r:embed="rId2"/>
                <a:stretch/>
              </p:blipFill>
              <p:spPr>
                <a:xfrm>
                  <a:off x="31680" y="1146240"/>
                  <a:ext cx="4533840" cy="3400560"/>
                </a:xfrm>
                <a:prstGeom prst="rect">
                  <a:avLst/>
                </a:prstGeom>
                <a:ln w="0">
                  <a:noFill/>
                </a:ln>
              </p:spPr>
            </p:pic>
            <p:grpSp>
              <p:nvGrpSpPr>
                <p:cNvPr id="329" name=""/>
                <p:cNvGrpSpPr/>
                <p:nvPr/>
              </p:nvGrpSpPr>
              <p:grpSpPr>
                <a:xfrm>
                  <a:off x="2069640" y="3892320"/>
                  <a:ext cx="2013480" cy="714600"/>
                  <a:chOff x="2069640" y="3892320"/>
                  <a:chExt cx="2013480" cy="714600"/>
                </a:xfrm>
              </p:grpSpPr>
              <p:sp>
                <p:nvSpPr>
                  <p:cNvPr id="330" name=""/>
                  <p:cNvSpPr/>
                  <p:nvPr/>
                </p:nvSpPr>
                <p:spPr>
                  <a:xfrm>
                    <a:off x="2637000" y="4113360"/>
                    <a:ext cx="1446120" cy="493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8000"/>
                        </a:solidFill>
                        <a:latin typeface="Times New Roman"/>
                      </a:rPr>
                      <a:t>I</a:t>
                    </a:r>
                    <a:r>
                      <a:rPr b="1" lang="en-US" sz="2400" spc="-1" strike="noStrike" baseline="-20000">
                        <a:solidFill>
                          <a:srgbClr val="008000"/>
                        </a:solidFill>
                        <a:latin typeface="Times New Roman"/>
                      </a:rPr>
                      <a:t>diff </a:t>
                    </a:r>
                    <a:r>
                      <a:rPr b="1" lang="en-US" sz="2400" spc="-1" strike="noStrike">
                        <a:solidFill>
                          <a:srgbClr val="008000"/>
                        </a:solidFill>
                        <a:latin typeface="Times New Roman"/>
                      </a:rPr>
                      <a:t>= 0</a:t>
                    </a:r>
                    <a:endParaRPr b="0" lang="en-US" sz="2400" spc="-1" strike="noStrike">
                      <a:solidFill>
                        <a:srgbClr val="000000"/>
                      </a:solidFill>
                      <a:latin typeface="Times New Roman"/>
                    </a:endParaRPr>
                  </a:p>
                </p:txBody>
              </p:sp>
              <p:sp>
                <p:nvSpPr>
                  <p:cNvPr id="331" name=""/>
                  <p:cNvSpPr/>
                  <p:nvPr/>
                </p:nvSpPr>
                <p:spPr>
                  <a:xfrm flipH="1" flipV="1">
                    <a:off x="2069640" y="3892320"/>
                    <a:ext cx="808200" cy="430200"/>
                  </a:xfrm>
                  <a:prstGeom prst="line">
                    <a:avLst/>
                  </a:prstGeom>
                  <a:ln w="2556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2" name=""/>
          <p:cNvSpPr/>
          <p:nvPr/>
        </p:nvSpPr>
        <p:spPr>
          <a:xfrm>
            <a:off x="0" y="5608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ifferential buffer in drive mode without a 100 </a:t>
            </a:r>
            <a:r>
              <a:rPr b="1" lang="en-US" sz="2400" spc="-1" strike="noStrike">
                <a:solidFill>
                  <a:srgbClr val="008000"/>
                </a:solidFill>
                <a:latin typeface="Symbol"/>
                <a:ea typeface="Symbol"/>
              </a:rPr>
              <a:t></a:t>
            </a:r>
            <a:r>
              <a:rPr b="1" lang="en-US" sz="2400" spc="-1" strike="noStrike">
                <a:solidFill>
                  <a:srgbClr val="008000"/>
                </a:solidFill>
                <a:latin typeface="Times New Roman"/>
              </a:rPr>
              <a:t> parallel resis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IV surface of measured (total) currents</a:t>
            </a:r>
            <a:endParaRPr b="0" lang="en-US" sz="4000" spc="-1" strike="noStrike">
              <a:solidFill>
                <a:srgbClr val="000000"/>
              </a:solidFill>
              <a:latin typeface="Times New Roman"/>
            </a:endParaRPr>
          </a:p>
        </p:txBody>
      </p:sp>
      <p:sp>
        <p:nvSpPr>
          <p:cNvPr id="334" name=""/>
          <p:cNvSpPr/>
          <p:nvPr/>
        </p:nvSpPr>
        <p:spPr>
          <a:xfrm>
            <a:off x="0" y="5608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ifferential buffer in drive mode with a 100 </a:t>
            </a:r>
            <a:r>
              <a:rPr b="1" lang="en-US" sz="2400" spc="-1" strike="noStrike">
                <a:solidFill>
                  <a:srgbClr val="008000"/>
                </a:solidFill>
                <a:latin typeface="Symbol"/>
                <a:ea typeface="Symbol"/>
              </a:rPr>
              <a:t></a:t>
            </a:r>
            <a:r>
              <a:rPr b="1" lang="en-US" sz="2400" spc="-1" strike="noStrike">
                <a:solidFill>
                  <a:srgbClr val="008000"/>
                </a:solidFill>
                <a:latin typeface="Times New Roman"/>
              </a:rPr>
              <a:t> parallel resistor</a:t>
            </a:r>
            <a:endParaRPr b="0" lang="en-US" sz="2400" spc="-1" strike="noStrike">
              <a:solidFill>
                <a:srgbClr val="000000"/>
              </a:solidFill>
              <a:latin typeface="Times New Roman"/>
            </a:endParaRPr>
          </a:p>
        </p:txBody>
      </p:sp>
      <p:grpSp>
        <p:nvGrpSpPr>
          <p:cNvPr id="335" name=""/>
          <p:cNvGrpSpPr/>
          <p:nvPr/>
        </p:nvGrpSpPr>
        <p:grpSpPr>
          <a:xfrm>
            <a:off x="30240" y="1146240"/>
            <a:ext cx="9082080" cy="4455000"/>
            <a:chOff x="30240" y="1146240"/>
            <a:chExt cx="9082080" cy="4455000"/>
          </a:xfrm>
        </p:grpSpPr>
        <p:grpSp>
          <p:nvGrpSpPr>
            <p:cNvPr id="336" name=""/>
            <p:cNvGrpSpPr/>
            <p:nvPr/>
          </p:nvGrpSpPr>
          <p:grpSpPr>
            <a:xfrm>
              <a:off x="30240" y="1146240"/>
              <a:ext cx="4533840" cy="4455000"/>
              <a:chOff x="30240" y="1146240"/>
              <a:chExt cx="4533840" cy="4455000"/>
            </a:xfrm>
          </p:grpSpPr>
          <p:sp>
            <p:nvSpPr>
              <p:cNvPr id="337" name=""/>
              <p:cNvSpPr/>
              <p:nvPr/>
            </p:nvSpPr>
            <p:spPr>
              <a:xfrm>
                <a:off x="625320" y="4741920"/>
                <a:ext cx="334512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I</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vs.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and V</a:t>
                </a:r>
                <a:r>
                  <a:rPr b="1" lang="en-US" sz="2400" spc="-1" strike="noStrike" baseline="-20000">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low state)</a:t>
                </a:r>
                <a:endParaRPr b="0" lang="en-US" sz="2400" spc="-1" strike="noStrike">
                  <a:solidFill>
                    <a:srgbClr val="000000"/>
                  </a:solidFill>
                  <a:latin typeface="Times New Roman"/>
                </a:endParaRPr>
              </a:p>
            </p:txBody>
          </p:sp>
          <p:pic>
            <p:nvPicPr>
              <p:cNvPr id="338" name="" descr=""/>
              <p:cNvPicPr/>
              <p:nvPr/>
            </p:nvPicPr>
            <p:blipFill>
              <a:blip r:embed="rId1"/>
              <a:stretch/>
            </p:blipFill>
            <p:spPr>
              <a:xfrm>
                <a:off x="30240" y="1146240"/>
                <a:ext cx="4533840" cy="3400560"/>
              </a:xfrm>
              <a:prstGeom prst="rect">
                <a:avLst/>
              </a:prstGeom>
              <a:ln w="0">
                <a:noFill/>
              </a:ln>
            </p:spPr>
          </p:pic>
        </p:grpSp>
        <p:grpSp>
          <p:nvGrpSpPr>
            <p:cNvPr id="339" name=""/>
            <p:cNvGrpSpPr/>
            <p:nvPr/>
          </p:nvGrpSpPr>
          <p:grpSpPr>
            <a:xfrm>
              <a:off x="4578480" y="1146240"/>
              <a:ext cx="4533840" cy="4455000"/>
              <a:chOff x="4578480" y="1146240"/>
              <a:chExt cx="4533840" cy="4455000"/>
            </a:xfrm>
          </p:grpSpPr>
          <p:sp>
            <p:nvSpPr>
              <p:cNvPr id="340" name=""/>
              <p:cNvSpPr/>
              <p:nvPr/>
            </p:nvSpPr>
            <p:spPr>
              <a:xfrm>
                <a:off x="5173560" y="4741920"/>
                <a:ext cx="334512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I</a:t>
                </a:r>
                <a:r>
                  <a:rPr b="1" lang="en-US" sz="2400" spc="-1" strike="noStrike" baseline="-20000">
                    <a:solidFill>
                      <a:srgbClr val="000000"/>
                    </a:solidFill>
                    <a:latin typeface="Times New Roman"/>
                  </a:rPr>
                  <a:t>n</a:t>
                </a:r>
                <a:r>
                  <a:rPr b="1" lang="en-US" sz="2400" spc="-1" strike="noStrike">
                    <a:solidFill>
                      <a:srgbClr val="000000"/>
                    </a:solidFill>
                    <a:latin typeface="Times New Roman"/>
                  </a:rPr>
                  <a:t> vs.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and V</a:t>
                </a:r>
                <a:r>
                  <a:rPr b="1" lang="en-US" sz="2400" spc="-1" strike="noStrike" baseline="-20000">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high state)</a:t>
                </a:r>
                <a:endParaRPr b="0" lang="en-US" sz="2400" spc="-1" strike="noStrike">
                  <a:solidFill>
                    <a:srgbClr val="000000"/>
                  </a:solidFill>
                  <a:latin typeface="Times New Roman"/>
                </a:endParaRPr>
              </a:p>
            </p:txBody>
          </p:sp>
          <p:pic>
            <p:nvPicPr>
              <p:cNvPr id="341" name="" descr=""/>
              <p:cNvPicPr/>
              <p:nvPr/>
            </p:nvPicPr>
            <p:blipFill>
              <a:blip r:embed="rId2"/>
              <a:stretch/>
            </p:blipFill>
            <p:spPr>
              <a:xfrm>
                <a:off x="4578480" y="1146240"/>
                <a:ext cx="4533840" cy="340056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ifferential IV curve and impedance</a:t>
            </a:r>
            <a:endParaRPr b="0" lang="en-US" sz="4000" spc="-1" strike="noStrike">
              <a:solidFill>
                <a:srgbClr val="000000"/>
              </a:solidFill>
              <a:latin typeface="Times New Roman"/>
            </a:endParaRPr>
          </a:p>
        </p:txBody>
      </p:sp>
      <p:sp>
        <p:nvSpPr>
          <p:cNvPr id="343" name=""/>
          <p:cNvSpPr/>
          <p:nvPr/>
        </p:nvSpPr>
        <p:spPr>
          <a:xfrm>
            <a:off x="0" y="5608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ifferential buffer in drive mode with a 100 </a:t>
            </a:r>
            <a:r>
              <a:rPr b="1" lang="en-US" sz="2400" spc="-1" strike="noStrike">
                <a:solidFill>
                  <a:srgbClr val="008000"/>
                </a:solidFill>
                <a:latin typeface="Symbol"/>
                <a:ea typeface="Symbol"/>
              </a:rPr>
              <a:t></a:t>
            </a:r>
            <a:r>
              <a:rPr b="1" lang="en-US" sz="2400" spc="-1" strike="noStrike">
                <a:solidFill>
                  <a:srgbClr val="008000"/>
                </a:solidFill>
                <a:latin typeface="Times New Roman"/>
              </a:rPr>
              <a:t> parallel resistor</a:t>
            </a:r>
            <a:endParaRPr b="0" lang="en-US" sz="2400" spc="-1" strike="noStrike">
              <a:solidFill>
                <a:srgbClr val="000000"/>
              </a:solidFill>
              <a:latin typeface="Times New Roman"/>
            </a:endParaRPr>
          </a:p>
        </p:txBody>
      </p:sp>
      <p:grpSp>
        <p:nvGrpSpPr>
          <p:cNvPr id="344" name=""/>
          <p:cNvGrpSpPr/>
          <p:nvPr/>
        </p:nvGrpSpPr>
        <p:grpSpPr>
          <a:xfrm>
            <a:off x="31680" y="1146240"/>
            <a:ext cx="9080640" cy="4455000"/>
            <a:chOff x="31680" y="1146240"/>
            <a:chExt cx="9080640" cy="4455000"/>
          </a:xfrm>
        </p:grpSpPr>
        <p:grpSp>
          <p:nvGrpSpPr>
            <p:cNvPr id="345" name=""/>
            <p:cNvGrpSpPr/>
            <p:nvPr/>
          </p:nvGrpSpPr>
          <p:grpSpPr>
            <a:xfrm>
              <a:off x="31680" y="1146240"/>
              <a:ext cx="4533840" cy="4455000"/>
              <a:chOff x="31680" y="1146240"/>
              <a:chExt cx="4533840" cy="4455000"/>
            </a:xfrm>
          </p:grpSpPr>
          <p:sp>
            <p:nvSpPr>
              <p:cNvPr id="346" name=""/>
              <p:cNvSpPr/>
              <p:nvPr/>
            </p:nvSpPr>
            <p:spPr>
              <a:xfrm>
                <a:off x="866880" y="4741920"/>
                <a:ext cx="286200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Differential current (when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is low)</a:t>
                </a:r>
                <a:endParaRPr b="0" lang="en-US" sz="2400" spc="-1" strike="noStrike">
                  <a:solidFill>
                    <a:srgbClr val="000000"/>
                  </a:solidFill>
                  <a:latin typeface="Times New Roman"/>
                </a:endParaRPr>
              </a:p>
            </p:txBody>
          </p:sp>
          <p:grpSp>
            <p:nvGrpSpPr>
              <p:cNvPr id="347" name=""/>
              <p:cNvGrpSpPr/>
              <p:nvPr/>
            </p:nvGrpSpPr>
            <p:grpSpPr>
              <a:xfrm>
                <a:off x="31680" y="1146240"/>
                <a:ext cx="4533840" cy="3460680"/>
                <a:chOff x="31680" y="1146240"/>
                <a:chExt cx="4533840" cy="3460680"/>
              </a:xfrm>
            </p:grpSpPr>
            <p:pic>
              <p:nvPicPr>
                <p:cNvPr id="348" name="" descr=""/>
                <p:cNvPicPr/>
                <p:nvPr/>
              </p:nvPicPr>
              <p:blipFill>
                <a:blip r:embed="rId1"/>
                <a:stretch/>
              </p:blipFill>
              <p:spPr>
                <a:xfrm>
                  <a:off x="31680" y="1146240"/>
                  <a:ext cx="4533840" cy="3400560"/>
                </a:xfrm>
                <a:prstGeom prst="rect">
                  <a:avLst/>
                </a:prstGeom>
                <a:ln w="0">
                  <a:noFill/>
                </a:ln>
              </p:spPr>
            </p:pic>
            <p:grpSp>
              <p:nvGrpSpPr>
                <p:cNvPr id="349" name=""/>
                <p:cNvGrpSpPr/>
                <p:nvPr/>
              </p:nvGrpSpPr>
              <p:grpSpPr>
                <a:xfrm>
                  <a:off x="2069640" y="3892320"/>
                  <a:ext cx="2013480" cy="714600"/>
                  <a:chOff x="2069640" y="3892320"/>
                  <a:chExt cx="2013480" cy="714600"/>
                </a:xfrm>
              </p:grpSpPr>
              <p:sp>
                <p:nvSpPr>
                  <p:cNvPr id="350" name=""/>
                  <p:cNvSpPr/>
                  <p:nvPr/>
                </p:nvSpPr>
                <p:spPr>
                  <a:xfrm>
                    <a:off x="2637000" y="4113360"/>
                    <a:ext cx="1446120" cy="493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8000"/>
                        </a:solidFill>
                        <a:latin typeface="Times New Roman"/>
                      </a:rPr>
                      <a:t>I</a:t>
                    </a:r>
                    <a:r>
                      <a:rPr b="1" lang="en-US" sz="2400" spc="-1" strike="noStrike" baseline="-20000">
                        <a:solidFill>
                          <a:srgbClr val="008000"/>
                        </a:solidFill>
                        <a:latin typeface="Times New Roman"/>
                      </a:rPr>
                      <a:t>diff </a:t>
                    </a:r>
                    <a:r>
                      <a:rPr b="1" lang="en-US" sz="2400" spc="-1" strike="noStrike">
                        <a:solidFill>
                          <a:srgbClr val="008000"/>
                        </a:solidFill>
                        <a:latin typeface="Times New Roman"/>
                      </a:rPr>
                      <a:t>= 0</a:t>
                    </a:r>
                    <a:endParaRPr b="0" lang="en-US" sz="2400" spc="-1" strike="noStrike">
                      <a:solidFill>
                        <a:srgbClr val="000000"/>
                      </a:solidFill>
                      <a:latin typeface="Times New Roman"/>
                    </a:endParaRPr>
                  </a:p>
                </p:txBody>
              </p:sp>
              <p:sp>
                <p:nvSpPr>
                  <p:cNvPr id="351" name=""/>
                  <p:cNvSpPr/>
                  <p:nvPr/>
                </p:nvSpPr>
                <p:spPr>
                  <a:xfrm flipH="1" flipV="1">
                    <a:off x="2069640" y="3892320"/>
                    <a:ext cx="808200" cy="430200"/>
                  </a:xfrm>
                  <a:prstGeom prst="line">
                    <a:avLst/>
                  </a:prstGeom>
                  <a:ln w="2556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4578480" y="1146240"/>
              <a:ext cx="4533840" cy="4455000"/>
              <a:chOff x="4578480" y="1146240"/>
              <a:chExt cx="4533840" cy="4455000"/>
            </a:xfrm>
          </p:grpSpPr>
          <p:sp>
            <p:nvSpPr>
              <p:cNvPr id="353" name=""/>
              <p:cNvSpPr/>
              <p:nvPr/>
            </p:nvSpPr>
            <p:spPr>
              <a:xfrm>
                <a:off x="5173560" y="4741920"/>
                <a:ext cx="334512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Differential impedance (when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is low)</a:t>
                </a:r>
                <a:endParaRPr b="0" lang="en-US" sz="2400" spc="-1" strike="noStrike">
                  <a:solidFill>
                    <a:srgbClr val="000000"/>
                  </a:solidFill>
                  <a:latin typeface="Times New Roman"/>
                </a:endParaRPr>
              </a:p>
            </p:txBody>
          </p:sp>
          <p:pic>
            <p:nvPicPr>
              <p:cNvPr id="354" name="" descr=""/>
              <p:cNvPicPr/>
              <p:nvPr/>
            </p:nvPicPr>
            <p:blipFill>
              <a:blip r:embed="rId2"/>
              <a:stretch/>
            </p:blipFill>
            <p:spPr>
              <a:xfrm>
                <a:off x="4578480" y="1146240"/>
                <a:ext cx="4533840" cy="3400560"/>
              </a:xfrm>
              <a:prstGeom prst="rect">
                <a:avLst/>
              </a:prstGeom>
              <a:ln w="0">
                <a:noFill/>
              </a:ln>
            </p:spPr>
          </p:pic>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IV surface of measured (total) currents</a:t>
            </a:r>
            <a:endParaRPr b="0" lang="en-US" sz="4000" spc="-1" strike="noStrike">
              <a:solidFill>
                <a:srgbClr val="000000"/>
              </a:solidFill>
              <a:latin typeface="Times New Roman"/>
            </a:endParaRPr>
          </a:p>
        </p:txBody>
      </p:sp>
      <p:sp>
        <p:nvSpPr>
          <p:cNvPr id="356" name=""/>
          <p:cNvSpPr/>
          <p:nvPr/>
        </p:nvSpPr>
        <p:spPr>
          <a:xfrm>
            <a:off x="0" y="5608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ifferential buffer in receive mode without a 100 </a:t>
            </a:r>
            <a:r>
              <a:rPr b="1" lang="en-US" sz="2400" spc="-1" strike="noStrike">
                <a:solidFill>
                  <a:srgbClr val="008000"/>
                </a:solidFill>
                <a:latin typeface="Symbol"/>
                <a:ea typeface="Symbol"/>
              </a:rPr>
              <a:t></a:t>
            </a:r>
            <a:r>
              <a:rPr b="1" lang="en-US" sz="2400" spc="-1" strike="noStrike">
                <a:solidFill>
                  <a:srgbClr val="008000"/>
                </a:solidFill>
                <a:latin typeface="Times New Roman"/>
              </a:rPr>
              <a:t> parallel resistor</a:t>
            </a:r>
            <a:endParaRPr b="0" lang="en-US" sz="2400" spc="-1" strike="noStrike">
              <a:solidFill>
                <a:srgbClr val="000000"/>
              </a:solidFill>
              <a:latin typeface="Times New Roman"/>
            </a:endParaRPr>
          </a:p>
        </p:txBody>
      </p:sp>
      <p:grpSp>
        <p:nvGrpSpPr>
          <p:cNvPr id="357" name=""/>
          <p:cNvGrpSpPr/>
          <p:nvPr/>
        </p:nvGrpSpPr>
        <p:grpSpPr>
          <a:xfrm>
            <a:off x="30240" y="1146240"/>
            <a:ext cx="9082080" cy="4455000"/>
            <a:chOff x="30240" y="1146240"/>
            <a:chExt cx="9082080" cy="4455000"/>
          </a:xfrm>
        </p:grpSpPr>
        <p:grpSp>
          <p:nvGrpSpPr>
            <p:cNvPr id="358" name=""/>
            <p:cNvGrpSpPr/>
            <p:nvPr/>
          </p:nvGrpSpPr>
          <p:grpSpPr>
            <a:xfrm>
              <a:off x="30240" y="1146240"/>
              <a:ext cx="4533840" cy="4455000"/>
              <a:chOff x="30240" y="1146240"/>
              <a:chExt cx="4533840" cy="4455000"/>
            </a:xfrm>
          </p:grpSpPr>
          <p:sp>
            <p:nvSpPr>
              <p:cNvPr id="359" name=""/>
              <p:cNvSpPr/>
              <p:nvPr/>
            </p:nvSpPr>
            <p:spPr>
              <a:xfrm>
                <a:off x="625320" y="4741920"/>
                <a:ext cx="334512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I</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vs.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and V</a:t>
                </a:r>
                <a:r>
                  <a:rPr b="1" lang="en-US" sz="2400" spc="-1" strike="noStrike" baseline="-20000">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low state)</a:t>
                </a:r>
                <a:endParaRPr b="0" lang="en-US" sz="2400" spc="-1" strike="noStrike">
                  <a:solidFill>
                    <a:srgbClr val="000000"/>
                  </a:solidFill>
                  <a:latin typeface="Times New Roman"/>
                </a:endParaRPr>
              </a:p>
            </p:txBody>
          </p:sp>
          <p:pic>
            <p:nvPicPr>
              <p:cNvPr id="360" name="" descr=""/>
              <p:cNvPicPr/>
              <p:nvPr/>
            </p:nvPicPr>
            <p:blipFill>
              <a:blip r:embed="rId1"/>
              <a:stretch/>
            </p:blipFill>
            <p:spPr>
              <a:xfrm>
                <a:off x="30240" y="1146240"/>
                <a:ext cx="4533840" cy="3400560"/>
              </a:xfrm>
              <a:prstGeom prst="rect">
                <a:avLst/>
              </a:prstGeom>
              <a:ln w="0">
                <a:noFill/>
              </a:ln>
            </p:spPr>
          </p:pic>
        </p:grpSp>
        <p:grpSp>
          <p:nvGrpSpPr>
            <p:cNvPr id="361" name=""/>
            <p:cNvGrpSpPr/>
            <p:nvPr/>
          </p:nvGrpSpPr>
          <p:grpSpPr>
            <a:xfrm>
              <a:off x="4578480" y="1146240"/>
              <a:ext cx="4533840" cy="4455000"/>
              <a:chOff x="4578480" y="1146240"/>
              <a:chExt cx="4533840" cy="4455000"/>
            </a:xfrm>
          </p:grpSpPr>
          <p:sp>
            <p:nvSpPr>
              <p:cNvPr id="362" name=""/>
              <p:cNvSpPr/>
              <p:nvPr/>
            </p:nvSpPr>
            <p:spPr>
              <a:xfrm>
                <a:off x="5173560" y="4741920"/>
                <a:ext cx="334512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I</a:t>
                </a:r>
                <a:r>
                  <a:rPr b="1" lang="en-US" sz="2400" spc="-1" strike="noStrike" baseline="-20000">
                    <a:solidFill>
                      <a:srgbClr val="000000"/>
                    </a:solidFill>
                    <a:latin typeface="Times New Roman"/>
                  </a:rPr>
                  <a:t>n</a:t>
                </a:r>
                <a:r>
                  <a:rPr b="1" lang="en-US" sz="2400" spc="-1" strike="noStrike">
                    <a:solidFill>
                      <a:srgbClr val="000000"/>
                    </a:solidFill>
                    <a:latin typeface="Times New Roman"/>
                  </a:rPr>
                  <a:t> vs.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and V</a:t>
                </a:r>
                <a:r>
                  <a:rPr b="1" lang="en-US" sz="2400" spc="-1" strike="noStrike" baseline="-20000">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high state)</a:t>
                </a:r>
                <a:endParaRPr b="0" lang="en-US" sz="2400" spc="-1" strike="noStrike">
                  <a:solidFill>
                    <a:srgbClr val="000000"/>
                  </a:solidFill>
                  <a:latin typeface="Times New Roman"/>
                </a:endParaRPr>
              </a:p>
            </p:txBody>
          </p:sp>
          <p:pic>
            <p:nvPicPr>
              <p:cNvPr id="363" name="" descr=""/>
              <p:cNvPicPr/>
              <p:nvPr/>
            </p:nvPicPr>
            <p:blipFill>
              <a:blip r:embed="rId2"/>
              <a:stretch/>
            </p:blipFill>
            <p:spPr>
              <a:xfrm>
                <a:off x="4578480" y="1146240"/>
                <a:ext cx="4533840" cy="340056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ifferential IV curve and impedance</a:t>
            </a:r>
            <a:endParaRPr b="0" lang="en-US" sz="4000" spc="-1" strike="noStrike">
              <a:solidFill>
                <a:srgbClr val="000000"/>
              </a:solidFill>
              <a:latin typeface="Times New Roman"/>
            </a:endParaRPr>
          </a:p>
        </p:txBody>
      </p:sp>
      <p:sp>
        <p:nvSpPr>
          <p:cNvPr id="365" name=""/>
          <p:cNvSpPr/>
          <p:nvPr/>
        </p:nvSpPr>
        <p:spPr>
          <a:xfrm>
            <a:off x="0" y="5608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ifferential buffer in receive mode without a 100 </a:t>
            </a:r>
            <a:r>
              <a:rPr b="1" lang="en-US" sz="2400" spc="-1" strike="noStrike">
                <a:solidFill>
                  <a:srgbClr val="008000"/>
                </a:solidFill>
                <a:latin typeface="Symbol"/>
                <a:ea typeface="Symbol"/>
              </a:rPr>
              <a:t></a:t>
            </a:r>
            <a:r>
              <a:rPr b="1" lang="en-US" sz="2400" spc="-1" strike="noStrike">
                <a:solidFill>
                  <a:srgbClr val="008000"/>
                </a:solidFill>
                <a:latin typeface="Times New Roman"/>
              </a:rPr>
              <a:t> parallel resistor</a:t>
            </a:r>
            <a:endParaRPr b="0" lang="en-US" sz="2400" spc="-1" strike="noStrike">
              <a:solidFill>
                <a:srgbClr val="000000"/>
              </a:solidFill>
              <a:latin typeface="Times New Roman"/>
            </a:endParaRPr>
          </a:p>
        </p:txBody>
      </p:sp>
      <p:grpSp>
        <p:nvGrpSpPr>
          <p:cNvPr id="366" name=""/>
          <p:cNvGrpSpPr/>
          <p:nvPr/>
        </p:nvGrpSpPr>
        <p:grpSpPr>
          <a:xfrm>
            <a:off x="31680" y="1146240"/>
            <a:ext cx="9080640" cy="4455000"/>
            <a:chOff x="31680" y="1146240"/>
            <a:chExt cx="9080640" cy="4455000"/>
          </a:xfrm>
        </p:grpSpPr>
        <p:grpSp>
          <p:nvGrpSpPr>
            <p:cNvPr id="367" name=""/>
            <p:cNvGrpSpPr/>
            <p:nvPr/>
          </p:nvGrpSpPr>
          <p:grpSpPr>
            <a:xfrm>
              <a:off x="31680" y="1146240"/>
              <a:ext cx="4533840" cy="4455000"/>
              <a:chOff x="31680" y="1146240"/>
              <a:chExt cx="4533840" cy="4455000"/>
            </a:xfrm>
          </p:grpSpPr>
          <p:sp>
            <p:nvSpPr>
              <p:cNvPr id="368" name=""/>
              <p:cNvSpPr/>
              <p:nvPr/>
            </p:nvSpPr>
            <p:spPr>
              <a:xfrm>
                <a:off x="866880" y="4741920"/>
                <a:ext cx="286200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Differential current (when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is low)</a:t>
                </a:r>
                <a:endParaRPr b="0" lang="en-US" sz="2400" spc="-1" strike="noStrike">
                  <a:solidFill>
                    <a:srgbClr val="000000"/>
                  </a:solidFill>
                  <a:latin typeface="Times New Roman"/>
                </a:endParaRPr>
              </a:p>
            </p:txBody>
          </p:sp>
          <p:grpSp>
            <p:nvGrpSpPr>
              <p:cNvPr id="369" name=""/>
              <p:cNvGrpSpPr/>
              <p:nvPr/>
            </p:nvGrpSpPr>
            <p:grpSpPr>
              <a:xfrm>
                <a:off x="31680" y="1146240"/>
                <a:ext cx="4533840" cy="3460680"/>
                <a:chOff x="31680" y="1146240"/>
                <a:chExt cx="4533840" cy="3460680"/>
              </a:xfrm>
            </p:grpSpPr>
            <p:pic>
              <p:nvPicPr>
                <p:cNvPr id="370" name="" descr=""/>
                <p:cNvPicPr/>
                <p:nvPr/>
              </p:nvPicPr>
              <p:blipFill>
                <a:blip r:embed="rId1"/>
                <a:stretch/>
              </p:blipFill>
              <p:spPr>
                <a:xfrm>
                  <a:off x="31680" y="1146240"/>
                  <a:ext cx="4533840" cy="3400560"/>
                </a:xfrm>
                <a:prstGeom prst="rect">
                  <a:avLst/>
                </a:prstGeom>
                <a:ln w="0">
                  <a:noFill/>
                </a:ln>
              </p:spPr>
            </p:pic>
            <p:grpSp>
              <p:nvGrpSpPr>
                <p:cNvPr id="371" name=""/>
                <p:cNvGrpSpPr/>
                <p:nvPr/>
              </p:nvGrpSpPr>
              <p:grpSpPr>
                <a:xfrm>
                  <a:off x="2069640" y="3892320"/>
                  <a:ext cx="2013480" cy="714600"/>
                  <a:chOff x="2069640" y="3892320"/>
                  <a:chExt cx="2013480" cy="714600"/>
                </a:xfrm>
              </p:grpSpPr>
              <p:sp>
                <p:nvSpPr>
                  <p:cNvPr id="372" name=""/>
                  <p:cNvSpPr/>
                  <p:nvPr/>
                </p:nvSpPr>
                <p:spPr>
                  <a:xfrm>
                    <a:off x="2637000" y="4113360"/>
                    <a:ext cx="1446120" cy="493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8000"/>
                        </a:solidFill>
                        <a:latin typeface="Times New Roman"/>
                      </a:rPr>
                      <a:t>I</a:t>
                    </a:r>
                    <a:r>
                      <a:rPr b="1" lang="en-US" sz="2400" spc="-1" strike="noStrike" baseline="-20000">
                        <a:solidFill>
                          <a:srgbClr val="008000"/>
                        </a:solidFill>
                        <a:latin typeface="Times New Roman"/>
                      </a:rPr>
                      <a:t>diff </a:t>
                    </a:r>
                    <a:r>
                      <a:rPr b="1" lang="en-US" sz="2400" spc="-1" strike="noStrike">
                        <a:solidFill>
                          <a:srgbClr val="008000"/>
                        </a:solidFill>
                        <a:latin typeface="Times New Roman"/>
                      </a:rPr>
                      <a:t>= 0</a:t>
                    </a:r>
                    <a:endParaRPr b="0" lang="en-US" sz="2400" spc="-1" strike="noStrike">
                      <a:solidFill>
                        <a:srgbClr val="000000"/>
                      </a:solidFill>
                      <a:latin typeface="Times New Roman"/>
                    </a:endParaRPr>
                  </a:p>
                </p:txBody>
              </p:sp>
              <p:sp>
                <p:nvSpPr>
                  <p:cNvPr id="373" name=""/>
                  <p:cNvSpPr/>
                  <p:nvPr/>
                </p:nvSpPr>
                <p:spPr>
                  <a:xfrm flipH="1" flipV="1">
                    <a:off x="2069640" y="3892320"/>
                    <a:ext cx="808200" cy="430200"/>
                  </a:xfrm>
                  <a:prstGeom prst="line">
                    <a:avLst/>
                  </a:prstGeom>
                  <a:ln w="2556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74" name=""/>
            <p:cNvGrpSpPr/>
            <p:nvPr/>
          </p:nvGrpSpPr>
          <p:grpSpPr>
            <a:xfrm>
              <a:off x="4578480" y="1146240"/>
              <a:ext cx="4533840" cy="4455000"/>
              <a:chOff x="4578480" y="1146240"/>
              <a:chExt cx="4533840" cy="4455000"/>
            </a:xfrm>
          </p:grpSpPr>
          <p:sp>
            <p:nvSpPr>
              <p:cNvPr id="375" name=""/>
              <p:cNvSpPr/>
              <p:nvPr/>
            </p:nvSpPr>
            <p:spPr>
              <a:xfrm>
                <a:off x="5173560" y="4741920"/>
                <a:ext cx="334512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Differential impedance (when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is low)</a:t>
                </a:r>
                <a:endParaRPr b="0" lang="en-US" sz="2400" spc="-1" strike="noStrike">
                  <a:solidFill>
                    <a:srgbClr val="000000"/>
                  </a:solidFill>
                  <a:latin typeface="Times New Roman"/>
                </a:endParaRPr>
              </a:p>
            </p:txBody>
          </p:sp>
          <p:pic>
            <p:nvPicPr>
              <p:cNvPr id="376" name="" descr=""/>
              <p:cNvPicPr/>
              <p:nvPr/>
            </p:nvPicPr>
            <p:blipFill>
              <a:blip r:embed="rId2"/>
              <a:stretch/>
            </p:blipFill>
            <p:spPr>
              <a:xfrm>
                <a:off x="4578480" y="1146240"/>
                <a:ext cx="4533840" cy="340056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IV surface of measured (total) currents</a:t>
            </a:r>
            <a:endParaRPr b="0" lang="en-US" sz="4000" spc="-1" strike="noStrike">
              <a:solidFill>
                <a:srgbClr val="000000"/>
              </a:solidFill>
              <a:latin typeface="Times New Roman"/>
            </a:endParaRPr>
          </a:p>
        </p:txBody>
      </p:sp>
      <p:sp>
        <p:nvSpPr>
          <p:cNvPr id="378" name=""/>
          <p:cNvSpPr/>
          <p:nvPr/>
        </p:nvSpPr>
        <p:spPr>
          <a:xfrm>
            <a:off x="0" y="5608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ifferential buffer in receive mode with a 100 </a:t>
            </a:r>
            <a:r>
              <a:rPr b="1" lang="en-US" sz="2400" spc="-1" strike="noStrike">
                <a:solidFill>
                  <a:srgbClr val="008000"/>
                </a:solidFill>
                <a:latin typeface="Symbol"/>
                <a:ea typeface="Symbol"/>
              </a:rPr>
              <a:t></a:t>
            </a:r>
            <a:r>
              <a:rPr b="1" lang="en-US" sz="2400" spc="-1" strike="noStrike">
                <a:solidFill>
                  <a:srgbClr val="008000"/>
                </a:solidFill>
                <a:latin typeface="Times New Roman"/>
              </a:rPr>
              <a:t> parallel resistor</a:t>
            </a:r>
            <a:endParaRPr b="0" lang="en-US" sz="2400" spc="-1" strike="noStrike">
              <a:solidFill>
                <a:srgbClr val="000000"/>
              </a:solidFill>
              <a:latin typeface="Times New Roman"/>
            </a:endParaRPr>
          </a:p>
        </p:txBody>
      </p:sp>
      <p:grpSp>
        <p:nvGrpSpPr>
          <p:cNvPr id="379" name=""/>
          <p:cNvGrpSpPr/>
          <p:nvPr/>
        </p:nvGrpSpPr>
        <p:grpSpPr>
          <a:xfrm>
            <a:off x="30240" y="1146240"/>
            <a:ext cx="9082080" cy="4455000"/>
            <a:chOff x="30240" y="1146240"/>
            <a:chExt cx="9082080" cy="4455000"/>
          </a:xfrm>
        </p:grpSpPr>
        <p:grpSp>
          <p:nvGrpSpPr>
            <p:cNvPr id="380" name=""/>
            <p:cNvGrpSpPr/>
            <p:nvPr/>
          </p:nvGrpSpPr>
          <p:grpSpPr>
            <a:xfrm>
              <a:off x="30240" y="1146240"/>
              <a:ext cx="4533840" cy="4455000"/>
              <a:chOff x="30240" y="1146240"/>
              <a:chExt cx="4533840" cy="4455000"/>
            </a:xfrm>
          </p:grpSpPr>
          <p:sp>
            <p:nvSpPr>
              <p:cNvPr id="381" name=""/>
              <p:cNvSpPr/>
              <p:nvPr/>
            </p:nvSpPr>
            <p:spPr>
              <a:xfrm>
                <a:off x="625320" y="4741920"/>
                <a:ext cx="334512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I</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vs.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and V</a:t>
                </a:r>
                <a:r>
                  <a:rPr b="1" lang="en-US" sz="2400" spc="-1" strike="noStrike" baseline="-20000">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low state)</a:t>
                </a:r>
                <a:endParaRPr b="0" lang="en-US" sz="2400" spc="-1" strike="noStrike">
                  <a:solidFill>
                    <a:srgbClr val="000000"/>
                  </a:solidFill>
                  <a:latin typeface="Times New Roman"/>
                </a:endParaRPr>
              </a:p>
            </p:txBody>
          </p:sp>
          <p:pic>
            <p:nvPicPr>
              <p:cNvPr id="382" name="" descr=""/>
              <p:cNvPicPr/>
              <p:nvPr/>
            </p:nvPicPr>
            <p:blipFill>
              <a:blip r:embed="rId1"/>
              <a:stretch/>
            </p:blipFill>
            <p:spPr>
              <a:xfrm>
                <a:off x="30240" y="1146240"/>
                <a:ext cx="4533840" cy="3400560"/>
              </a:xfrm>
              <a:prstGeom prst="rect">
                <a:avLst/>
              </a:prstGeom>
              <a:ln w="0">
                <a:noFill/>
              </a:ln>
            </p:spPr>
          </p:pic>
        </p:grpSp>
        <p:grpSp>
          <p:nvGrpSpPr>
            <p:cNvPr id="383" name=""/>
            <p:cNvGrpSpPr/>
            <p:nvPr/>
          </p:nvGrpSpPr>
          <p:grpSpPr>
            <a:xfrm>
              <a:off x="4578480" y="1146240"/>
              <a:ext cx="4533840" cy="4455000"/>
              <a:chOff x="4578480" y="1146240"/>
              <a:chExt cx="4533840" cy="4455000"/>
            </a:xfrm>
          </p:grpSpPr>
          <p:sp>
            <p:nvSpPr>
              <p:cNvPr id="384" name=""/>
              <p:cNvSpPr/>
              <p:nvPr/>
            </p:nvSpPr>
            <p:spPr>
              <a:xfrm>
                <a:off x="5173560" y="4741920"/>
                <a:ext cx="334512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I</a:t>
                </a:r>
                <a:r>
                  <a:rPr b="1" lang="en-US" sz="2400" spc="-1" strike="noStrike" baseline="-20000">
                    <a:solidFill>
                      <a:srgbClr val="000000"/>
                    </a:solidFill>
                    <a:latin typeface="Times New Roman"/>
                  </a:rPr>
                  <a:t>n</a:t>
                </a:r>
                <a:r>
                  <a:rPr b="1" lang="en-US" sz="2400" spc="-1" strike="noStrike">
                    <a:solidFill>
                      <a:srgbClr val="000000"/>
                    </a:solidFill>
                    <a:latin typeface="Times New Roman"/>
                  </a:rPr>
                  <a:t> vs.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and V</a:t>
                </a:r>
                <a:r>
                  <a:rPr b="1" lang="en-US" sz="2400" spc="-1" strike="noStrike" baseline="-20000">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high state)</a:t>
                </a:r>
                <a:endParaRPr b="0" lang="en-US" sz="2400" spc="-1" strike="noStrike">
                  <a:solidFill>
                    <a:srgbClr val="000000"/>
                  </a:solidFill>
                  <a:latin typeface="Times New Roman"/>
                </a:endParaRPr>
              </a:p>
            </p:txBody>
          </p:sp>
          <p:pic>
            <p:nvPicPr>
              <p:cNvPr id="385" name="" descr=""/>
              <p:cNvPicPr/>
              <p:nvPr/>
            </p:nvPicPr>
            <p:blipFill>
              <a:blip r:embed="rId2"/>
              <a:stretch/>
            </p:blipFill>
            <p:spPr>
              <a:xfrm>
                <a:off x="4578480" y="1146240"/>
                <a:ext cx="4533840" cy="340056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ifferential IV curve and impedance</a:t>
            </a:r>
            <a:endParaRPr b="0" lang="en-US" sz="4000" spc="-1" strike="noStrike">
              <a:solidFill>
                <a:srgbClr val="000000"/>
              </a:solidFill>
              <a:latin typeface="Times New Roman"/>
            </a:endParaRPr>
          </a:p>
        </p:txBody>
      </p:sp>
      <p:sp>
        <p:nvSpPr>
          <p:cNvPr id="387" name=""/>
          <p:cNvSpPr/>
          <p:nvPr/>
        </p:nvSpPr>
        <p:spPr>
          <a:xfrm>
            <a:off x="0" y="5608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ifferential buffer in receive mode with a 100 </a:t>
            </a:r>
            <a:r>
              <a:rPr b="1" lang="en-US" sz="2400" spc="-1" strike="noStrike">
                <a:solidFill>
                  <a:srgbClr val="008000"/>
                </a:solidFill>
                <a:latin typeface="Symbol"/>
                <a:ea typeface="Symbol"/>
              </a:rPr>
              <a:t></a:t>
            </a:r>
            <a:r>
              <a:rPr b="1" lang="en-US" sz="2400" spc="-1" strike="noStrike">
                <a:solidFill>
                  <a:srgbClr val="008000"/>
                </a:solidFill>
                <a:latin typeface="Times New Roman"/>
              </a:rPr>
              <a:t> parallel resistor</a:t>
            </a:r>
            <a:endParaRPr b="0" lang="en-US" sz="2400" spc="-1" strike="noStrike">
              <a:solidFill>
                <a:srgbClr val="000000"/>
              </a:solidFill>
              <a:latin typeface="Times New Roman"/>
            </a:endParaRPr>
          </a:p>
        </p:txBody>
      </p:sp>
      <p:grpSp>
        <p:nvGrpSpPr>
          <p:cNvPr id="388" name=""/>
          <p:cNvGrpSpPr/>
          <p:nvPr/>
        </p:nvGrpSpPr>
        <p:grpSpPr>
          <a:xfrm>
            <a:off x="31680" y="1146240"/>
            <a:ext cx="9080640" cy="4455000"/>
            <a:chOff x="31680" y="1146240"/>
            <a:chExt cx="9080640" cy="4455000"/>
          </a:xfrm>
        </p:grpSpPr>
        <p:grpSp>
          <p:nvGrpSpPr>
            <p:cNvPr id="389" name=""/>
            <p:cNvGrpSpPr/>
            <p:nvPr/>
          </p:nvGrpSpPr>
          <p:grpSpPr>
            <a:xfrm>
              <a:off x="31680" y="1146240"/>
              <a:ext cx="4533840" cy="4455000"/>
              <a:chOff x="31680" y="1146240"/>
              <a:chExt cx="4533840" cy="4455000"/>
            </a:xfrm>
          </p:grpSpPr>
          <p:sp>
            <p:nvSpPr>
              <p:cNvPr id="390" name=""/>
              <p:cNvSpPr/>
              <p:nvPr/>
            </p:nvSpPr>
            <p:spPr>
              <a:xfrm>
                <a:off x="866880" y="4741920"/>
                <a:ext cx="286200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Differential current (when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is low)</a:t>
                </a:r>
                <a:endParaRPr b="0" lang="en-US" sz="2400" spc="-1" strike="noStrike">
                  <a:solidFill>
                    <a:srgbClr val="000000"/>
                  </a:solidFill>
                  <a:latin typeface="Times New Roman"/>
                </a:endParaRPr>
              </a:p>
            </p:txBody>
          </p:sp>
          <p:grpSp>
            <p:nvGrpSpPr>
              <p:cNvPr id="391" name=""/>
              <p:cNvGrpSpPr/>
              <p:nvPr/>
            </p:nvGrpSpPr>
            <p:grpSpPr>
              <a:xfrm>
                <a:off x="31680" y="1146240"/>
                <a:ext cx="4533840" cy="3460680"/>
                <a:chOff x="31680" y="1146240"/>
                <a:chExt cx="4533840" cy="3460680"/>
              </a:xfrm>
            </p:grpSpPr>
            <p:pic>
              <p:nvPicPr>
                <p:cNvPr id="392" name="" descr=""/>
                <p:cNvPicPr/>
                <p:nvPr/>
              </p:nvPicPr>
              <p:blipFill>
                <a:blip r:embed="rId1"/>
                <a:stretch/>
              </p:blipFill>
              <p:spPr>
                <a:xfrm>
                  <a:off x="31680" y="1146240"/>
                  <a:ext cx="4533840" cy="3400560"/>
                </a:xfrm>
                <a:prstGeom prst="rect">
                  <a:avLst/>
                </a:prstGeom>
                <a:ln w="0">
                  <a:noFill/>
                </a:ln>
              </p:spPr>
            </p:pic>
            <p:grpSp>
              <p:nvGrpSpPr>
                <p:cNvPr id="393" name=""/>
                <p:cNvGrpSpPr/>
                <p:nvPr/>
              </p:nvGrpSpPr>
              <p:grpSpPr>
                <a:xfrm>
                  <a:off x="2069640" y="3892320"/>
                  <a:ext cx="2013480" cy="714600"/>
                  <a:chOff x="2069640" y="3892320"/>
                  <a:chExt cx="2013480" cy="714600"/>
                </a:xfrm>
              </p:grpSpPr>
              <p:sp>
                <p:nvSpPr>
                  <p:cNvPr id="394" name=""/>
                  <p:cNvSpPr/>
                  <p:nvPr/>
                </p:nvSpPr>
                <p:spPr>
                  <a:xfrm>
                    <a:off x="2637000" y="4113360"/>
                    <a:ext cx="1446120" cy="493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8000"/>
                        </a:solidFill>
                        <a:latin typeface="Times New Roman"/>
                      </a:rPr>
                      <a:t>I</a:t>
                    </a:r>
                    <a:r>
                      <a:rPr b="1" lang="en-US" sz="2400" spc="-1" strike="noStrike" baseline="-20000">
                        <a:solidFill>
                          <a:srgbClr val="008000"/>
                        </a:solidFill>
                        <a:latin typeface="Times New Roman"/>
                      </a:rPr>
                      <a:t>diff </a:t>
                    </a:r>
                    <a:r>
                      <a:rPr b="1" lang="en-US" sz="2400" spc="-1" strike="noStrike">
                        <a:solidFill>
                          <a:srgbClr val="008000"/>
                        </a:solidFill>
                        <a:latin typeface="Times New Roman"/>
                      </a:rPr>
                      <a:t>= 0</a:t>
                    </a:r>
                    <a:endParaRPr b="0" lang="en-US" sz="2400" spc="-1" strike="noStrike">
                      <a:solidFill>
                        <a:srgbClr val="000000"/>
                      </a:solidFill>
                      <a:latin typeface="Times New Roman"/>
                    </a:endParaRPr>
                  </a:p>
                </p:txBody>
              </p:sp>
              <p:sp>
                <p:nvSpPr>
                  <p:cNvPr id="395" name=""/>
                  <p:cNvSpPr/>
                  <p:nvPr/>
                </p:nvSpPr>
                <p:spPr>
                  <a:xfrm flipH="1" flipV="1">
                    <a:off x="2069640" y="3892320"/>
                    <a:ext cx="808200" cy="430200"/>
                  </a:xfrm>
                  <a:prstGeom prst="line">
                    <a:avLst/>
                  </a:prstGeom>
                  <a:ln w="2556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96" name=""/>
            <p:cNvGrpSpPr/>
            <p:nvPr/>
          </p:nvGrpSpPr>
          <p:grpSpPr>
            <a:xfrm>
              <a:off x="4578480" y="1146240"/>
              <a:ext cx="4533840" cy="4455000"/>
              <a:chOff x="4578480" y="1146240"/>
              <a:chExt cx="4533840" cy="4455000"/>
            </a:xfrm>
          </p:grpSpPr>
          <p:sp>
            <p:nvSpPr>
              <p:cNvPr id="397" name=""/>
              <p:cNvSpPr/>
              <p:nvPr/>
            </p:nvSpPr>
            <p:spPr>
              <a:xfrm>
                <a:off x="5173560" y="4741920"/>
                <a:ext cx="334512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Differential impedance (when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is low)</a:t>
                </a:r>
                <a:endParaRPr b="0" lang="en-US" sz="2400" spc="-1" strike="noStrike">
                  <a:solidFill>
                    <a:srgbClr val="000000"/>
                  </a:solidFill>
                  <a:latin typeface="Times New Roman"/>
                </a:endParaRPr>
              </a:p>
            </p:txBody>
          </p:sp>
          <p:pic>
            <p:nvPicPr>
              <p:cNvPr id="398" name="" descr=""/>
              <p:cNvPicPr/>
              <p:nvPr/>
            </p:nvPicPr>
            <p:blipFill>
              <a:blip r:embed="rId2"/>
              <a:stretch/>
            </p:blipFill>
            <p:spPr>
              <a:xfrm>
                <a:off x="4578480" y="1146240"/>
                <a:ext cx="4533840" cy="340056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Conclusion</a:t>
            </a:r>
            <a:endParaRPr b="0" lang="en-US" sz="4000" spc="-1" strike="noStrike">
              <a:solidFill>
                <a:srgbClr val="000000"/>
              </a:solidFill>
              <a:latin typeface="Times New Roman"/>
            </a:endParaRPr>
          </a:p>
        </p:txBody>
      </p:sp>
      <p:sp>
        <p:nvSpPr>
          <p:cNvPr id="400" name=""/>
          <p:cNvSpPr/>
          <p:nvPr/>
        </p:nvSpPr>
        <p:spPr>
          <a:xfrm>
            <a:off x="1368360" y="1530360"/>
            <a:ext cx="6405480" cy="3750120"/>
          </a:xfrm>
          <a:prstGeom prst="rect">
            <a:avLst/>
          </a:prstGeom>
          <a:noFill/>
          <a:ln w="0">
            <a:noFill/>
          </a:ln>
        </p:spPr>
        <p:style>
          <a:lnRef idx="0"/>
          <a:fillRef idx="0"/>
          <a:effectRef idx="0"/>
          <a:fontRef idx="minor"/>
        </p:style>
        <p:txBody>
          <a:bodyPr lIns="92160" rIns="92160" tIns="46080" bIns="46080" anchor="t">
            <a:spAutoFit/>
          </a:bodyPr>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As seen on the previous plots, the differential current is a function of the voltages on the two I/O pins</a:t>
            </a:r>
            <a:endParaRPr b="0" lang="en-US" sz="2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a complete description would require a multi dimensional current table</a:t>
            </a:r>
            <a:endParaRPr b="0" lang="en-US" sz="18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However, the normal operating region (where the signaling occurs) could be approximated with one of the available keywords with reasonable accuracy</a:t>
            </a:r>
            <a:endParaRPr b="0" lang="en-US" sz="2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if the operating region includes strongly non linear shapes, this technique will need to rely on BIRD75 featu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urther study and work needed</a:t>
            </a:r>
            <a:endParaRPr b="0" lang="en-US" sz="4000" spc="-1" strike="noStrike">
              <a:solidFill>
                <a:srgbClr val="000000"/>
              </a:solidFill>
              <a:latin typeface="Times New Roman"/>
            </a:endParaRPr>
          </a:p>
        </p:txBody>
      </p:sp>
      <p:sp>
        <p:nvSpPr>
          <p:cNvPr id="402" name=""/>
          <p:cNvSpPr/>
          <p:nvPr/>
        </p:nvSpPr>
        <p:spPr>
          <a:xfrm>
            <a:off x="1290600" y="1254240"/>
            <a:ext cx="6564240" cy="4481640"/>
          </a:xfrm>
          <a:prstGeom prst="rect">
            <a:avLst/>
          </a:prstGeom>
          <a:noFill/>
          <a:ln w="0">
            <a:noFill/>
          </a:ln>
        </p:spPr>
        <p:style>
          <a:lnRef idx="0"/>
          <a:fillRef idx="0"/>
          <a:effectRef idx="0"/>
          <a:fontRef idx="minor"/>
        </p:style>
        <p:txBody>
          <a:bodyPr lIns="92160" rIns="92160" tIns="46080" bIns="46080" anchor="t">
            <a:spAutoFit/>
          </a:bodyPr>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This concept needs to be proven with examples</a:t>
            </a:r>
            <a:endParaRPr b="0" lang="en-US" sz="2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this could be done in the near future</a:t>
            </a:r>
            <a:endParaRPr b="0" lang="en-US" sz="18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Need to develop a differential C_meter to measure capacitive coupling between pins</a:t>
            </a:r>
            <a:endParaRPr b="0" lang="en-US" sz="2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C Series] can be used to hold this value in the IBIS model</a:t>
            </a:r>
            <a:endParaRPr b="0" lang="en-US" sz="18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More experiments need to be done to find out how the differential current varies with respect to time during transitions from one state to another</a:t>
            </a:r>
            <a:endParaRPr b="0" lang="en-US" sz="2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do we need Vt curves for these differential elements also?</a:t>
            </a:r>
            <a:endParaRPr b="0" lang="en-US" sz="18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Simulation tool vendors should implement the series element features in IBIS v3.2 ASAP!</a:t>
            </a:r>
            <a:endParaRPr b="0" lang="en-US" sz="2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unfortunately not all tools support these v3.2 keywords y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Questions on Vt curve measurements</a:t>
            </a:r>
            <a:endParaRPr b="0" lang="en-US" sz="4000" spc="-1" strike="noStrike">
              <a:solidFill>
                <a:srgbClr val="000000"/>
              </a:solidFill>
              <a:latin typeface="Times New Roman"/>
            </a:endParaRPr>
          </a:p>
        </p:txBody>
      </p:sp>
      <p:sp>
        <p:nvSpPr>
          <p:cNvPr id="404" name=""/>
          <p:cNvSpPr/>
          <p:nvPr/>
        </p:nvSpPr>
        <p:spPr>
          <a:xfrm>
            <a:off x="316080" y="3409920"/>
            <a:ext cx="8513640" cy="2805120"/>
          </a:xfrm>
          <a:prstGeom prst="rect">
            <a:avLst/>
          </a:prstGeom>
          <a:noFill/>
          <a:ln w="0">
            <a:noFill/>
          </a:ln>
        </p:spPr>
        <p:style>
          <a:lnRef idx="0"/>
          <a:fillRef idx="0"/>
          <a:effectRef idx="0"/>
          <a:fontRef idx="minor"/>
        </p:style>
        <p:txBody>
          <a:bodyPr lIns="92160" rIns="92160" tIns="46080" bIns="46080" anchor="t">
            <a:spAutoFit/>
          </a:bodyPr>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If the differential currents are constant during transitions, we can cancel them by placing an equal and opposite sign current source between the pins, so that the Vt curves represent the time dependency of the common currents alone</a:t>
            </a:r>
            <a:endParaRPr b="0" lang="en-US" sz="24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However, if the differential currents are time varying, we may need a more elaborate method to extract Vt curves for the common and differential currents independently (TBD)</a:t>
            </a:r>
            <a:endParaRPr b="0" lang="en-US" sz="2400" spc="-1" strike="noStrike">
              <a:solidFill>
                <a:srgbClr val="000000"/>
              </a:solidFill>
              <a:latin typeface="Times New Roman"/>
            </a:endParaRPr>
          </a:p>
        </p:txBody>
      </p:sp>
      <p:grpSp>
        <p:nvGrpSpPr>
          <p:cNvPr id="405" name=""/>
          <p:cNvGrpSpPr/>
          <p:nvPr/>
        </p:nvGrpSpPr>
        <p:grpSpPr>
          <a:xfrm>
            <a:off x="2400480" y="1042920"/>
            <a:ext cx="4341600" cy="2286000"/>
            <a:chOff x="2400480" y="1042920"/>
            <a:chExt cx="4341600" cy="2286000"/>
          </a:xfrm>
        </p:grpSpPr>
        <p:sp>
          <p:nvSpPr>
            <p:cNvPr id="406" name=""/>
            <p:cNvSpPr/>
            <p:nvPr/>
          </p:nvSpPr>
          <p:spPr>
            <a:xfrm>
              <a:off x="2400480" y="1042920"/>
              <a:ext cx="4341600" cy="22860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2480040" y="1187640"/>
              <a:ext cx="4183920" cy="1996560"/>
              <a:chOff x="2480040" y="1187640"/>
              <a:chExt cx="4183920" cy="1996560"/>
            </a:xfrm>
          </p:grpSpPr>
          <p:sp>
            <p:nvSpPr>
              <p:cNvPr id="408" name=""/>
              <p:cNvSpPr/>
              <p:nvPr/>
            </p:nvSpPr>
            <p:spPr>
              <a:xfrm>
                <a:off x="3425400" y="2041560"/>
                <a:ext cx="8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530160" y="1431720"/>
                <a:ext cx="148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377880" y="1355760"/>
                <a:ext cx="152280" cy="151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4935240" y="1584360"/>
                <a:ext cx="144000" cy="367560"/>
                <a:chOff x="4935240" y="1584360"/>
                <a:chExt cx="144000" cy="367560"/>
              </a:xfrm>
            </p:grpSpPr>
            <p:sp>
              <p:nvSpPr>
                <p:cNvPr id="412" name=""/>
                <p:cNvSpPr/>
                <p:nvPr/>
              </p:nvSpPr>
              <p:spPr>
                <a:xfrm>
                  <a:off x="5012640" y="1584360"/>
                  <a:ext cx="6480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13" name=""/>
                <p:cNvSpPr/>
                <p:nvPr/>
              </p:nvSpPr>
              <p:spPr>
                <a:xfrm flipH="1">
                  <a:off x="4935240" y="1633320"/>
                  <a:ext cx="14112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14" name=""/>
                <p:cNvSpPr/>
                <p:nvPr/>
              </p:nvSpPr>
              <p:spPr>
                <a:xfrm>
                  <a:off x="4938120" y="1701720"/>
                  <a:ext cx="141120" cy="5976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415" name=""/>
                <p:cNvSpPr/>
                <p:nvPr/>
              </p:nvSpPr>
              <p:spPr>
                <a:xfrm flipH="1">
                  <a:off x="4935240" y="1776240"/>
                  <a:ext cx="14112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16" name=""/>
                <p:cNvSpPr/>
                <p:nvPr/>
              </p:nvSpPr>
              <p:spPr>
                <a:xfrm>
                  <a:off x="4938120" y="1844640"/>
                  <a:ext cx="141120" cy="59760"/>
                </a:xfrm>
                <a:prstGeom prst="line">
                  <a:avLst/>
                </a:prstGeom>
                <a:ln w="2556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417" name=""/>
                <p:cNvSpPr/>
                <p:nvPr/>
              </p:nvSpPr>
              <p:spPr>
                <a:xfrm flipV="1">
                  <a:off x="5011200" y="1915920"/>
                  <a:ext cx="6480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418" name=""/>
              <p:cNvSpPr/>
              <p:nvPr/>
            </p:nvSpPr>
            <p:spPr>
              <a:xfrm flipV="1">
                <a:off x="5011200" y="143136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011200" y="1952640"/>
                <a:ext cx="0" cy="39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782600" y="2346120"/>
                <a:ext cx="457200" cy="456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4858920" y="2803320"/>
                <a:ext cx="304560" cy="380880"/>
                <a:chOff x="4858920" y="2803320"/>
                <a:chExt cx="304560" cy="380880"/>
              </a:xfrm>
            </p:grpSpPr>
            <p:sp>
              <p:nvSpPr>
                <p:cNvPr id="422" name=""/>
                <p:cNvSpPr/>
                <p:nvPr/>
              </p:nvSpPr>
              <p:spPr>
                <a:xfrm>
                  <a:off x="5011200" y="280332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858920" y="303156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34880" y="3107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76280" y="318420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5084280" y="1608120"/>
                <a:ext cx="127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R_fixture</a:t>
                </a:r>
                <a:endParaRPr b="0" lang="en-US" sz="1600" spc="-1" strike="noStrike">
                  <a:solidFill>
                    <a:srgbClr val="000000"/>
                  </a:solidFill>
                  <a:latin typeface="Times New Roman"/>
                </a:endParaRPr>
              </a:p>
            </p:txBody>
          </p:sp>
          <p:sp>
            <p:nvSpPr>
              <p:cNvPr id="427" name=""/>
              <p:cNvSpPr/>
              <p:nvPr/>
            </p:nvSpPr>
            <p:spPr>
              <a:xfrm>
                <a:off x="5273640" y="2388960"/>
                <a:ext cx="1361520" cy="36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vg(V</a:t>
                </a:r>
                <a:r>
                  <a:rPr b="1" lang="en-US" sz="1600" spc="-1" strike="noStrike" baseline="-20000">
                    <a:solidFill>
                      <a:srgbClr val="000000"/>
                    </a:solidFill>
                    <a:latin typeface="Times New Roman"/>
                  </a:rPr>
                  <a:t>swing</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428" name=""/>
              <p:cNvGrpSpPr/>
              <p:nvPr/>
            </p:nvGrpSpPr>
            <p:grpSpPr>
              <a:xfrm>
                <a:off x="4268520" y="1977840"/>
                <a:ext cx="367920" cy="144000"/>
                <a:chOff x="4268520" y="1977840"/>
                <a:chExt cx="367920" cy="144000"/>
              </a:xfrm>
            </p:grpSpPr>
            <p:sp>
              <p:nvSpPr>
                <p:cNvPr id="429" name=""/>
                <p:cNvSpPr/>
                <p:nvPr/>
              </p:nvSpPr>
              <p:spPr>
                <a:xfrm flipH="1" flipV="1">
                  <a:off x="4599720" y="1979640"/>
                  <a:ext cx="36720" cy="64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30" name=""/>
                <p:cNvSpPr/>
                <p:nvPr/>
              </p:nvSpPr>
              <p:spPr>
                <a:xfrm flipH="1">
                  <a:off x="4526640" y="1980720"/>
                  <a:ext cx="6048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flipV="1">
                  <a:off x="4458600" y="1977840"/>
                  <a:ext cx="6012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383720" y="1980720"/>
                  <a:ext cx="6048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flipV="1">
                  <a:off x="4315680" y="1977840"/>
                  <a:ext cx="6012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4268520" y="1981080"/>
                  <a:ext cx="36360" cy="64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sp>
            <p:nvSpPr>
              <p:cNvPr id="435" name=""/>
              <p:cNvSpPr/>
              <p:nvPr/>
            </p:nvSpPr>
            <p:spPr>
              <a:xfrm>
                <a:off x="4630320" y="204156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973400" y="2006640"/>
                <a:ext cx="75960" cy="75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7" name=""/>
              <p:cNvSpPr/>
              <p:nvPr/>
            </p:nvSpPr>
            <p:spPr>
              <a:xfrm>
                <a:off x="3561840" y="2122560"/>
                <a:ext cx="127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R_fixture</a:t>
                </a:r>
                <a:endParaRPr b="0" lang="en-US" sz="1600" spc="-1" strike="noStrike">
                  <a:solidFill>
                    <a:srgbClr val="000000"/>
                  </a:solidFill>
                  <a:latin typeface="Times New Roman"/>
                </a:endParaRPr>
              </a:p>
            </p:txBody>
          </p:sp>
          <p:sp>
            <p:nvSpPr>
              <p:cNvPr id="438" name=""/>
              <p:cNvSpPr/>
              <p:nvPr/>
            </p:nvSpPr>
            <p:spPr>
              <a:xfrm>
                <a:off x="2480040" y="1476360"/>
                <a:ext cx="552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ll</a:t>
                </a:r>
                <a:endParaRPr b="0" lang="en-US" sz="1600" spc="-1" strike="noStrike">
                  <a:solidFill>
                    <a:srgbClr val="000000"/>
                  </a:solidFill>
                  <a:latin typeface="Times New Roman"/>
                </a:endParaRPr>
              </a:p>
            </p:txBody>
          </p:sp>
          <p:sp>
            <p:nvSpPr>
              <p:cNvPr id="439" name=""/>
              <p:cNvSpPr/>
              <p:nvPr/>
            </p:nvSpPr>
            <p:spPr>
              <a:xfrm>
                <a:off x="2550600" y="1774800"/>
                <a:ext cx="466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662080" y="1187640"/>
                <a:ext cx="10018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ff0000"/>
                    </a:solidFill>
                    <a:latin typeface="Times New Roman"/>
                  </a:rPr>
                  <a:t>V-t curves</a:t>
                </a:r>
                <a:endParaRPr b="0" lang="en-US" sz="1600" spc="-1" strike="noStrike">
                  <a:solidFill>
                    <a:srgbClr val="000000"/>
                  </a:solidFill>
                  <a:latin typeface="Times New Roman"/>
                </a:endParaRPr>
              </a:p>
            </p:txBody>
          </p:sp>
          <p:sp>
            <p:nvSpPr>
              <p:cNvPr id="441" name=""/>
              <p:cNvSpPr/>
              <p:nvPr/>
            </p:nvSpPr>
            <p:spPr>
              <a:xfrm rot="5400000">
                <a:off x="2977560" y="1317240"/>
                <a:ext cx="990360" cy="914400"/>
              </a:xfrm>
              <a:prstGeom prst="triangle">
                <a:avLst>
                  <a:gd name="adj" fmla="val 50000"/>
                </a:avLst>
              </a:prstGeom>
              <a:solidFill>
                <a:srgbClr val="33cc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3984120" y="1392120"/>
                <a:ext cx="228600" cy="689760"/>
                <a:chOff x="3984120" y="1392120"/>
                <a:chExt cx="228600" cy="689760"/>
              </a:xfrm>
            </p:grpSpPr>
            <p:grpSp>
              <p:nvGrpSpPr>
                <p:cNvPr id="443" name=""/>
                <p:cNvGrpSpPr/>
                <p:nvPr/>
              </p:nvGrpSpPr>
              <p:grpSpPr>
                <a:xfrm>
                  <a:off x="3984120" y="1582200"/>
                  <a:ext cx="228600" cy="380520"/>
                  <a:chOff x="3984120" y="1582200"/>
                  <a:chExt cx="228600" cy="380520"/>
                </a:xfrm>
              </p:grpSpPr>
              <p:sp>
                <p:nvSpPr>
                  <p:cNvPr id="444" name=""/>
                  <p:cNvSpPr/>
                  <p:nvPr/>
                </p:nvSpPr>
                <p:spPr>
                  <a:xfrm>
                    <a:off x="3984120" y="1734480"/>
                    <a:ext cx="228600" cy="228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84120" y="1582200"/>
                    <a:ext cx="228600" cy="228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flipV="1">
                  <a:off x="4098600" y="1961640"/>
                  <a:ext cx="0" cy="80640"/>
                </a:xfrm>
                <a:prstGeom prst="line">
                  <a:avLst/>
                </a:prstGeom>
                <a:ln w="255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7" name=""/>
                <p:cNvSpPr/>
                <p:nvPr/>
              </p:nvSpPr>
              <p:spPr>
                <a:xfrm flipV="1">
                  <a:off x="4098600" y="1426320"/>
                  <a:ext cx="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060440" y="2006280"/>
                  <a:ext cx="76320" cy="75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9" name=""/>
                <p:cNvSpPr/>
                <p:nvPr/>
              </p:nvSpPr>
              <p:spPr>
                <a:xfrm>
                  <a:off x="4060440" y="1392120"/>
                  <a:ext cx="76320" cy="7596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450" name=""/>
              <p:cNvSpPr/>
              <p:nvPr/>
            </p:nvSpPr>
            <p:spPr>
              <a:xfrm>
                <a:off x="4191120" y="1589040"/>
                <a:ext cx="698760" cy="36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a:t>
                </a:r>
                <a:r>
                  <a:rPr b="1" lang="en-US" sz="1600" spc="-1" strike="noStrike" baseline="-20000">
                    <a:solidFill>
                      <a:srgbClr val="000000"/>
                    </a:solidFill>
                    <a:latin typeface="Times New Roman"/>
                  </a:rPr>
                  <a:t>diff</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Background</a:t>
            </a:r>
            <a:endParaRPr b="0" lang="en-US" sz="4000" spc="-1" strike="noStrike">
              <a:solidFill>
                <a:srgbClr val="000000"/>
              </a:solidFill>
              <a:latin typeface="Times New Roman"/>
            </a:endParaRPr>
          </a:p>
        </p:txBody>
      </p:sp>
      <p:sp>
        <p:nvSpPr>
          <p:cNvPr id="104" name=""/>
          <p:cNvSpPr/>
          <p:nvPr/>
        </p:nvSpPr>
        <p:spPr>
          <a:xfrm>
            <a:off x="934920" y="1135080"/>
            <a:ext cx="7275600" cy="4633560"/>
          </a:xfrm>
          <a:prstGeom prst="rect">
            <a:avLst/>
          </a:prstGeom>
          <a:noFill/>
          <a:ln w="0">
            <a:noFill/>
          </a:ln>
        </p:spPr>
        <p:style>
          <a:lnRef idx="0"/>
          <a:fillRef idx="0"/>
          <a:effectRef idx="0"/>
          <a:fontRef idx="minor"/>
        </p:style>
        <p:txBody>
          <a:bodyPr lIns="92160" rIns="92160" tIns="46080" bIns="46080" anchor="t">
            <a:spAutoFit/>
          </a:bodyPr>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The author of this presentation introduced a page on true differential buffers in his “Introduction to IBIS Models and IBIS Model Making” class materials in September 2000</a:t>
            </a:r>
            <a:endParaRPr b="0" lang="en-US" sz="2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a proprietary LVDS buffer was used to make recommendations for generating IV and Vt curves to convert it to an IBIS model</a:t>
            </a:r>
            <a:endParaRPr b="0" lang="en-US" sz="18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the buffer used in this example did not have on-die termination</a:t>
            </a:r>
            <a:endParaRPr b="0" lang="en-US" sz="18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Hazem Hegazy gave two presentations in January and March 2001 at IBIS summits on this subject</a:t>
            </a:r>
            <a:endParaRPr b="0" lang="en-US" sz="2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quoting the above class material, some shortcomings of the suggested technique were pointed out and explained by Hazem</a:t>
            </a:r>
            <a:endParaRPr b="0" lang="en-US" sz="1800" spc="-1" strike="noStrike">
              <a:solidFill>
                <a:srgbClr val="000000"/>
              </a:solidFill>
              <a:latin typeface="Times New Roman"/>
            </a:endParaRPr>
          </a:p>
          <a:p>
            <a:pPr lvl="2" marL="920880" indent="-227160">
              <a:lnSpc>
                <a:spcPct val="100000"/>
              </a:lnSpc>
              <a:buClr>
                <a:srgbClr val="000000"/>
              </a:buClr>
              <a:buFont typeface="Wingdings" charset="2"/>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Times New Roman"/>
              </a:rPr>
              <a:t>models of buffers with on-die termination made this way are inaccurate</a:t>
            </a:r>
            <a:endParaRPr b="0" lang="en-US" sz="1400" spc="-1" strike="noStrike">
              <a:solidFill>
                <a:srgbClr val="000000"/>
              </a:solidFill>
              <a:latin typeface="Times New Roman"/>
            </a:endParaRPr>
          </a:p>
          <a:p>
            <a:pPr lvl="2" marL="920880" indent="-227160">
              <a:lnSpc>
                <a:spcPct val="100000"/>
              </a:lnSpc>
              <a:buClr>
                <a:srgbClr val="000000"/>
              </a:buClr>
              <a:buFont typeface="Wingdings" charset="2"/>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Times New Roman"/>
              </a:rPr>
              <a:t>miscorrelation with original SPICE model under different loading conditions</a:t>
            </a:r>
            <a:endParaRPr b="0" lang="en-US" sz="1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new techniques were demonstrated giving better correlation with the original SPICE model, Proposal-III being the best and most accur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References</a:t>
            </a:r>
            <a:endParaRPr b="0" lang="en-US" sz="4000" spc="-1" strike="noStrike">
              <a:solidFill>
                <a:srgbClr val="000000"/>
              </a:solidFill>
              <a:latin typeface="Times New Roman"/>
            </a:endParaRPr>
          </a:p>
        </p:txBody>
      </p:sp>
      <p:sp>
        <p:nvSpPr>
          <p:cNvPr id="452" name=""/>
          <p:cNvSpPr/>
          <p:nvPr/>
        </p:nvSpPr>
        <p:spPr>
          <a:xfrm>
            <a:off x="1500120" y="1530360"/>
            <a:ext cx="6143760" cy="2836440"/>
          </a:xfrm>
          <a:prstGeom prst="rect">
            <a:avLst/>
          </a:prstGeom>
          <a:noFill/>
          <a:ln w="0">
            <a:noFill/>
          </a:ln>
        </p:spPr>
        <p:style>
          <a:lnRef idx="0"/>
          <a:fillRef idx="0"/>
          <a:effectRef idx="0"/>
          <a:fontRef idx="minor"/>
        </p:style>
        <p:txBody>
          <a:bodyPr lIns="92160" rIns="92160" tIns="46080" bIns="46080" anchor="t">
            <a:spAutoFit/>
          </a:bodyPr>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Times New Roman"/>
              </a:rPr>
              <a:t>Steve Kaufer and Kellee Crisafulli, “Terminating Differential Signals on PCBs”, Printed Circuit Design, March 1999</a:t>
            </a:r>
            <a:endParaRPr b="0" lang="en-US" sz="20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Times New Roman"/>
              </a:rPr>
              <a:t>Douglas Brooks, “Differential Impedance”, Printed Circuit Design, August 1998</a:t>
            </a:r>
            <a:endParaRPr b="0" lang="en-US" sz="20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Times New Roman"/>
              </a:rPr>
              <a:t>Eric Bogatin, “Differential Impedance Finally Made Simple” Bogatin Enterprises, updated May 31, 2002, (www.BogatinEnterprises.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True differential buffers (LVDS)</a:t>
            </a:r>
            <a:endParaRPr b="0" lang="en-US" sz="4000" spc="-1" strike="noStrike">
              <a:solidFill>
                <a:srgbClr val="000000"/>
              </a:solidFill>
              <a:latin typeface="Times New Roman"/>
            </a:endParaRPr>
          </a:p>
        </p:txBody>
      </p:sp>
      <p:grpSp>
        <p:nvGrpSpPr>
          <p:cNvPr id="106" name=""/>
          <p:cNvGrpSpPr/>
          <p:nvPr/>
        </p:nvGrpSpPr>
        <p:grpSpPr>
          <a:xfrm>
            <a:off x="228600" y="152280"/>
            <a:ext cx="8610480" cy="6477120"/>
            <a:chOff x="228600" y="152280"/>
            <a:chExt cx="8610480" cy="6477120"/>
          </a:xfrm>
        </p:grpSpPr>
        <p:sp>
          <p:nvSpPr>
            <p:cNvPr id="107" name=""/>
            <p:cNvSpPr/>
            <p:nvPr/>
          </p:nvSpPr>
          <p:spPr>
            <a:xfrm>
              <a:off x="1136520" y="800280"/>
              <a:ext cx="687096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IBIS doesn’t support them directly but they can be approximated with two different methods</a:t>
              </a:r>
              <a:endParaRPr b="0" lang="en-US" sz="2400" spc="-1" strike="noStrike">
                <a:solidFill>
                  <a:srgbClr val="000000"/>
                </a:solidFill>
                <a:latin typeface="Times New Roman"/>
              </a:endParaRPr>
            </a:p>
          </p:txBody>
        </p:sp>
        <p:grpSp>
          <p:nvGrpSpPr>
            <p:cNvPr id="108" name=""/>
            <p:cNvGrpSpPr/>
            <p:nvPr/>
          </p:nvGrpSpPr>
          <p:grpSpPr>
            <a:xfrm>
              <a:off x="730080" y="1693800"/>
              <a:ext cx="4069080" cy="4572000"/>
              <a:chOff x="730080" y="1693800"/>
              <a:chExt cx="4069080" cy="4572000"/>
            </a:xfrm>
          </p:grpSpPr>
          <p:sp>
            <p:nvSpPr>
              <p:cNvPr id="109" name=""/>
              <p:cNvSpPr/>
              <p:nvPr/>
            </p:nvSpPr>
            <p:spPr>
              <a:xfrm>
                <a:off x="730080" y="1693800"/>
                <a:ext cx="4038840" cy="45720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762480" y="4089240"/>
                <a:ext cx="4036680" cy="1997280"/>
                <a:chOff x="762480" y="4089240"/>
                <a:chExt cx="4036680" cy="1997280"/>
              </a:xfrm>
            </p:grpSpPr>
            <p:sp>
              <p:nvSpPr>
                <p:cNvPr id="111" name=""/>
                <p:cNvSpPr/>
                <p:nvPr/>
              </p:nvSpPr>
              <p:spPr>
                <a:xfrm rot="5400000">
                  <a:off x="1260360" y="4219560"/>
                  <a:ext cx="990720" cy="914400"/>
                </a:xfrm>
                <a:prstGeom prst="triangle">
                  <a:avLst>
                    <a:gd name="adj" fmla="val 50000"/>
                  </a:avLst>
                </a:prstGeom>
                <a:solidFill>
                  <a:srgbClr val="33cc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720800" y="4943520"/>
                  <a:ext cx="66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832040" y="433404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79400" y="4257720"/>
                  <a:ext cx="15264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3050640" y="4486320"/>
                  <a:ext cx="145080" cy="367920"/>
                  <a:chOff x="3050640" y="4486320"/>
                  <a:chExt cx="145080" cy="367920"/>
                </a:xfrm>
              </p:grpSpPr>
              <p:sp>
                <p:nvSpPr>
                  <p:cNvPr id="116" name=""/>
                  <p:cNvSpPr/>
                  <p:nvPr/>
                </p:nvSpPr>
                <p:spPr>
                  <a:xfrm>
                    <a:off x="3128760" y="4486320"/>
                    <a:ext cx="65160" cy="3672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7" name=""/>
                  <p:cNvSpPr/>
                  <p:nvPr/>
                </p:nvSpPr>
                <p:spPr>
                  <a:xfrm flipH="1">
                    <a:off x="3050640" y="4535640"/>
                    <a:ext cx="14148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8" name=""/>
                  <p:cNvSpPr/>
                  <p:nvPr/>
                </p:nvSpPr>
                <p:spPr>
                  <a:xfrm>
                    <a:off x="3054240" y="4604040"/>
                    <a:ext cx="14148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19" name=""/>
                  <p:cNvSpPr/>
                  <p:nvPr/>
                </p:nvSpPr>
                <p:spPr>
                  <a:xfrm flipH="1">
                    <a:off x="3050640" y="4678560"/>
                    <a:ext cx="14148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0" name=""/>
                  <p:cNvSpPr/>
                  <p:nvPr/>
                </p:nvSpPr>
                <p:spPr>
                  <a:xfrm>
                    <a:off x="3054240" y="4746960"/>
                    <a:ext cx="14148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1" name=""/>
                  <p:cNvSpPr/>
                  <p:nvPr/>
                </p:nvSpPr>
                <p:spPr>
                  <a:xfrm flipV="1">
                    <a:off x="3127320" y="4817880"/>
                    <a:ext cx="6516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sp>
              <p:nvSpPr>
                <p:cNvPr id="122" name=""/>
                <p:cNvSpPr/>
                <p:nvPr/>
              </p:nvSpPr>
              <p:spPr>
                <a:xfrm flipV="1">
                  <a:off x="3127320" y="43336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127320" y="4854600"/>
                  <a:ext cx="0" cy="393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898720" y="524844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2975040" y="5705640"/>
                  <a:ext cx="304560" cy="380880"/>
                  <a:chOff x="2975040" y="5705640"/>
                  <a:chExt cx="304560" cy="380880"/>
                </a:xfrm>
              </p:grpSpPr>
              <p:sp>
                <p:nvSpPr>
                  <p:cNvPr id="126" name=""/>
                  <p:cNvSpPr/>
                  <p:nvPr/>
                </p:nvSpPr>
                <p:spPr>
                  <a:xfrm>
                    <a:off x="3127320" y="570564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75040" y="593388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51000" y="601020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92400" y="608652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3200040" y="4510080"/>
                  <a:ext cx="127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R_fixture</a:t>
                  </a:r>
                  <a:endParaRPr b="0" lang="en-US" sz="1600" spc="-1" strike="noStrike">
                    <a:solidFill>
                      <a:srgbClr val="000000"/>
                    </a:solidFill>
                    <a:latin typeface="Times New Roman"/>
                  </a:endParaRPr>
                </a:p>
              </p:txBody>
            </p:sp>
            <p:sp>
              <p:nvSpPr>
                <p:cNvPr id="131" name=""/>
                <p:cNvSpPr/>
                <p:nvPr/>
              </p:nvSpPr>
              <p:spPr>
                <a:xfrm>
                  <a:off x="3389400" y="5291280"/>
                  <a:ext cx="1361520" cy="36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vg(V</a:t>
                  </a:r>
                  <a:r>
                    <a:rPr b="1" lang="en-US" sz="1600" spc="-1" strike="noStrike" baseline="-20000">
                      <a:solidFill>
                        <a:srgbClr val="000000"/>
                      </a:solidFill>
                      <a:latin typeface="Times New Roman"/>
                    </a:rPr>
                    <a:t>swing</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132" name=""/>
                <p:cNvGrpSpPr/>
                <p:nvPr/>
              </p:nvGrpSpPr>
              <p:grpSpPr>
                <a:xfrm>
                  <a:off x="2384280" y="4879800"/>
                  <a:ext cx="367920" cy="145080"/>
                  <a:chOff x="2384280" y="4879800"/>
                  <a:chExt cx="367920" cy="145080"/>
                </a:xfrm>
              </p:grpSpPr>
              <p:sp>
                <p:nvSpPr>
                  <p:cNvPr id="133" name=""/>
                  <p:cNvSpPr/>
                  <p:nvPr/>
                </p:nvSpPr>
                <p:spPr>
                  <a:xfrm flipH="1" flipV="1">
                    <a:off x="2715480" y="4881600"/>
                    <a:ext cx="3672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4" name=""/>
                  <p:cNvSpPr/>
                  <p:nvPr/>
                </p:nvSpPr>
                <p:spPr>
                  <a:xfrm flipH="1">
                    <a:off x="2642400" y="4883400"/>
                    <a:ext cx="6048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flipV="1">
                    <a:off x="2574360" y="4879800"/>
                    <a:ext cx="6012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2499480" y="4883400"/>
                    <a:ext cx="6048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2431440" y="4879800"/>
                    <a:ext cx="6012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384280" y="4883040"/>
                    <a:ext cx="3636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sp>
              <p:nvSpPr>
                <p:cNvPr id="139" name=""/>
                <p:cNvSpPr/>
                <p:nvPr/>
              </p:nvSpPr>
              <p:spPr>
                <a:xfrm>
                  <a:off x="2746440" y="494352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089160" y="490860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1677600" y="5024520"/>
                  <a:ext cx="127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R_fixture</a:t>
                  </a:r>
                  <a:endParaRPr b="0" lang="en-US" sz="1600" spc="-1" strike="noStrike">
                    <a:solidFill>
                      <a:srgbClr val="000000"/>
                    </a:solidFill>
                    <a:latin typeface="Times New Roman"/>
                  </a:endParaRPr>
                </a:p>
              </p:txBody>
            </p:sp>
            <p:sp>
              <p:nvSpPr>
                <p:cNvPr id="142" name=""/>
                <p:cNvSpPr/>
                <p:nvPr/>
              </p:nvSpPr>
              <p:spPr>
                <a:xfrm>
                  <a:off x="762480" y="4378320"/>
                  <a:ext cx="552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ll</a:t>
                  </a:r>
                  <a:endParaRPr b="0" lang="en-US" sz="1600" spc="-1" strike="noStrike">
                    <a:solidFill>
                      <a:srgbClr val="000000"/>
                    </a:solidFill>
                    <a:latin typeface="Times New Roman"/>
                  </a:endParaRPr>
                </a:p>
              </p:txBody>
            </p:sp>
            <p:sp>
              <p:nvSpPr>
                <p:cNvPr id="143" name=""/>
                <p:cNvSpPr/>
                <p:nvPr/>
              </p:nvSpPr>
              <p:spPr>
                <a:xfrm>
                  <a:off x="833400" y="4676760"/>
                  <a:ext cx="466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568680" y="4089240"/>
                  <a:ext cx="12304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ff0000"/>
                      </a:solidFill>
                      <a:latin typeface="Times New Roman"/>
                    </a:rPr>
                    <a:t>V-t curves</a:t>
                  </a:r>
                  <a:endParaRPr b="0" lang="en-US" sz="1600" spc="-1" strike="noStrike">
                    <a:solidFill>
                      <a:srgbClr val="000000"/>
                    </a:solidFill>
                    <a:latin typeface="Times New Roman"/>
                  </a:endParaRPr>
                </a:p>
              </p:txBody>
            </p:sp>
          </p:grpSp>
          <p:grpSp>
            <p:nvGrpSpPr>
              <p:cNvPr id="145" name=""/>
              <p:cNvGrpSpPr/>
              <p:nvPr/>
            </p:nvGrpSpPr>
            <p:grpSpPr>
              <a:xfrm>
                <a:off x="833400" y="1724040"/>
                <a:ext cx="3956040" cy="2076480"/>
                <a:chOff x="833400" y="1724040"/>
                <a:chExt cx="3956040" cy="2076480"/>
              </a:xfrm>
            </p:grpSpPr>
            <p:sp>
              <p:nvSpPr>
                <p:cNvPr id="146" name=""/>
                <p:cNvSpPr/>
                <p:nvPr/>
              </p:nvSpPr>
              <p:spPr>
                <a:xfrm rot="5400000">
                  <a:off x="1260360" y="1933560"/>
                  <a:ext cx="990720" cy="914400"/>
                </a:xfrm>
                <a:prstGeom prst="triangle">
                  <a:avLst>
                    <a:gd name="adj" fmla="val 50000"/>
                  </a:avLst>
                </a:prstGeom>
                <a:solidFill>
                  <a:srgbClr val="ffff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736640" y="2651040"/>
                  <a:ext cx="73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470320" y="26510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41720" y="295596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2317680" y="3414600"/>
                  <a:ext cx="304560" cy="381240"/>
                  <a:chOff x="2317680" y="3414600"/>
                  <a:chExt cx="304560" cy="381240"/>
                </a:xfrm>
              </p:grpSpPr>
              <p:sp>
                <p:nvSpPr>
                  <p:cNvPr id="151" name=""/>
                  <p:cNvSpPr/>
                  <p:nvPr/>
                </p:nvSpPr>
                <p:spPr>
                  <a:xfrm>
                    <a:off x="2469960" y="3414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317680" y="36432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93640" y="371952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435040" y="379584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flipV="1">
                  <a:off x="2165400" y="2879640"/>
                  <a:ext cx="609480" cy="6098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2354040" y="2538000"/>
                  <a:ext cx="228600" cy="228960"/>
                  <a:chOff x="2354040" y="2538000"/>
                  <a:chExt cx="228600" cy="228960"/>
                </a:xfrm>
              </p:grpSpPr>
              <p:sp>
                <p:nvSpPr>
                  <p:cNvPr id="157" name=""/>
                  <p:cNvSpPr/>
                  <p:nvPr/>
                </p:nvSpPr>
                <p:spPr>
                  <a:xfrm flipH="1">
                    <a:off x="2354040" y="2538360"/>
                    <a:ext cx="228600" cy="228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flipV="1">
                    <a:off x="2354040" y="2538000"/>
                    <a:ext cx="228600" cy="228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2327760" y="2133720"/>
                  <a:ext cx="388080" cy="49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r>
                    <a:rPr b="1" lang="en-US" sz="2400" spc="-1" strike="noStrike" baseline="-20000">
                      <a:solidFill>
                        <a:srgbClr val="ff0000"/>
                      </a:solidFill>
                      <a:latin typeface="Times New Roman"/>
                    </a:rPr>
                    <a:t>a</a:t>
                  </a:r>
                  <a:endParaRPr b="0" lang="en-US" sz="2400" spc="-1" strike="noStrike">
                    <a:solidFill>
                      <a:srgbClr val="000000"/>
                    </a:solidFill>
                    <a:latin typeface="Times New Roman"/>
                  </a:endParaRPr>
                </a:p>
              </p:txBody>
            </p:sp>
            <p:sp>
              <p:nvSpPr>
                <p:cNvPr id="160" name=""/>
                <p:cNvSpPr/>
                <p:nvPr/>
              </p:nvSpPr>
              <p:spPr>
                <a:xfrm>
                  <a:off x="1832040" y="204804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679400" y="1971720"/>
                  <a:ext cx="15264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3050640" y="2276640"/>
                  <a:ext cx="145080" cy="367920"/>
                  <a:chOff x="3050640" y="2276640"/>
                  <a:chExt cx="145080" cy="367920"/>
                </a:xfrm>
              </p:grpSpPr>
              <p:sp>
                <p:nvSpPr>
                  <p:cNvPr id="163" name=""/>
                  <p:cNvSpPr/>
                  <p:nvPr/>
                </p:nvSpPr>
                <p:spPr>
                  <a:xfrm>
                    <a:off x="3128760" y="2276640"/>
                    <a:ext cx="65160" cy="3672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4" name=""/>
                  <p:cNvSpPr/>
                  <p:nvPr/>
                </p:nvSpPr>
                <p:spPr>
                  <a:xfrm flipH="1">
                    <a:off x="3050640" y="2325960"/>
                    <a:ext cx="14148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65" name=""/>
                  <p:cNvSpPr/>
                  <p:nvPr/>
                </p:nvSpPr>
                <p:spPr>
                  <a:xfrm>
                    <a:off x="3054240" y="2394360"/>
                    <a:ext cx="14148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6" name=""/>
                  <p:cNvSpPr/>
                  <p:nvPr/>
                </p:nvSpPr>
                <p:spPr>
                  <a:xfrm flipH="1">
                    <a:off x="3050640" y="2468880"/>
                    <a:ext cx="14148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67" name=""/>
                  <p:cNvSpPr/>
                  <p:nvPr/>
                </p:nvSpPr>
                <p:spPr>
                  <a:xfrm>
                    <a:off x="3054240" y="2537280"/>
                    <a:ext cx="14148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8" name=""/>
                  <p:cNvSpPr/>
                  <p:nvPr/>
                </p:nvSpPr>
                <p:spPr>
                  <a:xfrm flipV="1">
                    <a:off x="3127320" y="2608200"/>
                    <a:ext cx="6516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sp>
              <p:nvSpPr>
                <p:cNvPr id="169" name=""/>
                <p:cNvSpPr/>
                <p:nvPr/>
              </p:nvSpPr>
              <p:spPr>
                <a:xfrm flipV="1">
                  <a:off x="3127320" y="2047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127320" y="265284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898720" y="296244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2975040" y="3419640"/>
                  <a:ext cx="304560" cy="380880"/>
                  <a:chOff x="2975040" y="3419640"/>
                  <a:chExt cx="304560" cy="380880"/>
                </a:xfrm>
              </p:grpSpPr>
              <p:sp>
                <p:nvSpPr>
                  <p:cNvPr id="173" name=""/>
                  <p:cNvSpPr/>
                  <p:nvPr/>
                </p:nvSpPr>
                <p:spPr>
                  <a:xfrm>
                    <a:off x="3127320" y="341964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975040" y="364788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051000" y="372420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092400" y="380052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3200040" y="2262240"/>
                  <a:ext cx="127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R_fixture</a:t>
                  </a:r>
                  <a:endParaRPr b="0" lang="en-US" sz="1600" spc="-1" strike="noStrike">
                    <a:solidFill>
                      <a:srgbClr val="000000"/>
                    </a:solidFill>
                    <a:latin typeface="Times New Roman"/>
                  </a:endParaRPr>
                </a:p>
              </p:txBody>
            </p:sp>
            <p:sp>
              <p:nvSpPr>
                <p:cNvPr id="178" name=""/>
                <p:cNvSpPr/>
                <p:nvPr/>
              </p:nvSpPr>
              <p:spPr>
                <a:xfrm>
                  <a:off x="3389400" y="3019320"/>
                  <a:ext cx="1361520" cy="36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vg(V</a:t>
                  </a:r>
                  <a:r>
                    <a:rPr b="1" lang="en-US" sz="1600" spc="-1" strike="noStrike" baseline="-20000">
                      <a:solidFill>
                        <a:srgbClr val="000000"/>
                      </a:solidFill>
                      <a:latin typeface="Times New Roman"/>
                    </a:rPr>
                    <a:t>swing</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9" name=""/>
                <p:cNvSpPr/>
                <p:nvPr/>
              </p:nvSpPr>
              <p:spPr>
                <a:xfrm>
                  <a:off x="885240" y="2092320"/>
                  <a:ext cx="418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t>
                  </a:r>
                  <a:endParaRPr b="0" lang="en-US" sz="1600" spc="-1" strike="noStrike">
                    <a:solidFill>
                      <a:srgbClr val="000000"/>
                    </a:solidFill>
                    <a:latin typeface="Times New Roman"/>
                  </a:endParaRPr>
                </a:p>
              </p:txBody>
            </p:sp>
            <p:sp>
              <p:nvSpPr>
                <p:cNvPr id="180" name=""/>
                <p:cNvSpPr/>
                <p:nvPr/>
              </p:nvSpPr>
              <p:spPr>
                <a:xfrm>
                  <a:off x="3559320" y="1724040"/>
                  <a:ext cx="1230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ff0000"/>
                      </a:solidFill>
                      <a:latin typeface="Times New Roman"/>
                    </a:rPr>
                    <a:t>I-V curves</a:t>
                  </a:r>
                  <a:endParaRPr b="0" lang="en-US" sz="1600" spc="-1" strike="noStrike">
                    <a:solidFill>
                      <a:srgbClr val="000000"/>
                    </a:solidFill>
                    <a:latin typeface="Times New Roman"/>
                  </a:endParaRPr>
                </a:p>
              </p:txBody>
            </p:sp>
            <p:sp>
              <p:nvSpPr>
                <p:cNvPr id="181" name=""/>
                <p:cNvSpPr/>
                <p:nvPr/>
              </p:nvSpPr>
              <p:spPr>
                <a:xfrm>
                  <a:off x="833400" y="2390760"/>
                  <a:ext cx="466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5019840" y="1693800"/>
              <a:ext cx="3533760" cy="4572000"/>
              <a:chOff x="5019840" y="1693800"/>
              <a:chExt cx="3533760" cy="4572000"/>
            </a:xfrm>
          </p:grpSpPr>
          <p:sp>
            <p:nvSpPr>
              <p:cNvPr id="183" name=""/>
              <p:cNvSpPr/>
              <p:nvPr/>
            </p:nvSpPr>
            <p:spPr>
              <a:xfrm>
                <a:off x="5019840" y="1693800"/>
                <a:ext cx="3427200" cy="45720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058360" y="4089240"/>
                <a:ext cx="3495240" cy="1998720"/>
                <a:chOff x="5058360" y="4089240"/>
                <a:chExt cx="3495240" cy="1998720"/>
              </a:xfrm>
            </p:grpSpPr>
            <p:sp>
              <p:nvSpPr>
                <p:cNvPr id="185" name=""/>
                <p:cNvSpPr/>
                <p:nvPr/>
              </p:nvSpPr>
              <p:spPr>
                <a:xfrm>
                  <a:off x="5316120" y="5114880"/>
                  <a:ext cx="127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R_fixture</a:t>
                  </a:r>
                  <a:endParaRPr b="0" lang="en-US" sz="1600" spc="-1" strike="noStrike">
                    <a:solidFill>
                      <a:srgbClr val="000000"/>
                    </a:solidFill>
                    <a:latin typeface="Times New Roman"/>
                  </a:endParaRPr>
                </a:p>
              </p:txBody>
            </p:sp>
            <p:sp>
              <p:nvSpPr>
                <p:cNvPr id="186" name=""/>
                <p:cNvSpPr/>
                <p:nvPr/>
              </p:nvSpPr>
              <p:spPr>
                <a:xfrm rot="5400000">
                  <a:off x="5560920" y="4219560"/>
                  <a:ext cx="990720" cy="914400"/>
                </a:xfrm>
                <a:prstGeom prst="triangle">
                  <a:avLst>
                    <a:gd name="adj" fmla="val 50000"/>
                  </a:avLst>
                </a:prstGeom>
                <a:solidFill>
                  <a:srgbClr val="33cc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21360" y="4943520"/>
                  <a:ext cx="263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32600" y="433404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979960" y="4257720"/>
                  <a:ext cx="15264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818400" y="494352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589800" y="524844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6665760" y="5705640"/>
                  <a:ext cx="304560" cy="380880"/>
                  <a:chOff x="6665760" y="5705640"/>
                  <a:chExt cx="304560" cy="380880"/>
                </a:xfrm>
              </p:grpSpPr>
              <p:sp>
                <p:nvSpPr>
                  <p:cNvPr id="193" name=""/>
                  <p:cNvSpPr/>
                  <p:nvPr/>
                </p:nvSpPr>
                <p:spPr>
                  <a:xfrm>
                    <a:off x="6818040" y="570564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65760" y="593388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741720" y="601020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83120" y="608652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6284880" y="4879800"/>
                  <a:ext cx="367920" cy="145080"/>
                  <a:chOff x="6284880" y="4879800"/>
                  <a:chExt cx="367920" cy="145080"/>
                </a:xfrm>
              </p:grpSpPr>
              <p:sp>
                <p:nvSpPr>
                  <p:cNvPr id="198" name=""/>
                  <p:cNvSpPr/>
                  <p:nvPr/>
                </p:nvSpPr>
                <p:spPr>
                  <a:xfrm flipH="1" flipV="1">
                    <a:off x="6616080" y="4881600"/>
                    <a:ext cx="3672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99" name=""/>
                  <p:cNvSpPr/>
                  <p:nvPr/>
                </p:nvSpPr>
                <p:spPr>
                  <a:xfrm flipH="1">
                    <a:off x="6543000" y="4883400"/>
                    <a:ext cx="6048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a:off x="6474960" y="4879800"/>
                    <a:ext cx="6012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00080" y="4883400"/>
                    <a:ext cx="6048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flipV="1">
                    <a:off x="6332040" y="4879800"/>
                    <a:ext cx="6012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6284880" y="4883040"/>
                    <a:ext cx="3636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sp>
              <p:nvSpPr>
                <p:cNvPr id="204" name=""/>
                <p:cNvSpPr/>
                <p:nvPr/>
              </p:nvSpPr>
              <p:spPr>
                <a:xfrm>
                  <a:off x="6647040" y="4943520"/>
                  <a:ext cx="17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426440" y="433548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197840" y="52498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7273800" y="5707080"/>
                  <a:ext cx="304560" cy="380880"/>
                  <a:chOff x="7273800" y="5707080"/>
                  <a:chExt cx="304560" cy="380880"/>
                </a:xfrm>
              </p:grpSpPr>
              <p:sp>
                <p:nvSpPr>
                  <p:cNvPr id="208" name=""/>
                  <p:cNvSpPr/>
                  <p:nvPr/>
                </p:nvSpPr>
                <p:spPr>
                  <a:xfrm>
                    <a:off x="7426080" y="570708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73800" y="593532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49760" y="601164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1160" y="608796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7707240" y="5307120"/>
                  <a:ext cx="697320" cy="36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r>
                    <a:rPr b="1" lang="en-US" sz="1600" spc="-1" strike="noStrike" baseline="-20000">
                      <a:solidFill>
                        <a:srgbClr val="000000"/>
                      </a:solidFill>
                      <a:latin typeface="Times New Roman"/>
                    </a:rPr>
                    <a:t>b</a:t>
                  </a:r>
                  <a:r>
                    <a:rPr b="1" lang="en-US" sz="1600" spc="-1" strike="noStrike">
                      <a:solidFill>
                        <a:srgbClr val="000000"/>
                      </a:solidFill>
                      <a:latin typeface="Times New Roman"/>
                    </a:rPr>
                    <a:t>= -I</a:t>
                  </a:r>
                  <a:r>
                    <a:rPr b="1" lang="en-US" sz="1600" spc="-1" strike="noStrike" baseline="-20000">
                      <a:solidFill>
                        <a:srgbClr val="000000"/>
                      </a:solidFill>
                      <a:latin typeface="Times New Roman"/>
                    </a:rPr>
                    <a:t>a</a:t>
                  </a:r>
                  <a:endParaRPr b="0" lang="en-US" sz="1600" spc="-1" strike="noStrike">
                    <a:solidFill>
                      <a:srgbClr val="000000"/>
                    </a:solidFill>
                    <a:latin typeface="Times New Roman"/>
                  </a:endParaRPr>
                </a:p>
              </p:txBody>
            </p:sp>
            <p:sp>
              <p:nvSpPr>
                <p:cNvPr id="213" name=""/>
                <p:cNvSpPr/>
                <p:nvPr/>
              </p:nvSpPr>
              <p:spPr>
                <a:xfrm>
                  <a:off x="7197840" y="494496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342040" y="5530680"/>
                  <a:ext cx="1361520" cy="36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vg(V</a:t>
                  </a:r>
                  <a:r>
                    <a:rPr b="1" lang="en-US" sz="1600" spc="-1" strike="noStrike" baseline="-20000">
                      <a:solidFill>
                        <a:srgbClr val="000000"/>
                      </a:solidFill>
                      <a:latin typeface="Times New Roman"/>
                    </a:rPr>
                    <a:t>swing</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5" name=""/>
                <p:cNvSpPr/>
                <p:nvPr/>
              </p:nvSpPr>
              <p:spPr>
                <a:xfrm>
                  <a:off x="5058360" y="4378320"/>
                  <a:ext cx="552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ll</a:t>
                  </a:r>
                  <a:endParaRPr b="0" lang="en-US" sz="1600" spc="-1" strike="noStrike">
                    <a:solidFill>
                      <a:srgbClr val="000000"/>
                    </a:solidFill>
                    <a:latin typeface="Times New Roman"/>
                  </a:endParaRPr>
                </a:p>
              </p:txBody>
            </p:sp>
            <p:sp>
              <p:nvSpPr>
                <p:cNvPr id="216" name=""/>
                <p:cNvSpPr/>
                <p:nvPr/>
              </p:nvSpPr>
              <p:spPr>
                <a:xfrm>
                  <a:off x="5129280" y="4676760"/>
                  <a:ext cx="46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323120" y="4089240"/>
                  <a:ext cx="12304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ff0000"/>
                      </a:solidFill>
                      <a:latin typeface="Times New Roman"/>
                    </a:rPr>
                    <a:t>V-t curves</a:t>
                  </a:r>
                  <a:endParaRPr b="0" lang="en-US" sz="1600" spc="-1" strike="noStrike">
                    <a:solidFill>
                      <a:srgbClr val="000000"/>
                    </a:solidFill>
                    <a:latin typeface="Times New Roman"/>
                  </a:endParaRPr>
                </a:p>
              </p:txBody>
            </p:sp>
          </p:grpSp>
          <p:grpSp>
            <p:nvGrpSpPr>
              <p:cNvPr id="218" name=""/>
              <p:cNvGrpSpPr/>
              <p:nvPr/>
            </p:nvGrpSpPr>
            <p:grpSpPr>
              <a:xfrm>
                <a:off x="5129280" y="1724040"/>
                <a:ext cx="3414600" cy="2076480"/>
                <a:chOff x="5129280" y="1724040"/>
                <a:chExt cx="3414600" cy="2076480"/>
              </a:xfrm>
            </p:grpSpPr>
            <p:sp>
              <p:nvSpPr>
                <p:cNvPr id="219" name=""/>
                <p:cNvSpPr/>
                <p:nvPr/>
              </p:nvSpPr>
              <p:spPr>
                <a:xfrm rot="5400000">
                  <a:off x="5560920" y="1933560"/>
                  <a:ext cx="990720" cy="914400"/>
                </a:xfrm>
                <a:prstGeom prst="triangle">
                  <a:avLst>
                    <a:gd name="adj" fmla="val 50000"/>
                  </a:avLst>
                </a:prstGeom>
                <a:solidFill>
                  <a:srgbClr val="ffff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37200" y="2651040"/>
                  <a:ext cx="7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770520" y="26510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541920" y="295596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6618240" y="3414600"/>
                  <a:ext cx="304560" cy="381240"/>
                  <a:chOff x="6618240" y="3414600"/>
                  <a:chExt cx="304560" cy="381240"/>
                </a:xfrm>
              </p:grpSpPr>
              <p:sp>
                <p:nvSpPr>
                  <p:cNvPr id="224" name=""/>
                  <p:cNvSpPr/>
                  <p:nvPr/>
                </p:nvSpPr>
                <p:spPr>
                  <a:xfrm>
                    <a:off x="6770520" y="3414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18240" y="36432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694200" y="371952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735600" y="379584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flipV="1">
                  <a:off x="6465960" y="2879640"/>
                  <a:ext cx="609480" cy="6098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6654600" y="2538000"/>
                  <a:ext cx="228600" cy="228960"/>
                  <a:chOff x="6654600" y="2538000"/>
                  <a:chExt cx="228600" cy="228960"/>
                </a:xfrm>
              </p:grpSpPr>
              <p:sp>
                <p:nvSpPr>
                  <p:cNvPr id="230" name=""/>
                  <p:cNvSpPr/>
                  <p:nvPr/>
                </p:nvSpPr>
                <p:spPr>
                  <a:xfrm flipH="1">
                    <a:off x="6654600" y="2538360"/>
                    <a:ext cx="228600" cy="228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flipV="1">
                    <a:off x="6654600" y="2538000"/>
                    <a:ext cx="228600" cy="228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6628320" y="2133720"/>
                  <a:ext cx="388080" cy="49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r>
                    <a:rPr b="1" lang="en-US" sz="2400" spc="-1" strike="noStrike" baseline="-20000">
                      <a:solidFill>
                        <a:srgbClr val="ff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6132600" y="204804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979960" y="1971720"/>
                  <a:ext cx="15264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27880" y="204804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199280" y="296244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7275600" y="3419640"/>
                  <a:ext cx="304560" cy="380880"/>
                  <a:chOff x="7275600" y="3419640"/>
                  <a:chExt cx="304560" cy="380880"/>
                </a:xfrm>
              </p:grpSpPr>
              <p:sp>
                <p:nvSpPr>
                  <p:cNvPr id="238" name=""/>
                  <p:cNvSpPr/>
                  <p:nvPr/>
                </p:nvSpPr>
                <p:spPr>
                  <a:xfrm>
                    <a:off x="7427880" y="341964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75600" y="364788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351560" y="372420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392960" y="380052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a:off x="7708680" y="3019320"/>
                  <a:ext cx="697320" cy="36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r>
                    <a:rPr b="1" lang="en-US" sz="1600" spc="-1" strike="noStrike" baseline="-20000">
                      <a:solidFill>
                        <a:srgbClr val="000000"/>
                      </a:solidFill>
                      <a:latin typeface="Times New Roman"/>
                    </a:rPr>
                    <a:t>b</a:t>
                  </a:r>
                  <a:r>
                    <a:rPr b="1" lang="en-US" sz="1600" spc="-1" strike="noStrike">
                      <a:solidFill>
                        <a:srgbClr val="000000"/>
                      </a:solidFill>
                      <a:latin typeface="Times New Roman"/>
                    </a:rPr>
                    <a:t>= -I</a:t>
                  </a:r>
                  <a:r>
                    <a:rPr b="1" lang="en-US" sz="1600" spc="-1" strike="noStrike" baseline="-20000">
                      <a:solidFill>
                        <a:srgbClr val="000000"/>
                      </a:solidFill>
                      <a:latin typeface="Times New Roman"/>
                    </a:rPr>
                    <a:t>a</a:t>
                  </a:r>
                  <a:endParaRPr b="0" lang="en-US" sz="1600" spc="-1" strike="noStrike">
                    <a:solidFill>
                      <a:srgbClr val="000000"/>
                    </a:solidFill>
                    <a:latin typeface="Times New Roman"/>
                  </a:endParaRPr>
                </a:p>
              </p:txBody>
            </p:sp>
            <p:sp>
              <p:nvSpPr>
                <p:cNvPr id="243" name=""/>
                <p:cNvSpPr/>
                <p:nvPr/>
              </p:nvSpPr>
              <p:spPr>
                <a:xfrm>
                  <a:off x="7199280" y="265752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120" y="2092320"/>
                  <a:ext cx="418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t>
                  </a:r>
                  <a:endParaRPr b="0" lang="en-US" sz="1600" spc="-1" strike="noStrike">
                    <a:solidFill>
                      <a:srgbClr val="000000"/>
                    </a:solidFill>
                    <a:latin typeface="Times New Roman"/>
                  </a:endParaRPr>
                </a:p>
              </p:txBody>
            </p:sp>
            <p:sp>
              <p:nvSpPr>
                <p:cNvPr id="245" name=""/>
                <p:cNvSpPr/>
                <p:nvPr/>
              </p:nvSpPr>
              <p:spPr>
                <a:xfrm>
                  <a:off x="7313760" y="1724040"/>
                  <a:ext cx="1230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ff0000"/>
                      </a:solidFill>
                      <a:latin typeface="Times New Roman"/>
                    </a:rPr>
                    <a:t>I-V curves</a:t>
                  </a:r>
                  <a:endParaRPr b="0" lang="en-US" sz="1600" spc="-1" strike="noStrike">
                    <a:solidFill>
                      <a:srgbClr val="000000"/>
                    </a:solidFill>
                    <a:latin typeface="Times New Roman"/>
                  </a:endParaRPr>
                </a:p>
              </p:txBody>
            </p:sp>
            <p:sp>
              <p:nvSpPr>
                <p:cNvPr id="246" name=""/>
                <p:cNvSpPr/>
                <p:nvPr/>
              </p:nvSpPr>
              <p:spPr>
                <a:xfrm>
                  <a:off x="5129280" y="2390760"/>
                  <a:ext cx="46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7" name=""/>
            <p:cNvGrpSpPr/>
            <p:nvPr/>
          </p:nvGrpSpPr>
          <p:grpSpPr>
            <a:xfrm>
              <a:off x="228600" y="152280"/>
              <a:ext cx="8610480" cy="6477120"/>
              <a:chOff x="228600" y="152280"/>
              <a:chExt cx="8610480" cy="6477120"/>
            </a:xfrm>
          </p:grpSpPr>
          <p:sp>
            <p:nvSpPr>
              <p:cNvPr id="248" name=""/>
              <p:cNvSpPr/>
              <p:nvPr/>
            </p:nvSpPr>
            <p:spPr>
              <a:xfrm>
                <a:off x="228600" y="152280"/>
                <a:ext cx="8610480" cy="64771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228600" y="152280"/>
                <a:ext cx="8610480" cy="64771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a:off x="721440" y="6227640"/>
            <a:ext cx="691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 Muranyi “Introduction to IBIS Models and IBIS Modeling”, September 2000, p. 8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VDS SPICE and IBIS model overlay</a:t>
            </a:r>
            <a:endParaRPr b="0" lang="en-US" sz="4000" spc="-1" strike="noStrike">
              <a:solidFill>
                <a:srgbClr val="000000"/>
              </a:solidFill>
              <a:latin typeface="Times New Roman"/>
            </a:endParaRPr>
          </a:p>
        </p:txBody>
      </p:sp>
      <p:grpSp>
        <p:nvGrpSpPr>
          <p:cNvPr id="252" name=""/>
          <p:cNvGrpSpPr/>
          <p:nvPr/>
        </p:nvGrpSpPr>
        <p:grpSpPr>
          <a:xfrm>
            <a:off x="228600" y="152280"/>
            <a:ext cx="8610480" cy="6477120"/>
            <a:chOff x="228600" y="152280"/>
            <a:chExt cx="8610480" cy="6477120"/>
          </a:xfrm>
        </p:grpSpPr>
        <p:pic>
          <p:nvPicPr>
            <p:cNvPr id="253" name="" descr=""/>
            <p:cNvPicPr/>
            <p:nvPr/>
          </p:nvPicPr>
          <p:blipFill>
            <a:blip r:embed="rId1"/>
            <a:srcRect l="15386" t="9686" r="5983" b="10897"/>
            <a:stretch/>
          </p:blipFill>
          <p:spPr>
            <a:xfrm>
              <a:off x="1136520" y="1015920"/>
              <a:ext cx="6872400" cy="4902120"/>
            </a:xfrm>
            <a:prstGeom prst="rect">
              <a:avLst/>
            </a:prstGeom>
            <a:ln w="25560">
              <a:solidFill>
                <a:srgbClr val="000000"/>
              </a:solidFill>
              <a:miter/>
            </a:ln>
            <a:effectLst>
              <a:outerShdw dist="89604" dir="2700000" blurRad="0" rotWithShape="0">
                <a:srgbClr val="919191"/>
              </a:outerShdw>
            </a:effectLst>
          </p:spPr>
        </p:pic>
        <p:grpSp>
          <p:nvGrpSpPr>
            <p:cNvPr id="254" name=""/>
            <p:cNvGrpSpPr/>
            <p:nvPr/>
          </p:nvGrpSpPr>
          <p:grpSpPr>
            <a:xfrm>
              <a:off x="228600" y="152280"/>
              <a:ext cx="8610480" cy="6477120"/>
              <a:chOff x="228600" y="152280"/>
              <a:chExt cx="8610480" cy="6477120"/>
            </a:xfrm>
          </p:grpSpPr>
          <p:sp>
            <p:nvSpPr>
              <p:cNvPr id="255" name=""/>
              <p:cNvSpPr/>
              <p:nvPr/>
            </p:nvSpPr>
            <p:spPr>
              <a:xfrm>
                <a:off x="228600" y="152280"/>
                <a:ext cx="8610480" cy="64771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228600" y="152280"/>
                <a:ext cx="8610480" cy="64771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7" name=""/>
          <p:cNvSpPr/>
          <p:nvPr/>
        </p:nvSpPr>
        <p:spPr>
          <a:xfrm>
            <a:off x="990000" y="5970600"/>
            <a:ext cx="691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 Muranyi “Introduction to IBIS Models and IBIS Modeling”, September 2000, p. 8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iscorrelation of original technique</a:t>
            </a:r>
            <a:endParaRPr b="0" lang="en-US" sz="4000" spc="-1" strike="noStrike">
              <a:solidFill>
                <a:srgbClr val="000000"/>
              </a:solidFill>
              <a:latin typeface="Times New Roman"/>
            </a:endParaRPr>
          </a:p>
        </p:txBody>
      </p:sp>
      <p:pic>
        <p:nvPicPr>
          <p:cNvPr id="259" name="" descr=""/>
          <p:cNvPicPr/>
          <p:nvPr/>
        </p:nvPicPr>
        <p:blipFill>
          <a:blip r:embed="rId1"/>
          <a:srcRect l="3504" t="3513" r="3504" b="13921"/>
          <a:stretch/>
        </p:blipFill>
        <p:spPr>
          <a:xfrm>
            <a:off x="641520" y="1004760"/>
            <a:ext cx="7860960" cy="5027760"/>
          </a:xfrm>
          <a:prstGeom prst="rect">
            <a:avLst/>
          </a:prstGeom>
          <a:ln w="0">
            <a:noFill/>
          </a:ln>
        </p:spPr>
      </p:pic>
      <p:sp>
        <p:nvSpPr>
          <p:cNvPr id="260" name=""/>
          <p:cNvSpPr/>
          <p:nvPr/>
        </p:nvSpPr>
        <p:spPr>
          <a:xfrm>
            <a:off x="619920" y="5913360"/>
            <a:ext cx="710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H. Hegazy and Mohammed Korany “LVDS Modeling”, IBIS Summit, March 2001, p. 1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otivation for this study</a:t>
            </a:r>
            <a:endParaRPr b="0" lang="en-US" sz="4000" spc="-1" strike="noStrike">
              <a:solidFill>
                <a:srgbClr val="000000"/>
              </a:solidFill>
              <a:latin typeface="Times New Roman"/>
            </a:endParaRPr>
          </a:p>
        </p:txBody>
      </p:sp>
      <p:sp>
        <p:nvSpPr>
          <p:cNvPr id="262" name=""/>
          <p:cNvSpPr/>
          <p:nvPr/>
        </p:nvSpPr>
        <p:spPr>
          <a:xfrm>
            <a:off x="577800" y="1108080"/>
            <a:ext cx="7988400" cy="4847400"/>
          </a:xfrm>
          <a:prstGeom prst="rect">
            <a:avLst/>
          </a:prstGeom>
          <a:noFill/>
          <a:ln w="0">
            <a:noFill/>
          </a:ln>
        </p:spPr>
        <p:style>
          <a:lnRef idx="0"/>
          <a:fillRef idx="0"/>
          <a:effectRef idx="0"/>
          <a:fontRef idx="minor"/>
        </p:style>
        <p:txBody>
          <a:bodyPr lIns="92160" rIns="92160" tIns="46080" bIns="46080" anchor="t">
            <a:spAutoFit/>
          </a:bodyPr>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Hazem’s Proposal-III essentially introduces the idea of measuring the common and differential currents of the buffer separately</a:t>
            </a:r>
            <a:endParaRPr b="0" lang="en-US" sz="2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great idea, similar to RLGC matrices of T-lines having self and mutual entries leading to common and differential impedance (not the same as </a:t>
            </a:r>
            <a:r>
              <a:rPr b="0" i="1" lang="en-US" sz="1800" spc="-1" strike="noStrike">
                <a:solidFill>
                  <a:srgbClr val="000000"/>
                </a:solidFill>
                <a:latin typeface="Times New Roman"/>
              </a:rPr>
              <a:t>common mode</a:t>
            </a:r>
            <a:r>
              <a:rPr b="0" lang="en-US" sz="1800" spc="-1" strike="noStrike">
                <a:solidFill>
                  <a:srgbClr val="000000"/>
                </a:solidFill>
                <a:latin typeface="Times New Roman"/>
              </a:rPr>
              <a:t> and </a:t>
            </a:r>
            <a:r>
              <a:rPr b="0" i="1" lang="en-US" sz="1800" spc="-1" strike="noStrike">
                <a:solidFill>
                  <a:srgbClr val="000000"/>
                </a:solidFill>
                <a:latin typeface="Times New Roman"/>
              </a:rPr>
              <a:t>differential mode</a:t>
            </a:r>
            <a:r>
              <a:rPr b="0" lang="en-US" sz="1800" spc="-1" strike="noStrike">
                <a:solidFill>
                  <a:srgbClr val="000000"/>
                </a:solidFill>
                <a:latin typeface="Times New Roman"/>
              </a:rPr>
              <a:t> impedance, see references)</a:t>
            </a:r>
            <a:endParaRPr b="0" lang="en-US" sz="18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the concept of common and differential impedance is well known and understood</a:t>
            </a:r>
            <a:endParaRPr b="0" lang="en-US" sz="18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Intentional or not, differential buffers also have common and differential currents (or impedance)</a:t>
            </a:r>
            <a:endParaRPr b="0" lang="en-US" sz="2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if intentional, this can be from on-die terminations, etc…</a:t>
            </a:r>
            <a:endParaRPr b="0" lang="en-US" sz="18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if not intentional, this can be caused by the non ideal characteristics of current sources, leakages, etc…</a:t>
            </a:r>
            <a:endParaRPr b="0" lang="en-US" sz="18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Proposal-III, however, is lacking generality for measuring the differential portion of the output curr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True differential buffers with IBIS v3.2</a:t>
            </a:r>
            <a:endParaRPr b="0" lang="en-US" sz="4000" spc="-1" strike="noStrike">
              <a:solidFill>
                <a:srgbClr val="000000"/>
              </a:solidFill>
              <a:latin typeface="Times New Roman"/>
            </a:endParaRPr>
          </a:p>
        </p:txBody>
      </p:sp>
      <p:sp>
        <p:nvSpPr>
          <p:cNvPr id="264" name=""/>
          <p:cNvSpPr/>
          <p:nvPr/>
        </p:nvSpPr>
        <p:spPr>
          <a:xfrm>
            <a:off x="1593720" y="1135080"/>
            <a:ext cx="5956560" cy="4207320"/>
          </a:xfrm>
          <a:prstGeom prst="rect">
            <a:avLst/>
          </a:prstGeom>
          <a:noFill/>
          <a:ln w="0">
            <a:noFill/>
          </a:ln>
        </p:spPr>
        <p:style>
          <a:lnRef idx="0"/>
          <a:fillRef idx="0"/>
          <a:effectRef idx="0"/>
          <a:fontRef idx="minor"/>
        </p:style>
        <p:txBody>
          <a:bodyPr lIns="92160" rIns="92160" tIns="46080" bIns="46080" anchor="t">
            <a:spAutoFit/>
          </a:bodyPr>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Series Pin Mapping]</a:t>
            </a:r>
            <a:endParaRPr b="0" lang="en-US" sz="24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allows the mapping of series elements, such as R, L, C and current tables to pins which </a:t>
            </a:r>
            <a:r>
              <a:rPr b="0" i="1" lang="en-US" sz="1800" spc="-1" strike="noStrike" u="sng">
                <a:solidFill>
                  <a:srgbClr val="ff0000"/>
                </a:solidFill>
                <a:uFillTx/>
                <a:latin typeface="Times New Roman"/>
              </a:rPr>
              <a:t>already have</a:t>
            </a:r>
            <a:r>
              <a:rPr b="0" lang="en-US" sz="1800" spc="-1" strike="noStrike">
                <a:solidFill>
                  <a:srgbClr val="000000"/>
                </a:solidFill>
                <a:latin typeface="Times New Roman"/>
              </a:rPr>
              <a:t> a [Model] assignment</a:t>
            </a:r>
            <a:endParaRPr b="0" lang="en-US" sz="18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a series current (and/or) R, C elements could be used to account for the </a:t>
            </a:r>
            <a:r>
              <a:rPr b="0" i="1" lang="en-US" sz="1800" spc="-1" strike="noStrike" u="sng">
                <a:solidFill>
                  <a:srgbClr val="ff0000"/>
                </a:solidFill>
                <a:uFillTx/>
                <a:latin typeface="Times New Roman"/>
              </a:rPr>
              <a:t>differential currents</a:t>
            </a:r>
            <a:endParaRPr b="0" lang="en-US" sz="1800" spc="-1" strike="noStrike">
              <a:solidFill>
                <a:srgbClr val="000000"/>
              </a:solidFill>
              <a:latin typeface="Times New Roman"/>
            </a:endParaRPr>
          </a:p>
          <a:p>
            <a:pPr lvl="1" marL="576360" indent="-235080">
              <a:lnSpc>
                <a:spcPct val="100000"/>
              </a:lnSpc>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the regular [Model] associated with the same two pins could be used to account for the </a:t>
            </a:r>
            <a:r>
              <a:rPr b="0" i="1" lang="en-US" sz="1800" spc="-1" strike="noStrike" u="sng">
                <a:solidFill>
                  <a:srgbClr val="ff0000"/>
                </a:solidFill>
                <a:uFillTx/>
                <a:latin typeface="Times New Roman"/>
              </a:rPr>
              <a:t>common currents</a:t>
            </a:r>
            <a:endParaRPr b="0" lang="en-US" sz="18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Series Current]</a:t>
            </a:r>
            <a:endParaRPr b="0" lang="en-US" sz="24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Series MOSFET]</a:t>
            </a:r>
            <a:endParaRPr b="0" lang="en-US" sz="24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R Series]</a:t>
            </a:r>
            <a:endParaRPr b="0" lang="en-US" sz="24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C Series]</a:t>
            </a:r>
            <a:endParaRPr b="0" lang="en-US" sz="24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Rc Se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New IV curve measurement setup</a:t>
            </a:r>
            <a:endParaRPr b="0" lang="en-US" sz="4000" spc="-1" strike="noStrike">
              <a:solidFill>
                <a:srgbClr val="000000"/>
              </a:solidFill>
              <a:latin typeface="Times New Roman"/>
            </a:endParaRPr>
          </a:p>
        </p:txBody>
      </p:sp>
      <p:grpSp>
        <p:nvGrpSpPr>
          <p:cNvPr id="266" name=""/>
          <p:cNvGrpSpPr/>
          <p:nvPr/>
        </p:nvGrpSpPr>
        <p:grpSpPr>
          <a:xfrm>
            <a:off x="465120" y="1293840"/>
            <a:ext cx="4376880" cy="2286000"/>
            <a:chOff x="465120" y="1293840"/>
            <a:chExt cx="4376880" cy="2286000"/>
          </a:xfrm>
        </p:grpSpPr>
        <p:sp>
          <p:nvSpPr>
            <p:cNvPr id="267" name=""/>
            <p:cNvSpPr/>
            <p:nvPr/>
          </p:nvSpPr>
          <p:spPr>
            <a:xfrm>
              <a:off x="477720" y="1293840"/>
              <a:ext cx="4341960" cy="22860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65120" y="1398600"/>
              <a:ext cx="4376880" cy="2076480"/>
              <a:chOff x="465120" y="1398600"/>
              <a:chExt cx="4376880" cy="2076480"/>
            </a:xfrm>
          </p:grpSpPr>
          <p:sp>
            <p:nvSpPr>
              <p:cNvPr id="269" name=""/>
              <p:cNvSpPr/>
              <p:nvPr/>
            </p:nvSpPr>
            <p:spPr>
              <a:xfrm rot="5400000">
                <a:off x="969840" y="1608120"/>
                <a:ext cx="990720" cy="914400"/>
              </a:xfrm>
              <a:prstGeom prst="triangle">
                <a:avLst>
                  <a:gd name="adj" fmla="val 50000"/>
                </a:avLst>
              </a:prstGeom>
              <a:solidFill>
                <a:srgbClr val="ffff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446120" y="2325600"/>
                <a:ext cx="73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179800" y="23256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951200" y="263052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2027160" y="3089160"/>
                <a:ext cx="304560" cy="381240"/>
                <a:chOff x="2027160" y="3089160"/>
                <a:chExt cx="304560" cy="381240"/>
              </a:xfrm>
            </p:grpSpPr>
            <p:sp>
              <p:nvSpPr>
                <p:cNvPr id="274" name=""/>
                <p:cNvSpPr/>
                <p:nvPr/>
              </p:nvSpPr>
              <p:spPr>
                <a:xfrm>
                  <a:off x="2179440" y="30891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27160" y="331776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103120" y="33940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144520" y="347040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V="1">
                <a:off x="1874880" y="2554200"/>
                <a:ext cx="609480" cy="6098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2063520" y="2212560"/>
                <a:ext cx="228600" cy="228960"/>
                <a:chOff x="2063520" y="2212560"/>
                <a:chExt cx="228600" cy="228960"/>
              </a:xfrm>
            </p:grpSpPr>
            <p:sp>
              <p:nvSpPr>
                <p:cNvPr id="280" name=""/>
                <p:cNvSpPr/>
                <p:nvPr/>
              </p:nvSpPr>
              <p:spPr>
                <a:xfrm flipH="1">
                  <a:off x="2063520" y="2212920"/>
                  <a:ext cx="228600" cy="228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2063520" y="2212560"/>
                  <a:ext cx="228600" cy="228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1985040" y="1784520"/>
                <a:ext cx="398520" cy="49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r>
                  <a:rPr b="1" lang="en-US" sz="2400" spc="-1" strike="noStrike" baseline="-20000">
                    <a:solidFill>
                      <a:srgbClr val="ff0000"/>
                    </a:solidFill>
                    <a:latin typeface="Times New Roman"/>
                  </a:rPr>
                  <a:t>p</a:t>
                </a:r>
                <a:endParaRPr b="0" lang="en-US" sz="2400" spc="-1" strike="noStrike">
                  <a:solidFill>
                    <a:srgbClr val="000000"/>
                  </a:solidFill>
                  <a:latin typeface="Times New Roman"/>
                </a:endParaRPr>
              </a:p>
            </p:txBody>
          </p:sp>
          <p:sp>
            <p:nvSpPr>
              <p:cNvPr id="283" name=""/>
              <p:cNvSpPr/>
              <p:nvPr/>
            </p:nvSpPr>
            <p:spPr>
              <a:xfrm>
                <a:off x="1541520" y="172260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388880" y="1646280"/>
                <a:ext cx="15264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36800" y="1720800"/>
                <a:ext cx="0" cy="91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608200" y="263700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2684520" y="3094200"/>
                <a:ext cx="304560" cy="380880"/>
                <a:chOff x="2684520" y="3094200"/>
                <a:chExt cx="304560" cy="380880"/>
              </a:xfrm>
            </p:grpSpPr>
            <p:sp>
              <p:nvSpPr>
                <p:cNvPr id="288" name=""/>
                <p:cNvSpPr/>
                <p:nvPr/>
              </p:nvSpPr>
              <p:spPr>
                <a:xfrm>
                  <a:off x="2836800" y="30942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684520" y="332244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760480" y="339876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01880" y="347508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65120" y="2570040"/>
                <a:ext cx="1506600" cy="626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weep V</a:t>
                </a:r>
                <a:r>
                  <a:rPr b="1" lang="en-US" sz="1600" spc="-1" strike="noStrike" baseline="-20000">
                    <a:solidFill>
                      <a:srgbClr val="000000"/>
                    </a:solidFill>
                    <a:latin typeface="Times New Roman"/>
                  </a:rPr>
                  <a:t>p</a:t>
                </a:r>
                <a:r>
                  <a:rPr b="1" lang="en-US" sz="1600" spc="-1" strike="noStrike">
                    <a:solidFill>
                      <a:srgbClr val="000000"/>
                    </a:solidFill>
                    <a:latin typeface="Times New Roman"/>
                  </a:rPr>
                  <a:t> whi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lding V</a:t>
                </a:r>
                <a:r>
                  <a:rPr b="1" lang="en-US" sz="1600" spc="-1" strike="noStrike" baseline="-20000">
                    <a:solidFill>
                      <a:srgbClr val="000000"/>
                    </a:solidFill>
                    <a:latin typeface="Times New Roman"/>
                  </a:rPr>
                  <a:t>n</a:t>
                </a:r>
                <a:endParaRPr b="0" lang="en-US" sz="1600" spc="-1" strike="noStrike">
                  <a:solidFill>
                    <a:srgbClr val="000000"/>
                  </a:solidFill>
                  <a:latin typeface="Times New Roman"/>
                </a:endParaRPr>
              </a:p>
            </p:txBody>
          </p:sp>
          <p:sp>
            <p:nvSpPr>
              <p:cNvPr id="293" name=""/>
              <p:cNvSpPr/>
              <p:nvPr/>
            </p:nvSpPr>
            <p:spPr>
              <a:xfrm>
                <a:off x="594720" y="1766880"/>
                <a:ext cx="418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t>
                </a:r>
                <a:endParaRPr b="0" lang="en-US" sz="1600" spc="-1" strike="noStrike">
                  <a:solidFill>
                    <a:srgbClr val="000000"/>
                  </a:solidFill>
                  <a:latin typeface="Times New Roman"/>
                </a:endParaRPr>
              </a:p>
            </p:txBody>
          </p:sp>
          <p:sp>
            <p:nvSpPr>
              <p:cNvPr id="294" name=""/>
              <p:cNvSpPr/>
              <p:nvPr/>
            </p:nvSpPr>
            <p:spPr>
              <a:xfrm>
                <a:off x="3611520" y="1398600"/>
                <a:ext cx="12304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ff0000"/>
                    </a:solidFill>
                    <a:latin typeface="Times New Roman"/>
                  </a:rPr>
                  <a:t>I-V curves</a:t>
                </a:r>
                <a:endParaRPr b="0" lang="en-US" sz="1600" spc="-1" strike="noStrike">
                  <a:solidFill>
                    <a:srgbClr val="000000"/>
                  </a:solidFill>
                  <a:latin typeface="Times New Roman"/>
                </a:endParaRPr>
              </a:p>
            </p:txBody>
          </p:sp>
          <p:sp>
            <p:nvSpPr>
              <p:cNvPr id="295" name=""/>
              <p:cNvSpPr/>
              <p:nvPr/>
            </p:nvSpPr>
            <p:spPr>
              <a:xfrm>
                <a:off x="542880" y="2065320"/>
                <a:ext cx="466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720520" y="1612440"/>
                <a:ext cx="228600" cy="228960"/>
                <a:chOff x="2720520" y="1612440"/>
                <a:chExt cx="228600" cy="228960"/>
              </a:xfrm>
            </p:grpSpPr>
            <p:sp>
              <p:nvSpPr>
                <p:cNvPr id="297" name=""/>
                <p:cNvSpPr/>
                <p:nvPr/>
              </p:nvSpPr>
              <p:spPr>
                <a:xfrm flipH="1">
                  <a:off x="2720520" y="1612800"/>
                  <a:ext cx="228600" cy="228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flipV="1">
                  <a:off x="2720520" y="1612440"/>
                  <a:ext cx="228600" cy="228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2931120" y="1494000"/>
                <a:ext cx="398520" cy="49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r>
                  <a:rPr b="1" lang="en-US" sz="2400" spc="-1" strike="noStrike" baseline="-20000">
                    <a:solidFill>
                      <a:srgbClr val="ff0000"/>
                    </a:solidFill>
                    <a:latin typeface="Times New Roman"/>
                  </a:rPr>
                  <a:t>n</a:t>
                </a:r>
                <a:endParaRPr b="0" lang="en-US" sz="2400" spc="-1" strike="noStrike">
                  <a:solidFill>
                    <a:srgbClr val="000000"/>
                  </a:solidFill>
                  <a:latin typeface="Times New Roman"/>
                </a:endParaRPr>
              </a:p>
            </p:txBody>
          </p:sp>
          <p:grpSp>
            <p:nvGrpSpPr>
              <p:cNvPr id="300" name=""/>
              <p:cNvGrpSpPr/>
              <p:nvPr/>
            </p:nvGrpSpPr>
            <p:grpSpPr>
              <a:xfrm>
                <a:off x="2528280" y="2570040"/>
                <a:ext cx="609480" cy="609840"/>
                <a:chOff x="2528280" y="2570040"/>
                <a:chExt cx="609480" cy="609840"/>
              </a:xfrm>
            </p:grpSpPr>
            <p:sp>
              <p:nvSpPr>
                <p:cNvPr id="301" name=""/>
                <p:cNvSpPr/>
                <p:nvPr/>
              </p:nvSpPr>
              <p:spPr>
                <a:xfrm flipV="1">
                  <a:off x="2529000" y="302724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2681280" y="2874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2833560" y="2722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2986200" y="257004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528280" y="30272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680560" y="28749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833560" y="27226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985480" y="2570040"/>
                  <a:ext cx="15228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3074040" y="2570040"/>
                <a:ext cx="1662120" cy="60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p throug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e range as V</a:t>
                </a:r>
                <a:r>
                  <a:rPr b="1" lang="en-US" sz="1600" spc="-1" strike="noStrike" baseline="-20000">
                    <a:solidFill>
                      <a:srgbClr val="000000"/>
                    </a:solidFill>
                    <a:latin typeface="Times New Roman"/>
                  </a:rPr>
                  <a:t>p</a:t>
                </a:r>
                <a:endParaRPr b="0" lang="en-US" sz="1600" spc="-1" strike="noStrike">
                  <a:solidFill>
                    <a:srgbClr val="000000"/>
                  </a:solidFill>
                  <a:latin typeface="Times New Roman"/>
                </a:endParaRPr>
              </a:p>
            </p:txBody>
          </p:sp>
        </p:grpSp>
      </p:grpSp>
      <p:sp>
        <p:nvSpPr>
          <p:cNvPr id="310" name=""/>
          <p:cNvSpPr/>
          <p:nvPr/>
        </p:nvSpPr>
        <p:spPr>
          <a:xfrm>
            <a:off x="4930920" y="1204920"/>
            <a:ext cx="3765240" cy="4786200"/>
          </a:xfrm>
          <a:prstGeom prst="rect">
            <a:avLst/>
          </a:prstGeom>
          <a:noFill/>
          <a:ln w="0">
            <a:noFill/>
          </a:ln>
        </p:spPr>
        <p:style>
          <a:lnRef idx="0"/>
          <a:fillRef idx="0"/>
          <a:effectRef idx="0"/>
          <a:fontRef idx="minor"/>
        </p:style>
        <p:txBody>
          <a:bodyPr lIns="92160" rIns="92160" tIns="46080" bIns="46080" anchor="t">
            <a:spAutoFit/>
          </a:bodyPr>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When Vp = Vn we are measuring the common current</a:t>
            </a:r>
            <a:endParaRPr b="0" lang="en-US" sz="24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When Vp </a:t>
            </a:r>
            <a:r>
              <a:rPr b="1" lang="en-US" sz="2400" spc="-1" strike="noStrike">
                <a:solidFill>
                  <a:srgbClr val="000000"/>
                </a:solidFill>
                <a:latin typeface="Symbol"/>
                <a:ea typeface="Symbol"/>
              </a:rPr>
              <a:t></a:t>
            </a:r>
            <a:r>
              <a:rPr b="1" lang="en-US" sz="2400" spc="-1" strike="noStrike">
                <a:solidFill>
                  <a:srgbClr val="000000"/>
                </a:solidFill>
                <a:latin typeface="Times New Roman"/>
              </a:rPr>
              <a:t> Vn we are measuring the common plus differential currents</a:t>
            </a:r>
            <a:endParaRPr b="0" lang="en-US" sz="24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marL="227160" indent="-227160">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To get the differential current alone we need to subtract the common current from the total current (i.e. normalize along the diag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0" y="228600"/>
            <a:ext cx="914400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IV surface of measured (total) currents</a:t>
            </a:r>
            <a:endParaRPr b="0" lang="en-US" sz="4000" spc="-1" strike="noStrike">
              <a:solidFill>
                <a:srgbClr val="000000"/>
              </a:solidFill>
              <a:latin typeface="Times New Roman"/>
            </a:endParaRPr>
          </a:p>
        </p:txBody>
      </p:sp>
      <p:grpSp>
        <p:nvGrpSpPr>
          <p:cNvPr id="312" name=""/>
          <p:cNvGrpSpPr/>
          <p:nvPr/>
        </p:nvGrpSpPr>
        <p:grpSpPr>
          <a:xfrm>
            <a:off x="30240" y="1146240"/>
            <a:ext cx="9082080" cy="4455000"/>
            <a:chOff x="30240" y="1146240"/>
            <a:chExt cx="9082080" cy="4455000"/>
          </a:xfrm>
        </p:grpSpPr>
        <p:grpSp>
          <p:nvGrpSpPr>
            <p:cNvPr id="313" name=""/>
            <p:cNvGrpSpPr/>
            <p:nvPr/>
          </p:nvGrpSpPr>
          <p:grpSpPr>
            <a:xfrm>
              <a:off x="30240" y="1146240"/>
              <a:ext cx="4533840" cy="4455000"/>
              <a:chOff x="30240" y="1146240"/>
              <a:chExt cx="4533840" cy="4455000"/>
            </a:xfrm>
          </p:grpSpPr>
          <p:sp>
            <p:nvSpPr>
              <p:cNvPr id="314" name=""/>
              <p:cNvSpPr/>
              <p:nvPr/>
            </p:nvSpPr>
            <p:spPr>
              <a:xfrm>
                <a:off x="625680" y="4741920"/>
                <a:ext cx="334476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I</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vs.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and V</a:t>
                </a:r>
                <a:r>
                  <a:rPr b="1" lang="en-US" sz="2400" spc="-1" strike="noStrike" baseline="-20000">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low state)</a:t>
                </a:r>
                <a:endParaRPr b="0" lang="en-US" sz="2400" spc="-1" strike="noStrike">
                  <a:solidFill>
                    <a:srgbClr val="000000"/>
                  </a:solidFill>
                  <a:latin typeface="Times New Roman"/>
                </a:endParaRPr>
              </a:p>
            </p:txBody>
          </p:sp>
          <p:pic>
            <p:nvPicPr>
              <p:cNvPr id="315" name="" descr=""/>
              <p:cNvPicPr/>
              <p:nvPr/>
            </p:nvPicPr>
            <p:blipFill>
              <a:blip r:embed="rId1"/>
              <a:stretch/>
            </p:blipFill>
            <p:spPr>
              <a:xfrm>
                <a:off x="30240" y="1146240"/>
                <a:ext cx="4533840" cy="3400560"/>
              </a:xfrm>
              <a:prstGeom prst="rect">
                <a:avLst/>
              </a:prstGeom>
              <a:ln w="0">
                <a:noFill/>
              </a:ln>
            </p:spPr>
          </p:pic>
        </p:grpSp>
        <p:grpSp>
          <p:nvGrpSpPr>
            <p:cNvPr id="316" name=""/>
            <p:cNvGrpSpPr/>
            <p:nvPr/>
          </p:nvGrpSpPr>
          <p:grpSpPr>
            <a:xfrm>
              <a:off x="4578480" y="1146240"/>
              <a:ext cx="4533840" cy="4455000"/>
              <a:chOff x="4578480" y="1146240"/>
              <a:chExt cx="4533840" cy="4455000"/>
            </a:xfrm>
          </p:grpSpPr>
          <p:sp>
            <p:nvSpPr>
              <p:cNvPr id="317" name=""/>
              <p:cNvSpPr/>
              <p:nvPr/>
            </p:nvSpPr>
            <p:spPr>
              <a:xfrm>
                <a:off x="5173920" y="4741920"/>
                <a:ext cx="3344760" cy="859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I</a:t>
                </a:r>
                <a:r>
                  <a:rPr b="1" lang="en-US" sz="2400" spc="-1" strike="noStrike" baseline="-20000">
                    <a:solidFill>
                      <a:srgbClr val="000000"/>
                    </a:solidFill>
                    <a:latin typeface="Times New Roman"/>
                  </a:rPr>
                  <a:t>n</a:t>
                </a:r>
                <a:r>
                  <a:rPr b="1" lang="en-US" sz="2400" spc="-1" strike="noStrike">
                    <a:solidFill>
                      <a:srgbClr val="000000"/>
                    </a:solidFill>
                    <a:latin typeface="Times New Roman"/>
                  </a:rPr>
                  <a:t> vs. V</a:t>
                </a:r>
                <a:r>
                  <a:rPr b="1" lang="en-US" sz="2400" spc="-1" strike="noStrike" baseline="-20000">
                    <a:solidFill>
                      <a:srgbClr val="000000"/>
                    </a:solidFill>
                    <a:latin typeface="Times New Roman"/>
                  </a:rPr>
                  <a:t>p</a:t>
                </a:r>
                <a:r>
                  <a:rPr b="1" lang="en-US" sz="2400" spc="-1" strike="noStrike">
                    <a:solidFill>
                      <a:srgbClr val="000000"/>
                    </a:solidFill>
                    <a:latin typeface="Times New Roman"/>
                  </a:rPr>
                  <a:t> and V</a:t>
                </a:r>
                <a:r>
                  <a:rPr b="1" lang="en-US" sz="2400" spc="-1" strike="noStrike" baseline="-20000">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Times New Roman"/>
                  </a:rPr>
                  <a:t>(high state)</a:t>
                </a:r>
                <a:endParaRPr b="0" lang="en-US" sz="2400" spc="-1" strike="noStrike">
                  <a:solidFill>
                    <a:srgbClr val="000000"/>
                  </a:solidFill>
                  <a:latin typeface="Times New Roman"/>
                </a:endParaRPr>
              </a:p>
            </p:txBody>
          </p:sp>
          <p:pic>
            <p:nvPicPr>
              <p:cNvPr id="318" name="" descr=""/>
              <p:cNvPicPr/>
              <p:nvPr/>
            </p:nvPicPr>
            <p:blipFill>
              <a:blip r:embed="rId2"/>
              <a:stretch/>
            </p:blipFill>
            <p:spPr>
              <a:xfrm>
                <a:off x="4578480" y="1146240"/>
                <a:ext cx="4533840" cy="3400560"/>
              </a:xfrm>
              <a:prstGeom prst="rect">
                <a:avLst/>
              </a:prstGeom>
              <a:ln w="0">
                <a:noFill/>
              </a:ln>
            </p:spPr>
          </p:pic>
        </p:grpSp>
      </p:grpSp>
      <p:sp>
        <p:nvSpPr>
          <p:cNvPr id="319" name=""/>
          <p:cNvSpPr/>
          <p:nvPr/>
        </p:nvSpPr>
        <p:spPr>
          <a:xfrm>
            <a:off x="0" y="5608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ifferential buffer in drive mode without a 100 </a:t>
            </a:r>
            <a:r>
              <a:rPr b="1" lang="en-US" sz="2400" spc="-1" strike="noStrike">
                <a:solidFill>
                  <a:srgbClr val="008000"/>
                </a:solidFill>
                <a:latin typeface="Symbol"/>
                <a:ea typeface="Symbol"/>
              </a:rPr>
              <a:t></a:t>
            </a:r>
            <a:r>
              <a:rPr b="1" lang="en-US" sz="2400" spc="-1" strike="noStrike">
                <a:solidFill>
                  <a:srgbClr val="008000"/>
                </a:solidFill>
                <a:latin typeface="Times New Roman"/>
              </a:rPr>
              <a:t> parallel resis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0T08:43:34Z</dcterms:created>
  <dc:creator>Arpad Muranyi</dc:creator>
  <dc:description/>
  <dc:language>en-US</dc:language>
  <cp:lastModifiedBy>Bob Ross</cp:lastModifiedBy>
  <cp:lastPrinted>2000-04-25T17:34:27Z</cp:lastPrinted>
  <dcterms:modified xsi:type="dcterms:W3CDTF">2002-10-08T22:31:21Z</dcterms:modified>
  <cp:revision>375</cp:revision>
  <dc:subject/>
  <dc:title>Introduction to IBIS models</dc:title>
</cp:coreProperties>
</file>