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148D-2DE3-40E9-A477-B9C52BF02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we her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active than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6548-9E2B-4E3A-851E-66CCAC47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D3F-9958-4CF2-B5E9-CE0F2BBF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65E-21F8-45C6-BEDC-C4059E5C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67B-CB06-42C4-A671-FAFEE5B5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D3E4-D8D4-4596-9EBD-FEC592E1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2BE9-D225-46DE-A0D6-B7C3BA29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7BA4-7985-40E7-8FBE-6A2BF7A8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4CDC-2FBB-43F8-B40A-06A5FBE0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9B52-3EC9-4EDB-B2AF-952D7CA9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68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B106-E22C-4DBB-82E6-A6FDC323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A9F4-6CC0-4F55-A63D-B8A5824D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3D1B-CD4D-48C7-9A5D-137E1ADF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B297-FF66-4F50-94F2-F173D4C1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32CF-7571-47EF-9D3A-6AF32386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D8FD-AA88-43ED-B587-D8740F88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2E36-58A1-45F9-95EE-5E663EBD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9D24-5930-48B3-93BF-9E0A134D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C96-000B-49C8-BB0C-C6D59E95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06B-8FFA-41A8-AC82-8DD93415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2A53-4DC8-481D-8F98-95BCCC7C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14D-C10E-4A4E-B4C2-A347F129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70DA-7730-4AB8-8885-3F166DF1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E044-EAC3-47F6-932C-5D98D0C5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F6BC-9E1D-4AE5-99D9-1DC1D193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3BFD-FA34-4AE5-8C82-AF5EF0B6467D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9259" t="27781" r="9259" b="25926"/>
          <a:stretch/>
        </p:blipFill>
        <p:spPr>
          <a:xfrm>
            <a:off x="7391520" y="6172200"/>
            <a:ext cx="1447560" cy="411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F69F-9CE3-4605-93A1-DB8AD60344C5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36699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36699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4419360"/>
            <a:ext cx="76201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8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Century Gothic"/>
              </a:rPr>
              <a:t>IBIS QUALITY COMMITTEE REPORT</a:t>
            </a:r>
            <a:endParaRPr b="0" lang="en-US" sz="28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Barry Katz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Signal Integrity Software, Inc.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6 Clock Tower Place – Suite 250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Maynard MA. 01754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978-461-0449 X 19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6944" t="20834" r="6944" b="19446"/>
          <a:stretch/>
        </p:blipFill>
        <p:spPr>
          <a:xfrm>
            <a:off x="2971800" y="609480"/>
            <a:ext cx="3809880" cy="1081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352680" y="205740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6944" t="20834" r="6944" b="19446"/>
          <a:stretch/>
        </p:blipFill>
        <p:spPr>
          <a:xfrm>
            <a:off x="2895480" y="2743200"/>
            <a:ext cx="4038840" cy="11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39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BIS Model Quality is Generally Poor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38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97160" y="1446120"/>
            <a:ext cx="6838920" cy="46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239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By Semiconductor Vendor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38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100" name="ibis_chk_before_after2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6645240" cy="456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2406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BIS Quality Subcommitte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Formed 3/02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harter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Develop a complete checklis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Establish levels of qualit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This checklist should serve to be incorporated directly into procurement specs.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Suggest enhancements to IBISCHK 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Goal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Rating system that is easy to understand and adop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ommunicate to vendors/users.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over overall file, component, and model section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heck for completeness, correctness, accurac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rage of prior work 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00200" y="239400"/>
            <a:ext cx="72388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BIS Quality Subcommittee Active participant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8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0000"/>
              </a:lnSpc>
              <a:spcBef>
                <a:spcPts val="488"/>
              </a:spcBef>
              <a:buClr>
                <a:srgbClr val="336699"/>
              </a:buClr>
              <a:buSzPct val="83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ommittee is represented by Semiconductor vendors, EDA vendors, and IBIS end-users.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SiSoft - Barry Katz (Chairman), Robert Haller, Eric Brock, Kevin Fisher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Siemens – Eckhard Lenski, Katja Koller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IBM – Greg Edlund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Cadence – Lynne Green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Apple – John  Figueroa, Kim Helliwell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Mentor – Bob Ross, Hazem Hegazy, Sherif Hammad,  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Cisco – Mike LaBonte, Todd Westerhoff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Hitachi ULSI Systems – Shoji Kazuyoshi, Nonoyama Sadahiro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Leventhal Design &amp; Communications – Roy Leventhal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Intel – Benjamin Silva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Teraspeed - Tom Dagostino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AMCC  - Peter LaFlamme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Fairchild – Adam Tambone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2406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BIS Quality Subcommittee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Meet every 2 weeks (Tuesdays 11:00 EDT for 1 hour)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Mailing lis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bis-quality@freelists.org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http://www.freelists.org/archives/ibis-qualit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Over 50 subscribers from a large cross section of companie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Web Site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http://www.sisoft.com/ibis-qualit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Need your help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Accomplishments/Statu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ompiled and published IBIS Quality checklis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http://www.sisoft.com/ibis-quality/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Defined quality level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0 – Passes IBISCHK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1 – Complete and correc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2a, 2b – Correlation: Simulation, Measuremen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Leverage off of IBIS Accuracy Handbook (spec)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3 – All of the above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Submitted multiple IBISCHK enhancement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Submitted IBIS Golden Parser open source proposa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Document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n progres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Sample Documentation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Receiver Waveform Processing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…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Vinl and and Vinh values are below and above, respectively, Vmeas.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Vmeas in the [Model] section matches the value given in the datasheet for the part technology.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f min and max values for Vinl and Vinh are known, these are given in the [Model Spec] section. For example, some technologies switch near a reference voltage that may change in typ, min, and max modes.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…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Ramp Data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…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0">
              <a:lnSpc>
                <a:spcPct val="98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Summary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520" y="15699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BIS model quality MUST improve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BIS Quality subcommittee is on the job!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Accomplished a lo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hecklis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BISChk Bug submissions/proposal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Draft documentation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More work required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Documentation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Refine Quality Level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3:46:44Z</dcterms:created>
  <dc:creator>Barry Katz</dc:creator>
  <dc:description/>
  <dc:language>en-US</dc:language>
  <cp:lastModifiedBy>Bob Ross</cp:lastModifiedBy>
  <dcterms:modified xsi:type="dcterms:W3CDTF">2002-10-15T14:45:57Z</dcterms:modified>
  <cp:revision>2</cp:revision>
  <dc:subject/>
  <dc:title>IBIS QUALITY COMMITTEE REPORT Barry Katz Signal Integrity Software, Inc. 6 Clock Tower Place – Suite 250 Maynard MA. 01754 978-461-0449 X 19</dc:title>
</cp:coreProperties>
</file>