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676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C578B2-D354-43E0-9EF2-F141BF0A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, How is everyo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Int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popular belief, IBIS models can be extremely accurate over 1GH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waveform overlay of Hspice and IBIS simulations of an LVDS interface running at 1.25G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 is excellent, time-shifts are intentional, but getting this level of correlation was not easy and not alway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cases though this is the exception and not th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have not confidence in this model had I not run both IBIS and SP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work well at some varying frequencies, but a methodology is needed that supports both SPICE and IB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I have your attention. In today’s presentation I plan on reviewing the primary advantages and disadvantages of SPICE and IB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you are probably already aware of these issues, but today’s high speed designs exacerbate th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dvocate both IBIS and SPICE are required to meet the high speed design challenges of today and tomorr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and loves SPICE. There are a lot of free versions available and it is presently the industry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CE allows you model at the transistor level and has robust package, connector and Lossy transmission line mod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can build it, You can Model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spice circuit simulation is generally very slow. You can often waste a lot of time trying to isolate a simple desig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gence can be an issue and SPICE syntax is cryptic (not to mention error messages). TIME STEP TO S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also probably all aware that Some Vendors Will not or Do not provide SPICE model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are aware that IBIS models run an order of magnitude FASTER than SP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simulators also make it EASY to drop down models, T-lines and perform what-if simulations to your hearts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primary reason semiconductor vendors release only IBIS models is to protect proprietary circuit and proces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IS model quality and accuracy is the primary disadvan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results from different simulators – There are about 20 subtle components to an IBIS model that can significantly affect the portability of this model.  IV crossing through zero, VT curves, How many cu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the only person that thinks we need to use Both SPICE and IB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re convinced that we need to use both each for there respective strengt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676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93360" y="4386240"/>
            <a:ext cx="55594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Up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025-2D49-4FF0-ABA3-1923363E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4A7-C3CE-47DB-886F-CEA6E51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3FE-B1BD-4F8D-A81A-5454B10F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4A9-C036-4012-BB06-0A83F78F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03BF-9C54-4E99-AF61-BE0AA642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C291-D514-43FF-9FC2-57297FF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F30B-F1E7-40FE-BD3A-9FA40CE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EA7-CB6B-49A9-9283-31C49C22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B9B-A9E6-4E4B-9348-429FA0C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09ED-5131-4BA1-A5CD-74DC4D34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532A-6256-4A8F-AD53-633577C9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542-EB69-42C3-B14E-255842E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41E4-4092-4350-A9AE-F652182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7E43-4DDC-4B37-B97F-59D587F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5732-714A-4AD2-B859-3208774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72A-C20F-45B7-9878-A7BD9B11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2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0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2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0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9F7E-999C-4647-80A0-FDC6CBFC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E1A-A5FB-4EAF-8DA0-733138D9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7FF-21E3-4F60-8936-95C9869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792-79FB-4B5D-A934-A638C81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353-4B68-4B7E-B883-8C5608D3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2DC-6004-4E63-97B8-F1B36BA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08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33B-4A6E-4375-AA90-13B0BB1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08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4BD-25DE-4140-8061-3E0B705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C9F8-5901-49E8-86D3-AE60A3AE1BE2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9259" t="27781" r="9259" b="25926"/>
          <a:stretch/>
        </p:blipFill>
        <p:spPr>
          <a:xfrm>
            <a:off x="7391520" y="6172200"/>
            <a:ext cx="1447560" cy="41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C3D5-A8A3-4581-B20F-B579F922490E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33" t="740" r="0" b="32595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36699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36699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desig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8288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Robert J. Haller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Signal Integrity Software, Inc.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6 Clock Tower Place – Suite 250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Maynard MA. 01754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imes New Roman"/>
              </a:rPr>
              <a:t>978-461-0449 X 15 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2971800" y="609480"/>
            <a:ext cx="38098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ibis_h1" descr=""/>
          <p:cNvPicPr/>
          <p:nvPr/>
        </p:nvPicPr>
        <p:blipFill>
          <a:blip r:embed="rId2"/>
          <a:stretch/>
        </p:blipFill>
        <p:spPr>
          <a:xfrm>
            <a:off x="3352680" y="2057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SPICE versus IBI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  <p:pic>
        <p:nvPicPr>
          <p:cNvPr id="97" name="lvds_accuracy_125GHz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8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SPICE versus IBI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hy SPICE ?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hy IBIS ?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hy BOTH?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Why SPICE?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Advantag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ndustry Standard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Berkley SPICE is Fre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HSPICE has widespread acceptanc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ccurate 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Transistor level model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Connectors, WLINE’s – Lossy transmission line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Rail collapse, ground bounc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Return path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If you can build it, you can model it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Disadvantage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Performance can be slow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Inconsistent net list formats and cryptic spice syntax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Why IBIS?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Advantag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Fast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Easy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Doesn’t reveal proprietary information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Complete chip definition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Pin out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Cell Usage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AC and DC specifications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Disadvantag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IBIS model quality is generally poor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Accuracy can be an issue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Practical Issues and Limitations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Connectors/package models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Intrinsic cell delay characteristics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Century Gothic"/>
              </a:rPr>
              <a:t>Different results from different simulators (portability)</a:t>
            </a:r>
            <a:endParaRPr b="0" lang="en-US" sz="16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IBIS committee slow to respond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Need both SPICE and IBI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’m not the only one who thinks so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Best of Both World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Mixed-signal HDLs put IBIS on steroids</a:t>
            </a: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 (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Glenn Perry 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e_design</a:t>
            </a: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</a:rPr>
              <a:t>9/12/02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Will Hobbs (Intel - Oct 98) said: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We Need to find a happy coexistence between structural and behavioral. 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336699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Century Gothic"/>
              </a:rPr>
              <a:t>We need to keep pushing IBIS to meet emerging needs</a:t>
            </a:r>
            <a:endParaRPr b="0" lang="en-US" sz="18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Many others…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f only we had it now (some of us do :-)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Gothic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5699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High quality accurate IBIS models can be created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Hard work in most case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Sometimes unachievable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Often, model has limitation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We need SPICE and IBI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Century Gothic"/>
              </a:rPr>
              <a:t>Best of both worlds</a:t>
            </a:r>
            <a:endParaRPr b="0" lang="en-US" sz="2000" spc="-1" strike="noStrike">
              <a:solidFill>
                <a:srgbClr val="33669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Century Gothic"/>
              </a:rPr>
              <a:t>IBIS open forum must meet emerging needs</a:t>
            </a:r>
            <a:endParaRPr b="0" lang="en-US" sz="2400" spc="-1" strike="noStrike">
              <a:solidFill>
                <a:srgbClr val="336699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9259" t="27781" r="9259" b="25926"/>
          <a:stretch/>
        </p:blipFill>
        <p:spPr>
          <a:xfrm>
            <a:off x="2895480" y="2743200"/>
            <a:ext cx="4038840" cy="114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Bob Ross</cp:lastModifiedBy>
  <cp:lastPrinted>2002-10-14T22:53:23Z</cp:lastPrinted>
  <dcterms:modified xsi:type="dcterms:W3CDTF">2002-10-14T22:54:04Z</dcterms:modified>
  <cp:revision>76</cp:revision>
  <dc:subject/>
  <dc:title>Slide 1</dc:title>
</cp:coreProperties>
</file>