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5632453-7721-48DF-92E3-472FB8825E5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8D0BC88-C1D5-473F-AE54-5676BE20A07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233217A-6663-4577-96FB-45BB7AF7F7A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A5A64F5-4B0B-4388-AC1D-DFC61E1E6FD0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7CB79FD-2955-4383-AC14-488FB9529B4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399B6C4-9971-4A90-9A52-877AC3A1FEA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6520945-7002-4A74-99D3-01AFDB591AC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E98D02E-510D-4BCD-8BC6-3A2BFEA8D764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6C85F10-F26A-4AC4-8967-161CF691C90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D1CE47F-59B4-401D-9FCC-4C2A6774906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CC73DB32-FE64-419C-896C-243F2A3E85E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64A8151-32C6-4CED-BC42-10BDAB7027D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ars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ipei, Taiw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21,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eviously given at Asian Summit November 15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 {-canonical*} FI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 | -canonical-v2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ovides number of ports, frequencies and other infor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-normalizes TS1 Y-, Z-, G- and H-parameters and effective noise resistance    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-v1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1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where pract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pplies column formatting rules and 2-port 21_12 order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malizes TS2 Y-, Z-, G- and H-parameters and effective noise resistance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 mixed mode or selectable reference resistance process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schk2 {-describe}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header comments, RI format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freq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im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2re  S12im  S13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13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14re  S1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im  S16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im  S22re  S22im  S23re  S23im  S24re  S2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5re  S25im  S26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6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1re  S31im  S32re  S32im  S33re  S33im  S34re  S3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5re  S35im  S36re  S3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41re  S41im  S42re  S42im  S43re  S43im  S44re  S4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45re  S45im  S46re  S4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51re  S51im  S52re  S52im  S53re  S53im  S54re  S5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55re  S55im  S56re  S5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1re  S61im  S62re  S62im  S63re  S63im  S64re  S6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5re  S65im  S66re  S6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AutoNum type="arabicPlain" startAt="10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-0.665574600466      -0.0006609751214130001  0.333068101839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0.000663504688568    0.333100908672       -0.000663329592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609480" y="1828800"/>
            <a:ext cx="655344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71 tschk2 Messag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449280" y="1066680"/>
            <a:ext cx="8245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essage Grouping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hart in source code pack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ategories (starting numb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ull Error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(1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ormat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Options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1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Keyword Orde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2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Data Format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3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 and tschk2 parsers - free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fficial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eck files for specification compli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ser development also checks specification for accuracy and c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 process helps maintain integrity of parsers with latest fix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arsers are critical to IBIS 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seful Links Under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me Page: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www.eda.org/ibis/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er5.0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ugust 29, 2008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chk5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5.0.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Pending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uchstone_ver2.0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pril 24.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schk2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December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ver2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ct. 30,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-iss_ver1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SPICE Subcircuit Specif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1.0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New - October 7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ditoria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orial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terconnect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 - suspend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acromode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dvanced Technology Task Group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: work in progr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4048200" y="5410080"/>
            <a:ext cx="121896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esentation 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pread sheet for 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me new check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schk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1.1, 2.1, 3.2, 4.2, 5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14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irectly or through linkages from top level fil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: Message Number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1155 unique message string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0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736560" y="1219320"/>
            <a:ext cx="766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essage Column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or documentation and sorting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printed message numb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ymbol in Cod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by module group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ample: ALGMODERR_25 (message 25 of 36 AMI module message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ssage Str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ll unique message string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if applicable for printed % argu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 line numbers, keywords, subparameters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brief descrip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tegor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rror, Warning Notes, Caution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E, W, N, C added for easier sor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ent ibischk5 Fix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V of [Ramp] dV/dt_r, dV/dt_f Caution che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04, BUG123, BUG130 (case-sensitivity crash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n be used to find the exact dV values based on I-V tables and specified ramp load condi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lculated value reported if wrong value ent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 Spec] timing test load ent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2 for waveform crossing Vmeas tes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ISSO PU] and [ISSO PD] table time entry mismat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15, BUG116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9 time alignment test from Error to Cau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ug List for Filed BUG Reports</a:t>
            </a:r>
            <a:br>
              <a:rPr sz="32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http://www.eda.org/ibis/bugs/ibischk/</a:t>
            </a:r>
            <a:br>
              <a:rPr sz="2800"/>
            </a:b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10-25T03:48:48Z</dcterms:modified>
  <cp:revision>786</cp:revision>
  <dc:subject/>
  <dc:title>IBIS</dc:title>
</cp:coreProperties>
</file>