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0153-DD82-493D-A2AF-5702C1272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66F56-4E06-4DF1-BD9F-CC77B66C9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approximation is particularly suitable for S-parameters. S-parameters of any LTI system can be approximated with the rational functions over a limited frequency band. There is a form of rational approximation with multiple de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76C18-7A33-4A3C-B8CF-0AF7A82CC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EAC49-F42B-46F9-99CD-F126F58D2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s in these equations and infinite limits of the integration are the major problem when we are doing time domain computations with tabulated S-parameters defined at a discrete set of frequencies. Even computations in frequency domain are not trivial, because of a channel component models may be discretized differently and S-matrix interpolation is not trivial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0785F-F276-4BB0-9215-2651AE3BF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B99D9A-5946-4477-9515-C135B75F5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eneral, use of different algorithms in EDA or in-house tools  to increase the bandwidth, interpolate data, enforce quality and to do time-domain analysis lead to differences in the respon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estimation of causality of a system described with a frequency-domain response within a limited frequency band is not possible in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causality measure is Root Mean Square (RMS) Error of a Rational approximation of tabulated data (always caus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D6FB3-759F-4A35-8460-09FF2572B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233-00C9-4B37-A6E9-4DFADC62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A53-320D-42C5-B7AC-8513845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800-F141-45E4-9577-B9E181DE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F5F-202D-42DF-890F-E6B37202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FA3-C83F-4460-9A03-D88A7FF2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ED5-7F65-473B-A7BB-8318EFC5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BB21-8698-45A2-9C50-A0328CE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0628-E971-486B-8D07-46D8173A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CFD-8A53-442E-8FAF-E0492365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105-1BEA-45DD-B759-FB8A4D4F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8C3-4189-4C28-9BCB-09BD4CB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4F0-F1EF-422B-B2E5-9C2FEA8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54B2-EBE9-48B7-9391-AF1DDD2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112-1CB1-4E9B-A9AF-1989BD6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6CD-1A2F-4D3D-B9EF-0CC0587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6D8-2467-4C59-A620-F34C8E02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FB1E-3DF6-46BF-B8EF-7405E57E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A58-3A59-43F2-B383-367AD24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2D3-4B3C-4713-A297-1489664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84E-2F45-452A-ACDB-0004C72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C29-4297-4967-AC87-887AB3D3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92D-5C10-4643-B44B-78EF4523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E3B-EF80-4ED2-9A6E-91AC0D2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DB9-D81A-449E-BBB6-AA618E4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43A6-9797-421D-BE2F-2DB3FD0C5583}" type="datetime">
              <a:rPr b="0" lang="en-US" sz="1000" spc="-1" strike="noStrike">
                <a:solidFill>
                  <a:srgbClr val="034a85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801-7BF1-4BCA-B457-CC29D4BC58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936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57200" y="6232680"/>
            <a:ext cx="144468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9360">
              <a:solidFill>
                <a:srgbClr val="627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ccf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7404120" y="227160"/>
            <a:ext cx="1444680" cy="32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D3A1-72EF-4402-B991-7D90E85277DB}" type="datetime"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7CC-7C79-42AE-9DC1-FCE3451677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hlepnev@simberian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872640"/>
            <a:ext cx="798696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4a85"/>
                </a:solidFill>
                <a:latin typeface="Arial"/>
              </a:rPr>
              <a:t>Quality of S-parameter models </a:t>
            </a:r>
            <a:br>
              <a:rPr sz="4400"/>
            </a:br>
            <a:r>
              <a:rPr b="0" i="1" lang="en-US" sz="2400" spc="-1" strike="noStrike">
                <a:solidFill>
                  <a:srgbClr val="666600"/>
                </a:solidFill>
                <a:latin typeface="Arial"/>
              </a:rPr>
              <a:t> Asian IBIS Summit, Yokohama, November 18, 2011</a:t>
            </a:r>
            <a:endParaRPr b="0" lang="en-US" sz="24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57200" y="647712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cc"/>
                </a:solidFill>
                <a:latin typeface="Verdana"/>
              </a:rPr>
              <a:t>Copyright © 2011 by Simberian Inc. Reuse by written permission only. All rights reserved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95264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Yuriy Shlep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shlepnev@simberia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576360" y="3187800"/>
            <a:ext cx="7920000" cy="31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Stability and passivity in time-domai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s stable if output is bounded for all bounded inp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ltiport network is passive if energy absorbed by multipor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possible incident and reflected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ystem is passive according to the above definition, it is also cau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us, we need to check only the passivity of interconnect system!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6DF-A6E1-4D6C-9E75-1C61352145B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A957-B601-4478-B2AB-B7BA02997AB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838080" y="5627520"/>
            <a:ext cx="746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P. Triverio S. Grivet-Talocia, M.S. Nakhla, F.G. Canavero, R. Achar, Stability, Causality, and Passivity in Electrical Interconnect Models, IEEE Trans. on Advanced Packaging, vol. 30. 2007, N4, p. 795-808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2809800" y="1600200"/>
          <a:ext cx="24973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1600200"/>
                    <a:ext cx="2497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Box 8"/>
          <p:cNvSpPr/>
          <p:nvPr/>
        </p:nvSpPr>
        <p:spPr>
          <a:xfrm>
            <a:off x="5867280" y="1612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IB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1727280" y="2276640"/>
          <a:ext cx="431460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2276640"/>
                    <a:ext cx="43146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4"/>
          <p:cNvGraphicFramePr/>
          <p:nvPr/>
        </p:nvGraphicFramePr>
        <p:xfrm>
          <a:off x="1835280" y="4008600"/>
          <a:ext cx="558144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4008600"/>
                    <a:ext cx="5581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Box 13"/>
          <p:cNvSpPr/>
          <p:nvPr/>
        </p:nvSpPr>
        <p:spPr>
          <a:xfrm>
            <a:off x="6300720" y="24210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oes not generate energ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Passivity in frequency domain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to multiport is a differenc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by incident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wav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tic form is non-negative if eigen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matrix are non-neg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324-D9D7-4B3B-BD9F-3E9AC4AB5AB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4E3D-F089-4063-B973-F7E1F9DB67A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6629400" y="1092240"/>
          <a:ext cx="2514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092240"/>
                    <a:ext cx="2514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7" name="Object 10"/>
          <p:cNvGraphicFramePr/>
          <p:nvPr/>
        </p:nvGraphicFramePr>
        <p:xfrm>
          <a:off x="2971800" y="1828800"/>
          <a:ext cx="3236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3236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2"/>
          <p:cNvGraphicFramePr/>
          <p:nvPr/>
        </p:nvGraphicFramePr>
        <p:xfrm>
          <a:off x="1447920" y="2438280"/>
          <a:ext cx="3809880" cy="4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438280"/>
                    <a:ext cx="3809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4"/>
          <p:cNvGraphicFramePr/>
          <p:nvPr/>
        </p:nvGraphicFramePr>
        <p:xfrm>
          <a:off x="914400" y="3645000"/>
          <a:ext cx="21477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645000"/>
                    <a:ext cx="2147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5"/>
          <p:cNvGraphicFramePr/>
          <p:nvPr/>
        </p:nvGraphicFramePr>
        <p:xfrm>
          <a:off x="3689280" y="3645000"/>
          <a:ext cx="1765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89280" y="3645000"/>
                    <a:ext cx="1765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Box 28"/>
          <p:cNvSpPr/>
          <p:nvPr/>
        </p:nvSpPr>
        <p:spPr>
          <a:xfrm>
            <a:off x="971640" y="40417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nit matr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ight Arrow 29"/>
          <p:cNvSpPr/>
          <p:nvPr/>
        </p:nvSpPr>
        <p:spPr>
          <a:xfrm>
            <a:off x="3184560" y="372096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811080" y="4653000"/>
            <a:ext cx="59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ufficient condition only if verified from DC to infinity (impossible for discrete Touchstone model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Good Touchstone models of interconnect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175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sufficient bandwidth matching signal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ppropriately sampled to resolve all reso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ciprocal (linear reciprocal materials used in PC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assive (do not generat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ausal step or impulse response (response only after the exci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e Placeholder 1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4E6A-3BB4-43B0-9E95-8B7ED1E7749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BF4-F86B-43EB-9197-AE5339EC9731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Object 15"/>
          <p:cNvGraphicFramePr/>
          <p:nvPr/>
        </p:nvGraphicFramePr>
        <p:xfrm>
          <a:off x="4500720" y="4183200"/>
          <a:ext cx="193500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4183200"/>
                    <a:ext cx="193500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2"/>
          <p:cNvGraphicFramePr/>
          <p:nvPr/>
        </p:nvGraphicFramePr>
        <p:xfrm>
          <a:off x="1123920" y="4156200"/>
          <a:ext cx="265896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4156200"/>
                    <a:ext cx="2658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ight Arrow 6"/>
          <p:cNvSpPr/>
          <p:nvPr/>
        </p:nvSpPr>
        <p:spPr>
          <a:xfrm>
            <a:off x="4002120" y="4272120"/>
            <a:ext cx="328680" cy="255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3005280" y="3068640"/>
          <a:ext cx="22176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068640"/>
                    <a:ext cx="2217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3"/>
          <p:cNvSpPr/>
          <p:nvPr/>
        </p:nvSpPr>
        <p:spPr>
          <a:xfrm>
            <a:off x="6521400" y="41562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 DC to infinity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2879640" y="5388120"/>
          <a:ext cx="18669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9640" y="5388120"/>
                    <a:ext cx="18669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83" name="Straight Arrow Connector 17"/>
          <p:cNvCxnSpPr/>
          <p:nvPr/>
        </p:nvCxnSpPr>
        <p:spPr>
          <a:xfrm flipV="1">
            <a:off x="5275440" y="5287680"/>
            <a:ext cx="3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Straight Arrow Connector 19"/>
          <p:cNvCxnSpPr/>
          <p:nvPr/>
        </p:nvCxnSpPr>
        <p:spPr>
          <a:xfrm>
            <a:off x="4895640" y="581976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5" name="Freeform 20"/>
          <p:cNvSpPr/>
          <p:nvPr/>
        </p:nvSpPr>
        <p:spPr>
          <a:xfrm>
            <a:off x="5880240" y="5294160"/>
            <a:ext cx="1023840" cy="52236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24932" h="522514">
                <a:moveTo>
                  <a:pt x="0" y="522514"/>
                </a:moveTo>
                <a:cubicBezTo>
                  <a:pt x="14235" y="301450"/>
                  <a:pt x="28470" y="80387"/>
                  <a:pt x="90435" y="40193"/>
                </a:cubicBezTo>
                <a:cubicBezTo>
                  <a:pt x="152400" y="0"/>
                  <a:pt x="272980" y="212689"/>
                  <a:pt x="371789" y="281353"/>
                </a:cubicBezTo>
                <a:cubicBezTo>
                  <a:pt x="470598" y="350017"/>
                  <a:pt x="574431" y="411982"/>
                  <a:pt x="683288" y="452175"/>
                </a:cubicBezTo>
                <a:cubicBezTo>
                  <a:pt x="792145" y="492368"/>
                  <a:pt x="880906" y="512466"/>
                  <a:pt x="1024932" y="5225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5380200" y="5079960"/>
          <a:ext cx="607680" cy="3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0200" y="5079960"/>
                    <a:ext cx="6076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5734080" y="5859360"/>
          <a:ext cx="303120" cy="3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34080" y="5859360"/>
                    <a:ext cx="303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Straight Connector 25"/>
          <p:cNvSpPr/>
          <p:nvPr/>
        </p:nvSpPr>
        <p:spPr>
          <a:xfrm>
            <a:off x="5286240" y="513396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Quality metrics (0-100%) to define goodnes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87020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ity Quality Mea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ity Quality Mea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 Quality Measure: Minimal ratio of clockwise rotation measure to total rotation measure in %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ould be &gt;80% for numerical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5C9-8B9E-4420-A2A6-D34947A61A8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8D3-D65D-4C1E-8D4B-4A0639B908F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6" name="Object 2"/>
          <p:cNvGraphicFramePr/>
          <p:nvPr/>
        </p:nvGraphicFramePr>
        <p:xfrm>
          <a:off x="3703680" y="2262240"/>
          <a:ext cx="50086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3680" y="2262240"/>
                    <a:ext cx="50086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"/>
          <p:cNvGraphicFramePr/>
          <p:nvPr/>
        </p:nvGraphicFramePr>
        <p:xfrm>
          <a:off x="4170240" y="3875040"/>
          <a:ext cx="462456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0240" y="3875040"/>
                    <a:ext cx="46245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2"/>
          <p:cNvGraphicFramePr/>
          <p:nvPr/>
        </p:nvGraphicFramePr>
        <p:xfrm>
          <a:off x="4146480" y="4422600"/>
          <a:ext cx="279900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6480" y="4422600"/>
                    <a:ext cx="2799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6"/>
          <p:cNvGraphicFramePr/>
          <p:nvPr/>
        </p:nvGraphicFramePr>
        <p:xfrm>
          <a:off x="3672000" y="2798640"/>
          <a:ext cx="3638520" cy="48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2000" y="2798640"/>
                    <a:ext cx="36385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Box 16"/>
          <p:cNvSpPr/>
          <p:nvPr/>
        </p:nvSpPr>
        <p:spPr>
          <a:xfrm>
            <a:off x="555480" y="2925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ould be &gt;99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17"/>
          <p:cNvSpPr/>
          <p:nvPr/>
        </p:nvSpPr>
        <p:spPr>
          <a:xfrm>
            <a:off x="592200" y="45687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ould be &gt;99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7" name="Object 2"/>
          <p:cNvGraphicFramePr/>
          <p:nvPr/>
        </p:nvGraphicFramePr>
        <p:xfrm>
          <a:off x="380880" y="3857760"/>
          <a:ext cx="3330720" cy="62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857760"/>
                    <a:ext cx="33307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380880" y="2274840"/>
          <a:ext cx="313380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2274840"/>
                    <a:ext cx="31338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Box 5"/>
          <p:cNvSpPr/>
          <p:nvPr/>
        </p:nvSpPr>
        <p:spPr>
          <a:xfrm>
            <a:off x="609480" y="12762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rst introduced at IBIS forum at DesignCon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Preliminary quality estimation metric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Touchstone model quality can be estimated with Passivity, Reciprocity and Causality quality metrics (PQM, RQM, CQ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6AE-97DC-4D3C-8B30-6FB304CD8B6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32C-D3FC-47C4-89F0-68C46F403BCE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8" name="Object 11"/>
          <p:cNvGraphicFramePr/>
          <p:nvPr/>
        </p:nvGraphicFramePr>
        <p:xfrm>
          <a:off x="1012680" y="2743200"/>
          <a:ext cx="7543800" cy="26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743200"/>
                    <a:ext cx="754380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Example of preliminary quality estimation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4C3-862D-4FF5-BE23-E467D19C12A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BFC-7D63-4A78-A97B-0A03C258AAA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647640" y="11620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passivity &amp; reciprocity violations in most of the mod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 causality in some measured data due to noise at high frequenc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468360" y="1808280"/>
            <a:ext cx="827388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Rational approximation of S-parameters as the frequency-continuous model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3208320"/>
            <a:ext cx="82296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response is analytical, real and delay-cau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9395-4AB0-460F-83B4-36422FD321FD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979560" y="3828960"/>
          <a:ext cx="72547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3828960"/>
                    <a:ext cx="72547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"/>
          <p:cNvGraphicFramePr/>
          <p:nvPr/>
        </p:nvGraphicFramePr>
        <p:xfrm>
          <a:off x="1917720" y="4518000"/>
          <a:ext cx="139392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7720" y="4518000"/>
                    <a:ext cx="1393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"/>
          <p:cNvGraphicFramePr/>
          <p:nvPr/>
        </p:nvGraphicFramePr>
        <p:xfrm>
          <a:off x="996840" y="3603600"/>
          <a:ext cx="15289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3603600"/>
                    <a:ext cx="1528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6"/>
          <p:cNvGraphicFramePr/>
          <p:nvPr/>
        </p:nvGraphicFramePr>
        <p:xfrm>
          <a:off x="2465280" y="4991040"/>
          <a:ext cx="44611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5280" y="4991040"/>
                    <a:ext cx="4461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7"/>
          <p:cNvGraphicFramePr/>
          <p:nvPr/>
        </p:nvGraphicFramePr>
        <p:xfrm>
          <a:off x="2903400" y="5472000"/>
          <a:ext cx="151308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03400" y="5472000"/>
                    <a:ext cx="1513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TextBox 14"/>
          <p:cNvSpPr/>
          <p:nvPr/>
        </p:nvSpPr>
        <p:spPr>
          <a:xfrm>
            <a:off x="7337520" y="52117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require enforc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ight Brace 15"/>
          <p:cNvSpPr/>
          <p:nvPr/>
        </p:nvSpPr>
        <p:spPr>
          <a:xfrm>
            <a:off x="6956280" y="503388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914400"/>
              <a:gd name="textAreaBottom" fmla="*/ 906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1" name="Object 8"/>
          <p:cNvGraphicFramePr/>
          <p:nvPr/>
        </p:nvGraphicFramePr>
        <p:xfrm>
          <a:off x="639720" y="1419120"/>
          <a:ext cx="6080040" cy="13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9720" y="1419120"/>
                    <a:ext cx="60800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16"/>
          <p:cNvSpPr/>
          <p:nvPr/>
        </p:nvSpPr>
        <p:spPr>
          <a:xfrm>
            <a:off x="6765840" y="1492200"/>
            <a:ext cx="238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ontinuous functions of frequency defined from DC to infin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Date Placeholder 2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646B-6D7B-4C59-9C9D-B7F93B6DDCD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Rational approximation can be used to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ime-domain response of a channel with a fast recursive convolution algorithm (exact solution for PWL sig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of tabulated Touchsto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minor passivity and causality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 and extrapolate with guarantied pas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broad-band SPICE macro-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model size, stabl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frequency and time domain analyses in any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asure the original mode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ate Placeholder 1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98E-FD7C-4850-9956-38AC77EF7F1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A0AD-ADAE-4B12-B220-24627169EE27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Final quality estima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discrete S-parameters approximation with frequency-continuous macro-model, passive from DC to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estimate quality of the 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52D-615C-45D1-9055-DE91E3362233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98D-C317-4D27-AA14-7AFF1C33766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Object 7"/>
          <p:cNvGraphicFramePr/>
          <p:nvPr/>
        </p:nvGraphicFramePr>
        <p:xfrm>
          <a:off x="2043000" y="3660840"/>
          <a:ext cx="472464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3660840"/>
                    <a:ext cx="47246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0" name="Object 9"/>
          <p:cNvGraphicFramePr/>
          <p:nvPr/>
        </p:nvGraphicFramePr>
        <p:xfrm>
          <a:off x="2033640" y="2158920"/>
          <a:ext cx="398628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3640" y="2158920"/>
                    <a:ext cx="3986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1"/>
          <p:cNvGraphicFramePr/>
          <p:nvPr/>
        </p:nvGraphicFramePr>
        <p:xfrm>
          <a:off x="1536840" y="4384800"/>
          <a:ext cx="636732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6840" y="4384800"/>
                    <a:ext cx="636732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Example of final quality estimation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689C-16B9-4A3E-844F-421F5371DC7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1D7-EDA6-43E4-BCC7-CC18CC017FB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39640" y="1808280"/>
            <a:ext cx="8275680" cy="4397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473040" y="1101600"/>
            <a:ext cx="852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rational macro-models are passive, reciprocal, causal and have acceptable accuracy (acceptable quality of original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5580000" y="414972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tabulated models (re-sampl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 flipH="1" flipV="1">
            <a:off x="4139640" y="3536280"/>
            <a:ext cx="1440360" cy="90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Straight Arrow Connector 11"/>
          <p:cNvCxnSpPr>
            <a:stCxn id="370" idx="1"/>
          </p:cNvCxnSpPr>
          <p:nvPr/>
        </p:nvCxnSpPr>
        <p:spPr>
          <a:xfrm flipH="1">
            <a:off x="4176360" y="4441680"/>
            <a:ext cx="1404000" cy="39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parameters in frequency and tim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s on S-parameters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etrics for reciprocity, passivity,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approximation and final quality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AE87-AA04-4E43-B31E-E0C1E0C1166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Conclusion: How to avoid problems with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-parameter models? 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520" y="13046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ciprocity, passivity and causality metrics for preliminar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QM and PQM metrics should be &gt; 99% (acceptabl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QM should be &gt; 80% for all causal numer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ational model accuracy as the final quality mea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 should be &gt; 90% (acceptable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ard the model with low RQM, PQM and QM metr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reason is we do not know what it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that pass the quality metrics may still be not usable or mishandled by a system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ue to band-limitedness, discreteness and brut force model fi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ational or BB SPICE macro-models instead of Touchstone models for consistent time and frequency domain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379-42E8-46DC-BBBC-8295934AE4FD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Date Placeholder 2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769-5617-4506-834A-CB400C189B4A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Contact and resources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8960"/>
            <a:ext cx="8507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riy Shlepnev, Simberia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hlepnev@simberi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: 206-409-2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more on S-parameters quality see the following presentations (also available on reque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hlepnev, Quality Metrics for S-parameter Models, DesignCon 2010 IBIS Summit, Santa Clara, February 4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. Barnes, Y. Shlepnev, J. Nadolny, T. Dagostino, S. McMorrow, Quality of High Frequency Measurements: Practical Examples, Theoretical Foundations, and Successful Techniques that Work Past the 40GHz Realm, DesignCon 2010, Santa Clara, February 1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Bogatin, B. Kirk, M. Jenkins, Y. Shlepnev, M. Steinberger, How to Avoid Butchering S-Parameters, DesignCon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. Shlepnev, Reflections on S-parameter quality, DesignCon 2011 IBIS Summit, Santa Clara, February 3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0E7-00E5-4FFB-AB5A-C4111D405BE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7FB4-9CDC-489F-B92F-7F7FD9B387BE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64F8-166F-4F00-BC38-CEF6416890F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S-parameter model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parameter models are becoming ubiquitous in design of multi-gigabit interconn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s, cables, PCBs, packages, backplanes, … ,any LTI-system in general can be characterized with S-parameters from DC to 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analysis or measurements are used to build S-parameter Touchsto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ften such models have quality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ity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ity and causality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ense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produce different time-domain and even frequency-domain responses in different solv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7606-B555-4C2D-9BBA-B5CC235B61C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a85"/>
                </a:solidFill>
                <a:latin typeface="Arial"/>
              </a:rPr>
              <a:t>System response computation requires frequency-continuous S-parameters from DC to infinity</a:t>
            </a:r>
            <a:endParaRPr b="0" lang="en-US" sz="28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E00-2ED7-436A-83AC-502E36A9C63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4" name="Straight Arrow Connector 36"/>
          <p:cNvCxnSpPr/>
          <p:nvPr/>
        </p:nvCxnSpPr>
        <p:spPr>
          <a:xfrm>
            <a:off x="1977840" y="2325240"/>
            <a:ext cx="2819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34"/>
          <p:cNvCxnSpPr>
            <a:stCxn id="116" idx="2"/>
            <a:endCxn id="117" idx="0"/>
          </p:cNvCxnSpPr>
          <p:nvPr/>
        </p:nvCxnSpPr>
        <p:spPr>
          <a:xfrm flipH="1">
            <a:off x="1393200" y="3087720"/>
            <a:ext cx="133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 flipH="1">
            <a:off x="3341160" y="3087720"/>
            <a:ext cx="1368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9" name="Straight Arrow Connector 32"/>
          <p:cNvCxnSpPr>
            <a:stCxn id="120" idx="2"/>
            <a:endCxn id="121" idx="0"/>
          </p:cNvCxnSpPr>
          <p:nvPr/>
        </p:nvCxnSpPr>
        <p:spPr>
          <a:xfrm>
            <a:off x="6778440" y="3087720"/>
            <a:ext cx="1476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Rounded Rectangle 6"/>
          <p:cNvSpPr/>
          <p:nvPr/>
        </p:nvSpPr>
        <p:spPr>
          <a:xfrm>
            <a:off x="835200" y="2097000"/>
            <a:ext cx="11430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ounded Rectangle 7"/>
          <p:cNvSpPr/>
          <p:nvPr/>
        </p:nvSpPr>
        <p:spPr>
          <a:xfrm>
            <a:off x="835200" y="3316320"/>
            <a:ext cx="7924680" cy="39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308400" y="3316320"/>
            <a:ext cx="33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ier Trans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063800" y="4416480"/>
          <a:ext cx="53316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4416480"/>
                    <a:ext cx="5331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ounded Rectangle 15"/>
          <p:cNvSpPr/>
          <p:nvPr/>
        </p:nvSpPr>
        <p:spPr>
          <a:xfrm>
            <a:off x="2282760" y="2401920"/>
            <a:ext cx="22100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054240" y="4297320"/>
          <a:ext cx="5335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4240" y="42973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Box 17"/>
          <p:cNvSpPr/>
          <p:nvPr/>
        </p:nvSpPr>
        <p:spPr>
          <a:xfrm>
            <a:off x="2176560" y="403560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ulse response matr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5640480" y="4264200"/>
          <a:ext cx="240984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0480" y="4264200"/>
                    <a:ext cx="24098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19"/>
          <p:cNvSpPr/>
          <p:nvPr/>
        </p:nvSpPr>
        <p:spPr>
          <a:xfrm>
            <a:off x="987480" y="4035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ounded Rectangle 20"/>
          <p:cNvSpPr/>
          <p:nvPr/>
        </p:nvSpPr>
        <p:spPr>
          <a:xfrm>
            <a:off x="4797360" y="2097000"/>
            <a:ext cx="396252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950000" y="4035600"/>
            <a:ext cx="36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ystem response – time domain (T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ounded Rectangle 22"/>
          <p:cNvSpPr/>
          <p:nvPr/>
        </p:nvSpPr>
        <p:spPr>
          <a:xfrm>
            <a:off x="822240" y="4000680"/>
            <a:ext cx="11430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ounded Rectangle 24"/>
          <p:cNvSpPr/>
          <p:nvPr/>
        </p:nvSpPr>
        <p:spPr>
          <a:xfrm>
            <a:off x="2268360" y="4000680"/>
            <a:ext cx="221004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ounded Rectangle 29"/>
          <p:cNvSpPr/>
          <p:nvPr/>
        </p:nvSpPr>
        <p:spPr>
          <a:xfrm>
            <a:off x="4811760" y="4000680"/>
            <a:ext cx="3962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5" name="Straight Arrow Connector 38"/>
          <p:cNvCxnSpPr/>
          <p:nvPr/>
        </p:nvCxnSpPr>
        <p:spPr>
          <a:xfrm>
            <a:off x="4492800" y="270684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36" name="Object 4"/>
          <p:cNvGraphicFramePr/>
          <p:nvPr/>
        </p:nvGraphicFramePr>
        <p:xfrm>
          <a:off x="3057480" y="5084640"/>
          <a:ext cx="3756240" cy="66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7480" y="5084640"/>
                    <a:ext cx="3756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3059280" y="1341360"/>
          <a:ext cx="389880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1341360"/>
                    <a:ext cx="3898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40"/>
          <p:cNvSpPr/>
          <p:nvPr/>
        </p:nvSpPr>
        <p:spPr>
          <a:xfrm>
            <a:off x="270000" y="2311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270000" y="42642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Verdana"/>
              </a:rPr>
              <a:t>T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9"/>
          <p:cNvGraphicFramePr/>
          <p:nvPr/>
        </p:nvGraphicFramePr>
        <p:xfrm>
          <a:off x="1050840" y="2236680"/>
          <a:ext cx="704880" cy="42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0840" y="2236680"/>
                    <a:ext cx="7048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0"/>
          <p:cNvGraphicFramePr/>
          <p:nvPr/>
        </p:nvGraphicFramePr>
        <p:xfrm>
          <a:off x="2987640" y="2359080"/>
          <a:ext cx="70488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7640" y="2359080"/>
                    <a:ext cx="7048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26"/>
          <p:cNvSpPr/>
          <p:nvPr/>
        </p:nvSpPr>
        <p:spPr>
          <a:xfrm>
            <a:off x="2482920" y="27399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ttering matr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5775480" y="2206800"/>
          <a:ext cx="1960560" cy="358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75480" y="2206800"/>
                    <a:ext cx="19605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Box 28"/>
          <p:cNvSpPr/>
          <p:nvPr/>
        </p:nvSpPr>
        <p:spPr>
          <a:xfrm>
            <a:off x="973080" y="2739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4805280" y="2664000"/>
            <a:ext cx="40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ystem response – frequency domain (F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2" name="Straight Arrow Connector 39"/>
          <p:cNvCxnSpPr/>
          <p:nvPr/>
        </p:nvCxnSpPr>
        <p:spPr>
          <a:xfrm>
            <a:off x="1977840" y="4797000"/>
            <a:ext cx="2819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Straight Arrow Connector 40"/>
          <p:cNvCxnSpPr/>
          <p:nvPr/>
        </p:nvCxnSpPr>
        <p:spPr>
          <a:xfrm>
            <a:off x="4524480" y="433980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Date Placeholder 2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4C9-996C-41B8-8B62-AD249871C4D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ossible approximations for discrete model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Fourier Transform (DFT) and con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nd may require interpolation and extrapolation of tabulated S-parameters (uncontrollable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discrete S-parameters with rational functions (RMS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is under control over the defined frequency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-continuous causal functions defined from DC to infinity with analytical impuls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cursive convolution algorithm to compute T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onsistent in time and frequency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Touchstone models are suitable for eithe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42A8-969B-42D3-B747-E9F2C5041E6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2A7-D974-4150-B190-A72E32A0CE2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DF5-448D-4C28-BFD6-08B70FCC704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mmon S-parameter model defect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33360"/>
            <a:ext cx="835524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ndwidth defici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arameter models are band-limited due to limited capabilities of solvers and measurement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should include DC point or allow extrapolation, and high frequencies defined by the signal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cr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stone models are matrix elements at a set of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or approximation of tabulated matrix elements may be necessary both for time and frequency domain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o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or simulation arti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ity violations and local “enforce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 violations and “enforce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mistakes of model developers a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 to estimate and rate quality of the mode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Date Placeholder 2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68EC-186B-4A5E-B833-BF99E856C81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of LTI system (TD &amp; FD)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218960"/>
            <a:ext cx="83278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s causal if and only if all elements of the time-domain impulse response matrix ar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layed causality (for interconnect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ead to Kramers-Kronig relations in frequency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FEAB-8D2A-4F61-8996-0AFF77882BF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BF2F-5BF3-4FDD-B60A-B94D109001F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4140360" y="1557360"/>
          <a:ext cx="159048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557360"/>
                    <a:ext cx="15904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4140360" y="2168640"/>
          <a:ext cx="243180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168640"/>
                    <a:ext cx="24318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4"/>
          <p:cNvGraphicFramePr/>
          <p:nvPr/>
        </p:nvGraphicFramePr>
        <p:xfrm>
          <a:off x="7637400" y="2411280"/>
          <a:ext cx="30312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7400" y="2411280"/>
                    <a:ext cx="3031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6" name="Straight Arrow Connector 18"/>
          <p:cNvCxnSpPr/>
          <p:nvPr/>
        </p:nvCxnSpPr>
        <p:spPr>
          <a:xfrm flipH="1" flipV="1">
            <a:off x="7135200" y="17755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>
            <a:off x="6754320" y="236376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Freeform 20"/>
          <p:cNvSpPr/>
          <p:nvPr/>
        </p:nvSpPr>
        <p:spPr>
          <a:xfrm>
            <a:off x="7738920" y="1838160"/>
            <a:ext cx="1024200" cy="52236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24932" h="522514">
                <a:moveTo>
                  <a:pt x="0" y="522514"/>
                </a:moveTo>
                <a:cubicBezTo>
                  <a:pt x="14235" y="301450"/>
                  <a:pt x="28470" y="80387"/>
                  <a:pt x="90435" y="40193"/>
                </a:cubicBezTo>
                <a:cubicBezTo>
                  <a:pt x="152400" y="0"/>
                  <a:pt x="272980" y="212689"/>
                  <a:pt x="371789" y="281353"/>
                </a:cubicBezTo>
                <a:cubicBezTo>
                  <a:pt x="470598" y="350017"/>
                  <a:pt x="574431" y="411982"/>
                  <a:pt x="683288" y="452175"/>
                </a:cubicBezTo>
                <a:cubicBezTo>
                  <a:pt x="792145" y="492368"/>
                  <a:pt x="880906" y="512466"/>
                  <a:pt x="1024932" y="5225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8101080" y="1778040"/>
          <a:ext cx="60804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01080" y="1778040"/>
                    <a:ext cx="6080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7149960" y="1776240"/>
          <a:ext cx="555840" cy="3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9960" y="1776240"/>
                    <a:ext cx="5558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Straight Connector 29"/>
          <p:cNvSpPr/>
          <p:nvPr/>
        </p:nvSpPr>
        <p:spPr>
          <a:xfrm>
            <a:off x="7135920" y="170028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8839080" y="2081160"/>
          <a:ext cx="125640" cy="21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839080" y="2081160"/>
                    <a:ext cx="12564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9"/>
          <p:cNvSpPr/>
          <p:nvPr/>
        </p:nvSpPr>
        <p:spPr>
          <a:xfrm>
            <a:off x="928800" y="506088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amers, H.A., Nature, v 117, 1926 p. 775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onig, R. de L., J. Opt. Soc. Am. N12, 1926, p 547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971640" y="3382920"/>
          <a:ext cx="496260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3382920"/>
                    <a:ext cx="4962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"/>
          <p:cNvGraphicFramePr/>
          <p:nvPr/>
        </p:nvGraphicFramePr>
        <p:xfrm>
          <a:off x="1052640" y="4146480"/>
          <a:ext cx="5230800" cy="71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52640" y="4146480"/>
                    <a:ext cx="5230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Straight Connector 12"/>
          <p:cNvSpPr/>
          <p:nvPr/>
        </p:nvSpPr>
        <p:spPr>
          <a:xfrm>
            <a:off x="6616800" y="3419640"/>
            <a:ext cx="0" cy="21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6902280" y="3870360"/>
          <a:ext cx="162720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02280" y="3870360"/>
                    <a:ext cx="16272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6877080" y="4518000"/>
          <a:ext cx="2000160" cy="1171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77080" y="4518000"/>
                    <a:ext cx="20001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Straight Connector 15"/>
          <p:cNvSpPr/>
          <p:nvPr/>
        </p:nvSpPr>
        <p:spPr>
          <a:xfrm>
            <a:off x="8381880" y="44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Straight Connector 17"/>
          <p:cNvSpPr/>
          <p:nvPr/>
        </p:nvSpPr>
        <p:spPr>
          <a:xfrm flipV="1">
            <a:off x="8686800" y="417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Straight Connector 19"/>
          <p:cNvSpPr/>
          <p:nvPr/>
        </p:nvSpPr>
        <p:spPr>
          <a:xfrm>
            <a:off x="8686800" y="4173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9" name="Straight Arrow Connector 23"/>
          <p:cNvCxnSpPr/>
          <p:nvPr/>
        </p:nvCxnSpPr>
        <p:spPr>
          <a:xfrm>
            <a:off x="8391240" y="428796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Straight Arrow Connector 25"/>
          <p:cNvCxnSpPr/>
          <p:nvPr/>
        </p:nvCxnSpPr>
        <p:spPr>
          <a:xfrm flipV="1">
            <a:off x="8685360" y="40222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6872400" y="3565440"/>
            <a:ext cx="18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ri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difficult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mers-Kronig rela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not be directly used to verify causa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requency-domain response known ov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imited bandwidth at som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ity boundaries can be introduced to estimate causality of the tabulated and band-limited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ton, G.W., Eyre, D.J. and Mantese, J.V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ite Frequency Range Kramers Kronig Relations: Bounds on the Dispers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. Rev. Lett. 79, 1997, p. 3062-3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erio, P. Grivet-Talocia S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bust Causality Characterization via Generalized Dispersion 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EEE Trans. on Adv. Packaging, N 3, 2008, p. 579-5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FA19-97EF-4D08-9D21-90786D01A9F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B342-FB1A-46E6-9049-E2CF001C6EB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1440000" y="5084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ven if test passes – a lot of uncertainties due to band limited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easy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” causality measure based on the observation that polar plot of a causal system rotates mostly clockwise (suggested by V. Dmitriev-Zdor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8FEA-6DED-48D9-A6E1-FB048D2E9BD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1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092-01B1-4B14-ABC3-22D3589ED93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11080" y="2230560"/>
            <a:ext cx="4486320" cy="3790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372960" y="2187720"/>
            <a:ext cx="332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ot of Re(S[i,j]) as function of Im(S[i,j]), or polar pl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367080" y="301140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Straight Arrow Connector 10"/>
          <p:cNvCxnSpPr/>
          <p:nvPr/>
        </p:nvCxnSpPr>
        <p:spPr>
          <a:xfrm>
            <a:off x="4388400" y="3319200"/>
            <a:ext cx="37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1"/>
          <p:cNvSpPr/>
          <p:nvPr/>
        </p:nvSpPr>
        <p:spPr>
          <a:xfrm>
            <a:off x="446040" y="2990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d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Straight Arrow Connector 13"/>
          <p:cNvCxnSpPr/>
          <p:nvPr/>
        </p:nvCxnSpPr>
        <p:spPr>
          <a:xfrm>
            <a:off x="1295280" y="3365640"/>
            <a:ext cx="76752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18"/>
          <p:cNvCxnSpPr/>
          <p:nvPr/>
        </p:nvCxnSpPr>
        <p:spPr>
          <a:xfrm>
            <a:off x="4132800" y="4305240"/>
            <a:ext cx="37080" cy="255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0" name="Straight Arrow Connector 20"/>
          <p:cNvCxnSpPr/>
          <p:nvPr/>
        </p:nvCxnSpPr>
        <p:spPr>
          <a:xfrm flipH="1">
            <a:off x="3987000" y="4560480"/>
            <a:ext cx="183240" cy="32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1" name="Straight Arrow Connector 22"/>
          <p:cNvCxnSpPr/>
          <p:nvPr/>
        </p:nvCxnSpPr>
        <p:spPr>
          <a:xfrm flipH="1">
            <a:off x="3695040" y="4888440"/>
            <a:ext cx="29268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2" name="Straight Arrow Connector 24"/>
          <p:cNvCxnSpPr/>
          <p:nvPr/>
        </p:nvCxnSpPr>
        <p:spPr>
          <a:xfrm flipV="1">
            <a:off x="3038400" y="4706280"/>
            <a:ext cx="102312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3" name="TextBox 25"/>
          <p:cNvSpPr/>
          <p:nvPr/>
        </p:nvSpPr>
        <p:spPr>
          <a:xfrm>
            <a:off x="1103400" y="5246640"/>
            <a:ext cx="306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Rotation in complex plane is mostly clockwise around local cen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4143960" y="20048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4880520" y="3465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5302080" y="2443320"/>
            <a:ext cx="3687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ity measure (CM) can be computed as the ratio of clockwise rotation measure to total rotation measure in %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is value is below 80%, the parameters are reported as suspect for possible violation of causal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Algorithm is good for numerical models (to find under-sampling), but no so good for measured data due to nois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7" name="Straight Arrow Connector 21"/>
          <p:cNvCxnSpPr/>
          <p:nvPr/>
        </p:nvCxnSpPr>
        <p:spPr>
          <a:xfrm flipV="1">
            <a:off x="3585960" y="4341240"/>
            <a:ext cx="5482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Straight Arrow Connector 23"/>
          <p:cNvCxnSpPr/>
          <p:nvPr/>
        </p:nvCxnSpPr>
        <p:spPr>
          <a:xfrm>
            <a:off x="3586320" y="4524120"/>
            <a:ext cx="58464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25"/>
          <p:cNvCxnSpPr/>
          <p:nvPr/>
        </p:nvCxnSpPr>
        <p:spPr>
          <a:xfrm>
            <a:off x="3585240" y="4524120"/>
            <a:ext cx="1465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55:39Z</dcterms:created>
  <dc:creator>Yuriy Shlepnev, Simberian Inc.</dc:creator>
  <dc:description/>
  <cp:keywords>S-parameters Touchstone models causality passivity reciprocity quality metrics</cp:keywords>
  <dc:language>en-US</dc:language>
  <cp:lastModifiedBy>Yuriy Shlepnev</cp:lastModifiedBy>
  <dcterms:modified xsi:type="dcterms:W3CDTF">2011-10-23T21:37:57Z</dcterms:modified>
  <cp:revision>887</cp:revision>
  <dc:subject>Asian IBIS Summit, Yokohama, November 18, 2011</dc:subject>
  <dc:title>Quality of S-parameter models</dc:title>
</cp:coreProperties>
</file>