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3BBB4B4A-B910-4792-A0FD-065AD3B78EA3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FFD32D4E-2477-4399-8202-83C70F99C3D9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8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89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0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0FD21045-9BA6-4CEB-B088-D683889EDB16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31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32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59318AF8-892F-45AA-B1F2-348BABADB9CF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7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7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1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BC17546F-3C07-456F-B3C8-4D4ED4812CF2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F88F2F81-42B4-4F2C-A010-36AEB3D10DA7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7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88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92D6D51A-5AEB-443F-822B-08FA30F08E10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131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4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3747CC1C-F651-4CA0-8756-FEE9544C129E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174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42880822-865F-461C-839A-419C5FAFD13C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217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6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A7BB68C2-64CC-4BED-8AAE-B4D230341A6B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59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260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7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24FDF3E0-6047-48EB-A05E-E77C9E7ACE1E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2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03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380E7626-C782-48E1-A8C7-55055AE37F03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5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46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9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Update and Parse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ian IBIS Summ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okohama, Jap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vember 18, 201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1828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New: Message Number File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1155 unique message strings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2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736560" y="1219320"/>
            <a:ext cx="7669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Message Column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for documentation and sorting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printed message numb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ymbol in Cod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by module group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xample: ALGMODERR_25 (message 25 of 36 AMI module messages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essage String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all unique message string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if applicable for printed % argument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or line numbers, keywords, subparameters, etc.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mmen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brief descrip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ategor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Error, Warning Notes, Caution, etc.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E, W, N, C added for easier sor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Recent ibischk5 Fix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V of [Ramp] dV/dt_r, dV/dt_f Caution che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UG104, BUG123, BUG130 (case-sensitivity crash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an be used to find the exact dV values based on I-V tables and specified ramp load condition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alculated value reported if wrong value enter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Model Spec] timing test load ent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UG122 for waveform crossing Vmeas test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[ISSO PU] and [ISSO PD] table time entry mismat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UG115, BUG116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8400" indent="-26856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UG129 time alignment test from Error to Cau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559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Bug List for Filed BUG Reports</a:t>
            </a:r>
            <a:br>
              <a:rPr sz="3200"/>
            </a:br>
            <a:r>
              <a:rPr b="1" lang="en-US" sz="2800" spc="-1" strike="noStrike">
                <a:solidFill>
                  <a:srgbClr val="186ecc"/>
                </a:solidFill>
                <a:latin typeface="Gill Sans MT"/>
              </a:rPr>
              <a:t>http://www.eda.org/ibis/bugs/ibischk/</a:t>
            </a:r>
            <a:br>
              <a:rPr sz="2800"/>
            </a:br>
            <a:endParaRPr b="1" lang="en-US" sz="28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1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52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schk2” Parser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ecks Touchstone Version 1.0 (TS1) and Version 2.0 (TS2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rror and Warning numb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ree executables: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http://www.eda.org/ibis/tschk2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verts TS1 to TS2, TS2 to TS1 where practical with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-canonical*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a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vides comment headers and real, imaginary format (RI) with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-describ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a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urce code package includes 440+ test ca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++, well documen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anks to contractor Agilent Technolo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schk2 {-canonical*} FIL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{-canonical | -canonical-v2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TS1, TS2 </a:t>
            </a:r>
            <a:r>
              <a:rPr b="1" lang="en-US" sz="2000" spc="-1" strike="noStrike">
                <a:solidFill>
                  <a:srgbClr val="720016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 TS2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rovides number of ports, frequencies and other informa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Un-normalizes TS1 Y-, Z-, G- and H-parameters and effective noise resistance         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{-canonical-v1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TS1, TS2 </a:t>
            </a:r>
            <a:r>
              <a:rPr b="1" lang="en-US" sz="2000" spc="-1" strike="noStrike">
                <a:solidFill>
                  <a:srgbClr val="720016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720016"/>
                </a:solidFill>
                <a:latin typeface="Gill Sans MT"/>
              </a:rPr>
              <a:t> TS1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where practical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pplies column formatting rules and 2-port 21_12 order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ormalizes TS2 Y-, Z-, G- and H-parameters and effective noise resistance     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No mixed mode or selectable reference resistance process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tschk2 {-describe} FILE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header comments, RI format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[Network Data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freq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1r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1im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2re  S12im  S13r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S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13i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S14re  S1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5r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5im  S16r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1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21r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21im  S22re  S22im  S23re  S23im  S24re  S2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25re  S25im  S26re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26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31re  S31im  S32re  S32im  S33re  S33im  S34re  S3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35re  S35im  S36re  S3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S41re  S41im  S42re  S42im  S43re  S43im  S44re  S4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45re  S45im  S46re  S4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S51re  S51im  S52re  S52im  S53re  S53im  S54re  S5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55re  S55im  S56re  S5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!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61re  S61im  S62re  S62im  S63re  S63im  S64re  S64i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65re  S65im  S66re  S66im     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ill Sans MT"/>
              <a:buAutoNum type="arabicPlain" startAt="100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-0.665574600466      -0.0006609751214130001  0.333068101839  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0.000663504688568    0.333100908672       -0.0006633295929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609480" y="1828800"/>
            <a:ext cx="6553440" cy="327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71 tschk2 Messag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74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449280" y="1066680"/>
            <a:ext cx="824544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Message Grouping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ssage chart in source code packag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ssage categories (starting numbe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Full Error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(1000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Format Error 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(2000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Options Error 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(2100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Keyword Order 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(2200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16"/>
                </a:solidFill>
                <a:latin typeface="Gill Sans MT"/>
              </a:rPr>
              <a:t>Data Format </a:t>
            </a: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(2300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27920" indent="-28008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nclus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bischk5 and tschk2 parsers - free to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officiall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heck files for specification compli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ser development also checks specification for accuracy and clar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G process helps maintain integrity of parsers with latest fix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arsers are critical to IBIS succ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resentation Topic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pda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bischk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Operation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pread sheet for messag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ome new check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schk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Operation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Messag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Useful Links Under IBI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Home Page: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www.eda.org/ibis/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ver5.0/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 Version 5.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August 29, 2008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bischk5/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chk5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5.0.7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Pending 2011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touchstone_ver2.0/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ouchston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2.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April 24. 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tschk2/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schk2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2.0.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December 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quality_ver2.0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 Quality Specification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Oct. 30, 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bis-iss_ver1.0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terconnect SPICE Subcircuit Specific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1.0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New - October 7, 2011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editorial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ditorial Task Group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nterconnect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terconnect Task Group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) - suspend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macromodel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dvanced Technology Task Group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quality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Quality Task Group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: work in progres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5" name="Picture 5" descr=""/>
          <p:cNvPicPr/>
          <p:nvPr/>
        </p:nvPicPr>
        <p:blipFill>
          <a:blip r:embed="rId1"/>
          <a:stretch/>
        </p:blipFill>
        <p:spPr>
          <a:xfrm>
            <a:off x="4048200" y="5410080"/>
            <a:ext cx="1218960" cy="9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Home Page (under revision)</a:t>
            </a:r>
            <a:br>
              <a:rPr sz="3600"/>
            </a:b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http://www.eda.org/ibis/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4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5" name="Picture 3" descr=""/>
          <p:cNvPicPr/>
          <p:nvPr/>
        </p:nvPicPr>
        <p:blipFill>
          <a:blip r:embed="rId1"/>
          <a:stretch/>
        </p:blipFill>
        <p:spPr>
          <a:xfrm>
            <a:off x="1425600" y="1360440"/>
            <a:ext cx="631044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Organiz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chAmerica (www.techamerica.or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Top level organization (offices around the world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erger of several standards and trade organization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BIS under SSTC (Standards and Technology Council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Officers 2011 - 201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hair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ichael Mirmak, Intel Corpora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Vice-Chair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Lance Wang, IO Methodology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Librarian: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nders Ekholm, Ericss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ecretary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andy Wolff, Micron Technology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Webmaster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ike LaBonte, SiSof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ostmaster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ike LaBonte, SiSof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(Past Chair)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Bob Ross, Teraspeed Consulting Group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0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Accomplishments and Projec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BIS-I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IBIS-Interconnect Spice Subcircuit) Specif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Version 1.0 released October, 2011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HSpice subset with Synopsys permiss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BIS Version 5.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ongoing current project for 2012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BIS BIRDs (Buffer Issue Resolution Documents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Standard IBIS, about 5 BIRDs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IBIS-AMI (IBIS-Algorithmic Model Interface) cleanup, about 15 BIRDs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Reformatting into Word document with true graphic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Quality Committee focusing on IBIS-AMI checks to be added to the Quality Specification (ongoing for 2012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0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urrent and Future Projec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Version 5.2 (or 6.0) – (future under discuss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nalog model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Jitter parameter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ulti-lingual link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Back-channel model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BIS linkage to IBIS-ISS through [External Model] and [External Circuit]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Allows using parameterized IBIS-ISS subcircuit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nd more …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ouchston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Version 2.1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future for 2012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parse matrix mapping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Binary forma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going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bischk5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schk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rser mainten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chk5” Parser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chk5, Version 5.0.7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ree executables: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http://www.eda.org/ibis/ibischk5/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upports IBIS Version 5.0 (ratified 2008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Algorithmic model interface for Serdes analysi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Power delivery system SSO and gate modulation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EMI parameter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Other – (area based thresholds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ecks all [IBIS Ver]s of IBIS fi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(1.1, 2.1, 3.2, 4.2, 5.0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 $114,000 of contracted work since 1993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pports .ibs, .pkg, .ebd, and .ami forma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irectly or through linkages from top level fil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New Flags in ibischk5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480" y="4343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m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&lt;file_name&gt;.ami (algorithmic model interface control fi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umber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numbered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ror,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ning,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tes and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tion messag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609480" y="1143000"/>
            <a:ext cx="7925040" cy="283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age: ibischk5       &lt;IBS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ebd &lt;EBD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pkg &lt;PKG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ami &lt;AMI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age: ibischk5  -caution -numbered      &lt;IBS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ebd &lt;EBD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pkg &lt;PKG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ami &lt;AMI filename&gt;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flags prior to the file name can be in any order, and the -caution and/or -numbered flags are optional.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2971800" y="1981080"/>
            <a:ext cx="281952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4191120" y="2286000"/>
            <a:ext cx="144756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Rectangle 13"/>
          <p:cNvSpPr/>
          <p:nvPr/>
        </p:nvSpPr>
        <p:spPr>
          <a:xfrm>
            <a:off x="5638680" y="3124080"/>
            <a:ext cx="26672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bischk5 {–numbered} –ami  file4.ami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1066680" y="1143000"/>
            <a:ext cx="6782040" cy="252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ing file4.ami for IBIS 5.0 Compatibility...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Usage value A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Type value B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Format value C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No Reserved_Parameters found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s  : 4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 Failed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1066680" y="3886200"/>
            <a:ext cx="6782040" cy="252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ing file4.ami for IBIS 5.0 Compatibility...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Usage value A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Type value B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Format value C specified for Param1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2 - No Reserved_Parameters found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s  : 4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 Failed</a:t>
            </a:r>
            <a:endParaRPr b="1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1066680" y="4343400"/>
            <a:ext cx="83844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1066680" y="1600200"/>
            <a:ext cx="83844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</cp:lastModifiedBy>
  <dcterms:modified xsi:type="dcterms:W3CDTF">2011-10-27T20:44:49Z</dcterms:modified>
  <cp:revision>804</cp:revision>
  <dc:subject/>
  <dc:title>IBIS</dc:title>
</cp:coreProperties>
</file>