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587C4459-4BBA-4A62-BE91-3AEEC23D7ED0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5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206B4EC3-314A-49E6-8C32-D64BAD11CC0A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88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389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10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10B62950-66EE-4FBF-92C5-F672541E1674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31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432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1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E1E191D3-7484-444A-A5BA-6326C377B205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74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475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ftr" idx="12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403C69CE-E9CE-46F9-8E6B-05E4190A0B8B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4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45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BBA3C3CE-399D-4CB2-AE8C-2E5F0DD34829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87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88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3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A27EBDA6-B8BC-4DB8-A60A-D95E3061B552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30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131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4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320AEEA5-A6AA-40A8-9A58-AB3B7222FB8F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73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174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A3ECEA61-2CFB-4853-BA8B-4FF41F0AA23E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16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217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6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DEE16EE1-ED41-4866-BED0-6972BD06DA3A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59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260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7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64C76326-51DE-4B1B-8536-C18CBFAE92AD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02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303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ftr" idx="8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960048AA-824B-4A08-A26E-21E20DB1C93C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45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346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ftr" idx="9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BIS Parser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b Ro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ian IBIS Summi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hanghai, Chin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vember 15, 201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b@teraspeed.co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9" name="Picture 5" descr=""/>
          <p:cNvPicPr/>
          <p:nvPr/>
        </p:nvPicPr>
        <p:blipFill>
          <a:blip r:embed="rId1"/>
          <a:stretch/>
        </p:blipFill>
        <p:spPr>
          <a:xfrm>
            <a:off x="3657600" y="457200"/>
            <a:ext cx="18288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“</a:t>
            </a: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tschk2” Parser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ecks Touchstone Version 1.0 (TS1) and Version 2.0 (TS2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Error and Warning number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Free executables: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http://www.eda.org/ibis/tschk2/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verts TS1 to TS2, TS2 to TS1 where practical with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-canonical*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lag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vides comment headers and real, imaginary format (RI) with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-describ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la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ource code package includes 440+ test ca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++, well document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anks to contractor Agilent Technolog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tschk2 {-canonical*} FILE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{-canonical | -canonical-v2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16"/>
                </a:solidFill>
                <a:latin typeface="Gill Sans MT"/>
              </a:rPr>
              <a:t>TS1, TS2 </a:t>
            </a:r>
            <a:r>
              <a:rPr b="1" lang="en-US" sz="2000" spc="-1" strike="noStrike">
                <a:solidFill>
                  <a:srgbClr val="720016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720016"/>
                </a:solidFill>
                <a:latin typeface="Gill Sans MT"/>
              </a:rPr>
              <a:t> TS2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Provides number of ports, frequencies and other information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Un-normalizes TS1 Y-, Z-, G- and H-parameters and effective noise resistance         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{-canonical-v1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16"/>
                </a:solidFill>
                <a:latin typeface="Gill Sans MT"/>
              </a:rPr>
              <a:t>TS1, TS2 </a:t>
            </a:r>
            <a:r>
              <a:rPr b="1" lang="en-US" sz="2000" spc="-1" strike="noStrike">
                <a:solidFill>
                  <a:srgbClr val="720016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720016"/>
                </a:solidFill>
                <a:latin typeface="Gill Sans MT"/>
              </a:rPr>
              <a:t> TS1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 where practical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Applies column formatting rules and 2-port 21_12 ordering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Normalizes TS2 Y-, Z-, G- and H-parameters and effective noise resistance     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No mixed mode or selectable reference resistance processing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tschk2 {-describe} FILE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header comments, RI format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[Network Data]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! freq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11re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11im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12re  S12im  S13re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S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13i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 S14re  S14i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15re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15im  S16re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16im          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!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21re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21im  S22re  S22im  S23re  S23im  S24re  S24i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25re  S25im  S26re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26i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!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31re  S31im  S32re  S32im  S33re  S33im  S34re  S34i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35re  S35im  S36re  S36im          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!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 S41re  S41im  S42re  S42im  S43re  S43im  S44re  S44i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45re  S45im  S46re  S46im          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!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 S51re  S51im  S52re  S52im  S53re  S53im  S54re  S54i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55re  S55im  S56re  S56im          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!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61re  S61im  S62re  S62im  S63re  S63im  S64re  S64i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65re  S65im  S66re  S66im          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ill Sans MT"/>
              <a:buAutoNum type="arabicPlain" startAt="100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-0.665574600466      -0.0006609751214130001  0.333068101839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0.000663504688568    0.333100908672       -0.0006633295929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609480" y="1828800"/>
            <a:ext cx="6553440" cy="327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71 tschk2 Message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62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3" name="Picture 3" descr=""/>
          <p:cNvPicPr/>
          <p:nvPr/>
        </p:nvPicPr>
        <p:blipFill>
          <a:blip r:embed="rId1"/>
          <a:stretch/>
        </p:blipFill>
        <p:spPr>
          <a:xfrm>
            <a:off x="449280" y="1066680"/>
            <a:ext cx="8245440" cy="51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Message Grouping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essage chart in source code packag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essage categories (starting numbe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16"/>
                </a:solidFill>
                <a:latin typeface="Gill Sans MT"/>
              </a:rPr>
              <a:t>Full Error</a:t>
            </a: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 (1000)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16"/>
                </a:solidFill>
                <a:latin typeface="Gill Sans MT"/>
              </a:rPr>
              <a:t>Format Error </a:t>
            </a: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(2000)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16"/>
                </a:solidFill>
                <a:latin typeface="Gill Sans MT"/>
              </a:rPr>
              <a:t>Options Error </a:t>
            </a: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(2100)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16"/>
                </a:solidFill>
                <a:latin typeface="Gill Sans MT"/>
              </a:rPr>
              <a:t>Keyword Order </a:t>
            </a: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(2200)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16"/>
                </a:solidFill>
                <a:latin typeface="Gill Sans MT"/>
              </a:rPr>
              <a:t>Data Format </a:t>
            </a: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(2300)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Footer Placeholder 2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onclusion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bischk5 and tschk2 parsers - free to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officiall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check files for specification complian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rser development also checks specification for accuracy and clari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UG process helps maintain integrity of parsers with latest fix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Parsers are critical to IBIS succe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Useful Links Under IBIS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Home Page: </a:t>
            </a:r>
            <a:r>
              <a:rPr b="1" lang="en-US" sz="3200" spc="-1" strike="noStrike">
                <a:solidFill>
                  <a:srgbClr val="ff0000"/>
                </a:solidFill>
                <a:latin typeface="Gill Sans MT"/>
              </a:rPr>
              <a:t>www.eda.org/ibis/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16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ver5.0/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IBIS Version 5.0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(August 29, 2008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ibischk5/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ibischk5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Version 5.0.7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(Pending 2011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touchstone_ver2.0/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Touchstone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Version 2.0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(April 24. 2009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tschk2/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tschk2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Version 2.0.0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(December 2009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quality_ver2.0/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IBIS Quality Specification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(Oct. 30, 2009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ibis-iss_ver1.0/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Interconnect SPICE Subcircuit Specifica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Version 1.0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New - October 7, 2011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editorial_wip/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Editorial Task Group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wip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interconnect_wip/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Interconnect Task Group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wip) - suspende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macromodel_wip/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Advanced Technology Task Group (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ip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quality_wip/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Quality Task Group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wip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wip: work in progress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3" name="Picture 5" descr=""/>
          <p:cNvPicPr/>
          <p:nvPr/>
        </p:nvPicPr>
        <p:blipFill>
          <a:blip r:embed="rId1"/>
          <a:stretch/>
        </p:blipFill>
        <p:spPr>
          <a:xfrm>
            <a:off x="4048200" y="5410080"/>
            <a:ext cx="1218960" cy="9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Presentation Topic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bischk5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Operation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Spread sheet for message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Some new check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schk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Operation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Message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“</a:t>
            </a: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bischk5” Parser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bischk5, Version 5.0.7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Free executables: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http://www.eda.org/ibis/ibischk5/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upports IBIS Version 5.0 (ratified 2008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Algorithmic model interface for Serdes analysis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Power delivery system SSO and gate modulation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EMI parameters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Other – (area based thresholds)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ecks all [IBIS Ver]s of IBIS fi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(1.1, 2.1, 3.2, 4.2, 5.0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ver $114,000 of contracted work since 1993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pports .ibs, .pkg, .ebd, and .ami forma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directly or through linkages from top level file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New Flags in ibischk5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4343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ami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or &lt;file_name&gt;.ami (algorithmic model interface control fil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numbere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or numbered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ror,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rning,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tes and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ution messag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Rectangle 8"/>
          <p:cNvSpPr/>
          <p:nvPr/>
        </p:nvSpPr>
        <p:spPr>
          <a:xfrm>
            <a:off x="609480" y="1143000"/>
            <a:ext cx="7925040" cy="283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age: ibischk5       &lt;IBS filename&gt;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ibischk5  -ebd &lt;EBD filename&gt;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ibischk5  -pkg &lt;PKG filename&gt;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ibischk5  -ami &lt;AMI filename&gt;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age: ibischk5  -caution -numbered      &lt;IBS filename&gt;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ibischk5  -caution -numbered -ebd &lt;EBD filename&gt;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ibischk5  -caution -numbered -pkg &lt;PKG filename&gt;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ibischk5  -caution -numbered -ami &lt;AMI filename&gt;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 flags prior to the file name can be in any order, and the -caution and/or -numbered flags are optional.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Rectangle 11"/>
          <p:cNvSpPr/>
          <p:nvPr/>
        </p:nvSpPr>
        <p:spPr>
          <a:xfrm>
            <a:off x="2971800" y="1981080"/>
            <a:ext cx="2819520" cy="38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Rectangle 12"/>
          <p:cNvSpPr/>
          <p:nvPr/>
        </p:nvSpPr>
        <p:spPr>
          <a:xfrm>
            <a:off x="4191120" y="2286000"/>
            <a:ext cx="144756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Rectangle 13"/>
          <p:cNvSpPr/>
          <p:nvPr/>
        </p:nvSpPr>
        <p:spPr>
          <a:xfrm>
            <a:off x="5638680" y="3124080"/>
            <a:ext cx="266724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Footer Placeholder 2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ibischk5 {–numbered} –ami  file4.ami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1066680" y="1143000"/>
            <a:ext cx="6782040" cy="252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ecking file4.ami for IBIS 5.0 Compatibility...</a:t>
            </a: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 - Illegal Usage value A specified for Param1</a:t>
            </a: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 - Illegal Type value B specified for Param1</a:t>
            </a: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 - Illegal Format value C specified for Param1</a:t>
            </a: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 - No Reserved_Parameters found</a:t>
            </a: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s  : 4</a:t>
            </a: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le Failed</a:t>
            </a: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1066680" y="3886200"/>
            <a:ext cx="6782040" cy="252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ecking file4.ami for IBIS 5.0 Compatibility...</a:t>
            </a: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4627 - Illegal Usage value A specified for Param1</a:t>
            </a: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4627 - Illegal Type value B specified for Param1</a:t>
            </a: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4627 - Illegal Format value C specified for Param1</a:t>
            </a: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4622 - No Reserved_Parameters found</a:t>
            </a: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s  : 4</a:t>
            </a: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le Failed</a:t>
            </a: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1066680" y="4343400"/>
            <a:ext cx="838440" cy="1219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1066680" y="1600200"/>
            <a:ext cx="838440" cy="1219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New: Message Number File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1155 unique message strings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40" name="Footer Placeholder 2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1" name="Picture 3" descr=""/>
          <p:cNvPicPr/>
          <p:nvPr/>
        </p:nvPicPr>
        <p:blipFill>
          <a:blip r:embed="rId1"/>
          <a:stretch/>
        </p:blipFill>
        <p:spPr>
          <a:xfrm>
            <a:off x="736560" y="1219320"/>
            <a:ext cx="7669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Message Columns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for documentation and sorting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printed message numb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ymbol in Cod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by module grouping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Example: ALGMODERR_25 (message 25 of 36 AMI module messages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essage String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all unique message string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if applicable for printed % argument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For line numbers, keywords, subparameters, etc.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ommen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brief descriptio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ategory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Error, Warning Notes, Caution, etc.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lassific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E, W, N, C added for easier sorting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Footer Placeholder 2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Recent ibischk5 Fixe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V of [Ramp] dV/dt_r, dV/dt_f Caution che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BUG104, BUG123, BUG130 (case-sensitivity crash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98400" indent="-26856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Can be used to find the exact dV values based on I-V tables and specified ramp load condition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98400" indent="-26856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Calculated value reported if wrong value entered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[Model Spec] timing test load entr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BUG122 for waveform crossing Vmeas test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[ISSO PU] and [ISSO PD] table time entry mismatch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BUG115, BUG116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98400" indent="-26856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BUG129 time alignment test from Error to Caution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  <p:sp>
        <p:nvSpPr>
          <p:cNvPr id="547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Bug List for Filed BUG Reports</a:t>
            </a:r>
            <a:br>
              <a:rPr sz="3200"/>
            </a:br>
            <a:r>
              <a:rPr b="1" lang="en-US" sz="2800" spc="-1" strike="noStrike">
                <a:solidFill>
                  <a:srgbClr val="186ecc"/>
                </a:solidFill>
                <a:latin typeface="Gill Sans MT"/>
              </a:rPr>
              <a:t>http://www.eda.org/ibis/bugs/ibischk/</a:t>
            </a:r>
            <a:br>
              <a:rPr sz="2800"/>
            </a:br>
            <a:endParaRPr b="1" lang="en-US" sz="28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49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50" name="Picture 2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352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0T13:19:28Z</dcterms:created>
  <dc:creator>Bob Ross</dc:creator>
  <dc:description/>
  <dc:language>en-US</dc:language>
  <cp:lastModifiedBy>Bob</cp:lastModifiedBy>
  <dcterms:modified xsi:type="dcterms:W3CDTF">2011-10-25T03:46:20Z</dcterms:modified>
  <cp:revision>786</cp:revision>
  <dc:subject/>
  <dc:title>IBIS</dc:title>
</cp:coreProperties>
</file>