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4FAAEEE-11DB-49A6-80F6-C9C22B07972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rojects and Activi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kyo, Jap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15,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rgan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chAmerica (www.techamerica.or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op level organization (offices around the worl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erger of several standards and trade organiz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under SSTC (Standards and Technology Council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Officers 2010 -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chael Mirmak, Intel Corpor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ice-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ance Wang, IO Method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ibrarian: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ders Ekholm, Ericss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cretary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andy Wolff, Micron Techn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eb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yed Huq, Cisco System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st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ke LaBonte, Cisco System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Past Chair)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ob Ross, Teraspeed Consulting Grou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e Since 1993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r IBIS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leconference/Web meetings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veral standards and documents and pars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 (about 5-6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ina, Taiwan, Japan, Europe, and USA (2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 with leading expe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Touchstone Spec., IBIS-ISS, MCP, IC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–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urrent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BIS-IS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IBIS-Interconnect Spice Subcircui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BIS-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IBIS-Algorithmic Model Interfa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sible IBIS multi-lingual linkages with IBIS-I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C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– Model Connection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Version 2.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futur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BIS Version 5.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futur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ongoing suppor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maintenan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ality Committee adva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rief Description - 1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* topics toda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-ISS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connection with Sp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stly an HSPICE subset with Synopsys permis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parate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-AMI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leanup of specification (ibischk5 –ami &lt;file&gt; development revealed specification problem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w features under discus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linkage to IBIS-ISS through [External Model] and [External Circuit]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nder discus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lows passing parameters into Spice subcircui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rief Description - 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* topics toda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CP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lows connections to die, package, board, and mor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ecification format being discuss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ignal and power path group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arse matrix mapp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inary forma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ould include IBIS-AMI advance and IBIS-ISS linka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ny BIRDs being process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formatting into true .doc and .pdf document with true graphics (starting with Version 5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rief Description - 3 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* topics toda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0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del extraction and size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wer distribution modeling (SSO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MI/EMC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 Version 5.0.4 and beyond 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w bug fixes and some broken checks fix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w regression test data structure 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ality activities 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nvestigating correlation method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nvestigating general test loads, test data via external files and linkages to IBIS-IS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seful Links Under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me Page: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www.eda.org/ibis/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er5.0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ugust 29, 2008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chk5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5.0.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February 201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uchstone_ver2.0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pril 24.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schk2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December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ver2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ct. 30,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-iss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-I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cent versions 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terconnect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acromode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dvanced Technology Task Group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: work in progr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12193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10-11-02T23:29:09Z</dcterms:modified>
  <cp:revision>734</cp:revision>
  <dc:subject/>
  <dc:title>IBIS</dc:title>
</cp:coreProperties>
</file>