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9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DC432E07-7B9F-490E-ABDE-879F5D4E9C98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a.org/pub/ibis/ibischk5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cent IBIS Activiti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ian IBIS Summ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kyo, Jap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vember 6, 2009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828800" cy="1438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71600" y="281952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(Revised from November 4, 2009 Shanghai, China presen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New IBIS Logo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 Under TechAmerica (via mergers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1268280"/>
            <a:ext cx="55627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IBIS Officers 2009 - 2010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ir: Bob Ross, Teraspeed Consulting Group, (past Chair 1996-2001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ce-Chair: Lance Wang, IO Method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brarian: Anders Ekholm, Ericss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retary: Randy Wolff, Micron Technolo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master: Syed Huq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stmaster: Mike LaBonte, Cisco Syste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ank you Michael Mirmak, Intel Corporation for 6 successful years as Chair and host of previous Asian IBIS Summi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e Since 1993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r IBIS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leconference/Web meetings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veral standards and documents and pars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 (about 5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ina, Japan, Europe, and USA (2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 with leading expe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(ad hoc) - Touchstone Spec., IC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–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“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chk5” Parser Release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bischk5, Version 5.0.0 for IBIS Version 5.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Free executables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Gill Sans MT"/>
                <a:hlinkClick r:id="rId1"/>
              </a:rPr>
              <a:t>http://www.eda.org/pub/ibis/ibischk5/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ource code licenses available for purchase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Supports IBIS Version 5.0 (ratified 2008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Algorithmic model interface for Serdes analysi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Power delivery system SSO and gate modulation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EMI parameter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Other – (area based thresholds)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s all [IBIS Ver] versions of IBIS fi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New Flags in ibischk5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&lt;file_name&gt;.ami (algorithmic model interface control fi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umbere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numbere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ror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ning,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tes and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tion messag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143000"/>
            <a:ext cx="7925040" cy="283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age: ibischk5  -caution -numbered      &lt;IBS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ebd &lt;EBD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pkg &lt;PKG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ibischk5  -caution -numbered -ami &lt;AMI file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e flags prior to the file name can be in any order, and the -caution and/or -numbered flags are op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1981080"/>
            <a:ext cx="281952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286000"/>
            <a:ext cx="144756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3124080"/>
            <a:ext cx="26672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ibischk5 {–numbered} –ami  file4.ami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11430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3886200"/>
            <a:ext cx="6782040" cy="252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ecking file4.ami for IBIS 5.0 Compatibility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Usage value A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Type value B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7 - Illegal Format value C specified for Para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4622 - No Reserved_Parameters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ors  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 F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43434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1600200"/>
            <a:ext cx="83844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Released or Current Project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(Some covered in Agenda*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0 ratified in April 2009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ublic Touchstone parser “tschk2” by Agilent Technologies (2010)*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Future Version 2.1*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Quality Specification Version 2.0 soon*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gorithmic model interface improv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Interconnect Spice Subcircuit Specification – (IBIS-ISS) with Synopsys approval (201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 maintenance and improv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remains active, attracts top talent, and has international particip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5029200"/>
            <a:ext cx="7010280" cy="762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9-10-28T02:13:21Z</dcterms:modified>
  <cp:revision>708</cp:revision>
  <dc:subject/>
  <dc:title>IBIS</dc:title>
</cp:coreProperties>
</file>