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288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3560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751D197-BA3E-4D1C-8C3D-95AE04E6968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3560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23800" y="5010120"/>
            <a:ext cx="502596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My name is Takeshi Watanab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I am Leader of JEITA EDA Working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JEITA is Japan Electronics and Information technology Industries Association and  it make EDA standards in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  <a:ea typeface="ＭＳ Ｐ明朝"/>
              </a:rPr>
              <a:t>And I am working in NECEL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  <a:ea typeface="ＭＳ Ｐ明朝"/>
              </a:rPr>
              <a:t>I am in charge of IBIS Model and EM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  <a:ea typeface="ＭＳ Ｐ明朝"/>
              </a:rPr>
              <a:t>Specifically (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  <a:ea typeface="ＭＳ Ｐ明朝"/>
              </a:rPr>
              <a:t>ｽﾍﾟｼﾌｨｶﾘ）</a:t>
            </a:r>
            <a:r>
              <a:rPr b="0" lang="ja-JP" sz="1600" spc="-1" strike="noStrike">
                <a:solidFill>
                  <a:srgbClr val="0000ff"/>
                </a:solidFill>
                <a:latin typeface="Arial"/>
                <a:ea typeface="ＭＳ Ｐ明朝"/>
              </a:rPr>
              <a:t>, We generate IBIS model of our company’s LSI for customers and other way we develop EMC Simulation technology for LSI and PCB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Well, please let me introduce JEITA EDA-WG Activity and study of Interconnect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First, Micheal-san, BOB-san, Lance-s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We appreciate  your (EIA/IBIS Forum) support and we are glad to have this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D27B-08F8-4016-956B-81CB85B09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51180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278D-5B9A-434A-BFCB-558A3060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6520" y="685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511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56520" y="3511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06D9-5A95-44A9-86EF-DF050E50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2240" y="68580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7640" y="68580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51180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2240" y="351180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7640" y="351180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11C7-FA90-45F8-8C51-976151B88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0E62-D247-4D6F-ADAD-1855003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68CA-23E2-41B7-ACB6-B1C3E73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56520" y="68580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5752-BF95-4D5D-AAB8-4E5389D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A118-9AAE-4E63-A504-40401D51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292C-6693-4BD0-872E-7D313B8A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6520" y="68580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511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94A3-1A78-44D7-AE4B-845A10CB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6520" y="685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6520" y="3511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45EE-237D-49B4-8FC6-72AA91AA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68580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51180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2B6E-C00A-40DD-8DCB-8F556BDA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6ACD-4A7A-4C8D-AA33-8AFBA3A02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7880" y="380988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Tokyo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vember 6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oshihiro Hamaji (Toshiba I.S. Corpora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9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788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IBIS Quality WG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C3CE-7911-4A7E-B0EC-4A0290B046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3360" y="5943600"/>
            <a:ext cx="1689120" cy="3492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28195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1828800">
            <a:off x="2481120" y="2478240"/>
            <a:ext cx="1530360" cy="457200"/>
          </a:xfrm>
          <a:custGeom>
            <a:avLst/>
            <a:gdLst>
              <a:gd name="textAreaLeft" fmla="*/ 239040 w 1530360"/>
              <a:gd name="textAreaRight" fmla="*/ 1339200 w 153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52280" y="4876920"/>
            <a:ext cx="4038840" cy="817560"/>
            <a:chOff x="152280" y="4876920"/>
            <a:chExt cx="4038840" cy="817560"/>
          </a:xfrm>
        </p:grpSpPr>
        <p:grpSp>
          <p:nvGrpSpPr>
            <p:cNvPr id="658" name=""/>
            <p:cNvGrpSpPr/>
            <p:nvPr/>
          </p:nvGrpSpPr>
          <p:grpSpPr>
            <a:xfrm>
              <a:off x="248400" y="4907520"/>
              <a:ext cx="3866400" cy="718920"/>
              <a:chOff x="248400" y="4907520"/>
              <a:chExt cx="3866400" cy="71892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421560" y="5019480"/>
                <a:ext cx="1909440" cy="280080"/>
                <a:chOff x="421560" y="5019480"/>
                <a:chExt cx="1909440" cy="280080"/>
              </a:xfrm>
            </p:grpSpPr>
            <p:sp>
              <p:nvSpPr>
                <p:cNvPr id="660" name=""/>
                <p:cNvSpPr/>
                <p:nvPr/>
              </p:nvSpPr>
              <p:spPr>
                <a:xfrm rot="5400000">
                  <a:off x="426960" y="5013720"/>
                  <a:ext cx="27756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04880" y="5160960"/>
                  <a:ext cx="1364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71480" y="509184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89360" y="5035320"/>
                  <a:ext cx="555840" cy="2642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751040" y="509184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5400000">
                  <a:off x="2047680" y="5013720"/>
                  <a:ext cx="27756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248400" y="529560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26760" y="5157720"/>
                <a:ext cx="9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35200" y="5037480"/>
                <a:ext cx="489600" cy="2379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873800" y="529560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00280" y="529560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90560" y="5364720"/>
                <a:ext cx="5788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490560" y="5019120"/>
                <a:ext cx="0" cy="34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29440" y="5050440"/>
                <a:ext cx="486720" cy="250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48320" y="542592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361320" y="490752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78560" y="529560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152280" y="4876920"/>
              <a:ext cx="4038840" cy="8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838080" cy="579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82320" y="5943600"/>
            <a:ext cx="309492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Qualify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48120" y="228600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181480" y="3809880"/>
            <a:ext cx="685800" cy="581040"/>
            <a:chOff x="5181480" y="3809880"/>
            <a:chExt cx="685800" cy="581040"/>
          </a:xfrm>
        </p:grpSpPr>
        <p:sp>
          <p:nvSpPr>
            <p:cNvPr id="683" name=""/>
            <p:cNvSpPr/>
            <p:nvPr/>
          </p:nvSpPr>
          <p:spPr>
            <a:xfrm>
              <a:off x="5181480" y="38098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5245200" y="3936600"/>
              <a:ext cx="463320" cy="309600"/>
              <a:chOff x="5245200" y="3936600"/>
              <a:chExt cx="463320" cy="309600"/>
            </a:xfrm>
          </p:grpSpPr>
          <p:sp>
            <p:nvSpPr>
              <p:cNvPr id="685" name=""/>
              <p:cNvSpPr/>
              <p:nvPr/>
            </p:nvSpPr>
            <p:spPr>
              <a:xfrm>
                <a:off x="5245200" y="42447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5245200" y="39366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9" name=""/>
          <p:cNvSpPr/>
          <p:nvPr/>
        </p:nvSpPr>
        <p:spPr>
          <a:xfrm>
            <a:off x="5181480" y="330840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7432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505320" y="4114800"/>
            <a:ext cx="685800" cy="581040"/>
            <a:chOff x="3505320" y="4114800"/>
            <a:chExt cx="685800" cy="581040"/>
          </a:xfrm>
        </p:grpSpPr>
        <p:sp>
          <p:nvSpPr>
            <p:cNvPr id="692" name=""/>
            <p:cNvSpPr/>
            <p:nvPr/>
          </p:nvSpPr>
          <p:spPr>
            <a:xfrm>
              <a:off x="3505320" y="41148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569040" y="4241520"/>
              <a:ext cx="463320" cy="309600"/>
              <a:chOff x="3569040" y="4241520"/>
              <a:chExt cx="463320" cy="309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569040" y="45496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3569040" y="42415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600720" y="42987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00720" y="42987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3505320" y="4648320"/>
            <a:ext cx="533160" cy="399960"/>
          </a:xfrm>
          <a:custGeom>
            <a:avLst/>
            <a:gdLst>
              <a:gd name="textAreaLeft" fmla="*/ 0 w 533160"/>
              <a:gd name="textAreaRight" fmla="*/ 53352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4920" y="2438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676520" y="2446200"/>
            <a:ext cx="685800" cy="581040"/>
            <a:chOff x="1676520" y="2446200"/>
            <a:chExt cx="685800" cy="581040"/>
          </a:xfrm>
        </p:grpSpPr>
        <p:sp>
          <p:nvSpPr>
            <p:cNvPr id="701" name=""/>
            <p:cNvSpPr/>
            <p:nvPr/>
          </p:nvSpPr>
          <p:spPr>
            <a:xfrm>
              <a:off x="1676520" y="24462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740240" y="2572920"/>
              <a:ext cx="463320" cy="309600"/>
              <a:chOff x="1740240" y="2572920"/>
              <a:chExt cx="463320" cy="309600"/>
            </a:xfrm>
          </p:grpSpPr>
          <p:sp>
            <p:nvSpPr>
              <p:cNvPr id="703" name=""/>
              <p:cNvSpPr/>
              <p:nvPr/>
            </p:nvSpPr>
            <p:spPr>
              <a:xfrm>
                <a:off x="1740240" y="28810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1740240" y="25729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838080" y="243828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23520" y="221760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8832600">
            <a:off x="2266560" y="4152240"/>
            <a:ext cx="1665360" cy="266760"/>
          </a:xfrm>
          <a:custGeom>
            <a:avLst/>
            <a:gdLst>
              <a:gd name="textAreaLeft" fmla="*/ 259920 w 1665360"/>
              <a:gd name="textAreaRight" fmla="*/ 1457280 w 166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8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09680" y="40384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5240" y="3048120"/>
            <a:ext cx="2379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 the following data to web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golden IBIS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test circuit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)golden results (EXCEL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8040" y="2933640"/>
            <a:ext cx="834840" cy="988920"/>
          </a:xfrm>
          <a:custGeom>
            <a:avLst/>
            <a:gdLst>
              <a:gd name="textAreaLeft" fmla="*/ 12600 w 834840"/>
              <a:gd name="textAreaRight" fmla="*/ 822240 w 834840"/>
              <a:gd name="textAreaTop" fmla="*/ 12600 h 988920"/>
              <a:gd name="textAreaBottom" fmla="*/ 976320 h 988920"/>
            </a:gdLst>
            <a:ahLst/>
            <a:rect l="textAreaLeft" t="textAreaTop" r="textAreaRight" b="textAreaBottom"/>
            <a:pathLst>
              <a:path w="21600" h="25585">
                <a:moveTo>
                  <a:pt x="1124" y="0"/>
                </a:moveTo>
                <a:arcTo wR="1124" hR="1124" stAng="16200000" swAng="-5400000"/>
                <a:lnTo>
                  <a:pt x="0" y="24461"/>
                </a:lnTo>
                <a:arcTo wR="1124" hR="1124" stAng="10800000" swAng="-5400000"/>
                <a:lnTo>
                  <a:pt x="20476" y="25585"/>
                </a:lnTo>
                <a:arcTo wR="1124" hR="1124" stAng="5400000" swAng="-5400000"/>
                <a:lnTo>
                  <a:pt x="21600" y="1124"/>
                </a:lnTo>
                <a:arcTo wR="1124" hR="1124" stAng="0" swAng="-5400000"/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pen s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rot="5400000">
            <a:off x="4152600" y="453348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0" stAng="10800000" swAng="5400000"/>
                <a:lnTo>
                  <a:pt x="13199" y="4050"/>
                </a:lnTo>
                <a:lnTo>
                  <a:pt x="13199" y="0"/>
                </a:lnTo>
                <a:lnTo>
                  <a:pt x="21600" y="6079"/>
                </a:lnTo>
                <a:lnTo>
                  <a:pt x="13199" y="12158"/>
                </a:lnTo>
                <a:lnTo>
                  <a:pt x="13199" y="8108"/>
                </a:lnTo>
                <a:lnTo>
                  <a:pt x="12427" y="8108"/>
                </a:lnTo>
                <a:arcTo wR="8369" hR="4052" stAng="16200000" swAng="-5400000"/>
                <a:lnTo>
                  <a:pt x="4058" y="216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440" y="510552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91120" y="533412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38680" y="3657600"/>
            <a:ext cx="76212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IBIS Quality Framework - Usage(2/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25BA-D69A-44BB-9E9C-D53CFD6A17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3360" y="5943600"/>
            <a:ext cx="1689120" cy="3492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257800" y="28195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828800">
            <a:off x="2481120" y="2478240"/>
            <a:ext cx="1530360" cy="457200"/>
          </a:xfrm>
          <a:custGeom>
            <a:avLst/>
            <a:gdLst>
              <a:gd name="textAreaLeft" fmla="*/ 239040 w 1530360"/>
              <a:gd name="textAreaRight" fmla="*/ 1339200 w 153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52280" y="4876920"/>
            <a:ext cx="4038840" cy="817560"/>
            <a:chOff x="152280" y="4876920"/>
            <a:chExt cx="4038840" cy="817560"/>
          </a:xfrm>
        </p:grpSpPr>
        <p:grpSp>
          <p:nvGrpSpPr>
            <p:cNvPr id="723" name=""/>
            <p:cNvGrpSpPr/>
            <p:nvPr/>
          </p:nvGrpSpPr>
          <p:grpSpPr>
            <a:xfrm>
              <a:off x="248400" y="4907520"/>
              <a:ext cx="3866400" cy="718920"/>
              <a:chOff x="248400" y="4907520"/>
              <a:chExt cx="3866400" cy="71892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421560" y="5019480"/>
                <a:ext cx="1909440" cy="280080"/>
                <a:chOff x="421560" y="5019480"/>
                <a:chExt cx="1909440" cy="280080"/>
              </a:xfrm>
            </p:grpSpPr>
            <p:sp>
              <p:nvSpPr>
                <p:cNvPr id="725" name=""/>
                <p:cNvSpPr/>
                <p:nvPr/>
              </p:nvSpPr>
              <p:spPr>
                <a:xfrm rot="5400000">
                  <a:off x="426960" y="5013720"/>
                  <a:ext cx="27756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04880" y="5160960"/>
                  <a:ext cx="1364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71480" y="509184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089360" y="5035320"/>
                  <a:ext cx="555840" cy="2642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751040" y="509184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5400000">
                  <a:off x="2047680" y="5013720"/>
                  <a:ext cx="27756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"/>
              <p:cNvSpPr/>
              <p:nvPr/>
            </p:nvSpPr>
            <p:spPr>
              <a:xfrm>
                <a:off x="248400" y="529560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26760" y="5157720"/>
                <a:ext cx="9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35200" y="5037480"/>
                <a:ext cx="489600" cy="2379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873800" y="529560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600280" y="529560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490560" y="5364720"/>
                <a:ext cx="5788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3490560" y="5019120"/>
                <a:ext cx="0" cy="34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529440" y="5050440"/>
                <a:ext cx="486720" cy="250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48320" y="542592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61320" y="490752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78560" y="529560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152280" y="4876920"/>
              <a:ext cx="4038840" cy="8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838080" cy="5796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82320" y="5943600"/>
            <a:ext cx="309492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Qualify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228600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181480" y="3809880"/>
            <a:ext cx="685800" cy="581040"/>
            <a:chOff x="5181480" y="3809880"/>
            <a:chExt cx="685800" cy="581040"/>
          </a:xfrm>
        </p:grpSpPr>
        <p:sp>
          <p:nvSpPr>
            <p:cNvPr id="748" name=""/>
            <p:cNvSpPr/>
            <p:nvPr/>
          </p:nvSpPr>
          <p:spPr>
            <a:xfrm>
              <a:off x="5181480" y="38098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5245200" y="3936600"/>
              <a:ext cx="463320" cy="309600"/>
              <a:chOff x="5245200" y="3936600"/>
              <a:chExt cx="463320" cy="309600"/>
            </a:xfrm>
          </p:grpSpPr>
          <p:sp>
            <p:nvSpPr>
              <p:cNvPr id="750" name=""/>
              <p:cNvSpPr/>
              <p:nvPr/>
            </p:nvSpPr>
            <p:spPr>
              <a:xfrm>
                <a:off x="5245200" y="42447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245200" y="39366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4" name=""/>
          <p:cNvSpPr/>
          <p:nvPr/>
        </p:nvSpPr>
        <p:spPr>
          <a:xfrm>
            <a:off x="5181480" y="330840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27432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3505320" y="4114800"/>
            <a:ext cx="685800" cy="581040"/>
            <a:chOff x="3505320" y="4114800"/>
            <a:chExt cx="685800" cy="581040"/>
          </a:xfrm>
        </p:grpSpPr>
        <p:sp>
          <p:nvSpPr>
            <p:cNvPr id="757" name=""/>
            <p:cNvSpPr/>
            <p:nvPr/>
          </p:nvSpPr>
          <p:spPr>
            <a:xfrm>
              <a:off x="3505320" y="41148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569040" y="4241520"/>
              <a:ext cx="463320" cy="309600"/>
              <a:chOff x="3569040" y="4241520"/>
              <a:chExt cx="463320" cy="309600"/>
            </a:xfrm>
          </p:grpSpPr>
          <p:sp>
            <p:nvSpPr>
              <p:cNvPr id="759" name=""/>
              <p:cNvSpPr/>
              <p:nvPr/>
            </p:nvSpPr>
            <p:spPr>
              <a:xfrm>
                <a:off x="3569040" y="45496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3569040" y="42415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00720" y="42987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00720" y="42987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"/>
          <p:cNvSpPr/>
          <p:nvPr/>
        </p:nvSpPr>
        <p:spPr>
          <a:xfrm>
            <a:off x="3505320" y="4648320"/>
            <a:ext cx="533160" cy="399960"/>
          </a:xfrm>
          <a:custGeom>
            <a:avLst/>
            <a:gdLst>
              <a:gd name="textAreaLeft" fmla="*/ 0 w 533160"/>
              <a:gd name="textAreaRight" fmla="*/ 53352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920" y="2438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676520" y="2446200"/>
            <a:ext cx="685800" cy="581040"/>
            <a:chOff x="1676520" y="2446200"/>
            <a:chExt cx="685800" cy="581040"/>
          </a:xfrm>
        </p:grpSpPr>
        <p:sp>
          <p:nvSpPr>
            <p:cNvPr id="766" name=""/>
            <p:cNvSpPr/>
            <p:nvPr/>
          </p:nvSpPr>
          <p:spPr>
            <a:xfrm>
              <a:off x="1676520" y="24462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1740240" y="2572920"/>
              <a:ext cx="463320" cy="309600"/>
              <a:chOff x="1740240" y="2572920"/>
              <a:chExt cx="463320" cy="309600"/>
            </a:xfrm>
          </p:grpSpPr>
          <p:sp>
            <p:nvSpPr>
              <p:cNvPr id="768" name=""/>
              <p:cNvSpPr/>
              <p:nvPr/>
            </p:nvSpPr>
            <p:spPr>
              <a:xfrm>
                <a:off x="1740240" y="28810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1740240" y="25729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838080" y="243828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23520" y="221760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8832600">
            <a:off x="2266560" y="4152240"/>
            <a:ext cx="1665360" cy="266760"/>
          </a:xfrm>
          <a:custGeom>
            <a:avLst/>
            <a:gdLst>
              <a:gd name="textAreaLeft" fmla="*/ 259920 w 1665360"/>
              <a:gd name="textAreaRight" fmla="*/ 1457280 w 166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09680" y="40384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240" y="3048120"/>
            <a:ext cx="2379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 the following data to web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golden IBIS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test circuit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)golden results (EXCEL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8040" y="2933640"/>
            <a:ext cx="834840" cy="988920"/>
          </a:xfrm>
          <a:custGeom>
            <a:avLst/>
            <a:gdLst>
              <a:gd name="textAreaLeft" fmla="*/ 12600 w 834840"/>
              <a:gd name="textAreaRight" fmla="*/ 822240 w 834840"/>
              <a:gd name="textAreaTop" fmla="*/ 12600 h 988920"/>
              <a:gd name="textAreaBottom" fmla="*/ 976320 h 988920"/>
            </a:gdLst>
            <a:ahLst/>
            <a:rect l="textAreaLeft" t="textAreaTop" r="textAreaRight" b="textAreaBottom"/>
            <a:pathLst>
              <a:path w="21600" h="25585">
                <a:moveTo>
                  <a:pt x="1124" y="0"/>
                </a:moveTo>
                <a:arcTo wR="1124" hR="1124" stAng="16200000" swAng="-5400000"/>
                <a:lnTo>
                  <a:pt x="0" y="24461"/>
                </a:lnTo>
                <a:arcTo wR="1124" hR="1124" stAng="10800000" swAng="-5400000"/>
                <a:lnTo>
                  <a:pt x="20476" y="25585"/>
                </a:lnTo>
                <a:arcTo wR="1124" hR="1124" stAng="5400000" swAng="-5400000"/>
                <a:lnTo>
                  <a:pt x="21600" y="1124"/>
                </a:lnTo>
                <a:arcTo wR="1124" hR="1124" stAng="0" swAng="-5400000"/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pen s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rot="5400000">
            <a:off x="4152600" y="453348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0" stAng="10800000" swAng="5400000"/>
                <a:lnTo>
                  <a:pt x="13199" y="4050"/>
                </a:lnTo>
                <a:lnTo>
                  <a:pt x="13199" y="0"/>
                </a:lnTo>
                <a:lnTo>
                  <a:pt x="21600" y="6079"/>
                </a:lnTo>
                <a:lnTo>
                  <a:pt x="13199" y="12158"/>
                </a:lnTo>
                <a:lnTo>
                  <a:pt x="13199" y="8108"/>
                </a:lnTo>
                <a:lnTo>
                  <a:pt x="12427" y="8108"/>
                </a:lnTo>
                <a:arcTo wR="8369" hR="4052" stAng="16200000" swAng="-5400000"/>
                <a:lnTo>
                  <a:pt x="4058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67440" y="510552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91120" y="533412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638680" y="3657600"/>
            <a:ext cx="76212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14800" y="5867280"/>
            <a:ext cx="1523880" cy="3873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hip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791320" y="4295880"/>
            <a:ext cx="3266280" cy="1473120"/>
            <a:chOff x="5791320" y="4295880"/>
            <a:chExt cx="3266280" cy="1473120"/>
          </a:xfrm>
        </p:grpSpPr>
        <p:grpSp>
          <p:nvGrpSpPr>
            <p:cNvPr id="784" name=""/>
            <p:cNvGrpSpPr/>
            <p:nvPr/>
          </p:nvGrpSpPr>
          <p:grpSpPr>
            <a:xfrm>
              <a:off x="5791320" y="4295880"/>
              <a:ext cx="3266280" cy="1473120"/>
              <a:chOff x="5791320" y="4295880"/>
              <a:chExt cx="3266280" cy="147312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5990040" y="5258160"/>
                <a:ext cx="1564200" cy="230400"/>
                <a:chOff x="5990040" y="5258160"/>
                <a:chExt cx="1564200" cy="230400"/>
              </a:xfrm>
            </p:grpSpPr>
            <p:sp>
              <p:nvSpPr>
                <p:cNvPr id="786" name=""/>
                <p:cNvSpPr/>
                <p:nvPr/>
              </p:nvSpPr>
              <p:spPr>
                <a:xfrm rot="5400000">
                  <a:off x="5994000" y="5253840"/>
                  <a:ext cx="22824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222240" y="5374440"/>
                  <a:ext cx="1117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276960" y="5317920"/>
                  <a:ext cx="173160" cy="1245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37240" y="5271120"/>
                  <a:ext cx="455400" cy="2174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079760" y="5317920"/>
                  <a:ext cx="173160" cy="1245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7321680" y="5253840"/>
                  <a:ext cx="22824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5848200" y="5484960"/>
                <a:ext cx="453240" cy="255600"/>
              </a:xfrm>
              <a:prstGeom prst="upArrowCallout">
                <a:avLst>
                  <a:gd name="adj1" fmla="val 44335"/>
                  <a:gd name="adj2" fmla="val 41096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BI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33440" y="5372280"/>
                <a:ext cx="79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03360" y="5303880"/>
                <a:ext cx="401400" cy="13428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79840" y="5484960"/>
                <a:ext cx="453600" cy="255600"/>
              </a:xfrm>
              <a:prstGeom prst="upArrowCallout">
                <a:avLst>
                  <a:gd name="adj1" fmla="val 44370"/>
                  <a:gd name="adj2" fmla="val 41129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BI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75640" y="5484960"/>
                <a:ext cx="453600" cy="255600"/>
              </a:xfrm>
              <a:prstGeom prst="upArrowCallout">
                <a:avLst>
                  <a:gd name="adj1" fmla="val 44370"/>
                  <a:gd name="adj2" fmla="val 41129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5990040" y="4476960"/>
                <a:ext cx="1564200" cy="230040"/>
                <a:chOff x="5990040" y="4476960"/>
                <a:chExt cx="1564200" cy="230040"/>
              </a:xfrm>
            </p:grpSpPr>
            <p:sp>
              <p:nvSpPr>
                <p:cNvPr id="798" name=""/>
                <p:cNvSpPr/>
                <p:nvPr/>
              </p:nvSpPr>
              <p:spPr>
                <a:xfrm rot="5400000">
                  <a:off x="5994360" y="4472640"/>
                  <a:ext cx="22788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222240" y="4592880"/>
                  <a:ext cx="1117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276960" y="4536360"/>
                  <a:ext cx="173160" cy="124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537240" y="4489920"/>
                  <a:ext cx="455400" cy="2170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079760" y="4536360"/>
                  <a:ext cx="173160" cy="124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5400000">
                  <a:off x="7322040" y="4472640"/>
                  <a:ext cx="22788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5848200" y="4703400"/>
                <a:ext cx="453240" cy="254160"/>
              </a:xfrm>
              <a:prstGeom prst="upArrowCallout">
                <a:avLst>
                  <a:gd name="adj1" fmla="val 44586"/>
                  <a:gd name="adj2" fmla="val 41329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I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33440" y="4589640"/>
                <a:ext cx="79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803360" y="4522320"/>
                <a:ext cx="401400" cy="13428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79840" y="4703400"/>
                <a:ext cx="453600" cy="254160"/>
              </a:xfrm>
              <a:prstGeom prst="upArrowCallout">
                <a:avLst>
                  <a:gd name="adj1" fmla="val 44622"/>
                  <a:gd name="adj2" fmla="val 41362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I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775640" y="4703400"/>
                <a:ext cx="453600" cy="254160"/>
              </a:xfrm>
              <a:prstGeom prst="upArrowCallout">
                <a:avLst>
                  <a:gd name="adj1" fmla="val 44622"/>
                  <a:gd name="adj2" fmla="val 41362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04280" y="4719960"/>
                <a:ext cx="474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8504280" y="4406040"/>
                <a:ext cx="0" cy="31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537040" y="4462920"/>
                <a:ext cx="398880" cy="2048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715240" y="4730400"/>
                <a:ext cx="342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398800" y="4307040"/>
                <a:ext cx="421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04280" y="5541840"/>
                <a:ext cx="474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8504280" y="5227920"/>
                <a:ext cx="0" cy="31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37040" y="5284800"/>
                <a:ext cx="398880" cy="2048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715240" y="5555880"/>
                <a:ext cx="342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397360" y="5127840"/>
                <a:ext cx="421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91320" y="4295880"/>
                <a:ext cx="3231000" cy="147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56680" y="4719960"/>
                <a:ext cx="453240" cy="510120"/>
              </a:xfrm>
              <a:custGeom>
                <a:avLst/>
                <a:gdLst>
                  <a:gd name="textAreaLeft" fmla="*/ 0 w 453240"/>
                  <a:gd name="textAreaRight" fmla="*/ 453600 w 453240"/>
                  <a:gd name="textAreaTop" fmla="*/ 158760 h 510120"/>
                  <a:gd name="textAreaBottom" fmla="*/ 351360 h 51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6725"/>
                    </a:moveTo>
                    <a:lnTo>
                      <a:pt x="0" y="14875"/>
                    </a:lnTo>
                    <a:lnTo>
                      <a:pt x="8100" y="14875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4875"/>
                    </a:lnTo>
                    <a:lnTo>
                      <a:pt x="21600" y="14875"/>
                    </a:lnTo>
                    <a:lnTo>
                      <a:pt x="21600" y="6725"/>
                    </a:lnTo>
                    <a:lnTo>
                      <a:pt x="13500" y="6725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6725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8458200" y="4800600"/>
              <a:ext cx="533520" cy="3999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100080 h 399960"/>
                <a:gd name="textAreaBottom" fmla="*/ 30024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gre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 rot="3112800">
            <a:off x="4831920" y="4692240"/>
            <a:ext cx="965160" cy="266760"/>
          </a:xfrm>
          <a:custGeom>
            <a:avLst/>
            <a:gdLst>
              <a:gd name="textAreaLeft" fmla="*/ 150840 w 965160"/>
              <a:gd name="textAreaRight" fmla="*/ 844560 w 9651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228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105520" y="44956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IBIS Quality Framework - Usage(3/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6" name=""/>
          <p:cNvSpPr/>
          <p:nvPr/>
        </p:nvSpPr>
        <p:spPr>
          <a:xfrm>
            <a:off x="5670720" y="5791320"/>
            <a:ext cx="342900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vide the qualified 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878E-0E4D-4439-88F4-7C3094136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3360" y="5943600"/>
            <a:ext cx="1689120" cy="3492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57800" y="28195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828800">
            <a:off x="2481120" y="2478240"/>
            <a:ext cx="1530360" cy="457200"/>
          </a:xfrm>
          <a:custGeom>
            <a:avLst/>
            <a:gdLst>
              <a:gd name="textAreaLeft" fmla="*/ 239040 w 1530360"/>
              <a:gd name="textAreaRight" fmla="*/ 1339200 w 153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52280" y="4876920"/>
            <a:ext cx="4038840" cy="817560"/>
            <a:chOff x="152280" y="4876920"/>
            <a:chExt cx="4038840" cy="817560"/>
          </a:xfrm>
        </p:grpSpPr>
        <p:grpSp>
          <p:nvGrpSpPr>
            <p:cNvPr id="831" name=""/>
            <p:cNvGrpSpPr/>
            <p:nvPr/>
          </p:nvGrpSpPr>
          <p:grpSpPr>
            <a:xfrm>
              <a:off x="248400" y="4907520"/>
              <a:ext cx="3866400" cy="718920"/>
              <a:chOff x="248400" y="4907520"/>
              <a:chExt cx="3866400" cy="7189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421560" y="5019480"/>
                <a:ext cx="1909440" cy="280080"/>
                <a:chOff x="421560" y="5019480"/>
                <a:chExt cx="1909440" cy="280080"/>
              </a:xfrm>
            </p:grpSpPr>
            <p:sp>
              <p:nvSpPr>
                <p:cNvPr id="833" name=""/>
                <p:cNvSpPr/>
                <p:nvPr/>
              </p:nvSpPr>
              <p:spPr>
                <a:xfrm rot="5400000">
                  <a:off x="426960" y="5013720"/>
                  <a:ext cx="27756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04880" y="5160960"/>
                  <a:ext cx="1364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71480" y="509184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089360" y="5035320"/>
                  <a:ext cx="555840" cy="2642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751040" y="509184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5400000">
                  <a:off x="2047680" y="5013720"/>
                  <a:ext cx="27756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248400" y="529560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426760" y="5157720"/>
                <a:ext cx="9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635200" y="5037480"/>
                <a:ext cx="489600" cy="2379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73800" y="529560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600280" y="529560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490560" y="5364720"/>
                <a:ext cx="5788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3490560" y="5019120"/>
                <a:ext cx="0" cy="34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529440" y="5050440"/>
                <a:ext cx="486720" cy="250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48320" y="542592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61320" y="490752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78560" y="529560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52280" y="4876920"/>
              <a:ext cx="4038840" cy="8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838080" cy="5796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82320" y="5943600"/>
            <a:ext cx="309492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Qualify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48120" y="228600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5181480" y="3809880"/>
            <a:ext cx="685800" cy="581040"/>
            <a:chOff x="5181480" y="3809880"/>
            <a:chExt cx="685800" cy="581040"/>
          </a:xfrm>
        </p:grpSpPr>
        <p:sp>
          <p:nvSpPr>
            <p:cNvPr id="856" name=""/>
            <p:cNvSpPr/>
            <p:nvPr/>
          </p:nvSpPr>
          <p:spPr>
            <a:xfrm>
              <a:off x="5181480" y="38098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5245200" y="3936600"/>
              <a:ext cx="463320" cy="309600"/>
              <a:chOff x="5245200" y="3936600"/>
              <a:chExt cx="463320" cy="309600"/>
            </a:xfrm>
          </p:grpSpPr>
          <p:sp>
            <p:nvSpPr>
              <p:cNvPr id="858" name=""/>
              <p:cNvSpPr/>
              <p:nvPr/>
            </p:nvSpPr>
            <p:spPr>
              <a:xfrm>
                <a:off x="5245200" y="42447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5245200" y="39366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2" name=""/>
          <p:cNvSpPr/>
          <p:nvPr/>
        </p:nvSpPr>
        <p:spPr>
          <a:xfrm>
            <a:off x="5181480" y="330840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029200" y="27432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3505320" y="4114800"/>
            <a:ext cx="685800" cy="581040"/>
            <a:chOff x="3505320" y="4114800"/>
            <a:chExt cx="685800" cy="581040"/>
          </a:xfrm>
        </p:grpSpPr>
        <p:sp>
          <p:nvSpPr>
            <p:cNvPr id="865" name=""/>
            <p:cNvSpPr/>
            <p:nvPr/>
          </p:nvSpPr>
          <p:spPr>
            <a:xfrm>
              <a:off x="3505320" y="41148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569040" y="4241520"/>
              <a:ext cx="463320" cy="309600"/>
              <a:chOff x="3569040" y="4241520"/>
              <a:chExt cx="463320" cy="309600"/>
            </a:xfrm>
          </p:grpSpPr>
          <p:sp>
            <p:nvSpPr>
              <p:cNvPr id="867" name=""/>
              <p:cNvSpPr/>
              <p:nvPr/>
            </p:nvSpPr>
            <p:spPr>
              <a:xfrm>
                <a:off x="3569040" y="45496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3569040" y="42415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00720" y="42987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00720" y="42987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1" name=""/>
          <p:cNvSpPr/>
          <p:nvPr/>
        </p:nvSpPr>
        <p:spPr>
          <a:xfrm>
            <a:off x="3505320" y="4648320"/>
            <a:ext cx="533160" cy="399960"/>
          </a:xfrm>
          <a:custGeom>
            <a:avLst/>
            <a:gdLst>
              <a:gd name="textAreaLeft" fmla="*/ 0 w 533160"/>
              <a:gd name="textAreaRight" fmla="*/ 53352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2438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676520" y="2446200"/>
            <a:ext cx="685800" cy="581040"/>
            <a:chOff x="1676520" y="2446200"/>
            <a:chExt cx="685800" cy="581040"/>
          </a:xfrm>
        </p:grpSpPr>
        <p:sp>
          <p:nvSpPr>
            <p:cNvPr id="874" name=""/>
            <p:cNvSpPr/>
            <p:nvPr/>
          </p:nvSpPr>
          <p:spPr>
            <a:xfrm>
              <a:off x="1676520" y="24462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740240" y="2572920"/>
              <a:ext cx="463320" cy="309600"/>
              <a:chOff x="1740240" y="2572920"/>
              <a:chExt cx="463320" cy="309600"/>
            </a:xfrm>
          </p:grpSpPr>
          <p:sp>
            <p:nvSpPr>
              <p:cNvPr id="876" name=""/>
              <p:cNvSpPr/>
              <p:nvPr/>
            </p:nvSpPr>
            <p:spPr>
              <a:xfrm>
                <a:off x="1740240" y="28810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740240" y="25729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0" name=""/>
          <p:cNvSpPr/>
          <p:nvPr/>
        </p:nvSpPr>
        <p:spPr>
          <a:xfrm>
            <a:off x="838080" y="243828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520" y="221760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8832600">
            <a:off x="2266560" y="4152240"/>
            <a:ext cx="1665360" cy="266760"/>
          </a:xfrm>
          <a:custGeom>
            <a:avLst/>
            <a:gdLst>
              <a:gd name="textAreaLeft" fmla="*/ 259920 w 1665360"/>
              <a:gd name="textAreaRight" fmla="*/ 1457280 w 166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09680" y="40384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5240" y="3048120"/>
            <a:ext cx="2379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 the following data to web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golden IBIS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test circuit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)golden results (EXCEL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18040" y="2933640"/>
            <a:ext cx="834840" cy="988920"/>
          </a:xfrm>
          <a:custGeom>
            <a:avLst/>
            <a:gdLst>
              <a:gd name="textAreaLeft" fmla="*/ 12600 w 834840"/>
              <a:gd name="textAreaRight" fmla="*/ 822240 w 834840"/>
              <a:gd name="textAreaTop" fmla="*/ 12600 h 988920"/>
              <a:gd name="textAreaBottom" fmla="*/ 976320 h 988920"/>
            </a:gdLst>
            <a:ahLst/>
            <a:rect l="textAreaLeft" t="textAreaTop" r="textAreaRight" b="textAreaBottom"/>
            <a:pathLst>
              <a:path w="21600" h="25585">
                <a:moveTo>
                  <a:pt x="1124" y="0"/>
                </a:moveTo>
                <a:arcTo wR="1124" hR="1124" stAng="16200000" swAng="-5400000"/>
                <a:lnTo>
                  <a:pt x="0" y="24461"/>
                </a:lnTo>
                <a:arcTo wR="1124" hR="1124" stAng="10800000" swAng="-5400000"/>
                <a:lnTo>
                  <a:pt x="20476" y="25585"/>
                </a:lnTo>
                <a:arcTo wR="1124" hR="1124" stAng="5400000" swAng="-5400000"/>
                <a:lnTo>
                  <a:pt x="21600" y="1124"/>
                </a:lnTo>
                <a:arcTo wR="1124" hR="1124" stAng="0" swAng="-5400000"/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pen s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rot="5400000">
            <a:off x="4152600" y="453348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0" stAng="10800000" swAng="5400000"/>
                <a:lnTo>
                  <a:pt x="13199" y="4050"/>
                </a:lnTo>
                <a:lnTo>
                  <a:pt x="13199" y="0"/>
                </a:lnTo>
                <a:lnTo>
                  <a:pt x="21600" y="6079"/>
                </a:lnTo>
                <a:lnTo>
                  <a:pt x="13199" y="12158"/>
                </a:lnTo>
                <a:lnTo>
                  <a:pt x="13199" y="8108"/>
                </a:lnTo>
                <a:lnTo>
                  <a:pt x="12427" y="8108"/>
                </a:lnTo>
                <a:arcTo wR="8369" hR="4052" stAng="16200000" swAng="-5400000"/>
                <a:lnTo>
                  <a:pt x="4058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267440" y="510552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91120" y="533412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3657600"/>
            <a:ext cx="76212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14800" y="5867280"/>
            <a:ext cx="1523880" cy="3873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hip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5791320" y="4295880"/>
            <a:ext cx="3266280" cy="1473120"/>
            <a:chOff x="5791320" y="4295880"/>
            <a:chExt cx="3266280" cy="1473120"/>
          </a:xfrm>
        </p:grpSpPr>
        <p:grpSp>
          <p:nvGrpSpPr>
            <p:cNvPr id="892" name=""/>
            <p:cNvGrpSpPr/>
            <p:nvPr/>
          </p:nvGrpSpPr>
          <p:grpSpPr>
            <a:xfrm>
              <a:off x="5791320" y="4295880"/>
              <a:ext cx="3266280" cy="1473120"/>
              <a:chOff x="5791320" y="4295880"/>
              <a:chExt cx="3266280" cy="147312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5990040" y="5258160"/>
                <a:ext cx="1564200" cy="230400"/>
                <a:chOff x="5990040" y="5258160"/>
                <a:chExt cx="1564200" cy="230400"/>
              </a:xfrm>
            </p:grpSpPr>
            <p:sp>
              <p:nvSpPr>
                <p:cNvPr id="894" name=""/>
                <p:cNvSpPr/>
                <p:nvPr/>
              </p:nvSpPr>
              <p:spPr>
                <a:xfrm rot="5400000">
                  <a:off x="5994000" y="5253840"/>
                  <a:ext cx="22824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222240" y="5374440"/>
                  <a:ext cx="1117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276960" y="5317920"/>
                  <a:ext cx="173160" cy="1245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37240" y="5271120"/>
                  <a:ext cx="455400" cy="2174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079760" y="5317920"/>
                  <a:ext cx="173160" cy="1245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rot="5400000">
                  <a:off x="7321680" y="5253840"/>
                  <a:ext cx="22824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>
                <a:off x="5848200" y="5484960"/>
                <a:ext cx="453240" cy="255600"/>
              </a:xfrm>
              <a:prstGeom prst="upArrowCallout">
                <a:avLst>
                  <a:gd name="adj1" fmla="val 44335"/>
                  <a:gd name="adj2" fmla="val 41096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BI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33440" y="5372280"/>
                <a:ext cx="79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03360" y="5303880"/>
                <a:ext cx="401400" cy="13428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179840" y="5484960"/>
                <a:ext cx="453600" cy="255600"/>
              </a:xfrm>
              <a:prstGeom prst="upArrowCallout">
                <a:avLst>
                  <a:gd name="adj1" fmla="val 44370"/>
                  <a:gd name="adj2" fmla="val 41129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BI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75640" y="5484960"/>
                <a:ext cx="453600" cy="255600"/>
              </a:xfrm>
              <a:prstGeom prst="upArrowCallout">
                <a:avLst>
                  <a:gd name="adj1" fmla="val 44370"/>
                  <a:gd name="adj2" fmla="val 41129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5990040" y="4476960"/>
                <a:ext cx="1564200" cy="230040"/>
                <a:chOff x="5990040" y="4476960"/>
                <a:chExt cx="1564200" cy="230040"/>
              </a:xfrm>
            </p:grpSpPr>
            <p:sp>
              <p:nvSpPr>
                <p:cNvPr id="906" name=""/>
                <p:cNvSpPr/>
                <p:nvPr/>
              </p:nvSpPr>
              <p:spPr>
                <a:xfrm rot="5400000">
                  <a:off x="5994360" y="4472640"/>
                  <a:ext cx="22788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222240" y="4592880"/>
                  <a:ext cx="1117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276960" y="4536360"/>
                  <a:ext cx="173160" cy="124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537240" y="4489920"/>
                  <a:ext cx="455400" cy="2170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079760" y="4536360"/>
                  <a:ext cx="173160" cy="124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rot="5400000">
                  <a:off x="7322040" y="4472640"/>
                  <a:ext cx="227880" cy="236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"/>
              <p:cNvSpPr/>
              <p:nvPr/>
            </p:nvSpPr>
            <p:spPr>
              <a:xfrm>
                <a:off x="5848200" y="4703400"/>
                <a:ext cx="453240" cy="254160"/>
              </a:xfrm>
              <a:prstGeom prst="upArrowCallout">
                <a:avLst>
                  <a:gd name="adj1" fmla="val 44586"/>
                  <a:gd name="adj2" fmla="val 41329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I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633440" y="4589640"/>
                <a:ext cx="79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03360" y="4522320"/>
                <a:ext cx="401400" cy="13428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179840" y="4703400"/>
                <a:ext cx="453600" cy="254160"/>
              </a:xfrm>
              <a:prstGeom prst="upArrowCallout">
                <a:avLst>
                  <a:gd name="adj1" fmla="val 44622"/>
                  <a:gd name="adj2" fmla="val 41362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I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75640" y="4703400"/>
                <a:ext cx="453600" cy="254160"/>
              </a:xfrm>
              <a:prstGeom prst="upArrowCallout">
                <a:avLst>
                  <a:gd name="adj1" fmla="val 44622"/>
                  <a:gd name="adj2" fmla="val 41362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504280" y="4719960"/>
                <a:ext cx="474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8504280" y="4406040"/>
                <a:ext cx="0" cy="31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37040" y="4462920"/>
                <a:ext cx="398880" cy="2048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715240" y="4730400"/>
                <a:ext cx="342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398800" y="4307040"/>
                <a:ext cx="421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504280" y="5541840"/>
                <a:ext cx="474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8504280" y="5227920"/>
                <a:ext cx="0" cy="31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537040" y="5284800"/>
                <a:ext cx="398880" cy="2048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715240" y="5555880"/>
                <a:ext cx="342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397360" y="5127840"/>
                <a:ext cx="421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91320" y="4295880"/>
                <a:ext cx="3231000" cy="147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556680" y="4719960"/>
                <a:ext cx="453240" cy="510120"/>
              </a:xfrm>
              <a:custGeom>
                <a:avLst/>
                <a:gdLst>
                  <a:gd name="textAreaLeft" fmla="*/ 0 w 453240"/>
                  <a:gd name="textAreaRight" fmla="*/ 453600 w 453240"/>
                  <a:gd name="textAreaTop" fmla="*/ 158760 h 510120"/>
                  <a:gd name="textAreaBottom" fmla="*/ 351360 h 51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6725"/>
                    </a:moveTo>
                    <a:lnTo>
                      <a:pt x="0" y="14875"/>
                    </a:lnTo>
                    <a:lnTo>
                      <a:pt x="8100" y="14875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4875"/>
                    </a:lnTo>
                    <a:lnTo>
                      <a:pt x="21600" y="14875"/>
                    </a:lnTo>
                    <a:lnTo>
                      <a:pt x="21600" y="6725"/>
                    </a:lnTo>
                    <a:lnTo>
                      <a:pt x="13500" y="6725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6725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8458200" y="4800600"/>
              <a:ext cx="533520" cy="3999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100080 h 399960"/>
                <a:gd name="textAreaBottom" fmla="*/ 300240 h 39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gre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 rot="3112800">
            <a:off x="4831920" y="4692240"/>
            <a:ext cx="965160" cy="266760"/>
          </a:xfrm>
          <a:custGeom>
            <a:avLst/>
            <a:gdLst>
              <a:gd name="textAreaLeft" fmla="*/ 150840 w 965160"/>
              <a:gd name="textAreaRight" fmla="*/ 844560 w 9651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05520" y="44956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07000" y="838080"/>
            <a:ext cx="1527120" cy="3873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229280" y="1295280"/>
            <a:ext cx="4038480" cy="817560"/>
            <a:chOff x="4229280" y="1295280"/>
            <a:chExt cx="4038480" cy="817560"/>
          </a:xfrm>
        </p:grpSpPr>
        <p:grpSp>
          <p:nvGrpSpPr>
            <p:cNvPr id="934" name=""/>
            <p:cNvGrpSpPr/>
            <p:nvPr/>
          </p:nvGrpSpPr>
          <p:grpSpPr>
            <a:xfrm>
              <a:off x="4325400" y="1325880"/>
              <a:ext cx="3867480" cy="718920"/>
              <a:chOff x="4325400" y="1325880"/>
              <a:chExt cx="3867480" cy="71892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4498200" y="1437840"/>
                <a:ext cx="1910160" cy="280080"/>
                <a:chOff x="4498200" y="1437840"/>
                <a:chExt cx="1910160" cy="280080"/>
              </a:xfrm>
            </p:grpSpPr>
            <p:sp>
              <p:nvSpPr>
                <p:cNvPr id="936" name=""/>
                <p:cNvSpPr/>
                <p:nvPr/>
              </p:nvSpPr>
              <p:spPr>
                <a:xfrm rot="5400000">
                  <a:off x="4503960" y="1432080"/>
                  <a:ext cx="277560" cy="28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781880" y="1579320"/>
                  <a:ext cx="1364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848480" y="151020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166360" y="1453680"/>
                  <a:ext cx="555840" cy="2642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828400" y="1510200"/>
                  <a:ext cx="211680" cy="151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5400000">
                  <a:off x="6125040" y="1432080"/>
                  <a:ext cx="277560" cy="28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2" name=""/>
              <p:cNvSpPr/>
              <p:nvPr/>
            </p:nvSpPr>
            <p:spPr>
              <a:xfrm>
                <a:off x="4325400" y="171396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503760" y="1576080"/>
                <a:ext cx="9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712200" y="1455840"/>
                <a:ext cx="489600" cy="23796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951160" y="171396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677280" y="1713960"/>
                <a:ext cx="553680" cy="311040"/>
              </a:xfrm>
              <a:prstGeom prst="upArrowCallout">
                <a:avLst>
                  <a:gd name="adj1" fmla="val 44506"/>
                  <a:gd name="adj2" fmla="val 41255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67560" y="1783080"/>
                <a:ext cx="5788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7567560" y="1437480"/>
                <a:ext cx="0" cy="34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6800" y="1468800"/>
                <a:ext cx="486720" cy="250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826400" y="184428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39400" y="132588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155560" y="1713960"/>
                <a:ext cx="552600" cy="311040"/>
              </a:xfrm>
              <a:prstGeom prst="upArrowCallout">
                <a:avLst>
                  <a:gd name="adj1" fmla="val 44420"/>
                  <a:gd name="adj2" fmla="val 41175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4229280" y="1295280"/>
              <a:ext cx="4038480" cy="8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8381880" y="1295280"/>
            <a:ext cx="665280" cy="75888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5055480" y="531720"/>
            <a:ext cx="3827520" cy="750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Get the qualified 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Get the ability to carry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rrect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16200000">
            <a:off x="4217040" y="2354760"/>
            <a:ext cx="709560" cy="266400"/>
          </a:xfrm>
          <a:custGeom>
            <a:avLst/>
            <a:gdLst>
              <a:gd name="textAreaLeft" fmla="*/ 110880 w 709560"/>
              <a:gd name="textAreaRight" fmla="*/ 621000 w 709560"/>
              <a:gd name="textAreaTop" fmla="*/ 66600 h 266400"/>
              <a:gd name="textAreaBottom" fmla="*/ 199800 h 266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22760" y="236232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7543800" y="2133720"/>
            <a:ext cx="685800" cy="581040"/>
            <a:chOff x="7543800" y="2133720"/>
            <a:chExt cx="685800" cy="581040"/>
          </a:xfrm>
        </p:grpSpPr>
        <p:sp>
          <p:nvSpPr>
            <p:cNvPr id="959" name=""/>
            <p:cNvSpPr/>
            <p:nvPr/>
          </p:nvSpPr>
          <p:spPr>
            <a:xfrm>
              <a:off x="7543800" y="213372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7607520" y="2260440"/>
              <a:ext cx="463320" cy="309600"/>
              <a:chOff x="7607520" y="2260440"/>
              <a:chExt cx="463320" cy="309600"/>
            </a:xfrm>
          </p:grpSpPr>
          <p:sp>
            <p:nvSpPr>
              <p:cNvPr id="961" name=""/>
              <p:cNvSpPr/>
              <p:nvPr/>
            </p:nvSpPr>
            <p:spPr>
              <a:xfrm>
                <a:off x="7607520" y="256860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7607520" y="226044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639200" y="231768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39200" y="231768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5" name=""/>
          <p:cNvSpPr/>
          <p:nvPr/>
        </p:nvSpPr>
        <p:spPr>
          <a:xfrm>
            <a:off x="7543800" y="1828800"/>
            <a:ext cx="533520" cy="399960"/>
          </a:xfrm>
          <a:custGeom>
            <a:avLst/>
            <a:gdLst>
              <a:gd name="textAreaLeft" fmla="*/ 0 w 533520"/>
              <a:gd name="textAreaRight" fmla="*/ 53388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6846480" y="2209680"/>
            <a:ext cx="11160" cy="1981440"/>
          </a:xfrm>
          <a:prstGeom prst="line">
            <a:avLst/>
          </a:prstGeom>
          <a:ln w="12708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553080" y="3505320"/>
            <a:ext cx="60984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lif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IBIS Quality Framework - Usage(4/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0" name=""/>
          <p:cNvSpPr/>
          <p:nvPr/>
        </p:nvSpPr>
        <p:spPr>
          <a:xfrm>
            <a:off x="5670720" y="5791320"/>
            <a:ext cx="3429000" cy="96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vide the qualified 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educe possibility to 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nreasonable claim for released 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899A-C7B5-497A-A80E-72C0E45468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Method(1/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920" y="838080"/>
            <a:ext cx="380988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4" name=""/>
          <p:cNvSpPr/>
          <p:nvPr/>
        </p:nvSpPr>
        <p:spPr>
          <a:xfrm>
            <a:off x="2590920" y="1295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514600" y="2286000"/>
            <a:ext cx="685800" cy="581040"/>
            <a:chOff x="2514600" y="2286000"/>
            <a:chExt cx="685800" cy="581040"/>
          </a:xfrm>
        </p:grpSpPr>
        <p:sp>
          <p:nvSpPr>
            <p:cNvPr id="977" name=""/>
            <p:cNvSpPr/>
            <p:nvPr/>
          </p:nvSpPr>
          <p:spPr>
            <a:xfrm>
              <a:off x="251460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2578320" y="2412720"/>
              <a:ext cx="463320" cy="309600"/>
              <a:chOff x="2578320" y="2412720"/>
              <a:chExt cx="463320" cy="309600"/>
            </a:xfrm>
          </p:grpSpPr>
          <p:sp>
            <p:nvSpPr>
              <p:cNvPr id="979" name=""/>
              <p:cNvSpPr/>
              <p:nvPr/>
            </p:nvSpPr>
            <p:spPr>
              <a:xfrm>
                <a:off x="257832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257832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3" name=""/>
          <p:cNvSpPr/>
          <p:nvPr/>
        </p:nvSpPr>
        <p:spPr>
          <a:xfrm>
            <a:off x="2514600" y="178452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429000" y="12859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314880" y="1790640"/>
            <a:ext cx="76176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276720" y="2286000"/>
            <a:ext cx="685800" cy="581040"/>
            <a:chOff x="3276720" y="2286000"/>
            <a:chExt cx="685800" cy="581040"/>
          </a:xfrm>
        </p:grpSpPr>
        <p:sp>
          <p:nvSpPr>
            <p:cNvPr id="987" name=""/>
            <p:cNvSpPr/>
            <p:nvPr/>
          </p:nvSpPr>
          <p:spPr>
            <a:xfrm>
              <a:off x="327672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340440" y="2412720"/>
              <a:ext cx="463320" cy="309600"/>
              <a:chOff x="3340440" y="2412720"/>
              <a:chExt cx="463320" cy="309600"/>
            </a:xfrm>
          </p:grpSpPr>
          <p:sp>
            <p:nvSpPr>
              <p:cNvPr id="989" name=""/>
              <p:cNvSpPr/>
              <p:nvPr/>
            </p:nvSpPr>
            <p:spPr>
              <a:xfrm>
                <a:off x="334044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334044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3" name=""/>
          <p:cNvSpPr/>
          <p:nvPr/>
        </p:nvSpPr>
        <p:spPr>
          <a:xfrm>
            <a:off x="267372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48336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867280" y="762120"/>
            <a:ext cx="30481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609480"/>
            <a:ext cx="1523880" cy="3873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hip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172200" y="1066680"/>
            <a:ext cx="2665440" cy="1079280"/>
            <a:chOff x="6172200" y="1066680"/>
            <a:chExt cx="2665440" cy="1079280"/>
          </a:xfrm>
        </p:grpSpPr>
        <p:grpSp>
          <p:nvGrpSpPr>
            <p:cNvPr id="998" name=""/>
            <p:cNvGrpSpPr/>
            <p:nvPr/>
          </p:nvGrpSpPr>
          <p:grpSpPr>
            <a:xfrm>
              <a:off x="6172200" y="1066680"/>
              <a:ext cx="2665440" cy="1079280"/>
              <a:chOff x="6172200" y="1066680"/>
              <a:chExt cx="2665440" cy="1079280"/>
            </a:xfrm>
          </p:grpSpPr>
          <p:grpSp>
            <p:nvGrpSpPr>
              <p:cNvPr id="999" name=""/>
              <p:cNvGrpSpPr/>
              <p:nvPr/>
            </p:nvGrpSpPr>
            <p:grpSpPr>
              <a:xfrm>
                <a:off x="6330240" y="1749240"/>
                <a:ext cx="1242360" cy="163080"/>
                <a:chOff x="6330240" y="1749240"/>
                <a:chExt cx="1242360" cy="163080"/>
              </a:xfrm>
            </p:grpSpPr>
            <p:sp>
              <p:nvSpPr>
                <p:cNvPr id="1000" name=""/>
                <p:cNvSpPr/>
                <p:nvPr/>
              </p:nvSpPr>
              <p:spPr>
                <a:xfrm rot="5400000">
                  <a:off x="6343200" y="1736280"/>
                  <a:ext cx="162000" cy="18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514560" y="1831680"/>
                  <a:ext cx="88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57760" y="1791360"/>
                  <a:ext cx="137520" cy="88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764760" y="1758240"/>
                  <a:ext cx="361440" cy="1540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195320" y="1791360"/>
                  <a:ext cx="137520" cy="88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5400000">
                  <a:off x="7397640" y="1736280"/>
                  <a:ext cx="162000" cy="18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6217560" y="1910160"/>
                <a:ext cx="360000" cy="181080"/>
              </a:xfrm>
              <a:prstGeom prst="upArrowCallout">
                <a:avLst>
                  <a:gd name="adj1" fmla="val 49706"/>
                  <a:gd name="adj2" fmla="val 46075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BI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634880" y="1830240"/>
                <a:ext cx="629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769880" y="1781640"/>
                <a:ext cx="318600" cy="9504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274520" y="1910160"/>
                <a:ext cx="360000" cy="181080"/>
              </a:xfrm>
              <a:prstGeom prst="upArrowCallout">
                <a:avLst>
                  <a:gd name="adj1" fmla="val 49706"/>
                  <a:gd name="adj2" fmla="val 46075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BI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747560" y="1910160"/>
                <a:ext cx="360000" cy="181080"/>
              </a:xfrm>
              <a:prstGeom prst="upArrowCallout">
                <a:avLst>
                  <a:gd name="adj1" fmla="val 49706"/>
                  <a:gd name="adj2" fmla="val 4607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6330240" y="1195200"/>
                <a:ext cx="1242360" cy="162720"/>
                <a:chOff x="6330240" y="1195200"/>
                <a:chExt cx="1242360" cy="162720"/>
              </a:xfrm>
            </p:grpSpPr>
            <p:sp>
              <p:nvSpPr>
                <p:cNvPr id="1012" name=""/>
                <p:cNvSpPr/>
                <p:nvPr/>
              </p:nvSpPr>
              <p:spPr>
                <a:xfrm rot="5400000">
                  <a:off x="6343200" y="1181880"/>
                  <a:ext cx="161640" cy="18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514560" y="1277640"/>
                  <a:ext cx="88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557760" y="1237320"/>
                  <a:ext cx="137520" cy="88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764760" y="1204200"/>
                  <a:ext cx="361440" cy="15372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195320" y="1237320"/>
                  <a:ext cx="137520" cy="8820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rot="5400000">
                  <a:off x="7397640" y="1181880"/>
                  <a:ext cx="161640" cy="18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8" name=""/>
              <p:cNvSpPr/>
              <p:nvPr/>
            </p:nvSpPr>
            <p:spPr>
              <a:xfrm>
                <a:off x="6217560" y="1355760"/>
                <a:ext cx="360000" cy="180360"/>
              </a:xfrm>
              <a:prstGeom prst="upArrowCallout">
                <a:avLst>
                  <a:gd name="adj1" fmla="val 49905"/>
                  <a:gd name="adj2" fmla="val 46259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I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34880" y="1275120"/>
                <a:ext cx="629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769880" y="1227240"/>
                <a:ext cx="318600" cy="9504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274520" y="1355760"/>
                <a:ext cx="360000" cy="180360"/>
              </a:xfrm>
              <a:prstGeom prst="upArrowCallout">
                <a:avLst>
                  <a:gd name="adj1" fmla="val 49905"/>
                  <a:gd name="adj2" fmla="val 46259"/>
                  <a:gd name="adj3" fmla="val 16667"/>
                  <a:gd name="adj4" fmla="val 6666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PI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747560" y="1355760"/>
                <a:ext cx="360000" cy="180360"/>
              </a:xfrm>
              <a:prstGeom prst="upArrowCallout">
                <a:avLst>
                  <a:gd name="adj1" fmla="val 49905"/>
                  <a:gd name="adj2" fmla="val 46259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26080" y="1367640"/>
                <a:ext cx="376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8326080" y="1144440"/>
                <a:ext cx="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352360" y="1185120"/>
                <a:ext cx="316800" cy="1454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495280" y="1374840"/>
                <a:ext cx="342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43280" y="1074600"/>
                <a:ext cx="421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326080" y="1950840"/>
                <a:ext cx="376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8326080" y="1727640"/>
                <a:ext cx="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352360" y="1768320"/>
                <a:ext cx="316800" cy="1454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493120" y="1960560"/>
                <a:ext cx="342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41480" y="1657800"/>
                <a:ext cx="421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172200" y="1066680"/>
                <a:ext cx="2565360" cy="1045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779880" y="1367640"/>
                <a:ext cx="360000" cy="36180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112680 h 361800"/>
                  <a:gd name="textAreaBottom" fmla="*/ 249120 h 36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6725"/>
                    </a:moveTo>
                    <a:lnTo>
                      <a:pt x="0" y="14875"/>
                    </a:lnTo>
                    <a:lnTo>
                      <a:pt x="8100" y="14875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4875"/>
                    </a:lnTo>
                    <a:lnTo>
                      <a:pt x="21600" y="14875"/>
                    </a:lnTo>
                    <a:lnTo>
                      <a:pt x="21600" y="6725"/>
                    </a:lnTo>
                    <a:lnTo>
                      <a:pt x="13500" y="6725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6725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8289000" y="1424520"/>
              <a:ext cx="423360" cy="28332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70920 h 283320"/>
                <a:gd name="textAreaBottom" fmla="*/ 212760 h 28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gre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4114800" y="12193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438280" y="1219320"/>
            <a:ext cx="1600200" cy="182880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828800"/>
              <a:gd name="textAreaBottom" fmla="*/ 1750680 h 1828800"/>
            </a:gdLst>
            <a:ahLst/>
            <a:rect l="textAreaLeft" t="textAreaTop" r="textAreaRight" b="textAreaBottom"/>
            <a:pathLst>
              <a:path w="21600" h="24685">
                <a:moveTo>
                  <a:pt x="3600" y="0"/>
                </a:moveTo>
                <a:arcTo wR="3600" hR="3600" stAng="16200000" swAng="-5400000"/>
                <a:lnTo>
                  <a:pt x="0" y="21085"/>
                </a:lnTo>
                <a:arcTo wR="3600" hR="3600" stAng="10800000" swAng="-5400000"/>
                <a:lnTo>
                  <a:pt x="18000" y="24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2720" y="2286000"/>
            <a:ext cx="3352680" cy="750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hip Vendor provides Golden 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nd Golde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941080" y="2971800"/>
            <a:ext cx="29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den IBIS means qualified IB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den results mean qualifie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5B6C-8A61-4B93-BDD9-09A94AE842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04920" y="838080"/>
            <a:ext cx="380988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2" name=""/>
          <p:cNvSpPr/>
          <p:nvPr/>
        </p:nvSpPr>
        <p:spPr>
          <a:xfrm>
            <a:off x="2590920" y="1295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2514600" y="2286000"/>
            <a:ext cx="685800" cy="581040"/>
            <a:chOff x="2514600" y="2286000"/>
            <a:chExt cx="685800" cy="581040"/>
          </a:xfrm>
        </p:grpSpPr>
        <p:sp>
          <p:nvSpPr>
            <p:cNvPr id="1045" name=""/>
            <p:cNvSpPr/>
            <p:nvPr/>
          </p:nvSpPr>
          <p:spPr>
            <a:xfrm>
              <a:off x="251460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2578320" y="2412720"/>
              <a:ext cx="463320" cy="309600"/>
              <a:chOff x="2578320" y="2412720"/>
              <a:chExt cx="463320" cy="309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257832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257832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1" name=""/>
          <p:cNvSpPr/>
          <p:nvPr/>
        </p:nvSpPr>
        <p:spPr>
          <a:xfrm>
            <a:off x="2514600" y="178452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29000" y="12859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14880" y="1790640"/>
            <a:ext cx="76176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276720" y="2286000"/>
            <a:ext cx="685800" cy="581040"/>
            <a:chOff x="3276720" y="2286000"/>
            <a:chExt cx="685800" cy="581040"/>
          </a:xfrm>
        </p:grpSpPr>
        <p:sp>
          <p:nvSpPr>
            <p:cNvPr id="1055" name=""/>
            <p:cNvSpPr/>
            <p:nvPr/>
          </p:nvSpPr>
          <p:spPr>
            <a:xfrm>
              <a:off x="327672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3340440" y="2412720"/>
              <a:ext cx="463320" cy="309600"/>
              <a:chOff x="3340440" y="2412720"/>
              <a:chExt cx="463320" cy="309600"/>
            </a:xfrm>
          </p:grpSpPr>
          <p:sp>
            <p:nvSpPr>
              <p:cNvPr id="1057" name=""/>
              <p:cNvSpPr/>
              <p:nvPr/>
            </p:nvSpPr>
            <p:spPr>
              <a:xfrm>
                <a:off x="334044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334044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1" name=""/>
          <p:cNvSpPr/>
          <p:nvPr/>
        </p:nvSpPr>
        <p:spPr>
          <a:xfrm>
            <a:off x="267372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48336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67080" y="314316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38280" y="1219320"/>
            <a:ext cx="1676520" cy="190476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1904760"/>
              <a:gd name="textAreaBottom" fmla="*/ 1823040 h 1904760"/>
            </a:gdLst>
            <a:ahLst/>
            <a:rect l="textAreaLeft" t="textAreaTop" r="textAreaRight" b="textAreaBottom"/>
            <a:pathLst>
              <a:path w="21600" h="24540">
                <a:moveTo>
                  <a:pt x="3600" y="0"/>
                </a:moveTo>
                <a:arcTo wR="3600" hR="3600" stAng="16200000" swAng="-5400000"/>
                <a:lnTo>
                  <a:pt x="0" y="20940"/>
                </a:lnTo>
                <a:arcTo wR="3600" hR="3600" stAng="10800000" swAng="-5400000"/>
                <a:lnTo>
                  <a:pt x="18000" y="24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43600" y="25146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15200" y="2362320"/>
            <a:ext cx="1689120" cy="3492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6172200" y="3429000"/>
            <a:ext cx="2606040" cy="559080"/>
            <a:chOff x="6172200" y="3429000"/>
            <a:chExt cx="2606040" cy="559080"/>
          </a:xfrm>
        </p:grpSpPr>
        <p:grpSp>
          <p:nvGrpSpPr>
            <p:cNvPr id="1068" name=""/>
            <p:cNvGrpSpPr/>
            <p:nvPr/>
          </p:nvGrpSpPr>
          <p:grpSpPr>
            <a:xfrm>
              <a:off x="6231960" y="3448800"/>
              <a:ext cx="2546280" cy="539280"/>
              <a:chOff x="6231960" y="3448800"/>
              <a:chExt cx="2546280" cy="53928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6339240" y="3521880"/>
                <a:ext cx="1188720" cy="182160"/>
                <a:chOff x="6339240" y="3521880"/>
                <a:chExt cx="1188720" cy="182160"/>
              </a:xfrm>
            </p:grpSpPr>
            <p:sp>
              <p:nvSpPr>
                <p:cNvPr id="1070" name=""/>
                <p:cNvSpPr/>
                <p:nvPr/>
              </p:nvSpPr>
              <p:spPr>
                <a:xfrm rot="5400000">
                  <a:off x="6338520" y="352224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516000" y="3614040"/>
                  <a:ext cx="8492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57400" y="356904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755400" y="3531960"/>
                  <a:ext cx="345960" cy="1720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167600" y="356904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5400000">
                  <a:off x="7347600" y="352224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6231960" y="3701880"/>
                <a:ext cx="344520" cy="203040"/>
              </a:xfrm>
              <a:prstGeom prst="upArrowCallout">
                <a:avLst>
                  <a:gd name="adj1" fmla="val 42424"/>
                  <a:gd name="adj2" fmla="val 3932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588080" y="3611880"/>
                <a:ext cx="603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718040" y="3533760"/>
                <a:ext cx="304920" cy="1551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243920" y="3701880"/>
                <a:ext cx="344160" cy="203040"/>
              </a:xfrm>
              <a:prstGeom prst="upArrowCallout">
                <a:avLst>
                  <a:gd name="adj1" fmla="val 42380"/>
                  <a:gd name="adj2" fmla="val 39284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96080" y="3701880"/>
                <a:ext cx="344520" cy="203040"/>
              </a:xfrm>
              <a:prstGeom prst="upArrowCallout">
                <a:avLst>
                  <a:gd name="adj1" fmla="val 42424"/>
                  <a:gd name="adj2" fmla="val 3932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250480" y="3747240"/>
                <a:ext cx="360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250480" y="3521520"/>
                <a:ext cx="0" cy="225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274960" y="3542040"/>
                <a:ext cx="302760" cy="1638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411760" y="378756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169840" y="344880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748560" y="3701880"/>
                <a:ext cx="344160" cy="203040"/>
              </a:xfrm>
              <a:prstGeom prst="upArrowCallout">
                <a:avLst>
                  <a:gd name="adj1" fmla="val 42380"/>
                  <a:gd name="adj2" fmla="val 39284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6172200" y="3429000"/>
              <a:ext cx="2514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01000" y="2666880"/>
            <a:ext cx="685800" cy="581040"/>
            <a:chOff x="8001000" y="2666880"/>
            <a:chExt cx="685800" cy="581040"/>
          </a:xfrm>
        </p:grpSpPr>
        <p:sp>
          <p:nvSpPr>
            <p:cNvPr id="1089" name=""/>
            <p:cNvSpPr/>
            <p:nvPr/>
          </p:nvSpPr>
          <p:spPr>
            <a:xfrm>
              <a:off x="8001000" y="26668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8064720" y="2793600"/>
              <a:ext cx="463320" cy="309600"/>
              <a:chOff x="8064720" y="2793600"/>
              <a:chExt cx="463320" cy="309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8064720" y="31017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8064720" y="27936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096400" y="2850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096400" y="2850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5" name=""/>
          <p:cNvSpPr/>
          <p:nvPr/>
        </p:nvSpPr>
        <p:spPr>
          <a:xfrm>
            <a:off x="8001000" y="3200400"/>
            <a:ext cx="533520" cy="399960"/>
          </a:xfrm>
          <a:custGeom>
            <a:avLst/>
            <a:gdLst>
              <a:gd name="textAreaLeft" fmla="*/ 0 w 533520"/>
              <a:gd name="textAreaRight" fmla="*/ 53388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934320" y="289548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943600" y="2819520"/>
            <a:ext cx="1905120" cy="609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91120" y="2666880"/>
            <a:ext cx="1676160" cy="381240"/>
          </a:xfrm>
          <a:prstGeom prst="rightArrow">
            <a:avLst>
              <a:gd name="adj1" fmla="val 50000"/>
              <a:gd name="adj2" fmla="val 10991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30481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52680" y="3143160"/>
            <a:ext cx="76212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2438280" y="3047400"/>
            <a:ext cx="167652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49720" y="4114800"/>
            <a:ext cx="451044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 provides Golden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19920" y="289548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Method(2/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22440" y="4648320"/>
            <a:ext cx="277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den input means qualifie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7568-77AE-4CB0-862A-FF4E45E13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304920" y="838080"/>
            <a:ext cx="380988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8" name=""/>
          <p:cNvSpPr/>
          <p:nvPr/>
        </p:nvSpPr>
        <p:spPr>
          <a:xfrm>
            <a:off x="2590920" y="1295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514600" y="2286000"/>
            <a:ext cx="685800" cy="581040"/>
            <a:chOff x="2514600" y="2286000"/>
            <a:chExt cx="685800" cy="581040"/>
          </a:xfrm>
        </p:grpSpPr>
        <p:sp>
          <p:nvSpPr>
            <p:cNvPr id="1111" name=""/>
            <p:cNvSpPr/>
            <p:nvPr/>
          </p:nvSpPr>
          <p:spPr>
            <a:xfrm>
              <a:off x="251460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2578320" y="2412720"/>
              <a:ext cx="463320" cy="309600"/>
              <a:chOff x="2578320" y="2412720"/>
              <a:chExt cx="463320" cy="309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257832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257832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7" name=""/>
          <p:cNvSpPr/>
          <p:nvPr/>
        </p:nvSpPr>
        <p:spPr>
          <a:xfrm>
            <a:off x="2514600" y="178452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429000" y="12859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14880" y="1790640"/>
            <a:ext cx="76176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276720" y="2286000"/>
            <a:ext cx="685800" cy="581040"/>
            <a:chOff x="3276720" y="2286000"/>
            <a:chExt cx="685800" cy="581040"/>
          </a:xfrm>
        </p:grpSpPr>
        <p:sp>
          <p:nvSpPr>
            <p:cNvPr id="1121" name=""/>
            <p:cNvSpPr/>
            <p:nvPr/>
          </p:nvSpPr>
          <p:spPr>
            <a:xfrm>
              <a:off x="327672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3340440" y="2412720"/>
              <a:ext cx="463320" cy="309600"/>
              <a:chOff x="3340440" y="2412720"/>
              <a:chExt cx="463320" cy="309600"/>
            </a:xfrm>
          </p:grpSpPr>
          <p:sp>
            <p:nvSpPr>
              <p:cNvPr id="1123" name=""/>
              <p:cNvSpPr/>
              <p:nvPr/>
            </p:nvSpPr>
            <p:spPr>
              <a:xfrm>
                <a:off x="334044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334044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7" name=""/>
          <p:cNvSpPr/>
          <p:nvPr/>
        </p:nvSpPr>
        <p:spPr>
          <a:xfrm>
            <a:off x="267372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8336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457200" y="3124080"/>
            <a:ext cx="685800" cy="581040"/>
            <a:chOff x="457200" y="3124080"/>
            <a:chExt cx="685800" cy="581040"/>
          </a:xfrm>
        </p:grpSpPr>
        <p:sp>
          <p:nvSpPr>
            <p:cNvPr id="1130" name=""/>
            <p:cNvSpPr/>
            <p:nvPr/>
          </p:nvSpPr>
          <p:spPr>
            <a:xfrm>
              <a:off x="457200" y="31240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520920" y="3250800"/>
              <a:ext cx="463320" cy="309600"/>
              <a:chOff x="520920" y="3250800"/>
              <a:chExt cx="463320" cy="309600"/>
            </a:xfrm>
          </p:grpSpPr>
          <p:sp>
            <p:nvSpPr>
              <p:cNvPr id="1132" name=""/>
              <p:cNvSpPr/>
              <p:nvPr/>
            </p:nvSpPr>
            <p:spPr>
              <a:xfrm>
                <a:off x="520920" y="35589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520920" y="32508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6" name=""/>
          <p:cNvSpPr/>
          <p:nvPr/>
        </p:nvSpPr>
        <p:spPr>
          <a:xfrm>
            <a:off x="692280" y="35053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457200" y="2209680"/>
            <a:ext cx="685800" cy="581040"/>
            <a:chOff x="457200" y="2209680"/>
            <a:chExt cx="685800" cy="581040"/>
          </a:xfrm>
        </p:grpSpPr>
        <p:sp>
          <p:nvSpPr>
            <p:cNvPr id="1138" name=""/>
            <p:cNvSpPr/>
            <p:nvPr/>
          </p:nvSpPr>
          <p:spPr>
            <a:xfrm>
              <a:off x="457200" y="2209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520920" y="2336400"/>
              <a:ext cx="463320" cy="309600"/>
              <a:chOff x="520920" y="2336400"/>
              <a:chExt cx="463320" cy="309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520920" y="2644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520920" y="2336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4" name=""/>
          <p:cNvSpPr/>
          <p:nvPr/>
        </p:nvSpPr>
        <p:spPr>
          <a:xfrm>
            <a:off x="692280" y="2590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467080" y="314316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4920" y="4791240"/>
            <a:ext cx="388620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4648320"/>
            <a:ext cx="1689120" cy="3492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533520" y="5705640"/>
            <a:ext cx="2606040" cy="558720"/>
            <a:chOff x="533520" y="5705640"/>
            <a:chExt cx="2606040" cy="558720"/>
          </a:xfrm>
        </p:grpSpPr>
        <p:grpSp>
          <p:nvGrpSpPr>
            <p:cNvPr id="1149" name=""/>
            <p:cNvGrpSpPr/>
            <p:nvPr/>
          </p:nvGrpSpPr>
          <p:grpSpPr>
            <a:xfrm>
              <a:off x="593280" y="5725440"/>
              <a:ext cx="2546280" cy="538920"/>
              <a:chOff x="593280" y="5725440"/>
              <a:chExt cx="2546280" cy="53892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700560" y="5798520"/>
                <a:ext cx="1188720" cy="182160"/>
                <a:chOff x="700560" y="5798520"/>
                <a:chExt cx="1188720" cy="182160"/>
              </a:xfrm>
            </p:grpSpPr>
            <p:sp>
              <p:nvSpPr>
                <p:cNvPr id="1151" name=""/>
                <p:cNvSpPr/>
                <p:nvPr/>
              </p:nvSpPr>
              <p:spPr>
                <a:xfrm rot="5400000">
                  <a:off x="699840" y="579888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77320" y="5890680"/>
                  <a:ext cx="8492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918720" y="584568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116720" y="5808600"/>
                  <a:ext cx="345960" cy="1720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528920" y="584568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5400000">
                  <a:off x="1708920" y="579888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593280" y="5978520"/>
                <a:ext cx="344520" cy="202680"/>
              </a:xfrm>
              <a:prstGeom prst="upArrowCallout">
                <a:avLst>
                  <a:gd name="adj1" fmla="val 42499"/>
                  <a:gd name="adj2" fmla="val 3939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949400" y="5888520"/>
                <a:ext cx="603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079360" y="5810040"/>
                <a:ext cx="304920" cy="1551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605240" y="5978520"/>
                <a:ext cx="344160" cy="202680"/>
              </a:xfrm>
              <a:prstGeom prst="upArrowCallout">
                <a:avLst>
                  <a:gd name="adj1" fmla="val 42455"/>
                  <a:gd name="adj2" fmla="val 39354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057400" y="5978520"/>
                <a:ext cx="344520" cy="202680"/>
              </a:xfrm>
              <a:prstGeom prst="upArrowCallout">
                <a:avLst>
                  <a:gd name="adj1" fmla="val 42499"/>
                  <a:gd name="adj2" fmla="val 3939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11800" y="6023520"/>
                <a:ext cx="360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2611800" y="5798160"/>
                <a:ext cx="0" cy="225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636280" y="5818680"/>
                <a:ext cx="302760" cy="1634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773080" y="606384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531160" y="572544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109880" y="5978520"/>
                <a:ext cx="344160" cy="202680"/>
              </a:xfrm>
              <a:prstGeom prst="upArrowCallout">
                <a:avLst>
                  <a:gd name="adj1" fmla="val 42455"/>
                  <a:gd name="adj2" fmla="val 39354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533520" y="5705640"/>
              <a:ext cx="25146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362320" y="4943520"/>
            <a:ext cx="685800" cy="581040"/>
            <a:chOff x="2362320" y="4943520"/>
            <a:chExt cx="685800" cy="581040"/>
          </a:xfrm>
        </p:grpSpPr>
        <p:sp>
          <p:nvSpPr>
            <p:cNvPr id="1170" name=""/>
            <p:cNvSpPr/>
            <p:nvPr/>
          </p:nvSpPr>
          <p:spPr>
            <a:xfrm>
              <a:off x="2362320" y="494352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2426040" y="5070240"/>
              <a:ext cx="463320" cy="309600"/>
              <a:chOff x="2426040" y="5070240"/>
              <a:chExt cx="463320" cy="309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2426040" y="537840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2426040" y="507024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457720" y="512748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457720" y="512748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>
            <a:off x="2362320" y="5477040"/>
            <a:ext cx="533160" cy="399960"/>
          </a:xfrm>
          <a:custGeom>
            <a:avLst/>
            <a:gdLst>
              <a:gd name="textAreaLeft" fmla="*/ 0 w 533160"/>
              <a:gd name="textAreaRight" fmla="*/ 53352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24080" y="4724280"/>
            <a:ext cx="990720" cy="182880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828800"/>
              <a:gd name="textAreaBottom" fmla="*/ 1780560 h 1828800"/>
            </a:gdLst>
            <a:ahLst/>
            <a:rect l="textAreaLeft" t="textAreaTop" r="textAreaRight" b="textAreaBottom"/>
            <a:pathLst>
              <a:path w="21600" h="39865">
                <a:moveTo>
                  <a:pt x="3600" y="0"/>
                </a:moveTo>
                <a:arcTo wR="3600" hR="3600" stAng="16200000" swAng="-5400000"/>
                <a:lnTo>
                  <a:pt x="0" y="36265"/>
                </a:lnTo>
                <a:arcTo wR="3600" hR="3600" stAng="10800000" swAng="-5400000"/>
                <a:lnTo>
                  <a:pt x="18000" y="398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3276720" y="4800600"/>
            <a:ext cx="685800" cy="581040"/>
            <a:chOff x="3276720" y="4800600"/>
            <a:chExt cx="685800" cy="581040"/>
          </a:xfrm>
        </p:grpSpPr>
        <p:sp>
          <p:nvSpPr>
            <p:cNvPr id="1179" name=""/>
            <p:cNvSpPr/>
            <p:nvPr/>
          </p:nvSpPr>
          <p:spPr>
            <a:xfrm>
              <a:off x="3276720" y="48006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340440" y="4927320"/>
              <a:ext cx="463320" cy="309600"/>
              <a:chOff x="3340440" y="4927320"/>
              <a:chExt cx="463320" cy="309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3340440" y="52354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3340440" y="49273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372120" y="49845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372120" y="49845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5" name=""/>
          <p:cNvSpPr/>
          <p:nvPr/>
        </p:nvSpPr>
        <p:spPr>
          <a:xfrm>
            <a:off x="3511800" y="518148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3276720" y="5638680"/>
            <a:ext cx="685800" cy="581040"/>
            <a:chOff x="3276720" y="5638680"/>
            <a:chExt cx="685800" cy="581040"/>
          </a:xfrm>
        </p:grpSpPr>
        <p:sp>
          <p:nvSpPr>
            <p:cNvPr id="1187" name=""/>
            <p:cNvSpPr/>
            <p:nvPr/>
          </p:nvSpPr>
          <p:spPr>
            <a:xfrm>
              <a:off x="3276720" y="5638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3340440" y="5765400"/>
              <a:ext cx="463320" cy="309600"/>
              <a:chOff x="3340440" y="5765400"/>
              <a:chExt cx="463320" cy="309600"/>
            </a:xfrm>
          </p:grpSpPr>
          <p:sp>
            <p:nvSpPr>
              <p:cNvPr id="1189" name=""/>
              <p:cNvSpPr/>
              <p:nvPr/>
            </p:nvSpPr>
            <p:spPr>
              <a:xfrm>
                <a:off x="3340440" y="6073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V="1">
                <a:off x="3340440" y="5765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372120" y="5822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372120" y="5822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3" name=""/>
          <p:cNvSpPr/>
          <p:nvPr/>
        </p:nvSpPr>
        <p:spPr>
          <a:xfrm>
            <a:off x="3511800" y="6019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209680" y="39625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1905120" y="39625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4920" y="2133720"/>
            <a:ext cx="990360" cy="182880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828800"/>
              <a:gd name="textAreaBottom" fmla="*/ 1780560 h 1828800"/>
            </a:gdLst>
            <a:ahLst/>
            <a:rect l="textAreaLeft" t="textAreaTop" r="textAreaRight" b="textAreaBottom"/>
            <a:pathLst>
              <a:path w="21600" h="39880">
                <a:moveTo>
                  <a:pt x="3600" y="0"/>
                </a:moveTo>
                <a:arcTo wR="3600" hR="3600" stAng="16200000" swAng="-5400000"/>
                <a:lnTo>
                  <a:pt x="0" y="36280"/>
                </a:lnTo>
                <a:arcTo wR="3600" hR="3600" stAng="10800000" swAng="-5400000"/>
                <a:lnTo>
                  <a:pt x="18000" y="39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438280" y="1219320"/>
            <a:ext cx="167652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45800" y="4267080"/>
            <a:ext cx="468144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 provides 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f IBIS1, IBIS2(ver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Method(3/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D96A-765A-46D2-A153-A2FE58EC7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304920" y="838080"/>
            <a:ext cx="380988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2" name=""/>
          <p:cNvSpPr/>
          <p:nvPr/>
        </p:nvSpPr>
        <p:spPr>
          <a:xfrm>
            <a:off x="2590920" y="1295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514600" y="2286000"/>
            <a:ext cx="685800" cy="581040"/>
            <a:chOff x="2514600" y="2286000"/>
            <a:chExt cx="685800" cy="581040"/>
          </a:xfrm>
        </p:grpSpPr>
        <p:sp>
          <p:nvSpPr>
            <p:cNvPr id="1205" name=""/>
            <p:cNvSpPr/>
            <p:nvPr/>
          </p:nvSpPr>
          <p:spPr>
            <a:xfrm>
              <a:off x="251460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2578320" y="2412720"/>
              <a:ext cx="463320" cy="309600"/>
              <a:chOff x="2578320" y="2412720"/>
              <a:chExt cx="463320" cy="309600"/>
            </a:xfrm>
          </p:grpSpPr>
          <p:sp>
            <p:nvSpPr>
              <p:cNvPr id="1207" name=""/>
              <p:cNvSpPr/>
              <p:nvPr/>
            </p:nvSpPr>
            <p:spPr>
              <a:xfrm>
                <a:off x="257832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257832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2514600" y="178452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429000" y="12859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14880" y="1790640"/>
            <a:ext cx="76176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3276720" y="2286000"/>
            <a:ext cx="685800" cy="581040"/>
            <a:chOff x="3276720" y="2286000"/>
            <a:chExt cx="685800" cy="581040"/>
          </a:xfrm>
        </p:grpSpPr>
        <p:sp>
          <p:nvSpPr>
            <p:cNvPr id="1215" name=""/>
            <p:cNvSpPr/>
            <p:nvPr/>
          </p:nvSpPr>
          <p:spPr>
            <a:xfrm>
              <a:off x="327672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3340440" y="2412720"/>
              <a:ext cx="463320" cy="309600"/>
              <a:chOff x="3340440" y="2412720"/>
              <a:chExt cx="463320" cy="309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334044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334044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1" name=""/>
          <p:cNvSpPr/>
          <p:nvPr/>
        </p:nvSpPr>
        <p:spPr>
          <a:xfrm>
            <a:off x="267372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48336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57200" y="3124080"/>
            <a:ext cx="685800" cy="581040"/>
            <a:chOff x="457200" y="3124080"/>
            <a:chExt cx="685800" cy="581040"/>
          </a:xfrm>
        </p:grpSpPr>
        <p:sp>
          <p:nvSpPr>
            <p:cNvPr id="1224" name=""/>
            <p:cNvSpPr/>
            <p:nvPr/>
          </p:nvSpPr>
          <p:spPr>
            <a:xfrm>
              <a:off x="457200" y="31240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520920" y="3250800"/>
              <a:ext cx="463320" cy="309600"/>
              <a:chOff x="520920" y="3250800"/>
              <a:chExt cx="463320" cy="309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20920" y="35589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520920" y="32508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92280" y="35053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457200" y="2209680"/>
            <a:ext cx="685800" cy="581040"/>
            <a:chOff x="457200" y="2209680"/>
            <a:chExt cx="685800" cy="581040"/>
          </a:xfrm>
        </p:grpSpPr>
        <p:sp>
          <p:nvSpPr>
            <p:cNvPr id="1232" name=""/>
            <p:cNvSpPr/>
            <p:nvPr/>
          </p:nvSpPr>
          <p:spPr>
            <a:xfrm>
              <a:off x="457200" y="2209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520920" y="2336400"/>
              <a:ext cx="463320" cy="309600"/>
              <a:chOff x="520920" y="2336400"/>
              <a:chExt cx="463320" cy="309600"/>
            </a:xfrm>
          </p:grpSpPr>
          <p:sp>
            <p:nvSpPr>
              <p:cNvPr id="1234" name=""/>
              <p:cNvSpPr/>
              <p:nvPr/>
            </p:nvSpPr>
            <p:spPr>
              <a:xfrm>
                <a:off x="520920" y="2644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520920" y="2336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8" name=""/>
          <p:cNvSpPr/>
          <p:nvPr/>
        </p:nvSpPr>
        <p:spPr>
          <a:xfrm>
            <a:off x="692280" y="2590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467080" y="314316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33520" y="3962520"/>
            <a:ext cx="533160" cy="380880"/>
          </a:xfrm>
          <a:prstGeom prst="flowChartDocumen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i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4920" y="3124080"/>
            <a:ext cx="990360" cy="12956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56">
                <a:moveTo>
                  <a:pt x="3600" y="0"/>
                </a:moveTo>
                <a:arcTo wR="3600" hR="3600" stAng="16200000" swAng="-5400000"/>
                <a:lnTo>
                  <a:pt x="0" y="24656"/>
                </a:lnTo>
                <a:arcTo wR="3600" hR="3600" stAng="10800000" swAng="-5400000"/>
                <a:lnTo>
                  <a:pt x="18000" y="28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97120" y="3962520"/>
            <a:ext cx="487800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 makes comparison report of IBI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Method(4/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C950-7093-44BE-8FBA-591B8F0D4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04920" y="838080"/>
            <a:ext cx="380988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6" name=""/>
          <p:cNvSpPr/>
          <p:nvPr/>
        </p:nvSpPr>
        <p:spPr>
          <a:xfrm>
            <a:off x="2590920" y="1295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514600" y="2286000"/>
            <a:ext cx="685800" cy="581040"/>
            <a:chOff x="2514600" y="2286000"/>
            <a:chExt cx="685800" cy="581040"/>
          </a:xfrm>
        </p:grpSpPr>
        <p:sp>
          <p:nvSpPr>
            <p:cNvPr id="1249" name=""/>
            <p:cNvSpPr/>
            <p:nvPr/>
          </p:nvSpPr>
          <p:spPr>
            <a:xfrm>
              <a:off x="251460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2578320" y="2412720"/>
              <a:ext cx="463320" cy="309600"/>
              <a:chOff x="2578320" y="2412720"/>
              <a:chExt cx="463320" cy="309600"/>
            </a:xfrm>
          </p:grpSpPr>
          <p:sp>
            <p:nvSpPr>
              <p:cNvPr id="1251" name=""/>
              <p:cNvSpPr/>
              <p:nvPr/>
            </p:nvSpPr>
            <p:spPr>
              <a:xfrm>
                <a:off x="257832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257832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5" name=""/>
          <p:cNvSpPr/>
          <p:nvPr/>
        </p:nvSpPr>
        <p:spPr>
          <a:xfrm>
            <a:off x="2514600" y="178452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29000" y="12859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14880" y="1790640"/>
            <a:ext cx="76176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276720" y="2286000"/>
            <a:ext cx="685800" cy="581040"/>
            <a:chOff x="3276720" y="2286000"/>
            <a:chExt cx="685800" cy="581040"/>
          </a:xfrm>
        </p:grpSpPr>
        <p:sp>
          <p:nvSpPr>
            <p:cNvPr id="1259" name=""/>
            <p:cNvSpPr/>
            <p:nvPr/>
          </p:nvSpPr>
          <p:spPr>
            <a:xfrm>
              <a:off x="327672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3340440" y="2412720"/>
              <a:ext cx="463320" cy="309600"/>
              <a:chOff x="3340440" y="2412720"/>
              <a:chExt cx="463320" cy="309600"/>
            </a:xfrm>
          </p:grpSpPr>
          <p:sp>
            <p:nvSpPr>
              <p:cNvPr id="1261" name=""/>
              <p:cNvSpPr/>
              <p:nvPr/>
            </p:nvSpPr>
            <p:spPr>
              <a:xfrm>
                <a:off x="334044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334044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5" name=""/>
          <p:cNvSpPr/>
          <p:nvPr/>
        </p:nvSpPr>
        <p:spPr>
          <a:xfrm>
            <a:off x="267372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48336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457200" y="3124080"/>
            <a:ext cx="685800" cy="581040"/>
            <a:chOff x="457200" y="3124080"/>
            <a:chExt cx="685800" cy="581040"/>
          </a:xfrm>
        </p:grpSpPr>
        <p:sp>
          <p:nvSpPr>
            <p:cNvPr id="1268" name=""/>
            <p:cNvSpPr/>
            <p:nvPr/>
          </p:nvSpPr>
          <p:spPr>
            <a:xfrm>
              <a:off x="457200" y="31240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520920" y="3250800"/>
              <a:ext cx="463320" cy="309600"/>
              <a:chOff x="520920" y="3250800"/>
              <a:chExt cx="463320" cy="309600"/>
            </a:xfrm>
          </p:grpSpPr>
          <p:sp>
            <p:nvSpPr>
              <p:cNvPr id="1270" name=""/>
              <p:cNvSpPr/>
              <p:nvPr/>
            </p:nvSpPr>
            <p:spPr>
              <a:xfrm>
                <a:off x="520920" y="35589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520920" y="32508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4" name=""/>
          <p:cNvSpPr/>
          <p:nvPr/>
        </p:nvSpPr>
        <p:spPr>
          <a:xfrm>
            <a:off x="692280" y="35053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457200" y="2209680"/>
            <a:ext cx="685800" cy="581040"/>
            <a:chOff x="457200" y="2209680"/>
            <a:chExt cx="685800" cy="581040"/>
          </a:xfrm>
        </p:grpSpPr>
        <p:sp>
          <p:nvSpPr>
            <p:cNvPr id="1276" name=""/>
            <p:cNvSpPr/>
            <p:nvPr/>
          </p:nvSpPr>
          <p:spPr>
            <a:xfrm>
              <a:off x="457200" y="2209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520920" y="2336400"/>
              <a:ext cx="463320" cy="309600"/>
              <a:chOff x="520920" y="2336400"/>
              <a:chExt cx="463320" cy="309600"/>
            </a:xfrm>
          </p:grpSpPr>
          <p:sp>
            <p:nvSpPr>
              <p:cNvPr id="1278" name=""/>
              <p:cNvSpPr/>
              <p:nvPr/>
            </p:nvSpPr>
            <p:spPr>
              <a:xfrm>
                <a:off x="520920" y="2644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520920" y="2336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2" name=""/>
          <p:cNvSpPr/>
          <p:nvPr/>
        </p:nvSpPr>
        <p:spPr>
          <a:xfrm>
            <a:off x="692280" y="2590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67080" y="314316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33520" y="3962520"/>
            <a:ext cx="533160" cy="380880"/>
          </a:xfrm>
          <a:prstGeom prst="flowChartDocumen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i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1324080" y="3124080"/>
            <a:ext cx="685800" cy="581040"/>
            <a:chOff x="1324080" y="3124080"/>
            <a:chExt cx="685800" cy="581040"/>
          </a:xfrm>
        </p:grpSpPr>
        <p:sp>
          <p:nvSpPr>
            <p:cNvPr id="1286" name=""/>
            <p:cNvSpPr/>
            <p:nvPr/>
          </p:nvSpPr>
          <p:spPr>
            <a:xfrm>
              <a:off x="1324080" y="31240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1387800" y="3250800"/>
              <a:ext cx="463320" cy="309600"/>
              <a:chOff x="1387800" y="3250800"/>
              <a:chExt cx="463320" cy="309600"/>
            </a:xfrm>
          </p:grpSpPr>
          <p:sp>
            <p:nvSpPr>
              <p:cNvPr id="1288" name=""/>
              <p:cNvSpPr/>
              <p:nvPr/>
            </p:nvSpPr>
            <p:spPr>
              <a:xfrm>
                <a:off x="1387800" y="35589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1387800" y="32508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1948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1948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2" name=""/>
          <p:cNvSpPr/>
          <p:nvPr/>
        </p:nvSpPr>
        <p:spPr>
          <a:xfrm>
            <a:off x="1559160" y="35053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295280" y="2209680"/>
            <a:ext cx="685800" cy="581040"/>
            <a:chOff x="1295280" y="2209680"/>
            <a:chExt cx="685800" cy="581040"/>
          </a:xfrm>
        </p:grpSpPr>
        <p:sp>
          <p:nvSpPr>
            <p:cNvPr id="1294" name=""/>
            <p:cNvSpPr/>
            <p:nvPr/>
          </p:nvSpPr>
          <p:spPr>
            <a:xfrm>
              <a:off x="1295280" y="2209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1359000" y="2336400"/>
              <a:ext cx="463320" cy="309600"/>
              <a:chOff x="1359000" y="2336400"/>
              <a:chExt cx="463320" cy="309600"/>
            </a:xfrm>
          </p:grpSpPr>
          <p:sp>
            <p:nvSpPr>
              <p:cNvPr id="1296" name=""/>
              <p:cNvSpPr/>
              <p:nvPr/>
            </p:nvSpPr>
            <p:spPr>
              <a:xfrm>
                <a:off x="1359000" y="2644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1359000" y="2336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39068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39068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0" name=""/>
          <p:cNvSpPr/>
          <p:nvPr/>
        </p:nvSpPr>
        <p:spPr>
          <a:xfrm>
            <a:off x="1530360" y="2590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04920" y="4791240"/>
            <a:ext cx="388620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52280" y="4648320"/>
            <a:ext cx="1689120" cy="3492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533520" y="5705640"/>
            <a:ext cx="2606040" cy="558720"/>
            <a:chOff x="533520" y="5705640"/>
            <a:chExt cx="2606040" cy="558720"/>
          </a:xfrm>
        </p:grpSpPr>
        <p:grpSp>
          <p:nvGrpSpPr>
            <p:cNvPr id="1304" name=""/>
            <p:cNvGrpSpPr/>
            <p:nvPr/>
          </p:nvGrpSpPr>
          <p:grpSpPr>
            <a:xfrm>
              <a:off x="593280" y="5725440"/>
              <a:ext cx="2546280" cy="538920"/>
              <a:chOff x="593280" y="5725440"/>
              <a:chExt cx="2546280" cy="53892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700560" y="5798520"/>
                <a:ext cx="1188720" cy="182160"/>
                <a:chOff x="700560" y="5798520"/>
                <a:chExt cx="1188720" cy="182160"/>
              </a:xfrm>
            </p:grpSpPr>
            <p:sp>
              <p:nvSpPr>
                <p:cNvPr id="1306" name=""/>
                <p:cNvSpPr/>
                <p:nvPr/>
              </p:nvSpPr>
              <p:spPr>
                <a:xfrm rot="5400000">
                  <a:off x="699840" y="579888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77320" y="5890680"/>
                  <a:ext cx="8492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918720" y="584568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116720" y="5808600"/>
                  <a:ext cx="345960" cy="1720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528920" y="584568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5400000">
                  <a:off x="1708920" y="579888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"/>
              <p:cNvSpPr/>
              <p:nvPr/>
            </p:nvSpPr>
            <p:spPr>
              <a:xfrm>
                <a:off x="593280" y="5978520"/>
                <a:ext cx="344520" cy="202680"/>
              </a:xfrm>
              <a:prstGeom prst="upArrowCallout">
                <a:avLst>
                  <a:gd name="adj1" fmla="val 42499"/>
                  <a:gd name="adj2" fmla="val 3939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949400" y="5888520"/>
                <a:ext cx="603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079360" y="5810040"/>
                <a:ext cx="304920" cy="1551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05240" y="5978520"/>
                <a:ext cx="344160" cy="202680"/>
              </a:xfrm>
              <a:prstGeom prst="upArrowCallout">
                <a:avLst>
                  <a:gd name="adj1" fmla="val 42455"/>
                  <a:gd name="adj2" fmla="val 39354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057400" y="5978520"/>
                <a:ext cx="344520" cy="202680"/>
              </a:xfrm>
              <a:prstGeom prst="upArrowCallout">
                <a:avLst>
                  <a:gd name="adj1" fmla="val 42499"/>
                  <a:gd name="adj2" fmla="val 3939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611800" y="6023520"/>
                <a:ext cx="360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2611800" y="5798160"/>
                <a:ext cx="0" cy="225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636280" y="5818680"/>
                <a:ext cx="302760" cy="16344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73080" y="606384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531160" y="572544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109880" y="5978520"/>
                <a:ext cx="344160" cy="202680"/>
              </a:xfrm>
              <a:prstGeom prst="upArrowCallout">
                <a:avLst>
                  <a:gd name="adj1" fmla="val 42455"/>
                  <a:gd name="adj2" fmla="val 39354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3" name=""/>
            <p:cNvSpPr/>
            <p:nvPr/>
          </p:nvSpPr>
          <p:spPr>
            <a:xfrm>
              <a:off x="533520" y="5705640"/>
              <a:ext cx="25146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2362320" y="4943520"/>
            <a:ext cx="685800" cy="581040"/>
            <a:chOff x="2362320" y="4943520"/>
            <a:chExt cx="685800" cy="581040"/>
          </a:xfrm>
        </p:grpSpPr>
        <p:sp>
          <p:nvSpPr>
            <p:cNvPr id="1325" name=""/>
            <p:cNvSpPr/>
            <p:nvPr/>
          </p:nvSpPr>
          <p:spPr>
            <a:xfrm>
              <a:off x="2362320" y="494352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2426040" y="5070240"/>
              <a:ext cx="463320" cy="309600"/>
              <a:chOff x="2426040" y="5070240"/>
              <a:chExt cx="463320" cy="309600"/>
            </a:xfrm>
          </p:grpSpPr>
          <p:sp>
            <p:nvSpPr>
              <p:cNvPr id="1327" name=""/>
              <p:cNvSpPr/>
              <p:nvPr/>
            </p:nvSpPr>
            <p:spPr>
              <a:xfrm>
                <a:off x="2426040" y="537840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2426040" y="507024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457720" y="512748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457720" y="512748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1" name=""/>
          <p:cNvSpPr/>
          <p:nvPr/>
        </p:nvSpPr>
        <p:spPr>
          <a:xfrm>
            <a:off x="2362320" y="5477040"/>
            <a:ext cx="533160" cy="399960"/>
          </a:xfrm>
          <a:custGeom>
            <a:avLst/>
            <a:gdLst>
              <a:gd name="textAreaLeft" fmla="*/ 0 w 533160"/>
              <a:gd name="textAreaRight" fmla="*/ 533520 w 53316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124080" y="4724280"/>
            <a:ext cx="990720" cy="182880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828800"/>
              <a:gd name="textAreaBottom" fmla="*/ 1780560 h 1828800"/>
            </a:gdLst>
            <a:ahLst/>
            <a:rect l="textAreaLeft" t="textAreaTop" r="textAreaRight" b="textAreaBottom"/>
            <a:pathLst>
              <a:path w="21600" h="39865">
                <a:moveTo>
                  <a:pt x="3600" y="0"/>
                </a:moveTo>
                <a:arcTo wR="3600" hR="3600" stAng="16200000" swAng="-5400000"/>
                <a:lnTo>
                  <a:pt x="0" y="36265"/>
                </a:lnTo>
                <a:arcTo wR="3600" hR="3600" stAng="10800000" swAng="-5400000"/>
                <a:lnTo>
                  <a:pt x="18000" y="398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3276720" y="4800600"/>
            <a:ext cx="685800" cy="581040"/>
            <a:chOff x="3276720" y="4800600"/>
            <a:chExt cx="685800" cy="581040"/>
          </a:xfrm>
        </p:grpSpPr>
        <p:sp>
          <p:nvSpPr>
            <p:cNvPr id="1334" name=""/>
            <p:cNvSpPr/>
            <p:nvPr/>
          </p:nvSpPr>
          <p:spPr>
            <a:xfrm>
              <a:off x="3276720" y="48006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3340440" y="4927320"/>
              <a:ext cx="463320" cy="309600"/>
              <a:chOff x="3340440" y="4927320"/>
              <a:chExt cx="463320" cy="309600"/>
            </a:xfrm>
          </p:grpSpPr>
          <p:sp>
            <p:nvSpPr>
              <p:cNvPr id="1336" name=""/>
              <p:cNvSpPr/>
              <p:nvPr/>
            </p:nvSpPr>
            <p:spPr>
              <a:xfrm>
                <a:off x="3340440" y="52354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3340440" y="49273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372120" y="49845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72120" y="49845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0" name=""/>
          <p:cNvSpPr/>
          <p:nvPr/>
        </p:nvSpPr>
        <p:spPr>
          <a:xfrm>
            <a:off x="3511800" y="518148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3276720" y="5638680"/>
            <a:ext cx="685800" cy="581040"/>
            <a:chOff x="3276720" y="5638680"/>
            <a:chExt cx="685800" cy="581040"/>
          </a:xfrm>
        </p:grpSpPr>
        <p:sp>
          <p:nvSpPr>
            <p:cNvPr id="1342" name=""/>
            <p:cNvSpPr/>
            <p:nvPr/>
          </p:nvSpPr>
          <p:spPr>
            <a:xfrm>
              <a:off x="3276720" y="5638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3340440" y="5765400"/>
              <a:ext cx="463320" cy="309600"/>
              <a:chOff x="3340440" y="5765400"/>
              <a:chExt cx="463320" cy="309600"/>
            </a:xfrm>
          </p:grpSpPr>
          <p:sp>
            <p:nvSpPr>
              <p:cNvPr id="1344" name=""/>
              <p:cNvSpPr/>
              <p:nvPr/>
            </p:nvSpPr>
            <p:spPr>
              <a:xfrm>
                <a:off x="3340440" y="6073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3340440" y="5765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372120" y="5822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372120" y="5822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8" name=""/>
          <p:cNvSpPr/>
          <p:nvPr/>
        </p:nvSpPr>
        <p:spPr>
          <a:xfrm>
            <a:off x="3511800" y="6019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09680" y="39625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1905120" y="39625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43600" y="25146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315200" y="2362320"/>
            <a:ext cx="1689120" cy="3492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172200" y="3429000"/>
            <a:ext cx="2606040" cy="559080"/>
            <a:chOff x="6172200" y="3429000"/>
            <a:chExt cx="2606040" cy="559080"/>
          </a:xfrm>
        </p:grpSpPr>
        <p:grpSp>
          <p:nvGrpSpPr>
            <p:cNvPr id="1354" name=""/>
            <p:cNvGrpSpPr/>
            <p:nvPr/>
          </p:nvGrpSpPr>
          <p:grpSpPr>
            <a:xfrm>
              <a:off x="6231960" y="3448800"/>
              <a:ext cx="2546280" cy="539280"/>
              <a:chOff x="6231960" y="3448800"/>
              <a:chExt cx="2546280" cy="53928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6339240" y="3521880"/>
                <a:ext cx="1188720" cy="182160"/>
                <a:chOff x="6339240" y="3521880"/>
                <a:chExt cx="1188720" cy="182160"/>
              </a:xfrm>
            </p:grpSpPr>
            <p:sp>
              <p:nvSpPr>
                <p:cNvPr id="1356" name=""/>
                <p:cNvSpPr/>
                <p:nvPr/>
              </p:nvSpPr>
              <p:spPr>
                <a:xfrm rot="5400000">
                  <a:off x="6338520" y="352224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DR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6516000" y="3614040"/>
                  <a:ext cx="8492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557400" y="356904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6755400" y="3531960"/>
                  <a:ext cx="345960" cy="1720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rcui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167600" y="3569040"/>
                  <a:ext cx="131760" cy="986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K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rot="5400000">
                  <a:off x="7347600" y="3522240"/>
                  <a:ext cx="180720" cy="179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8400"/>
                      <a:tab algn="l" pos="1936800"/>
                      <a:tab algn="l" pos="2905200"/>
                      <a:tab algn="l" pos="3873600"/>
                      <a:tab algn="l" pos="4842000"/>
                      <a:tab algn="l" pos="5810400"/>
                      <a:tab algn="l" pos="6778800"/>
                      <a:tab algn="l" pos="7746840"/>
                      <a:tab algn="l" pos="8715240"/>
                      <a:tab algn="l" pos="9683640"/>
                      <a:tab algn="l" pos="106520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RCV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6231960" y="3701880"/>
                <a:ext cx="344520" cy="203040"/>
              </a:xfrm>
              <a:prstGeom prst="upArrowCallout">
                <a:avLst>
                  <a:gd name="adj1" fmla="val 42424"/>
                  <a:gd name="adj2" fmla="val 39325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588080" y="3611880"/>
                <a:ext cx="603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718040" y="3533760"/>
                <a:ext cx="304920" cy="1551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mul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243920" y="3701880"/>
                <a:ext cx="344160" cy="203040"/>
              </a:xfrm>
              <a:prstGeom prst="upArrowCallout">
                <a:avLst>
                  <a:gd name="adj1" fmla="val 42380"/>
                  <a:gd name="adj2" fmla="val 39284"/>
                  <a:gd name="adj3" fmla="val 16667"/>
                  <a:gd name="adj4" fmla="val 6666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BIS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696080" y="3701880"/>
                <a:ext cx="344520" cy="203040"/>
              </a:xfrm>
              <a:prstGeom prst="upArrowCallout">
                <a:avLst>
                  <a:gd name="adj1" fmla="val 42424"/>
                  <a:gd name="adj2" fmla="val 39325"/>
                  <a:gd name="adj3" fmla="val 16667"/>
                  <a:gd name="adj4" fmla="val 6666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8250480" y="3747240"/>
                <a:ext cx="360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8250480" y="3521520"/>
                <a:ext cx="0" cy="225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274960" y="3542040"/>
                <a:ext cx="302760" cy="1638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411760" y="3787560"/>
                <a:ext cx="366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169840" y="3448800"/>
                <a:ext cx="461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748560" y="3701880"/>
                <a:ext cx="344160" cy="203040"/>
              </a:xfrm>
              <a:prstGeom prst="upArrowCallout">
                <a:avLst>
                  <a:gd name="adj1" fmla="val 42380"/>
                  <a:gd name="adj2" fmla="val 39284"/>
                  <a:gd name="adj3" fmla="val 16667"/>
                  <a:gd name="adj4" fmla="val 6666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est circu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6172200" y="3429000"/>
              <a:ext cx="2514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8001000" y="2666880"/>
            <a:ext cx="685800" cy="581040"/>
            <a:chOff x="8001000" y="2666880"/>
            <a:chExt cx="685800" cy="581040"/>
          </a:xfrm>
        </p:grpSpPr>
        <p:sp>
          <p:nvSpPr>
            <p:cNvPr id="1375" name=""/>
            <p:cNvSpPr/>
            <p:nvPr/>
          </p:nvSpPr>
          <p:spPr>
            <a:xfrm>
              <a:off x="8001000" y="26668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8064720" y="2793600"/>
              <a:ext cx="463320" cy="309600"/>
              <a:chOff x="8064720" y="2793600"/>
              <a:chExt cx="463320" cy="309600"/>
            </a:xfrm>
          </p:grpSpPr>
          <p:sp>
            <p:nvSpPr>
              <p:cNvPr id="1377" name=""/>
              <p:cNvSpPr/>
              <p:nvPr/>
            </p:nvSpPr>
            <p:spPr>
              <a:xfrm>
                <a:off x="8064720" y="31017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8064720" y="27936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096400" y="2850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096400" y="2850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1" name=""/>
          <p:cNvSpPr/>
          <p:nvPr/>
        </p:nvSpPr>
        <p:spPr>
          <a:xfrm>
            <a:off x="8001000" y="3200400"/>
            <a:ext cx="533520" cy="399960"/>
          </a:xfrm>
          <a:custGeom>
            <a:avLst/>
            <a:gdLst>
              <a:gd name="textAreaLeft" fmla="*/ 0 w 533520"/>
              <a:gd name="textAreaRight" fmla="*/ 533880 w 5335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934320" y="289548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81680" y="2819520"/>
            <a:ext cx="1067040" cy="609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4920" y="3124080"/>
            <a:ext cx="1066680" cy="12956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95640"/>
              <a:gd name="textAreaBottom" fmla="*/ 1243800 h 1295640"/>
            </a:gdLst>
            <a:ahLst/>
            <a:rect l="textAreaLeft" t="textAreaTop" r="textAreaRight" b="textAreaBottom"/>
            <a:pathLst>
              <a:path w="21600" h="26235">
                <a:moveTo>
                  <a:pt x="3600" y="0"/>
                </a:moveTo>
                <a:arcTo wR="3600" hR="3600" stAng="16200000" swAng="-5400000"/>
                <a:lnTo>
                  <a:pt x="0" y="22635"/>
                </a:lnTo>
                <a:arcTo wR="3600" hR="3600" stAng="10800000" swAng="-5400000"/>
                <a:lnTo>
                  <a:pt x="18000" y="26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143000" y="2133720"/>
            <a:ext cx="990720" cy="182880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828800"/>
              <a:gd name="textAreaBottom" fmla="*/ 1780560 h 1828800"/>
            </a:gdLst>
            <a:ahLst/>
            <a:rect l="textAreaLeft" t="textAreaTop" r="textAreaRight" b="textAreaBottom"/>
            <a:pathLst>
              <a:path w="21600" h="39865">
                <a:moveTo>
                  <a:pt x="3600" y="0"/>
                </a:moveTo>
                <a:arcTo wR="3600" hR="3600" stAng="16200000" swAng="-5400000"/>
                <a:lnTo>
                  <a:pt x="0" y="36265"/>
                </a:lnTo>
                <a:arcTo wR="3600" hR="3600" stAng="10800000" swAng="-5400000"/>
                <a:lnTo>
                  <a:pt x="18000" y="398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362320" y="1143000"/>
            <a:ext cx="990360" cy="251460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514600"/>
              <a:gd name="textAreaBottom" fmla="*/ 2466360 h 2514600"/>
            </a:gdLst>
            <a:ahLst/>
            <a:rect l="textAreaLeft" t="textAreaTop" r="textAreaRight" b="textAreaBottom"/>
            <a:pathLst>
              <a:path w="21600" h="54832">
                <a:moveTo>
                  <a:pt x="3600" y="0"/>
                </a:moveTo>
                <a:arcTo wR="3600" hR="3600" stAng="16200000" swAng="-5400000"/>
                <a:lnTo>
                  <a:pt x="0" y="51232"/>
                </a:lnTo>
                <a:arcTo wR="3600" hR="3600" stAng="10800000" swAng="-5400000"/>
                <a:lnTo>
                  <a:pt x="18000" y="54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75520" y="4267080"/>
            <a:ext cx="514152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 would give the information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ow to carry out accurat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03920" y="6172200"/>
            <a:ext cx="835092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 checks IBIS1 Golden results and Golden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 provides IBIS2 ver.2 results using knowledge from IBIS1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Method(5/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9C8D-8FDC-4A7E-BFE1-E33393C9BD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304920" y="838080"/>
            <a:ext cx="380988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2" name=""/>
          <p:cNvSpPr/>
          <p:nvPr/>
        </p:nvSpPr>
        <p:spPr>
          <a:xfrm>
            <a:off x="2590920" y="1295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514600" y="2286000"/>
            <a:ext cx="685800" cy="581040"/>
            <a:chOff x="2514600" y="2286000"/>
            <a:chExt cx="685800" cy="581040"/>
          </a:xfrm>
        </p:grpSpPr>
        <p:sp>
          <p:nvSpPr>
            <p:cNvPr id="1395" name=""/>
            <p:cNvSpPr/>
            <p:nvPr/>
          </p:nvSpPr>
          <p:spPr>
            <a:xfrm>
              <a:off x="251460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2578320" y="2412720"/>
              <a:ext cx="463320" cy="309600"/>
              <a:chOff x="2578320" y="2412720"/>
              <a:chExt cx="463320" cy="309600"/>
            </a:xfrm>
          </p:grpSpPr>
          <p:sp>
            <p:nvSpPr>
              <p:cNvPr id="1397" name=""/>
              <p:cNvSpPr/>
              <p:nvPr/>
            </p:nvSpPr>
            <p:spPr>
              <a:xfrm>
                <a:off x="257832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257832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61000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1" name=""/>
          <p:cNvSpPr/>
          <p:nvPr/>
        </p:nvSpPr>
        <p:spPr>
          <a:xfrm>
            <a:off x="2514600" y="178452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29000" y="12859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314880" y="1790640"/>
            <a:ext cx="76176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76720" y="2286000"/>
            <a:ext cx="685800" cy="581040"/>
            <a:chOff x="3276720" y="2286000"/>
            <a:chExt cx="685800" cy="581040"/>
          </a:xfrm>
        </p:grpSpPr>
        <p:sp>
          <p:nvSpPr>
            <p:cNvPr id="1405" name=""/>
            <p:cNvSpPr/>
            <p:nvPr/>
          </p:nvSpPr>
          <p:spPr>
            <a:xfrm>
              <a:off x="3276720" y="22860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6" name=""/>
            <p:cNvGrpSpPr/>
            <p:nvPr/>
          </p:nvGrpSpPr>
          <p:grpSpPr>
            <a:xfrm>
              <a:off x="3340440" y="2412720"/>
              <a:ext cx="463320" cy="309600"/>
              <a:chOff x="3340440" y="2412720"/>
              <a:chExt cx="463320" cy="309600"/>
            </a:xfrm>
          </p:grpSpPr>
          <p:sp>
            <p:nvSpPr>
              <p:cNvPr id="1407" name=""/>
              <p:cNvSpPr/>
              <p:nvPr/>
            </p:nvSpPr>
            <p:spPr>
              <a:xfrm>
                <a:off x="3340440" y="27208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3340440" y="24127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372120" y="24699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1" name=""/>
          <p:cNvSpPr/>
          <p:nvPr/>
        </p:nvSpPr>
        <p:spPr>
          <a:xfrm>
            <a:off x="267372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83360" y="2590920"/>
            <a:ext cx="547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7200" y="3124080"/>
            <a:ext cx="685800" cy="581040"/>
            <a:chOff x="457200" y="3124080"/>
            <a:chExt cx="685800" cy="581040"/>
          </a:xfrm>
        </p:grpSpPr>
        <p:sp>
          <p:nvSpPr>
            <p:cNvPr id="1414" name=""/>
            <p:cNvSpPr/>
            <p:nvPr/>
          </p:nvSpPr>
          <p:spPr>
            <a:xfrm>
              <a:off x="457200" y="31240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520920" y="3250800"/>
              <a:ext cx="463320" cy="309600"/>
              <a:chOff x="520920" y="3250800"/>
              <a:chExt cx="463320" cy="309600"/>
            </a:xfrm>
          </p:grpSpPr>
          <p:sp>
            <p:nvSpPr>
              <p:cNvPr id="1416" name=""/>
              <p:cNvSpPr/>
              <p:nvPr/>
            </p:nvSpPr>
            <p:spPr>
              <a:xfrm>
                <a:off x="520920" y="35589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520920" y="32508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5260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0" name=""/>
          <p:cNvSpPr/>
          <p:nvPr/>
        </p:nvSpPr>
        <p:spPr>
          <a:xfrm>
            <a:off x="692280" y="35053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57200" y="2209680"/>
            <a:ext cx="685800" cy="581040"/>
            <a:chOff x="457200" y="2209680"/>
            <a:chExt cx="685800" cy="581040"/>
          </a:xfrm>
        </p:grpSpPr>
        <p:sp>
          <p:nvSpPr>
            <p:cNvPr id="1422" name=""/>
            <p:cNvSpPr/>
            <p:nvPr/>
          </p:nvSpPr>
          <p:spPr>
            <a:xfrm>
              <a:off x="457200" y="2209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3" name=""/>
            <p:cNvGrpSpPr/>
            <p:nvPr/>
          </p:nvGrpSpPr>
          <p:grpSpPr>
            <a:xfrm>
              <a:off x="520920" y="2336400"/>
              <a:ext cx="463320" cy="309600"/>
              <a:chOff x="520920" y="2336400"/>
              <a:chExt cx="463320" cy="309600"/>
            </a:xfrm>
          </p:grpSpPr>
          <p:sp>
            <p:nvSpPr>
              <p:cNvPr id="1424" name=""/>
              <p:cNvSpPr/>
              <p:nvPr/>
            </p:nvSpPr>
            <p:spPr>
              <a:xfrm>
                <a:off x="520920" y="2644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520920" y="2336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260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8" name=""/>
          <p:cNvSpPr/>
          <p:nvPr/>
        </p:nvSpPr>
        <p:spPr>
          <a:xfrm>
            <a:off x="692280" y="2590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467080" y="3143160"/>
            <a:ext cx="7617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3962520"/>
            <a:ext cx="533160" cy="380880"/>
          </a:xfrm>
          <a:prstGeom prst="flowChartDocumen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i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0880" y="2209680"/>
            <a:ext cx="175284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1324080" y="3124080"/>
            <a:ext cx="685800" cy="581040"/>
            <a:chOff x="1324080" y="3124080"/>
            <a:chExt cx="685800" cy="581040"/>
          </a:xfrm>
        </p:grpSpPr>
        <p:sp>
          <p:nvSpPr>
            <p:cNvPr id="1433" name=""/>
            <p:cNvSpPr/>
            <p:nvPr/>
          </p:nvSpPr>
          <p:spPr>
            <a:xfrm>
              <a:off x="1324080" y="31240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4" name=""/>
            <p:cNvGrpSpPr/>
            <p:nvPr/>
          </p:nvGrpSpPr>
          <p:grpSpPr>
            <a:xfrm>
              <a:off x="1387800" y="3250800"/>
              <a:ext cx="463320" cy="309600"/>
              <a:chOff x="1387800" y="3250800"/>
              <a:chExt cx="463320" cy="309600"/>
            </a:xfrm>
          </p:grpSpPr>
          <p:sp>
            <p:nvSpPr>
              <p:cNvPr id="1435" name=""/>
              <p:cNvSpPr/>
              <p:nvPr/>
            </p:nvSpPr>
            <p:spPr>
              <a:xfrm>
                <a:off x="1387800" y="35589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1387800" y="32508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41948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419480" y="33080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9" name=""/>
          <p:cNvSpPr/>
          <p:nvPr/>
        </p:nvSpPr>
        <p:spPr>
          <a:xfrm>
            <a:off x="1559160" y="35053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1295280" y="2209680"/>
            <a:ext cx="685800" cy="581040"/>
            <a:chOff x="1295280" y="2209680"/>
            <a:chExt cx="685800" cy="581040"/>
          </a:xfrm>
        </p:grpSpPr>
        <p:sp>
          <p:nvSpPr>
            <p:cNvPr id="1441" name=""/>
            <p:cNvSpPr/>
            <p:nvPr/>
          </p:nvSpPr>
          <p:spPr>
            <a:xfrm>
              <a:off x="1295280" y="22096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1359000" y="2336400"/>
              <a:ext cx="463320" cy="309600"/>
              <a:chOff x="1359000" y="2336400"/>
              <a:chExt cx="463320" cy="309600"/>
            </a:xfrm>
          </p:grpSpPr>
          <p:sp>
            <p:nvSpPr>
              <p:cNvPr id="1443" name=""/>
              <p:cNvSpPr/>
              <p:nvPr/>
            </p:nvSpPr>
            <p:spPr>
              <a:xfrm>
                <a:off x="1359000" y="26445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1359000" y="23364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9068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390680" y="23936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7" name=""/>
          <p:cNvSpPr/>
          <p:nvPr/>
        </p:nvSpPr>
        <p:spPr>
          <a:xfrm>
            <a:off x="1530360" y="2590920"/>
            <a:ext cx="49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Ve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14280" y="4419720"/>
            <a:ext cx="634392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We can complete the verification of this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y evaluating difference between IBIS2 ver.1 and ver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Method(6/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0BF8-CD3B-468B-9B16-0A4D86C7B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Result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Ver.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368280" y="1060560"/>
            <a:ext cx="2679120" cy="1306080"/>
            <a:chOff x="368280" y="1060560"/>
            <a:chExt cx="2679120" cy="1306080"/>
          </a:xfrm>
        </p:grpSpPr>
        <p:sp>
          <p:nvSpPr>
            <p:cNvPr id="1452" name=""/>
            <p:cNvSpPr/>
            <p:nvPr/>
          </p:nvSpPr>
          <p:spPr>
            <a:xfrm>
              <a:off x="433440" y="1071360"/>
              <a:ext cx="2590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rot="5400000">
              <a:off x="591840" y="1356840"/>
              <a:ext cx="39960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2238480" y="1760400"/>
              <a:ext cx="100080" cy="252000"/>
              <a:chOff x="2238480" y="1760400"/>
              <a:chExt cx="100080" cy="252000"/>
            </a:xfrm>
          </p:grpSpPr>
          <p:sp>
            <p:nvSpPr>
              <p:cNvPr id="1455" name=""/>
              <p:cNvSpPr/>
              <p:nvPr/>
            </p:nvSpPr>
            <p:spPr>
              <a:xfrm flipH="1">
                <a:off x="2238480" y="19242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238480" y="18990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2238480" y="18738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238480" y="18486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2238480" y="18234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288520" y="1811160"/>
                <a:ext cx="5004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 flipV="1">
                <a:off x="2238480" y="1949400"/>
                <a:ext cx="500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2288520" y="176040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288520" y="196200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289240" y="1569960"/>
              <a:ext cx="0" cy="19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15920" y="1566720"/>
              <a:ext cx="127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301120" y="1771560"/>
              <a:ext cx="74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 = 5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106640" y="1441440"/>
              <a:ext cx="317520" cy="26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287800" y="1979640"/>
              <a:ext cx="0" cy="20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203560" y="2182680"/>
              <a:ext cx="169920" cy="41040"/>
              <a:chOff x="2203560" y="2182680"/>
              <a:chExt cx="169920" cy="41040"/>
            </a:xfrm>
          </p:grpSpPr>
          <p:sp>
            <p:nvSpPr>
              <p:cNvPr id="1470" name=""/>
              <p:cNvSpPr/>
              <p:nvPr/>
            </p:nvSpPr>
            <p:spPr>
              <a:xfrm>
                <a:off x="2203560" y="218268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2203560" y="218268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2246040" y="218268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2288520" y="218268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 flipH="1">
              <a:off x="2276640" y="1395360"/>
              <a:ext cx="139680" cy="1393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5760" y="122400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68280" y="106056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500120" y="1441440"/>
              <a:ext cx="609840" cy="26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361880" y="1698480"/>
              <a:ext cx="84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30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1462680" y="609300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t maker ver.1 result does not agree with chip vendor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876920" y="1268280"/>
            <a:ext cx="36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.1: before using IBIS quality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1430280" y="2193840"/>
            <a:ext cx="6283440" cy="390852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/>
          <p:nvPr/>
        </p:nvSpPr>
        <p:spPr>
          <a:xfrm>
            <a:off x="382320" y="68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42EC-82BE-4043-BB9F-54F2B69AC8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 Qualit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 of IBIS Qualit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 and Futur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7B31-64EA-4235-AF67-1933552A39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Result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r.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84" name=""/>
          <p:cNvGrpSpPr/>
          <p:nvPr/>
        </p:nvGrpSpPr>
        <p:grpSpPr>
          <a:xfrm>
            <a:off x="368280" y="1060560"/>
            <a:ext cx="2679120" cy="1306080"/>
            <a:chOff x="368280" y="1060560"/>
            <a:chExt cx="2679120" cy="1306080"/>
          </a:xfrm>
        </p:grpSpPr>
        <p:sp>
          <p:nvSpPr>
            <p:cNvPr id="1485" name=""/>
            <p:cNvSpPr/>
            <p:nvPr/>
          </p:nvSpPr>
          <p:spPr>
            <a:xfrm>
              <a:off x="433440" y="1071360"/>
              <a:ext cx="2590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5400000">
              <a:off x="591840" y="1356840"/>
              <a:ext cx="39960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"/>
            <p:cNvGrpSpPr/>
            <p:nvPr/>
          </p:nvGrpSpPr>
          <p:grpSpPr>
            <a:xfrm>
              <a:off x="2238480" y="1760400"/>
              <a:ext cx="100080" cy="252000"/>
              <a:chOff x="2238480" y="1760400"/>
              <a:chExt cx="100080" cy="252000"/>
            </a:xfrm>
          </p:grpSpPr>
          <p:sp>
            <p:nvSpPr>
              <p:cNvPr id="1488" name=""/>
              <p:cNvSpPr/>
              <p:nvPr/>
            </p:nvSpPr>
            <p:spPr>
              <a:xfrm flipH="1">
                <a:off x="2238480" y="19242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 flipV="1">
                <a:off x="2238480" y="18990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2238480" y="18738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 flipV="1">
                <a:off x="2238480" y="18486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>
                <a:off x="2238480" y="182340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 flipV="1">
                <a:off x="2288520" y="1811160"/>
                <a:ext cx="5004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 flipV="1">
                <a:off x="2238480" y="1949400"/>
                <a:ext cx="500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2288520" y="176040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2288520" y="196200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2289240" y="1569960"/>
              <a:ext cx="0" cy="19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15920" y="1566720"/>
              <a:ext cx="127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301120" y="1771560"/>
              <a:ext cx="74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 = 5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06640" y="1441440"/>
              <a:ext cx="317520" cy="26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87800" y="1979640"/>
              <a:ext cx="0" cy="20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2203560" y="2182680"/>
              <a:ext cx="169920" cy="41040"/>
              <a:chOff x="2203560" y="2182680"/>
              <a:chExt cx="169920" cy="41040"/>
            </a:xfrm>
          </p:grpSpPr>
          <p:sp>
            <p:nvSpPr>
              <p:cNvPr id="1503" name=""/>
              <p:cNvSpPr/>
              <p:nvPr/>
            </p:nvSpPr>
            <p:spPr>
              <a:xfrm>
                <a:off x="2203560" y="218268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>
                <a:off x="2203560" y="218268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2246040" y="218268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2288520" y="218268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 flipH="1">
              <a:off x="2276640" y="1395360"/>
              <a:ext cx="139680" cy="1393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255760" y="122400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8280" y="106056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500120" y="1441440"/>
              <a:ext cx="609840" cy="26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361880" y="1698480"/>
              <a:ext cx="84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30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1933560" y="609300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t maker ver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result agree with chip vendor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876920" y="1268280"/>
            <a:ext cx="329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.2: after using IBIS quality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067720" y="1927080"/>
            <a:ext cx="22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Added simulation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1"/>
          <a:stretch/>
        </p:blipFill>
        <p:spPr>
          <a:xfrm>
            <a:off x="1430280" y="2192400"/>
            <a:ext cx="6283440" cy="3908520"/>
          </a:xfrm>
          <a:prstGeom prst="rect">
            <a:avLst/>
          </a:prstGeom>
          <a:ln w="0">
            <a:noFill/>
          </a:ln>
        </p:spPr>
      </p:pic>
      <p:sp>
        <p:nvSpPr>
          <p:cNvPr id="1516" name=""/>
          <p:cNvSpPr/>
          <p:nvPr/>
        </p:nvSpPr>
        <p:spPr>
          <a:xfrm>
            <a:off x="382320" y="68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DF19-7F2B-4475-B6E9-D7594CC123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 Verification of IBIS Quality Framework - All resul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286000" y="692280"/>
            <a:ext cx="5381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fect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ial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25840" y="342900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5719680"/>
            <a:ext cx="77724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 quality framework helped users to enhance simulation accur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95280" y="2349360"/>
            <a:ext cx="201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.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efore using IBIS quality frame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95280" y="4365720"/>
            <a:ext cx="201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.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fter using IBIS quality frame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3" name="" descr=""/>
          <p:cNvPicPr/>
          <p:nvPr/>
        </p:nvPicPr>
        <p:blipFill>
          <a:blip r:embed="rId1"/>
          <a:stretch/>
        </p:blipFill>
        <p:spPr>
          <a:xfrm>
            <a:off x="2479680" y="1600200"/>
            <a:ext cx="4183200" cy="172260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2"/>
          <a:stretch/>
        </p:blipFill>
        <p:spPr>
          <a:xfrm>
            <a:off x="2479680" y="3809880"/>
            <a:ext cx="4183200" cy="172260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/>
          <p:nvPr/>
        </p:nvSpPr>
        <p:spPr>
          <a:xfrm>
            <a:off x="382320" y="68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ABB9-C114-4B53-9E57-80273488BC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. Conclusion and Future Dire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d the verification of IBIS Quality Framework for single-ended 10Mbps-class IBIS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ar Future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d the applicability of IBIS Quality Framework to other 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-ended 100Mbps-class IBIS model (ex. DDR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 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te this frame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8" name="" descr=""/>
          <p:cNvPicPr/>
          <p:nvPr/>
        </p:nvPicPr>
        <p:blipFill>
          <a:blip r:embed="rId1"/>
          <a:stretch/>
        </p:blipFill>
        <p:spPr>
          <a:xfrm>
            <a:off x="4800600" y="3559320"/>
            <a:ext cx="3678120" cy="24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9562-6B4C-4D5A-9668-200A5C329A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717480" y="31014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9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CE2D-B018-49D9-9312-5E7ECCD533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Motivation - IBIS Quality issues are confus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715000"/>
            <a:ext cx="1689120" cy="5032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7000" y="990720"/>
            <a:ext cx="1527120" cy="5410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5638680"/>
            <a:ext cx="1752480" cy="5414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hip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752480"/>
            <a:ext cx="2133360" cy="3657600"/>
          </a:xfrm>
          <a:prstGeom prst="line">
            <a:avLst/>
          </a:prstGeom>
          <a:ln w="127080">
            <a:solidFill>
              <a:srgbClr val="ff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42840" y="5638680"/>
            <a:ext cx="3429000" cy="0"/>
          </a:xfrm>
          <a:prstGeom prst="line">
            <a:avLst/>
          </a:prstGeom>
          <a:ln w="127080">
            <a:solidFill>
              <a:srgbClr val="ff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324480"/>
            <a:ext cx="3429000" cy="0"/>
          </a:xfrm>
          <a:prstGeom prst="line">
            <a:avLst/>
          </a:prstGeom>
          <a:ln w="127080">
            <a:solidFill>
              <a:srgbClr val="ff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486040" y="1752480"/>
            <a:ext cx="2133720" cy="3657600"/>
          </a:xfrm>
          <a:prstGeom prst="line">
            <a:avLst/>
          </a:prstGeom>
          <a:ln w="127080">
            <a:solidFill>
              <a:srgbClr val="ff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70920" y="4334040"/>
            <a:ext cx="258588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s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sed correct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920" y="1752480"/>
            <a:ext cx="2133360" cy="3657600"/>
          </a:xfrm>
          <a:prstGeom prst="line">
            <a:avLst/>
          </a:prstGeom>
          <a:ln w="127080">
            <a:solidFill>
              <a:srgbClr val="ff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057400" y="1752480"/>
            <a:ext cx="2133720" cy="3657600"/>
          </a:xfrm>
          <a:prstGeom prst="line">
            <a:avLst/>
          </a:prstGeom>
          <a:ln w="127080">
            <a:solidFill>
              <a:srgbClr val="ff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9720" y="2505240"/>
            <a:ext cx="333396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s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mplemented correct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1040" y="4343400"/>
            <a:ext cx="258588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s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sed correct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5400" y="6064200"/>
            <a:ext cx="305064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s the IB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generated correct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0680" y="5372280"/>
            <a:ext cx="333396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s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mplemented correct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4000" y="3428640"/>
            <a:ext cx="3813120" cy="643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he framework with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can verify IBIS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23880" y="2657520"/>
            <a:ext cx="305064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s the IB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generated correct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722160" cy="17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68FA-6FDC-46DE-86A5-860DBA92AF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Motivation – The Purpose of JEITA IBIS Quality W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715000"/>
            <a:ext cx="1689120" cy="5032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D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7000" y="990720"/>
            <a:ext cx="1527120" cy="5410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Set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5638680"/>
            <a:ext cx="1752480" cy="5414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hip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838080"/>
            <a:ext cx="2590560" cy="838440"/>
          </a:xfrm>
          <a:prstGeom prst="ellipse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TA IB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572000" y="1599840"/>
            <a:ext cx="0" cy="121932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981080" y="4164120"/>
            <a:ext cx="1371600" cy="124596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9920" y="2133720"/>
            <a:ext cx="486252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ow to get better 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ow to carry out accurat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4162320"/>
            <a:ext cx="1371600" cy="124776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67640" y="4419720"/>
            <a:ext cx="290124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ow to qualify 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640" y="1752480"/>
            <a:ext cx="330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the framework with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can verify IBIS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66960" y="2895480"/>
            <a:ext cx="1808280" cy="1684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1828800">
            <a:off x="2666880" y="2819160"/>
            <a:ext cx="1067040" cy="45720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35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8720" y="4419720"/>
            <a:ext cx="3795840" cy="31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ow to qualify th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1C5A-1A38-41E5-A3FD-FCF9AEFF6F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Motivation - Schedu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0880" y="758880"/>
          <a:ext cx="7859880" cy="5205240"/>
        </p:xfrm>
        <a:graphic>
          <a:graphicData uri="http://schemas.openxmlformats.org/drawingml/2006/table">
            <a:tbl>
              <a:tblPr/>
              <a:tblGrid>
                <a:gridCol w="1239840"/>
                <a:gridCol w="1608120"/>
                <a:gridCol w="1009800"/>
                <a:gridCol w="944640"/>
                <a:gridCol w="1017360"/>
                <a:gridCol w="1019160"/>
                <a:gridCol w="1020960"/>
              </a:tblGrid>
              <a:tr h="569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al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ic study of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IS quality 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fication of IBIS quality 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ended IBIS model-low speed (10Mbps clas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ended IBIS model-high speed (100Mbps clas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erential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BIS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260960" y="2514600"/>
            <a:ext cx="920520" cy="422280"/>
          </a:xfrm>
          <a:custGeom>
            <a:avLst/>
            <a:gdLst>
              <a:gd name="textAreaLeft" fmla="*/ 0 w 920520"/>
              <a:gd name="textAreaRight" fmla="*/ 920880 w 92052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28" y="0"/>
                </a:lnTo>
                <a:lnTo>
                  <a:pt x="21600" y="10800"/>
                </a:lnTo>
                <a:lnTo>
                  <a:pt x="18728" y="21600"/>
                </a:lnTo>
                <a:lnTo>
                  <a:pt x="0" y="21600"/>
                </a:lnTo>
                <a:lnTo>
                  <a:pt x="2872" y="108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600200"/>
            <a:ext cx="990360" cy="425520"/>
          </a:xfrm>
          <a:custGeom>
            <a:avLst/>
            <a:gdLst>
              <a:gd name="textAreaLeft" fmla="*/ 0 w 990360"/>
              <a:gd name="textAreaRight" fmla="*/ 990720 w 9903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28" y="0"/>
                </a:lnTo>
                <a:lnTo>
                  <a:pt x="21600" y="10800"/>
                </a:lnTo>
                <a:lnTo>
                  <a:pt x="18728" y="21600"/>
                </a:lnTo>
                <a:lnTo>
                  <a:pt x="0" y="21600"/>
                </a:lnTo>
                <a:lnTo>
                  <a:pt x="2872" y="1080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5334120"/>
            <a:ext cx="1160280" cy="43164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28" y="0"/>
                </a:lnTo>
                <a:lnTo>
                  <a:pt x="21600" y="10800"/>
                </a:lnTo>
                <a:lnTo>
                  <a:pt x="18728" y="21600"/>
                </a:lnTo>
                <a:lnTo>
                  <a:pt x="0" y="21600"/>
                </a:lnTo>
                <a:lnTo>
                  <a:pt x="2872" y="1080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172200" y="5799240"/>
            <a:ext cx="2390040" cy="182880"/>
            <a:chOff x="6172200" y="5799240"/>
            <a:chExt cx="2390040" cy="182880"/>
          </a:xfrm>
        </p:grpSpPr>
        <p:sp>
          <p:nvSpPr>
            <p:cNvPr id="91" name=""/>
            <p:cNvSpPr/>
            <p:nvPr/>
          </p:nvSpPr>
          <p:spPr>
            <a:xfrm>
              <a:off x="6295320" y="5799240"/>
              <a:ext cx="22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n web site (low-speed IB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2200" y="5838840"/>
              <a:ext cx="109800" cy="109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172200" y="5334120"/>
            <a:ext cx="2133720" cy="431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9" y="0"/>
                </a:lnTo>
                <a:lnTo>
                  <a:pt x="21600" y="10800"/>
                </a:lnTo>
                <a:lnTo>
                  <a:pt x="20119" y="21600"/>
                </a:lnTo>
                <a:lnTo>
                  <a:pt x="0" y="21600"/>
                </a:lnTo>
                <a:lnTo>
                  <a:pt x="1481" y="1080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 content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igh-speed, different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3573360"/>
            <a:ext cx="990720" cy="42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28" y="0"/>
                </a:lnTo>
                <a:lnTo>
                  <a:pt x="21600" y="10800"/>
                </a:lnTo>
                <a:lnTo>
                  <a:pt x="18728" y="21600"/>
                </a:lnTo>
                <a:lnTo>
                  <a:pt x="0" y="21600"/>
                </a:lnTo>
                <a:lnTo>
                  <a:pt x="2872" y="1080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530600"/>
            <a:ext cx="1081080" cy="4222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5" y="0"/>
                </a:lnTo>
                <a:lnTo>
                  <a:pt x="21600" y="10800"/>
                </a:lnTo>
                <a:lnTo>
                  <a:pt x="19545" y="21600"/>
                </a:lnTo>
                <a:lnTo>
                  <a:pt x="0" y="21600"/>
                </a:lnTo>
                <a:lnTo>
                  <a:pt x="2055" y="10800"/>
                </a:lnTo>
                <a:close/>
              </a:path>
            </a:pathLst>
          </a:cu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1905120"/>
            <a:ext cx="1676160" cy="406440"/>
          </a:xfrm>
          <a:prstGeom prst="wedgeRoundRectCallout">
            <a:avLst>
              <a:gd name="adj1" fmla="val -50569"/>
              <a:gd name="adj2" fmla="val 109375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288B-2124-47BC-BC01-F9C93050B5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ion results for test circuits with qualified IBIS, qualified transmission line simulator, and qualified user, show good agreements with those of SPICE based simul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040" y="4572000"/>
            <a:ext cx="4208400" cy="619200"/>
            <a:chOff x="914040" y="4572000"/>
            <a:chExt cx="4208400" cy="619200"/>
          </a:xfrm>
        </p:grpSpPr>
        <p:sp>
          <p:nvSpPr>
            <p:cNvPr id="99" name=""/>
            <p:cNvSpPr/>
            <p:nvPr/>
          </p:nvSpPr>
          <p:spPr>
            <a:xfrm rot="5400000">
              <a:off x="925920" y="4560120"/>
              <a:ext cx="613080" cy="63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38640" y="4884480"/>
              <a:ext cx="300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85880" y="4732560"/>
              <a:ext cx="466560" cy="33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85720" y="4607280"/>
              <a:ext cx="1224720" cy="58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4080" y="4732560"/>
              <a:ext cx="466560" cy="33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4497480" y="4560120"/>
              <a:ext cx="613080" cy="63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C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33520" y="5181480"/>
            <a:ext cx="1218960" cy="685800"/>
          </a:xfrm>
          <a:prstGeom prst="upArrowCallout">
            <a:avLst>
              <a:gd name="adj1" fmla="val 44440"/>
              <a:gd name="adj2" fmla="val 41193"/>
              <a:gd name="adj3" fmla="val 16667"/>
              <a:gd name="adj4" fmla="val 6666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487692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694400"/>
            <a:ext cx="107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181480"/>
            <a:ext cx="1219320" cy="685800"/>
          </a:xfrm>
          <a:prstGeom prst="upArrowCallout">
            <a:avLst>
              <a:gd name="adj1" fmla="val 44453"/>
              <a:gd name="adj2" fmla="val 41205"/>
              <a:gd name="adj3" fmla="val 16667"/>
              <a:gd name="adj4" fmla="val 6666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181480"/>
            <a:ext cx="1219320" cy="685800"/>
          </a:xfrm>
          <a:prstGeom prst="upArrowCallout">
            <a:avLst>
              <a:gd name="adj1" fmla="val 44453"/>
              <a:gd name="adj2" fmla="val 41205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040" y="2468520"/>
            <a:ext cx="4208400" cy="619200"/>
            <a:chOff x="914040" y="2468520"/>
            <a:chExt cx="4208400" cy="619200"/>
          </a:xfrm>
        </p:grpSpPr>
        <p:sp>
          <p:nvSpPr>
            <p:cNvPr id="111" name=""/>
            <p:cNvSpPr/>
            <p:nvPr/>
          </p:nvSpPr>
          <p:spPr>
            <a:xfrm rot="5400000">
              <a:off x="925920" y="2456640"/>
              <a:ext cx="613080" cy="63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38640" y="2781000"/>
              <a:ext cx="300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5880" y="2629080"/>
              <a:ext cx="466560" cy="33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85720" y="2503800"/>
              <a:ext cx="1224720" cy="58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4080" y="2629080"/>
              <a:ext cx="466560" cy="33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4497480" y="2456640"/>
              <a:ext cx="613080" cy="63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C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3520" y="3078000"/>
            <a:ext cx="1218960" cy="685800"/>
          </a:xfrm>
          <a:prstGeom prst="upArrowCallout">
            <a:avLst>
              <a:gd name="adj1" fmla="val 44440"/>
              <a:gd name="adj2" fmla="val 41193"/>
              <a:gd name="adj3" fmla="val 16667"/>
              <a:gd name="adj4" fmla="val 6666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77344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590920"/>
            <a:ext cx="107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3078000"/>
            <a:ext cx="1219320" cy="685800"/>
          </a:xfrm>
          <a:prstGeom prst="upArrowCallout">
            <a:avLst>
              <a:gd name="adj1" fmla="val 44453"/>
              <a:gd name="adj2" fmla="val 41205"/>
              <a:gd name="adj3" fmla="val 16667"/>
              <a:gd name="adj4" fmla="val 6666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3078000"/>
            <a:ext cx="1219320" cy="685800"/>
          </a:xfrm>
          <a:prstGeom prst="upArrowCallout">
            <a:avLst>
              <a:gd name="adj1" fmla="val 44453"/>
              <a:gd name="adj2" fmla="val 41205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389720" y="1981080"/>
            <a:ext cx="1562040" cy="1450080"/>
            <a:chOff x="7389720" y="1981080"/>
            <a:chExt cx="1562040" cy="1450080"/>
          </a:xfrm>
        </p:grpSpPr>
        <p:sp>
          <p:nvSpPr>
            <p:cNvPr id="123" name=""/>
            <p:cNvSpPr/>
            <p:nvPr/>
          </p:nvSpPr>
          <p:spPr>
            <a:xfrm>
              <a:off x="7675560" y="3124080"/>
              <a:ext cx="12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75560" y="2277720"/>
              <a:ext cx="0" cy="84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63040" y="2432160"/>
              <a:ext cx="1073160" cy="552240"/>
            </a:xfrm>
            <a:custGeom>
              <a:avLst/>
              <a:gdLst/>
              <a:ahLst/>
              <a:rect l="l" t="t" r="r" b="b"/>
              <a:pathLst>
                <a:path w="576" h="297">
                  <a:moveTo>
                    <a:pt x="0" y="255"/>
                  </a:moveTo>
                  <a:cubicBezTo>
                    <a:pt x="32" y="271"/>
                    <a:pt x="64" y="287"/>
                    <a:pt x="96" y="255"/>
                  </a:cubicBezTo>
                  <a:cubicBezTo>
                    <a:pt x="128" y="223"/>
                    <a:pt x="150" y="100"/>
                    <a:pt x="192" y="63"/>
                  </a:cubicBezTo>
                  <a:cubicBezTo>
                    <a:pt x="234" y="26"/>
                    <a:pt x="307" y="0"/>
                    <a:pt x="350" y="33"/>
                  </a:cubicBezTo>
                  <a:cubicBezTo>
                    <a:pt x="393" y="66"/>
                    <a:pt x="412" y="223"/>
                    <a:pt x="450" y="260"/>
                  </a:cubicBezTo>
                  <a:cubicBezTo>
                    <a:pt x="488" y="297"/>
                    <a:pt x="547" y="264"/>
                    <a:pt x="576" y="2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45080" y="31240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9720" y="1981080"/>
              <a:ext cx="767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389720" y="4191120"/>
            <a:ext cx="1562040" cy="1449720"/>
            <a:chOff x="7389720" y="4191120"/>
            <a:chExt cx="1562040" cy="1449720"/>
          </a:xfrm>
        </p:grpSpPr>
        <p:sp>
          <p:nvSpPr>
            <p:cNvPr id="129" name=""/>
            <p:cNvSpPr/>
            <p:nvPr/>
          </p:nvSpPr>
          <p:spPr>
            <a:xfrm>
              <a:off x="7675560" y="5333760"/>
              <a:ext cx="12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675560" y="4487760"/>
              <a:ext cx="0" cy="84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63040" y="4641840"/>
              <a:ext cx="1073160" cy="551880"/>
            </a:xfrm>
            <a:custGeom>
              <a:avLst/>
              <a:gdLst/>
              <a:ahLst/>
              <a:rect l="l" t="t" r="r" b="b"/>
              <a:pathLst>
                <a:path w="576" h="297">
                  <a:moveTo>
                    <a:pt x="0" y="255"/>
                  </a:moveTo>
                  <a:cubicBezTo>
                    <a:pt x="32" y="271"/>
                    <a:pt x="64" y="287"/>
                    <a:pt x="96" y="255"/>
                  </a:cubicBezTo>
                  <a:cubicBezTo>
                    <a:pt x="128" y="223"/>
                    <a:pt x="150" y="100"/>
                    <a:pt x="192" y="63"/>
                  </a:cubicBezTo>
                  <a:cubicBezTo>
                    <a:pt x="234" y="26"/>
                    <a:pt x="307" y="0"/>
                    <a:pt x="350" y="33"/>
                  </a:cubicBezTo>
                  <a:cubicBezTo>
                    <a:pt x="393" y="66"/>
                    <a:pt x="412" y="223"/>
                    <a:pt x="450" y="260"/>
                  </a:cubicBezTo>
                  <a:cubicBezTo>
                    <a:pt x="488" y="297"/>
                    <a:pt x="547" y="264"/>
                    <a:pt x="576" y="255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45080" y="53337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9720" y="4191120"/>
              <a:ext cx="767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772400" y="342900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124080"/>
            <a:ext cx="1219320" cy="1371600"/>
          </a:xfrm>
          <a:custGeom>
            <a:avLst/>
            <a:gdLst>
              <a:gd name="textAreaLeft" fmla="*/ 0 w 1219320"/>
              <a:gd name="textAreaRight" fmla="*/ 1219680 w 1219320"/>
              <a:gd name="textAreaTop" fmla="*/ 426960 h 1371600"/>
              <a:gd name="textAreaBottom" fmla="*/ 9446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6725"/>
                </a:moveTo>
                <a:lnTo>
                  <a:pt x="0" y="14875"/>
                </a:lnTo>
                <a:lnTo>
                  <a:pt x="8100" y="14875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4875"/>
                </a:lnTo>
                <a:lnTo>
                  <a:pt x="21600" y="14875"/>
                </a:lnTo>
                <a:lnTo>
                  <a:pt x="21600" y="6725"/>
                </a:lnTo>
                <a:lnTo>
                  <a:pt x="13500" y="6725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725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IBIS Quality Framework - Definition of Qualified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8DAE-0A70-4931-BBCE-7AA31F0B21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93120" y="1143000"/>
            <a:ext cx="200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903840" y="838080"/>
            <a:ext cx="2393280" cy="1085760"/>
            <a:chOff x="3903840" y="838080"/>
            <a:chExt cx="2393280" cy="1085760"/>
          </a:xfrm>
        </p:grpSpPr>
        <p:sp>
          <p:nvSpPr>
            <p:cNvPr id="139" name=""/>
            <p:cNvSpPr/>
            <p:nvPr/>
          </p:nvSpPr>
          <p:spPr>
            <a:xfrm>
              <a:off x="4125960" y="1072800"/>
              <a:ext cx="206172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60800" y="1342800"/>
              <a:ext cx="31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356000" y="1279440"/>
              <a:ext cx="339120" cy="128520"/>
              <a:chOff x="4356000" y="1279440"/>
              <a:chExt cx="339120" cy="128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668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454248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0864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7444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4060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4423680" y="1279440"/>
                <a:ext cx="16920" cy="6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4610520" y="1343520"/>
                <a:ext cx="16920" cy="6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4356000" y="1343520"/>
                <a:ext cx="67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4627440" y="1343520"/>
                <a:ext cx="67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670280" y="1342800"/>
              <a:ext cx="63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1480" y="1315800"/>
              <a:ext cx="64800" cy="65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305320" y="1288800"/>
              <a:ext cx="264600" cy="55440"/>
              <a:chOff x="5305320" y="1288800"/>
              <a:chExt cx="264600" cy="55440"/>
            </a:xfrm>
          </p:grpSpPr>
          <p:sp>
            <p:nvSpPr>
              <p:cNvPr id="154" name=""/>
              <p:cNvSpPr/>
              <p:nvPr/>
            </p:nvSpPr>
            <p:spPr>
              <a:xfrm>
                <a:off x="5305320" y="1288800"/>
                <a:ext cx="89280" cy="55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91000" y="1288800"/>
                <a:ext cx="89640" cy="55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80640" y="1288800"/>
                <a:ext cx="89280" cy="55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564160" y="1342800"/>
              <a:ext cx="67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32680" y="1315800"/>
              <a:ext cx="64440" cy="65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97360" y="1341360"/>
              <a:ext cx="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14920" y="1523880"/>
              <a:ext cx="17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4920" y="1584000"/>
              <a:ext cx="17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97360" y="158112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571720" y="1760400"/>
              <a:ext cx="273240" cy="68040"/>
              <a:chOff x="5571720" y="1760400"/>
              <a:chExt cx="273240" cy="68040"/>
            </a:xfrm>
          </p:grpSpPr>
          <p:sp>
            <p:nvSpPr>
              <p:cNvPr id="164" name=""/>
              <p:cNvSpPr/>
              <p:nvPr/>
            </p:nvSpPr>
            <p:spPr>
              <a:xfrm>
                <a:off x="5572080" y="1760400"/>
                <a:ext cx="272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571720" y="1760400"/>
                <a:ext cx="6804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639760" y="1760400"/>
                <a:ext cx="6804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5708160" y="1760400"/>
                <a:ext cx="6804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201200" y="1060200"/>
              <a:ext cx="66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R_pk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11640" y="1060200"/>
              <a:ext cx="56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L_pk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8880" y="1396800"/>
              <a:ext cx="58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C_pk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03840" y="838080"/>
              <a:ext cx="90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3440" y="3581280"/>
            <a:ext cx="2666520" cy="1306800"/>
            <a:chOff x="163440" y="3581280"/>
            <a:chExt cx="2666520" cy="1306800"/>
          </a:xfrm>
        </p:grpSpPr>
        <p:sp>
          <p:nvSpPr>
            <p:cNvPr id="173" name=""/>
            <p:cNvSpPr/>
            <p:nvPr/>
          </p:nvSpPr>
          <p:spPr>
            <a:xfrm>
              <a:off x="228600" y="3592440"/>
              <a:ext cx="259092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387000" y="3878280"/>
              <a:ext cx="39996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033640" y="4281120"/>
              <a:ext cx="100080" cy="252360"/>
              <a:chOff x="2033640" y="4281120"/>
              <a:chExt cx="100080" cy="25236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033640" y="44452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2033640" y="44200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033640" y="43948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2033640" y="43696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033640" y="434412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2083680" y="4331880"/>
                <a:ext cx="5004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2033640" y="4470480"/>
                <a:ext cx="500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83680" y="428112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083680" y="448308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084400" y="409104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1080" y="4087800"/>
              <a:ext cx="127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3680" y="4292640"/>
              <a:ext cx="74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 = 5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1800" y="396252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82960" y="4500720"/>
              <a:ext cx="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998720" y="4703760"/>
              <a:ext cx="169920" cy="41400"/>
              <a:chOff x="1998720" y="4703760"/>
              <a:chExt cx="169920" cy="41400"/>
            </a:xfrm>
          </p:grpSpPr>
          <p:sp>
            <p:nvSpPr>
              <p:cNvPr id="191" name=""/>
              <p:cNvSpPr/>
              <p:nvPr/>
            </p:nvSpPr>
            <p:spPr>
              <a:xfrm>
                <a:off x="1998720" y="470376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998720" y="47037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041200" y="47037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083680" y="47037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2071800" y="39164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0920" y="37450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3440" y="35812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280" y="3962520"/>
              <a:ext cx="60984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72880" y="421956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5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63440" y="4952880"/>
            <a:ext cx="2679120" cy="1306800"/>
            <a:chOff x="163440" y="4952880"/>
            <a:chExt cx="2679120" cy="1306800"/>
          </a:xfrm>
        </p:grpSpPr>
        <p:sp>
          <p:nvSpPr>
            <p:cNvPr id="201" name=""/>
            <p:cNvSpPr/>
            <p:nvPr/>
          </p:nvSpPr>
          <p:spPr>
            <a:xfrm>
              <a:off x="228600" y="4964040"/>
              <a:ext cx="259092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387000" y="5249880"/>
              <a:ext cx="39996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033640" y="5652720"/>
              <a:ext cx="100080" cy="252360"/>
              <a:chOff x="2033640" y="5652720"/>
              <a:chExt cx="100080" cy="25236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033640" y="58168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2033640" y="57916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033640" y="57664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2033640" y="574128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033640" y="5715720"/>
                <a:ext cx="100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2083680" y="5703480"/>
                <a:ext cx="5004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2033640" y="5842080"/>
                <a:ext cx="500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083680" y="565272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2083680" y="585468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2084400" y="546264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1080" y="5459400"/>
              <a:ext cx="127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96280" y="5664240"/>
              <a:ext cx="74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 = 5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01800" y="533412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82960" y="5872320"/>
              <a:ext cx="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98720" y="6075360"/>
              <a:ext cx="169920" cy="41400"/>
              <a:chOff x="1998720" y="6075360"/>
              <a:chExt cx="169920" cy="41400"/>
            </a:xfrm>
          </p:grpSpPr>
          <p:sp>
            <p:nvSpPr>
              <p:cNvPr id="219" name=""/>
              <p:cNvSpPr/>
              <p:nvPr/>
            </p:nvSpPr>
            <p:spPr>
              <a:xfrm>
                <a:off x="1998720" y="607536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998720" y="60753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41200" y="60753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83680" y="60753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>
              <a:off x="2071800" y="52880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0920" y="51166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440" y="49528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280" y="5334120"/>
              <a:ext cx="60984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57040" y="5591160"/>
              <a:ext cx="84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30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838600" y="3581280"/>
            <a:ext cx="2494440" cy="1306800"/>
            <a:chOff x="2838600" y="3581280"/>
            <a:chExt cx="2494440" cy="1306800"/>
          </a:xfrm>
        </p:grpSpPr>
        <p:sp>
          <p:nvSpPr>
            <p:cNvPr id="229" name=""/>
            <p:cNvSpPr/>
            <p:nvPr/>
          </p:nvSpPr>
          <p:spPr>
            <a:xfrm>
              <a:off x="2903400" y="3592440"/>
              <a:ext cx="23734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062160" y="3878280"/>
              <a:ext cx="399960" cy="41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86240" y="4087800"/>
              <a:ext cx="12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76600" y="396252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738680" y="39164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7800" y="37450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38600" y="35812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0440" y="3962520"/>
              <a:ext cx="60948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8040" y="421956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5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635360" y="4094280"/>
              <a:ext cx="697680" cy="653400"/>
              <a:chOff x="4635360" y="4094280"/>
              <a:chExt cx="697680" cy="653400"/>
            </a:xfrm>
          </p:grpSpPr>
          <p:sp>
            <p:nvSpPr>
              <p:cNvPr id="239" name=""/>
              <p:cNvSpPr/>
              <p:nvPr/>
            </p:nvSpPr>
            <p:spPr>
              <a:xfrm>
                <a:off x="4759200" y="4094280"/>
                <a:ext cx="0" cy="28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9240" y="4281480"/>
                <a:ext cx="52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3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7760" y="4433760"/>
                <a:ext cx="0" cy="27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4673520" y="4706640"/>
                <a:ext cx="169920" cy="41040"/>
                <a:chOff x="4673520" y="4706640"/>
                <a:chExt cx="169920" cy="410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673520" y="4706640"/>
                  <a:ext cx="16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4673520" y="4706640"/>
                  <a:ext cx="4248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4716000" y="4706640"/>
                  <a:ext cx="4248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4758480" y="4706640"/>
                  <a:ext cx="4248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4635360" y="43765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35360" y="44337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2838600" y="4952880"/>
            <a:ext cx="2494440" cy="1306800"/>
            <a:chOff x="2838600" y="4952880"/>
            <a:chExt cx="2494440" cy="1306800"/>
          </a:xfrm>
        </p:grpSpPr>
        <p:sp>
          <p:nvSpPr>
            <p:cNvPr id="250" name=""/>
            <p:cNvSpPr/>
            <p:nvPr/>
          </p:nvSpPr>
          <p:spPr>
            <a:xfrm>
              <a:off x="2903400" y="4964040"/>
              <a:ext cx="23734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3062160" y="5249880"/>
              <a:ext cx="399960" cy="41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86240" y="5459400"/>
              <a:ext cx="12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76600" y="533412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738680" y="52880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17800" y="51166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38600" y="49528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70440" y="5334120"/>
              <a:ext cx="60948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31840" y="5591160"/>
              <a:ext cx="84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30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635360" y="5452920"/>
              <a:ext cx="697680" cy="654120"/>
              <a:chOff x="4635360" y="5452920"/>
              <a:chExt cx="697680" cy="654120"/>
            </a:xfrm>
          </p:grpSpPr>
          <p:sp>
            <p:nvSpPr>
              <p:cNvPr id="260" name=""/>
              <p:cNvSpPr/>
              <p:nvPr/>
            </p:nvSpPr>
            <p:spPr>
              <a:xfrm>
                <a:off x="4759200" y="545292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09240" y="5640480"/>
                <a:ext cx="52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3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57760" y="5792760"/>
                <a:ext cx="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4673520" y="6065640"/>
                <a:ext cx="169920" cy="41400"/>
                <a:chOff x="4673520" y="6065640"/>
                <a:chExt cx="169920" cy="414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673520" y="6065640"/>
                  <a:ext cx="16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4673520" y="606564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4716000" y="606564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4758480" y="606564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635360" y="57355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35360" y="57927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5334120" y="4952880"/>
            <a:ext cx="3699360" cy="1306800"/>
            <a:chOff x="5334120" y="4952880"/>
            <a:chExt cx="3699360" cy="1306800"/>
          </a:xfrm>
        </p:grpSpPr>
        <p:sp>
          <p:nvSpPr>
            <p:cNvPr id="271" name=""/>
            <p:cNvSpPr/>
            <p:nvPr/>
          </p:nvSpPr>
          <p:spPr>
            <a:xfrm>
              <a:off x="5334120" y="49528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73720" y="4964040"/>
              <a:ext cx="359244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5532120" y="5249880"/>
              <a:ext cx="39996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56200" y="5459400"/>
              <a:ext cx="259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46920" y="533412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224840" y="52880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75520" y="5116680"/>
              <a:ext cx="52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0400" y="5334120"/>
              <a:ext cx="60984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02160" y="5591160"/>
              <a:ext cx="84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30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29520" y="54529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14400" y="5791320"/>
              <a:ext cx="52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= 3p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27720" y="5792760"/>
              <a:ext cx="0" cy="2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143840" y="6066000"/>
              <a:ext cx="169920" cy="41040"/>
              <a:chOff x="7143840" y="6066000"/>
              <a:chExt cx="169920" cy="41040"/>
            </a:xfrm>
          </p:grpSpPr>
          <p:sp>
            <p:nvSpPr>
              <p:cNvPr id="284" name=""/>
              <p:cNvSpPr/>
              <p:nvPr/>
            </p:nvSpPr>
            <p:spPr>
              <a:xfrm>
                <a:off x="7143840" y="606600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143840" y="606600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186320" y="606600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228800" y="606600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105680" y="57355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05680" y="5792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43880" y="54529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09680" y="5791320"/>
              <a:ext cx="52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= 3p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2440" y="5792760"/>
              <a:ext cx="0" cy="2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8458200" y="6066000"/>
              <a:ext cx="169920" cy="41040"/>
              <a:chOff x="8458200" y="6066000"/>
              <a:chExt cx="169920" cy="41040"/>
            </a:xfrm>
          </p:grpSpPr>
          <p:sp>
            <p:nvSpPr>
              <p:cNvPr id="294" name=""/>
              <p:cNvSpPr/>
              <p:nvPr/>
            </p:nvSpPr>
            <p:spPr>
              <a:xfrm>
                <a:off x="8458200" y="606600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8458200" y="606600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8500680" y="606600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8543160" y="606600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8420040" y="57355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20040" y="5792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18240" y="5334120"/>
              <a:ext cx="60984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92760" y="559116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5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520120" y="52880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70800" y="5116680"/>
              <a:ext cx="52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8600" y="947880"/>
            <a:ext cx="236232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163440" y="2209680"/>
            <a:ext cx="2656080" cy="1306800"/>
            <a:chOff x="163440" y="2209680"/>
            <a:chExt cx="2656080" cy="1306800"/>
          </a:xfrm>
        </p:grpSpPr>
        <p:sp>
          <p:nvSpPr>
            <p:cNvPr id="306" name=""/>
            <p:cNvSpPr/>
            <p:nvPr/>
          </p:nvSpPr>
          <p:spPr>
            <a:xfrm>
              <a:off x="228600" y="2220840"/>
              <a:ext cx="259092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387000" y="2506680"/>
              <a:ext cx="39996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881000" y="2909520"/>
              <a:ext cx="99720" cy="252360"/>
              <a:chOff x="1881000" y="2909520"/>
              <a:chExt cx="99720" cy="25236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1881000" y="30736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1881000" y="30484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881000" y="30232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1881000" y="29980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881000" y="297252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1931040" y="2960280"/>
                <a:ext cx="4968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1881360" y="3098880"/>
                <a:ext cx="4968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1931040" y="290952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1931040" y="311148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932120" y="271944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1080" y="2716200"/>
              <a:ext cx="111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1800" y="2921040"/>
              <a:ext cx="74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 = 5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30320" y="3129120"/>
              <a:ext cx="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846080" y="3332160"/>
              <a:ext cx="169920" cy="41400"/>
              <a:chOff x="1846080" y="3332160"/>
              <a:chExt cx="169920" cy="41400"/>
            </a:xfrm>
          </p:grpSpPr>
          <p:sp>
            <p:nvSpPr>
              <p:cNvPr id="323" name=""/>
              <p:cNvSpPr/>
              <p:nvPr/>
            </p:nvSpPr>
            <p:spPr>
              <a:xfrm>
                <a:off x="1846440" y="3332160"/>
                <a:ext cx="169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846080" y="3332160"/>
                <a:ext cx="4212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88560" y="33321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931040" y="3332160"/>
                <a:ext cx="4212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1916280" y="25448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95400" y="23734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440" y="22096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14400" y="257796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38600" y="2211480"/>
            <a:ext cx="2438280" cy="1306440"/>
            <a:chOff x="2838600" y="2211480"/>
            <a:chExt cx="2438280" cy="1306440"/>
          </a:xfrm>
        </p:grpSpPr>
        <p:sp>
          <p:nvSpPr>
            <p:cNvPr id="332" name=""/>
            <p:cNvSpPr/>
            <p:nvPr/>
          </p:nvSpPr>
          <p:spPr>
            <a:xfrm>
              <a:off x="2838600" y="22114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2903400" y="2222640"/>
              <a:ext cx="2373480" cy="1295280"/>
              <a:chOff x="2903400" y="2222640"/>
              <a:chExt cx="2373480" cy="1295280"/>
            </a:xfrm>
          </p:grpSpPr>
          <p:sp>
            <p:nvSpPr>
              <p:cNvPr id="334" name=""/>
              <p:cNvSpPr/>
              <p:nvPr/>
            </p:nvSpPr>
            <p:spPr>
              <a:xfrm>
                <a:off x="2903400" y="2222640"/>
                <a:ext cx="237348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5400000">
                <a:off x="3062160" y="2508120"/>
                <a:ext cx="399960" cy="412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R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486240" y="2717640"/>
                <a:ext cx="111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4591080" y="2546280"/>
                <a:ext cx="139680" cy="139680"/>
              </a:xfrm>
              <a:prstGeom prst="line">
                <a:avLst/>
              </a:prstGeom>
              <a:ln w="1908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70200" y="237492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n-US" sz="800" spc="-1" strike="noStrike">
                    <a:solidFill>
                      <a:srgbClr val="00cc99"/>
                    </a:solidFill>
                    <a:latin typeface="Arial"/>
                  </a:rPr>
                  <a:t>prob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4483080" y="2720880"/>
                <a:ext cx="697680" cy="654120"/>
                <a:chOff x="4483080" y="2720880"/>
                <a:chExt cx="697680" cy="654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606920" y="2720880"/>
                  <a:ext cx="0" cy="28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656960" y="2908440"/>
                  <a:ext cx="523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= 3p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605480" y="3060720"/>
                  <a:ext cx="0" cy="27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4521240" y="3333600"/>
                  <a:ext cx="169920" cy="41400"/>
                  <a:chOff x="4521240" y="3333600"/>
                  <a:chExt cx="169920" cy="4140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4521240" y="3333600"/>
                    <a:ext cx="169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4521240" y="3333600"/>
                    <a:ext cx="42480" cy="4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>
                    <a:off x="4563720" y="3333600"/>
                    <a:ext cx="42480" cy="4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4606200" y="3333600"/>
                    <a:ext cx="42480" cy="4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" name=""/>
                <p:cNvSpPr/>
                <p:nvPr/>
              </p:nvSpPr>
              <p:spPr>
                <a:xfrm>
                  <a:off x="4483080" y="30034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483080" y="30607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3568680" y="2577960"/>
                <a:ext cx="317520" cy="26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K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IBIS Quality Framework - Test circuits (1/2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C5C3-6CF6-49E4-9092-76BA105EDF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693120" y="1143000"/>
            <a:ext cx="200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903840" y="838080"/>
            <a:ext cx="2393280" cy="1085760"/>
            <a:chOff x="3903840" y="838080"/>
            <a:chExt cx="2393280" cy="1085760"/>
          </a:xfrm>
        </p:grpSpPr>
        <p:sp>
          <p:nvSpPr>
            <p:cNvPr id="354" name=""/>
            <p:cNvSpPr/>
            <p:nvPr/>
          </p:nvSpPr>
          <p:spPr>
            <a:xfrm>
              <a:off x="4125960" y="1072800"/>
              <a:ext cx="206172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60800" y="1342800"/>
              <a:ext cx="31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356000" y="1279440"/>
              <a:ext cx="339120" cy="128520"/>
              <a:chOff x="4356000" y="1279440"/>
              <a:chExt cx="339120" cy="128520"/>
            </a:xfrm>
          </p:grpSpPr>
          <p:sp>
            <p:nvSpPr>
              <p:cNvPr id="357" name=""/>
              <p:cNvSpPr/>
              <p:nvPr/>
            </p:nvSpPr>
            <p:spPr>
              <a:xfrm>
                <a:off x="457668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454248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0864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447444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40600" y="1279440"/>
                <a:ext cx="338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423680" y="1279440"/>
                <a:ext cx="16920" cy="6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610520" y="1343520"/>
                <a:ext cx="16920" cy="6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4356000" y="1343520"/>
                <a:ext cx="67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627440" y="1343520"/>
                <a:ext cx="67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670280" y="1342800"/>
              <a:ext cx="63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11480" y="1315800"/>
              <a:ext cx="64800" cy="65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305320" y="1288800"/>
              <a:ext cx="264600" cy="55440"/>
              <a:chOff x="5305320" y="1288800"/>
              <a:chExt cx="264600" cy="55440"/>
            </a:xfrm>
          </p:grpSpPr>
          <p:sp>
            <p:nvSpPr>
              <p:cNvPr id="369" name=""/>
              <p:cNvSpPr/>
              <p:nvPr/>
            </p:nvSpPr>
            <p:spPr>
              <a:xfrm>
                <a:off x="5305320" y="1288800"/>
                <a:ext cx="89280" cy="55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91000" y="1288800"/>
                <a:ext cx="89640" cy="55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480640" y="1288800"/>
                <a:ext cx="89280" cy="55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5564160" y="1342800"/>
              <a:ext cx="67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32680" y="1315800"/>
              <a:ext cx="64440" cy="65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7360" y="1341360"/>
              <a:ext cx="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14920" y="1523880"/>
              <a:ext cx="17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14920" y="1584000"/>
              <a:ext cx="17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97360" y="158112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571720" y="1760400"/>
              <a:ext cx="273240" cy="68040"/>
              <a:chOff x="5571720" y="1760400"/>
              <a:chExt cx="273240" cy="68040"/>
            </a:xfrm>
          </p:grpSpPr>
          <p:sp>
            <p:nvSpPr>
              <p:cNvPr id="379" name=""/>
              <p:cNvSpPr/>
              <p:nvPr/>
            </p:nvSpPr>
            <p:spPr>
              <a:xfrm>
                <a:off x="5572080" y="1760400"/>
                <a:ext cx="272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5571720" y="1760400"/>
                <a:ext cx="6804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639760" y="1760400"/>
                <a:ext cx="6804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5708160" y="1760400"/>
                <a:ext cx="6804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201200" y="1060200"/>
              <a:ext cx="66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R_pk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11640" y="1060200"/>
              <a:ext cx="56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L_pk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8880" y="1396800"/>
              <a:ext cx="58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C_pk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03840" y="838080"/>
              <a:ext cx="90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17440" y="2198520"/>
            <a:ext cx="6555600" cy="1306800"/>
            <a:chOff x="217440" y="2198520"/>
            <a:chExt cx="6555600" cy="1306800"/>
          </a:xfrm>
        </p:grpSpPr>
        <p:sp>
          <p:nvSpPr>
            <p:cNvPr id="388" name=""/>
            <p:cNvSpPr/>
            <p:nvPr/>
          </p:nvSpPr>
          <p:spPr>
            <a:xfrm>
              <a:off x="228600" y="219852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7440" y="2209680"/>
              <a:ext cx="65134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26960" y="2495520"/>
              <a:ext cx="399960" cy="41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1040" y="2705040"/>
              <a:ext cx="541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1400" y="257976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119320" y="253368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70000" y="2362320"/>
              <a:ext cx="52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35240" y="2579760"/>
              <a:ext cx="60948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96640" y="2836800"/>
              <a:ext cx="84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30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24000" y="26989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8880" y="3036960"/>
              <a:ext cx="52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= 3p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22560" y="3038400"/>
              <a:ext cx="0" cy="2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038320" y="3311640"/>
              <a:ext cx="169920" cy="41040"/>
              <a:chOff x="2038320" y="3311640"/>
              <a:chExt cx="169920" cy="41040"/>
            </a:xfrm>
          </p:grpSpPr>
          <p:sp>
            <p:nvSpPr>
              <p:cNvPr id="401" name=""/>
              <p:cNvSpPr/>
              <p:nvPr/>
            </p:nvSpPr>
            <p:spPr>
              <a:xfrm>
                <a:off x="2038320" y="331164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203832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08080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212328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000160" y="2981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0160" y="3038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38360" y="26989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04160" y="3036960"/>
              <a:ext cx="52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= 3p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36920" y="3038400"/>
              <a:ext cx="0" cy="2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352680" y="3311640"/>
              <a:ext cx="169920" cy="41040"/>
              <a:chOff x="3352680" y="3311640"/>
              <a:chExt cx="169920" cy="41040"/>
            </a:xfrm>
          </p:grpSpPr>
          <p:sp>
            <p:nvSpPr>
              <p:cNvPr id="411" name=""/>
              <p:cNvSpPr/>
              <p:nvPr/>
            </p:nvSpPr>
            <p:spPr>
              <a:xfrm>
                <a:off x="3352680" y="331164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335268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339516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343764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3314880" y="2981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14880" y="3038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13080" y="2579760"/>
              <a:ext cx="60948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87600" y="2836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5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414600" y="253368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65640" y="2362320"/>
              <a:ext cx="52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35520" y="26989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1320" y="3036960"/>
              <a:ext cx="52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= 3p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4080" y="3038400"/>
              <a:ext cx="0" cy="2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749840" y="3311640"/>
              <a:ext cx="169920" cy="41040"/>
              <a:chOff x="4749840" y="3311640"/>
              <a:chExt cx="169920" cy="41040"/>
            </a:xfrm>
          </p:grpSpPr>
          <p:sp>
            <p:nvSpPr>
              <p:cNvPr id="425" name=""/>
              <p:cNvSpPr/>
              <p:nvPr/>
            </p:nvSpPr>
            <p:spPr>
              <a:xfrm>
                <a:off x="4749840" y="3311640"/>
                <a:ext cx="169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474984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479232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483480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711680" y="2981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11680" y="3038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09880" y="2579760"/>
              <a:ext cx="60984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84400" y="2836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5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786200" y="253368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37240" y="2362320"/>
              <a:ext cx="52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83440" y="26989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49240" y="3036960"/>
              <a:ext cx="52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= 3p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81640" y="3038400"/>
              <a:ext cx="0" cy="2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197400" y="3311640"/>
              <a:ext cx="169920" cy="41040"/>
              <a:chOff x="6197400" y="3311640"/>
              <a:chExt cx="169920" cy="41040"/>
            </a:xfrm>
          </p:grpSpPr>
          <p:sp>
            <p:nvSpPr>
              <p:cNvPr id="439" name=""/>
              <p:cNvSpPr/>
              <p:nvPr/>
            </p:nvSpPr>
            <p:spPr>
              <a:xfrm>
                <a:off x="6197760" y="3311640"/>
                <a:ext cx="169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197400" y="3311640"/>
                <a:ext cx="4212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239880" y="3311640"/>
                <a:ext cx="4248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282360" y="3311640"/>
                <a:ext cx="4212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6159600" y="2981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59600" y="3038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57800" y="2579760"/>
              <a:ext cx="60948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32320" y="2836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Z0 = 6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Tpd = 6 ns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Without lo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ngth: 5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234120" y="253368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84800" y="2362320"/>
              <a:ext cx="52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52280" y="3581280"/>
            <a:ext cx="2438640" cy="1306800"/>
            <a:chOff x="152280" y="3581280"/>
            <a:chExt cx="2438640" cy="1306800"/>
          </a:xfrm>
        </p:grpSpPr>
        <p:sp>
          <p:nvSpPr>
            <p:cNvPr id="450" name=""/>
            <p:cNvSpPr/>
            <p:nvPr/>
          </p:nvSpPr>
          <p:spPr>
            <a:xfrm>
              <a:off x="217440" y="3592440"/>
              <a:ext cx="23734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5400000">
              <a:off x="375840" y="3878280"/>
              <a:ext cx="39996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0280" y="4087800"/>
              <a:ext cx="111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905120" y="39164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84240" y="37450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2280" y="3581280"/>
              <a:ext cx="58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1797120" y="4091040"/>
              <a:ext cx="754200" cy="654120"/>
              <a:chOff x="1797120" y="4091040"/>
              <a:chExt cx="754200" cy="654120"/>
            </a:xfrm>
          </p:grpSpPr>
          <p:sp>
            <p:nvSpPr>
              <p:cNvPr id="457" name=""/>
              <p:cNvSpPr/>
              <p:nvPr/>
            </p:nvSpPr>
            <p:spPr>
              <a:xfrm>
                <a:off x="1920960" y="409104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71360" y="4278600"/>
                <a:ext cx="579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12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19520" y="4430880"/>
                <a:ext cx="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1835280" y="4703760"/>
                <a:ext cx="169920" cy="41400"/>
                <a:chOff x="1835280" y="4703760"/>
                <a:chExt cx="169920" cy="41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835280" y="4703760"/>
                  <a:ext cx="16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1835280" y="47037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1877760" y="47037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1920240" y="47037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797120" y="43736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797120" y="44308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941400" y="395604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334120" y="3581280"/>
            <a:ext cx="2409840" cy="1306800"/>
            <a:chOff x="5334120" y="3581280"/>
            <a:chExt cx="2409840" cy="1306800"/>
          </a:xfrm>
        </p:grpSpPr>
        <p:sp>
          <p:nvSpPr>
            <p:cNvPr id="469" name=""/>
            <p:cNvSpPr/>
            <p:nvPr/>
          </p:nvSpPr>
          <p:spPr>
            <a:xfrm>
              <a:off x="5370480" y="3592440"/>
              <a:ext cx="23734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5528880" y="3878280"/>
              <a:ext cx="39996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52960" y="4087800"/>
              <a:ext cx="6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058160" y="39164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37280" y="37450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3581280"/>
              <a:ext cx="64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6950160" y="4091040"/>
              <a:ext cx="697680" cy="654120"/>
              <a:chOff x="6950160" y="4091040"/>
              <a:chExt cx="697680" cy="654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074000" y="409104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24040" y="4278600"/>
                <a:ext cx="52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3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72560" y="4430880"/>
                <a:ext cx="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988320" y="4703760"/>
                <a:ext cx="169920" cy="41400"/>
                <a:chOff x="6988320" y="4703760"/>
                <a:chExt cx="169920" cy="414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988320" y="4703760"/>
                  <a:ext cx="16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6988320" y="47037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7030800" y="47037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7073280" y="47037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6950160" y="43736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50160" y="44308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6094440" y="395604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513480" y="4000320"/>
              <a:ext cx="430200" cy="198360"/>
              <a:chOff x="6513480" y="4000320"/>
              <a:chExt cx="430200" cy="19836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6605640" y="4000320"/>
                <a:ext cx="245520" cy="198360"/>
                <a:chOff x="6605640" y="4000320"/>
                <a:chExt cx="245520" cy="198360"/>
              </a:xfrm>
            </p:grpSpPr>
            <p:sp>
              <p:nvSpPr>
                <p:cNvPr id="489" name=""/>
                <p:cNvSpPr/>
                <p:nvPr/>
              </p:nvSpPr>
              <p:spPr>
                <a:xfrm flipH="1" flipV="1">
                  <a:off x="6605640" y="39999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6662160" y="40006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6773400" y="39999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6717600" y="40006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6513480" y="40881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51520" y="40881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6937200" y="4087800"/>
              <a:ext cx="14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38240" y="3809880"/>
              <a:ext cx="60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 = 10n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90800" y="4952880"/>
            <a:ext cx="5764680" cy="1306800"/>
            <a:chOff x="190800" y="4952880"/>
            <a:chExt cx="5764680" cy="1306800"/>
          </a:xfrm>
        </p:grpSpPr>
        <p:sp>
          <p:nvSpPr>
            <p:cNvPr id="498" name=""/>
            <p:cNvSpPr/>
            <p:nvPr/>
          </p:nvSpPr>
          <p:spPr>
            <a:xfrm>
              <a:off x="227160" y="4964040"/>
              <a:ext cx="571644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385560" y="5356080"/>
              <a:ext cx="399960" cy="41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09640" y="5565600"/>
              <a:ext cx="63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0800" y="4952880"/>
              <a:ext cx="64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806480" y="5568840"/>
              <a:ext cx="783360" cy="654120"/>
              <a:chOff x="1806480" y="5568840"/>
              <a:chExt cx="783360" cy="654120"/>
            </a:xfrm>
          </p:grpSpPr>
          <p:sp>
            <p:nvSpPr>
              <p:cNvPr id="503" name=""/>
              <p:cNvSpPr/>
              <p:nvPr/>
            </p:nvSpPr>
            <p:spPr>
              <a:xfrm>
                <a:off x="1930320" y="556884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80720" y="5756400"/>
                <a:ext cx="60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0.5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28880" y="5908680"/>
                <a:ext cx="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1844640" y="6181560"/>
                <a:ext cx="169920" cy="41400"/>
                <a:chOff x="1844640" y="6181560"/>
                <a:chExt cx="169920" cy="41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1844640" y="6181560"/>
                  <a:ext cx="16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184464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188712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192960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1806480" y="58514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06480" y="59086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950760" y="543384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370160" y="5478120"/>
              <a:ext cx="430200" cy="198360"/>
              <a:chOff x="1370160" y="5478120"/>
              <a:chExt cx="430200" cy="1983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1462320" y="5478120"/>
                <a:ext cx="245520" cy="198360"/>
                <a:chOff x="1462320" y="5478120"/>
                <a:chExt cx="245520" cy="198360"/>
              </a:xfrm>
            </p:grpSpPr>
            <p:sp>
              <p:nvSpPr>
                <p:cNvPr id="516" name=""/>
                <p:cNvSpPr/>
                <p:nvPr/>
              </p:nvSpPr>
              <p:spPr>
                <a:xfrm flipH="1" flipV="1">
                  <a:off x="1462320" y="54777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1518840" y="54784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1630080" y="54777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1574280" y="54784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1370160" y="55659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708200" y="55659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1793880" y="556560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94560" y="52880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 = 1.8n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646360" y="5568840"/>
              <a:ext cx="782640" cy="654120"/>
              <a:chOff x="2646360" y="5568840"/>
              <a:chExt cx="782640" cy="654120"/>
            </a:xfrm>
          </p:grpSpPr>
          <p:sp>
            <p:nvSpPr>
              <p:cNvPr id="525" name=""/>
              <p:cNvSpPr/>
              <p:nvPr/>
            </p:nvSpPr>
            <p:spPr>
              <a:xfrm>
                <a:off x="2769840" y="556884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19880" y="5756400"/>
                <a:ext cx="60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0.5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68400" y="5908680"/>
                <a:ext cx="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2683800" y="6181560"/>
                <a:ext cx="169920" cy="41400"/>
                <a:chOff x="2683800" y="6181560"/>
                <a:chExt cx="169920" cy="414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2684160" y="6181560"/>
                  <a:ext cx="169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2683800" y="6181560"/>
                  <a:ext cx="4212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272628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2768760" y="6181560"/>
                  <a:ext cx="4212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2646360" y="585144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46360" y="590868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209680" y="5478120"/>
              <a:ext cx="430200" cy="198360"/>
              <a:chOff x="2209680" y="5478120"/>
              <a:chExt cx="430200" cy="19836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2301840" y="5478120"/>
                <a:ext cx="245520" cy="198360"/>
                <a:chOff x="2301840" y="5478120"/>
                <a:chExt cx="245520" cy="198360"/>
              </a:xfrm>
            </p:grpSpPr>
            <p:sp>
              <p:nvSpPr>
                <p:cNvPr id="537" name=""/>
                <p:cNvSpPr/>
                <p:nvPr/>
              </p:nvSpPr>
              <p:spPr>
                <a:xfrm flipH="1" flipV="1">
                  <a:off x="2301840" y="54777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2358360" y="54784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2469600" y="54777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2413800" y="54784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2209680" y="55659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47720" y="55659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633760" y="556560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34440" y="52880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 = 1.8n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430960" y="5394240"/>
              <a:ext cx="139680" cy="1396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18148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4475160" y="5568840"/>
              <a:ext cx="782640" cy="654120"/>
              <a:chOff x="4475160" y="5568840"/>
              <a:chExt cx="782640" cy="654120"/>
            </a:xfrm>
          </p:grpSpPr>
          <p:sp>
            <p:nvSpPr>
              <p:cNvPr id="548" name=""/>
              <p:cNvSpPr/>
              <p:nvPr/>
            </p:nvSpPr>
            <p:spPr>
              <a:xfrm>
                <a:off x="4598640" y="556884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48680" y="5756400"/>
                <a:ext cx="60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0.5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97200" y="5908680"/>
                <a:ext cx="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4512600" y="6181560"/>
                <a:ext cx="169920" cy="41400"/>
                <a:chOff x="4512600" y="6181560"/>
                <a:chExt cx="169920" cy="4140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4512960" y="6181560"/>
                  <a:ext cx="169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4512600" y="6181560"/>
                  <a:ext cx="4212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>
                  <a:off x="455508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4597560" y="6181560"/>
                  <a:ext cx="4212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4475160" y="585144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75160" y="590868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038480" y="5478120"/>
              <a:ext cx="430200" cy="198360"/>
              <a:chOff x="4038480" y="5478120"/>
              <a:chExt cx="430200" cy="19836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4130640" y="5478120"/>
                <a:ext cx="245520" cy="198360"/>
                <a:chOff x="4130640" y="5478120"/>
                <a:chExt cx="245520" cy="198360"/>
              </a:xfrm>
            </p:grpSpPr>
            <p:sp>
              <p:nvSpPr>
                <p:cNvPr id="560" name=""/>
                <p:cNvSpPr/>
                <p:nvPr/>
              </p:nvSpPr>
              <p:spPr>
                <a:xfrm flipH="1" flipV="1">
                  <a:off x="4130640" y="54777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V="1">
                  <a:off x="4187160" y="54784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4298400" y="5477760"/>
                  <a:ext cx="7776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0" y="11450"/>
                      </a:moveTo>
                      <a:arcTo wR="10800" hR="10800" stAng="207093" swAng="135453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0" y="11450"/>
                      </a:moveTo>
                      <a:arcTo wR="10800" hR="10800" stAng="207093" swAng="13545351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4242600" y="5478480"/>
                  <a:ext cx="77760" cy="19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25" y="2597"/>
                      </a:moveTo>
                      <a:arcTo wR="10800" hR="10800" stAng="-2965571" swAng="16718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25" y="2597"/>
                      </a:moveTo>
                      <a:arcTo wR="10800" hR="10800" stAng="-2965571" swAng="16718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4038480" y="55659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76520" y="5565960"/>
                <a:ext cx="9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462560" y="5565600"/>
              <a:ext cx="79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3240" y="52880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 = 1.8n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33560" y="5565600"/>
              <a:ext cx="27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71640" y="5565600"/>
              <a:ext cx="27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29360" y="5364000"/>
              <a:ext cx="49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257800" y="5568840"/>
              <a:ext cx="697680" cy="654120"/>
              <a:chOff x="5257800" y="5568840"/>
              <a:chExt cx="697680" cy="654120"/>
            </a:xfrm>
          </p:grpSpPr>
          <p:sp>
            <p:nvSpPr>
              <p:cNvPr id="572" name=""/>
              <p:cNvSpPr/>
              <p:nvPr/>
            </p:nvSpPr>
            <p:spPr>
              <a:xfrm>
                <a:off x="5381640" y="556884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31680" y="5756400"/>
                <a:ext cx="523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= 3p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80200" y="5908680"/>
                <a:ext cx="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295960" y="6181560"/>
                <a:ext cx="169920" cy="41400"/>
                <a:chOff x="5295960" y="6181560"/>
                <a:chExt cx="169920" cy="4140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295960" y="6181560"/>
                  <a:ext cx="16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529596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533844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5380920" y="6181560"/>
                  <a:ext cx="4248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5257800" y="58514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57800" y="59086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5245200" y="556560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6200000">
              <a:off x="2971440" y="3581280"/>
              <a:ext cx="152640" cy="3352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90720" y="4967280"/>
              <a:ext cx="5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ste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656080" y="3551400"/>
            <a:ext cx="2616120" cy="1336680"/>
            <a:chOff x="2656080" y="3551400"/>
            <a:chExt cx="2616120" cy="1336680"/>
          </a:xfrm>
        </p:grpSpPr>
        <p:sp>
          <p:nvSpPr>
            <p:cNvPr id="586" name=""/>
            <p:cNvSpPr/>
            <p:nvPr/>
          </p:nvSpPr>
          <p:spPr>
            <a:xfrm>
              <a:off x="2681280" y="3592440"/>
              <a:ext cx="259092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5400000">
              <a:off x="2839680" y="3878280"/>
              <a:ext cx="399960" cy="41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333680" y="4281120"/>
              <a:ext cx="99720" cy="252360"/>
              <a:chOff x="4333680" y="4281120"/>
              <a:chExt cx="99720" cy="25236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4333680" y="44452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4333680" y="44200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333680" y="43948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4333680" y="436968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333680" y="434412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4383720" y="4331880"/>
                <a:ext cx="4968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4334040" y="4470480"/>
                <a:ext cx="4968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383720" y="428112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383720" y="448308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384800" y="3963960"/>
              <a:ext cx="0" cy="32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63760" y="4087800"/>
              <a:ext cx="111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4840" y="429264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 = 10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3000" y="4500720"/>
              <a:ext cx="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4298760" y="4703760"/>
              <a:ext cx="169920" cy="41400"/>
              <a:chOff x="4298760" y="4703760"/>
              <a:chExt cx="169920" cy="41400"/>
            </a:xfrm>
          </p:grpSpPr>
          <p:sp>
            <p:nvSpPr>
              <p:cNvPr id="603" name=""/>
              <p:cNvSpPr/>
              <p:nvPr/>
            </p:nvSpPr>
            <p:spPr>
              <a:xfrm>
                <a:off x="4299120" y="4703760"/>
                <a:ext cx="169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4298760" y="4703760"/>
                <a:ext cx="4212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4341240" y="4703760"/>
                <a:ext cx="4248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4383720" y="4703760"/>
                <a:ext cx="4212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 flipH="1">
              <a:off x="4444560" y="4038480"/>
              <a:ext cx="228600" cy="637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97200" y="388620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cc99"/>
                  </a:solidFill>
                  <a:latin typeface="Arial"/>
                </a:rPr>
                <a:t>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56080" y="3581280"/>
              <a:ext cx="64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ircuit 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333680" y="3722400"/>
              <a:ext cx="99720" cy="252360"/>
              <a:chOff x="4333680" y="3722400"/>
              <a:chExt cx="99720" cy="252360"/>
            </a:xfrm>
          </p:grpSpPr>
          <p:sp>
            <p:nvSpPr>
              <p:cNvPr id="611" name=""/>
              <p:cNvSpPr/>
              <p:nvPr/>
            </p:nvSpPr>
            <p:spPr>
              <a:xfrm flipH="1">
                <a:off x="4333680" y="388656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4333680" y="386136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4333680" y="383616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333680" y="381096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333680" y="3785400"/>
                <a:ext cx="9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4383720" y="3773160"/>
                <a:ext cx="4968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334040" y="3911760"/>
                <a:ext cx="4968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383720" y="372240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383720" y="3924360"/>
                <a:ext cx="0" cy="5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4434840" y="373392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 = 100 Oh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99120" y="365760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84800" y="3665520"/>
              <a:ext cx="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78240" y="3956040"/>
              <a:ext cx="31752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34480" y="3551400"/>
              <a:ext cx="39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.3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228600" y="963720"/>
            <a:ext cx="3048120" cy="788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IBIS Quality Framework - Test circuits (2/2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1C46-10B8-40A2-9E46-C39E24A135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257800" y="281952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828800">
            <a:off x="2481120" y="2478240"/>
            <a:ext cx="1530360" cy="457200"/>
          </a:xfrm>
          <a:custGeom>
            <a:avLst/>
            <a:gdLst>
              <a:gd name="textAreaLeft" fmla="*/ 239040 w 1530360"/>
              <a:gd name="textAreaRight" fmla="*/ 1339200 w 153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35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" y="755640"/>
            <a:ext cx="1066680" cy="387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228600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81480" y="3809880"/>
            <a:ext cx="685800" cy="581040"/>
            <a:chOff x="5181480" y="3809880"/>
            <a:chExt cx="685800" cy="581040"/>
          </a:xfrm>
        </p:grpSpPr>
        <p:sp>
          <p:nvSpPr>
            <p:cNvPr id="632" name=""/>
            <p:cNvSpPr/>
            <p:nvPr/>
          </p:nvSpPr>
          <p:spPr>
            <a:xfrm>
              <a:off x="5181480" y="380988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245200" y="3936600"/>
              <a:ext cx="463320" cy="309600"/>
              <a:chOff x="5245200" y="3936600"/>
              <a:chExt cx="463320" cy="309600"/>
            </a:xfrm>
          </p:grpSpPr>
          <p:sp>
            <p:nvSpPr>
              <p:cNvPr id="634" name=""/>
              <p:cNvSpPr/>
              <p:nvPr/>
            </p:nvSpPr>
            <p:spPr>
              <a:xfrm>
                <a:off x="5245200" y="424476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5245200" y="393660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276880" y="399384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>
            <a:off x="5181480" y="330840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029200" y="27432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4382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676520" y="2446200"/>
            <a:ext cx="685800" cy="581040"/>
            <a:chOff x="1676520" y="2446200"/>
            <a:chExt cx="685800" cy="581040"/>
          </a:xfrm>
        </p:grpSpPr>
        <p:sp>
          <p:nvSpPr>
            <p:cNvPr id="642" name=""/>
            <p:cNvSpPr/>
            <p:nvPr/>
          </p:nvSpPr>
          <p:spPr>
            <a:xfrm>
              <a:off x="1676520" y="2446200"/>
              <a:ext cx="685800" cy="5810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740240" y="2572920"/>
              <a:ext cx="463320" cy="309600"/>
              <a:chOff x="1740240" y="2572920"/>
              <a:chExt cx="463320" cy="309600"/>
            </a:xfrm>
          </p:grpSpPr>
          <p:sp>
            <p:nvSpPr>
              <p:cNvPr id="644" name=""/>
              <p:cNvSpPr/>
              <p:nvPr/>
            </p:nvSpPr>
            <p:spPr>
              <a:xfrm>
                <a:off x="1740240" y="288108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1740240" y="2572920"/>
                <a:ext cx="0" cy="309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771920" y="2630160"/>
                <a:ext cx="390600" cy="20160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255"/>
                    </a:moveTo>
                    <a:cubicBezTo>
                      <a:pt x="32" y="271"/>
                      <a:pt x="64" y="287"/>
                      <a:pt x="96" y="255"/>
                    </a:cubicBezTo>
                    <a:cubicBezTo>
                      <a:pt x="128" y="223"/>
                      <a:pt x="150" y="100"/>
                      <a:pt x="192" y="63"/>
                    </a:cubicBezTo>
                    <a:cubicBezTo>
                      <a:pt x="234" y="26"/>
                      <a:pt x="307" y="0"/>
                      <a:pt x="350" y="33"/>
                    </a:cubicBezTo>
                    <a:cubicBezTo>
                      <a:pt x="393" y="66"/>
                      <a:pt x="412" y="223"/>
                      <a:pt x="450" y="260"/>
                    </a:cubicBezTo>
                    <a:cubicBezTo>
                      <a:pt x="488" y="297"/>
                      <a:pt x="547" y="264"/>
                      <a:pt x="576" y="255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8" name=""/>
          <p:cNvSpPr/>
          <p:nvPr/>
        </p:nvSpPr>
        <p:spPr>
          <a:xfrm>
            <a:off x="838080" y="2438280"/>
            <a:ext cx="762120" cy="4572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520" y="221760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lde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240" y="3048120"/>
            <a:ext cx="2379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load the following data to web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golden IBIS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test circuit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)golden results (EXCEL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18040" y="2933640"/>
            <a:ext cx="834840" cy="988920"/>
          </a:xfrm>
          <a:custGeom>
            <a:avLst/>
            <a:gdLst>
              <a:gd name="textAreaLeft" fmla="*/ 12600 w 834840"/>
              <a:gd name="textAreaRight" fmla="*/ 822240 w 834840"/>
              <a:gd name="textAreaTop" fmla="*/ 12600 h 988920"/>
              <a:gd name="textAreaBottom" fmla="*/ 976320 h 988920"/>
            </a:gdLst>
            <a:ahLst/>
            <a:rect l="textAreaLeft" t="textAreaTop" r="textAreaRight" b="textAreaBottom"/>
            <a:pathLst>
              <a:path w="21600" h="25585">
                <a:moveTo>
                  <a:pt x="1124" y="0"/>
                </a:moveTo>
                <a:arcTo wR="1124" hR="1124" stAng="16200000" swAng="-5400000"/>
                <a:lnTo>
                  <a:pt x="0" y="24461"/>
                </a:lnTo>
                <a:arcTo wR="1124" hR="1124" stAng="10800000" swAng="-5400000"/>
                <a:lnTo>
                  <a:pt x="20476" y="25585"/>
                </a:lnTo>
                <a:arcTo wR="1124" hR="1124" stAng="5400000" swAng="-5400000"/>
                <a:lnTo>
                  <a:pt x="21600" y="1124"/>
                </a:lnTo>
                <a:arcTo wR="1124" hR="1124" stAng="0" swAng="-5400000"/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pen s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 IBIS Quality Framework - Usage(1/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143964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C80E-3129-414B-B192-78D8EEA40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/>
  <dc:description/>
  <dc:language>en-US</dc:language>
  <cp:lastModifiedBy>A-ISHIKAWA</cp:lastModifiedBy>
  <dcterms:modified xsi:type="dcterms:W3CDTF">2009-11-04T05:39:32Z</dcterms:modified>
  <cp:revision>798</cp:revision>
  <dc:subject/>
  <dc:title>スライド 1</dc:title>
</cp:coreProperties>
</file>