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601"/>
              </a:spcBef>
              <a:buClr>
                <a:srgbClr val="0032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spcBef>
                <a:spcPts val="601"/>
              </a:spcBef>
              <a:buClr>
                <a:srgbClr val="0032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3" marL="266220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4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5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6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4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7" name="Line"/>
          <p:cNvSpPr/>
          <p:nvPr/>
        </p:nvSpPr>
        <p:spPr>
          <a:xfrm>
            <a:off x="0" y="6567480"/>
            <a:ext cx="9144000" cy="0"/>
          </a:xfrm>
          <a:prstGeom prst="line">
            <a:avLst/>
          </a:prstGeom>
          <a:ln w="38160">
            <a:solidFill>
              <a:srgbClr val="a6a1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8" name="RightInfo"/>
          <p:cNvSpPr/>
          <p:nvPr/>
        </p:nvSpPr>
        <p:spPr>
          <a:xfrm>
            <a:off x="9144000" y="0"/>
            <a:ext cx="1685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p right       corner  for        field-mark, customer or partner logotypes.     See Best practice for example.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" name="LeftInfo"/>
          <p:cNvSpPr/>
          <p:nvPr/>
        </p:nvSpPr>
        <p:spPr>
          <a:xfrm>
            <a:off x="-2182680" y="0"/>
            <a:ext cx="2182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pic>
        <p:nvPicPr>
          <p:cNvPr id="10" name="SmallBlue" descr=""/>
          <p:cNvPicPr/>
          <p:nvPr/>
        </p:nvPicPr>
        <p:blipFill>
          <a:blip r:embed="rId2"/>
          <a:stretch/>
        </p:blipFill>
        <p:spPr>
          <a:xfrm>
            <a:off x="8231040" y="6626160"/>
            <a:ext cx="652680" cy="169920"/>
          </a:xfrm>
          <a:prstGeom prst="rect">
            <a:avLst/>
          </a:prstGeom>
          <a:ln w="0">
            <a:noFill/>
          </a:ln>
        </p:spPr>
      </p:pic>
      <p:pic>
        <p:nvPicPr>
          <p:cNvPr id="11" name="SmallWhite" descr=""/>
          <p:cNvPicPr/>
          <p:nvPr/>
        </p:nvPicPr>
        <p:blipFill>
          <a:blip r:embed="rId3"/>
          <a:stretch/>
        </p:blipFill>
        <p:spPr>
          <a:xfrm>
            <a:off x="8196120" y="6607080"/>
            <a:ext cx="776520" cy="20160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7602840" y="65977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C0E9FBF-187E-450F-AD2C-BD3CA1817C0A}" type="slidenum">
              <a:rPr b="0" lang="en-US" sz="1000" spc="-1" strike="noStrike">
                <a:solidFill>
                  <a:srgbClr val="645a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45a59"/>
                </a:solidFill>
                <a:latin typeface="Arial"/>
              </a:rPr>
              <a:t>Anders Ekholm, Ericsson &amp; Mike LaBonte, Cisco Systems</a:t>
            </a:r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6360" y="2774520"/>
            <a:ext cx="853128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258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2" name="LeftInfo"/>
          <p:cNvSpPr/>
          <p:nvPr/>
        </p:nvSpPr>
        <p:spPr>
          <a:xfrm>
            <a:off x="-2182680" y="0"/>
            <a:ext cx="218268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CAPITALS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2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0" y="-79200"/>
            <a:ext cx="168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lvl="1" marL="449280" indent="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900000" indent="627120" algn="ctr">
              <a:buClr>
                <a:srgbClr val="00325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3" marL="1349280" indent="933480" algn="ctr">
              <a:buClr>
                <a:srgbClr val="003258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4" marL="1828800" indent="1224000" algn="ctr">
              <a:buClr>
                <a:srgbClr val="003258"/>
              </a:buClr>
              <a:buFont typeface="Times New Roman"/>
              <a:buChar char="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5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6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hdl.org/pub/ibis/quality_wip" TargetMode="External"/><Relationship Id="rId2" Type="http://schemas.openxmlformats.org/officeDocument/2006/relationships/hyperlink" Target="http://www.vhdl.org/pub/ibis/quality_wip" TargetMode="External"/><Relationship Id="rId3" Type="http://schemas.openxmlformats.org/officeDocument/2006/relationships/hyperlink" Target="http://www.freelists.org/list/ibis-quality" TargetMode="External"/><Relationship Id="rId4" Type="http://schemas.openxmlformats.org/officeDocument/2006/relationships/hyperlink" Target="http://www.freelists.org/list/ibis-quality" TargetMode="External"/><Relationship Id="rId5" Type="http://schemas.openxmlformats.org/officeDocument/2006/relationships/hyperlink" Target="http://www.freelists.org/list/ibis-quality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1280" y="929880"/>
            <a:ext cx="853128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3258"/>
                </a:solidFill>
                <a:latin typeface="Arial"/>
              </a:rPr>
              <a:t>IBIS Quality Review</a:t>
            </a:r>
            <a:endParaRPr b="0" lang="en-US" sz="49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844440"/>
            <a:ext cx="91440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58"/>
                </a:solidFill>
                <a:latin typeface="Arial"/>
              </a:rPr>
              <a:t>Asian IBIS Summit, Tokyo, Japan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58"/>
                </a:solidFill>
                <a:latin typeface="Arial"/>
              </a:rPr>
              <a:t>November 6, 2009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58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258"/>
                </a:solidFill>
                <a:latin typeface="Arial"/>
              </a:rPr>
              <a:t>(Previously presented in China, November 4, 2009)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6120" y="5653080"/>
            <a:ext cx="853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5a59"/>
                </a:solidFill>
                <a:latin typeface="Arial"/>
              </a:rPr>
              <a:t>Anders Ekholm, Ericsson &amp; Mike LaBonte, Cisco System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360" y="2004840"/>
            <a:ext cx="853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5a59"/>
                </a:solidFill>
                <a:latin typeface="Arial"/>
              </a:rPr>
              <a:t>A status review of the IBIS Quality specification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Level 4 (Power) Checks for future releases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27040" y="1698480"/>
            <a:ext cx="794052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A [Pin Mapping] Complete and Correct check was propos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Power analysis really needs new features: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BIRD95 - Power Integrity Analysis using IBIS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BIRD98 - Gate Modulation Effect (table format)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BIS 5.0 adoption still in progres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IBIS 5.1 may be submitted for EIA/ANSI standardization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IBISCHK 5.0 parser released October 2009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Have not yet seen IBIS 5.0 power keywords in IBIS files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Level 4 checks are planned for future IQ 2.x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Notes on IQ Version 2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20640" y="1521000"/>
            <a:ext cx="797580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Possible Errors” section removed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ome items made into regular check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orrelation” section minimized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Refers to IBIS Accuracy Handbook for detail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C vendor push-back on overshoot parameter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Not many IBIS files have thi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Buffer developers simply do not measure it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ifference between functional and destruction limit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BIRD103 D_overshoot parameters may work better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5a59"/>
                </a:solidFill>
                <a:latin typeface="Arial"/>
              </a:rPr>
              <a:t>IQ Version 2.0 Status</a:t>
            </a:r>
            <a:endParaRPr b="0" lang="en-US" sz="36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655560" y="1521000"/>
            <a:ext cx="794088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44 draft revisions posted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n review phase for IBIS Open Forum acceptance vote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Review phase in 3 consecutive Open Forum meetings.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Acceptance vote scheduled for October 30, 2009.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3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After Version 2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655560" y="1521000"/>
            <a:ext cx="794088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le parser bug report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Update the IBIS Accuracy Handboo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Emphasis on feature-selective correlation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Begin drafting IQ 2.x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Level 4 power analysis check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638280" y="549360"/>
            <a:ext cx="8145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5a59"/>
                </a:solidFill>
                <a:latin typeface="Arial"/>
              </a:rPr>
              <a:t>Regular 2009 IQ Meeting Participants</a:t>
            </a:r>
            <a:endParaRPr b="0" lang="en-US" sz="36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655560" y="1521000"/>
            <a:ext cx="794088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isco System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Ericsson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Huawei Technologie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Micron Technology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Nokia Siemens Network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exas Instruments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eraspeed Consulting Group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Xilinx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5714280" y="5997600"/>
            <a:ext cx="2944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* IBIS model maker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645a59"/>
                </a:solidFill>
                <a:latin typeface="Arial"/>
              </a:rPr>
              <a:t>Future IQ expectations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IQ adoption by IC vendor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Adoption by library flow in system companie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IBIS modeling tools implementing the IQ check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LargeBlue" descr="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pic>
        <p:nvPicPr>
          <p:cNvPr id="136" name="LargeTakeBlue" descr=""/>
          <p:cNvPicPr/>
          <p:nvPr/>
        </p:nvPicPr>
        <p:blipFill>
          <a:blip r:embed="rId2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pic>
        <p:nvPicPr>
          <p:cNvPr id="137" name="LargeWhite" descr=""/>
          <p:cNvPicPr/>
          <p:nvPr/>
        </p:nvPicPr>
        <p:blipFill>
          <a:blip r:embed="rId3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pic>
        <p:nvPicPr>
          <p:cNvPr id="138" name="LargeTakeWhite" descr=""/>
          <p:cNvPicPr/>
          <p:nvPr/>
        </p:nvPicPr>
        <p:blipFill>
          <a:blip r:embed="rId4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28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IBIS Quality Task Group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6" name="Rectangle 129"/>
          <p:cNvSpPr/>
          <p:nvPr/>
        </p:nvSpPr>
        <p:spPr>
          <a:xfrm>
            <a:off x="655560" y="1521000"/>
            <a:ext cx="794088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Web: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2"/>
              </a:rPr>
              <a:t>www.vhdl.org/pub/ibis/quality_wip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Email list: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4"/>
              </a:rPr>
              <a:t>www.freelists.org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5"/>
              </a:rPr>
              <a:t>/list/ibis-quality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Or send email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To: ibis-quality-request@freelists.org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Subject: subscribe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Meetings: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Tuesdays from 11:00am to 12:00pm Eastern Time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Questions? Mike LaBonte milabont@cisco.com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Brief History</a:t>
            </a: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90680" y="1521000"/>
            <a:ext cx="8291520" cy="42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2 March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Barry Katz started IBIS-Quality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4 November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IQ 1.0 specification comple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5 August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Parser bug 90 submitted and approv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6 March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Parser bug 94 submitted and approv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6 April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Book “Semiconductor Modeling” discusses IQ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(Roy Leventhal, Lynne Green)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6 August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IQ 1.1 specification initi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2009 August</a:t>
            </a: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- IQ 1.1 renamed IQ 2.0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9 October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IQ 2.0 approval expec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Specification Version 1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55560" y="1521000"/>
            <a:ext cx="794088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BIS Quality Level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Can be checked by IBISCHK, plus a few other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Correctness, completeness, and simulation check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a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mulation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b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Bench measurement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mulation and measurement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Issues with IQ Version 1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12720" y="1521000"/>
            <a:ext cx="798372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Passing IQ Level 0 does not sound like much of an accomplishment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s a non-compliant file level -1?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ere should be a strict level for “Passes IBISCHK”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No other IQ check should duplicate IBISCH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an’t have a correlated model without full IQ chec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ome checks are weak (“should” vs. “must”)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eedback from JEITA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Specification Version 2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655560" y="1521000"/>
            <a:ext cx="794088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BIS Quality Level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0      Not Check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1      Passes IBISCHK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2      Suitable for Waveform Simulation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3      Suitable for Timing Analysi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4      Suitable for Power Analysis * (defined, but no checks)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pecial Designator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         Simulation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M        Measurement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X         Exception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G         Has Golden Waveform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6484320" y="4278240"/>
            <a:ext cx="1727280" cy="1690920"/>
            <a:chOff x="6484320" y="4278240"/>
            <a:chExt cx="1727280" cy="1690920"/>
          </a:xfrm>
        </p:grpSpPr>
        <p:sp>
          <p:nvSpPr>
            <p:cNvPr id="106" name="Freeform 5"/>
            <p:cNvSpPr/>
            <p:nvPr/>
          </p:nvSpPr>
          <p:spPr>
            <a:xfrm>
              <a:off x="6485040" y="4325760"/>
              <a:ext cx="1473120" cy="140976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1409760"/>
                <a:gd name="textAreaBottom" fmla="*/ 1409760 h 1409760"/>
              </a:gdLst>
              <a:ahLst/>
              <a:rect l="textAreaLeft" t="textAreaTop" r="textAreaRight" b="textAreaBottom"/>
              <a:pathLst>
                <a:path w="928" h="888">
                  <a:moveTo>
                    <a:pt x="240" y="736"/>
                  </a:moveTo>
                  <a:cubicBezTo>
                    <a:pt x="184" y="712"/>
                    <a:pt x="120" y="648"/>
                    <a:pt x="96" y="592"/>
                  </a:cubicBezTo>
                  <a:cubicBezTo>
                    <a:pt x="72" y="536"/>
                    <a:pt x="112" y="448"/>
                    <a:pt x="96" y="400"/>
                  </a:cubicBezTo>
                  <a:cubicBezTo>
                    <a:pt x="80" y="352"/>
                    <a:pt x="0" y="360"/>
                    <a:pt x="0" y="304"/>
                  </a:cubicBezTo>
                  <a:cubicBezTo>
                    <a:pt x="0" y="248"/>
                    <a:pt x="16" y="112"/>
                    <a:pt x="96" y="64"/>
                  </a:cubicBezTo>
                  <a:cubicBezTo>
                    <a:pt x="176" y="16"/>
                    <a:pt x="368" y="0"/>
                    <a:pt x="480" y="16"/>
                  </a:cubicBezTo>
                  <a:cubicBezTo>
                    <a:pt x="592" y="32"/>
                    <a:pt x="704" y="96"/>
                    <a:pt x="768" y="160"/>
                  </a:cubicBezTo>
                  <a:cubicBezTo>
                    <a:pt x="832" y="224"/>
                    <a:pt x="840" y="312"/>
                    <a:pt x="864" y="400"/>
                  </a:cubicBezTo>
                  <a:cubicBezTo>
                    <a:pt x="888" y="488"/>
                    <a:pt x="928" y="608"/>
                    <a:pt x="912" y="688"/>
                  </a:cubicBezTo>
                  <a:cubicBezTo>
                    <a:pt x="896" y="768"/>
                    <a:pt x="816" y="872"/>
                    <a:pt x="768" y="880"/>
                  </a:cubicBezTo>
                  <a:cubicBezTo>
                    <a:pt x="720" y="888"/>
                    <a:pt x="680" y="760"/>
                    <a:pt x="624" y="736"/>
                  </a:cubicBezTo>
                  <a:cubicBezTo>
                    <a:pt x="568" y="712"/>
                    <a:pt x="496" y="736"/>
                    <a:pt x="432" y="736"/>
                  </a:cubicBezTo>
                  <a:cubicBezTo>
                    <a:pt x="368" y="736"/>
                    <a:pt x="296" y="760"/>
                    <a:pt x="240" y="736"/>
                  </a:cubicBezTo>
                  <a:close/>
                </a:path>
              </a:pathLst>
            </a:custGeom>
            <a:solidFill>
              <a:srgbClr val="457346"/>
            </a:solidFill>
            <a:ln w="9360">
              <a:solidFill>
                <a:srgbClr val="a094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07" name="Text Box 6"/>
            <p:cNvSpPr/>
            <p:nvPr/>
          </p:nvSpPr>
          <p:spPr>
            <a:xfrm>
              <a:off x="6712920" y="485928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0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08" name="Text Box 7"/>
            <p:cNvSpPr/>
            <p:nvPr/>
          </p:nvSpPr>
          <p:spPr>
            <a:xfrm>
              <a:off x="7246440" y="47829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3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09" name="Text Box 8"/>
            <p:cNvSpPr/>
            <p:nvPr/>
          </p:nvSpPr>
          <p:spPr>
            <a:xfrm>
              <a:off x="6971760" y="44481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2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6484320" y="45543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1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7170120" y="508788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4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7647120" y="4278240"/>
              <a:ext cx="4194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45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3" name="Text Box 12"/>
            <p:cNvSpPr/>
            <p:nvPr/>
          </p:nvSpPr>
          <p:spPr>
            <a:xfrm>
              <a:off x="7844040" y="4838760"/>
              <a:ext cx="3675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45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7055280" y="5557680"/>
              <a:ext cx="3675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45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The Only LEVEL 1 Check (IBISCHK)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87280" y="1333440"/>
            <a:ext cx="85917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Courier New"/>
              </a:rPr>
              <a:t>2.1 {LEVEL 1}  IBIS file passes IBISCH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4960" y="1830240"/>
            <a:ext cx="8236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Checking a123_test.ibs for IBIS 4.1 Compatibility...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RROR (line  446) - [Receiver Thresholds] should be specified immediately after all the</a:t>
            </a:r>
            <a:br>
              <a:rPr sz="1600"/>
            </a:b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subparameters of a model and before the other keywords of a model except [Model Spec]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RROR - Model DQ_FULL Receiver Thresholds: Tslew_ac must be specified for single</a:t>
            </a:r>
            <a:br>
              <a:rPr sz="1600"/>
            </a:b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nded receivers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up Typical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down Minimum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up Minimum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up Maximum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FULL Pullup Typical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rrors  : 2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s: 5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File Failed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Example LEVEL 2 Checks (Waveforms)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1760" y="1603440"/>
            <a:ext cx="82915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7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Combined I-V tables are monotonic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8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[Pulldown] I-V tables pass through zero/zero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9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[Pullup] I-V tables pass through zero/zeroI-V 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10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No leakage current in clamp tables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11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I-V behavior not double-counted 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Example LEVEL 3 Checks (Timing)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26960" y="1595520"/>
            <a:ext cx="8121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3.2.2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Pin] RLC parasitics are present and reasonable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3.3.1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Diff Pin] Vdiff and Tdelay_* complete and reasonable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2.1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Model] Vinl and Vinh reasonable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2.2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Model Spec] Vinl and Vinh reasonable</a:t>
            </a:r>
            <a:r>
              <a:rPr b="0" lang="en-US" sz="1800" spc="-1" strike="noStrike" u="sng">
                <a:solidFill>
                  <a:srgbClr val="003258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21:20:03Z</dcterms:created>
  <dc:creator>Anders Ekholm</dc:creator>
  <dc:description>Rev PA1</dc:description>
  <cp:keywords>IBIS SUMMIT 2009 ASIA</cp:keywords>
  <dc:language>en-US</dc:language>
  <cp:lastModifiedBy>Bob Ross</cp:lastModifiedBy>
  <dcterms:modified xsi:type="dcterms:W3CDTF">2009-10-01T21:17:56Z</dcterms:modified>
  <cp:revision>83</cp:revision>
  <dc:subject/>
  <dc:title>IBIS Quality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09-09-25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4</vt:lpwstr>
  </property>
  <property fmtid="{D5CDD505-2E9C-101B-9397-08002B2CF9AE}" pid="8" name="DocumentType2">
    <vt:lpwstr>OHLogoNew2004</vt:lpwstr>
  </property>
  <property fmtid="{D5CDD505-2E9C-101B-9397-08002B2CF9AE}" pid="9" name="FooterType">
    <vt:lpwstr>CVL</vt:lpwstr>
  </property>
  <property fmtid="{D5CDD505-2E9C-101B-9397-08002B2CF9AE}" pid="10" name="Keyword">
    <vt:lpwstr>IBIS SUMMIT 2009 ASIA</vt:lpwstr>
  </property>
  <property fmtid="{D5CDD505-2E9C-101B-9397-08002B2CF9AE}" pid="11" name="LeftFooterField">
    <vt:lpwstr>© Ericsson AB 2009</vt:lpwstr>
  </property>
  <property fmtid="{D5CDD505-2E9C-101B-9397-08002B2CF9AE}" pid="12" name="MiddleFooterField">
    <vt:lpwstr>Public</vt:lpwstr>
  </property>
  <property fmtid="{D5CDD505-2E9C-101B-9397-08002B2CF9AE}" pid="13" name="Pages">
    <vt:bool>1</vt:bool>
  </property>
  <property fmtid="{D5CDD505-2E9C-101B-9397-08002B2CF9AE}" pid="14" name="Prepared">
    <vt:lpwstr>Anders Ekholm</vt:lpwstr>
  </property>
  <property fmtid="{D5CDD505-2E9C-101B-9397-08002B2CF9AE}" pid="15" name="Reference">
    <vt:lpwstr/>
  </property>
  <property fmtid="{D5CDD505-2E9C-101B-9397-08002B2CF9AE}" pid="16" name="Revision">
    <vt:lpwstr>PA1</vt:lpwstr>
  </property>
  <property fmtid="{D5CDD505-2E9C-101B-9397-08002B2CF9AE}" pid="17" name="RightFooterField">
    <vt:lpwstr/>
  </property>
  <property fmtid="{D5CDD505-2E9C-101B-9397-08002B2CF9AE}" pid="18" name="RightFooterField2">
    <vt:lpwstr>2009-09-25</vt:lpwstr>
  </property>
  <property fmtid="{D5CDD505-2E9C-101B-9397-08002B2CF9AE}" pid="19" name="SecurityClass">
    <vt:lpwstr>Public</vt:lpwstr>
  </property>
  <property fmtid="{D5CDD505-2E9C-101B-9397-08002B2CF9AE}" pid="20" name="TemplateName">
    <vt:lpwstr>CXC 172 2019/1</vt:lpwstr>
  </property>
  <property fmtid="{D5CDD505-2E9C-101B-9397-08002B2CF9AE}" pid="21" name="TemplateName2">
    <vt:lpwstr>CXC 172 2019/1</vt:lpwstr>
  </property>
  <property fmtid="{D5CDD505-2E9C-101B-9397-08002B2CF9AE}" pid="22" name="TemplateVersion">
    <vt:lpwstr>R1A</vt:lpwstr>
  </property>
  <property fmtid="{D5CDD505-2E9C-101B-9397-08002B2CF9AE}" pid="23" name="TemplateVersion2">
    <vt:lpwstr>R1A</vt:lpwstr>
  </property>
  <property fmtid="{D5CDD505-2E9C-101B-9397-08002B2CF9AE}" pid="24" name="Title">
    <vt:lpwstr/>
  </property>
  <property fmtid="{D5CDD505-2E9C-101B-9397-08002B2CF9AE}" pid="25" name="TotalNumb">
    <vt:bool>0</vt:bool>
  </property>
  <property fmtid="{D5CDD505-2E9C-101B-9397-08002B2CF9AE}" pid="26" name="White">
    <vt:bool>1</vt:bool>
  </property>
  <property fmtid="{D5CDD505-2E9C-101B-9397-08002B2CF9AE}" pid="27" name="chkMetaData">
    <vt:bool>0</vt:bool>
  </property>
  <property fmtid="{D5CDD505-2E9C-101B-9397-08002B2CF9AE}" pid="28" name="chkTaglines">
    <vt:bool>1</vt:bool>
  </property>
  <property fmtid="{D5CDD505-2E9C-101B-9397-08002B2CF9AE}" pid="29" name="optEnterText1">
    <vt:bool>0</vt:bool>
  </property>
  <property fmtid="{D5CDD505-2E9C-101B-9397-08002B2CF9AE}" pid="30" name="optEnterText2">
    <vt:bool>0</vt:bool>
  </property>
  <property fmtid="{D5CDD505-2E9C-101B-9397-08002B2CF9AE}" pid="31" name="optEnterText3">
    <vt:bool>0</vt:bool>
  </property>
  <property fmtid="{D5CDD505-2E9C-101B-9397-08002B2CF9AE}" pid="32" name="optEnterText4">
    <vt:bool>0</vt:bool>
  </property>
  <property fmtid="{D5CDD505-2E9C-101B-9397-08002B2CF9AE}" pid="33" name="optFooterCVLConfLabel">
    <vt:bool>1</vt:bool>
  </property>
  <property fmtid="{D5CDD505-2E9C-101B-9397-08002B2CF9AE}" pid="34" name="optFooterCVLCopyright">
    <vt:bool>1</vt:bool>
  </property>
  <property fmtid="{D5CDD505-2E9C-101B-9397-08002B2CF9AE}" pid="35" name="optFooterCVLDate">
    <vt:bool>1</vt:bool>
  </property>
  <property fmtid="{D5CDD505-2E9C-101B-9397-08002B2CF9AE}" pid="36" name="optFooterCVLDocNo">
    <vt:bool>0</vt:bool>
  </property>
  <property fmtid="{D5CDD505-2E9C-101B-9397-08002B2CF9AE}" pid="37" name="optFooterCVLPrep">
    <vt:bool>0</vt:bool>
  </property>
  <property fmtid="{D5CDD505-2E9C-101B-9397-08002B2CF9AE}" pid="38" name="optFooterCVLTitle">
    <vt:bool>1</vt:bool>
  </property>
  <property fmtid="{D5CDD505-2E9C-101B-9397-08002B2CF9AE}" pid="39" name="optUseConfClass">
    <vt:bool>1</vt:bool>
  </property>
  <property fmtid="{D5CDD505-2E9C-101B-9397-08002B2CF9AE}" pid="40" name="optUseConfLabel">
    <vt:bool>0</vt:bool>
  </property>
  <property fmtid="{D5CDD505-2E9C-101B-9397-08002B2CF9AE}" pid="41" name="txtConfLabel">
    <vt:lpwstr>Public</vt:lpwstr>
  </property>
  <property fmtid="{D5CDD505-2E9C-101B-9397-08002B2CF9AE}" pid="42" name="x">
    <vt:lpwstr>1</vt:lpwstr>
  </property>
</Properties>
</file>