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9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C60FECC8-0888-4F7A-B00C-AC379040DE21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a.org/pub/ibis/touchstone_version2.0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parse Matrix Mapping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n Future Touchstone 2.1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ia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anghai Chi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vember 4, 200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1752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xample: PhysicallySymmetrical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2 by 3 Connector for Expansion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257800" y="380988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2578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200400" y="380988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3809880"/>
            <a:ext cx="1917720" cy="851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80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124080"/>
            <a:ext cx="49528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2362320"/>
            <a:ext cx="495288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54100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pkg, .icm format illustrated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Define Package Model] 6-pin LRC(G) from 1 to 6 and Thru Path 1-7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57800" y="380988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257800" y="251460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200400" y="3809880"/>
            <a:ext cx="1917720" cy="851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1219320" y="3809880"/>
            <a:ext cx="1917720" cy="851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3048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124080"/>
            <a:ext cx="4952880" cy="16765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362320"/>
            <a:ext cx="4952880" cy="167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895480"/>
            <a:ext cx="198144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2895480"/>
            <a:ext cx="2057400" cy="129564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895480"/>
            <a:ext cx="0" cy="129564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895480"/>
            <a:ext cx="4343400" cy="11430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2743200"/>
            <a:ext cx="41148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143000" y="2133360"/>
            <a:ext cx="1828800" cy="6858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600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-R Thru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971800"/>
            <a:ext cx="1752480" cy="29718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60357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3623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5105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-G (&amp; mutual k or L coup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638320" y="2666880"/>
            <a:ext cx="228600" cy="243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581280" y="3352320"/>
            <a:ext cx="106704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2193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ins for one side of thru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6 pins in [Define Package Model] Sparse_matrix: list of R, L, C … 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76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Capacitance Matrix] Sparse_matri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Row]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1  6pF  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2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3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4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5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6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Row]  2   | etc …  through [Row] 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2  6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3 -1p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tc.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1523880"/>
            <a:ext cx="30481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mmon Format for .pkg and .icm for large package (e.g., 500 to 1000 p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pper triangle (forward coupling) of single-frequency LRC(G)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Sparse Matrix Mapping]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 Proposed in Version 2.1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[Network Data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Number of Sparse Labels] 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&lt;nl&gt;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Sparse Matrix Mapping] 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{integer-labels, index-pairs}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After </a:t>
            </a:r>
            <a:r>
              <a:rPr b="1" lang="en-US" sz="2000" spc="-1" strike="noStrike">
                <a:solidFill>
                  <a:srgbClr val="186ecc"/>
                </a:solidFill>
                <a:latin typeface="Gill Sans MT"/>
              </a:rPr>
              <a:t>[Matrix Format],</a:t>
            </a: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 if entered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ach integer-label locates a data-pair that can be mapped into one or more index-pair (row,column) positions in the N-port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 block keywo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Network Data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One data-pair column for each integer-label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End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wer data-pairs under [Network Data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ther keywords have same mean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12-port Coupling (1: to 7:)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hysical Symmetry, Unique Coupling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2362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752480" y="2514600"/>
            <a:ext cx="4432320" cy="165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8288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447920"/>
            <a:ext cx="495288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3048120"/>
            <a:ext cx="495324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600200"/>
            <a:ext cx="419076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1752480"/>
            <a:ext cx="205740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676520"/>
            <a:ext cx="419112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676520"/>
            <a:ext cx="0" cy="83808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1676520"/>
            <a:ext cx="3657600" cy="419076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791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47242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48006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: 1- GND     2: 1-2          ….           7: 1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12-port Coupling (8: to 12:)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hysical Symmetry, Unique Coupling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362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752480" y="2514600"/>
            <a:ext cx="4432320" cy="165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288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447920"/>
            <a:ext cx="495288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3048120"/>
            <a:ext cx="495324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1676520"/>
            <a:ext cx="4876920" cy="160020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1676520"/>
            <a:ext cx="609840" cy="243828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1600200"/>
            <a:ext cx="2590920" cy="167652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1676520"/>
            <a:ext cx="2514600" cy="243828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1676520"/>
            <a:ext cx="4724280" cy="2514600"/>
          </a:xfrm>
          <a:prstGeom prst="line">
            <a:avLst/>
          </a:prstGeom>
          <a:ln cap="rnd" w="7632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5791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48769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:  1 – 8   9:  1 – 9     ….       12: 1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nteger-label ‘5:’ 16 ‘index-pairs’ to map to (row,column) of N-por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362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1752480" y="2514600"/>
            <a:ext cx="4432320" cy="165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288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1447920"/>
            <a:ext cx="4952880" cy="144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1080" y="3048120"/>
            <a:ext cx="4953240" cy="144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82880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1676520"/>
            <a:ext cx="213336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32767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276720"/>
            <a:ext cx="2209680" cy="83808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438280" y="320040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495680" y="32767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96252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5029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:  (1,5) (5,1) (2,4) (4,2) (2,6) (6,2) (3,5) (5,3)       (7,11) (11,7) (8,10) (10,8) (8,12) (12,8) (9,11) (11,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atrix Format] {Full | Upper | Lower}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‘index-pairs’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5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362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85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4432320" cy="165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1752480" y="2514600"/>
            <a:ext cx="4432320" cy="165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8288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16765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2590920"/>
            <a:ext cx="533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1447920"/>
            <a:ext cx="4952880" cy="144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3048120"/>
            <a:ext cx="4953240" cy="144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82880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1676520"/>
            <a:ext cx="213336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32767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19720" y="3276720"/>
            <a:ext cx="2209680" cy="83808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438280" y="320040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495680" y="32767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962520" y="1676520"/>
            <a:ext cx="2057400" cy="91440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50292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: (1,5) (2,4) (2,6) (3,5)  (7,11) (8,10) (8,12) (9,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(5,1) (4,2) (6,2) (5,3)  (11,7) (10,8) (12,8) (11,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49528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487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5029200"/>
            <a:ext cx="6782040" cy="4572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562720"/>
            <a:ext cx="6782040" cy="4572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6019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4572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4800600"/>
            <a:ext cx="6858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752480" y="6095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2 by 3 Connector with 7 integer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-labels and 7 data-pairs per Frequency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914400"/>
            <a:ext cx="81536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Number of Ports] 12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! Some keywords o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Number of Sparse Labels]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Matrix Format] U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Sparse Matrix Mappin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: (1,1) (2,2) (3,3) (4,4) (5,5) (6,6) (7,7) (8,8) (9,9) (10,10) (11,11) (12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: (1,2) (2,3) (4,5) (5,6) (7,8) (8,9) (10,11) (11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: (1,3) (4,6) (7,9) (10,12)               4: (1,4) (2,5) (3,6) (7,10) (8,11) (9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5: (1,5) (2,4) (2,6) (3,5) (7,11) (8,10) (8,12) (9,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6: (1,6) (3,4) (7,12) (9,10)               7: (1,7) (2,8) (3,9) (4,10) (5,11) (6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Network Data]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! Frequency and 7 data-pairs in MA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&lt;f1&gt;  &lt;M1 A1&gt; &lt;M2 A2&gt;  &lt;M3 A3&gt; &lt;M4 A4&gt; &lt;M5 A5&gt; &lt;M6 A6&gt; &lt;M7 A7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En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6 Pin (12 Port) 2 by 3 Connector, Number of index-pairs per integer-label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15200" cy="5168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743200" y="1219320"/>
            <a:ext cx="838080" cy="5105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pic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ief Touchstone background through Version 2.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Sparse Matrix Mapping] for Touchstone Version 2.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Physical symmetry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oincidentally identically data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Extrapolate to more ports based on physical symmetry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40 Pin (80 Port) 2 by 20 Connector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15200" cy="5168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743200" y="1219320"/>
            <a:ext cx="838080" cy="5105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200 Pin (400 Port) 2 by 100 Connector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15200" cy="5170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743200" y="1219320"/>
            <a:ext cx="838080" cy="5105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onnector: 5 banks of 2 by 20 pin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 [Matrix Format] Upper, 1: to 7: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56 index-pairs per 40 pin ba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280 index-pairs for 5 ba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bout 5 pages of auto-generated index-pai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t needed – 13,920 index-pairs for zeroed data-pai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7 data-pairs, 7 integer-labels for 200 pins, 400 po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wer data-pairs than a full 3-port !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80880" y="396216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914400" y="137160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137160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137160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137160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981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00 pins, banks of 40 pins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mmen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mat details still being discus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rt numbering shown in example was for simplic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ny port ordering can be us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ome port orders simplify the expansion equatio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Sparse Matrix Mapping] implies pre-processing step to move data into the full N-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ll other keywords apply to the N-port dat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Mixed-Mode Order] can also be used to re-order the por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uture [Sparse Matrix Mapping]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all files for large, physically symmetrical packages and conne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tages of N-port parame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any frequenci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ore coupling modes and generalit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ne mapping for all frequenci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rts large packages with N-ports where the IBIS .pkg and .icm format is currently u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futureTouchstone Version 2.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Background and Update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issued 1984 by EEso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w part of Agilent Technologi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“Version 1.0” is widely u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Version 2.0 ratified by IBIS April 200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ormat rules relax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Resistance per port option for PD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ixed mode features for differential setup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://www.eda.org/pub/ibis/touchstone_version2.0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gilent Technologies contracted to produce tschk2 parser – available soon, f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“1.0” Block Arrange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29528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2514600"/>
            <a:ext cx="655308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487692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12952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 Line                             For example, # GHZ S MA R 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2590920"/>
            <a:ext cx="5029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-port Data Block                    (rigid format rules)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fficially for Single-End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8769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al Noise Data Block     (n=2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Version 1.0” Fixed Format Example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f = frequency, s = data-pair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066680"/>
            <a:ext cx="83844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1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   f s   f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114800"/>
            <a:ext cx="121932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2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f s s s s  f s s s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066680"/>
            <a:ext cx="990720" cy="302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3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s s   s s s   f s s s  s s s   s s s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066680"/>
            <a:ext cx="121932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4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 s s s s       s s s s       s s s s      f s s s s     s s s s     s s s s     s s s s     f …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1066680"/>
            <a:ext cx="121896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5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          s s s s    s            s s s s    s           s s s s     s           s s s s     s        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1066680"/>
            <a:ext cx="1219320" cy="594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6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s         s s s s    s s         s s s s    s s         s s s s    s s         s s s s    s s         s s s s    s s         f …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548640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ormatting, frequency ordering, and end of file implies number of ports and frequency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106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tc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hirteen IBIS-like Keywords -1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ments – starting with ‘!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tart of line or in line until end of line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Within file or before [Version] or after [End]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Blank lines permitt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quired keywords (and option line) – fixed or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[Version]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2.0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# (option line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[Number of Ports]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&lt;n&gt;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hirteen IBIS-like Keywords -2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words in any 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[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Number of Frequencies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&lt;nf&gt;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19960" indent="-22392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(required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Two-Port Data Order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{21_12 | 12_21}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19960" indent="-22392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(required for n=2 only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Reference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&lt;n reference resistances in port order&gt;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Matrix Format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{Full | Lower | Upper}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Mixed-Mode Order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{Di,j, Ci,j, Si,j entries} 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Number of Noise Frequencies]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&lt;nnf&gt;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19960" indent="-22392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(required if noise data, n=2 only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[Begin Information]/[End Information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19960" indent="-22392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(block reserved for future use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hirteen IBIS-like Keywords - 3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block keywo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16"/>
                </a:solidFill>
                <a:latin typeface="Gill Sans MT"/>
              </a:rPr>
              <a:t>[</a:t>
            </a: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Network Data]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(required to begin network data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[Noise Data]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(required if noise data exists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[End]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(required at end of data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2.0 Block Arrange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295280"/>
            <a:ext cx="655308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3276720"/>
            <a:ext cx="655308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87692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2952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Version] 2.0                              # Option Line                             [Number of Ports]  &lt;n&gt;                          plus keywords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34290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Network Dat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ore flexible format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48769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Noise Data]                  (optional for n=2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5943600"/>
            <a:ext cx="655308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E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9-10-13T22:20:03Z</dcterms:modified>
  <cp:revision>738</cp:revision>
  <dc:subject/>
  <dc:title>IBIS</dc:title>
</cp:coreProperties>
</file>