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A7EDAAF-36CA-467F-81BC-3E90780C7EA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a.org/pub/ibis/ibischk5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ent IBIS Activi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nghai, Ch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4,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IBIS Logo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1268280"/>
            <a:ext cx="5562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IBIS Officers 2009 - 2010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ir: Bob Ross, Teraspeed Consulting Group, (past Chair 1996-200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ce-Chair: Lance Wang, IO Method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brarian: Anders Ekholm, Erics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ary: Randy Wolff, Micron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master: Syed Huq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master: Mike LaBonte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 you Michael Mirmak, Intel Corporation for 6 successful years as Chair and host of previous Asian IBIS Summi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e Since 1993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r IBIS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leconference/Web meetings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veral standards and documents and pars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 (about 5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ina, Japan, Europe, and USA (2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 with leading expe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(ad hoc) - Touchstone Spec., IC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–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 Releas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, Version 5.0.0 for IBIS Version 5.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ibischk5/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urce code licenses available for purchas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s all [IBIS Ver] versions of IBIS fi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eleased or Current Project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ome covered in Agenda*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ratified in April 2009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ublic Touchstone parser “tschk2” by Agilent Technologies (2010)*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uture Version 2.1*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Quality Specification Version 2.0 soon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gorithmic model interface improvements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Interconnect Spice Subcircuit Specification – (IBIS-ISS) with Synopsys approval (201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 maintenance and improv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remains active, attracts top talent, and has international particip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029200"/>
            <a:ext cx="70102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10-13T07:00:17Z</dcterms:modified>
  <cp:revision>704</cp:revision>
  <dc:subject/>
  <dc:title>IBIS</dc:title>
</cp:coreProperties>
</file>