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move the slide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8016-A582-457F-BB60-AD7C64834F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5BD9CFB-1BE3-4784-A923-1034A7F15A63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1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6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1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6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1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6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1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6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1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6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1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6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1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4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27E75F2A-99E1-443A-8E52-139B5AA1FC7E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1" marL="401760" algn="ctr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 algn="ctr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3" marL="1201680" algn="ctr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Medium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rutigerNext LT Medium"/>
            </a:endParaRPr>
          </a:p>
          <a:p>
            <a:pPr lvl="4" marL="1601640" algn="ctr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Medium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rutigerNext LT Medium"/>
            </a:endParaRPr>
          </a:p>
          <a:p>
            <a:pPr lvl="5" marL="1601640">
              <a:spcBef>
                <a:spcPts val="300"/>
              </a:spcBef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Medium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rutigerNext LT Medium"/>
            </a:endParaRPr>
          </a:p>
          <a:p>
            <a:pPr lvl="6" marL="1601640">
              <a:spcBef>
                <a:spcPts val="300"/>
              </a:spcBef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Medium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rutigerNext LT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6193080" cy="3095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utigerNext LT Medium"/>
              </a:rPr>
              <a:t>Huawei's IBIS model quality specification and technology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Asian IBIS Summit, Shanghai Chin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November 4, 2009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Liju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Huawei Technologies Co., LTD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FrutigerNext LT Medium"/>
              </a:rPr>
              <a:t>june_lee@huawei.com</a:t>
            </a:r>
            <a:endParaRPr b="1" lang="en-US" sz="20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244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0676A41-A53E-4628-8A6B-E7AA287608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89000"/>
            <a:ext cx="490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93600" y="933840"/>
            <a:ext cx="66247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opology.</a:t>
            </a: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Driver          →               Interconnect          →     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077840" y="1938240"/>
            <a:ext cx="6446880" cy="3600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00000" y="5589720"/>
            <a:ext cx="7488360" cy="35388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t’s important</a:t>
            </a:r>
            <a:r>
              <a:rPr b="0" lang="en-US" sz="1800" spc="-1" strike="noStrike">
                <a:solidFill>
                  <a:srgbClr val="ffffff"/>
                </a:solidFill>
                <a:latin typeface="FrutigerNext LT Regula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o keep consistent with the channel1 and channe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79640" y="3218040"/>
            <a:ext cx="1584360" cy="50472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B5AA9-DBF9-448A-A070-17775CB526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892080"/>
            <a:ext cx="7559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981000"/>
            <a:ext cx="799308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PKG 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PKG and C_comp parameters should match the datashee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PKG and C_comp model should match the TDR cu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3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29080" y="4941360"/>
            <a:ext cx="36147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  <a:ea typeface="宋体"/>
              </a:rPr>
              <a:t>其主导因素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1) 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保持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C-comp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不变，改变边沿速率（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Ramp data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）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2) 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保持边沿速率不变，改变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C-comp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8200" y="149400"/>
            <a:ext cx="49039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003640" y="2924280"/>
            <a:ext cx="3384720" cy="2346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176720" cy="23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BA406-A8BB-48B2-A2B4-96B270C47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280" y="703440"/>
            <a:ext cx="8370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VI/VT data  table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329080" cy="280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50920" y="189000"/>
            <a:ext cx="490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84960" y="1413000"/>
            <a:ext cx="6639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VI/VT  data is not really accuracy, should be adjusted sometim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Rubbish  VI/VT  data in, rubbish  waveform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73B54-8781-4EAB-9E9E-D75C424A0C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981000"/>
            <a:ext cx="842472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） 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Macro model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More faster rising edge, more SS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Traditional IBIS could not support SSN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189000"/>
            <a:ext cx="490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3587760" cy="2257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600360" cy="2519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44760" y="5013360"/>
            <a:ext cx="603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e add a behavioral current source  in  IBIS, modeling the SS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ould Improve the simulation accu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C1684-73B1-4AE3-BEBD-B65BACA1EA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564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59892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0" name="Picture 9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359892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755640" y="3347640"/>
            <a:ext cx="7056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FrutigerNext LT Regular"/>
              </a:rPr>
              <a:t>吻合度参数：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35%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          15%         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           10%         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         5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0560" y="905040"/>
            <a:ext cx="2303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Correction case</a:t>
            </a:r>
            <a:r>
              <a:rPr b="1" lang="zh-CN" sz="1800" spc="-1" strike="noStrike">
                <a:solidFill>
                  <a:srgbClr val="000000"/>
                </a:solidFill>
                <a:latin typeface="FrutigerNext LT Regular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288720" cy="2491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39760" y="144360"/>
            <a:ext cx="4903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138920"/>
            <a:ext cx="7704000" cy="322920"/>
          </a:xfrm>
          <a:prstGeom prst="rect">
            <a:avLst/>
          </a:prstGeom>
          <a:noFill/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The correction technology improved the model quality significa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7C6E9-9EA3-450F-9751-417823BBB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564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0920" y="5661000"/>
            <a:ext cx="288720" cy="249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84360" y="692280"/>
            <a:ext cx="490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1268280"/>
            <a:ext cx="770400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Huawei follows the IQ Spec, but more detai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ctual PCB measurement based correlation is significan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Model correction technology  is a good way  to improve model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Expect to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elease IBIS correction technology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F1AA0-323D-4E0C-86E6-C68F5E5827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8564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0920" y="5661000"/>
            <a:ext cx="288720" cy="249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50720" y="480960"/>
            <a:ext cx="792000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fficial IBIS Website, including tools, articles, spec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eigroup.org/ibi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q_ver_2_0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eda.org/pub/ibis/quality_wip/iq_ver_2_0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BIS Summit presentations 2007~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eda-stds.org/ibis/summits/index-bydate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Micron model qualit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micron.com/products/partdetail?part=MT18JSF25672AY-1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Altera model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altera.com/literature/wp/signal-integrity_s2-v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Mark Alexander  Xilinx Corp.  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《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ssn master circuit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xilinx.com/products/virtex4/pdfs/virtex-4_power_system_performance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0EA37-4C64-4965-A2C6-79821CD7E8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verview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1484280"/>
            <a:ext cx="698508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Huawei’s model qualit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    </a:t>
            </a: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Golden mode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    </a:t>
            </a: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odel  quality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IBIS model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    </a:t>
            </a: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Correction 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    </a:t>
            </a: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Correction 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B4CD6-3183-4496-AC48-84E578AF6A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Golden Model Specific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8" name=""/>
          <p:cNvSpPr/>
          <p:nvPr/>
        </p:nvSpPr>
        <p:spPr>
          <a:xfrm>
            <a:off x="804960" y="2852640"/>
            <a:ext cx="777708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Huawei’s specif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Huawei follows the IQ Spec, but more detail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tual PCB measurement based correlation;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Model level:  Copper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ilver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Golden1 model (for signal refle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Golden2 model (for tim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Golden3 model (for SI+PI co-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413000"/>
            <a:ext cx="74901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ackground: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BIS model provided by many different chip vendo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ystem vendor’s requirement  should be considered in IQ sp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5F574-9E34-459D-AF57-CEAE3E1059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Huawei IBIS Quality repor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5867640" cy="482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00000" y="4797360"/>
            <a:ext cx="1008000" cy="21600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4365720"/>
            <a:ext cx="1008360" cy="21564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2349360"/>
            <a:ext cx="1008000" cy="21600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63280" y="1561680"/>
            <a:ext cx="4608720" cy="786240"/>
            <a:chOff x="1763280" y="1561680"/>
            <a:chExt cx="4608720" cy="786240"/>
          </a:xfrm>
        </p:grpSpPr>
        <p:sp>
          <p:nvSpPr>
            <p:cNvPr id="256" name=""/>
            <p:cNvSpPr/>
            <p:nvPr/>
          </p:nvSpPr>
          <p:spPr>
            <a:xfrm flipH="1">
              <a:off x="1763280" y="1916280"/>
              <a:ext cx="6282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840" y="1561680"/>
              <a:ext cx="3980160" cy="2926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FrutigerNext LT Regular"/>
                </a:rPr>
                <a:t>Part1: Huawei’s  model quality  checklis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908000" y="3577680"/>
            <a:ext cx="4463640" cy="786240"/>
            <a:chOff x="1908000" y="3577680"/>
            <a:chExt cx="4463640" cy="786240"/>
          </a:xfrm>
        </p:grpSpPr>
        <p:sp>
          <p:nvSpPr>
            <p:cNvPr id="259" name=""/>
            <p:cNvSpPr/>
            <p:nvPr/>
          </p:nvSpPr>
          <p:spPr>
            <a:xfrm flipH="1">
              <a:off x="1908000" y="3932280"/>
              <a:ext cx="6084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6400" y="3577680"/>
              <a:ext cx="3855240" cy="2926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FrutigerNext LT Regular"/>
                </a:rPr>
                <a:t>Part2: Waveform compar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H="1" flipV="1">
            <a:off x="1618920" y="522900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5960" y="5766840"/>
            <a:ext cx="5684760" cy="2926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FrutigerNext LT Regular"/>
              </a:rPr>
              <a:t>Part3: Electrical  Specifications: simulation VS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994680"/>
            <a:ext cx="2124000" cy="2695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utigerNext LT Regular"/>
              </a:rPr>
              <a:t>If  passed , Huawei model level will be set as follow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Copper model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Silver model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Golden1 model (for signal reflect)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Golden2 model (for timing)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Golden3 model (for SI+PI co-de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9A45A-3EA0-4F52-A445-4619150B4E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Golden Model Specific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247320" y="765000"/>
            <a:ext cx="4293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Part1: Huawei’s  model quality  checkli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272360" cy="515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F88E1-F6FB-4293-BDAF-702D60D434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Golden Model Specific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8" name=""/>
          <p:cNvSpPr/>
          <p:nvPr/>
        </p:nvSpPr>
        <p:spPr>
          <a:xfrm>
            <a:off x="180720" y="1025640"/>
            <a:ext cx="84952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Part2: Waveform comparison:  FTS (Fast/typical/slow)  simulation  VS  measur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3744720" cy="2309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371840" y="3213000"/>
            <a:ext cx="3745080" cy="2428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556000" y="1484280"/>
            <a:ext cx="3960720" cy="1081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294000" y="2565360"/>
            <a:ext cx="24894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Channel  S-parameter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39920" y="5538960"/>
            <a:ext cx="4680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actual PCB measurement  VS 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B625F-84FE-41D5-A875-0BDDFF7082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Model Quality repor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903240"/>
            <a:ext cx="792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Part3: Electrical  Specifications: simulation VS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714920" cy="2828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333680" cy="29592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759960" y="4653000"/>
            <a:ext cx="3345120" cy="1482840"/>
            <a:chOff x="759960" y="4653000"/>
            <a:chExt cx="3345120" cy="1482840"/>
          </a:xfrm>
        </p:grpSpPr>
        <p:sp>
          <p:nvSpPr>
            <p:cNvPr id="279" name=""/>
            <p:cNvSpPr/>
            <p:nvPr/>
          </p:nvSpPr>
          <p:spPr>
            <a:xfrm>
              <a:off x="759960" y="4653000"/>
              <a:ext cx="690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FOM:</a:t>
              </a:r>
              <a:r>
                <a:rPr b="0" lang="en-US" sz="1400" spc="-1" strike="noStrike">
                  <a:solidFill>
                    <a:srgbClr val="ffffff"/>
                  </a:solidFill>
                  <a:latin typeface="FrutigerNext LT Regular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3">
              <a:lum bright="-20000"/>
            </a:blip>
            <a:stretch/>
          </p:blipFill>
          <p:spPr>
            <a:xfrm>
              <a:off x="1042920" y="4869000"/>
              <a:ext cx="3062160" cy="12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83752-7A63-4AB4-B9C8-F9165BD33B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verview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484280"/>
            <a:ext cx="698508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Huawei’s model qualit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     </a:t>
            </a: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Golden mode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     </a:t>
            </a: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Model validation/quality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IBIS model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   </a:t>
            </a: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   </a:t>
            </a: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9B124-A756-475F-86CE-EB4D4026AE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Background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11280" y="1341360"/>
            <a:ext cx="7603920" cy="4492440"/>
            <a:chOff x="611280" y="1341360"/>
            <a:chExt cx="7603920" cy="4492440"/>
          </a:xfrm>
        </p:grpSpPr>
        <p:sp>
          <p:nvSpPr>
            <p:cNvPr id="285" name=""/>
            <p:cNvSpPr/>
            <p:nvPr/>
          </p:nvSpPr>
          <p:spPr>
            <a:xfrm>
              <a:off x="611280" y="1341360"/>
              <a:ext cx="7351560" cy="44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FrutigerNext LT Regular"/>
                </a:rPr>
                <a:t>Once there are some data issues in IBIS model</a:t>
              </a:r>
              <a:r>
                <a:rPr b="1" lang="zh-CN" sz="1600" spc="-1" strike="noStrike">
                  <a:solidFill>
                    <a:srgbClr val="000000"/>
                  </a:solidFill>
                  <a:latin typeface="FrutigerNext LT Regular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FrutigerNext LT Regular"/>
                </a:rPr>
                <a:t>Non-monotonic VI t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                                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FrutigerNext LT Regular"/>
                </a:rPr>
                <a:t>Non-monotonic Vt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What can we do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9040" y="1773000"/>
              <a:ext cx="3522600" cy="1873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4794120" y="1749240"/>
              <a:ext cx="3421080" cy="191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9342F-4ED7-4585-A2FC-3A7E224C79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9:30:18Z</dcterms:created>
  <dc:creator>user</dc:creator>
  <dc:description/>
  <dc:language>en-US</dc:language>
  <cp:lastModifiedBy>Bob Ross</cp:lastModifiedBy>
  <dcterms:modified xsi:type="dcterms:W3CDTF">2009-10-01T05:55:37Z</dcterms:modified>
  <cp:revision>2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54276667</vt:lpwstr>
  </property>
</Properties>
</file>