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30.jpeg" ContentType="image/jpe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3.jpeg" ContentType="image/jpeg"/>
  <Override PartName="/ppt/media/image10.wmf" ContentType="image/x-wmf"/>
  <Override PartName="/ppt/media/image28.wmf" ContentType="image/x-wmf"/>
  <Override PartName="/ppt/media/image35.wmf" ContentType="image/x-wmf"/>
  <Override PartName="/ppt/media/image16.jpeg" ContentType="image/jpeg"/>
  <Override PartName="/ppt/media/image5.wmf" ContentType="image/x-wmf"/>
  <Override PartName="/ppt/media/image23.jpeg" ContentType="image/jpeg"/>
  <Override PartName="/ppt/media/image25.wmf" ContentType="image/x-wmf"/>
  <Override PartName="/ppt/media/image18.wmf" ContentType="image/x-wmf"/>
  <Override PartName="/ppt/media/image2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66C2B8C-A181-4249-A572-9F949D316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EB8E62B-2081-4FF3-AF96-B4BC9C326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C99A5BB-103B-4506-BE47-CC75BC2210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0C5EFE1-CCF5-4473-B1F1-A825EDC776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C644A17-3061-4853-A6A1-332DBBA72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344B590-690B-4D7F-84E5-704C04BA5B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14696ED-501C-4BF6-B5A1-CDC1F9D82B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8D94DD4-1800-49F3-B81E-1BE48355F0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8FB8CF4-EEBC-4D6A-A213-B740FA40D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9EED635-5AA4-4021-9AF3-585234744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5F36438-3EF8-4AA8-9F2A-FD24E0AC3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37B51F9-1B56-4AB0-954D-0C45F1EA5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F801D55-4962-4808-BC67-CF89193EB64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73A45BD-A4D3-497A-B9DD-CD3DDFE3A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1CEF2C0-0A9C-4551-9458-65C3A9614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B6FEB3E-6A26-4916-A784-ED152B9EE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D839B4F-65CC-4C7C-8CDA-971B91EE0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B211780-663D-4712-A1AA-5CD95626B9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82152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5920" y="4078440"/>
            <a:ext cx="82152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592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576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3320" y="160488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080" y="160488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5920" y="407844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3320" y="407844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080" y="407844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5920" y="160488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74400" y="207720"/>
            <a:ext cx="68389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592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5920" y="160488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576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5920" y="4078440"/>
            <a:ext cx="82152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82152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5920" y="4078440"/>
            <a:ext cx="82152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592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576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63320" y="160488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080" y="160488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85920" y="407844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63320" y="407844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080" y="4078440"/>
            <a:ext cx="264492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4400" y="207720"/>
            <a:ext cx="683892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592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5760" y="407844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592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5760" y="1604880"/>
            <a:ext cx="400896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5920" y="4078440"/>
            <a:ext cx="8215200" cy="22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de6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155520" bIns="155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5920" y="160488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2253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174600">
              <a:spcBef>
                <a:spcPts val="700"/>
              </a:spcBef>
              <a:buClr>
                <a:srgbClr val="1933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174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174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637320"/>
            <a:ext cx="20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9 ANSYS, Inc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443480" y="6629400"/>
            <a:ext cx="3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F13D-287E-48F0-A14A-87104DABB55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773760" y="6637320"/>
            <a:ext cx="237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SYS, Inc. Propri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2"/>
          <a:stretch/>
        </p:blipFill>
        <p:spPr>
          <a:xfrm>
            <a:off x="7070760" y="198360"/>
            <a:ext cx="2073240" cy="77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de6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11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155520" bIns="155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6637320"/>
            <a:ext cx="20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9 ANSYS, Inc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443480" y="6629400"/>
            <a:ext cx="3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E3C5-0C4F-4964-98E4-69B3D4A6AAD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773760" y="6637320"/>
            <a:ext cx="237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SYS, Inc. Propri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070760" y="198360"/>
            <a:ext cx="2073240" cy="77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ANSYS-bkg-3.jpg"/>
          <p:cNvPicPr/>
          <p:nvPr/>
        </p:nvPicPr>
        <p:blipFill>
          <a:blip r:embed="rId3"/>
          <a:stretch/>
        </p:blipFill>
        <p:spPr>
          <a:xfrm>
            <a:off x="0" y="20520"/>
            <a:ext cx="9171000" cy="6837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116160" y="4829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-15840" y="585612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11480" y="4809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20520" y="583740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7160" rIns="13716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0" y="6637320"/>
            <a:ext cx="20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© 2009 ANSYS, Inc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443480" y="6629400"/>
            <a:ext cx="32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282A-3DEA-4B3E-8D7F-386106514917}" type="slidenum">
              <a:rPr b="1" lang="en-US" sz="9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773760" y="6637320"/>
            <a:ext cx="237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2b2b2"/>
                </a:solidFill>
                <a:latin typeface="Arial"/>
              </a:rPr>
              <a:t>ANSYS, Inc. Propriet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85920" y="160488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160" indent="-2253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233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174600">
              <a:spcBef>
                <a:spcPts val="700"/>
              </a:spcBef>
              <a:buClr>
                <a:srgbClr val="1933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174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174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olong.li@ansoft.com.cn" TargetMode="External"/><Relationship Id="rId2" Type="http://schemas.openxmlformats.org/officeDocument/2006/relationships/hyperlink" Target="mailto:gpitner@ansoft.co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41680" y="1858680"/>
            <a:ext cx="470232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71d51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S-Parameters for Accurat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Simul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943240" y="5073480"/>
            <a:ext cx="2962440" cy="10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71d51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SYS Ch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olong 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1031d"/>
                </a:solidFill>
                <a:uFillTx/>
                <a:latin typeface="Arial"/>
                <a:hlinkClick r:id="rId1"/>
              </a:rPr>
              <a:t>Baolong.li@ansoft.com.c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eg P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71031d"/>
                </a:solidFill>
                <a:uFillTx/>
                <a:latin typeface="Arial"/>
                <a:hlinkClick r:id="rId2"/>
              </a:rPr>
              <a:t>gpitner@ansof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734080" y="3782880"/>
            <a:ext cx="3409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71d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ian IBIS Summ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nghai Chin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4, 200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ansoft_ansys logo"/>
          <p:cNvPicPr/>
          <p:nvPr/>
        </p:nvPicPr>
        <p:blipFill>
          <a:blip r:embed="rId3"/>
          <a:stretch/>
        </p:blipFill>
        <p:spPr>
          <a:xfrm>
            <a:off x="7118280" y="0"/>
            <a:ext cx="202572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2356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Finite edge response of Rectangular “window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3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nite edge response of Rectangular “window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ctangular “window” is Non-Caus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1"/>
          <p:cNvGraphicFramePr/>
          <p:nvPr/>
        </p:nvGraphicFramePr>
        <p:xfrm>
          <a:off x="1058760" y="1889280"/>
          <a:ext cx="7197840" cy="17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1889280"/>
                    <a:ext cx="719784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2"/>
          <p:cNvGraphicFramePr/>
          <p:nvPr/>
        </p:nvGraphicFramePr>
        <p:xfrm>
          <a:off x="1228680" y="3846600"/>
          <a:ext cx="618192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28680" y="3846600"/>
                    <a:ext cx="61819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58480"/>
            <a:ext cx="7182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宋体"/>
              </a:rPr>
              <a:t>Finite edge response of Rectangular “window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225440"/>
            <a:ext cx="86151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increase           ,             will closer to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1"/>
          <p:cNvGraphicFramePr/>
          <p:nvPr/>
        </p:nvGraphicFramePr>
        <p:xfrm>
          <a:off x="3929040" y="1225440"/>
          <a:ext cx="75888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1225440"/>
                    <a:ext cx="7588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"/>
          <p:cNvGraphicFramePr/>
          <p:nvPr/>
        </p:nvGraphicFramePr>
        <p:xfrm>
          <a:off x="2585880" y="1214280"/>
          <a:ext cx="552600" cy="51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5880" y="1214280"/>
                    <a:ext cx="55260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图片 6" descr="5_页面_06.jpg"/>
          <p:cNvPicPr/>
          <p:nvPr/>
        </p:nvPicPr>
        <p:blipFill>
          <a:blip r:embed="rId5"/>
          <a:stretch/>
        </p:blipFill>
        <p:spPr>
          <a:xfrm>
            <a:off x="0" y="1979640"/>
            <a:ext cx="91440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Discrete data poi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mulation is discrete point data both in Timing domain and Frequency domai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lationships of ste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imum timing step is decided by the bandwidth which has been discussed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1"/>
          <p:cNvGraphicFramePr/>
          <p:nvPr/>
        </p:nvGraphicFramePr>
        <p:xfrm>
          <a:off x="1079640" y="2879640"/>
          <a:ext cx="14698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879640"/>
                    <a:ext cx="14698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519360" y="2948040"/>
          <a:ext cx="148752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9360" y="2948040"/>
                    <a:ext cx="14875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inch and 3 inch matched T_line’s step response using different timing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ly different delay are expected, but different oscillation when bigger timing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duce timing step get correct resul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ming  step influ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573120" y="4321080"/>
            <a:ext cx="4016520" cy="196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4503600" y="4282920"/>
            <a:ext cx="4221360" cy="20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requency step influ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e frequency point data convert to timing domain look like repeating series of long pulse.(Discre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urier transform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frequency step is bigger, the repeating series pulse will interrupt each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ame T_line S21 using different frequency step and corresponding transi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19240" y="4876920"/>
            <a:ext cx="388908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5199120" y="4849920"/>
            <a:ext cx="307656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de6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Different requirements of parallel  and Serial signal simul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allel signal is repeating of one b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rising and fall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equency step should be denser than 1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rial signal is series of b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andom bits for testing 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equency step should be denser than 1/n*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de6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thematical based simulation or testing have native limit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rdes GHz simulation need broadband channel characteristi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kne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 limited, 5/Tr or 10/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crete frequency point data is also critical for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1898640" y="5118120"/>
          <a:ext cx="146988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8640" y="5118120"/>
                    <a:ext cx="14698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4338720" y="5103720"/>
          <a:ext cx="148752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8720" y="5103720"/>
                    <a:ext cx="14875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Thank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you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谢谢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de6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Box 42"/>
          <p:cNvSpPr/>
          <p:nvPr/>
        </p:nvSpPr>
        <p:spPr>
          <a:xfrm>
            <a:off x="736560" y="1496880"/>
            <a:ext cx="761832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-parameter is becoming more and more popular in high speed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 Howard Johnson’s book, we believe the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kn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is the upper limit of T-Lin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t is it accurate enough for transient analysis in GHz analy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1"/>
          <p:cNvGraphicFramePr/>
          <p:nvPr/>
        </p:nvGraphicFramePr>
        <p:xfrm>
          <a:off x="2870280" y="3463920"/>
          <a:ext cx="121104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3463920"/>
                    <a:ext cx="12110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Fourier transfor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urier transform provide mathematical mechanism for transforming frequency data to timing domai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93560" y="4114800"/>
            <a:ext cx="858708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re are two approximations in rea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inite band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iscrete data poi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"/>
          <p:cNvGraphicFramePr/>
          <p:nvPr/>
        </p:nvGraphicFramePr>
        <p:xfrm>
          <a:off x="2076480" y="2854440"/>
          <a:ext cx="4946760" cy="94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2854440"/>
                    <a:ext cx="494676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Finite bandwidt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nite bandwidth S parameter like a “window”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"/>
          <p:cNvGraphicFramePr/>
          <p:nvPr/>
        </p:nvGraphicFramePr>
        <p:xfrm>
          <a:off x="1633680" y="3903840"/>
          <a:ext cx="5406840" cy="18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3903840"/>
                    <a:ext cx="540684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组合 14"/>
          <p:cNvGrpSpPr/>
          <p:nvPr/>
        </p:nvGrpSpPr>
        <p:grpSpPr>
          <a:xfrm>
            <a:off x="2025720" y="2443320"/>
            <a:ext cx="3732120" cy="1199880"/>
            <a:chOff x="2025720" y="2443320"/>
            <a:chExt cx="3732120" cy="1199880"/>
          </a:xfrm>
        </p:grpSpPr>
        <p:sp>
          <p:nvSpPr>
            <p:cNvPr id="119" name="左大括号 5"/>
            <p:cNvSpPr/>
            <p:nvPr/>
          </p:nvSpPr>
          <p:spPr>
            <a:xfrm>
              <a:off x="3783960" y="2600640"/>
              <a:ext cx="204840" cy="819360"/>
            </a:xfrm>
            <a:custGeom>
              <a:avLst/>
              <a:gdLst>
                <a:gd name="textAreaLeft" fmla="*/ 131040 w 204840"/>
                <a:gd name="textAreaRight" fmla="*/ 205200 w 204840"/>
                <a:gd name="textAreaTop" fmla="*/ 5040 h 819360"/>
                <a:gd name="textAreaBottom" fmla="*/ 8143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5"/>
                    <a:pt x="10800" y="450"/>
                  </a:cubicBezTo>
                  <a:lnTo>
                    <a:pt x="10800" y="10350"/>
                  </a:lnTo>
                  <a:cubicBezTo>
                    <a:pt x="10800" y="10575"/>
                    <a:pt x="5400" y="10800"/>
                    <a:pt x="0" y="10800"/>
                  </a:cubicBezTo>
                  <a:cubicBezTo>
                    <a:pt x="5400" y="10800"/>
                    <a:pt x="10800" y="11025"/>
                    <a:pt x="10800" y="11250"/>
                  </a:cubicBezTo>
                  <a:lnTo>
                    <a:pt x="10800" y="21150"/>
                  </a:lnTo>
                  <a:cubicBezTo>
                    <a:pt x="10800" y="21375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7160" rIns="137160" tIns="155520" bIns="155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Object 2"/>
            <p:cNvGraphicFramePr/>
            <p:nvPr/>
          </p:nvGraphicFramePr>
          <p:xfrm>
            <a:off x="4749840" y="2601720"/>
            <a:ext cx="1008000" cy="29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9840" y="2601720"/>
                      <a:ext cx="100800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Object 5"/>
            <p:cNvGraphicFramePr/>
            <p:nvPr/>
          </p:nvGraphicFramePr>
          <p:xfrm>
            <a:off x="2025720" y="2696400"/>
            <a:ext cx="1600560" cy="62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25720" y="2696400"/>
                      <a:ext cx="1600560" cy="62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Object 6"/>
            <p:cNvGraphicFramePr/>
            <p:nvPr/>
          </p:nvGraphicFramePr>
          <p:xfrm>
            <a:off x="4072320" y="2443320"/>
            <a:ext cx="499680" cy="468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72320" y="2443320"/>
                      <a:ext cx="499680" cy="4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Object 8"/>
            <p:cNvGraphicFramePr/>
            <p:nvPr/>
          </p:nvGraphicFramePr>
          <p:xfrm>
            <a:off x="4020120" y="3089520"/>
            <a:ext cx="532080" cy="553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020120" y="3089520"/>
                      <a:ext cx="532080" cy="55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Object 9"/>
            <p:cNvGraphicFramePr/>
            <p:nvPr/>
          </p:nvGraphicFramePr>
          <p:xfrm>
            <a:off x="4831200" y="3175920"/>
            <a:ext cx="876240" cy="34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9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31200" y="3175920"/>
                      <a:ext cx="876240" cy="34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0" name="Object 10"/>
          <p:cNvGraphicFramePr/>
          <p:nvPr/>
        </p:nvGraphicFramePr>
        <p:xfrm>
          <a:off x="2192400" y="1924200"/>
          <a:ext cx="1133280" cy="52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92400" y="1924200"/>
                    <a:ext cx="11332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Finite bandwidth Proble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3840" y="131616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indow” function will cause Oscil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4" descr="4137_Time_Domain_Plotting_页面_02_图像_0001.jpg"/>
          <p:cNvPicPr/>
          <p:nvPr/>
        </p:nvPicPr>
        <p:blipFill>
          <a:blip r:embed="rId1"/>
          <a:stretch/>
        </p:blipFill>
        <p:spPr>
          <a:xfrm>
            <a:off x="1038240" y="2900520"/>
            <a:ext cx="6989760" cy="291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"/>
          <p:cNvGraphicFramePr/>
          <p:nvPr/>
        </p:nvGraphicFramePr>
        <p:xfrm>
          <a:off x="1662120" y="1735200"/>
          <a:ext cx="5419800" cy="114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2120" y="1735200"/>
                    <a:ext cx="541980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Finite bandwidth Proble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rease bandwidth cause sharper oscillation, but never disapp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expand bandwidth to infin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"/>
          <p:cNvGraphicFramePr/>
          <p:nvPr/>
        </p:nvGraphicFramePr>
        <p:xfrm>
          <a:off x="2948040" y="4997520"/>
          <a:ext cx="3043080" cy="102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8040" y="4997520"/>
                    <a:ext cx="30430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图片 4" descr="1_页面_02.jpg"/>
          <p:cNvPicPr/>
          <p:nvPr/>
        </p:nvPicPr>
        <p:blipFill>
          <a:blip r:embed="rId3"/>
          <a:stretch/>
        </p:blipFill>
        <p:spPr>
          <a:xfrm>
            <a:off x="1995480" y="2606760"/>
            <a:ext cx="515304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cde6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Using other “windows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520" y="1119240"/>
            <a:ext cx="82155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mm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lackm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el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rtle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8" descr="2_页面_03.jpg"/>
          <p:cNvPicPr/>
          <p:nvPr/>
        </p:nvPicPr>
        <p:blipFill>
          <a:blip r:embed="rId1"/>
          <a:stretch/>
        </p:blipFill>
        <p:spPr>
          <a:xfrm>
            <a:off x="1292400" y="3711600"/>
            <a:ext cx="6362640" cy="302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1"/>
          <p:cNvGraphicFramePr/>
          <p:nvPr/>
        </p:nvGraphicFramePr>
        <p:xfrm>
          <a:off x="2679840" y="1087560"/>
          <a:ext cx="2444760" cy="7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9840" y="1087560"/>
                    <a:ext cx="24447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"/>
          <p:cNvGraphicFramePr/>
          <p:nvPr/>
        </p:nvGraphicFramePr>
        <p:xfrm>
          <a:off x="2492280" y="1639800"/>
          <a:ext cx="1906560" cy="69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92280" y="1639800"/>
                    <a:ext cx="19065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3"/>
          <p:cNvGraphicFramePr/>
          <p:nvPr/>
        </p:nvGraphicFramePr>
        <p:xfrm>
          <a:off x="2540160" y="2235240"/>
          <a:ext cx="3956040" cy="70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40160" y="2235240"/>
                    <a:ext cx="395604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2097000" y="2673360"/>
          <a:ext cx="1513080" cy="62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97000" y="2673360"/>
                    <a:ext cx="15130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2081160" y="3228840"/>
          <a:ext cx="1814400" cy="601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081160" y="3228840"/>
                    <a:ext cx="18144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Results of other “windows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tenuate the spectrum near upper lim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700"/>
              </a:spcBef>
              <a:buClr>
                <a:srgbClr val="1933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de-off between edge and oscil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12" descr="3_页面_04.jpg"/>
          <p:cNvPicPr/>
          <p:nvPr/>
        </p:nvPicPr>
        <p:blipFill>
          <a:blip r:embed="rId1"/>
          <a:stretch/>
        </p:blipFill>
        <p:spPr>
          <a:xfrm>
            <a:off x="252360" y="2535120"/>
            <a:ext cx="863928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74400" y="207720"/>
            <a:ext cx="68389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Idea step response of different “windows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76200" y="1481040"/>
            <a:ext cx="821520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0" name="图片 81" descr="4_页面_05.jpg"/>
          <p:cNvPicPr/>
          <p:nvPr/>
        </p:nvPicPr>
        <p:blipFill>
          <a:blip r:embed="rId1"/>
          <a:stretch/>
        </p:blipFill>
        <p:spPr>
          <a:xfrm>
            <a:off x="297000" y="1419120"/>
            <a:ext cx="8589960" cy="394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Object 1"/>
          <p:cNvGraphicFramePr/>
          <p:nvPr/>
        </p:nvGraphicFramePr>
        <p:xfrm>
          <a:off x="2887560" y="5376960"/>
          <a:ext cx="286704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87560" y="5376960"/>
                    <a:ext cx="2867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0:59:19Z</dcterms:created>
  <dc:creator>Debbie Raynes</dc:creator>
  <dc:description/>
  <dc:language>en-US</dc:language>
  <cp:lastModifiedBy>Bob Ross</cp:lastModifiedBy>
  <dcterms:modified xsi:type="dcterms:W3CDTF">2009-09-29T05:42:09Z</dcterms:modified>
  <cp:revision>325</cp:revision>
  <dc:subject/>
  <dc:title>Introduction to SIwave</dc:title>
</cp:coreProperties>
</file>