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8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EFA2477-76C2-4E48-8938-862EA60D586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ibis/connector/" TargetMode="External"/><Relationship Id="rId2" Type="http://schemas.openxmlformats.org/officeDocument/2006/relationships/hyperlink" Target="http://www.eda.org/ibis/connector/" TargetMode="External"/><Relationship Id="rId3" Type="http://schemas.openxmlformats.org/officeDocument/2006/relationships/hyperlink" Target="http://www.eda.org/ibis/connector/" TargetMode="External"/><Relationship Id="rId4" Type="http://schemas.openxmlformats.org/officeDocument/2006/relationships/hyperlink" Target="http://www.eda.org/pub/ibis/adhoc/interconnect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a.org/ibis/summits/feb08/ross1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ixed-Mode Syntax - Updat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ian IBIS Summit (Japa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, Jap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14, 200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Updated from November 11, 200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sentation in Shanghai, Chin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C1,2 S3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with GMM port notation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ypical GMM port notation (“1”,”2”)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666880"/>
            <a:ext cx="1828800" cy="838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581280"/>
            <a:ext cx="838440" cy="3812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828800"/>
            <a:ext cx="3049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24320" y="21337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572000"/>
            <a:ext cx="6858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685800" cy="380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590920"/>
            <a:ext cx="152424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05320" y="3505320"/>
            <a:ext cx="205740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S3 C1,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GMM data with new S3 C1,2 position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data block with different positions “S22” and “Scc11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198800">
            <a:off x="6248520" y="3276360"/>
            <a:ext cx="1935000" cy="577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1676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6483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5627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3352320"/>
            <a:ext cx="335304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055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51814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2578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terchange 2 an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3 S2 C1,3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E defined with new orde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pping data block to new SE  po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676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9051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5627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6483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276720"/>
            <a:ext cx="4114800" cy="75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51055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2 D3,4 C1,2 C3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2 and 3,4 port-pairs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3434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 notation by position, numbers for SE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752480"/>
            <a:ext cx="3049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29040" y="1752480"/>
            <a:ext cx="16002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286000"/>
            <a:ext cx="18288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5560" y="2209680"/>
            <a:ext cx="1522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3 D2,4 C1,3 C2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3 and 2,4 port-pairs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s reference same SE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392600">
            <a:off x="4677840" y="2925360"/>
            <a:ext cx="424512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S1 S3 S4 S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E-1 data re-ordered to SE-2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1371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 uses SE-2 data notation i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819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0"/>
            <a:ext cx="7621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510552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13716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32767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743200" y="3123720"/>
            <a:ext cx="312408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osur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ral EDA tools already implementing portions of the mixed-mode synta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, Y, Z parameters for n-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, MM, GMM capabilit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0 provides standard, interchangable GMM format when adopted by indus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nimal changes from Touchstone “1.0” and Touchstone 2.0 for easy bi-directional migration of tools over several yea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 minor changes still being consider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utlin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kground and Overvie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eralized mixed-mode synta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bbreviation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SE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single-end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MM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mixed-mode for differential and common modes such as “Sdd11” or “Sdc12”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GMM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generalized mixed-mode for combination of SE and MM data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grou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sued in 1984 by EEsof (now part of Agilent Technologi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 an OPEN, de-facto format supported by nearly all companies supplying or handling S-parameter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lder Touchstone “Version 1.0” uploaded as public reference for ICM refer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2"/>
              </a:rPr>
              <a:t>www.eda.org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3"/>
              </a:rPr>
              <a:t>/ibis/connector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extended to remove some format limitations and to add some resistance per port flexibility for PDS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4"/>
              </a:rPr>
              <a:t>http://www.eda.org/pub/ibis/adhoc/interconnect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ight IBIS-like Keywords (so fa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d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2.0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      (first keywor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 (second keywor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21_12 | 12_21}           (for n=2 on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Frequencie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Reference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list of n reference resistances in port order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Matrix Format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Full | Lower | Upper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Di,j, Ci,j, Si,j entries}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n entrie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Noise Frequencie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nf&gt;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       (for n=2 on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ails (except [Mixed-Mode Order]) reported February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ibis/summits/feb08/ross1.pd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ies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1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                            For example, # GHZ S MA R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rigid format rules)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295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Version] 2.0 and [Number of Ports] &lt;n&gt; Option Line and all other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flexible format, new line only for each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, MM or GMM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Mixed-Mode Order] Keywor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es for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, Y, Z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-port matr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general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-order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ports (SE, MM, GM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document (3 pages) and Appendix A (6+ pages) gives mathematical detai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ort indic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re for new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 po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S&lt;k&gt; C&lt;i,j&gt; D&lt;i,j&gt;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for single-ended, common mode, and differential mode port numbers (1, …, 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positio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pply to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ata blo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C1,2 S3 (balun, splitter, op. amp. example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66688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 port notation in both blocks, position gives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152424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752480"/>
            <a:ext cx="4800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905120"/>
            <a:ext cx="388620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267080" y="3580920"/>
            <a:ext cx="114300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393200">
            <a:off x="380520" y="2971440"/>
            <a:ext cx="303048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114800"/>
            <a:ext cx="2438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” above means n-port entry (S, Y, or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” argument means Single-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ata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8-10-30T23:29:33Z</dcterms:modified>
  <cp:revision>684</cp:revision>
  <dc:subject/>
  <dc:title>IBIS</dc:title>
</cp:coreProperties>
</file>