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6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7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212A-5DCE-496B-A756-2CA7D5DE7353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Time vs. UI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two HDMI (interface standard)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685800" y="334800"/>
            <a:ext cx="5486400" cy="41148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501800"/>
            <a:ext cx="54864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0F8C8-FB1C-4CCD-A468-3F65DC9D2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76EB-7698-415D-9309-DCC84A73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A81D-6E9A-4A43-955B-E8C306A6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D73D-3CBF-4DC6-9698-DECB8DBA4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F6391-4072-4356-A37F-E9C6DD71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F9FD3-43EB-49C7-9842-C9AB06444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EE902-F4DA-420B-B801-BD7B54C8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7515-B811-4329-8FA2-B5B792C8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104A49-FE04-4A6F-AD41-BF562AFA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C85934-05D2-4C1F-818A-B665C33A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B106-9CAF-4925-A359-33CBD1AD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15D4-2F33-4797-8DFE-63216768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992A7-4A43-466C-ACB6-BC2155DC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BAB76-32DA-466A-94F3-8EEE0DD7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685AF9-CC05-49E6-BF75-56FD96D7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692558-08C5-44C9-AEE8-C93D8984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01AE9-7490-4BF7-BB75-39982C56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ED08F-0A87-47ED-8A3D-6153D888C4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F733B-0A33-402D-9458-576CF183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23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90840" y="59688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1023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1590840" y="783000"/>
            <a:ext cx="53964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F86D-3EE2-4CC1-8970-0F532A6B1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1676520" cy="149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0475B-CDBF-42C3-BF41-67FFA48F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ACF9-D309-46CC-A284-7C9E3E54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16160" y="78300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B9990-A49A-4AA9-90D1-72AF1FB6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316160" y="596880"/>
            <a:ext cx="8179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783000"/>
            <a:ext cx="1676520" cy="1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51A6-1DD2-4CE7-B478-7DB6521E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9C26-60DF-448F-A5A4-37155516B01F}" type="datetime"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EF9-10A4-4B34-8181-C00C0E2D6314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-1117080" y="2012760"/>
            <a:ext cx="4061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22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N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T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I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V</a:t>
            </a:r>
            <a:r>
              <a:rPr b="0" lang="en-US" sz="1800" spc="-1" strike="noStrike">
                <a:solidFill>
                  <a:srgbClr val="d9d9d9"/>
                </a:solidFill>
                <a:latin typeface="Arial"/>
                <a:ea typeface="宋体"/>
              </a:rPr>
              <a:t> </a:t>
            </a:r>
            <a:r>
              <a:rPr b="0" lang="en-US" sz="5000" spc="-1" strike="noStrike">
                <a:solidFill>
                  <a:srgbClr val="d9d9d9"/>
                </a:solidFill>
                <a:latin typeface="Arial"/>
                <a:ea typeface="宋体"/>
              </a:rPr>
              <a:t>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274400" y="4333680"/>
            <a:ext cx="3505320" cy="41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2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57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1044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63680" y="6509880"/>
            <a:ext cx="4108320" cy="1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C166-EBD3-43FA-90A2-F6E87B91EB63}" type="datetime">
              <a:rPr b="0" lang="zh-CN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4"/>
          </p:nvPr>
        </p:nvSpPr>
        <p:spPr>
          <a:xfrm>
            <a:off x="55440" y="6511680"/>
            <a:ext cx="38736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BB1-E303-412D-BBFD-65252BDF8C89}" type="slidenum">
              <a:rPr b="0" lang="zh-CN" sz="7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167652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6840" y="596880"/>
            <a:ext cx="16765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indent="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295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59400">
              <a:spcBef>
                <a:spcPts val="2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3" marL="88920">
              <a:spcBef>
                <a:spcPts val="2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4" marL="118800">
              <a:spcBef>
                <a:spcPts val="2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5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6" marL="118800"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28720" y="1263600"/>
            <a:ext cx="574200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Eye Masks in IBI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711440" y="2521080"/>
            <a:ext cx="4341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eng, Yubao (yubao@cadence.c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adence Shanghai SPB R&amp;D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5520" y="5373720"/>
            <a:ext cx="323208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sian IBIS Summ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okyo Ja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vember 14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4240" y="2903040"/>
            <a:ext cx="5959440" cy="8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宋体"/>
              </a:rPr>
              <a:t>Thank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74400" y="4333680"/>
            <a:ext cx="3505320" cy="8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645F2-34EC-4FA9-B3CD-36B1023A83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AEA1D4-4BFC-44C7-8996-E637D9513B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2200" y="179280"/>
            <a:ext cx="22384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17520" y="631440"/>
            <a:ext cx="2241360" cy="21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– Eye Masks are independent of IBI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– Include Eye Mask data in IBIS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80023-3D67-4599-9885-D83B1DFE85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E26B3-9BBB-40D3-9728-FBB15378DB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diagrams can be used to validate clock and data mee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 specifi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masks are not tied to IBIS models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be manually added to simulation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y delay eye mask checking until late in desig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BIS  does support voltage threshold, but there is no support of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me domain ‘threshold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9B22-3BE8-4F44-9F9A-F1357C41814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F2CE5-5B5A-4BCE-A643-66AE1D7970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mask data should be included in IBIS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flows will b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mask data can represent either standard requirements (i.e. PCI Express) or device specific eye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 companies can offer more value and differentiation in their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B805-E8BE-4817-A32B-7DC772C587C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BC435-FAE7-475C-A158-C9860A7906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ye Masks in IBIS Models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s integration of device specific time and voltage li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rDes Channe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terface standard eye masks can be included in IBIS models for easy checking of interface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rDes vendors may want to “advertise” less stringent eye mask requirements in their IBI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mon / Source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 time ‘threshold’ limit can be sum of setup and hold time and other relevan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 device specific eye mask can be located at a time axis that equates to the clock / strobe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7A26B-0A59-4B27-9916-7D09F0D3F0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B05BB-8027-421D-BE78-EFC28678CF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264280" y="642960"/>
            <a:ext cx="2949480" cy="27432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4880" y="21888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HDMI SerDes Eye M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DMI ey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DMI TP2 eye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29673" t="26991" r="584" b="5622"/>
          <a:stretch/>
        </p:blipFill>
        <p:spPr>
          <a:xfrm>
            <a:off x="1014480" y="2176560"/>
            <a:ext cx="338616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rcRect l="29483" t="27605" r="1154" b="6275"/>
          <a:stretch/>
        </p:blipFill>
        <p:spPr>
          <a:xfrm>
            <a:off x="1173240" y="4784760"/>
            <a:ext cx="3562200" cy="2073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5567400" y="3436920"/>
            <a:ext cx="2986200" cy="2776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6D9D1-67FC-44BA-B8AA-8271B981B5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5B35F-1C72-4F82-96B5-7E7346DA6F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Source Synchronous Signal Eye M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ource synchronous signal eye mask are aligned with their strobe signal sampl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basic eye mask elements can be setup time, hold time and strobe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4913" t="16908" r="3127" b="4021"/>
          <a:stretch/>
        </p:blipFill>
        <p:spPr>
          <a:xfrm>
            <a:off x="1803240" y="3705120"/>
            <a:ext cx="480564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4EAB-13A7-47CE-B0BF-B6AB85544D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102C1-0218-4039-990F-BFCBC0C047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Common Clock Signal Eye Mas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mon clock signal eye mask should be located at time axis according the driver’s clock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4913" t="17344" r="3127" b="6300"/>
          <a:stretch/>
        </p:blipFill>
        <p:spPr>
          <a:xfrm>
            <a:off x="1262160" y="2698920"/>
            <a:ext cx="6183360" cy="37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F4FB-3668-45EB-8E2B-3F166634C99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34560-1EC0-4D85-8E4F-E1BB407302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4880" y="329760"/>
            <a:ext cx="81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4880" y="1587600"/>
            <a:ext cx="8196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ye masks are commonly used to validate that signals are compliant with standard interfa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luding eye mask data in IBIS models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Promote earlier use of eye masks in the design process allowing problems to be discovered ear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Allow IC vendors to advertise their device-specific less-stringent eye mask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e would like to share our experience and promote this to the IBIS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EA3D0-09ED-4C50-AA9B-972F6696CB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D58E6-7390-47B3-929F-234838AA45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7:48:35Z</dcterms:created>
  <dc:creator>Cadence Design Systems, Inc</dc:creator>
  <dc:description/>
  <dc:language>en-US</dc:language>
  <cp:lastModifiedBy>Bob Ross</cp:lastModifiedBy>
  <cp:lastPrinted>2006-09-27T23:49:20Z</cp:lastPrinted>
  <dcterms:modified xsi:type="dcterms:W3CDTF">2008-10-24T23:17:06Z</dcterms:modified>
  <cp:revision>166</cp:revision>
  <dc:subject/>
  <dc:title>ICM swath mod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59282677</vt:r8>
  </property>
  <property fmtid="{D5CDD505-2E9C-101B-9397-08002B2CF9AE}" pid="3" name="_AuthorEmail">
    <vt:lpwstr>bgriffin@cadence.com</vt:lpwstr>
  </property>
  <property fmtid="{D5CDD505-2E9C-101B-9397-08002B2CF9AE}" pid="4" name="_AuthorEmailDisplayName">
    <vt:lpwstr>Brad Griffin</vt:lpwstr>
  </property>
  <property fmtid="{D5CDD505-2E9C-101B-9397-08002B2CF9AE}" pid="5" name="_EmailSubject">
    <vt:lpwstr>Asian IBIS Summit (China) - Cadence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