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8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23968C7-15BB-4875-A605-B5B5D410D99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a.org/ibis/connector/" TargetMode="External"/><Relationship Id="rId2" Type="http://schemas.openxmlformats.org/officeDocument/2006/relationships/hyperlink" Target="http://www.eda.org/ibis/connector/" TargetMode="External"/><Relationship Id="rId3" Type="http://schemas.openxmlformats.org/officeDocument/2006/relationships/hyperlink" Target="http://www.eda.org/ibis/connector/" TargetMode="External"/><Relationship Id="rId4" Type="http://schemas.openxmlformats.org/officeDocument/2006/relationships/hyperlink" Target="http://www.eda.org/pub/ibis/adhoc/interconnect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a.org/ibis/summits/feb08/ross1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ixed-Mode Syntax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an IBIS Summit (Ch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nghai, Chin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vember 11,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2 C1,2 S3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with GMM port notation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191120"/>
            <a:ext cx="274320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S2c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S2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ypical GMM port notation (“1”,”2”)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666880"/>
            <a:ext cx="1828800" cy="838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3581280"/>
            <a:ext cx="838440" cy="38124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4572000"/>
            <a:ext cx="11430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1828800"/>
            <a:ext cx="3049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924320" y="2133720"/>
            <a:ext cx="304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4572000"/>
            <a:ext cx="68580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505320"/>
            <a:ext cx="685800" cy="3808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590920"/>
            <a:ext cx="1524240" cy="83808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05320" y="3505320"/>
            <a:ext cx="205740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2 S3 C1,2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GMM data with new S3 C1,2 position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4191120"/>
            <a:ext cx="274320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S22”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 data block with different positions “S22” and “Scc11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198800">
            <a:off x="6248520" y="3276360"/>
            <a:ext cx="1935000" cy="5778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3716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16765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6483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5627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3352320"/>
            <a:ext cx="3353040" cy="381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05520"/>
            <a:ext cx="228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51814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2578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terchange 2 an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3 S2 C1,3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E defined with new orde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4191120"/>
            <a:ext cx="274320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2666880"/>
            <a:ext cx="281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d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S22”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S2c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apping data block to new SE  po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6765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90512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13716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5627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648320"/>
            <a:ext cx="4572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276720"/>
            <a:ext cx="4114800" cy="75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5105520"/>
            <a:ext cx="228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[Mixed-Mode Order] D1,2 D3,4 C1,2 C3,4</a:t>
            </a:r>
            <a:br>
              <a:rPr sz="28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(1,2 and 3,4 port-pairs)</a:t>
            </a: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3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3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3434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 Port notation by position, numbers for SE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1752480"/>
            <a:ext cx="3049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29040" y="1752480"/>
            <a:ext cx="16002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286000"/>
            <a:ext cx="18288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305560" y="2209680"/>
            <a:ext cx="1522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[Mixed-Mode Order] D1,3 D2,4 C1,3 C2,4</a:t>
            </a:r>
            <a:br>
              <a:rPr sz="28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(1,3 and 2,4 port-pairs)</a:t>
            </a: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2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2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 Ports reference same SE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392600">
            <a:off x="4677840" y="2925360"/>
            <a:ext cx="424512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S1 S3 S4 S2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E-1 data re-ordered to SE-2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1371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1600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-1 uses SE-2 data notation i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7280" y="28195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0"/>
            <a:ext cx="76212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19520" y="5105520"/>
            <a:ext cx="9903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137160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1371600"/>
            <a:ext cx="6094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9680" y="3276720"/>
            <a:ext cx="6098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743200" y="3123720"/>
            <a:ext cx="3124080" cy="228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osur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ral EDA tools already implementing portions of the mixed-mode synta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, Y, Z parameters for n-por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, MM, GMM capability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2.0 provides standard, interchangable GMM format when adopted by indust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nimal changes from Touchstone “1.0” and Touchstone 2.0 for easy bi-directional migration of tools over several yea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me minor changes still being consider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utlin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ckground and Overvie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eralized mixed-mode synta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Abbreviation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SE: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single-ended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MM: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mixed-mode for differential and common modes such as “Sdd11” or “Sdc12”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GMM: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generalized mixed-mode for combination of SE and MM data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ackgroun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issued in 1984 by EEsof (now part of Agilent Technologi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is an OPEN, de-facto format supported by nearly all companies supplying or handling S-parameter 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lder Touchstone “Version 1.0” uploaded as public reference for ICM refer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2"/>
              </a:rPr>
              <a:t>www.eda.org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3"/>
              </a:rPr>
              <a:t>/ibis/connector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extended to remove some format limitations and to add some resistance per port flexibility for PDS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Gill Sans MT"/>
                <a:hlinkClick r:id="rId4"/>
              </a:rPr>
              <a:t>http://www.eda.org/pub/ibis/adhoc/interconnect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ouchstone Version 2.0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Eight IBIS-like Keywords (so fa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d key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Version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2.0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Port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Two-Port Data Order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21_12 | 12_21}          (for n=2 only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Frequencie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f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onal key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Reference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list of n reference resistances in port order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Matrix Format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Full | Lower | Upper}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Mixed-Mode Order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{Di,j, Ci,j, Si,j entries} 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[Number of Noise Frequencies]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&lt;nnf&gt;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ails (except [Mixed-Mode Order]) reported February, 200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ibis/summits/feb08/ross1.pdf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Version 1.0” Fixed Format Example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 = frequency, s = data-pair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066680"/>
            <a:ext cx="8384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1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   f s   f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114800"/>
            <a:ext cx="121932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2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f s s s s  f s s s 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1066680"/>
            <a:ext cx="990720" cy="302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3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s s   s s s   f s s s  s s s   s s s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1066680"/>
            <a:ext cx="121932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4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 s s s s       s s s s       s s s s      f s s s s     s s s s     s s s s     s s s s     f …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066680"/>
            <a:ext cx="1218960" cy="448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5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          s s s s    s            s s s s    s           s s s s     s           s s s s     s            f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1066680"/>
            <a:ext cx="1219320" cy="594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S6P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f s s s s  s s         s s s s    s s         s s s s    s s         s s s s    s s         s s s s    s s         s s s s    s s         f …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548640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Formatting, frequency ordering, and end of file implies number of ports and frequencies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06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tc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1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1295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 Line                             For example, # GHZ S MA R 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259092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rigid format rules)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Version 2.0 Block Arrangemen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29528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514600"/>
            <a:ext cx="6553080" cy="205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876920"/>
            <a:ext cx="655308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 Line and All Keywords (first entry is [Version] 2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259092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-port Data Block                    (flexible format, new line only for each frequ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, MM or GMM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48769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Optional Noise Data Block     (n=2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[Mixed-Mode Order] Keywor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es for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, Y, Z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-port matr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ws general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-order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f ports (SE, MM, GMM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in document (3 pages) and Appendix A (6+ pages) gives mathematical detai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ument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ort indic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re for new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E po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S&lt;k&gt; C&lt;i,j&gt; D&lt;i,j&gt;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for single-ended, common mode, and differential mode port numbers (1, …, n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ument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positio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pply to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ata blo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[Mixed-Mode Order] D1,2 C1,2 S3 (balun, splitter, op. amp. example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828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18288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4191120"/>
            <a:ext cx="27432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666880"/>
            <a:ext cx="342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1,2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1,2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590920"/>
            <a:ext cx="2514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43434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 port notation in both blocks, position gives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1524240" cy="1371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666880"/>
            <a:ext cx="1371600" cy="457200"/>
          </a:xfrm>
          <a:prstGeom prst="leftRightArrow">
            <a:avLst>
              <a:gd name="adj1" fmla="val 50000"/>
              <a:gd name="adj2" fmla="val 5972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752480"/>
            <a:ext cx="4800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1905120"/>
            <a:ext cx="388620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267080" y="3580920"/>
            <a:ext cx="114300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393200">
            <a:off x="380520" y="2971440"/>
            <a:ext cx="303048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114800"/>
            <a:ext cx="24382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” above means n-port entry (S, Y, or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” argument means Single-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2286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ata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8-10-15T01:40:51Z</dcterms:modified>
  <cp:revision>680</cp:revision>
  <dc:subject/>
  <dc:title>IBIS</dc:title>
</cp:coreProperties>
</file>