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585E-45DA-4B7A-A90E-A1BBD6FCC2B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Img"/>
          </p:nvPr>
        </p:nvSpPr>
        <p:spPr>
          <a:xfrm>
            <a:off x="685800" y="3348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body"/>
          </p:nvPr>
        </p:nvSpPr>
        <p:spPr>
          <a:xfrm>
            <a:off x="685800" y="450180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685800" y="334800"/>
            <a:ext cx="5486400" cy="4114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50180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Time vs. UI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685800" y="334800"/>
            <a:ext cx="5486400" cy="4114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50180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two HDMI (interface standard)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334800"/>
            <a:ext cx="5486400" cy="411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50180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685800" y="334800"/>
            <a:ext cx="5486400" cy="4114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50180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272A-583F-41F9-8611-69E974B0A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C1C0-AADD-44CF-AC1A-72FB524E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E791-23D3-4E00-B3AF-536A37B2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11FC-C3B8-42E8-B6A7-2193F501CF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920E-89E7-41E7-8199-ED163F3A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F03DC-9C6D-4858-91FE-48D4E08409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3D195-4B7F-4456-B06D-3B9FDB63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C3E06-35DB-4605-8BF5-F497A9F0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9F2CF-64DA-423F-9991-9F2B44FA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26E12-9B14-4243-963D-CB1AE3F0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4582-7209-49E7-944F-F1BF9B43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65A5A-90B9-4DD8-BC6A-0BF105AB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58AF3-DE94-44E6-A2F8-52A62EB8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5A7AD-8439-4D1D-A20B-CD396757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F74B6-B514-4ACB-8FE2-3D4C130D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1A1A7-78D4-4A2E-907A-10D2C45A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3C61B-B7DE-427D-AFEC-F5E4E50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EB1C0-01E2-4F14-87CD-86911885CB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6792-4EF4-4049-BF39-EB6775DF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295F-4CDE-4CBE-86F1-5FBA8953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9704-3B79-4942-A6D3-90965B41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D206-1847-4ADC-A62E-A50623D9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DA16-A229-4A93-9DF1-ED633C6B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3BEF-416F-46BB-8FDA-0B7179D9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29C2-EE1A-49DA-85E9-A2ED0AA02013}" type="datetime"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F56B-9CE6-4DB9-A838-6FF296DB6BD0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3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5A4A-6747-4A93-ACEA-9FC3FED2B32C}" type="datetime"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4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C49E-D198-4324-9A08-FC4778C390AC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Eye Masks in IBI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11440" y="2521080"/>
            <a:ext cx="4341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ng, Yubao (yubao@cadence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dence Shanghai SPB R&amp;D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5520" y="5373720"/>
            <a:ext cx="32320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ian IBIS Summ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anghai Chi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vember 1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Thank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4400" y="4333680"/>
            <a:ext cx="3505320" cy="8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00027-3692-4CDB-A2AB-29232E6FBC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DCC10F-722D-4740-B2AF-9714841A12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2200" y="179280"/>
            <a:ext cx="22384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17520" y="631440"/>
            <a:ext cx="224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– Eye Masks are independent of IBI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– Include Eye Mask data in IBI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CDAA-7872-4F7C-B819-224922F423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403F0-A639-4C4D-ABAE-F08755996F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diagrams can be used to validate clock and data me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specif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masks are not tied to IBIS models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ust be manually added to simul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delay eye mask checking until late in desig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BIS  does support voltage threshold, but there is no support of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me domain ‘threshol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048D-4D5C-4EF0-97DB-915C5996D3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2A6FB-11BC-4B04-9BAE-963B8FCB96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mask data should be included in IBIS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flows will be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mask data can represent either standard requirements (i.e. PCI Express) or device specific eye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 companies can offer more value and differentiation in their IBI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D237-B31A-487B-BBF6-B91235E34F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0B069-F903-43E7-A8C5-9A0CB50882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ye Masks in IBIS Model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ows integration of device specific time and voltage li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rDes Channe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rface standard eye masks can be included in IBIS models for easy checking of interface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rDes vendors may want to “advertise” less stringent eye mask requirements in their IBI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mon / Source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time ‘threshold’ limit can be sum of setup and hold time and other relevant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device specific eye mask can be located at a time axis that equates to the clock / strobe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287E3-9A47-4748-BA48-E72755CF38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174DE-F08A-4A54-A01C-1C9AA2F493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264280" y="642960"/>
            <a:ext cx="2949480" cy="27432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4880" y="21888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ple: HDMI SerDes Eye Ma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DMI eye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DMI TP2 eye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29673" t="26991" r="584" b="5622"/>
          <a:stretch/>
        </p:blipFill>
        <p:spPr>
          <a:xfrm>
            <a:off x="1014480" y="2176560"/>
            <a:ext cx="338616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29483" t="27605" r="1154" b="6275"/>
          <a:stretch/>
        </p:blipFill>
        <p:spPr>
          <a:xfrm>
            <a:off x="1173240" y="4784760"/>
            <a:ext cx="3562200" cy="2073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567400" y="3436920"/>
            <a:ext cx="2986200" cy="277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0525-9D34-4841-B87E-29ACAB002D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9DB33-641A-4006-B731-49B3356099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ple: Source Synchronous Signal Eye Ma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ource synchronous signal eye mask are aligned with their strobe signal sampl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basic eye mask elements can be setup time, hold time and strobe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4913" t="16908" r="3127" b="4021"/>
          <a:stretch/>
        </p:blipFill>
        <p:spPr>
          <a:xfrm>
            <a:off x="1803240" y="3705120"/>
            <a:ext cx="480564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039C-C635-407A-86A2-0DDE2190EA6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02FBA-B00B-4DF8-8302-BBF916B70F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ple: Common Clock Signal Eye Ma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mon clock signal eye mask should be located at time axis according the driver’s clock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4913" t="17344" r="3127" b="6300"/>
          <a:stretch/>
        </p:blipFill>
        <p:spPr>
          <a:xfrm>
            <a:off x="1262160" y="2698920"/>
            <a:ext cx="6183360" cy="37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D87B-1AC3-4C3F-A32E-6EA2192A2A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74B1C-5C67-454C-A171-5009079A0D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ye masks are commonly used to validate that signals are compliant with standard interfa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luding eye mask data in IBIS model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mote earlier use of eye masks in the design process allowing problems to be discover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ow IC vendors to advertise their device-specific less-stringent eye mask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would like to share our experience and promote this to the IBIS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A925-71D2-496B-BDCD-D8C05A82B0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19995-6DA4-475C-9C59-7357F782A6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7:48:35Z</dcterms:created>
  <dc:creator>Cadence Design Systems, Inc</dc:creator>
  <dc:description/>
  <dc:language>en-US</dc:language>
  <cp:lastModifiedBy>Bob Ross</cp:lastModifiedBy>
  <cp:lastPrinted>2006-09-27T23:49:20Z</cp:lastPrinted>
  <dcterms:modified xsi:type="dcterms:W3CDTF">2008-10-24T22:18:03Z</dcterms:modified>
  <cp:revision>165</cp:revision>
  <dc:subject/>
  <dc:title>ICM swath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9282677</vt:r8>
  </property>
  <property fmtid="{D5CDD505-2E9C-101B-9397-08002B2CF9AE}" pid="3" name="_AuthorEmail">
    <vt:lpwstr>bgriffin@cadence.com</vt:lpwstr>
  </property>
  <property fmtid="{D5CDD505-2E9C-101B-9397-08002B2CF9AE}" pid="4" name="_AuthorEmailDisplayName">
    <vt:lpwstr>Brad Griffin</vt:lpwstr>
  </property>
  <property fmtid="{D5CDD505-2E9C-101B-9397-08002B2CF9AE}" pid="5" name="_EmailSubject">
    <vt:lpwstr>Asian IBIS Summit (China) - Cadence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