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2822-2858-4BA4-9B5E-E759BE3811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A63D-BC3F-4CEC-A1D7-8BAF2DC22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smosScope calculator and measure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D543-1D32-4111-85F7-5E0F73CFB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52A2-B8B2-46BB-A5DD-52C6594BBE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98E0-579E-43C7-920F-5AE9B6E35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A100-37A5-418B-9F9F-FF4067FA2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uppliers: either external or internal to the customer 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255E-50A9-4E9E-AA75-8D5313B4D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uppliers: either external or internal to the customer 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1383-238E-4A96-BD96-F24CA1C2B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ac lin 101 1e6 10e9: 101 points spread linearly from 1 MHz to 10 GH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ac dec 301 1 30e9: 301 points per decade from 1  Hz to 30 GH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E36F-1C4D-4F07-96D8-76B084240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 verification test bench run with default S element settings. OP output nodes for source and s element overlai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C538-6FE6-4754-8CF2-1450DCBE0E60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371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0621-6B85-43F9-9208-B619F93B7E81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31C0-4C34-4956-9F0E-804FCB209B37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452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3BA6-216B-46EE-9318-C6BFB38E0854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41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10E0-0D0C-4709-8E89-184800995F1B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oriz4b-merge-2c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16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8581-5279-4AE5-8840-F6572E454179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A3FB-72C5-4EC2-AFE3-738B4155FF50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F0B9-3F30-4698-B36D-0A3CE2F234E3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62A9-CCC8-445B-A16A-53D2EC0C405A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71BE-6F94-475D-BB50-FC63FE1FB71B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51BB-6E98-4193-8FCE-36792213BA2B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9" descr="ppt_gradient2shortergrey.png"/>
          <p:cNvPicPr/>
          <p:nvPr/>
        </p:nvPicPr>
        <p:blipFill>
          <a:blip r:embed="rId2"/>
          <a:stretch/>
        </p:blipFill>
        <p:spPr>
          <a:xfrm>
            <a:off x="0" y="6278400"/>
            <a:ext cx="914400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7"/>
          <p:cNvSpPr/>
          <p:nvPr/>
        </p:nvSpPr>
        <p:spPr>
          <a:xfrm>
            <a:off x="2286000" y="655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2E84-DF3D-46C3-A80A-DE5B74AA2C56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hhuang@synopsys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2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04840" y="15235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Optimum Frequency Sampling in S-Parameter Extraction and Simul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400120" y="39625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  <a:ea typeface="宋体"/>
              </a:rPr>
              <a:t>Jinghua Hu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  <a:ea typeface="宋体"/>
              </a:rPr>
              <a:t>(</a:t>
            </a:r>
            <a:r>
              <a:rPr b="0" lang="en-US" sz="1400" spc="-1" strike="noStrike" u="sng">
                <a:solidFill>
                  <a:srgbClr val="d200d2"/>
                </a:solidFill>
                <a:uFillTx/>
                <a:latin typeface="Arial"/>
                <a:ea typeface="宋体"/>
                <a:hlinkClick r:id="rId1"/>
              </a:rPr>
              <a:t>jhhuang@synopsys.com</a:t>
            </a:r>
            <a:r>
              <a:rPr b="0" lang="en-US" sz="1400" spc="-1" strike="noStrike">
                <a:solidFill>
                  <a:srgbClr val="898989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  <a:ea typeface="宋体"/>
              </a:rPr>
              <a:t>SYNOPS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  <a:ea typeface="宋体"/>
              </a:rPr>
              <a:t>Asian IBIS 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  <a:ea typeface="宋体"/>
              </a:rPr>
              <a:t>Shanghai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  <a:ea typeface="宋体"/>
              </a:rPr>
              <a:t>Nov. 11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6"/>
          <p:cNvSpPr/>
          <p:nvPr/>
        </p:nvSpPr>
        <p:spPr>
          <a:xfrm>
            <a:off x="4357800" y="1571760"/>
            <a:ext cx="4786200" cy="22096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Hz S MA R    50.0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100000E+07   0.925839E-02  6.32755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368301E-03  16.4700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100990E+09   0.354922E-01  60.3283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205661E-02  47.4395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200980E+09   0.608898E-01  66.5493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314144E-02  46.8725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Sparse S Model issues in AC</a:t>
            </a:r>
            <a:br>
              <a:rPr sz="3400"/>
            </a:br>
            <a:r>
              <a:rPr b="1" lang="en-US" sz="3400" spc="-1" strike="noStrike">
                <a:solidFill>
                  <a:srgbClr val="800080"/>
                </a:solidFill>
                <a:latin typeface="Arial"/>
                <a:ea typeface="宋体"/>
              </a:rPr>
              <a:t>Sparse S Model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: 1 MHz - 10 GHz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0" descr="ac_sparse_diff"/>
          <p:cNvPicPr/>
          <p:nvPr/>
        </p:nvPicPr>
        <p:blipFill>
          <a:blip r:embed="rId1"/>
          <a:stretch/>
        </p:blipFill>
        <p:spPr>
          <a:xfrm>
            <a:off x="357120" y="1285920"/>
            <a:ext cx="4286160" cy="2486160"/>
          </a:xfrm>
          <a:prstGeom prst="rect">
            <a:avLst/>
          </a:prstGeom>
          <a:ln w="0">
            <a:noFill/>
          </a:ln>
        </p:spPr>
      </p:pic>
      <p:sp>
        <p:nvSpPr>
          <p:cNvPr id="530" name="Freeform 64"/>
          <p:cNvSpPr/>
          <p:nvPr/>
        </p:nvSpPr>
        <p:spPr>
          <a:xfrm>
            <a:off x="1143000" y="1700280"/>
            <a:ext cx="1928880" cy="1285920"/>
          </a:xfrm>
          <a:prstGeom prst="pie">
            <a:avLst/>
          </a:prstGeom>
          <a:noFill/>
          <a:ln w="38160">
            <a:solidFill>
              <a:srgbClr val="ff6600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214200" y="3429000"/>
            <a:ext cx="1076400" cy="3682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2"/>
          <p:cNvSpPr/>
          <p:nvPr/>
        </p:nvSpPr>
        <p:spPr>
          <a:xfrm>
            <a:off x="4500720" y="1785960"/>
            <a:ext cx="1676160" cy="38088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V="1">
            <a:off x="714240" y="1999800"/>
            <a:ext cx="3643560" cy="1428840"/>
          </a:xfrm>
          <a:prstGeom prst="line">
            <a:avLst/>
          </a:prstGeom>
          <a:ln w="255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1928880" y="3429000"/>
            <a:ext cx="1285920" cy="3682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9"/>
          <p:cNvSpPr/>
          <p:nvPr/>
        </p:nvSpPr>
        <p:spPr>
          <a:xfrm>
            <a:off x="4500720" y="2357280"/>
            <a:ext cx="1676160" cy="38124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0"/>
          <p:cNvSpPr/>
          <p:nvPr/>
        </p:nvSpPr>
        <p:spPr>
          <a:xfrm flipV="1">
            <a:off x="2571840" y="2571480"/>
            <a:ext cx="1785960" cy="857160"/>
          </a:xfrm>
          <a:prstGeom prst="line">
            <a:avLst/>
          </a:prstGeom>
          <a:ln w="255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0" descr="ac_sparse_1"/>
          <p:cNvPicPr/>
          <p:nvPr/>
        </p:nvPicPr>
        <p:blipFill>
          <a:blip r:embed="rId2"/>
          <a:stretch/>
        </p:blipFill>
        <p:spPr>
          <a:xfrm>
            <a:off x="357120" y="3743280"/>
            <a:ext cx="4286160" cy="2471760"/>
          </a:xfrm>
          <a:prstGeom prst="rect">
            <a:avLst/>
          </a:prstGeom>
          <a:ln w="0">
            <a:noFill/>
          </a:ln>
        </p:spPr>
      </p:pic>
      <p:sp>
        <p:nvSpPr>
          <p:cNvPr id="538" name="Freeform 64"/>
          <p:cNvSpPr/>
          <p:nvPr/>
        </p:nvSpPr>
        <p:spPr>
          <a:xfrm>
            <a:off x="3500280" y="5214960"/>
            <a:ext cx="1208160" cy="525600"/>
          </a:xfrm>
          <a:prstGeom prst="pie">
            <a:avLst/>
          </a:prstGeom>
          <a:noFill/>
          <a:ln w="38160">
            <a:solidFill>
              <a:srgbClr val="ff6600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28"/>
          <p:cNvSpPr/>
          <p:nvPr/>
        </p:nvSpPr>
        <p:spPr>
          <a:xfrm>
            <a:off x="5286240" y="121428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Interpolatio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9"/>
          <p:cNvSpPr/>
          <p:nvPr/>
        </p:nvSpPr>
        <p:spPr>
          <a:xfrm>
            <a:off x="5286240" y="38577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Extrapolatio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4500720" y="4214880"/>
            <a:ext cx="46432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ac lin 101 1e6 10e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generated S model data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up to 10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verification test bench specified fstop of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60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Transient response - 3 GHz Puls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tran_dense_2"/>
          <p:cNvPicPr/>
          <p:nvPr/>
        </p:nvPicPr>
        <p:blipFill>
          <a:blip r:embed="rId1"/>
          <a:stretch/>
        </p:blipFill>
        <p:spPr>
          <a:xfrm>
            <a:off x="285840" y="3929040"/>
            <a:ext cx="4071960" cy="2359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tran_dense_diff"/>
          <p:cNvPicPr/>
          <p:nvPr/>
        </p:nvPicPr>
        <p:blipFill>
          <a:blip r:embed="rId2"/>
          <a:stretch/>
        </p:blipFill>
        <p:spPr>
          <a:xfrm>
            <a:off x="4429080" y="3929040"/>
            <a:ext cx="4610160" cy="23288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"/>
          <p:cNvSpPr/>
          <p:nvPr/>
        </p:nvSpPr>
        <p:spPr>
          <a:xfrm>
            <a:off x="5357880" y="4572000"/>
            <a:ext cx="25905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d21"/>
                </a:solidFill>
                <a:latin typeface="Arial"/>
              </a:rPr>
              <a:t>Max diff = 11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d21"/>
                </a:solidFill>
                <a:latin typeface="Arial"/>
              </a:rPr>
              <a:t>RMS diff = 3.4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tran_sparse_2"/>
          <p:cNvPicPr/>
          <p:nvPr/>
        </p:nvPicPr>
        <p:blipFill>
          <a:blip r:embed="rId3"/>
          <a:stretch/>
        </p:blipFill>
        <p:spPr>
          <a:xfrm>
            <a:off x="285840" y="1662120"/>
            <a:ext cx="4071960" cy="2349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8" descr="tran_sparse_diff"/>
          <p:cNvPicPr/>
          <p:nvPr/>
        </p:nvPicPr>
        <p:blipFill>
          <a:blip r:embed="rId4"/>
          <a:stretch/>
        </p:blipFill>
        <p:spPr>
          <a:xfrm>
            <a:off x="4429080" y="1643040"/>
            <a:ext cx="4572000" cy="2286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9"/>
          <p:cNvSpPr/>
          <p:nvPr/>
        </p:nvSpPr>
        <p:spPr>
          <a:xfrm>
            <a:off x="5357880" y="2146320"/>
            <a:ext cx="25905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ax diff = 25.3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RMS diff = 11.5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071720" y="1714680"/>
            <a:ext cx="2590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parse 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1143000" y="4000680"/>
            <a:ext cx="2590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d21"/>
                </a:solidFill>
                <a:latin typeface="Arial"/>
              </a:rPr>
              <a:t>Dense 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357120" y="1143360"/>
            <a:ext cx="42861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ient 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714920" y="1143360"/>
            <a:ext cx="42861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olute Di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Provide DC po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overs wide enough frequency 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From DC to several harmonics of input sig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Necessary dense data point (but not too dense to avoid big data fi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Passive, within the unit circle in Smith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mooth, without measurement no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tc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What does “good” S-parameter look like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宋体"/>
              </a:rPr>
              <a:t>Issues in S-parameter creation (model generation strate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d21"/>
                </a:solidFill>
                <a:latin typeface="Arial"/>
                <a:ea typeface="宋体"/>
              </a:rPr>
              <a:t>Handling bad S-parameters (simulation strate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宋体"/>
              </a:rPr>
              <a:t>Tools to check S-paramet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Using bad S-parameters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8454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-parameter “table” model typically shows its weakness wh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PGothic"/>
              </a:rPr>
              <a:t>Limited frequency ran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PGothic"/>
              </a:rPr>
              <a:t>DC  point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PGothic"/>
              </a:rPr>
              <a:t>Coarse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PGothic"/>
              </a:rPr>
              <a:t>Unintentional non-pass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PGothic"/>
              </a:rPr>
              <a:t>Especially with bad termi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PGothic"/>
              </a:rPr>
              <a:t>Measurement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PGothic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an we use this kind of S-parameters if they are provi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7d21"/>
                </a:solidFill>
                <a:latin typeface="Arial"/>
                <a:ea typeface="MS PGothic"/>
              </a:rPr>
              <a:t>Yes, i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Guessing not-given values 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1080" y="1577880"/>
            <a:ext cx="64645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terpolation &amp; extra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iecewise con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iecewise lin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p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artially apply rational function approx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Hybrid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ase data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Real/Imaginary(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Magnitude/Angle(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1700"/>
                </a:solidFill>
                <a:latin typeface="Arial"/>
                <a:ea typeface="MS PGothic"/>
              </a:rPr>
              <a:t>Physical modeling (guess) </a:t>
            </a:r>
            <a:r>
              <a:rPr b="1" i="1" lang="en-US" sz="2800" spc="-1" strike="noStrike">
                <a:solidFill>
                  <a:srgbClr val="fa7d21"/>
                </a:solidFill>
                <a:latin typeface="Arial"/>
                <a:ea typeface="MS PGothic"/>
              </a:rPr>
              <a:t>based on provided table model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Interpolation method comparis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0" y="1571760"/>
          <a:ext cx="9144000" cy="4863960"/>
        </p:xfrm>
        <a:graphic>
          <a:graphicData uri="http://schemas.openxmlformats.org/drawingml/2006/table">
            <a:tbl>
              <a:tblPr/>
              <a:tblGrid>
                <a:gridCol w="1714680"/>
                <a:gridCol w="2857320"/>
                <a:gridCol w="2286000"/>
                <a:gridCol w="2286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-/extrapolation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7a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Numerical polynomial approximation (Piecewise constant, linear, spline, et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7a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Partially apply rational function approxi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7a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Hybrid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7ab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MS PGothic"/>
                        </a:rPr>
                        <a:t>. Qu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MS PGothic"/>
                        </a:rPr>
                        <a:t>. Bounded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MS PGothic"/>
                        </a:rPr>
                        <a:t>. Consider caus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MS PGothic"/>
                        </a:rPr>
                        <a:t>. Accurate phase esti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MS PGothic"/>
                        </a:rPr>
                        <a:t>. Combing advantages of several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  <a:ea typeface="MS PGothic"/>
                        </a:rPr>
                        <a:t>. Causality &amp; passivity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  <a:ea typeface="MS PGothic"/>
                        </a:rPr>
                        <a:t>. Phase estimation difficul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  <a:ea typeface="MS PGothic"/>
                        </a:rPr>
                        <a:t>. Time consu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  <a:ea typeface="MS PGothic"/>
                        </a:rPr>
                        <a:t>. Passivity vi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  <a:ea typeface="MS PGothic"/>
                        </a:rPr>
                        <a:t>. Noise sen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  <a:ea typeface="MS PGothic"/>
                        </a:rPr>
                        <a:t>. False switch between each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  <a:ea typeface="MS PGothic"/>
                        </a:rPr>
                        <a:t>. Noise sen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cf3"/>
                    </a:solidFill>
                  </a:tcPr>
                </a:tc>
              </a:tr>
              <a:tr h="113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g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a7d21"/>
                          </a:solidFill>
                          <a:latin typeface="Arial"/>
                          <a:ea typeface="MS PGothic"/>
                        </a:rPr>
                        <a:t>Efficient for most common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a7d21"/>
                          </a:solidFill>
                          <a:latin typeface="Arial"/>
                          <a:ea typeface="MS PGothic"/>
                        </a:rPr>
                        <a:t>Usually used in hybrid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a7d21"/>
                          </a:solidFill>
                          <a:latin typeface="Arial"/>
                          <a:ea typeface="MS PGothic"/>
                        </a:rPr>
                        <a:t>Use for cases with local reson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Interpolation method comparis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571680" y="2428920"/>
          <a:ext cx="8143560" cy="366876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4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 data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7a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/Imaginary(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7a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itude/Angle(M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7aba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MS PGothic"/>
                        </a:rPr>
                        <a:t>. No phase over-estimation issue in local resonance reg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MS PGothic"/>
                        </a:rPr>
                        <a:t>. Smooth curves connecting given sample points (more phys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</a:tr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  <a:ea typeface="MS PGothic"/>
                        </a:rPr>
                        <a:t>. May under-estimate phase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  <a:ea typeface="MS PGothic"/>
                        </a:rPr>
                        <a:t>. Straight line between given sample points (unphys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  <a:ea typeface="MS PGothic"/>
                        </a:rPr>
                        <a:t>. May over-estimate phase change in local resonance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cf3"/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g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a7d21"/>
                          </a:solidFill>
                          <a:latin typeface="Arial"/>
                          <a:ea typeface="MS PGothic"/>
                        </a:rPr>
                        <a:t>use with very dense table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a7d21"/>
                          </a:solidFill>
                          <a:latin typeface="Arial"/>
                          <a:ea typeface="MS PGothic"/>
                        </a:rPr>
                        <a:t>Efficient for most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RI v.s. MA (linear) interpol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4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PGothic"/>
              </a:rPr>
              <a:t>Real/Imagin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Straight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PGothic"/>
              </a:rPr>
              <a:t>Magnitude/An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Circl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Suitable for linear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Requires unwrapped phase gu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Clockwise 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1"/>
          <a:stretch/>
        </p:blipFill>
        <p:spPr>
          <a:xfrm>
            <a:off x="4633920" y="1187280"/>
            <a:ext cx="4067280" cy="42228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5"/>
          <p:cNvSpPr/>
          <p:nvPr/>
        </p:nvSpPr>
        <p:spPr>
          <a:xfrm>
            <a:off x="7223400" y="2274840"/>
            <a:ext cx="1713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RI 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6999480" y="5254560"/>
            <a:ext cx="1828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 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 flipH="1">
            <a:off x="7763040" y="2647800"/>
            <a:ext cx="18720" cy="1028880"/>
          </a:xfrm>
          <a:prstGeom prst="line">
            <a:avLst/>
          </a:prstGeom>
          <a:ln w="25560">
            <a:solidFill>
              <a:srgbClr val="cc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 flipV="1">
            <a:off x="8067600" y="4466880"/>
            <a:ext cx="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0"/>
          <p:cNvSpPr/>
          <p:nvPr/>
        </p:nvSpPr>
        <p:spPr>
          <a:xfrm>
            <a:off x="7039080" y="4162320"/>
            <a:ext cx="1019160" cy="771480"/>
          </a:xfrm>
          <a:prstGeom prst="pie">
            <a:avLst/>
          </a:prstGeom>
          <a:noFill/>
          <a:ln w="25560">
            <a:solidFill>
              <a:srgbClr val="ffff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2386080" y="1014480"/>
            <a:ext cx="4809960" cy="443844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Local resonanc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5"/>
          <p:cNvSpPr/>
          <p:nvPr/>
        </p:nvSpPr>
        <p:spPr>
          <a:xfrm>
            <a:off x="3124080" y="3943440"/>
            <a:ext cx="819360" cy="704880"/>
          </a:xfrm>
          <a:prstGeom prst="pie">
            <a:avLst/>
          </a:prstGeom>
          <a:noFill/>
          <a:ln w="25560">
            <a:solidFill>
              <a:srgbClr val="ffff99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6"/>
          <p:cNvSpPr/>
          <p:nvPr/>
        </p:nvSpPr>
        <p:spPr>
          <a:xfrm flipH="1">
            <a:off x="3752640" y="3362400"/>
            <a:ext cx="771480" cy="40968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8"/>
          <p:cNvSpPr/>
          <p:nvPr/>
        </p:nvSpPr>
        <p:spPr>
          <a:xfrm flipH="1">
            <a:off x="4246560" y="3360600"/>
            <a:ext cx="295200" cy="77184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9"/>
          <p:cNvSpPr/>
          <p:nvPr/>
        </p:nvSpPr>
        <p:spPr>
          <a:xfrm>
            <a:off x="3857760" y="3790800"/>
            <a:ext cx="361800" cy="304920"/>
          </a:xfrm>
          <a:prstGeom prst="pie">
            <a:avLst/>
          </a:prstGeom>
          <a:noFill/>
          <a:ln w="25560">
            <a:solidFill>
              <a:srgbClr val="ccec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1459080" y="5608800"/>
            <a:ext cx="606024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urning clockwise locally, looks counter-clockwise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ssues in S-parameter creation (model generation strate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andling bad S-parameters (simulation strate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ols to check S-paramet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Hybrid interpol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2380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S PGothic"/>
              </a:rPr>
              <a:t>Combine possible best 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Advantage of MA based interpo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Capture local reson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Finding local c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Use rational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hybrid2"/>
          <p:cNvPicPr/>
          <p:nvPr/>
        </p:nvPicPr>
        <p:blipFill>
          <a:blip r:embed="rId1"/>
          <a:stretch/>
        </p:blipFill>
        <p:spPr>
          <a:xfrm>
            <a:off x="1590840" y="3395520"/>
            <a:ext cx="6172200" cy="27147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"/>
          <p:cNvSpPr/>
          <p:nvPr/>
        </p:nvSpPr>
        <p:spPr>
          <a:xfrm>
            <a:off x="2354760" y="6010200"/>
            <a:ext cx="191664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ventional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5677920" y="6018120"/>
            <a:ext cx="8391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1"/>
          <p:cNvSpPr/>
          <p:nvPr/>
        </p:nvSpPr>
        <p:spPr>
          <a:xfrm>
            <a:off x="4543560" y="4829040"/>
            <a:ext cx="428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Noise redu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440" y="1266480"/>
            <a:ext cx="76071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Data smooth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s31"/>
          <p:cNvPicPr/>
          <p:nvPr/>
        </p:nvPicPr>
        <p:blipFill>
          <a:blip r:embed="rId1"/>
          <a:stretch/>
        </p:blipFill>
        <p:spPr>
          <a:xfrm>
            <a:off x="1500120" y="2286000"/>
            <a:ext cx="5067360" cy="2357280"/>
          </a:xfrm>
          <a:prstGeom prst="rect">
            <a:avLst/>
          </a:prstGeom>
          <a:ln w="0">
            <a:noFill/>
          </a:ln>
        </p:spPr>
      </p:pic>
      <p:grpSp>
        <p:nvGrpSpPr>
          <p:cNvPr id="589" name="Right Arrow 5"/>
          <p:cNvGrpSpPr/>
          <p:nvPr/>
        </p:nvGrpSpPr>
        <p:grpSpPr>
          <a:xfrm>
            <a:off x="3676680" y="4005360"/>
            <a:ext cx="504720" cy="480960"/>
            <a:chOff x="3676680" y="4005360"/>
            <a:chExt cx="504720" cy="480960"/>
          </a:xfrm>
        </p:grpSpPr>
        <p:pic>
          <p:nvPicPr>
            <p:cNvPr id="590" name="Right Arrow 5" descr=""/>
            <p:cNvPicPr/>
            <p:nvPr/>
          </p:nvPicPr>
          <p:blipFill>
            <a:blip r:embed="rId2"/>
            <a:stretch/>
          </p:blipFill>
          <p:spPr>
            <a:xfrm>
              <a:off x="3676680" y="4005360"/>
              <a:ext cx="5047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3714840" y="4160880"/>
              <a:ext cx="3394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Passivity check/enforcement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071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assivity violation makes unintentional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Voltage blows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assivity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heck eigenvalues of I-SS’ (S’: conjugate transp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assivity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odify” origin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dd minimum amount of constan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678640" y="5681520"/>
            <a:ext cx="329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宋体"/>
              </a:rPr>
              <a:t>Issues in S-parameter creation (model generation strate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宋体"/>
              </a:rPr>
              <a:t>Handling bad S-parameters (simulation strate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d21"/>
                </a:solidFill>
                <a:latin typeface="Arial"/>
                <a:ea typeface="宋体"/>
              </a:rPr>
              <a:t>Tools to check S-paramet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eck your given S-parameter table model on Smith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termine which method and what data format should to be used for inter-/extra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eck what you get from the selected inter-/extrapolation S-parameter data on Smith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How to select proper inter-/extrapolation method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What does good S-parameter look like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5022720" cy="4643640"/>
          </a:xfrm>
          <a:prstGeom prst="rect">
            <a:avLst/>
          </a:prstGeom>
          <a:ln w="0">
            <a:noFill/>
          </a:ln>
        </p:spPr>
      </p:pic>
      <p:sp>
        <p:nvSpPr>
          <p:cNvPr id="601" name="TextBox 5"/>
          <p:cNvSpPr/>
          <p:nvPr/>
        </p:nvSpPr>
        <p:spPr>
          <a:xfrm>
            <a:off x="5715000" y="3000240"/>
            <a:ext cx="2786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7d21"/>
                </a:solidFill>
                <a:latin typeface="Arial"/>
              </a:rPr>
              <a:t>Good quality S-parameters always show </a:t>
            </a:r>
            <a:r>
              <a:rPr b="1" i="1" lang="en-US" sz="2800" spc="-1" strike="noStrike">
                <a:solidFill>
                  <a:srgbClr val="ea1700"/>
                </a:solidFill>
                <a:latin typeface="Arial"/>
              </a:rPr>
              <a:t>beautiful</a:t>
            </a:r>
            <a:r>
              <a:rPr b="1" i="1" lang="en-US" sz="2800" spc="-1" strike="noStrike">
                <a:solidFill>
                  <a:srgbClr val="fa7d21"/>
                </a:solidFill>
                <a:latin typeface="Arial"/>
              </a:rPr>
              <a:t> curves on Smith Ch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synopsys"/>
          <p:cNvPicPr/>
          <p:nvPr/>
        </p:nvPicPr>
        <p:blipFill>
          <a:blip r:embed="rId1"/>
          <a:stretch/>
        </p:blipFill>
        <p:spPr>
          <a:xfrm>
            <a:off x="2760840" y="2050920"/>
            <a:ext cx="3774960" cy="974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3"/>
          <p:cNvSpPr/>
          <p:nvPr/>
        </p:nvSpPr>
        <p:spPr>
          <a:xfrm>
            <a:off x="2901600" y="314496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7aba"/>
                </a:solidFill>
                <a:latin typeface="Arial"/>
              </a:rPr>
              <a:t>Predictable </a:t>
            </a:r>
            <a:r>
              <a:rPr b="0" lang="en-US" sz="2800" spc="-1" strike="noStrike">
                <a:solidFill>
                  <a:srgbClr val="432a72"/>
                </a:solidFill>
                <a:latin typeface="Arial"/>
              </a:rPr>
              <a:t>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a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d21"/>
                </a:solidFill>
                <a:latin typeface="Arial"/>
                <a:ea typeface="宋体"/>
              </a:rPr>
              <a:t>Issues in S-parameter creation (model generation strate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宋体"/>
              </a:rPr>
              <a:t>Handling bad S-parameters (simulation strate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宋体"/>
              </a:rPr>
              <a:t>Tools to check S-paramet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Agend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S-parameter cre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ppliers often ship S-parameter representations of their product (package, connector, amplifi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-parameter models are extracted by test and measurement equipment or by numerical method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 sim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Issues in S-parameter cre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-parameter “table” model typically shows its weakness w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mited frequency range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DC point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arse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intentional non-pass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specially with bad ter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easurement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Influence on simulation resul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requency domain accuracy verification (AC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ey point: get required frequency point from provided S-parameter table model using inter-/extrapolation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ime domain accuracy verification (Transient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ey point: Get time domain impulse response h(t) and do con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914040" y="1123920"/>
            <a:ext cx="760716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IF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Arial"/>
                <a:ea typeface="MS PGothic"/>
              </a:rPr>
              <a:t>Equally spaced 2^N poin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Need to cover wide enough frequency range, from DC to several harmonics of input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Rational Function Approx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Delay ex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Arial"/>
                <a:ea typeface="MS PGothic"/>
              </a:rPr>
              <a:t>Sampling and start pole determin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Avoid measurement no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7d21"/>
                </a:solidFill>
                <a:latin typeface="Arial"/>
                <a:ea typeface="MS PGothic"/>
              </a:rPr>
              <a:t>Accurately obtaining </a:t>
            </a:r>
            <a:r>
              <a:rPr b="1" i="1" lang="en-US" sz="2400" spc="-1" strike="noStrike">
                <a:solidFill>
                  <a:srgbClr val="ea1700"/>
                </a:solidFill>
                <a:latin typeface="Arial"/>
                <a:ea typeface="MS PGothic"/>
              </a:rPr>
              <a:t>not-given</a:t>
            </a:r>
            <a:r>
              <a:rPr b="1" i="1" lang="en-US" sz="2400" spc="-1" strike="noStrike">
                <a:solidFill>
                  <a:srgbClr val="fa7d21"/>
                </a:solidFill>
                <a:latin typeface="Arial"/>
                <a:ea typeface="MS PGothic"/>
              </a:rPr>
              <a:t> S-parameters from the table model is extremely important to simulation resul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Key points in obtaining h(t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AC analysis example (</a:t>
            </a:r>
            <a:r>
              <a:rPr b="1" lang="en-US" sz="3400" spc="-1" strike="noStrike">
                <a:solidFill>
                  <a:srgbClr val="7030a0"/>
                </a:solidFill>
                <a:latin typeface="Arial"/>
                <a:ea typeface="宋体"/>
              </a:rPr>
              <a:t>sparse vs. dens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parse: narrow range, few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urier New"/>
                <a:ea typeface="宋体"/>
              </a:rPr>
              <a:t>.ac lin 101 1e6 10e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nse: wide range, lots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7d21"/>
                </a:solidFill>
                <a:latin typeface="Courier New"/>
                <a:ea typeface="宋体"/>
              </a:rPr>
              <a:t>.ac dec 301 1 30e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AC verification results: 1 MHz - 60 GHz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0" descr="ac_sparse_1"/>
          <p:cNvPicPr/>
          <p:nvPr/>
        </p:nvPicPr>
        <p:blipFill>
          <a:blip r:embed="rId1"/>
          <a:stretch/>
        </p:blipFill>
        <p:spPr>
          <a:xfrm>
            <a:off x="500040" y="1571760"/>
            <a:ext cx="4286160" cy="24717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85880" y="3357720"/>
            <a:ext cx="2357280" cy="4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  <a:ea typeface="宋体"/>
              </a:rPr>
              <a:t>.ac lin 101 1e6 10e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500040" y="1072080"/>
            <a:ext cx="42861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 vs Frequency (1 MHz - 60 G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0" descr="ac_dense_1"/>
          <p:cNvPicPr/>
          <p:nvPr/>
        </p:nvPicPr>
        <p:blipFill>
          <a:blip r:embed="rId2"/>
          <a:stretch/>
        </p:blipFill>
        <p:spPr>
          <a:xfrm>
            <a:off x="500040" y="4078440"/>
            <a:ext cx="4286160" cy="249372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9"/>
          <p:cNvSpPr/>
          <p:nvPr/>
        </p:nvSpPr>
        <p:spPr>
          <a:xfrm>
            <a:off x="781200" y="5857920"/>
            <a:ext cx="22906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7d21"/>
                </a:solidFill>
                <a:latin typeface="Courier New"/>
              </a:rPr>
              <a:t>.ac dec 301 1 30e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ac_sparse_diff"/>
          <p:cNvPicPr/>
          <p:nvPr/>
        </p:nvPicPr>
        <p:blipFill>
          <a:blip r:embed="rId3"/>
          <a:stretch/>
        </p:blipFill>
        <p:spPr>
          <a:xfrm>
            <a:off x="4786200" y="1585800"/>
            <a:ext cx="4286520" cy="248616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8"/>
          <p:cNvSpPr/>
          <p:nvPr/>
        </p:nvSpPr>
        <p:spPr>
          <a:xfrm>
            <a:off x="6886800" y="2432520"/>
            <a:ext cx="22518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ax diff = 539 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RMS diff = 63 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2" descr="ac_dense_diff"/>
          <p:cNvPicPr/>
          <p:nvPr/>
        </p:nvPicPr>
        <p:blipFill>
          <a:blip r:embed="rId4"/>
          <a:stretch/>
        </p:blipFill>
        <p:spPr>
          <a:xfrm>
            <a:off x="4786200" y="4071960"/>
            <a:ext cx="4273560" cy="246528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8"/>
          <p:cNvSpPr/>
          <p:nvPr/>
        </p:nvSpPr>
        <p:spPr>
          <a:xfrm>
            <a:off x="6143760" y="493272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d21"/>
                </a:solidFill>
                <a:latin typeface="Arial"/>
              </a:rPr>
              <a:t>Max  diff = 139 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d21"/>
                </a:solidFill>
                <a:latin typeface="Arial"/>
              </a:rPr>
              <a:t>RMS diff = 27 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1"/>
          <p:cNvSpPr/>
          <p:nvPr/>
        </p:nvSpPr>
        <p:spPr>
          <a:xfrm>
            <a:off x="785880" y="2844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Sparse S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785880" y="5286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7d21"/>
                </a:solidFill>
                <a:latin typeface="Arial"/>
              </a:rPr>
              <a:t>Dense S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4714920" y="1047960"/>
            <a:ext cx="42861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olute Diff (1 MHz - 10 G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6:59:50Z</dcterms:created>
  <dc:creator>jhhuang</dc:creator>
  <dc:description/>
  <dc:language>en-US</dc:language>
  <cp:lastModifiedBy>xfchen</cp:lastModifiedBy>
  <dcterms:modified xsi:type="dcterms:W3CDTF">2008-10-14T03:46:07Z</dcterms:modified>
  <cp:revision>106</cp:revision>
  <dc:subject/>
  <dc:title>Optimum Frequency Sampling in S Parameter Extraction and Simulation</dc:title>
</cp:coreProperties>
</file>