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671175" cy="8002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474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7194600" y="155268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9984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474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7194600" y="4310640"/>
            <a:ext cx="309240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99840" y="320760"/>
            <a:ext cx="960444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21400" y="431064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21400" y="1552680"/>
            <a:ext cx="46868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9840" y="4310640"/>
            <a:ext cx="9604440" cy="25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755640" y="754380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19920" y="7467480"/>
            <a:ext cx="1233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B091291A-A6A3-4C95-98C9-B138F285E2AD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7257960"/>
            <a:ext cx="10669680" cy="743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81200" y="7543800"/>
            <a:ext cx="3076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763120" y="7467480"/>
            <a:ext cx="1528560" cy="362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2"/>
          </p:nvPr>
        </p:nvSpPr>
        <p:spPr>
          <a:xfrm>
            <a:off x="533160" y="7286400"/>
            <a:ext cx="2490840" cy="55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Medium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Page </a:t>
            </a:r>
            <a:fld id="{FC78B7D3-5606-4F6C-8D7D-C2EC0A844FC0}" type="slidenum">
              <a:rPr b="0" lang="de-DE" sz="1200" spc="-1" strike="noStrike">
                <a:solidFill>
                  <a:srgbClr val="000000"/>
                </a:solidFill>
                <a:latin typeface="FrutigerNext LT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0671120" cy="800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8763120" y="650880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0" y="914400"/>
            <a:ext cx="10669680" cy="444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2680" y="380880"/>
            <a:ext cx="151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FrutigerNext LT Regular"/>
              </a:rPr>
              <a:t>11.Nov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7240680"/>
            <a:ext cx="299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utigerNext LT Bold"/>
              </a:rPr>
              <a:t>HUAWEI TECHNOLOGIES Co., Lt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456760" y="4648320"/>
            <a:ext cx="1755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6560" rIns="106560" tIns="53280" bIns="53280" anchor="t">
            <a:noAutofit/>
          </a:bodyPr>
          <a:p>
            <a:pPr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rutigerNext LT Medium"/>
                <a:ea typeface="宋体"/>
              </a:rPr>
              <a:t>www.huawei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533520" y="318960"/>
            <a:ext cx="9603000" cy="133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533520" y="1872360"/>
            <a:ext cx="9603000" cy="46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rutigerNext LT Medium"/>
              </a:rPr>
              <a:t>Click to edit the outline text format</a:t>
            </a:r>
            <a:endParaRPr b="1" lang="en-US" sz="900" spc="-1" strike="noStrike">
              <a:solidFill>
                <a:srgbClr val="ffffff"/>
              </a:solidFill>
              <a:latin typeface="FrutigerNext LT Medium"/>
            </a:endParaRPr>
          </a:p>
          <a:p>
            <a:pPr lvl="1" marL="457200" indent="0" algn="ctr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37016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00120" y="1571760"/>
            <a:ext cx="454680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AMI Model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FrutigerNext LT Medium"/>
              </a:rPr>
              <a:t>in SI Simulation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87400" y="3319560"/>
            <a:ext cx="39538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Next LT Medium"/>
              </a:rPr>
              <a:t>November 11,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Next LT Medium"/>
              </a:rPr>
              <a:t>Asian IBIS Summit, Shanghai 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1800" y="4432320"/>
            <a:ext cx="25930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Next LT Medium"/>
              </a:rPr>
              <a:t>Guan T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rutigerNext LT Medium"/>
              </a:rPr>
              <a:t>guantao@huawe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14480" y="1913040"/>
            <a:ext cx="3811680" cy="2415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622840" y="1890720"/>
            <a:ext cx="3745080" cy="2413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942840" y="4721400"/>
            <a:ext cx="4030920" cy="2431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5527800" y="4722840"/>
            <a:ext cx="3838320" cy="2432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27200" y="15526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64280" y="155268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98840" y="44323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135920" y="44323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71560" y="3424320"/>
          <a:ext cx="9072720" cy="1800000"/>
        </p:xfrm>
        <a:graphic>
          <a:graphicData uri="http://schemas.openxmlformats.org/drawingml/2006/table">
            <a:tbl>
              <a:tblPr/>
              <a:tblGrid>
                <a:gridCol w="2808360"/>
                <a:gridCol w="2867040"/>
                <a:gridCol w="3397320"/>
              </a:tblGrid>
              <a:tr h="5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pattern                Channel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Height (m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Width (U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JPAT(8B/10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871560" y="1623960"/>
          <a:ext cx="9072720" cy="1803600"/>
        </p:xfrm>
        <a:graphic>
          <a:graphicData uri="http://schemas.openxmlformats.org/drawingml/2006/table">
            <a:tbl>
              <a:tblPr/>
              <a:tblGrid>
                <a:gridCol w="2808360"/>
                <a:gridCol w="2868480"/>
                <a:gridCol w="339588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pattern                Channe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Height (m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Width (U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JPAT(8B/10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871560" y="5224320"/>
          <a:ext cx="9072720" cy="1805040"/>
        </p:xfrm>
        <a:graphic>
          <a:graphicData uri="http://schemas.openxmlformats.org/drawingml/2006/table">
            <a:tbl>
              <a:tblPr/>
              <a:tblGrid>
                <a:gridCol w="2808360"/>
                <a:gridCol w="2868480"/>
                <a:gridCol w="3395880"/>
              </a:tblGrid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ata pattern                Channel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Height (m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ye Width (U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JPAT(8B/10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RBS 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Highlight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00200" y="1552320"/>
            <a:ext cx="9315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MI model includes FFE, DFE and CDR. The model integrity is better. The encrypted Hspice Model always excludes the DFE and CD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t is feasible for users to do a large amount of bits simulation, and ISI effect is fully taken into consider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Users could set jitter parameters of Tx and Rx, so the jitter of Serdes could be considered..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MI model support calculating the coefficients of DFE and FFE automatically, and it could shorten the simulation cyc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Drawback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38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Modeling method is complicated and no auxiliary tools helping generate the AMI model. Most IC vendors do not supply AMI model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Users cannot evaluate the simulation results, owing to lack of the mask specification. So it is difficult for users to judge whether the serial link meets the requiremen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t is impossible for users to judge the accuracy of AMI models and to improve it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ome IC vendors suggest that the simulation is a reference for design and cannot be used for a final deci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he AMI model, used in the previous example, is a vendor-specific format model, not based on IBIS. The interoperability is not goo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With current AMI model, users couldn’t analyze the contribution of clock jitter and power noise, owing to lack of JTF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(jitter transfer function)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and PNS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(power noise sensitivity)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AMI Model in Serial Link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rial Link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xperiencing AMI Sim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Highlights and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PLL Model and AM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JTF and P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Background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00200" y="1552680"/>
            <a:ext cx="924408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 the current product, clock jitter and power noise are important contributions of BER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ccording to our survey, it is feasible to construct PLL model through measurement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t is a good solution to add the JTF and PNS into the AMI model, This could improve the integrity of Serdes mod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Users could use the solution to estimate the link jitter contributed by the jitter of reference clock and power noise of the PL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Chun xing Huang gives an initial idea on analyzing PLL model in the </a:t>
            </a:r>
            <a:r>
              <a:rPr b="0" i="1" lang="en-US" sz="2000" spc="-1" strike="noStrike">
                <a:solidFill>
                  <a:srgbClr val="3333ff"/>
                </a:solidFill>
                <a:latin typeface="Arial"/>
              </a:rPr>
              <a:t>Serial Link Analysis and PLL Model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at Asian IBIS Summit 2007, Beijing. The engineers of Huawei continue a research on constructing the PLL mode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TF and PN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9840" y="1552320"/>
            <a:ext cx="8523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7680" indent="-337680">
              <a:lnSpc>
                <a:spcPct val="12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Jitter Transfer Function (JTF) is defined as the ratio of output data jitter and reference clock jitter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158840" y="2416320"/>
                <a:ext cx="3240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ansfunction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tte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tte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cloc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158840" y="3878280"/>
                <a:ext cx="28083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sensitivit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itte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55560" y="3063960"/>
            <a:ext cx="8523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5000"/>
          </a:bodyPr>
          <a:p>
            <a:pPr marL="337680" indent="-337680">
              <a:lnSpc>
                <a:spcPct val="12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Power Noise Sensitivity (PNS) is defined as the ratio of output data jitter and power no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309760" y="4863960"/>
            <a:ext cx="1800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01760" y="493704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309760" y="4863960"/>
            <a:ext cx="936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09760" y="6087960"/>
            <a:ext cx="865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94" idx="1"/>
          </p:cNvCxnSpPr>
          <p:nvPr/>
        </p:nvCxnSpPr>
        <p:spPr>
          <a:xfrm flipH="1">
            <a:off x="1158120" y="637668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endCxn id="193" idx="1"/>
          </p:cNvCxnSpPr>
          <p:nvPr/>
        </p:nvCxnSpPr>
        <p:spPr>
          <a:xfrm>
            <a:off x="1230480" y="5258880"/>
            <a:ext cx="1080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1230480" y="60721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3" idx="3"/>
            <a:endCxn id="194" idx="3"/>
          </p:cNvCxnSpPr>
          <p:nvPr/>
        </p:nvCxnSpPr>
        <p:spPr>
          <a:xfrm flipH="1">
            <a:off x="3174120" y="5261040"/>
            <a:ext cx="72360" cy="1116720"/>
          </a:xfrm>
          <a:prstGeom prst="bentConnector3">
            <a:avLst>
              <a:gd name="adj1" fmla="val -32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3429360" y="5153040"/>
            <a:ext cx="3934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gger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272280" y="4863960"/>
            <a:ext cx="180000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48280" y="49370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 No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72280" y="4863960"/>
            <a:ext cx="936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72280" y="6087960"/>
            <a:ext cx="8650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3" idx="1"/>
          </p:cNvCxnSpPr>
          <p:nvPr/>
        </p:nvCxnSpPr>
        <p:spPr>
          <a:xfrm flipH="1">
            <a:off x="5120640" y="6376680"/>
            <a:ext cx="115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endCxn id="202" idx="1"/>
          </p:cNvCxnSpPr>
          <p:nvPr/>
        </p:nvCxnSpPr>
        <p:spPr>
          <a:xfrm>
            <a:off x="5192280" y="5258880"/>
            <a:ext cx="1080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5192640" y="60721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2" idx="3"/>
            <a:endCxn id="203" idx="3"/>
          </p:cNvCxnSpPr>
          <p:nvPr/>
        </p:nvCxnSpPr>
        <p:spPr>
          <a:xfrm flipH="1">
            <a:off x="7136640" y="5261040"/>
            <a:ext cx="72360" cy="1116720"/>
          </a:xfrm>
          <a:prstGeom prst="bentConnector3">
            <a:avLst>
              <a:gd name="adj1" fmla="val -32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7391520" y="5153040"/>
            <a:ext cx="3934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gger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22480" y="5295960"/>
            <a:ext cx="142920" cy="936720"/>
          </a:xfrm>
          <a:custGeom>
            <a:avLst/>
            <a:gdLst>
              <a:gd name="textAreaLeft" fmla="*/ 19080 w 142920"/>
              <a:gd name="textAreaRight" fmla="*/ 123840 w 1429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11920" y="5295960"/>
            <a:ext cx="142920" cy="936720"/>
          </a:xfrm>
          <a:custGeom>
            <a:avLst/>
            <a:gdLst>
              <a:gd name="textAreaLeft" fmla="*/ 19080 w 142920"/>
              <a:gd name="textAreaRight" fmla="*/ 123840 w 142920"/>
              <a:gd name="textAreaTop" fmla="*/ 163800 h 936720"/>
              <a:gd name="textAreaBottom" fmla="*/ 67932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03200" y="558468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J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19560" y="558468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P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TF and PN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4411" t="3653" r="5866" b="0"/>
          <a:stretch/>
        </p:blipFill>
        <p:spPr>
          <a:xfrm>
            <a:off x="727200" y="2128680"/>
            <a:ext cx="4032000" cy="3232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rcRect l="2759" t="5504" r="6208" b="0"/>
          <a:stretch/>
        </p:blipFill>
        <p:spPr>
          <a:xfrm>
            <a:off x="5479920" y="2271600"/>
            <a:ext cx="3959280" cy="3090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809880"/>
            <a:ext cx="1067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87560" y="5403960"/>
            <a:ext cx="3836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Jitter Transf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56280" y="5369040"/>
            <a:ext cx="3836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Power Noise Sen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0200" y="1479600"/>
            <a:ext cx="960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MS PGothic"/>
              </a:rPr>
              <a:t>PLL characteristics are derived by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7200" y="5945040"/>
            <a:ext cx="9604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MS PGothic"/>
              </a:rPr>
              <a:t>The measurement environment is the IBM Serdes, supporting 2.0Gbps~3.2Gb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JTF and PNS Applic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99840" y="1552680"/>
            <a:ext cx="9604440" cy="52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When jitter transfer function is known, jitter introduced from input clock could be calculat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Jitter_out(f) = transfunction(f)*jitter_clock_in(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When power noise sensitivity is known, jitter introduced from power noise could be calculat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Jitter_out(f) = powersensitivity(f)*power_noise(f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ccording to the description above, users could analyze the output jitter introduced by reference clock jitter and power noise, and optimize the power of PL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t is time for us to consider the PLL model in the SI analy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Suggestions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99840" y="1552320"/>
            <a:ext cx="96044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Users will feel more convenient, if AMI model could provide the following featur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ome keywords of eye mask specification, such as eye height and width, which is used to estimate simulation results, should be provided in the AMI model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hecklist for AMI model is necessary to guarantee AMI model quality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Adding the jitter transfer function and power noise sensitivity in AMI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Outline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560" y="1552680"/>
            <a:ext cx="59040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AMI Model in Serial Link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宋体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宋体"/>
              </a:rPr>
              <a:t>Serial Link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宋体"/>
              </a:rPr>
              <a:t>Experiencing AMI Sim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3333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  <a:ea typeface="宋体"/>
              </a:rPr>
              <a:t>Highlights and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宋体"/>
              </a:rPr>
              <a:t>PLL Model and A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宋体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  <a:ea typeface="宋体"/>
              </a:rPr>
              <a:t>JTF and P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Background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9840" y="1552320"/>
            <a:ext cx="9459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Generally, the development of serial link SI simulation is left behind the Serdes developm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t is difficult to acquire the chip model for SI simulation. For data rate of 6Gbps</a:t>
            </a:r>
            <a:r>
              <a:rPr b="0" lang="zh-CN" sz="1800" spc="-1" strike="noStrike">
                <a:solidFill>
                  <a:srgbClr val="3333ff"/>
                </a:solidFill>
                <a:latin typeface="Arial"/>
              </a:rPr>
              <a:t>＋，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rdes encrypted Hspice Model is not availabl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ven with some private simulation tools and models from chip vendors, a high confident result is difficult to get through simulation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Now, evaluating the serial link system through measurement is normally used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However only measurement is not enough, and simulation is still an important way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BIS 5.0 was ratified at 29th August, 2008, which provides users a good solution for serial link simula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BIS committee makes a great progress on Serdes model and serial link simulation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Background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5400" y="1407960"/>
            <a:ext cx="90741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44880" indent="-3448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IBIS-AMI Mo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Constructing sub-components in transmitter with AMI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The channel is characterized with impulse respon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Constructing sub-components in the receivers with AMI model, including CD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880" indent="-344880">
              <a:lnSpc>
                <a:spcPct val="14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Providing a process on how to use AMI mod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58840" y="4000680"/>
            <a:ext cx="2981520" cy="2514600"/>
          </a:xfrm>
          <a:custGeom>
            <a:avLst/>
            <a:gdLst/>
            <a:ahLst/>
            <a:rect l="l" t="t" r="r" b="b"/>
            <a:pathLst>
              <a:path w="2019" h="2174">
                <a:moveTo>
                  <a:pt x="26" y="2174"/>
                </a:moveTo>
                <a:lnTo>
                  <a:pt x="2019" y="2174"/>
                </a:lnTo>
                <a:lnTo>
                  <a:pt x="2019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64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551560" y="4000680"/>
            <a:ext cx="3913200" cy="2514600"/>
          </a:xfrm>
          <a:custGeom>
            <a:avLst/>
            <a:gdLst/>
            <a:ahLst/>
            <a:rect l="l" t="t" r="r" b="b"/>
            <a:pathLst>
              <a:path w="2019" h="2174">
                <a:moveTo>
                  <a:pt x="26" y="2174"/>
                </a:moveTo>
                <a:lnTo>
                  <a:pt x="2019" y="2174"/>
                </a:lnTo>
                <a:lnTo>
                  <a:pt x="2019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648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3360" y="561348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33360" y="538488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33360" y="568944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33360" y="546084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33360" y="553716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3360" y="576576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33360" y="5842080"/>
            <a:ext cx="3812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1320" y="4533840"/>
            <a:ext cx="3892680" cy="1568520"/>
          </a:xfrm>
          <a:prstGeom prst="rect">
            <a:avLst/>
          </a:prstGeom>
          <a:solidFill>
            <a:srgbClr val="33cc33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450280" y="5484960"/>
            <a:ext cx="174600" cy="658800"/>
          </a:xfrm>
          <a:custGeom>
            <a:avLst/>
            <a:gdLst/>
            <a:ahLst/>
            <a:rect l="l" t="t" r="r" b="b"/>
            <a:pathLst>
              <a:path w="187" h="434">
                <a:moveTo>
                  <a:pt x="187" y="0"/>
                </a:moveTo>
                <a:lnTo>
                  <a:pt x="103" y="0"/>
                </a:lnTo>
                <a:lnTo>
                  <a:pt x="103" y="434"/>
                </a:lnTo>
                <a:lnTo>
                  <a:pt x="0" y="434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780320" y="5297400"/>
            <a:ext cx="378000" cy="854280"/>
          </a:xfrm>
          <a:custGeom>
            <a:avLst/>
            <a:gdLst/>
            <a:ahLst/>
            <a:rect l="l" t="t" r="r" b="b"/>
            <a:pathLst>
              <a:path w="91" h="563">
                <a:moveTo>
                  <a:pt x="0" y="0"/>
                </a:moveTo>
                <a:lnTo>
                  <a:pt x="0" y="563"/>
                </a:lnTo>
                <a:lnTo>
                  <a:pt x="91" y="563"/>
                </a:ln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33360" y="5308560"/>
            <a:ext cx="81536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17800" y="5013360"/>
            <a:ext cx="614160" cy="61920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ransmit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0080" y="5022720"/>
            <a:ext cx="777960" cy="6192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ackag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ter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5560" y="5022720"/>
            <a:ext cx="1368360" cy="6192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Syste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848720" y="5862600"/>
            <a:ext cx="583920" cy="40320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C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624880" y="5114880"/>
            <a:ext cx="623880" cy="48096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e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 rot="5400000">
            <a:off x="1017720" y="5189400"/>
            <a:ext cx="1436400" cy="376560"/>
          </a:xfrm>
          <a:custGeom>
            <a:avLst/>
            <a:gdLst>
              <a:gd name="textAreaLeft" fmla="*/ 315720 w 1436400"/>
              <a:gd name="textAreaRight" fmla="*/ 1120680 w 1436400"/>
              <a:gd name="textAreaTop" fmla="*/ 82800 h 376560"/>
              <a:gd name="textAreaBottom" fmla="*/ 293760 h 37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rial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5560" y="5022720"/>
            <a:ext cx="779400" cy="619200"/>
          </a:xfrm>
          <a:prstGeom prst="rect">
            <a:avLst/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Packag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Inter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954840" y="5045040"/>
            <a:ext cx="615960" cy="522360"/>
          </a:xfrm>
          <a:prstGeom prst="rect">
            <a:avLst/>
          </a:prstGeom>
          <a:solidFill>
            <a:srgbClr val="cc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Receiv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Equal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6397920" y="5148720"/>
            <a:ext cx="441360" cy="29700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2871720" y="5178600"/>
            <a:ext cx="441360" cy="25704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79600" y="407664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27920" y="4076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82960" y="6664320"/>
            <a:ext cx="55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Arial"/>
              </a:rPr>
              <a:t>Picture reference from “SerDes Modeling and IBIS” at DAC_2007_IBIS_Sum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00200" y="1552320"/>
            <a:ext cx="6651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Simulation setu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IBM AMI model includes 3-tap Tx FFE, 5-tap Rx DFE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DR behavior model embedded in RX model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11.0Gbps data rate and one million bits simulat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x and Rx package models includ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hree different backplane channels used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451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hree data patterns: CJPAT, PRBS 7, PRBS 3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74840" y="4576680"/>
            <a:ext cx="755964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99840" y="1552320"/>
            <a:ext cx="77310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hannel descrip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hannel 1 : 10.72inch FR4 + 25inch Rogers Backplane + 2 conn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hannel 2 : 23inch N4000+20inch FR4 + 2 connec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451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hannel 3 : 30inch FR4 + 2 connecto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24280" y="4216320"/>
            <a:ext cx="2806560" cy="1609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48640" y="4257720"/>
            <a:ext cx="2734920" cy="156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871560" y="4216320"/>
            <a:ext cx="2735280" cy="15890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230480" y="5737320"/>
            <a:ext cx="216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Chann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55920" y="5738760"/>
            <a:ext cx="216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Chann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0" y="572760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  <a:ea typeface="宋体"/>
              </a:rPr>
              <a:t>Chann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00" y="1479600"/>
            <a:ext cx="4752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4000"/>
          </a:bodyPr>
          <a:p>
            <a:pPr marL="334080" indent="-33408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AMI Model Introduction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: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"hss11_cu08.dml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bisIOCe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deal_50term_pulldow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MacroMo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MacroType TDiffIO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NumberOfTerminals 8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SubCircuits “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hss11_cu08_rx_d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am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bmhssrx_103_win "E:\IBMSerdes\dll_lib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bis 1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ndfe 5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dfelim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0.5 0.25 0.125 0.125 0.125 )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d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0 0 0 0 0 )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4080" indent="-334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rotlin "E:\IBMSerdes\include_files\pr_fast.dat" ) ) 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95920" y="1479600"/>
            <a:ext cx="43117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hss11_cu08_tx_f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am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bmhsstx_104_win "E:\IBMSerdes\dll_lib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ibis 1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nffe 3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rffe 1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cffe 1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qffe 6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lf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0.25 1.0 0.5 ) ) ) 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560" y="3929040"/>
            <a:ext cx="23767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51200" y="2921040"/>
            <a:ext cx="165600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MI Rx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0" idx="6"/>
          </p:cNvCxnSpPr>
          <p:nvPr/>
        </p:nvCxnSpPr>
        <p:spPr>
          <a:xfrm flipV="1">
            <a:off x="3032280" y="3494880"/>
            <a:ext cx="707040" cy="794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5622840" y="1479600"/>
            <a:ext cx="2017800" cy="86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59920" y="1552680"/>
            <a:ext cx="1512720" cy="57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MI Tx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3" idx="6"/>
            <a:endCxn id="144" idx="1"/>
          </p:cNvCxnSpPr>
          <p:nvPr/>
        </p:nvCxnSpPr>
        <p:spPr>
          <a:xfrm flipV="1">
            <a:off x="7640640" y="1840680"/>
            <a:ext cx="720000" cy="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5983200" y="594504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This is the IBM Serdes AMI model supporting 11Gb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9840" y="1984320"/>
            <a:ext cx="4203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***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Analysis Report******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e Sep 02 09:45:44 200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Input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t period                  = 9.09090909091e-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f drivers               =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f taps                  = 1 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p optimization            = N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mulus configuration      = poly31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coding              = No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 Directory              =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:IBMSerdes/result_channel/char/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 Control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f bits simulated        = 100000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 Delay           = 4.4e-00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ye Measurement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ye height                  = 91 mV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UI at max height        = 0.48 U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Eye jitter                  = 0.36 U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479920" y="1984320"/>
            <a:ext cx="4176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BER Repor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logBER     U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9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-1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0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Simulation Input Parameter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Simulation Type  =  Time Domain Channel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Random Jitter = 0.44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Periodic Jit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Magnitude = 0.05 U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Freq (cycles per ui) = 0.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Frequency Offset = 0 p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Duty Cycle Distortion = 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560" y="1407960"/>
            <a:ext cx="251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71000"/>
          </a:bodyPr>
          <a:p>
            <a:pPr marL="252360" indent="-2523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Report S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79920" y="2487600"/>
            <a:ext cx="1871640" cy="20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7920" y="1913040"/>
            <a:ext cx="187164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ye wid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under differ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bit error rat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7"/>
            <a:endCxn id="152" idx="1"/>
          </p:cNvCxnSpPr>
          <p:nvPr/>
        </p:nvCxnSpPr>
        <p:spPr>
          <a:xfrm flipV="1">
            <a:off x="7076880" y="2344320"/>
            <a:ext cx="851400" cy="450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727200" y="5872320"/>
            <a:ext cx="2952720" cy="1441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98840" y="5584680"/>
            <a:ext cx="144144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ye 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/>
          <p:nvPr/>
        </p:nvCxnSpPr>
        <p:spPr>
          <a:xfrm flipV="1">
            <a:off x="3606840" y="6087600"/>
            <a:ext cx="838800" cy="306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9840" y="320760"/>
            <a:ext cx="9604440" cy="13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00"/>
                </a:solidFill>
                <a:latin typeface="Arial"/>
              </a:rPr>
              <a:t>Experiencing AMI Simulation </a:t>
            </a:r>
            <a:endParaRPr b="1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39920" y="47592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Ey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35920" y="4753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Batht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479920" y="1951200"/>
            <a:ext cx="4392720" cy="2808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98480" y="1913040"/>
            <a:ext cx="4319640" cy="2846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942840" y="5224320"/>
            <a:ext cx="79218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CJPAT-- bl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PRBS 7-- cy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PRBS 31–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宋体"/>
              </a:rPr>
              <a:t>Cases of channel 2 and channel 3 are listed in the following page&gt;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27200" y="16239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80280" y="16081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nel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4:02:18Z</dcterms:created>
  <dc:creator>Interbrand</dc:creator>
  <dc:description/>
  <dc:language>en-US</dc:language>
  <cp:lastModifiedBy>Bob Ross</cp:lastModifiedBy>
  <dcterms:modified xsi:type="dcterms:W3CDTF">2008-10-27T19:38:11Z</dcterms:modified>
  <cp:revision>277</cp:revision>
  <dc:subject/>
  <dc:title>PowerPoint Presentation</dc:title>
</cp:coreProperties>
</file>