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6.wmf" ContentType="image/x-wmf"/>
  <Override PartName="/ppt/media/image12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F50F-208E-4083-8C92-7EF133D42B59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371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3FF4-3FDE-47B6-BCDD-26E08432602D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412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A161-5C88-482F-A2F1-798486ABDAA7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41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8C9E-1174-4997-BF7B-DEA962245463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horiz4b-merge-2c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162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550F-5AC8-40E5-98DD-70845B64B200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F1B1-26AB-4C83-8027-641941FC9E20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D987-9641-40AA-B706-C29B506D5CC9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9F99-0E3F-4568-B50D-37FF8B313A67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8E14-43D7-42A0-B0C9-5A68CBBE04C2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D61D-1174-43D1-98D5-43B949774DD1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6858-2E7D-4346-95F5-5C61359F29D3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1285920" y="2286000"/>
            <a:ext cx="6734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Study of Solving IBIS Single V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1285920" y="3429000"/>
            <a:ext cx="635796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Arial"/>
                <a:ea typeface="宋体"/>
              </a:rPr>
              <a:t>Xuefeng C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  <a:ea typeface="宋体"/>
              </a:rPr>
              <a:t>(xfchen@synopsys.c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Arial"/>
                <a:ea typeface="宋体"/>
              </a:rPr>
              <a:t>SYNOPS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Arial"/>
                <a:ea typeface="宋体"/>
              </a:rPr>
              <a:t>Asian IBIS Summit Mee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Arial"/>
                <a:ea typeface="宋体"/>
              </a:rPr>
              <a:t>Shanghai,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Arial"/>
                <a:ea typeface="宋体"/>
              </a:rPr>
              <a:t>November 11,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04920" y="0"/>
            <a:ext cx="744552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olution by Method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KuKd1.jpg"/>
          <p:cNvPicPr/>
          <p:nvPr/>
        </p:nvPicPr>
        <p:blipFill>
          <a:blip r:embed="rId1"/>
          <a:stretch/>
        </p:blipFill>
        <p:spPr>
          <a:xfrm>
            <a:off x="500040" y="1071720"/>
            <a:ext cx="8170920" cy="4786200"/>
          </a:xfrm>
          <a:prstGeom prst="rect">
            <a:avLst/>
          </a:prstGeom>
          <a:ln w="0">
            <a:noFill/>
          </a:ln>
        </p:spPr>
      </p:pic>
      <p:sp>
        <p:nvSpPr>
          <p:cNvPr id="513" name="TextBox 13"/>
          <p:cNvSpPr/>
          <p:nvPr/>
        </p:nvSpPr>
        <p:spPr>
          <a:xfrm>
            <a:off x="1857240" y="1857240"/>
            <a:ext cx="33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Kd is constructed fo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4"/>
          <p:cNvSpPr/>
          <p:nvPr/>
        </p:nvSpPr>
        <p:spPr>
          <a:xfrm>
            <a:off x="5143680" y="1857240"/>
            <a:ext cx="33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Ku is constructed for f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Straight Arrow Connector 16"/>
          <p:cNvCxnSpPr/>
          <p:nvPr/>
        </p:nvCxnSpPr>
        <p:spPr>
          <a:xfrm flipH="1">
            <a:off x="2142360" y="2071440"/>
            <a:ext cx="47052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6" name="Straight Arrow Connector 20"/>
          <p:cNvCxnSpPr/>
          <p:nvPr/>
        </p:nvCxnSpPr>
        <p:spPr>
          <a:xfrm flipH="1">
            <a:off x="5357160" y="2071800"/>
            <a:ext cx="53892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7" name="TextBox 14"/>
          <p:cNvSpPr/>
          <p:nvPr/>
        </p:nvSpPr>
        <p:spPr>
          <a:xfrm>
            <a:off x="1071720" y="2131920"/>
            <a:ext cx="5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宋体"/>
              </a:rPr>
              <a:t>K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5"/>
          <p:cNvSpPr/>
          <p:nvPr/>
        </p:nvSpPr>
        <p:spPr>
          <a:xfrm>
            <a:off x="1111320" y="407196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  <a:ea typeface="宋体"/>
              </a:rPr>
              <a:t>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420840" y="243000"/>
            <a:ext cx="85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ffer Output by Method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 Loaded In Series with R and V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output1.jpg"/>
          <p:cNvPicPr/>
          <p:nvPr/>
        </p:nvPicPr>
        <p:blipFill>
          <a:blip r:embed="rId1"/>
          <a:stretch/>
        </p:blipFill>
        <p:spPr>
          <a:xfrm>
            <a:off x="609480" y="1417680"/>
            <a:ext cx="8026560" cy="45910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8"/>
          <p:cNvSpPr/>
          <p:nvPr/>
        </p:nvSpPr>
        <p:spPr>
          <a:xfrm>
            <a:off x="5819760" y="1843200"/>
            <a:ext cx="219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load = 25o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3324240" y="243036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0.9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0"/>
          <p:cNvSpPr/>
          <p:nvPr/>
        </p:nvSpPr>
        <p:spPr>
          <a:xfrm>
            <a:off x="3324240" y="213372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1.3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1"/>
          <p:cNvSpPr/>
          <p:nvPr/>
        </p:nvSpPr>
        <p:spPr>
          <a:xfrm>
            <a:off x="3324240" y="317196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0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2"/>
          <p:cNvSpPr/>
          <p:nvPr/>
        </p:nvSpPr>
        <p:spPr>
          <a:xfrm>
            <a:off x="3324240" y="275760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0.4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3324240" y="182088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1.8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4"/>
          <p:cNvSpPr/>
          <p:nvPr/>
        </p:nvSpPr>
        <p:spPr>
          <a:xfrm>
            <a:off x="1168560" y="5103720"/>
            <a:ext cx="2979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060"/>
                </a:solidFill>
                <a:latin typeface="Arial"/>
                <a:ea typeface="宋体"/>
              </a:rPr>
              <a:t>V(out_2vt) : output by solving two VT wave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cc00"/>
                </a:solidFill>
                <a:latin typeface="Arial"/>
                <a:ea typeface="宋体"/>
              </a:rPr>
              <a:t>V(out_1v): output by solving single VT wavefor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420840" y="243000"/>
            <a:ext cx="85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ffer Output by Method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 Loaded In Series with R and V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output2.jpg"/>
          <p:cNvPicPr/>
          <p:nvPr/>
        </p:nvPicPr>
        <p:blipFill>
          <a:blip r:embed="rId1"/>
          <a:stretch/>
        </p:blipFill>
        <p:spPr>
          <a:xfrm>
            <a:off x="668160" y="1403280"/>
            <a:ext cx="7880400" cy="4618080"/>
          </a:xfrm>
          <a:prstGeom prst="rect">
            <a:avLst/>
          </a:prstGeom>
          <a:ln w="0">
            <a:noFill/>
          </a:ln>
        </p:spPr>
      </p:pic>
      <p:sp>
        <p:nvSpPr>
          <p:cNvPr id="530" name="TextBox 4"/>
          <p:cNvSpPr/>
          <p:nvPr/>
        </p:nvSpPr>
        <p:spPr>
          <a:xfrm>
            <a:off x="5732640" y="1814400"/>
            <a:ext cx="219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load = 5o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6"/>
          <p:cNvSpPr/>
          <p:nvPr/>
        </p:nvSpPr>
        <p:spPr>
          <a:xfrm>
            <a:off x="3149640" y="293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0.9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7"/>
          <p:cNvSpPr/>
          <p:nvPr/>
        </p:nvSpPr>
        <p:spPr>
          <a:xfrm>
            <a:off x="3149640" y="236520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1.3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8"/>
          <p:cNvSpPr/>
          <p:nvPr/>
        </p:nvSpPr>
        <p:spPr>
          <a:xfrm>
            <a:off x="3178080" y="418788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0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9"/>
          <p:cNvSpPr/>
          <p:nvPr/>
        </p:nvSpPr>
        <p:spPr>
          <a:xfrm>
            <a:off x="3149640" y="355608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0.4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3149640" y="182088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1.8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4"/>
          <p:cNvSpPr/>
          <p:nvPr/>
        </p:nvSpPr>
        <p:spPr>
          <a:xfrm>
            <a:off x="1224000" y="5114880"/>
            <a:ext cx="2979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060"/>
                </a:solidFill>
                <a:latin typeface="Arial"/>
                <a:ea typeface="宋体"/>
              </a:rPr>
              <a:t>V(out_2vt) : output by solving two VT wave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cc00"/>
                </a:solidFill>
                <a:latin typeface="Arial"/>
                <a:ea typeface="宋体"/>
              </a:rPr>
              <a:t>V(out_1v): output by solving single VT wavefor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420840" y="243000"/>
            <a:ext cx="85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ffer Output by Method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 Loaded In Series with R and V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" descr="output3.jpg"/>
          <p:cNvPicPr/>
          <p:nvPr/>
        </p:nvPicPr>
        <p:blipFill>
          <a:blip r:embed="rId1"/>
          <a:stretch/>
        </p:blipFill>
        <p:spPr>
          <a:xfrm>
            <a:off x="696960" y="1316160"/>
            <a:ext cx="7939080" cy="4651200"/>
          </a:xfrm>
          <a:prstGeom prst="rect">
            <a:avLst/>
          </a:prstGeom>
          <a:ln w="0">
            <a:noFill/>
          </a:ln>
        </p:spPr>
      </p:pic>
      <p:sp>
        <p:nvSpPr>
          <p:cNvPr id="539" name="TextBox 5"/>
          <p:cNvSpPr/>
          <p:nvPr/>
        </p:nvSpPr>
        <p:spPr>
          <a:xfrm>
            <a:off x="5850000" y="1770120"/>
            <a:ext cx="21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load = 45o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6"/>
          <p:cNvSpPr/>
          <p:nvPr/>
        </p:nvSpPr>
        <p:spPr>
          <a:xfrm>
            <a:off x="3121200" y="217008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0.9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7"/>
          <p:cNvSpPr/>
          <p:nvPr/>
        </p:nvSpPr>
        <p:spPr>
          <a:xfrm>
            <a:off x="3121200" y="198900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1.3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8"/>
          <p:cNvSpPr/>
          <p:nvPr/>
        </p:nvSpPr>
        <p:spPr>
          <a:xfrm>
            <a:off x="3121200" y="261936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0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9"/>
          <p:cNvSpPr/>
          <p:nvPr/>
        </p:nvSpPr>
        <p:spPr>
          <a:xfrm>
            <a:off x="3121200" y="237960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0.4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0"/>
          <p:cNvSpPr/>
          <p:nvPr/>
        </p:nvSpPr>
        <p:spPr>
          <a:xfrm>
            <a:off x="3121200" y="174960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1.8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4"/>
          <p:cNvSpPr/>
          <p:nvPr/>
        </p:nvSpPr>
        <p:spPr>
          <a:xfrm>
            <a:off x="1235160" y="5059440"/>
            <a:ext cx="2979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060"/>
                </a:solidFill>
                <a:latin typeface="Arial"/>
                <a:ea typeface="宋体"/>
              </a:rPr>
              <a:t>V(out_2vt) : output by solving two VT wave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cc00"/>
                </a:solidFill>
                <a:latin typeface="Arial"/>
                <a:ea typeface="宋体"/>
              </a:rPr>
              <a:t>V(out_1v): output by solving single VT wavefor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3"/>
          <p:cNvSpPr/>
          <p:nvPr/>
        </p:nvSpPr>
        <p:spPr>
          <a:xfrm>
            <a:off x="558720" y="2038320"/>
            <a:ext cx="721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simple constraint is imposed, with formula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u + Kd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617400" y="3589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wo Methods to Solve Single V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 Method 2: Impose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085840" y="212760"/>
            <a:ext cx="477216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olution by Method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5" descr="KuKd1_sum.jpg"/>
          <p:cNvPicPr/>
          <p:nvPr/>
        </p:nvPicPr>
        <p:blipFill>
          <a:blip r:embed="rId1"/>
          <a:stretch/>
        </p:blipFill>
        <p:spPr>
          <a:xfrm>
            <a:off x="571680" y="1214280"/>
            <a:ext cx="8048520" cy="4714920"/>
          </a:xfrm>
          <a:prstGeom prst="rect">
            <a:avLst/>
          </a:prstGeom>
          <a:ln w="0">
            <a:noFill/>
          </a:ln>
        </p:spPr>
      </p:pic>
      <p:sp>
        <p:nvSpPr>
          <p:cNvPr id="550" name="TextBox 7"/>
          <p:cNvSpPr/>
          <p:nvPr/>
        </p:nvSpPr>
        <p:spPr>
          <a:xfrm>
            <a:off x="1177920" y="4071960"/>
            <a:ext cx="5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  <a:ea typeface="宋体"/>
              </a:rPr>
              <a:t>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8"/>
          <p:cNvSpPr/>
          <p:nvPr/>
        </p:nvSpPr>
        <p:spPr>
          <a:xfrm>
            <a:off x="1143000" y="220176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宋体"/>
              </a:rPr>
              <a:t>K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output1_sum.jpg"/>
          <p:cNvPicPr/>
          <p:nvPr/>
        </p:nvPicPr>
        <p:blipFill>
          <a:blip r:embed="rId1"/>
          <a:stretch/>
        </p:blipFill>
        <p:spPr>
          <a:xfrm>
            <a:off x="550800" y="1346040"/>
            <a:ext cx="8085240" cy="473580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2"/>
          <p:cNvSpPr/>
          <p:nvPr/>
        </p:nvSpPr>
        <p:spPr>
          <a:xfrm>
            <a:off x="420840" y="243000"/>
            <a:ext cx="85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ffer Output by Method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 Loaded In Series with R and V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4"/>
          <p:cNvSpPr/>
          <p:nvPr/>
        </p:nvSpPr>
        <p:spPr>
          <a:xfrm>
            <a:off x="5819760" y="1843200"/>
            <a:ext cx="219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load = 25o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5"/>
          <p:cNvSpPr/>
          <p:nvPr/>
        </p:nvSpPr>
        <p:spPr>
          <a:xfrm>
            <a:off x="3324240" y="243036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0.9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3324240" y="213372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1.3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7"/>
          <p:cNvSpPr/>
          <p:nvPr/>
        </p:nvSpPr>
        <p:spPr>
          <a:xfrm>
            <a:off x="3324240" y="317196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0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3324240" y="275760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0.4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9"/>
          <p:cNvSpPr/>
          <p:nvPr/>
        </p:nvSpPr>
        <p:spPr>
          <a:xfrm>
            <a:off x="3324240" y="182088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1.8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Rectangle 9" descr=""/>
          <p:cNvPicPr/>
          <p:nvPr/>
        </p:nvPicPr>
        <p:blipFill>
          <a:blip r:embed="rId2"/>
          <a:stretch/>
        </p:blipFill>
        <p:spPr>
          <a:xfrm>
            <a:off x="4383000" y="4687920"/>
            <a:ext cx="3797280" cy="682560"/>
          </a:xfrm>
          <a:prstGeom prst="rect">
            <a:avLst/>
          </a:prstGeom>
          <a:ln w="0">
            <a:noFill/>
          </a:ln>
        </p:spPr>
      </p:pic>
      <p:sp>
        <p:nvSpPr>
          <p:cNvPr id="561" name="TextBox 14"/>
          <p:cNvSpPr/>
          <p:nvPr/>
        </p:nvSpPr>
        <p:spPr>
          <a:xfrm>
            <a:off x="1146240" y="5114880"/>
            <a:ext cx="2979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060"/>
                </a:solidFill>
                <a:latin typeface="Arial"/>
                <a:ea typeface="宋体"/>
              </a:rPr>
              <a:t>V(out_2vt) : output by solving two VT wave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cc00"/>
                </a:solidFill>
                <a:latin typeface="Arial"/>
                <a:ea typeface="宋体"/>
              </a:rPr>
              <a:t>V(out_1v): output by solving single VT wavefor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output2_sum.jpg"/>
          <p:cNvPicPr/>
          <p:nvPr/>
        </p:nvPicPr>
        <p:blipFill>
          <a:blip r:embed="rId1"/>
          <a:stretch/>
        </p:blipFill>
        <p:spPr>
          <a:xfrm>
            <a:off x="623880" y="1360440"/>
            <a:ext cx="7997760" cy="468468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2"/>
          <p:cNvSpPr/>
          <p:nvPr/>
        </p:nvSpPr>
        <p:spPr>
          <a:xfrm>
            <a:off x="420840" y="243000"/>
            <a:ext cx="85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ffer Output by Method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 Loaded In Series with R and V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5732640" y="1814400"/>
            <a:ext cx="219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load = 5o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6"/>
          <p:cNvSpPr/>
          <p:nvPr/>
        </p:nvSpPr>
        <p:spPr>
          <a:xfrm>
            <a:off x="3149640" y="293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0.9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7"/>
          <p:cNvSpPr/>
          <p:nvPr/>
        </p:nvSpPr>
        <p:spPr>
          <a:xfrm>
            <a:off x="3149640" y="236520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1.3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8"/>
          <p:cNvSpPr/>
          <p:nvPr/>
        </p:nvSpPr>
        <p:spPr>
          <a:xfrm>
            <a:off x="3178080" y="418788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0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9"/>
          <p:cNvSpPr/>
          <p:nvPr/>
        </p:nvSpPr>
        <p:spPr>
          <a:xfrm>
            <a:off x="3149640" y="355608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0.4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0"/>
          <p:cNvSpPr/>
          <p:nvPr/>
        </p:nvSpPr>
        <p:spPr>
          <a:xfrm>
            <a:off x="3149640" y="182088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1.8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Rectangle 9" descr=""/>
          <p:cNvPicPr/>
          <p:nvPr/>
        </p:nvPicPr>
        <p:blipFill>
          <a:blip r:embed="rId2"/>
          <a:stretch/>
        </p:blipFill>
        <p:spPr>
          <a:xfrm>
            <a:off x="4383000" y="4651200"/>
            <a:ext cx="3797280" cy="682920"/>
          </a:xfrm>
          <a:prstGeom prst="rect">
            <a:avLst/>
          </a:prstGeom>
          <a:ln w="0">
            <a:noFill/>
          </a:ln>
        </p:spPr>
      </p:pic>
      <p:sp>
        <p:nvSpPr>
          <p:cNvPr id="571" name="TextBox 14"/>
          <p:cNvSpPr/>
          <p:nvPr/>
        </p:nvSpPr>
        <p:spPr>
          <a:xfrm>
            <a:off x="1146240" y="5114880"/>
            <a:ext cx="2979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060"/>
                </a:solidFill>
                <a:latin typeface="Arial"/>
                <a:ea typeface="宋体"/>
              </a:rPr>
              <a:t>V(out_2vt) : output by solving two VT wave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cc00"/>
                </a:solidFill>
                <a:latin typeface="Arial"/>
                <a:ea typeface="宋体"/>
              </a:rPr>
              <a:t>V(out_1v): output by solving single VT wavefor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output3_sum.jpg"/>
          <p:cNvPicPr/>
          <p:nvPr/>
        </p:nvPicPr>
        <p:blipFill>
          <a:blip r:embed="rId1"/>
          <a:stretch/>
        </p:blipFill>
        <p:spPr>
          <a:xfrm>
            <a:off x="652320" y="1306440"/>
            <a:ext cx="8026560" cy="470052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2"/>
          <p:cNvSpPr/>
          <p:nvPr/>
        </p:nvSpPr>
        <p:spPr>
          <a:xfrm>
            <a:off x="420840" y="243000"/>
            <a:ext cx="85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ffer Output by Method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 Loaded In Series with R and V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5"/>
          <p:cNvSpPr/>
          <p:nvPr/>
        </p:nvSpPr>
        <p:spPr>
          <a:xfrm>
            <a:off x="5850000" y="1770120"/>
            <a:ext cx="21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load = 45o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6"/>
          <p:cNvSpPr/>
          <p:nvPr/>
        </p:nvSpPr>
        <p:spPr>
          <a:xfrm>
            <a:off x="3121200" y="217008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0.9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3121200" y="198900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1.3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8"/>
          <p:cNvSpPr/>
          <p:nvPr/>
        </p:nvSpPr>
        <p:spPr>
          <a:xfrm>
            <a:off x="3121200" y="261936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0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9"/>
          <p:cNvSpPr/>
          <p:nvPr/>
        </p:nvSpPr>
        <p:spPr>
          <a:xfrm>
            <a:off x="3121200" y="237960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0.4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0"/>
          <p:cNvSpPr/>
          <p:nvPr/>
        </p:nvSpPr>
        <p:spPr>
          <a:xfrm>
            <a:off x="3121200" y="174960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load = 1.8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Rectangle 9" descr=""/>
          <p:cNvPicPr/>
          <p:nvPr/>
        </p:nvPicPr>
        <p:blipFill>
          <a:blip r:embed="rId2"/>
          <a:stretch/>
        </p:blipFill>
        <p:spPr>
          <a:xfrm>
            <a:off x="4383000" y="4664160"/>
            <a:ext cx="3797280" cy="682560"/>
          </a:xfrm>
          <a:prstGeom prst="rect">
            <a:avLst/>
          </a:prstGeom>
          <a:ln w="0">
            <a:noFill/>
          </a:ln>
        </p:spPr>
      </p:pic>
      <p:sp>
        <p:nvSpPr>
          <p:cNvPr id="581" name="TextBox 14"/>
          <p:cNvSpPr/>
          <p:nvPr/>
        </p:nvSpPr>
        <p:spPr>
          <a:xfrm>
            <a:off x="1146240" y="5114880"/>
            <a:ext cx="2979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060"/>
                </a:solidFill>
                <a:latin typeface="Arial"/>
                <a:ea typeface="宋体"/>
              </a:rPr>
              <a:t>V(out_2vt) : output by solving two VT wave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cc00"/>
                </a:solidFill>
                <a:latin typeface="Arial"/>
                <a:ea typeface="宋体"/>
              </a:rPr>
              <a:t>V(out_1v): output by solving single VT wavefor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371600" y="20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mparison of Two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801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periential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mpose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1306440" y="1935000"/>
            <a:ext cx="69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tter accuracy if constructed PWL is tuned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ard to find a general well-tuned PWL for all IBIS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6"/>
          <p:cNvSpPr/>
          <p:nvPr/>
        </p:nvSpPr>
        <p:spPr>
          <a:xfrm>
            <a:off x="1292400" y="2984400"/>
            <a:ext cx="616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orse Accuracy especially when loading is far way from R_fixture/V_fixture of VT waveform in mod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t’s a general method and easy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801720" y="4208400"/>
            <a:ext cx="797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  <a:ea typeface="宋体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  <a:ea typeface="宋体"/>
              </a:rPr>
              <a:t>From testing, more cases show better accuracy with method 1, even with fixed percent values of delay and ramp w.r.t total transi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3036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598400" y="1585800"/>
            <a:ext cx="700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roduce of VT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y Two Methods to Solve Single V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7aba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897aba"/>
                </a:solidFill>
                <a:latin typeface="Arial"/>
                <a:ea typeface="宋体"/>
              </a:rPr>
              <a:t>-   Method 1: Experiential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7aba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897aba"/>
                </a:solidFill>
                <a:latin typeface="Arial"/>
                <a:ea typeface="宋体"/>
              </a:rPr>
              <a:t>-   Method 2: Impose Constra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7aba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897aba"/>
                </a:solidFill>
                <a:latin typeface="Arial"/>
                <a:ea typeface="宋体"/>
              </a:rPr>
              <a:t>-   Comparison of Two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3036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598400" y="1585800"/>
            <a:ext cx="700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bfbfbf"/>
                </a:solidFill>
                <a:latin typeface="Arial"/>
                <a:ea typeface="宋体"/>
              </a:rPr>
              <a:t>Introduce of VT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bfbfbf"/>
                </a:solidFill>
                <a:latin typeface="Arial"/>
                <a:ea typeface="宋体"/>
              </a:rPr>
              <a:t>Try Two Methods to Solve Single V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宋体"/>
              </a:rPr>
              <a:t>-   Method 1: Experiential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宋体"/>
              </a:rPr>
              <a:t>-   Method 2: Impose Constra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宋体"/>
              </a:rPr>
              <a:t>-   Comparison of Two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214280" y="1643040"/>
            <a:ext cx="6986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t’s not easy to find a general method to get accurate enough solution for all IBIS model with single VT wave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r more cases, Method 1(experiential way) with fixed percent of delay and ramp time can get better solution than Method 2(impose constra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ybe we can offer two tuning parameters for model extractor in IBIS model file in order to improve accuracy of Method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synopsys"/>
          <p:cNvPicPr/>
          <p:nvPr/>
        </p:nvPicPr>
        <p:blipFill>
          <a:blip r:embed="rId1"/>
          <a:stretch/>
        </p:blipFill>
        <p:spPr>
          <a:xfrm>
            <a:off x="2760840" y="2050920"/>
            <a:ext cx="3774960" cy="97488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3"/>
          <p:cNvSpPr/>
          <p:nvPr/>
        </p:nvSpPr>
        <p:spPr>
          <a:xfrm>
            <a:off x="2901600" y="314496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7aba"/>
                </a:solidFill>
                <a:latin typeface="Arial"/>
                <a:ea typeface="宋体"/>
              </a:rPr>
              <a:t>Predictable </a:t>
            </a:r>
            <a:r>
              <a:rPr b="0" lang="en-US" sz="2800" spc="-1" strike="noStrike">
                <a:solidFill>
                  <a:srgbClr val="432a72"/>
                </a:solidFill>
                <a:latin typeface="Arial"/>
                <a:ea typeface="宋体"/>
              </a:rPr>
              <a:t>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3036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598400" y="1585800"/>
            <a:ext cx="700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roduce of VT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bfbfbf"/>
                </a:solidFill>
                <a:latin typeface="Arial"/>
                <a:ea typeface="宋体"/>
              </a:rPr>
              <a:t>Try Two Methods to Solve Single V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宋体"/>
              </a:rPr>
              <a:t>-   Method 1: Experiential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宋体"/>
              </a:rPr>
              <a:t>-   Method 2: Impose Constra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宋体"/>
              </a:rPr>
              <a:t>-   Comparison of Two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bfbfbf"/>
                </a:solidFill>
                <a:latin typeface="Arial"/>
                <a:ea typeface="宋体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43160" y="344160"/>
            <a:ext cx="598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troduce VT Solv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2"/>
          <p:cNvSpPr/>
          <p:nvPr/>
        </p:nvSpPr>
        <p:spPr>
          <a:xfrm>
            <a:off x="1312920" y="1450800"/>
            <a:ext cx="662472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T waveforms occur firstly in IBIS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T waveforms describe transient characteristic of buffer, and be used to solving PU,PD scaling coefficients in pre-simulation compu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well known 2EQ/2UK algorithm is for two VT waveforms – one waveform for one linear equation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400" spc="-1" strike="noStrike">
                <a:solidFill>
                  <a:srgbClr val="897aba"/>
                </a:solidFill>
                <a:latin typeface="Arial"/>
                <a:ea typeface="宋体"/>
              </a:rPr>
              <a:t>Arpad Murany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 http://www.vhdl.org/pub/ibis/summits/mar06/muranyi1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897aba"/>
                </a:solidFill>
                <a:latin typeface="Arial"/>
                <a:ea typeface="宋体"/>
              </a:rPr>
              <a:t>Bob Ro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http://www.vhdl.org/pub/ibis/summits/jun03a/ros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oretically,  there is no solution for single VT – one linear equation, but two unknow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1154160" y="344520"/>
            <a:ext cx="687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troduce of VT Sol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 Recall 2EQ/2UK algorith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31"/>
          <p:cNvGrpSpPr/>
          <p:nvPr/>
        </p:nvGrpSpPr>
        <p:grpSpPr>
          <a:xfrm>
            <a:off x="2043000" y="1590840"/>
            <a:ext cx="4966920" cy="2602800"/>
            <a:chOff x="2043000" y="1590840"/>
            <a:chExt cx="4966920" cy="2602800"/>
          </a:xfrm>
        </p:grpSpPr>
        <p:pic>
          <p:nvPicPr>
            <p:cNvPr id="461" name="Picture 32" descr=""/>
            <p:cNvPicPr/>
            <p:nvPr/>
          </p:nvPicPr>
          <p:blipFill>
            <a:blip r:embed="rId1"/>
            <a:stretch/>
          </p:blipFill>
          <p:spPr>
            <a:xfrm>
              <a:off x="2043000" y="1757160"/>
              <a:ext cx="3218040" cy="231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33" descr=""/>
            <p:cNvPicPr/>
            <p:nvPr/>
          </p:nvPicPr>
          <p:blipFill>
            <a:blip r:embed="rId2"/>
            <a:stretch/>
          </p:blipFill>
          <p:spPr>
            <a:xfrm>
              <a:off x="5197680" y="2451960"/>
              <a:ext cx="1812240" cy="16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34" descr=""/>
            <p:cNvPicPr/>
            <p:nvPr/>
          </p:nvPicPr>
          <p:blipFill>
            <a:blip r:embed="rId3"/>
            <a:stretch/>
          </p:blipFill>
          <p:spPr>
            <a:xfrm>
              <a:off x="4833000" y="3907800"/>
              <a:ext cx="65484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35" descr=""/>
            <p:cNvPicPr/>
            <p:nvPr/>
          </p:nvPicPr>
          <p:blipFill>
            <a:blip r:embed="rId4"/>
            <a:stretch/>
          </p:blipFill>
          <p:spPr>
            <a:xfrm>
              <a:off x="4727160" y="1590840"/>
              <a:ext cx="1188360" cy="2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36" descr=""/>
            <p:cNvPicPr/>
            <p:nvPr/>
          </p:nvPicPr>
          <p:blipFill>
            <a:blip r:embed="rId5"/>
            <a:stretch/>
          </p:blipFill>
          <p:spPr>
            <a:xfrm>
              <a:off x="4797360" y="1826280"/>
              <a:ext cx="700920" cy="22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13"/>
          <p:cNvSpPr/>
          <p:nvPr/>
        </p:nvSpPr>
        <p:spPr>
          <a:xfrm>
            <a:off x="390600" y="4170240"/>
            <a:ext cx="85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0 = K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宋体"/>
              </a:rPr>
              <a:t>u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t) * I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宋体"/>
              </a:rPr>
              <a:t>u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V</a:t>
            </a:r>
            <a:r>
              <a:rPr b="1" lang="en-US" sz="1100" spc="-1" strike="noStrike">
                <a:solidFill>
                  <a:srgbClr val="7030a0"/>
                </a:solidFill>
                <a:latin typeface="Times New Roman"/>
                <a:ea typeface="宋体"/>
              </a:rPr>
              <a:t>wfm1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t)) + I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宋体"/>
              </a:rPr>
              <a:t>pc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V</a:t>
            </a:r>
            <a:r>
              <a:rPr b="1" lang="en-US" sz="1100" spc="-1" strike="noStrike">
                <a:solidFill>
                  <a:srgbClr val="7030a0"/>
                </a:solidFill>
                <a:latin typeface="Times New Roman"/>
                <a:ea typeface="宋体"/>
              </a:rPr>
              <a:t>wfm1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t)) - K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宋体"/>
              </a:rPr>
              <a:t>d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t) * I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宋体"/>
              </a:rPr>
              <a:t>d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V</a:t>
            </a:r>
            <a:r>
              <a:rPr b="1" lang="en-US" sz="1100" spc="-1" strike="noStrike">
                <a:solidFill>
                  <a:srgbClr val="7030a0"/>
                </a:solidFill>
                <a:latin typeface="Times New Roman"/>
                <a:ea typeface="宋体"/>
              </a:rPr>
              <a:t>wfm1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t)) - I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宋体"/>
              </a:rPr>
              <a:t>gc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V</a:t>
            </a:r>
            <a:r>
              <a:rPr b="1" lang="en-US" sz="1100" spc="-1" strike="noStrike">
                <a:solidFill>
                  <a:srgbClr val="7030a0"/>
                </a:solidFill>
                <a:latin typeface="Times New Roman"/>
                <a:ea typeface="宋体"/>
              </a:rPr>
              <a:t>wfm1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t)) - I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宋体"/>
              </a:rPr>
              <a:t>die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V</a:t>
            </a:r>
            <a:r>
              <a:rPr b="1" lang="en-US" sz="1100" spc="-1" strike="noStrike">
                <a:solidFill>
                  <a:srgbClr val="7030a0"/>
                </a:solidFill>
                <a:latin typeface="Times New Roman"/>
                <a:ea typeface="宋体"/>
              </a:rPr>
              <a:t>wfm1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0 = K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宋体"/>
              </a:rPr>
              <a:t>u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t) * I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宋体"/>
              </a:rPr>
              <a:t>u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V</a:t>
            </a:r>
            <a:r>
              <a:rPr b="1" lang="en-US" sz="1100" spc="-1" strike="noStrike">
                <a:solidFill>
                  <a:srgbClr val="7030a0"/>
                </a:solidFill>
                <a:latin typeface="Times New Roman"/>
                <a:ea typeface="宋体"/>
              </a:rPr>
              <a:t>wfm2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t)) + I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宋体"/>
              </a:rPr>
              <a:t>pc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V</a:t>
            </a:r>
            <a:r>
              <a:rPr b="1" lang="en-US" sz="1100" spc="-1" strike="noStrike">
                <a:solidFill>
                  <a:srgbClr val="7030a0"/>
                </a:solidFill>
                <a:latin typeface="Times New Roman"/>
                <a:ea typeface="宋体"/>
              </a:rPr>
              <a:t>wfm2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t)) - K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宋体"/>
              </a:rPr>
              <a:t>d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t) * I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宋体"/>
              </a:rPr>
              <a:t>d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V</a:t>
            </a:r>
            <a:r>
              <a:rPr b="1" lang="en-US" sz="1100" spc="-1" strike="noStrike">
                <a:solidFill>
                  <a:srgbClr val="7030a0"/>
                </a:solidFill>
                <a:latin typeface="Times New Roman"/>
                <a:ea typeface="宋体"/>
              </a:rPr>
              <a:t>wfm2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t)) - I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宋体"/>
              </a:rPr>
              <a:t>gc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V</a:t>
            </a:r>
            <a:r>
              <a:rPr b="1" lang="en-US" sz="1100" spc="-1" strike="noStrike">
                <a:solidFill>
                  <a:srgbClr val="7030a0"/>
                </a:solidFill>
                <a:latin typeface="Times New Roman"/>
                <a:ea typeface="宋体"/>
              </a:rPr>
              <a:t>wfm2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t)) - I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宋体"/>
              </a:rPr>
              <a:t>die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V</a:t>
            </a:r>
            <a:r>
              <a:rPr b="1" lang="en-US" sz="1100" spc="-1" strike="noStrike">
                <a:solidFill>
                  <a:srgbClr val="7030a0"/>
                </a:solidFill>
                <a:latin typeface="Times New Roman"/>
                <a:ea typeface="宋体"/>
              </a:rPr>
              <a:t>wfm2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(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3"/>
          <p:cNvSpPr/>
          <p:nvPr/>
        </p:nvSpPr>
        <p:spPr>
          <a:xfrm>
            <a:off x="522360" y="5705640"/>
            <a:ext cx="77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宋体"/>
              </a:rPr>
              <a:t>Solution of two unknowns : Ku(t) , Kd(t) i.e. scaling coefficients of PU, P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Down Arrow 15"/>
          <p:cNvSpPr/>
          <p:nvPr/>
        </p:nvSpPr>
        <p:spPr>
          <a:xfrm>
            <a:off x="1650960" y="4840200"/>
            <a:ext cx="166680" cy="868320"/>
          </a:xfrm>
          <a:prstGeom prst="downArrow">
            <a:avLst>
              <a:gd name="adj1" fmla="val 50000"/>
              <a:gd name="adj2" fmla="val 50093"/>
            </a:avLst>
          </a:prstGeom>
          <a:solidFill>
            <a:srgbClr val="897ab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3"/>
          <p:cNvSpPr/>
          <p:nvPr/>
        </p:nvSpPr>
        <p:spPr>
          <a:xfrm>
            <a:off x="1901880" y="4843440"/>
            <a:ext cx="589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宋体"/>
              </a:rPr>
              <a:t>Where Idie(t) can be obtained by VT waveform and *_fixt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宋体"/>
              </a:rPr>
              <a:t>  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宋体"/>
              </a:rPr>
              <a:t>(Refer 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  <a:ea typeface="宋体"/>
              </a:rPr>
              <a:t>http://www.vhdl.org/pub/ibis/summits/sep07a/chen.pdf 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宋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"/>
          <p:cNvSpPr/>
          <p:nvPr/>
        </p:nvSpPr>
        <p:spPr>
          <a:xfrm>
            <a:off x="1559880" y="428760"/>
            <a:ext cx="56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est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285920" y="5477040"/>
            <a:ext cx="675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  <a:ea typeface="宋体"/>
              </a:rPr>
              <a:t>-  For 2EQ/2UK algorithm, VT waveforms with V_fixture = 0v and 1.8v are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  <a:ea typeface="宋体"/>
              </a:rPr>
              <a:t>-  For Single VT waveform try,  the VT waveform with V_fixture=0.9v is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  <a:ea typeface="宋体"/>
              </a:rPr>
              <a:t>-  In later slides, the same model is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57120" y="1000080"/>
            <a:ext cx="4714920" cy="4286160"/>
          </a:xfrm>
          <a:prstGeom prst="rect">
            <a:avLst/>
          </a:prstGeom>
          <a:solidFill>
            <a:srgbClr val="d9d9d9"/>
          </a:solidFill>
          <a:ln w="9360">
            <a:solidFill>
              <a:srgbClr val="002060">
                <a:alpha val="9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357120" y="992160"/>
            <a:ext cx="485784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Model_type     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inl    = 0.65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inh    = 1.15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meas   = 0.90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ref    = 0.90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ref    = 0.000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Rref    = 25.000O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|                       typ             min             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_comp                  2.911pF         2.841pF         2.984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Voltage Range]         1.800V          1.700V          1.90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Temperature Range]     25.0            85.0    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|****************************************************************************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Pulldown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…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Pullup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GND Clamp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POWER Clamp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Ramp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R_load = 25.000O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|                 typ                     min                     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dV/dt_r     0.532V/152.000ps        0.441V/172.000ps        0.600V/138.000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dV/dt_f     0.532V/328.000ps        0.441V/372.000ps        0.600V/296.000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5286240" y="1000080"/>
            <a:ext cx="3500640" cy="4286160"/>
          </a:xfrm>
          <a:prstGeom prst="rect">
            <a:avLst/>
          </a:prstGeom>
          <a:solidFill>
            <a:srgbClr val="d9d9d9"/>
          </a:solidFill>
          <a:ln w="9360">
            <a:solidFill>
              <a:srgbClr val="002060">
                <a:alpha val="9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3"/>
          <p:cNvSpPr/>
          <p:nvPr/>
        </p:nvSpPr>
        <p:spPr>
          <a:xfrm>
            <a:off x="5383080" y="1000080"/>
            <a:ext cx="161784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Rising Waveform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_fixture = 0.00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_fixture_min = 0.00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_fixture_max = 0.00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R_fixture = 25.000O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L_fixture = 0.000n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_fixture = 0.000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Rising Waveform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_fixture = 0.90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_fixture_min = 0.85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_fixture_max = 0.95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R_fixture = 25.000O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L_fixture = 0.000n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_fixture = 0.000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Rising Waveform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_fixture = 1.80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_fixture_min = 1.70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_fixture_max = 1.90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R_fixture = 25.000O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L_fixture = 0.000n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_fixture = 0.000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7072200" y="1143000"/>
            <a:ext cx="1751040" cy="35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Falling Waveform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_fixture = 0.00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_fixture_min = 0.00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_fixture_max = 0.00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R_fixture = 25.000O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L_fixture = 0.000n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_fixture = 0.000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Falling Waveform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_fixture = 0.90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_fixture_min = 0.85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_fixture_max = 0.95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R_fixture = 25.000O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L_fixture = 0.000n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_fixture = 0.000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Falling Waveform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_fixture = 1.80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_fixture_min = 1.70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_fixture_max = 1.90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R_fixture = 25.000O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L_fixture = 0.000n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_fixture = 0.000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95440" y="236160"/>
            <a:ext cx="713736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EQ/2UK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9" descr="KuKd_new.jpg"/>
          <p:cNvPicPr/>
          <p:nvPr/>
        </p:nvPicPr>
        <p:blipFill>
          <a:blip r:embed="rId1"/>
          <a:stretch/>
        </p:blipFill>
        <p:spPr>
          <a:xfrm>
            <a:off x="479520" y="1093680"/>
            <a:ext cx="8272440" cy="4829400"/>
          </a:xfrm>
          <a:prstGeom prst="rect">
            <a:avLst/>
          </a:prstGeom>
          <a:ln w="0">
            <a:noFill/>
          </a:ln>
        </p:spPr>
      </p:pic>
      <p:sp>
        <p:nvSpPr>
          <p:cNvPr id="479" name="TextBox 20"/>
          <p:cNvSpPr/>
          <p:nvPr/>
        </p:nvSpPr>
        <p:spPr>
          <a:xfrm>
            <a:off x="1379520" y="1460520"/>
            <a:ext cx="65023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宋体"/>
              </a:rPr>
              <a:t>Basically Ku, Kd swing between 0 and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宋体"/>
              </a:rPr>
              <a:t>For rising, Kd decreases to 0 earlier than Ku increases to 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宋体"/>
              </a:rPr>
              <a:t>For falling, Ku decreases to 0 earlier than Kd increases t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宋体"/>
              </a:rPr>
              <a:t>The time cost of Kd transition for rising(or Ku transition for falling) is about 15% of total tim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宋体"/>
              </a:rPr>
              <a:t>The delay before Kd transition for rising(or Ku transition for falling) ) is about 15% of total tim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eft Brace 14"/>
          <p:cNvSpPr/>
          <p:nvPr/>
        </p:nvSpPr>
        <p:spPr>
          <a:xfrm rot="16200000">
            <a:off x="2573280" y="3903120"/>
            <a:ext cx="269640" cy="1781280"/>
          </a:xfrm>
          <a:custGeom>
            <a:avLst/>
            <a:gdLst>
              <a:gd name="textAreaLeft" fmla="*/ 172440 w 269640"/>
              <a:gd name="textAreaRight" fmla="*/ 270000 w 269640"/>
              <a:gd name="textAreaTop" fmla="*/ 6840 h 1781280"/>
              <a:gd name="textAreaBottom" fmla="*/ 1774440 h 17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196"/>
                </a:lnTo>
                <a:cubicBezTo>
                  <a:pt x="10800" y="10333"/>
                  <a:pt x="5400" y="10469"/>
                  <a:pt x="0" y="10469"/>
                </a:cubicBezTo>
                <a:cubicBezTo>
                  <a:pt x="5400" y="10469"/>
                  <a:pt x="10800" y="10606"/>
                  <a:pt x="10800" y="10742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eft Brace 16"/>
          <p:cNvSpPr/>
          <p:nvPr/>
        </p:nvSpPr>
        <p:spPr>
          <a:xfrm rot="16200000">
            <a:off x="5853960" y="3842280"/>
            <a:ext cx="260280" cy="1893960"/>
          </a:xfrm>
          <a:custGeom>
            <a:avLst/>
            <a:gdLst>
              <a:gd name="textAreaLeft" fmla="*/ 166320 w 260280"/>
              <a:gd name="textAreaRight" fmla="*/ 260640 w 260280"/>
              <a:gd name="textAreaTop" fmla="*/ 6480 h 1893960"/>
              <a:gd name="textAreaBottom" fmla="*/ 1887480 h 189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3"/>
                  <a:pt x="10800" y="246"/>
                </a:cubicBezTo>
                <a:lnTo>
                  <a:pt x="10800" y="10223"/>
                </a:lnTo>
                <a:cubicBezTo>
                  <a:pt x="10800" y="10346"/>
                  <a:pt x="5400" y="10469"/>
                  <a:pt x="0" y="10469"/>
                </a:cubicBezTo>
                <a:cubicBezTo>
                  <a:pt x="5400" y="10469"/>
                  <a:pt x="10800" y="10592"/>
                  <a:pt x="10800" y="10715"/>
                </a:cubicBezTo>
                <a:lnTo>
                  <a:pt x="10800" y="21354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7"/>
          <p:cNvSpPr/>
          <p:nvPr/>
        </p:nvSpPr>
        <p:spPr>
          <a:xfrm>
            <a:off x="1573200" y="488484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otal time cost of rising(low to high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18"/>
          <p:cNvSpPr/>
          <p:nvPr/>
        </p:nvSpPr>
        <p:spPr>
          <a:xfrm>
            <a:off x="4856040" y="4857840"/>
            <a:ext cx="278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otal time cost of falling(high to low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eft Brace 20"/>
          <p:cNvSpPr/>
          <p:nvPr/>
        </p:nvSpPr>
        <p:spPr>
          <a:xfrm flipH="1" rot="16200000">
            <a:off x="5330880" y="4386240"/>
            <a:ext cx="180720" cy="247680"/>
          </a:xfrm>
          <a:custGeom>
            <a:avLst/>
            <a:gdLst>
              <a:gd name="textAreaLeft" fmla="*/ 115560 w 180720"/>
              <a:gd name="textAreaRight" fmla="*/ 181080 w 180720"/>
              <a:gd name="textAreaTop" fmla="*/ 4680 h 247680"/>
              <a:gd name="textAreaBottom" fmla="*/ 243000 h 24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5"/>
                  <a:pt x="10800" y="1329"/>
                </a:cubicBezTo>
                <a:lnTo>
                  <a:pt x="10800" y="9820"/>
                </a:lnTo>
                <a:cubicBezTo>
                  <a:pt x="10800" y="10485"/>
                  <a:pt x="5400" y="11149"/>
                  <a:pt x="0" y="11149"/>
                </a:cubicBezTo>
                <a:cubicBezTo>
                  <a:pt x="5400" y="11149"/>
                  <a:pt x="10800" y="11814"/>
                  <a:pt x="10800" y="12478"/>
                </a:cubicBezTo>
                <a:lnTo>
                  <a:pt x="10800" y="20271"/>
                </a:lnTo>
                <a:cubicBezTo>
                  <a:pt x="10800" y="209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2"/>
          <p:cNvSpPr/>
          <p:nvPr/>
        </p:nvSpPr>
        <p:spPr>
          <a:xfrm>
            <a:off x="2394000" y="4075200"/>
            <a:ext cx="203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ime cost of Kd trans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23"/>
          <p:cNvSpPr/>
          <p:nvPr/>
        </p:nvSpPr>
        <p:spPr>
          <a:xfrm>
            <a:off x="5700600" y="4129200"/>
            <a:ext cx="21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ime cost of Ku trans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5"/>
          <p:cNvSpPr/>
          <p:nvPr/>
        </p:nvSpPr>
        <p:spPr>
          <a:xfrm>
            <a:off x="1341360" y="413856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delay of K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26"/>
          <p:cNvSpPr/>
          <p:nvPr/>
        </p:nvSpPr>
        <p:spPr>
          <a:xfrm>
            <a:off x="4549680" y="4152960"/>
            <a:ext cx="15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delay of K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Straight Arrow Connector 28"/>
          <p:cNvCxnSpPr/>
          <p:nvPr/>
        </p:nvCxnSpPr>
        <p:spPr>
          <a:xfrm>
            <a:off x="1857240" y="4357440"/>
            <a:ext cx="6768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0" name="Straight Arrow Connector 29"/>
          <p:cNvCxnSpPr/>
          <p:nvPr/>
        </p:nvCxnSpPr>
        <p:spPr>
          <a:xfrm>
            <a:off x="5070960" y="4357440"/>
            <a:ext cx="6732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1" name="Straight Arrow Connector 32"/>
          <p:cNvCxnSpPr/>
          <p:nvPr/>
        </p:nvCxnSpPr>
        <p:spPr>
          <a:xfrm flipH="1">
            <a:off x="2189160" y="4289400"/>
            <a:ext cx="27828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2" name="Straight Arrow Connector 34"/>
          <p:cNvCxnSpPr>
            <a:endCxn id="484" idx="1"/>
          </p:cNvCxnSpPr>
          <p:nvPr/>
        </p:nvCxnSpPr>
        <p:spPr>
          <a:xfrm flipH="1">
            <a:off x="5424120" y="4283640"/>
            <a:ext cx="32904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3" name="Left Brace 20"/>
          <p:cNvSpPr/>
          <p:nvPr/>
        </p:nvSpPr>
        <p:spPr>
          <a:xfrm flipH="1" rot="16200000">
            <a:off x="2071440" y="4357440"/>
            <a:ext cx="189000" cy="239760"/>
          </a:xfrm>
          <a:custGeom>
            <a:avLst/>
            <a:gdLst>
              <a:gd name="textAreaLeft" fmla="*/ 120600 w 189000"/>
              <a:gd name="textAreaRight" fmla="*/ 189000 w 189000"/>
              <a:gd name="textAreaTop" fmla="*/ 4680 h 239760"/>
              <a:gd name="textAreaBottom" fmla="*/ 235080 h 239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12"/>
                  <a:pt x="10800" y="1424"/>
                </a:cubicBezTo>
                <a:lnTo>
                  <a:pt x="10800" y="9725"/>
                </a:lnTo>
                <a:cubicBezTo>
                  <a:pt x="10800" y="10437"/>
                  <a:pt x="5400" y="11149"/>
                  <a:pt x="0" y="11149"/>
                </a:cubicBezTo>
                <a:cubicBezTo>
                  <a:pt x="5400" y="11149"/>
                  <a:pt x="10800" y="11861"/>
                  <a:pt x="10800" y="12573"/>
                </a:cubicBezTo>
                <a:lnTo>
                  <a:pt x="10800" y="20176"/>
                </a:lnTo>
                <a:cubicBezTo>
                  <a:pt x="10800" y="208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8"/>
          <p:cNvSpPr/>
          <p:nvPr/>
        </p:nvSpPr>
        <p:spPr>
          <a:xfrm>
            <a:off x="965160" y="272880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宋体"/>
              </a:rPr>
              <a:t>K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9"/>
          <p:cNvSpPr/>
          <p:nvPr/>
        </p:nvSpPr>
        <p:spPr>
          <a:xfrm>
            <a:off x="979560" y="430992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  <a:ea typeface="宋体"/>
              </a:rPr>
              <a:t>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20"/>
          <p:cNvSpPr/>
          <p:nvPr/>
        </p:nvSpPr>
        <p:spPr>
          <a:xfrm>
            <a:off x="973080" y="367992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afd6"/>
                </a:solidFill>
                <a:latin typeface="Arial"/>
                <a:ea typeface="宋体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3036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98400" y="1585800"/>
            <a:ext cx="700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bfbfbf"/>
                </a:solidFill>
                <a:latin typeface="Arial"/>
                <a:ea typeface="宋体"/>
              </a:rPr>
              <a:t>Introduce of VT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y Two Methods to Solve Single V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宋体"/>
              </a:rPr>
              <a:t>-   Method 1: Experiential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宋体"/>
              </a:rPr>
              <a:t>-   Method 2: Impose Constra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宋体"/>
              </a:rPr>
              <a:t>-   Comparison of Two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bfbfbf"/>
                </a:solidFill>
                <a:latin typeface="Arial"/>
                <a:ea typeface="宋体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3"/>
          <p:cNvSpPr/>
          <p:nvPr/>
        </p:nvSpPr>
        <p:spPr>
          <a:xfrm>
            <a:off x="1271520" y="1479600"/>
            <a:ext cx="6467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 ri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 construct solution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s simple PW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 comput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y the single VT waveform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 fall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 construct solution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s simple PW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 comput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y the single VT waveform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1257480" y="4919760"/>
            <a:ext cx="7126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宋体"/>
              </a:rPr>
              <a:t>Note of  two key values in PWL -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宋体"/>
              </a:rPr>
              <a:t>delay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宋体"/>
              </a:rPr>
              <a:t> and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宋体"/>
              </a:rPr>
              <a:t>ram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宋体"/>
              </a:rPr>
              <a:t>-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宋体"/>
              </a:rPr>
              <a:t>They can be tuned well to get proper percent value of total transition tim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宋体"/>
              </a:rPr>
              <a:t>          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宋体"/>
              </a:rPr>
              <a:t>E.g.  Both are15% in the test cas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宋体"/>
              </a:rPr>
              <a:t>-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宋体"/>
              </a:rPr>
              <a:t>But It’s hard to apply this fixed value to all IBIS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6"/>
          <p:cNvSpPr/>
          <p:nvPr/>
        </p:nvSpPr>
        <p:spPr>
          <a:xfrm>
            <a:off x="3056040" y="3481560"/>
            <a:ext cx="792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8"/>
          <p:cNvSpPr/>
          <p:nvPr/>
        </p:nvSpPr>
        <p:spPr>
          <a:xfrm>
            <a:off x="3836160" y="3481560"/>
            <a:ext cx="390600" cy="8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0"/>
          <p:cNvSpPr/>
          <p:nvPr/>
        </p:nvSpPr>
        <p:spPr>
          <a:xfrm>
            <a:off x="4205160" y="4284720"/>
            <a:ext cx="1092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3027600" y="3770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2"/>
          <p:cNvSpPr/>
          <p:nvPr/>
        </p:nvSpPr>
        <p:spPr>
          <a:xfrm>
            <a:off x="4318560" y="3435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Straight Arrow Connector 14"/>
          <p:cNvCxnSpPr>
            <a:stCxn id="504" idx="0"/>
          </p:cNvCxnSpPr>
          <p:nvPr/>
        </p:nvCxnSpPr>
        <p:spPr>
          <a:xfrm flipH="1" flipV="1">
            <a:off x="3390120" y="3525480"/>
            <a:ext cx="1980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7" name="Straight Arrow Connector 16"/>
          <p:cNvCxnSpPr/>
          <p:nvPr/>
        </p:nvCxnSpPr>
        <p:spPr>
          <a:xfrm flipH="1">
            <a:off x="4093920" y="3758040"/>
            <a:ext cx="49104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8" name="Rectangle 17"/>
          <p:cNvSpPr/>
          <p:nvPr/>
        </p:nvSpPr>
        <p:spPr>
          <a:xfrm>
            <a:off x="2543040" y="4383000"/>
            <a:ext cx="37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olution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for rising 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for f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17400" y="3589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wo Methods to Solve Single V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 Method 1: Experiential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4"/>
          <p:cNvSpPr/>
          <p:nvPr/>
        </p:nvSpPr>
        <p:spPr>
          <a:xfrm>
            <a:off x="2324160" y="3397320"/>
            <a:ext cx="4137120" cy="1334880"/>
          </a:xfrm>
          <a:prstGeom prst="rect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6:59:50Z</dcterms:created>
  <dc:creator>jhhuang</dc:creator>
  <dc:description/>
  <dc:language>en-US</dc:language>
  <cp:lastModifiedBy>xfchen</cp:lastModifiedBy>
  <dcterms:modified xsi:type="dcterms:W3CDTF">2008-10-14T03:44:44Z</dcterms:modified>
  <cp:revision>104</cp:revision>
  <dc:subject/>
  <dc:title>Optimum Frequency Sampling in S Parameter Extraction and Simulation</dc:title>
</cp:coreProperties>
</file>