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 Teraspeed Consulting Group LL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74CF3AA4-B1A0-4854-B31A-74D311A10E04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5" name="Picture 7" descr="logo2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Rectangle 8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5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1D185422-A369-4CF1-BB87-DC7C1ECA329B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88" name="Group 6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389" name="Picture 7" descr="logo2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Rectangle 8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ftr" idx="10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 Teraspeed Consulting Group LL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5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9E8FC845-171A-441C-A3B4-7D7BFC0B545A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31" name="Group 6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432" name="Picture 7" descr="logo2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Rectangle 8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ftr" idx="11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 Teraspeed Consulting Group LL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5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E90EADF6-6DE0-4FA8-B2F6-EDED203BDA69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74" name="Group 6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475" name="Picture 7" descr="logo2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Rectangle 8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ftr" idx="12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 Teraspeed Consulting Group LL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5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5DE6B3FC-9731-49BC-88D4-A7FA582423A7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4" name="Group 6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45" name="Picture 7" descr="logo2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Rectangle 8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2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 Teraspeed Consulting Group LL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5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045406C3-3249-41B9-8213-5A5256DACD4D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87" name="Group 6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88" name="Picture 7" descr="logo2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Rectangle 8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3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 Teraspeed Consulting Group LL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5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12F5C932-0A3F-4E45-B1BF-CACA9F7A25F2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30" name="Group 6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131" name="Picture 7" descr="logo2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Rectangle 8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ftr" idx="4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 Teraspeed Consulting Group LL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5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2EC6849F-651C-4AD8-9234-A8A49B018A7F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73" name="Group 6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174" name="Picture 7" descr="logo2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Rectangle 8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 Teraspeed Consulting Group LL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5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CCA6BFAE-8BE0-47A6-8AC2-C81E851B3DD5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16" name="Group 6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217" name="Picture 7" descr="logo2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Rectangle 8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ftr" idx="6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 Teraspeed Consulting Group LL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5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3C0155A4-30E2-43A3-A40B-C1464E0BCB42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59" name="Group 6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260" name="Picture 7" descr="logo2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Rectangle 8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ftr" idx="7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 Teraspeed Consulting Group LL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5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5E5392B7-88DE-43E0-8A9B-935A574E76F9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02" name="Group 6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303" name="Picture 7" descr="logo2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Rectangle 8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ftr" idx="8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 Teraspeed Consulting Group LL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5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45CCB200-51AD-40C1-B938-F7CF66E698FF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45" name="Group 6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346" name="Picture 7" descr="logo2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Rectangle 8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ftr" idx="9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 Teraspeed Consulting Group LL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Footer Placeholder 3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2 Teraspeed Consulting Group LLC </a:t>
            </a:r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IBIS in Academia Update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1371600" y="2892240"/>
            <a:ext cx="64008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ob Ro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ob@teraspeed.co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uropean IBIS Summi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rrento, Ital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y 16, 2012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(Updated from June, 2011 DAC IBIS Summit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19" name="Picture 5" descr=""/>
          <p:cNvPicPr/>
          <p:nvPr/>
        </p:nvPicPr>
        <p:blipFill>
          <a:blip r:embed="rId1"/>
          <a:stretch/>
        </p:blipFill>
        <p:spPr>
          <a:xfrm>
            <a:off x="3657600" y="152280"/>
            <a:ext cx="1828800" cy="14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Footer Placeholder 3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2 Teraspeed Consulting Group LLC </a:t>
            </a:r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Power Delivery Systems Project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ocha: MOdelling and CHAracterization of SiP Signal and Power Integrity Analysi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35480" indent="-28296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http://www.mocha.polito.it/WP2.htm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35480" indent="-28296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European community funded program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ademic Involv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35480" indent="-282960"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Politecnico di Torino (Italy)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35480" indent="-282960"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Instituto de Telecomunicacoes (Portual)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dustrial partners – Micron Technology, Cadence, Agilent, Microwave Characterization Cent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A STREP project funded by European Community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/O buffers may be extensions of IBI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More Power Integrity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Z. Yang, S. Huq, V. Arumugham, I. Park, “Enhancement of IBIS modeling capability in simultaneous switching noise (SSN) and other power integrity related simulations -proposal implementation and validation,” Int. Symp. Electromagn. Compatibil., Aug, 2005 (Cisco Systems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. Pulici, A. Girardi, G.P. Vanalli, R. Issi, G. Bernardi, G. Ripamonti, A. Strollio, G. Campardo, “A modified IBIS model aimed at signal integrity analysis of systems in package,” IEEE Trans. Circuits Syst. I., Aug. 2008   (Univ. Of Naples Federico II, Numonyx, STMicroelectronics –Italy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9" name="Footer Placeholder 3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2 Teraspeed Consulting Group LLC </a:t>
            </a:r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EMC/EMI – Academic Involvement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UTE (Union Technique de L’Electricite) – French standardization group involved with IBIS in 1998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ndustry and the following  French universiti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Institut National des Sciences Appliquees de Toulouse (INSA) - E. Sicard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05600" indent="-271440"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ESEO Institute of Science and Technology - M. Ramdani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05600" indent="-271440"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Institut Europeen de Recherche Sur Les Systemes Electroniques Pour Les TransPorts (IERSET) - M. Lubineau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CEM (Integrated Circuits Electromagnetic Model) now IEC 62014-3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C-EMC tool from INSA tool references IBIS Package model and has comment lines for IBIS.  It also has a BGA display utility (A. Boyer, E. Sicard, INSA – Fran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http://www.ic-emc.org/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</p:txBody>
      </p:sp>
      <p:sp>
        <p:nvSpPr>
          <p:cNvPr id="552" name="Footer Placeholder 3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2 Teraspeed Consulting Group LLC </a:t>
            </a:r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Other Contributions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on-linear C_comp (BIRD79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Luca Giacotto (Alstrom Transport – France)   Ph. D. thesis (Alstom Transport and Laboratoire IMEP Ecole Doctorale EEATS – France) – C_comp pole/zeros as function of voltage, state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L. Giacotto, B. Meyniel, J. Chilo, “IBIS models: quality: the benefits of frequency-domain analysis,” EMC Comp 2002, Nov. 2002 (Alstrom Transport, France)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BIS Healing Tool free utilit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Francesco de Paulis, Dinilo Di Febo, Antonio Orlandi, University of L’Aquila, Italy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European IBIS Summit, May 2011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http://orlandi.in.univaq.it/uaq_laboratory/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</p:txBody>
      </p:sp>
      <p:sp>
        <p:nvSpPr>
          <p:cNvPr id="555" name="Footer Placeholder 3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2 Teraspeed Consulting Group LLC </a:t>
            </a:r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International IBIS Sampling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68580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G.N, Nardakumar, N. Patel, R. Reddy, M, Kothandaraman, “Application of the Douglas-Peucker algorithm to generate compact but accurate IBIS models,” 1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Int. Conf. VLSI Design, Jan. 2005 (Agere Syst. – India) – I-V table interpolation algorithm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. C. Leong, S. H. Ying, C. S. Fong, W. W. Lo, “An improved I/O buffer correlation methodology between silicon and SPICE model,” IEEE Asian Pacif. Conf. on Circ. Sys. (ACCAS) Dec. 2010 (Altera - Malaysia) – Correlation with Spice for IBIS model developmen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. Shen, Z. Wang, W. Zheng, “PCB level SI simulation based on IBIS model for high-speed FPGA system,” 9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Int. Conf. Electr. Meas. &amp; Instr., Aug. 2009 (Chinese Acad. of Sci. - China) - IBIS and vendor too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-T. Huang, C-T. Chou, I-S. Lin, C-H. Chen, “Studying an approach of I/O buffer information Specification (IBIS) model,” J. Chinese Instut Engrg, Feb. 2007 (National Taipei Univ. of Technology, Taiwan) – Basic IBIS and vendor too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8" name="Footer Placeholder 3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2 Teraspeed Consulting Group LLC </a:t>
            </a:r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IBIS and Academic Events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-located Summi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DAC - Design Automation Conference (1993 – present)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20720" indent="-27720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DATE - Design Automation and Test in Europe  (1998 – 2009)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20720" indent="-27720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SPI (2010 - present and in Europe)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20720" indent="-27720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DesignCon (more people from academia coming)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ther conferences with IBIS content and potential involv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EPEP(S)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20720" indent="-27720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EMC Compo (in Europe, in Japan in 2013)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</p:txBody>
      </p:sp>
      <p:sp>
        <p:nvSpPr>
          <p:cNvPr id="561" name="Footer Placeholder 3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2 Teraspeed Consulting Group LLC </a:t>
            </a:r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Conclusion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cademia and IBIS connecte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27920" indent="-280080"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Literature, conferences, tools, thesis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1" marL="727920" indent="-280080"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Co-located summits with academic events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2" marL="1119960" indent="-223920">
              <a:spcBef>
                <a:spcPts val="601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6ecc"/>
                </a:solidFill>
                <a:latin typeface="Gill Sans MT"/>
              </a:rPr>
              <a:t>Academic presentations always welcome</a:t>
            </a:r>
            <a:endParaRPr b="0" lang="en-US" sz="2400" spc="-1" strike="noStrike">
              <a:solidFill>
                <a:srgbClr val="186ecc"/>
              </a:solidFill>
              <a:latin typeface="Gill Sans MT"/>
            </a:endParaRPr>
          </a:p>
          <a:p>
            <a:pPr lvl="1" marL="727920" indent="-280080"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Student involvement with IBIS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1" marL="727920" indent="-280080"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IBIS and I/O buffer research continues (weighted two-state functions often the basis for buffer algorithms)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llaboration beneficia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4" name="Footer Placeholder 3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2 Teraspeed Consulting Group LLC </a:t>
            </a:r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Introduction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BIS in academia, technical literature, and academic conferenc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BIS, a base-line for expanded research on I/O buffer algorithms and extension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ny national and international papers, several thesis, several tool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27920" indent="-280080"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About 80-100 “IBIS” references from 139 IEEE Xplore hits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27920" indent="-280080"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Google search, technical library electronic access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27920" indent="-280080"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http://www.ece.ncsu.edu/erl/publications/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27920" indent="-280080"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http://www.emc.polito.it/publications/all_pub.asp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27920" indent="-280080"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http://www.teraspeed.com/ibis_resources.htm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ampling of interesting papers and tools her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urpose – highlight and make visible academic impac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2" name="Footer Placeholder 3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2 Teraspeed Consulting Group LLC </a:t>
            </a:r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Footer Placeholder 3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2 Teraspeed Consulting Group LLC </a:t>
            </a:r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Review of Academic Involvement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asic algorith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2ibi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w algorith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ower delivery systems and EM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ther wor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ference references he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35480" indent="-282960"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SPI: IEEE Workshop on Signal and Power Integrity (formerly Signal Propagation on Interconnects) (Europe)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35480" indent="-282960"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EPEP(S): Electrical Performance of Electronic Packaging (and Systems)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35480" indent="-282960"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EMC Compo: International  Workshop on Electromagnetic Compatibility of Integrated Circuits (Europe so far)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Footer Placeholder 3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2 Teraspeed Consulting Group LLC </a:t>
            </a:r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Basic Algorithms from IBIS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arly modeling algorithms were just ramp or waveforms &amp; non-linear I-V transitions yielding curved results different from extraction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BIS Buffer Algorithms – solving two waveform from low and high-state I-V tabl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ny Summit presentations addressed this issue by B. Ross, X. Chen, A. Muranyi, M. Mirmak, B. Unger, etc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Basic 2-waveform algorithm and development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AMS extensions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Many V-T tables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ECL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Add L_fixture, C_fixture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C_comp extensions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Additional (blocks) to IBIS for Driver Schedule, Submodels, etc.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http://www.eda.org/ibis/summits/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Some Early Algorithm References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.F. Tehrani, Y. Chen, J. Fang, “Extraction of transient behavioral model of digital I/O buffers from IBIS,” Proc. 4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Elect. Comp. and Tech. Conf. May 1996 (State Univ. of New York) – 1, 2 waveform algorith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Y. Wang, H.N. Tan, “The development of analog SPICE behavioral model based on IBIS model,” Proc. Ninth Great Lakes Symp. On VLSI, 1999 (Nanyang Technology Instit. - Singapore) – 2-waveform algorith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. Ross, “IBIS Present and Future,” Proc. SPI 2003, May 2003 (Teraspeed Consulting Group) – waveform  algorithm researc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1" name="Footer Placeholder 3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2 Teraspeed Consulting Group LLC </a:t>
            </a:r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Spice to IBIS and IBIS Algorithms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CSU – Paul Franzon, Michael Steer (also an IBIS Librarian) since about 1995 and students Steve Lipa, Alan Glaser, Ambrish Varm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43040" indent="-343080">
              <a:lnSpc>
                <a:spcPct val="90000"/>
              </a:lnSpc>
              <a:spcBef>
                <a:spcPts val="4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cc"/>
                </a:solidFill>
                <a:latin typeface="Gill Sans MT"/>
              </a:rPr>
              <a:t>http://www.ece.ncsu.edu/erl/software/ibis_general/</a:t>
            </a:r>
            <a:endParaRPr b="0" lang="en-US" sz="2000" spc="-1" strike="noStrike">
              <a:solidFill>
                <a:srgbClr val="186ecc"/>
              </a:solidFill>
              <a:latin typeface="Gill Sans MT"/>
            </a:endParaRPr>
          </a:p>
          <a:p>
            <a:pPr lvl="2" marL="743040" indent="-343080">
              <a:lnSpc>
                <a:spcPct val="90000"/>
              </a:lnSpc>
              <a:spcBef>
                <a:spcPts val="4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cc"/>
                </a:solidFill>
                <a:latin typeface="Gill Sans MT"/>
              </a:rPr>
              <a:t>http://www.ece.ncsu.edu/erl/publications/</a:t>
            </a:r>
            <a:endParaRPr b="0" lang="en-US" sz="2000" spc="-1" strike="noStrike">
              <a:solidFill>
                <a:srgbClr val="186ecc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(Supported by ARPA and DARPA funding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ater, Paul Fernando on AMS macro-modeling and Ting Zhu on IBIS surrogate modeling algorithm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pice 2 IBIS development: s2ibis, s2ibis3, s2ibis3, s2ipl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Now handled by IO Methodology (Lance Wang)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aul Fernando, MS, Ambrish Varma Ph.D. thesis on IBIS topic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2IBIS – a major contributor to IBIS success!!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Footer Placeholder 3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2 Teraspeed Consulting Group LLC </a:t>
            </a:r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Newer Research and Tools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685800" y="1295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Universiti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60960" indent="-254160"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Politecnico di Torino – Igor Stievano, Flavio Canavero, etc. (Italy)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660960" indent="-254160"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Univ. de Bretagne Occidentale (France)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660960" indent="-254160"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Georgia Tech (Madhaven Swaminathan, Bhyrav Mutnury, etc.)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660960" indent="-254160"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North Carolina State University (Ting Zhu, Paul Franzon, etc.)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/O buffer modeling and model extraction generalization for power integrity, packages, spline fitting, pre-emphasis, equation based, etc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60960" indent="-254160"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Radial based functions, and other orthogonal functions as basis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660960" indent="-254160"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M(pi)log tool – includes VHDL-AMS, Spice link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2" marL="1017000" indent="-203400">
              <a:spcBef>
                <a:spcPts val="499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cc"/>
                </a:solidFill>
                <a:latin typeface="Gill Sans MT"/>
              </a:rPr>
              <a:t>http://www.emc.polito.it/software/Mpilog/mpilog_home.asp</a:t>
            </a:r>
            <a:endParaRPr b="0" lang="en-US" sz="2000" spc="-1" strike="noStrike">
              <a:solidFill>
                <a:srgbClr val="186ecc"/>
              </a:solidFill>
              <a:latin typeface="Gill Sans MT"/>
            </a:endParaRPr>
          </a:p>
          <a:p>
            <a:pPr lvl="1" marL="660960" indent="-254160"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Volteria, Volteria-Laguerre model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660960" indent="-254160"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Recurrent neural network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660960" indent="-254160"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Surrogate modeling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</p:txBody>
      </p:sp>
      <p:sp>
        <p:nvSpPr>
          <p:cNvPr id="537" name="Footer Placeholder 3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2 Teraspeed Consulting Group LLC </a:t>
            </a:r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New Academic References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685800" y="1295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. Mutnury, M. Swaninathan, J.P. Libous, “Macromodeling of nonlinear digitial I/O Buffers,” IEEE Trans. Adv. Packag. Feb. 2006  (Georgia Tech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. Mutnury, M. Swaminathan, Nam Pham, D. de Araujo, E. Matoglu, “Macromodeling of nonlinear transistor-level receiver circuits,” IEEE Trans. Adv. Packag. Feb. 2006, (Georgia Tech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.S. Stievano, I.A Maio, F.G. Canavero, “Parametric macromodels of digital I/O drivers,” IEEE Trans. Adv. Packag, May 2002, (Politecnico di Torino - Italy)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. Varma, A. Glaser, S. Lipa, M. Steer, P. G. Franzon, “The development of a macro-modeling tool to develop IBIS models,” EPEP 2003, Oct. 2003 (NCSU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.S. Stievano, I.A Maio, F.G. Canavero, “Mpilog, macromodeling via parametric identification of logic gates,” IEEE Trans. Adv. Packag,    Feb. 2004 (Politecnico di Torino - Italy)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0" name="Footer Placeholder 3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2 Teraspeed Consulting Group LLC </a:t>
            </a:r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New References Continued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.K. Varma, M. Steer, P.D. Franzon, “Improving behavioral IO buffer modeling based on IBIS,” IEEE Trans. Adv. Packag., Nov. 2008 (NCSU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. Zhu, M.B. Steer, P.D. Franzon, “Accurate and scalable IO buffer macromodel based on surrogate modeling,” IEEE Trans. Compon. Packag. Manufact. Technol., Aug. 2011 (NCSU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.G. Telescu, I.S. Stievano, F.G. Canavero, N. Tanguy, “An Application of Volterra series to IC buffer models,” SPI 2010, May 2010 (Univ. de Bretagne Occidentale - France, Politecnico di Torino - Italy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. Diouf, M. Telescu, N. Tanguy, P. Cloastre, I.S. Stievano, F.G. Canavero, “Statistically constrained non-linear models with applications to IC buffers,” SPI 2011, May 2011 (Univ. de Bretagne Occidentale - France, Politecnico di Torino - Italy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nd more buffer modeling topics at SPI 2012, May 2012!!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3" name="Footer Placeholder 3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2 Teraspeed Consulting Group LLC </a:t>
            </a:r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0T13:19:28Z</dcterms:created>
  <dc:creator>Bob Ross</dc:creator>
  <dc:description/>
  <dc:language>en-US</dc:language>
  <cp:lastModifiedBy>bob</cp:lastModifiedBy>
  <dcterms:modified xsi:type="dcterms:W3CDTF">2012-04-25T21:54:18Z</dcterms:modified>
  <cp:revision>900</cp:revision>
  <dc:subject/>
  <dc:title>IBIS</dc:title>
</cp:coreProperties>
</file>