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5280" cy="4348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13"/>
          </p:nvPr>
        </p:nvSpPr>
        <p:spPr>
          <a:xfrm>
            <a:off x="3863880" y="0"/>
            <a:ext cx="3006720" cy="4348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17080" y="65232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move the slide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929880" y="4346280"/>
            <a:ext cx="5008680" cy="405756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14"/>
          </p:nvPr>
        </p:nvSpPr>
        <p:spPr>
          <a:xfrm>
            <a:off x="0" y="8694720"/>
            <a:ext cx="3005280" cy="4348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15"/>
          </p:nvPr>
        </p:nvSpPr>
        <p:spPr>
          <a:xfrm>
            <a:off x="3863880" y="8694720"/>
            <a:ext cx="3006720" cy="43488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marL="216000" indent="0" algn="r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41C3A9E0-DD41-4D77-BA7A-FA614C289CE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63880" y="8694720"/>
            <a:ext cx="30067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9A225AFE-34D9-4878-B2DD-09A909ADF7E3}" type="slidenum">
              <a:rPr b="1" lang="en-US" sz="11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17440" y="65232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29880" y="4346280"/>
            <a:ext cx="5008680" cy="40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99B25552-9BD3-4168-9DFB-CD5EE496EA53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5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5CFF33CB-0654-459A-A72C-2E9D023AEC96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88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389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10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92D51460-30DF-4D33-AD45-FAA718114355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31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432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11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A2CA6EE0-9C19-40E3-834D-87FEE6D86A52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74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475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ftr" idx="12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8EB2752C-AC9B-445D-B5AC-1D9CD4C5A94E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4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45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39079018-BA27-4232-85FC-359C793B6239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87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88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03F40AF2-07B8-46A8-9BEF-408F32228187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30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131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4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1D69E99C-84BD-4FFC-B986-FD5E2A787B7B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73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174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7F536FC5-A49B-4793-B132-8C5A35D3612D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16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217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6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20E2D4EF-983A-4679-8F0E-C4CFE71C8E8B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59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260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7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6E3B2827-D860-47E4-991A-DFD25F827F0D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02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303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ftr" idx="8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86ecc"/>
                </a:solidFill>
                <a:latin typeface="Gill Sans MT"/>
              </a:rPr>
              <a:t>Page </a:t>
            </a:r>
            <a:fld id="{089E2711-5BD4-41E9-9336-E008B43B56FD}" type="slidenum">
              <a:rPr b="0" lang="en-US" sz="1200" spc="-1" strike="noStrike">
                <a:solidFill>
                  <a:srgbClr val="186ecc"/>
                </a:solidFill>
                <a:latin typeface="Gill Sans M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45" name="Group 6"/>
          <p:cNvGrpSpPr/>
          <p:nvPr/>
        </p:nvGrpSpPr>
        <p:grpSpPr>
          <a:xfrm>
            <a:off x="7620120" y="5638680"/>
            <a:ext cx="1447560" cy="1143000"/>
            <a:chOff x="7620120" y="5638680"/>
            <a:chExt cx="1447560" cy="1143000"/>
          </a:xfrm>
        </p:grpSpPr>
        <p:pic>
          <p:nvPicPr>
            <p:cNvPr id="346" name="Picture 7" descr="logo2"/>
            <p:cNvPicPr/>
            <p:nvPr/>
          </p:nvPicPr>
          <p:blipFill>
            <a:blip r:embed="rId2"/>
            <a:stretch/>
          </p:blipFill>
          <p:spPr>
            <a:xfrm>
              <a:off x="7692480" y="5712480"/>
              <a:ext cx="1302480" cy="4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Rectangle 8"/>
            <p:cNvSpPr/>
            <p:nvPr/>
          </p:nvSpPr>
          <p:spPr>
            <a:xfrm>
              <a:off x="7620120" y="5638680"/>
              <a:ext cx="1447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TERASPEED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CONSULTING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ill Sans MT"/>
                  <a:ea typeface="Times New Roman"/>
                </a:rPr>
                <a:t>GROUP</a:t>
              </a:r>
              <a:endParaRPr b="1" lang="en-US" sz="12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lick to edit the title text format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186ecc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ftr" idx="9"/>
          </p:nvPr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Teraspeed Consulting Group LL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 Projects 2011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1371600" y="289224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R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@teraspeed.co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uropean IBIS Summ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ples Ita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11, 201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6" name="Picture 5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182880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Footer Placeholder 2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c"/>
                </a:solidFill>
                <a:latin typeface="Gill Sans MT"/>
              </a:rPr>
              <a:t>[Mixed-Mode Order] D1,3 D2,4 C1,3 C2,4</a:t>
            </a:r>
            <a:br>
              <a:rPr sz="2800"/>
            </a:br>
            <a:r>
              <a:rPr b="1" lang="en-US" sz="2800" spc="-1" strike="noStrike">
                <a:solidFill>
                  <a:srgbClr val="186ecc"/>
                </a:solidFill>
                <a:latin typeface="Gill Sans MT"/>
              </a:rPr>
              <a:t>(1,3 and 2,4 port-pairs by position)</a:t>
            </a:r>
            <a:endParaRPr b="1" lang="en-US" sz="28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167652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8" name="Line 4"/>
          <p:cNvSpPr/>
          <p:nvPr/>
        </p:nvSpPr>
        <p:spPr>
          <a:xfrm>
            <a:off x="10666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9" name="Line 5"/>
          <p:cNvSpPr/>
          <p:nvPr/>
        </p:nvSpPr>
        <p:spPr>
          <a:xfrm>
            <a:off x="1066680" y="2057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Line 6"/>
          <p:cNvSpPr/>
          <p:nvPr/>
        </p:nvSpPr>
        <p:spPr>
          <a:xfrm>
            <a:off x="2971800" y="1600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617220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2" name="Line 8"/>
          <p:cNvSpPr/>
          <p:nvPr/>
        </p:nvSpPr>
        <p:spPr>
          <a:xfrm>
            <a:off x="5562720" y="1600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3" name="Line 9"/>
          <p:cNvSpPr/>
          <p:nvPr/>
        </p:nvSpPr>
        <p:spPr>
          <a:xfrm>
            <a:off x="5562720" y="20574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Line 10"/>
          <p:cNvSpPr/>
          <p:nvPr/>
        </p:nvSpPr>
        <p:spPr>
          <a:xfrm>
            <a:off x="74674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5" name="Text Box 11"/>
          <p:cNvSpPr/>
          <p:nvPr/>
        </p:nvSpPr>
        <p:spPr>
          <a:xfrm>
            <a:off x="609480" y="1371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6" name="Text Box 12"/>
          <p:cNvSpPr/>
          <p:nvPr/>
        </p:nvSpPr>
        <p:spPr>
          <a:xfrm>
            <a:off x="68580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7" name="Text Box 13"/>
          <p:cNvSpPr/>
          <p:nvPr/>
        </p:nvSpPr>
        <p:spPr>
          <a:xfrm>
            <a:off x="3657600" y="1371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Text Box 14"/>
          <p:cNvSpPr/>
          <p:nvPr/>
        </p:nvSpPr>
        <p:spPr>
          <a:xfrm>
            <a:off x="8077320" y="1371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d”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Text Box 15"/>
          <p:cNvSpPr/>
          <p:nvPr/>
        </p:nvSpPr>
        <p:spPr>
          <a:xfrm>
            <a:off x="4876920" y="1371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d”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0" name="Text Box 16"/>
          <p:cNvSpPr/>
          <p:nvPr/>
        </p:nvSpPr>
        <p:spPr>
          <a:xfrm>
            <a:off x="4876920" y="1905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c”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1" name="Text Box 17"/>
          <p:cNvSpPr/>
          <p:nvPr/>
        </p:nvSpPr>
        <p:spPr>
          <a:xfrm>
            <a:off x="198108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Text Box 18"/>
          <p:cNvSpPr/>
          <p:nvPr/>
        </p:nvSpPr>
        <p:spPr>
          <a:xfrm>
            <a:off x="632448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M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3" name="Text Box 19"/>
          <p:cNvSpPr/>
          <p:nvPr/>
        </p:nvSpPr>
        <p:spPr>
          <a:xfrm>
            <a:off x="2819520" y="4191120"/>
            <a:ext cx="2743200" cy="225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os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entry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MM</a:t>
            </a:r>
            <a:endParaRPr b="1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1,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1”</a:t>
            </a:r>
            <a:endParaRPr b="1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2,4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2”</a:t>
            </a:r>
            <a:endParaRPr b="1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1,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1”</a:t>
            </a:r>
            <a:endParaRPr b="1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2,4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2”</a:t>
            </a:r>
            <a:endParaRPr b="1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4" name="Text Box 20"/>
          <p:cNvSpPr/>
          <p:nvPr/>
        </p:nvSpPr>
        <p:spPr>
          <a:xfrm>
            <a:off x="4952880" y="2362320"/>
            <a:ext cx="3657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12</a:t>
            </a:r>
            <a:endParaRPr b="1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22</a:t>
            </a:r>
            <a:endParaRPr b="1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12</a:t>
            </a:r>
            <a:endParaRPr b="1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22</a:t>
            </a:r>
            <a:endParaRPr b="1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Text Box 21"/>
          <p:cNvSpPr/>
          <p:nvPr/>
        </p:nvSpPr>
        <p:spPr>
          <a:xfrm>
            <a:off x="380880" y="2362320"/>
            <a:ext cx="3505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4</a:t>
            </a:r>
            <a:endParaRPr b="1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4</a:t>
            </a:r>
            <a:endParaRPr b="1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4</a:t>
            </a:r>
            <a:endParaRPr b="1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4</a:t>
            </a:r>
            <a:endParaRPr b="1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Text Box 22"/>
          <p:cNvSpPr/>
          <p:nvPr/>
        </p:nvSpPr>
        <p:spPr>
          <a:xfrm>
            <a:off x="5867280" y="43434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Diff Ports reference same SE positions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7" name="AutoShape 23"/>
          <p:cNvSpPr/>
          <p:nvPr/>
        </p:nvSpPr>
        <p:spPr>
          <a:xfrm>
            <a:off x="3962520" y="2590920"/>
            <a:ext cx="761760" cy="457200"/>
          </a:xfrm>
          <a:prstGeom prst="leftRightArrow">
            <a:avLst>
              <a:gd name="adj1" fmla="val 50000"/>
              <a:gd name="adj2" fmla="val 33169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Text Box 25"/>
          <p:cNvSpPr/>
          <p:nvPr/>
        </p:nvSpPr>
        <p:spPr>
          <a:xfrm>
            <a:off x="0" y="160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”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9" name="AutoShape 26"/>
          <p:cNvSpPr/>
          <p:nvPr/>
        </p:nvSpPr>
        <p:spPr>
          <a:xfrm>
            <a:off x="609480" y="1371600"/>
            <a:ext cx="152640" cy="838080"/>
          </a:xfrm>
          <a:custGeom>
            <a:avLst/>
            <a:gdLst>
              <a:gd name="textAreaLeft" fmla="*/ 97560 w 152640"/>
              <a:gd name="textAreaRight" fmla="*/ 153000 w 1526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0" name="Line 27"/>
          <p:cNvSpPr/>
          <p:nvPr/>
        </p:nvSpPr>
        <p:spPr>
          <a:xfrm>
            <a:off x="2971800" y="20574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Line 28"/>
          <p:cNvSpPr/>
          <p:nvPr/>
        </p:nvSpPr>
        <p:spPr>
          <a:xfrm>
            <a:off x="7467480" y="2057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Text Box 29"/>
          <p:cNvSpPr/>
          <p:nvPr/>
        </p:nvSpPr>
        <p:spPr>
          <a:xfrm>
            <a:off x="3657600" y="1905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Text Box 30"/>
          <p:cNvSpPr/>
          <p:nvPr/>
        </p:nvSpPr>
        <p:spPr>
          <a:xfrm>
            <a:off x="8077320" y="1905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c”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AutoShape 31"/>
          <p:cNvSpPr/>
          <p:nvPr/>
        </p:nvSpPr>
        <p:spPr>
          <a:xfrm>
            <a:off x="3962520" y="1447920"/>
            <a:ext cx="152280" cy="761760"/>
          </a:xfrm>
          <a:custGeom>
            <a:avLst/>
            <a:gdLst>
              <a:gd name="textAreaLeft" fmla="*/ 0 w 152280"/>
              <a:gd name="textAreaRight" fmla="*/ 55080 w 15228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5" name="Text Box 32"/>
          <p:cNvSpPr/>
          <p:nvPr/>
        </p:nvSpPr>
        <p:spPr>
          <a:xfrm>
            <a:off x="4114800" y="160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”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" name="Oval 33"/>
          <p:cNvSpPr/>
          <p:nvPr/>
        </p:nvSpPr>
        <p:spPr>
          <a:xfrm rot="1392600">
            <a:off x="4677840" y="2925360"/>
            <a:ext cx="4245120" cy="6746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Useful Links Under IBIS</a:t>
            </a:r>
            <a:br>
              <a:rPr sz="3200"/>
            </a:b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Home Page: </a:t>
            </a: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www.eda.org/ibis/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ver5.0/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BIS Version 5.0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(August 29, 2008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ibischk5/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bischk5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Version 5.0.6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(March 2010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touchstone_ver2.0/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Touchston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Version 2.0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(April 24. 2009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tschk2/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tschk2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Version 2.0.0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(December 2009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quality_ver2.0/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BIS Quality Specification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(Oct. 30, 2009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ibis-iss_wip/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BIS-ISS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recent versions wip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interconnect_wip/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nterconnect Task Group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wip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macromodel_wip/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Advanced Technology Task Group (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ip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quality_wip/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Quality Task Group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wip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ill Sans MT"/>
              </a:rPr>
              <a:t>reformat_wip/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Editing Group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wip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wip: work in progress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20" name="Picture 5" descr=""/>
          <p:cNvPicPr/>
          <p:nvPr/>
        </p:nvPicPr>
        <p:blipFill>
          <a:blip r:embed="rId1"/>
          <a:stretch/>
        </p:blipFill>
        <p:spPr>
          <a:xfrm>
            <a:off x="4038480" y="5334120"/>
            <a:ext cx="1219320" cy="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 Organization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echAmerica (www.techamerica.org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Top level organization (offices around the world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Merger of several standards and trade organization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IBIS under SSTC (Standards and Technology Council)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BIS Officers 2010 - 201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Chair: 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Michael Mirmak, Intel Corporation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Vice-Chair: 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Lance Wang, IO Methodology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Librarian: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Anders Ekholm, Ericsson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Secretary: 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Randy Wolff, Micron Technology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Webmaster: 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Syed Huq, Cisco System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Postmaster: 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Mike LaBonte, Cisco Systems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(Past Chair): 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720016"/>
                </a:solidFill>
                <a:latin typeface="Gill Sans MT"/>
              </a:rPr>
              <a:t>Bob Ross, Teraspeed Consulting Group</a:t>
            </a:r>
            <a:endParaRPr b="0" lang="en-US" sz="20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 Active Since 1993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gular IBIS meetin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Teleconference/Web meetings every 3 week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everal standards and documents and parser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BIS Summits (about 5-6 per year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China, Taiwan, Japan, Europe, and USA (2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ctive task groups with leading exper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Advanced Technology Modeling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 - AMI work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Quality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 - IBIS Quality Specification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Interconnect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 - Touchstone Spec., IBIS-ISS, MCP, ICM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IBIS Model Review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 - Free review service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16"/>
                </a:solidFill>
                <a:latin typeface="Gill Sans MT"/>
              </a:rPr>
              <a:t>Editing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 - Reformatting IBIS document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Current Specifications and Parser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BIS Version 5.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Power distribution modeling (SSO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EMI/EMC issue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IBIS-AMI Introduced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Other features such as threshold area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BISCHK5 Version 5.0.6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[Ramp] dV Caution check and other BUGs fixed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uchstone 2.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Mixed-mode, per-port reference impedance, format improvement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SCHK2 Version 2.0.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BIS Quality Specific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Project Details (1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BIS-ISS (IBIS-Interconnect SPICE Subcircuit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IBIS connection with Spice, Specification near approval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Mostly an HSPICE subset with Synopsys permission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Under review, revision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BIS-AMI (IBIS-Algorithmic Model Interfac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Cleanup of specification and flow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New features under discussion for SerDes, back channel modeling, and repeater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BIS Version 5.1, 5.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Would include IBIS-AMI advances and IBIS-ISS linkages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60960" indent="-25416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Re-formatting into true .doc and .pdf document with true graphics (starting point is Version 5.0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IBIS Format change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ending IBIS Version 5.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isting IBIS Version 5.0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1378080" y="2133720"/>
            <a:ext cx="6089400" cy="21398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" descr=""/>
          <p:cNvPicPr/>
          <p:nvPr/>
        </p:nvPicPr>
        <p:blipFill>
          <a:blip r:embed="rId2"/>
          <a:stretch/>
        </p:blipFill>
        <p:spPr>
          <a:xfrm>
            <a:off x="1346040" y="4695840"/>
            <a:ext cx="6096240" cy="14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6ecc"/>
                </a:solidFill>
                <a:latin typeface="Gill Sans MT"/>
              </a:rPr>
              <a:t>Project Details (2)</a:t>
            </a:r>
            <a:endParaRPr b="1" lang="en-US" sz="32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CP (Model Connection Protocol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Allows connections to die, package, board, and more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pecification format being discussed (after IBIS-ISS review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ignal and power path grouping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uchstone Version 2.1 (or 3.0) featur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Sparse matrix mapping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Binary format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BISCHK5 Version 5.0.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Open, future BUGS being addressed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ality Task Grou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Test load proposal (links via IBIS-ISS)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16"/>
                </a:solidFill>
                <a:latin typeface="Gill Sans MT"/>
              </a:rPr>
              <a:t>Correlation investigation</a:t>
            </a:r>
            <a:endParaRPr b="0" lang="en-US" sz="2400" spc="-1" strike="noStrike">
              <a:solidFill>
                <a:srgbClr val="720016"/>
              </a:solidFill>
              <a:latin typeface="Gill Sans MT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6ecc"/>
                </a:solidFill>
                <a:latin typeface="Gill Sans MT"/>
              </a:rPr>
              <a:t>Touchstone 2.0 Features</a:t>
            </a:r>
            <a:endParaRPr b="1" lang="en-US" sz="36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ome industry adop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Thirteen keywords for detail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676080" indent="-25992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tschk2: checks and converts Version 1.0/2.0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eatu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Individual port reference impedances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1" marL="676080" indent="-259920">
              <a:spcBef>
                <a:spcPts val="700"/>
              </a:spcBef>
              <a:buClr>
                <a:srgbClr val="720016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16"/>
                </a:solidFill>
                <a:latin typeface="Gill Sans MT"/>
              </a:rPr>
              <a:t>General mixed-mode syntax (example shown)</a:t>
            </a:r>
            <a:endParaRPr b="0" lang="en-US" sz="2800" spc="-1" strike="noStrike">
              <a:solidFill>
                <a:srgbClr val="720016"/>
              </a:solidFill>
              <a:latin typeface="Gill Sans MT"/>
            </a:endParaRPr>
          </a:p>
          <a:p>
            <a:pPr lvl="2" marL="1040040" indent="-207720"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Diagonal centric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2" marL="1040040" indent="-207720"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Supports single-ended and mixed-mode ports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  <a:p>
            <a:pPr lvl="2" marL="1040040" indent="-207720">
              <a:spcBef>
                <a:spcPts val="601"/>
              </a:spcBef>
              <a:buClr>
                <a:srgbClr val="186ecc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cc"/>
                </a:solidFill>
                <a:latin typeface="Gill Sans MT"/>
              </a:rPr>
              <a:t>In mixed-mode, names the single-ended ports</a:t>
            </a:r>
            <a:endParaRPr b="0" lang="en-US" sz="24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49" name="Footer Placeholder 3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ooter Placeholder 2"/>
          <p:cNvSpPr/>
          <p:nvPr/>
        </p:nvSpPr>
        <p:spPr>
          <a:xfrm>
            <a:off x="24382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2011 Teraspeed Consulting Group LLC </a:t>
            </a:r>
            <a:endParaRPr b="1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86ecc"/>
                </a:solidFill>
                <a:latin typeface="Gill Sans MT"/>
              </a:rPr>
              <a:t>[Mixed-Mode Order] D1,2 D3,4 C1,2 C3,4</a:t>
            </a:r>
            <a:br>
              <a:rPr sz="2800"/>
            </a:br>
            <a:r>
              <a:rPr b="1" lang="en-US" sz="2800" spc="-1" strike="noStrike">
                <a:solidFill>
                  <a:srgbClr val="186ecc"/>
                </a:solidFill>
                <a:latin typeface="Gill Sans MT"/>
              </a:rPr>
              <a:t>(1,2 and 3,4 port-pairs by position)</a:t>
            </a:r>
            <a:endParaRPr b="1" lang="en-US" sz="2800" spc="-1" strike="noStrike">
              <a:solidFill>
                <a:srgbClr val="186ecc"/>
              </a:solidFill>
              <a:latin typeface="Gill Sans MT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167652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Line 4"/>
          <p:cNvSpPr/>
          <p:nvPr/>
        </p:nvSpPr>
        <p:spPr>
          <a:xfrm>
            <a:off x="10666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Line 5"/>
          <p:cNvSpPr/>
          <p:nvPr/>
        </p:nvSpPr>
        <p:spPr>
          <a:xfrm>
            <a:off x="1066680" y="2057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Line 6"/>
          <p:cNvSpPr/>
          <p:nvPr/>
        </p:nvSpPr>
        <p:spPr>
          <a:xfrm>
            <a:off x="2971800" y="1600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6172200" y="1371600"/>
            <a:ext cx="1295280" cy="91440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Line 8"/>
          <p:cNvSpPr/>
          <p:nvPr/>
        </p:nvSpPr>
        <p:spPr>
          <a:xfrm>
            <a:off x="5562720" y="16002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Line 9"/>
          <p:cNvSpPr/>
          <p:nvPr/>
        </p:nvSpPr>
        <p:spPr>
          <a:xfrm>
            <a:off x="5562720" y="20574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Line 10"/>
          <p:cNvSpPr/>
          <p:nvPr/>
        </p:nvSpPr>
        <p:spPr>
          <a:xfrm>
            <a:off x="7467480" y="16002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0" name="Text Box 11"/>
          <p:cNvSpPr/>
          <p:nvPr/>
        </p:nvSpPr>
        <p:spPr>
          <a:xfrm>
            <a:off x="609480" y="1371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Text Box 12"/>
          <p:cNvSpPr/>
          <p:nvPr/>
        </p:nvSpPr>
        <p:spPr>
          <a:xfrm>
            <a:off x="685800" y="1905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" name="Text Box 13"/>
          <p:cNvSpPr/>
          <p:nvPr/>
        </p:nvSpPr>
        <p:spPr>
          <a:xfrm>
            <a:off x="3657600" y="1371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Text Box 14"/>
          <p:cNvSpPr/>
          <p:nvPr/>
        </p:nvSpPr>
        <p:spPr>
          <a:xfrm>
            <a:off x="8077320" y="1371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d”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Text Box 15"/>
          <p:cNvSpPr/>
          <p:nvPr/>
        </p:nvSpPr>
        <p:spPr>
          <a:xfrm>
            <a:off x="4876920" y="1371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d”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Text Box 16"/>
          <p:cNvSpPr/>
          <p:nvPr/>
        </p:nvSpPr>
        <p:spPr>
          <a:xfrm>
            <a:off x="4876920" y="1905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c”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Text Box 17"/>
          <p:cNvSpPr/>
          <p:nvPr/>
        </p:nvSpPr>
        <p:spPr>
          <a:xfrm>
            <a:off x="198108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E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" name="Text Box 18"/>
          <p:cNvSpPr/>
          <p:nvPr/>
        </p:nvSpPr>
        <p:spPr>
          <a:xfrm>
            <a:off x="632448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MM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Text Box 19"/>
          <p:cNvSpPr/>
          <p:nvPr/>
        </p:nvSpPr>
        <p:spPr>
          <a:xfrm>
            <a:off x="2819520" y="4191120"/>
            <a:ext cx="2743200" cy="225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os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entry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MM</a:t>
            </a:r>
            <a:endParaRPr b="1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1,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1”</a:t>
            </a:r>
            <a:endParaRPr b="1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D3,4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2”</a:t>
            </a:r>
            <a:endParaRPr b="1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Gill Sans MT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1,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1”</a:t>
            </a:r>
            <a:endParaRPr b="1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C3,4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“2”</a:t>
            </a:r>
            <a:endParaRPr b="1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Text Box 20"/>
          <p:cNvSpPr/>
          <p:nvPr/>
        </p:nvSpPr>
        <p:spPr>
          <a:xfrm>
            <a:off x="4952880" y="2362320"/>
            <a:ext cx="3657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12</a:t>
            </a:r>
            <a:endParaRPr b="1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d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dc22</a:t>
            </a:r>
            <a:endParaRPr b="1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12</a:t>
            </a:r>
            <a:endParaRPr b="1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d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cc22</a:t>
            </a:r>
            <a:endParaRPr b="1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Text Box 21"/>
          <p:cNvSpPr/>
          <p:nvPr/>
        </p:nvSpPr>
        <p:spPr>
          <a:xfrm>
            <a:off x="380880" y="2362320"/>
            <a:ext cx="3505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14</a:t>
            </a:r>
            <a:endParaRPr b="1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24</a:t>
            </a:r>
            <a:endParaRPr b="1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34</a:t>
            </a:r>
            <a:endParaRPr b="1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1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2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3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S44</a:t>
            </a:r>
            <a:endParaRPr b="1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Text Box 22"/>
          <p:cNvSpPr/>
          <p:nvPr/>
        </p:nvSpPr>
        <p:spPr>
          <a:xfrm>
            <a:off x="5867280" y="4343400"/>
            <a:ext cx="2743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Diff Port notation by position, numbers for SE ports</a:t>
            </a: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AutoShape 24"/>
          <p:cNvSpPr/>
          <p:nvPr/>
        </p:nvSpPr>
        <p:spPr>
          <a:xfrm>
            <a:off x="3962520" y="2590920"/>
            <a:ext cx="761760" cy="457200"/>
          </a:xfrm>
          <a:prstGeom prst="leftRightArrow">
            <a:avLst>
              <a:gd name="adj1" fmla="val 50000"/>
              <a:gd name="adj2" fmla="val 33169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Line 25"/>
          <p:cNvSpPr/>
          <p:nvPr/>
        </p:nvSpPr>
        <p:spPr>
          <a:xfrm>
            <a:off x="5410080" y="1752480"/>
            <a:ext cx="30492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Line 26"/>
          <p:cNvSpPr/>
          <p:nvPr/>
        </p:nvSpPr>
        <p:spPr>
          <a:xfrm flipH="1">
            <a:off x="6629040" y="1752480"/>
            <a:ext cx="16002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5" name="Text Box 28"/>
          <p:cNvSpPr/>
          <p:nvPr/>
        </p:nvSpPr>
        <p:spPr>
          <a:xfrm>
            <a:off x="0" y="160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1”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AutoShape 29"/>
          <p:cNvSpPr/>
          <p:nvPr/>
        </p:nvSpPr>
        <p:spPr>
          <a:xfrm>
            <a:off x="609480" y="1371600"/>
            <a:ext cx="152640" cy="838080"/>
          </a:xfrm>
          <a:custGeom>
            <a:avLst/>
            <a:gdLst>
              <a:gd name="textAreaLeft" fmla="*/ 97560 w 152640"/>
              <a:gd name="textAreaRight" fmla="*/ 153000 w 1526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7" name="Line 30"/>
          <p:cNvSpPr/>
          <p:nvPr/>
        </p:nvSpPr>
        <p:spPr>
          <a:xfrm>
            <a:off x="2971800" y="20574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8" name="Line 31"/>
          <p:cNvSpPr/>
          <p:nvPr/>
        </p:nvSpPr>
        <p:spPr>
          <a:xfrm>
            <a:off x="7467480" y="2057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" name="Text Box 32"/>
          <p:cNvSpPr/>
          <p:nvPr/>
        </p:nvSpPr>
        <p:spPr>
          <a:xfrm>
            <a:off x="3657600" y="1905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Text Box 33"/>
          <p:cNvSpPr/>
          <p:nvPr/>
        </p:nvSpPr>
        <p:spPr>
          <a:xfrm>
            <a:off x="8077320" y="1905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c”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" name="Line 34"/>
          <p:cNvSpPr/>
          <p:nvPr/>
        </p:nvSpPr>
        <p:spPr>
          <a:xfrm>
            <a:off x="5334120" y="2286000"/>
            <a:ext cx="182880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Line 35"/>
          <p:cNvSpPr/>
          <p:nvPr/>
        </p:nvSpPr>
        <p:spPr>
          <a:xfrm flipH="1">
            <a:off x="8305560" y="2209680"/>
            <a:ext cx="152280" cy="1524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3" name="AutoShape 36"/>
          <p:cNvSpPr/>
          <p:nvPr/>
        </p:nvSpPr>
        <p:spPr>
          <a:xfrm>
            <a:off x="3962520" y="1447920"/>
            <a:ext cx="152280" cy="761760"/>
          </a:xfrm>
          <a:custGeom>
            <a:avLst/>
            <a:gdLst>
              <a:gd name="textAreaLeft" fmla="*/ 0 w 152280"/>
              <a:gd name="textAreaRight" fmla="*/ 55080 w 15228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" name="Text Box 37"/>
          <p:cNvSpPr/>
          <p:nvPr/>
        </p:nvSpPr>
        <p:spPr>
          <a:xfrm>
            <a:off x="4114800" y="160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2”</a:t>
            </a:r>
            <a:endParaRPr b="1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0T13:19:28Z</dcterms:created>
  <dc:creator>Bob Ross</dc:creator>
  <dc:description/>
  <dc:language>en-US</dc:language>
  <cp:lastModifiedBy>bob</cp:lastModifiedBy>
  <dcterms:modified xsi:type="dcterms:W3CDTF">2011-05-01T03:19:32Z</dcterms:modified>
  <cp:revision>771</cp:revision>
  <dc:subject/>
  <dc:title>IBIS</dc:title>
</cp:coreProperties>
</file>