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0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39492C39-DE8E-478E-88CE-47F4D77DAFBE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Activiti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uropean IBIS Summ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ldesheim, German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y 12, 201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@teraspeed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57600" y="457200"/>
            <a:ext cx="18288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Organiza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ffic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hair: </a:t>
            </a: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Bob Ross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, Teraspeed Consulting Group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Vice-Chair: </a:t>
            </a: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Lance Wang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, IO Methodology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ecretary: </a:t>
            </a: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Randy Wolff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, Micron Technology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Webmaster: </a:t>
            </a: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Syed Huq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, Cisco System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ostmaster: </a:t>
            </a: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Mike LaBonte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, Cisco System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Librarian: </a:t>
            </a: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Anders Ekholm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, Ericss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tive task group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IBIS Model Review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– Free review servic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Quality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- IBIS Quality Specification, correla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Interconnect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- Touchstone Spec., ICM, MCP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Advanced Technology Modeling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- AMI work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“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chk5” Parser (2009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chk5, Version 5.0.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ree executables: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http://www.eda.org/pub/ibis/ibischk5/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upports IBIS Version 5.0 (ratified 2008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Algorithmic model interface for Serdes analysis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Power delivery system SSO and gate modulation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EMI parameters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Other – (area based thresholds)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ecks all [IBIS Ver]s of IBIS fi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er $100,000 of contracted work since 1993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pports .ibs, .pkg, .ebd, and .ami formats directly or through linkag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New Flags in ibischk5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4343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m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&lt;file_name&gt;.ami (algorithmic model interface control fil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numbere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numbered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ror,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ning,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tes and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ution messag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143000"/>
            <a:ext cx="7925040" cy="283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age: ibischk5       &lt;IBS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ebd &lt;EBD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pkg &lt;PKG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ami &lt;AMI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age: ibischk5  -caution -numbered      &lt;IBS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caution -numbered -ebd &lt;EBD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caution -numbered -pkg &lt;PKG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caution -numbered -ami &lt;AMI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 flags prior to the file name can be in any order, and the -caution and/or -numbered flags are opt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1981080"/>
            <a:ext cx="2819520" cy="38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286000"/>
            <a:ext cx="144756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3124080"/>
            <a:ext cx="26672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bischk5 {–numbered} –ami  file4.ami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1143000"/>
            <a:ext cx="6782040" cy="252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ecking file4.ami for IBIS 5.0 Compatibility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Illegal Usage value A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Illegal Type value B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Illegal Format value C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No Reserved_Parameters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s  :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 Fa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3886200"/>
            <a:ext cx="6782040" cy="252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ecking file4.ami for IBIS 5.0 Compatibility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7 - Illegal Usage value A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7 - Illegal Type value B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7 - Illegal Format value C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2 - No Reserved_Parameters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s  :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 Fa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343400"/>
            <a:ext cx="838440" cy="1219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600200"/>
            <a:ext cx="838440" cy="1219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“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schk2” Parser (2009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ecks Touchstone Version 1.0 (TS1) and Version 2.0 (TS2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rror and Warning numbe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ree executables: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http://www.eda.org/pub/ibis/tschk2/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verts TS1 to TS2, TS2 to TS1 where practical with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-canonical*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a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vides comment headers and real, imaginary format (RI) with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-describ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a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urce code package includes 440+ test ca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++, well documen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anks to contractor Agilent Technolog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schk2 {-canonical*} FIL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{-canonical | -canonical-v2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TS1, TS2 </a:t>
            </a:r>
            <a:r>
              <a:rPr b="1" lang="en-US" sz="2000" spc="-1" strike="noStrike">
                <a:solidFill>
                  <a:srgbClr val="720016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 TS2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rovides number of ports, frequencies and other informati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Un-normalizes TS1 Y-, Z-, G- and H-parameters and effective noise resistance         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{-canonical-v1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TS1, TS2 </a:t>
            </a:r>
            <a:r>
              <a:rPr b="1" lang="en-US" sz="2000" spc="-1" strike="noStrike">
                <a:solidFill>
                  <a:srgbClr val="720016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 TS1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where practical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pplies column formatting rules and 2-port 21_12 ordering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Normalizes TS2 Y-, Z-, G- and H-parameters and effective noise resistance     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No mixed mode or selectable reference resistance processing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Projects, Activiti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Version 5.1 – improved AM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ibischk5, Version 5.0.X – bug fixes, Version 5.1.0 with improvement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2.1 – adds sparse matrix mapping and binary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tschk2, Version 2.1.0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Interconnect Subcircuit Spice (IBIS-IS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del Connection Protocol (MC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rrelation specification in Quality task grou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summits, thanks Ralf Bruening and Eckhard Lenski for arranging the European IBIS Summi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10-05-03T20:54:43Z</dcterms:modified>
  <cp:revision>750</cp:revision>
  <dc:subject/>
  <dc:title>IBIS</dc:title>
</cp:coreProperties>
</file>