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120" y="728640"/>
            <a:ext cx="479556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6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dt" idx="13"/>
          </p:nvPr>
        </p:nvSpPr>
        <p:spPr>
          <a:xfrm>
            <a:off x="4140360" y="-360"/>
            <a:ext cx="317016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0" y="9121680"/>
            <a:ext cx="317016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4140360" y="9121680"/>
            <a:ext cx="317016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D8542-4DF5-4887-9AF4-343F9C8EF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140360" y="9121680"/>
            <a:ext cx="31701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C337-22F0-466B-A9A1-B754765D6E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8640"/>
            <a:ext cx="4795560" cy="3595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6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CC0-5915-4A2F-9B8B-F233C83D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17B-21F2-407D-B9B3-7671F5F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C98-F435-49A7-B825-69AB9AD8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488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1256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488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1256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946-2710-4A47-84B8-F805B13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C7D0-F03A-4E44-8ECF-5DF9075C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5FD-9652-4562-9EBD-A8036FA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A53-9DDE-4775-9396-93696F03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7ABB-F3CD-4FE9-8F26-F86C73F7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6BB-EFCE-4B6A-847D-7F822812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362320" y="82440"/>
            <a:ext cx="60148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510-6CE6-4628-BCB7-F7CB689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1E0C-FF5D-412D-A4FB-913E989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B65-5B3A-49D2-83E0-292AE24F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5E30-6CD4-45A2-90C0-EA2C496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1CE6-ED59-4A9C-844E-A260538C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D0F-7EDB-498C-AB56-8E3784A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0C1-FCA9-4F81-B38F-071FB78E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488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1256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488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1256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14E-582F-47C5-9797-5ECBB08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5A80-BD36-44C2-BE45-7673735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5A9C-E484-48EF-B1A5-12FCD8BD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275A-ED20-440B-BF96-F00F30F0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7E33-9524-42EE-A6DB-D72C4C3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5ACF-3C33-435E-98F5-CE5D88C5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18C-CDC7-441D-BAD3-2812ED7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362320" y="82440"/>
            <a:ext cx="60148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F2E5-A7A1-4B4E-9D27-A5270F8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54FA-A794-4863-A43C-2E087EC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ED12-09A4-42CB-9FD7-BB27D69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EFA4-9757-4547-ADE8-94A0457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4E01-8E00-4989-A87A-9A2631C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78EA-6BE0-43B8-9A6B-EC965E63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488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1256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488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1256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218F-7E35-4E3A-8F85-9F67AB5D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5656-7C90-4B32-BA0D-B4425DA6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89AE-1F61-4A0F-80F3-9B6BD408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070F-78AE-46C5-A3AB-73768D33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B11-D6AF-44FA-A9EF-9C37964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A87A-07B8-4581-9FB3-E7A5E055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AB7E-30B0-4AEB-AA0C-1920BB4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362320" y="82440"/>
            <a:ext cx="60148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019B-8808-4611-BE1B-7456EE6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F754-8B8C-4822-ACBF-FDBA003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CCC5-50E9-425E-85EC-628C41D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83DB-247E-452B-8607-84D7F5B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931C-0199-4443-BD17-B8BB12D0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AAAF-541A-4616-A9A4-8AF5E5CF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488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12560" y="182844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488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12560" y="4072680"/>
            <a:ext cx="254988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9C0A-51E8-4E7C-BBE4-388D2D40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14D-9EA9-4AD2-8198-13100880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362320" y="82440"/>
            <a:ext cx="60148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B63-8A02-4333-8B8F-4844492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D13-E55A-41C3-9052-4712E3F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5480" y="407268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CB3-A527-49DA-8812-71191F79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5480" y="1828440"/>
            <a:ext cx="3864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2680"/>
            <a:ext cx="79200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F66-7EE3-45F6-B4F8-1E3DB23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42696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.sintecs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BIS model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86680" y="6245280"/>
            <a:ext cx="2714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EAC3A93-1B71-4654-8E8F-FDDB3F2C0410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8534520" y="304920"/>
            <a:ext cx="457200" cy="5029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8534520" y="5638680"/>
            <a:ext cx="457200" cy="457200"/>
          </a:xfrm>
          <a:prstGeom prst="rect">
            <a:avLst/>
          </a:prstGeom>
          <a:solidFill>
            <a:srgbClr val="ff0000"/>
          </a:solid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10" descr="Icon - Sintecs B&amp;W"/>
          <p:cNvPicPr/>
          <p:nvPr/>
        </p:nvPicPr>
        <p:blipFill>
          <a:blip r:embed="rId11"/>
          <a:stretch/>
        </p:blipFill>
        <p:spPr>
          <a:xfrm>
            <a:off x="3952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New-Sintecs-logo"/>
          <p:cNvPicPr/>
          <p:nvPr/>
        </p:nvPicPr>
        <p:blipFill>
          <a:blip r:embed="rId12"/>
          <a:stretch/>
        </p:blipFill>
        <p:spPr>
          <a:xfrm>
            <a:off x="250920" y="404640"/>
            <a:ext cx="201744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534520" y="304920"/>
            <a:ext cx="457200" cy="5029200"/>
          </a:xfrm>
          <a:prstGeom prst="rect">
            <a:avLst/>
          </a:prstGeom>
          <a:blipFill rotWithShape="0">
            <a:blip r:embed="rId3"/>
            <a:srcRect/>
            <a:stretch/>
          </a:blip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534520" y="5638680"/>
            <a:ext cx="457200" cy="457200"/>
          </a:xfrm>
          <a:prstGeom prst="rect">
            <a:avLst/>
          </a:prstGeom>
          <a:solidFill>
            <a:srgbClr val="ff0000"/>
          </a:solid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0" descr="Icon - Sintecs B&amp;W"/>
          <p:cNvPicPr/>
          <p:nvPr/>
        </p:nvPicPr>
        <p:blipFill>
          <a:blip r:embed="rId4"/>
          <a:stretch/>
        </p:blipFill>
        <p:spPr>
          <a:xfrm>
            <a:off x="3952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New-Sintecs-logo"/>
          <p:cNvPicPr/>
          <p:nvPr/>
        </p:nvPicPr>
        <p:blipFill>
          <a:blip r:embed="rId5"/>
          <a:stretch/>
        </p:blipFill>
        <p:spPr>
          <a:xfrm>
            <a:off x="250920" y="404640"/>
            <a:ext cx="2017440" cy="110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42696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.sintecs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BIS model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214680" y="6245280"/>
            <a:ext cx="2786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77BC5B-41DC-417F-9FD4-26A36E9C8B59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534520" y="304920"/>
            <a:ext cx="457200" cy="5029200"/>
          </a:xfrm>
          <a:prstGeom prst="rect">
            <a:avLst/>
          </a:prstGeom>
          <a:blipFill rotWithShape="0">
            <a:blip r:embed="rId3"/>
            <a:srcRect/>
            <a:stretch/>
          </a:blip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8534520" y="5638680"/>
            <a:ext cx="457200" cy="457200"/>
          </a:xfrm>
          <a:prstGeom prst="rect">
            <a:avLst/>
          </a:prstGeom>
          <a:solidFill>
            <a:srgbClr val="ff0000"/>
          </a:solid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0" descr="Icon - Sintecs B&amp;W"/>
          <p:cNvPicPr/>
          <p:nvPr/>
        </p:nvPicPr>
        <p:blipFill>
          <a:blip r:embed="rId4"/>
          <a:stretch/>
        </p:blipFill>
        <p:spPr>
          <a:xfrm>
            <a:off x="3952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New-Sintecs-logo"/>
          <p:cNvPicPr/>
          <p:nvPr/>
        </p:nvPicPr>
        <p:blipFill>
          <a:blip r:embed="rId5"/>
          <a:stretch/>
        </p:blipFill>
        <p:spPr>
          <a:xfrm>
            <a:off x="250920" y="404640"/>
            <a:ext cx="2017440" cy="110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42696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.sintecs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BIS model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286680" y="6244920"/>
            <a:ext cx="2714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3C0033-44DD-4A1A-8E19-206183274CE6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8534520" y="304920"/>
            <a:ext cx="457200" cy="5029200"/>
          </a:xfrm>
          <a:prstGeom prst="rect">
            <a:avLst/>
          </a:prstGeom>
          <a:blipFill rotWithShape="0">
            <a:blip r:embed="rId3"/>
            <a:srcRect/>
            <a:stretch/>
          </a:blip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534520" y="5638680"/>
            <a:ext cx="457200" cy="457200"/>
          </a:xfrm>
          <a:prstGeom prst="rect">
            <a:avLst/>
          </a:prstGeom>
          <a:solidFill>
            <a:srgbClr val="ff0000"/>
          </a:solidFill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Icon - Sintecs B&amp;W"/>
          <p:cNvPicPr/>
          <p:nvPr/>
        </p:nvPicPr>
        <p:blipFill>
          <a:blip r:embed="rId4"/>
          <a:stretch/>
        </p:blipFill>
        <p:spPr>
          <a:xfrm>
            <a:off x="3952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New-Sintecs-logo"/>
          <p:cNvPicPr/>
          <p:nvPr/>
        </p:nvPicPr>
        <p:blipFill>
          <a:blip r:embed="rId5"/>
          <a:stretch/>
        </p:blipFill>
        <p:spPr>
          <a:xfrm>
            <a:off x="250920" y="404640"/>
            <a:ext cx="2017440" cy="110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9200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0788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42696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228600">
              <a:lnSpc>
                <a:spcPct val="81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.sintecs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BIS model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86680" y="6245280"/>
            <a:ext cx="2714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CC69251-6A23-411E-80D0-3845A7FCDDD6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4200" y="1785600"/>
            <a:ext cx="82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BIS model ver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000080" y="3429000"/>
            <a:ext cx="64771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IBIS summit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ldesheim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y, 12</a:t>
            </a:r>
            <a:r>
              <a:rPr b="1" i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r: Hans K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ns.klos@sintecs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118051CF-47FE-4486-BF8C-A5ED08A408A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IBIS_new"/>
          <p:cNvPicPr/>
          <p:nvPr/>
        </p:nvPicPr>
        <p:blipFill>
          <a:blip r:embed="rId1"/>
          <a:stretch/>
        </p:blipFill>
        <p:spPr>
          <a:xfrm>
            <a:off x="500040" y="3929040"/>
            <a:ext cx="13222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_comp exampl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1628640"/>
            <a:ext cx="7931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_comp value is 10x larger than in data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BIS golden parser doesn’t compl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6"/>
          <a:stretch/>
        </p:blipFill>
        <p:spPr>
          <a:xfrm>
            <a:off x="4643280" y="3643200"/>
            <a:ext cx="3657600" cy="21430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1"/>
          <p:cNvSpPr/>
          <p:nvPr/>
        </p:nvSpPr>
        <p:spPr>
          <a:xfrm>
            <a:off x="1500120" y="3214800"/>
            <a:ext cx="2143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comp = 10 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286240" y="3214800"/>
            <a:ext cx="2143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comp = 1 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B731A178-61A6-4EEC-BF0D-01C4FA18242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BIS Quality check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5D3BD486-6D07-4B27-BCE2-6C2F3CD17B9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28760" y="1628640"/>
            <a:ext cx="842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2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581040" y="1781280"/>
            <a:ext cx="84297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 level and type of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onents che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del che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7"/>
          <a:stretch/>
        </p:blipFill>
        <p:spPr>
          <a:xfrm>
            <a:off x="1714680" y="4786200"/>
            <a:ext cx="6724440" cy="1200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8"/>
          <a:stretch/>
        </p:blipFill>
        <p:spPr>
          <a:xfrm>
            <a:off x="571680" y="3214800"/>
            <a:ext cx="515268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odel verification tim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2CF2D047-5732-4A1C-BEA7-0A75C49AF77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28760" y="1628640"/>
            <a:ext cx="75722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spend for full verification (Level3) depends on the number of models available in the ibis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ample Altera Stratix IV has more than 300 different buffer models. Verifying this ibis model with the IBIS Quality template will cost several weeks/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928880" y="528624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hat will happen when you get a new version of the Stratix IV model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ther model typ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3D0FE986-790A-4024-93BE-FFF86A1F00D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28760" y="1785960"/>
            <a:ext cx="75722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BIS 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uchston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BIS I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ckag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BD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IBIS-AMI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28760" y="1628640"/>
            <a:ext cx="75722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IBIS-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gorithmic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el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ter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BIS-AM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 modeling standard for SerDes transceivers that enables fast, accurate, statistically significant simulation of multi-gigabit serial links. IBIS-AMI was developed by a consortium of EDA, Semiconductor and Systems companies and was approved as part of the IBIS 5.0 specification in August 200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IS-AMI models have two p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o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7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ic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FE7E2A9E-D056-441D-B8CC-16E265610FE7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62320" y="154080"/>
            <a:ext cx="6014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BIS-AMI model verific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28760" y="1628640"/>
            <a:ext cx="75722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gorithmic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lied as binary code (.DLL) that gets linked into the Channel Simulator at run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verification can be done, comparison with measurement i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0003A3C4-DEDD-4F96-958D-B487165045EC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ouchstone mode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28760" y="1628640"/>
            <a:ext cx="75722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Touchstone file (also known as an SnP file) is an ASCII text file used for documenting the n-port network parameter data of an active device or passive interconnect networ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uchstone® File Format Specification Version 2.0 (April 20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Touchstone parser, tschk2, is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6"/>
          <a:stretch/>
        </p:blipFill>
        <p:spPr>
          <a:xfrm>
            <a:off x="1928880" y="3500280"/>
            <a:ext cx="4214880" cy="264492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901DB847-0E70-42C0-9729-C71DE3850F1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IBIS ICM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428760" y="1628640"/>
            <a:ext cx="75722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 Interconnect Modeling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CM) is a behavioral, ASCII-based file format for distributing passive interconnect modeling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CM parser, icmchk1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1357200" y="3643200"/>
            <a:ext cx="6143760" cy="2217960"/>
          </a:xfrm>
          <a:prstGeom prst="rect">
            <a:avLst/>
          </a:prstGeom>
          <a:ln w="0">
            <a:noFill/>
          </a:ln>
        </p:spPr>
      </p:pic>
      <p:sp>
        <p:nvSpPr>
          <p:cNvPr id="291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01F98251-E22F-46B3-B393-A91B7A52B8A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ckage mode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28760" y="1628640"/>
            <a:ext cx="79293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ailable in ibis model or in separate *.pkg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detailed package model than standard lumped R_pin, L_pin, C_pin or generic [Package]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pkg models are transmission lin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LC matrixes for cou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18F8B12C-9AB2-4AF0-85EF-A619EE7EB07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EBD mode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B4D0553E-09BB-4F6A-A732-3C629B5F9CC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428760" y="1628640"/>
            <a:ext cx="79293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BD – Electrical Boar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ure transmission line description without cou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inductance and capacitance parameters listed in the file are derived with respect to well-defined reference plane (s) within the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 in EBD is described as zero length with lumped RLC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BD is good for transmission line effect investigation and timing analysis for first order consid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28760" y="1628640"/>
            <a:ext cx="842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tecs is a European electronics design engineering &amp; services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te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ices: Hengelo, The Netherlands, and Minsk, Bela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board design and analy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IS modeling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ion and verification of ibis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9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IBIS model viewing and editing utility,                          "IBIS Development Studio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2280" indent="-407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41A60B24-7461-4AF6-A7AB-C0F22FB28AA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2317EE97-B022-4FBC-B384-2FBF56E78A4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28760" y="1628640"/>
            <a:ext cx="785808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ification of IBIS models is needed for accurate SI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 types of models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ailed verification of IBIS models costs a  lot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on needed for accurate and fast model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2340000" y="260280"/>
            <a:ext cx="5108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7" descr="Icon - Sintecs B&amp;W"/>
          <p:cNvPicPr/>
          <p:nvPr/>
        </p:nvPicPr>
        <p:blipFill>
          <a:blip r:embed="rId1"/>
          <a:stretch/>
        </p:blipFill>
        <p:spPr>
          <a:xfrm>
            <a:off x="2411280" y="213372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311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C0BD7EE3-05B7-40A4-A776-F70ABA4A9A7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1960" y="82440"/>
            <a:ext cx="5995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BIS model verific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7C5CFE9E-15DD-422E-9DD1-DCA8568FC2B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28760" y="1628640"/>
            <a:ext cx="842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p 1. IBIS golden par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p 2. Graphical insp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p 3. IBIS quality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p 4. Simulation with standard test 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p 5. Compare with measurement res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2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BIS Quality level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EF42C580-D9CB-4C7D-932D-8CD177FA851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28760" y="1628640"/>
            <a:ext cx="8429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 check per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asses IBISCHK without Errors or unexplained W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1 + data for basic simulation chec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2 + data for timing analysis chec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3 + data for power analysis chec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 design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3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3 + correlated against hardware m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3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3 + correlated against measurements and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3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3 + golden waveforms + correlated against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Q4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IQ4, but exception(s) to check(s) commented in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407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2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olden Parser and graphical inspec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6215040" cy="37544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357120" y="45720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Golden parser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Straight Arrow Connector 10"/>
          <p:cNvCxnSpPr/>
          <p:nvPr/>
        </p:nvCxnSpPr>
        <p:spPr>
          <a:xfrm>
            <a:off x="1785600" y="4928760"/>
            <a:ext cx="5007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5" name="TextBox 9"/>
          <p:cNvSpPr/>
          <p:nvPr/>
        </p:nvSpPr>
        <p:spPr>
          <a:xfrm>
            <a:off x="357120" y="257184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Inspection with an IBIS model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6" name="Straight Arrow Connector 10"/>
          <p:cNvCxnSpPr/>
          <p:nvPr/>
        </p:nvCxnSpPr>
        <p:spPr>
          <a:xfrm>
            <a:off x="1928880" y="3214800"/>
            <a:ext cx="27151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7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14917C97-89AD-4CC5-8DE5-6960873ACAC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-monotonic wavefor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8F4B1D97-0B7D-4B8D-8BE0-80AA2186C92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6143760" cy="372888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10"/>
          <p:cNvCxnSpPr/>
          <p:nvPr/>
        </p:nvCxnSpPr>
        <p:spPr>
          <a:xfrm flipV="1">
            <a:off x="3357720" y="3999960"/>
            <a:ext cx="7149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Box 15"/>
          <p:cNvSpPr/>
          <p:nvPr/>
        </p:nvSpPr>
        <p:spPr>
          <a:xfrm>
            <a:off x="500040" y="5429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-down data is non-monotonic, do I need to fix this and how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mbine waveform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5643720" cy="34257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500040" y="507204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ull-down and ground clamp IV curves are combined, the non-monotonic behavior is not present. Still fix pull-down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9BA5C59E-A502-422A-8F74-43EB53ED47E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D clamping diod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46560" cy="33433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5357880" y="2000160"/>
            <a:ext cx="2786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 device without signal clamping dio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nd clamp of this CMOS buffer, clamps  multiple Amps (ESD diode pres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use this diode for signal clam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538C527E-A6D6-4D1B-8229-F0AA1CD38C2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2320" y="82440"/>
            <a:ext cx="6014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ffect of ESD clamping diodes in IBI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6570720" cy="33577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1357200" y="5214960"/>
            <a:ext cx="65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waveform is with the ground-clamp and the red waveform, when the ground clamp is disab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Date Placeholder 2"/>
          <p:cNvSpPr/>
          <p:nvPr/>
        </p:nvSpPr>
        <p:spPr>
          <a:xfrm>
            <a:off x="457200" y="6245280"/>
            <a:ext cx="253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ww.sintecs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245280"/>
            <a:ext cx="2948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IS model 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286680" y="6245280"/>
            <a:ext cx="2714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© Sintecs BV 201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fld id="{308473E2-E854-494C-834E-3E4D29EF2DD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 Klos</dc:creator>
  <dc:description/>
  <cp:keywords>Sintecs IBIS model verification</cp:keywords>
  <dc:language>en-US</dc:language>
  <cp:lastModifiedBy>Hans Klos</cp:lastModifiedBy>
  <dcterms:modified xsi:type="dcterms:W3CDTF">2010-04-28T08:52:57Z</dcterms:modified>
  <cp:revision>266</cp:revision>
  <dc:subject>Sintecs IBIS model verification</dc:subject>
  <dc:title>Sintecs IBIS model verification</dc:title>
</cp:coreProperties>
</file>