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7BFE-D1FE-4556-9344-945895C44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6EC5-9094-4494-B0D0-EE8E3F14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1949-5FF1-4F4A-8419-47C3A48A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6F84-A140-4A76-97D2-AE021A722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FB80-5474-47C2-BB11-8F221B65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5ED1-E3AF-4B22-B198-52590DA5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C3A6-7BC1-4FDD-8598-C872570C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A42E-455A-40CD-BD75-82C058DA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E489-0AB9-4A48-8A31-4B3899BB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4C86-BED7-42B5-9E79-01E1A3E1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C8B7-A4C5-4844-AF8D-C4BE8235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D3FE-51BB-4841-9227-D4769FCC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1E60-502C-4776-9078-A867AD8E4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4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e64"/>
                </a:gs>
                <a:gs pos="50000">
                  <a:srgbClr val="00dfca"/>
                </a:gs>
                <a:gs pos="100000">
                  <a:srgbClr val="006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65f7f"/>
                </a:gs>
                <a:gs pos="50000">
                  <a:srgbClr val="d989b8"/>
                </a:gs>
                <a:gs pos="100000">
                  <a:srgbClr val="965f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60582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urrent IBIS Activities</a:t>
            </a:r>
            <a:br>
              <a:rPr sz="4400"/>
            </a:b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&amp; Issu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90360" y="236232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or Graphics Cor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IBIS Summit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nich,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9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Status Update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on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 3.2 January 15, 1999 - Forward to ANSI/EIA-656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 Review &amp; Response Plan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chk3 - Nearly Ratified (at Version 3.2.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C 62014-1 (IBIS Ver 2.1) - Still 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8 IBIS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350 on Refl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 Members, 70 Companies, 170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Face-to-Face Sum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30 Company IBIS Model Web Sit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 3.1 Ra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chk3 Version 3.1.0 Ra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Activities &amp; Issu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for IBIS Version 4.0 Ad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or Specification - I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eda.org/pub/ibis/connector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IS User’s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cy Specification - I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da.org/pub/ibis/accurac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Education Activity - Being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User Group Teleconferenc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ng Relationship with EIAJ I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ing European EMC/EMI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ing JEDEC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Meeting Today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Activities &amp;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Checking and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3.2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Development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s and Ad Hoc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11T23:17:32Z</dcterms:created>
  <dc:creator/>
  <dc:description/>
  <dc:language>en-US</dc:language>
  <cp:lastModifiedBy>bob</cp:lastModifiedBy>
  <cp:lastPrinted>1999-02-20T14:36:04Z</cp:lastPrinted>
  <dcterms:modified xsi:type="dcterms:W3CDTF">1999-02-22T15:22:14Z</dcterms:modified>
  <cp:revision>105</cp:revision>
  <dc:subject/>
  <dc:title>IBIS ACCURACY</dc:title>
</cp:coreProperties>
</file>