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8920" y="417420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41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836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80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892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836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80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41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5950080" y="69840"/>
          <a:ext cx="307008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0080" y="69840"/>
                    <a:ext cx="3070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" name=""/>
          <p:cNvSpPr/>
          <p:nvPr/>
        </p:nvSpPr>
        <p:spPr>
          <a:xfrm>
            <a:off x="569160" y="6602400"/>
            <a:ext cx="247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ab0"/>
                </a:solidFill>
                <a:latin typeface="Humnst777 Lt BT"/>
              </a:rPr>
              <a:t>Copyright </a:t>
            </a:r>
            <a:r>
              <a:rPr b="0" lang="en-US" sz="1000" spc="-1" strike="noStrike">
                <a:solidFill>
                  <a:srgbClr val="000ab0"/>
                </a:solidFill>
                <a:latin typeface="Humnst777 BT"/>
              </a:rPr>
              <a:t>INCASES</a:t>
            </a:r>
            <a:r>
              <a:rPr b="0" lang="en-US" sz="1000" spc="-1" strike="noStrike">
                <a:solidFill>
                  <a:srgbClr val="000ab0"/>
                </a:solidFill>
                <a:latin typeface="Humnst777 Lt BT"/>
              </a:rPr>
              <a:t> Engineering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3760" y="1066680"/>
            <a:ext cx="8626320" cy="0"/>
          </a:xfrm>
          <a:prstGeom prst="line">
            <a:avLst/>
          </a:prstGeom>
          <a:ln w="25560">
            <a:solidFill>
              <a:srgbClr val="000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93760" y="6553080"/>
            <a:ext cx="8626320" cy="0"/>
          </a:xfrm>
          <a:prstGeom prst="line">
            <a:avLst/>
          </a:prstGeom>
          <a:ln w="25560">
            <a:solidFill>
              <a:srgbClr val="000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362320"/>
            <a:ext cx="777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</a:rPr>
              <a:t>Future Requirement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</a:rPr>
              <a:t>Frequency Depen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</a:rPr>
              <a:t>Package and MCM Mode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9600" y="2362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1371600"/>
            <a:ext cx="8742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Recent results of research projects  have sh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that it will be necessary to consider frequ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dependent behaviour of MCM and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nterconnect structures in fu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Humnst777 Lt B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5320" y="5676840"/>
            <a:ext cx="764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Humnst777 Lt BT"/>
              </a:rPr>
              <a:t>PARASITICS, http://parasitics.ims.uni-hannover.d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umnst777 Lt BT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Humnst777 Lt BT"/>
              </a:rPr>
              <a:t>funded by BMBF under grant 01 M 3034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4880" y="3790800"/>
            <a:ext cx="7777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Limited complexity to be applied in time domain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Reasonabl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33440" y="142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662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Example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7" name=""/>
          <p:cNvSpPr/>
          <p:nvPr/>
        </p:nvSpPr>
        <p:spPr>
          <a:xfrm>
            <a:off x="398160" y="1371600"/>
            <a:ext cx="42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Typical MCM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90960" y="3495600"/>
          <a:ext cx="5589360" cy="230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0960" y="3495600"/>
                    <a:ext cx="5589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86720" y="22478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Objects to be modell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0280" y="2743200"/>
            <a:ext cx="7777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redistributio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x/y w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Example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3696480" y="1428840"/>
            <a:ext cx="49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Basic lumped elemen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gnal path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8440" y="2976480"/>
          <a:ext cx="3954600" cy="254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2976480"/>
                    <a:ext cx="39546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891320" y="5634000"/>
            <a:ext cx="35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ivalent circuit for Ski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ling (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9960" y="1665360"/>
            <a:ext cx="3573360" cy="3986640"/>
            <a:chOff x="399960" y="1665360"/>
            <a:chExt cx="3573360" cy="3986640"/>
          </a:xfrm>
        </p:grpSpPr>
        <p:graphicFrame>
          <p:nvGraphicFramePr>
            <p:cNvPr id="69" name=""/>
            <p:cNvGraphicFramePr/>
            <p:nvPr/>
          </p:nvGraphicFramePr>
          <p:xfrm>
            <a:off x="399960" y="1665360"/>
            <a:ext cx="3573360" cy="39067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960" y="1665360"/>
                      <a:ext cx="3573360" cy="390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1562040" y="5253120"/>
              <a:ext cx="1204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 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17120" y="3093840"/>
              <a:ext cx="124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13960" y="5748480"/>
            <a:ext cx="36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quency independent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Example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71600"/>
            <a:ext cx="451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mulation model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a selected MCM sig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path using basic lum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21240" y="1225440"/>
          <a:ext cx="4006800" cy="51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1225440"/>
                    <a:ext cx="40068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12120" y="3768840"/>
            <a:ext cx="425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mplex networ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passiv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Example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82" name=""/>
          <p:cNvSpPr/>
          <p:nvPr/>
        </p:nvSpPr>
        <p:spPr>
          <a:xfrm>
            <a:off x="481680" y="1371600"/>
            <a:ext cx="294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mparis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mu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319640" y="1263600"/>
          <a:ext cx="38559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263600"/>
                    <a:ext cx="38559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85360" y="31240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catt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parameter S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Example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88" name=""/>
          <p:cNvSpPr/>
          <p:nvPr/>
        </p:nvSpPr>
        <p:spPr>
          <a:xfrm>
            <a:off x="481680" y="1371600"/>
            <a:ext cx="294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mparis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mu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38520" y="1397160"/>
          <a:ext cx="4267080" cy="49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8520" y="1397160"/>
                    <a:ext cx="4267080" cy="49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85360" y="31240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catt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parameter S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oupling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94" name=""/>
          <p:cNvSpPr/>
          <p:nvPr/>
        </p:nvSpPr>
        <p:spPr>
          <a:xfrm>
            <a:off x="-20880" y="1371600"/>
            <a:ext cx="887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nsideration of parallel interconnect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has to be limited to allow efficient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extrac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64080" y="539100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4 x 4 system of frequency dependent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line parameters to consider coupling effe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08280" y="2803680"/>
          <a:ext cx="548784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2803680"/>
                    <a:ext cx="54878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4880" y="1409760"/>
            <a:ext cx="7777080" cy="455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</a:rPr>
              <a:t>Lumped element descriptions are sufficient  for frequency dependent modelling of single signal paths on MCM and pack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520" indent="-38952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</a:rPr>
              <a:t>Currently IBIS is supporting only limited structures to support this kind of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520" indent="-38952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</a:rPr>
              <a:t>IBIS format has to become more flexible to support various types of lumped element models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520" indent="-38952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520" indent="-38952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</a:rPr>
              <a:t>Frequency dependent transmission line parameters will become important for modelling of signal paths including coupling in 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EvG</dc:creator>
  <dc:description>This presentation is meant to be sent to all FOP and resellers together with the 1st beta shipment, so active promotion can be started.</dc:description>
  <dc:language>en-US</dc:language>
  <cp:lastModifiedBy>Werner Rissiek</cp:lastModifiedBy>
  <cp:lastPrinted>1999-03-04T16:51:59Z</cp:lastPrinted>
  <dcterms:modified xsi:type="dcterms:W3CDTF">1999-03-04T17:05:50Z</dcterms:modified>
  <cp:revision>65</cp:revision>
  <dc:subject/>
  <dc:title> EMC-Engineer presentation</dc:title>
</cp:coreProperties>
</file>