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18920" y="417420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041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836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7800" y="152388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1892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836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7800" y="417420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04120" y="417420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89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4120" y="152388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18920" y="417420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5950080" y="69840"/>
          <a:ext cx="3070080" cy="977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50080" y="69840"/>
                    <a:ext cx="307008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" name=""/>
          <p:cNvSpPr/>
          <p:nvPr/>
        </p:nvSpPr>
        <p:spPr>
          <a:xfrm>
            <a:off x="569160" y="6602400"/>
            <a:ext cx="2473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ab0"/>
                </a:solidFill>
                <a:latin typeface="Humnst777 Lt BT"/>
              </a:rPr>
              <a:t>Copyright </a:t>
            </a:r>
            <a:r>
              <a:rPr b="0" lang="en-US" sz="1000" spc="-1" strike="noStrike">
                <a:solidFill>
                  <a:srgbClr val="000ab0"/>
                </a:solidFill>
                <a:latin typeface="Humnst777 BT"/>
              </a:rPr>
              <a:t>INCASES</a:t>
            </a:r>
            <a:r>
              <a:rPr b="0" lang="en-US" sz="1000" spc="-1" strike="noStrike">
                <a:solidFill>
                  <a:srgbClr val="000ab0"/>
                </a:solidFill>
                <a:latin typeface="Humnst777 Lt BT"/>
              </a:rPr>
              <a:t> Engineering Gm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3760" y="1066680"/>
            <a:ext cx="8626320" cy="0"/>
          </a:xfrm>
          <a:prstGeom prst="line">
            <a:avLst/>
          </a:prstGeom>
          <a:ln w="25560">
            <a:solidFill>
              <a:srgbClr val="000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293760" y="6553080"/>
            <a:ext cx="8626320" cy="0"/>
          </a:xfrm>
          <a:prstGeom prst="line">
            <a:avLst/>
          </a:prstGeom>
          <a:ln w="25560">
            <a:solidFill>
              <a:srgbClr val="000a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718920" y="152388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362320"/>
            <a:ext cx="7777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</a:rPr>
              <a:t>Detecting Typical Bug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</a:rPr>
              <a:t>in IBIS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09600" y="2362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Invalid Ramp Data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2171880"/>
            <a:ext cx="6381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0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Rising edge (dV/dt) is specified such that dV=3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rom static V/I curves with specified load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and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are calculated such that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-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low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= 2.8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371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9719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nflicting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Differential Buffer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2438280"/>
            <a:ext cx="8153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4000"/>
          </a:bodyPr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tatic behavior (e.g. V / I cur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7320" indent="-33732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dynamic behavior (dv/dt, rising/falling wavefor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96252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Often, dynamic behavior is measured using differential term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371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BIS only supports independent buffer description for positive and negative output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9436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This load cannot be considered in IBIS model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98000" y="4400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784840" y="4076640"/>
            <a:ext cx="2521080" cy="79560"/>
            <a:chOff x="5784840" y="4076640"/>
            <a:chExt cx="2521080" cy="79560"/>
          </a:xfrm>
        </p:grpSpPr>
        <p:sp>
          <p:nvSpPr>
            <p:cNvPr id="126" name=""/>
            <p:cNvSpPr/>
            <p:nvPr/>
          </p:nvSpPr>
          <p:spPr>
            <a:xfrm>
              <a:off x="8229600" y="4076640"/>
              <a:ext cx="7632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84840" y="4079880"/>
              <a:ext cx="7632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4114800"/>
              <a:ext cx="2362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775480" y="5010120"/>
            <a:ext cx="2520360" cy="79560"/>
            <a:chOff x="5775480" y="5010120"/>
            <a:chExt cx="2520360" cy="79560"/>
          </a:xfrm>
        </p:grpSpPr>
        <p:sp>
          <p:nvSpPr>
            <p:cNvPr id="130" name=""/>
            <p:cNvSpPr/>
            <p:nvPr/>
          </p:nvSpPr>
          <p:spPr>
            <a:xfrm>
              <a:off x="8219880" y="5010120"/>
              <a:ext cx="7596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75480" y="5013360"/>
              <a:ext cx="7596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57560" y="5048280"/>
              <a:ext cx="2361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6419880" y="4419720"/>
            <a:ext cx="104760" cy="323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477120" y="4114440"/>
            <a:ext cx="0" cy="30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4743360"/>
            <a:ext cx="0" cy="3049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5048280"/>
            <a:ext cx="0" cy="209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305840" y="4114800"/>
            <a:ext cx="0" cy="11430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372360" y="5257800"/>
            <a:ext cx="218880" cy="266760"/>
            <a:chOff x="6372360" y="5257800"/>
            <a:chExt cx="218880" cy="266760"/>
          </a:xfrm>
        </p:grpSpPr>
        <p:sp>
          <p:nvSpPr>
            <p:cNvPr id="139" name=""/>
            <p:cNvSpPr/>
            <p:nvPr/>
          </p:nvSpPr>
          <p:spPr>
            <a:xfrm>
              <a:off x="6400800" y="525780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400800" y="531504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77120" y="5324400"/>
              <a:ext cx="0" cy="20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72360" y="552456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201080" y="5257800"/>
            <a:ext cx="218880" cy="266760"/>
            <a:chOff x="7201080" y="5257800"/>
            <a:chExt cx="218880" cy="266760"/>
          </a:xfrm>
        </p:grpSpPr>
        <p:sp>
          <p:nvSpPr>
            <p:cNvPr id="144" name=""/>
            <p:cNvSpPr/>
            <p:nvPr/>
          </p:nvSpPr>
          <p:spPr>
            <a:xfrm>
              <a:off x="7229520" y="525780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29520" y="5315040"/>
              <a:ext cx="142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05840" y="5324400"/>
              <a:ext cx="0" cy="200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01080" y="5524560"/>
              <a:ext cx="21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50160" y="507672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26360" y="5086440"/>
            <a:ext cx="4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18280" y="3900600"/>
            <a:ext cx="49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27640" y="4843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54" name=""/>
          <p:cNvSpPr/>
          <p:nvPr/>
        </p:nvSpPr>
        <p:spPr>
          <a:xfrm>
            <a:off x="53640" y="1371600"/>
            <a:ext cx="83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BIS models are well suited for SI analysis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7162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Manufactures should spend more effort to make sure that the models are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Users should not trust in models blindly,  as simple plausibility checks can avoid incorrect simul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0" name=""/>
          <p:cNvSpPr/>
          <p:nvPr/>
        </p:nvSpPr>
        <p:spPr>
          <a:xfrm>
            <a:off x="39960" y="1371600"/>
            <a:ext cx="825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BIS Models are widely available for buf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modelling to support signal integrity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5029200"/>
            <a:ext cx="884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mple checks are recommended to guaran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accurate simulation resul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743200"/>
            <a:ext cx="7777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e models are easy to generate, to understand and to apply for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ometimes models contain bugs, which prevent users from successful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55" name=""/>
          <p:cNvSpPr/>
          <p:nvPr/>
        </p:nvSpPr>
        <p:spPr>
          <a:xfrm>
            <a:off x="367920" y="137160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How to detect typical bu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3960" y="5029200"/>
            <a:ext cx="794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Users should briefly examine IBIS mod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before applicat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133720"/>
            <a:ext cx="7777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yntax bugs and other minor problems are detected by the par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Other problems like inconsistencies in the specification of the electrical behavior are easily detected by ‘human’ plausibility che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1600" indent="-38160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Simple Problem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0" name=""/>
          <p:cNvSpPr/>
          <p:nvPr/>
        </p:nvSpPr>
        <p:spPr>
          <a:xfrm>
            <a:off x="-18720" y="1371600"/>
            <a:ext cx="94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imple problems are usually detected by the pars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440" y="5029200"/>
            <a:ext cx="54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Easy to find and to correct!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209680"/>
            <a:ext cx="7777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e file name specified inside the file does not correspond with the actual fil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e manufactures name is too 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Supply Voltage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5" name=""/>
          <p:cNvSpPr/>
          <p:nvPr/>
        </p:nvSpPr>
        <p:spPr>
          <a:xfrm>
            <a:off x="118080" y="1371600"/>
            <a:ext cx="767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Different supply voltages are used fo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omponent buffers.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040" y="5029200"/>
            <a:ext cx="917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This results in incorrect pullup and V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cc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clam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514600"/>
            <a:ext cx="71629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e external supply voltage of a component is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= 3.3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But for output buffers of HSTL normally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ddq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= 1,5V is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Often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ddq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is set to 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dd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in IBI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Pullup Current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0" name=""/>
          <p:cNvSpPr/>
          <p:nvPr/>
        </p:nvSpPr>
        <p:spPr>
          <a:xfrm>
            <a:off x="271800" y="1371600"/>
            <a:ext cx="58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pecification  of pullup 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00600" y="38862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pup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(V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table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) = I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pup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(V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cc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- V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 out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48320" y="3124080"/>
            <a:ext cx="3962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3000"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relative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105200" y="2610000"/>
            <a:ext cx="1765080" cy="2913480"/>
            <a:chOff x="1105200" y="2610000"/>
            <a:chExt cx="1765080" cy="2913480"/>
          </a:xfrm>
        </p:grpSpPr>
        <p:grpSp>
          <p:nvGrpSpPr>
            <p:cNvPr id="74" name=""/>
            <p:cNvGrpSpPr/>
            <p:nvPr/>
          </p:nvGrpSpPr>
          <p:grpSpPr>
            <a:xfrm>
              <a:off x="1562040" y="3448080"/>
              <a:ext cx="304920" cy="304920"/>
              <a:chOff x="1562040" y="3448080"/>
              <a:chExt cx="304920" cy="304920"/>
            </a:xfrm>
          </p:grpSpPr>
          <p:sp>
            <p:nvSpPr>
              <p:cNvPr id="75" name=""/>
              <p:cNvSpPr/>
              <p:nvPr/>
            </p:nvSpPr>
            <p:spPr>
              <a:xfrm>
                <a:off x="1562040" y="3448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562040" y="3600360"/>
                <a:ext cx="304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562040" y="4286160"/>
              <a:ext cx="304920" cy="304920"/>
              <a:chOff x="1562040" y="4286160"/>
              <a:chExt cx="304920" cy="304920"/>
            </a:xfrm>
          </p:grpSpPr>
          <p:sp>
            <p:nvSpPr>
              <p:cNvPr id="78" name=""/>
              <p:cNvSpPr/>
              <p:nvPr/>
            </p:nvSpPr>
            <p:spPr>
              <a:xfrm>
                <a:off x="1562040" y="428616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62040" y="4438440"/>
                <a:ext cx="3049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1714320" y="3753000"/>
              <a:ext cx="0" cy="5331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14320" y="3981600"/>
              <a:ext cx="10670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714320" y="306720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4320" y="459108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93960" y="3956040"/>
              <a:ext cx="7632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76520" y="4984920"/>
              <a:ext cx="75960" cy="759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6520" y="3003480"/>
              <a:ext cx="75960" cy="763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5560" y="3333960"/>
              <a:ext cx="0" cy="406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95560" y="4286160"/>
              <a:ext cx="0" cy="406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714320" y="3219480"/>
              <a:ext cx="0" cy="76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98080" y="3295800"/>
              <a:ext cx="75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97000" y="4286160"/>
              <a:ext cx="62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05200" y="3067200"/>
              <a:ext cx="5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u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10840" y="5124600"/>
              <a:ext cx="73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87880" y="2610000"/>
              <a:ext cx="54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Pullup Current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97" name=""/>
          <p:cNvSpPr/>
          <p:nvPr/>
        </p:nvSpPr>
        <p:spPr>
          <a:xfrm>
            <a:off x="271800" y="1371600"/>
            <a:ext cx="58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pecification  of pullup 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3200400"/>
            <a:ext cx="449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2000"/>
          </a:bodyPr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inverted current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Humnst777 Lt BT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relative specification not consid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9360" indent="-36936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43120" y="2514600"/>
            <a:ext cx="312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Typical mis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example1" descr=""/>
          <p:cNvPicPr/>
          <p:nvPr/>
        </p:nvPicPr>
        <p:blipFill>
          <a:blip r:embed="rId1"/>
          <a:stretch/>
        </p:blipFill>
        <p:spPr>
          <a:xfrm>
            <a:off x="533520" y="2152800"/>
            <a:ext cx="39430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Pullup Current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03" name=""/>
          <p:cNvSpPr/>
          <p:nvPr/>
        </p:nvSpPr>
        <p:spPr>
          <a:xfrm>
            <a:off x="115200" y="131436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Another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4440" y="2209680"/>
            <a:ext cx="369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57480" indent="-35748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Often, the V/I curves do not pass the origin  ( I(0V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 0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3809880"/>
            <a:ext cx="390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In conjunction with V</a:t>
            </a:r>
            <a:r>
              <a:rPr b="0" lang="en-GB" sz="2000" spc="-1" strike="noStrike">
                <a:solidFill>
                  <a:srgbClr val="000000"/>
                </a:solidFill>
                <a:latin typeface="Humnst777 Lt BT"/>
              </a:rPr>
              <a:t>cc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,this results into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tatic high level which does not match with the specified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example4" descr=""/>
          <p:cNvPicPr/>
          <p:nvPr/>
        </p:nvPicPr>
        <p:blipFill>
          <a:blip r:embed="rId1"/>
          <a:stretch/>
        </p:blipFill>
        <p:spPr>
          <a:xfrm>
            <a:off x="4286160" y="2247840"/>
            <a:ext cx="4629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amping Characteristics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28600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353520" indent="-35352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included in the pullup / pulldown curr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3520" indent="-353520">
              <a:lnSpc>
                <a:spcPct val="10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and specified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0280" y="554364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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Same effect considered tw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71960" y="1619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Humnst777 Lt BT"/>
              </a:rPr>
              <a:t>Clamping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xample3" descr=""/>
          <p:cNvPicPr/>
          <p:nvPr/>
        </p:nvPicPr>
        <p:blipFill>
          <a:blip r:embed="rId1"/>
          <a:stretch/>
        </p:blipFill>
        <p:spPr>
          <a:xfrm>
            <a:off x="343080" y="1523880"/>
            <a:ext cx="44384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EvG</dc:creator>
  <dc:description>This presentation is meant to be sent to all FOP and resellers together with the 1st beta shipment, so active promotion can be started.</dc:description>
  <dc:language>en-US</dc:language>
  <cp:lastModifiedBy>martina</cp:lastModifiedBy>
  <cp:lastPrinted>1999-03-03T12:32:42Z</cp:lastPrinted>
  <dcterms:modified xsi:type="dcterms:W3CDTF">1999-03-03T12:38:25Z</dcterms:modified>
  <cp:revision>62</cp:revision>
  <dc:subject/>
  <dc:title> EMC-Engineer presentation</dc:title>
</cp:coreProperties>
</file>