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737252-2F5F-4915-ADF5-301EC31DC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68440" y="228600"/>
            <a:ext cx="8642160" cy="0"/>
          </a:xfrm>
          <a:prstGeom prst="line">
            <a:avLst/>
          </a:prstGeom>
          <a:ln w="12600">
            <a:solidFill>
              <a:srgbClr val="9507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51640" y="6275520"/>
            <a:ext cx="16225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©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iemens 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CN M TE11, Pichlmai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el:089/722-23994 - 3/9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lide: </a:t>
            </a:r>
            <a:fld id="{4830070A-1AA8-407A-B3EC-1F724F755BC3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3440" y="6248520"/>
            <a:ext cx="8393040" cy="0"/>
          </a:xfrm>
          <a:prstGeom prst="line">
            <a:avLst/>
          </a:prstGeom>
          <a:ln w="12600">
            <a:solidFill>
              <a:srgbClr val="9507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95160" y="6248520"/>
            <a:ext cx="533520" cy="4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9200" y="3581280"/>
            <a:ext cx="8153280" cy="14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  <a:ea typeface="Book Antiqua"/>
              </a:rPr>
              <a:t>SIEMENS AG</a:t>
            </a:r>
            <a:br>
              <a:rPr sz="2800"/>
            </a:br>
            <a:r>
              <a:rPr b="1" lang="en-US" sz="2800" spc="-1" strike="noStrike">
                <a:solidFill>
                  <a:srgbClr val="114ffb"/>
                </a:solidFill>
                <a:latin typeface="Book Antiqua"/>
                <a:ea typeface="Book Antiqua"/>
              </a:rPr>
              <a:t>Information and Communication Networks</a:t>
            </a:r>
            <a:br>
              <a:rPr sz="2800"/>
            </a:br>
            <a:r>
              <a:rPr b="1" lang="en-US" sz="2800" spc="-1" strike="noStrike">
                <a:solidFill>
                  <a:srgbClr val="114ffb"/>
                </a:solidFill>
                <a:latin typeface="Book Antiqua"/>
                <a:ea typeface="Book Antiqua"/>
              </a:rPr>
              <a:t>ICN M TE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57280" y="49528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Hans Pichlma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rch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6560" y="38088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  <a:ea typeface="Book Antiqua"/>
              </a:rPr>
              <a:t>IBIS scaling: add on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57160" y="2057400"/>
            <a:ext cx="82882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65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  <a:ea typeface="Book Antiqua"/>
              </a:rPr>
              <a:t>      </a:t>
            </a:r>
            <a:r>
              <a:rPr b="1" lang="en-US" sz="4000" spc="-1" strike="noStrike">
                <a:solidFill>
                  <a:srgbClr val="114ffb"/>
                </a:solidFill>
                <a:latin typeface="Book Antiqua"/>
                <a:ea typeface="Book Antiqua"/>
              </a:rPr>
              <a:t>Check: QUAD, IB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60920" y="1262160"/>
            <a:ext cx="2995560" cy="819000"/>
          </a:xfrm>
          <a:prstGeom prst="roundRect">
            <a:avLst/>
          </a:pr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44760" y="1353960"/>
            <a:ext cx="3843720" cy="473040"/>
            <a:chOff x="3344760" y="1353960"/>
            <a:chExt cx="3843720" cy="473040"/>
          </a:xfrm>
        </p:grpSpPr>
        <p:sp>
          <p:nvSpPr>
            <p:cNvPr id="78" name=""/>
            <p:cNvSpPr/>
            <p:nvPr/>
          </p:nvSpPr>
          <p:spPr>
            <a:xfrm>
              <a:off x="3344760" y="1353960"/>
              <a:ext cx="3465360" cy="4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6683400" y="135396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75560" y="135396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75040" y="1330200"/>
            <a:ext cx="1259640" cy="606960"/>
            <a:chOff x="3875040" y="1330200"/>
            <a:chExt cx="1259640" cy="606960"/>
          </a:xfrm>
        </p:grpSpPr>
        <p:sp>
          <p:nvSpPr>
            <p:cNvPr id="82" name=""/>
            <p:cNvSpPr/>
            <p:nvPr/>
          </p:nvSpPr>
          <p:spPr>
            <a:xfrm>
              <a:off x="3875040" y="1330200"/>
              <a:ext cx="1258920" cy="200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75040" y="1430280"/>
              <a:ext cx="0" cy="417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27480" y="1430280"/>
              <a:ext cx="0" cy="417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875040" y="1836000"/>
              <a:ext cx="1259640" cy="101160"/>
              <a:chOff x="3875040" y="1836000"/>
              <a:chExt cx="1259640" cy="101160"/>
            </a:xfrm>
          </p:grpSpPr>
          <p:sp>
            <p:nvSpPr>
              <p:cNvPr id="86" name=""/>
              <p:cNvSpPr/>
              <p:nvPr/>
            </p:nvSpPr>
            <p:spPr>
              <a:xfrm>
                <a:off x="3875040" y="1836000"/>
                <a:ext cx="630000" cy="101160"/>
              </a:xfrm>
              <a:custGeom>
                <a:avLst/>
                <a:gdLst/>
                <a:ahLst/>
                <a:rect l="0" t="0" r="r" b="b"/>
                <a:pathLst>
                  <a:path fill="none" w="1750" h="28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9"/>
                      <a:pt x="81" y="98"/>
                      <a:pt x="234" y="141"/>
                    </a:cubicBezTo>
                    <a:cubicBezTo>
                      <a:pt x="388" y="183"/>
                      <a:pt x="609" y="219"/>
                      <a:pt x="875" y="243"/>
                    </a:cubicBezTo>
                    <a:cubicBezTo>
                      <a:pt x="1141" y="268"/>
                      <a:pt x="1443" y="281"/>
                      <a:pt x="1750" y="281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04680" y="1836000"/>
                <a:ext cx="630000" cy="101160"/>
              </a:xfrm>
              <a:custGeom>
                <a:avLst/>
                <a:gdLst/>
                <a:ahLst/>
                <a:rect l="0" t="0" r="r" b="b"/>
                <a:pathLst>
                  <a:path fill="none" w="1750" h="281">
                    <a:moveTo>
                      <a:pt x="0" y="281"/>
                    </a:moveTo>
                    <a:lnTo>
                      <a:pt x="0" y="281"/>
                    </a:lnTo>
                    <a:cubicBezTo>
                      <a:pt x="307" y="281"/>
                      <a:pt x="609" y="268"/>
                      <a:pt x="875" y="243"/>
                    </a:cubicBezTo>
                    <a:cubicBezTo>
                      <a:pt x="1141" y="219"/>
                      <a:pt x="1362" y="183"/>
                      <a:pt x="1516" y="140"/>
                    </a:cubicBezTo>
                    <a:cubicBezTo>
                      <a:pt x="1669" y="98"/>
                      <a:pt x="1750" y="49"/>
                      <a:pt x="175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 txBox="1"/>
          <p:nvPr/>
        </p:nvSpPr>
        <p:spPr>
          <a:xfrm>
            <a:off x="4013280" y="1623960"/>
            <a:ext cx="10191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 Pi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70480" y="1330200"/>
            <a:ext cx="1259280" cy="606960"/>
            <a:chOff x="5370480" y="1330200"/>
            <a:chExt cx="1259280" cy="606960"/>
          </a:xfrm>
        </p:grpSpPr>
        <p:sp>
          <p:nvSpPr>
            <p:cNvPr id="90" name=""/>
            <p:cNvSpPr/>
            <p:nvPr/>
          </p:nvSpPr>
          <p:spPr>
            <a:xfrm>
              <a:off x="5370480" y="1330200"/>
              <a:ext cx="1258920" cy="200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70480" y="1430280"/>
              <a:ext cx="0" cy="417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2920" y="1430280"/>
              <a:ext cx="0" cy="417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370480" y="1836000"/>
              <a:ext cx="1259280" cy="101160"/>
              <a:chOff x="5370480" y="1836000"/>
              <a:chExt cx="1259280" cy="101160"/>
            </a:xfrm>
          </p:grpSpPr>
          <p:sp>
            <p:nvSpPr>
              <p:cNvPr id="94" name=""/>
              <p:cNvSpPr/>
              <p:nvPr/>
            </p:nvSpPr>
            <p:spPr>
              <a:xfrm>
                <a:off x="5370480" y="1836000"/>
                <a:ext cx="628560" cy="101160"/>
              </a:xfrm>
              <a:custGeom>
                <a:avLst/>
                <a:gdLst/>
                <a:ahLst/>
                <a:rect l="0" t="0" r="r" b="b"/>
                <a:pathLst>
                  <a:path fill="none" w="1746" h="28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0" y="49"/>
                      <a:pt x="81" y="98"/>
                      <a:pt x="234" y="141"/>
                    </a:cubicBezTo>
                    <a:cubicBezTo>
                      <a:pt x="388" y="183"/>
                      <a:pt x="609" y="219"/>
                      <a:pt x="875" y="243"/>
                    </a:cubicBezTo>
                    <a:cubicBezTo>
                      <a:pt x="1140" y="268"/>
                      <a:pt x="1440" y="281"/>
                      <a:pt x="1746" y="281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998680" y="1836000"/>
                <a:ext cx="631080" cy="101160"/>
              </a:xfrm>
              <a:custGeom>
                <a:avLst/>
                <a:gdLst/>
                <a:ahLst/>
                <a:rect l="0" t="0" r="r" b="b"/>
                <a:pathLst>
                  <a:path fill="none" w="1753" h="281">
                    <a:moveTo>
                      <a:pt x="0" y="281"/>
                    </a:moveTo>
                    <a:lnTo>
                      <a:pt x="0" y="281"/>
                    </a:lnTo>
                    <a:cubicBezTo>
                      <a:pt x="1" y="281"/>
                      <a:pt x="3" y="281"/>
                      <a:pt x="4" y="281"/>
                    </a:cubicBezTo>
                    <a:cubicBezTo>
                      <a:pt x="311" y="281"/>
                      <a:pt x="613" y="268"/>
                      <a:pt x="879" y="243"/>
                    </a:cubicBezTo>
                    <a:cubicBezTo>
                      <a:pt x="1144" y="219"/>
                      <a:pt x="1365" y="183"/>
                      <a:pt x="1519" y="141"/>
                    </a:cubicBezTo>
                    <a:cubicBezTo>
                      <a:pt x="1672" y="98"/>
                      <a:pt x="1753" y="49"/>
                      <a:pt x="1753" y="0"/>
                    </a:cubicBezTo>
                    <a:lnTo>
                      <a:pt x="1753" y="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5289480" y="1623960"/>
            <a:ext cx="1347840" cy="425520"/>
            <a:chOff x="5289480" y="1623960"/>
            <a:chExt cx="1347840" cy="425520"/>
          </a:xfrm>
        </p:grpSpPr>
        <p:sp>
          <p:nvSpPr>
            <p:cNvPr id="97" name=""/>
            <p:cNvSpPr txBox="1"/>
            <p:nvPr/>
          </p:nvSpPr>
          <p:spPr>
            <a:xfrm>
              <a:off x="5289480" y="1623960"/>
              <a:ext cx="13478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D Mod. typ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5289480" y="1789200"/>
              <a:ext cx="4287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92680" y="1789200"/>
              <a:ext cx="3618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68520" y="2862360"/>
            <a:ext cx="5869080" cy="887400"/>
          </a:xfrm>
          <a:prstGeom prst="roundRect">
            <a:avLst/>
          </a:pr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83000" y="2998800"/>
            <a:ext cx="1258920" cy="2016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83000" y="310032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35440" y="3124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83000" y="3504600"/>
            <a:ext cx="1259280" cy="101160"/>
            <a:chOff x="2583000" y="3504600"/>
            <a:chExt cx="1259280" cy="101160"/>
          </a:xfrm>
        </p:grpSpPr>
        <p:sp>
          <p:nvSpPr>
            <p:cNvPr id="105" name=""/>
            <p:cNvSpPr/>
            <p:nvPr/>
          </p:nvSpPr>
          <p:spPr>
            <a:xfrm>
              <a:off x="2583000" y="3504600"/>
              <a:ext cx="630000" cy="101160"/>
            </a:xfrm>
            <a:custGeom>
              <a:avLst/>
              <a:gdLst/>
              <a:ahLst/>
              <a:rect l="0" t="0" r="r" b="b"/>
              <a:pathLst>
                <a:path fill="none" w="1750" h="281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81" y="98"/>
                    <a:pt x="234" y="141"/>
                  </a:cubicBezTo>
                  <a:cubicBezTo>
                    <a:pt x="388" y="183"/>
                    <a:pt x="609" y="219"/>
                    <a:pt x="875" y="243"/>
                  </a:cubicBezTo>
                  <a:cubicBezTo>
                    <a:pt x="1141" y="268"/>
                    <a:pt x="1443" y="281"/>
                    <a:pt x="1750" y="281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12280" y="3504600"/>
              <a:ext cx="630000" cy="101160"/>
            </a:xfrm>
            <a:custGeom>
              <a:avLst/>
              <a:gdLst/>
              <a:ahLst/>
              <a:rect l="0" t="0" r="r" b="b"/>
              <a:pathLst>
                <a:path fill="none" w="1750" h="281">
                  <a:moveTo>
                    <a:pt x="0" y="281"/>
                  </a:moveTo>
                  <a:lnTo>
                    <a:pt x="0" y="281"/>
                  </a:lnTo>
                  <a:cubicBezTo>
                    <a:pt x="307" y="281"/>
                    <a:pt x="609" y="268"/>
                    <a:pt x="875" y="243"/>
                  </a:cubicBezTo>
                  <a:cubicBezTo>
                    <a:pt x="1141" y="219"/>
                    <a:pt x="1362" y="183"/>
                    <a:pt x="1516" y="140"/>
                  </a:cubicBezTo>
                  <a:cubicBezTo>
                    <a:pt x="1669" y="98"/>
                    <a:pt x="1750" y="49"/>
                    <a:pt x="175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2720880" y="3292560"/>
            <a:ext cx="8175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998800"/>
            <a:ext cx="1258920" cy="2016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7720" y="3124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7040" y="3124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62520" y="3504600"/>
            <a:ext cx="1259280" cy="101160"/>
            <a:chOff x="3962520" y="3504600"/>
            <a:chExt cx="1259280" cy="101160"/>
          </a:xfrm>
        </p:grpSpPr>
        <p:sp>
          <p:nvSpPr>
            <p:cNvPr id="112" name=""/>
            <p:cNvSpPr/>
            <p:nvPr/>
          </p:nvSpPr>
          <p:spPr>
            <a:xfrm>
              <a:off x="3962520" y="3504600"/>
              <a:ext cx="630000" cy="101160"/>
            </a:xfrm>
            <a:custGeom>
              <a:avLst/>
              <a:gdLst/>
              <a:ahLst/>
              <a:rect l="0" t="0" r="r" b="b"/>
              <a:pathLst>
                <a:path fill="none" w="1750" h="281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81" y="98"/>
                    <a:pt x="234" y="141"/>
                  </a:cubicBezTo>
                  <a:cubicBezTo>
                    <a:pt x="388" y="183"/>
                    <a:pt x="609" y="219"/>
                    <a:pt x="875" y="243"/>
                  </a:cubicBezTo>
                  <a:cubicBezTo>
                    <a:pt x="1141" y="268"/>
                    <a:pt x="1443" y="281"/>
                    <a:pt x="1750" y="281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1800" y="3504600"/>
              <a:ext cx="630000" cy="101160"/>
            </a:xfrm>
            <a:custGeom>
              <a:avLst/>
              <a:gdLst/>
              <a:ahLst/>
              <a:rect l="0" t="0" r="r" b="b"/>
              <a:pathLst>
                <a:path fill="none" w="1750" h="281">
                  <a:moveTo>
                    <a:pt x="0" y="281"/>
                  </a:moveTo>
                  <a:lnTo>
                    <a:pt x="0" y="281"/>
                  </a:lnTo>
                  <a:cubicBezTo>
                    <a:pt x="307" y="281"/>
                    <a:pt x="609" y="268"/>
                    <a:pt x="875" y="243"/>
                  </a:cubicBezTo>
                  <a:cubicBezTo>
                    <a:pt x="1141" y="219"/>
                    <a:pt x="1362" y="183"/>
                    <a:pt x="1516" y="140"/>
                  </a:cubicBezTo>
                  <a:cubicBezTo>
                    <a:pt x="1669" y="98"/>
                    <a:pt x="1750" y="49"/>
                    <a:pt x="175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42040" y="3006720"/>
            <a:ext cx="1258920" cy="2016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59320" y="3124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342040" y="3513960"/>
            <a:ext cx="1258920" cy="99720"/>
            <a:chOff x="5342040" y="3513960"/>
            <a:chExt cx="1258920" cy="99720"/>
          </a:xfrm>
        </p:grpSpPr>
        <p:sp>
          <p:nvSpPr>
            <p:cNvPr id="117" name=""/>
            <p:cNvSpPr/>
            <p:nvPr/>
          </p:nvSpPr>
          <p:spPr>
            <a:xfrm>
              <a:off x="5342040" y="3513960"/>
              <a:ext cx="629640" cy="99720"/>
            </a:xfrm>
            <a:custGeom>
              <a:avLst/>
              <a:gdLst/>
              <a:ahLst/>
              <a:rect l="0" t="0" r="r" b="b"/>
              <a:pathLst>
                <a:path fill="none" w="1749" h="277">
                  <a:moveTo>
                    <a:pt x="0" y="0"/>
                  </a:moveTo>
                  <a:lnTo>
                    <a:pt x="0" y="0"/>
                  </a:lnTo>
                  <a:cubicBezTo>
                    <a:pt x="5" y="48"/>
                    <a:pt x="86" y="95"/>
                    <a:pt x="234" y="136"/>
                  </a:cubicBezTo>
                  <a:cubicBezTo>
                    <a:pt x="388" y="179"/>
                    <a:pt x="608" y="214"/>
                    <a:pt x="874" y="239"/>
                  </a:cubicBezTo>
                  <a:cubicBezTo>
                    <a:pt x="1140" y="264"/>
                    <a:pt x="1442" y="277"/>
                    <a:pt x="1749" y="277"/>
                  </a:cubicBezTo>
                  <a:lnTo>
                    <a:pt x="1749" y="277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71320" y="3513960"/>
              <a:ext cx="629640" cy="99720"/>
            </a:xfrm>
            <a:custGeom>
              <a:avLst/>
              <a:gdLst/>
              <a:ahLst/>
              <a:rect l="0" t="0" r="r" b="b"/>
              <a:pathLst>
                <a:path fill="none" w="1749" h="277">
                  <a:moveTo>
                    <a:pt x="0" y="277"/>
                  </a:moveTo>
                  <a:lnTo>
                    <a:pt x="0" y="277"/>
                  </a:lnTo>
                  <a:lnTo>
                    <a:pt x="0" y="277"/>
                  </a:lnTo>
                  <a:cubicBezTo>
                    <a:pt x="307" y="277"/>
                    <a:pt x="609" y="264"/>
                    <a:pt x="875" y="239"/>
                  </a:cubicBezTo>
                  <a:cubicBezTo>
                    <a:pt x="1141" y="214"/>
                    <a:pt x="1361" y="179"/>
                    <a:pt x="1515" y="136"/>
                  </a:cubicBezTo>
                  <a:cubicBezTo>
                    <a:pt x="1663" y="95"/>
                    <a:pt x="1744" y="48"/>
                    <a:pt x="1749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06600" y="4538520"/>
            <a:ext cx="4262400" cy="887400"/>
          </a:xfrm>
          <a:prstGeom prst="roundRect">
            <a:avLst/>
          </a:pr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1080" y="4675320"/>
            <a:ext cx="1258920" cy="201600"/>
          </a:xfrm>
          <a:prstGeom prst="ellipse">
            <a:avLst/>
          </a:pr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1080" y="4776840"/>
            <a:ext cx="0" cy="415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800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1080" y="5180760"/>
            <a:ext cx="630000" cy="101160"/>
          </a:xfrm>
          <a:custGeom>
            <a:avLst/>
            <a:gdLst/>
            <a:ahLst/>
            <a:rect l="0" t="0" r="r" b="b"/>
            <a:pathLst>
              <a:path w="1750" h="281">
                <a:moveTo>
                  <a:pt x="1750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49"/>
                  <a:pt x="81" y="98"/>
                  <a:pt x="234" y="141"/>
                </a:cubicBezTo>
                <a:cubicBezTo>
                  <a:pt x="388" y="183"/>
                  <a:pt x="609" y="219"/>
                  <a:pt x="875" y="243"/>
                </a:cubicBezTo>
                <a:cubicBezTo>
                  <a:pt x="1141" y="268"/>
                  <a:pt x="1443" y="281"/>
                  <a:pt x="1750" y="281"/>
                </a:cubicBezTo>
                <a:lnTo>
                  <a:pt x="1750" y="0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50360" y="5180760"/>
            <a:ext cx="630000" cy="101160"/>
          </a:xfrm>
          <a:custGeom>
            <a:avLst/>
            <a:gdLst/>
            <a:ahLst/>
            <a:rect l="0" t="0" r="r" b="b"/>
            <a:pathLst>
              <a:path w="1750" h="281">
                <a:moveTo>
                  <a:pt x="0" y="0"/>
                </a:moveTo>
                <a:lnTo>
                  <a:pt x="0" y="281"/>
                </a:lnTo>
                <a:lnTo>
                  <a:pt x="0" y="281"/>
                </a:lnTo>
                <a:cubicBezTo>
                  <a:pt x="307" y="281"/>
                  <a:pt x="609" y="268"/>
                  <a:pt x="875" y="243"/>
                </a:cubicBezTo>
                <a:cubicBezTo>
                  <a:pt x="1141" y="219"/>
                  <a:pt x="1362" y="183"/>
                  <a:pt x="1516" y="140"/>
                </a:cubicBezTo>
                <a:cubicBezTo>
                  <a:pt x="1669" y="98"/>
                  <a:pt x="1750" y="49"/>
                  <a:pt x="175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11600" y="4968720"/>
            <a:ext cx="595440" cy="26028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675320"/>
            <a:ext cx="1258920" cy="201600"/>
          </a:xfrm>
          <a:prstGeom prst="ellipse">
            <a:avLst/>
          </a:pr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6160" y="4800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45120" y="4800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180760"/>
            <a:ext cx="630000" cy="101160"/>
          </a:xfrm>
          <a:custGeom>
            <a:avLst/>
            <a:gdLst/>
            <a:ahLst/>
            <a:rect l="0" t="0" r="r" b="b"/>
            <a:pathLst>
              <a:path w="1750" h="281">
                <a:moveTo>
                  <a:pt x="1750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49"/>
                  <a:pt x="81" y="98"/>
                  <a:pt x="234" y="141"/>
                </a:cubicBezTo>
                <a:cubicBezTo>
                  <a:pt x="388" y="183"/>
                  <a:pt x="609" y="219"/>
                  <a:pt x="875" y="243"/>
                </a:cubicBezTo>
                <a:cubicBezTo>
                  <a:pt x="1141" y="268"/>
                  <a:pt x="1443" y="281"/>
                  <a:pt x="1750" y="281"/>
                </a:cubicBezTo>
                <a:lnTo>
                  <a:pt x="1750" y="0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0240" y="5180760"/>
            <a:ext cx="630000" cy="101160"/>
          </a:xfrm>
          <a:custGeom>
            <a:avLst/>
            <a:gdLst/>
            <a:ahLst/>
            <a:rect l="0" t="0" r="r" b="b"/>
            <a:pathLst>
              <a:path w="1750" h="281">
                <a:moveTo>
                  <a:pt x="0" y="0"/>
                </a:moveTo>
                <a:lnTo>
                  <a:pt x="0" y="281"/>
                </a:lnTo>
                <a:lnTo>
                  <a:pt x="0" y="281"/>
                </a:lnTo>
                <a:cubicBezTo>
                  <a:pt x="307" y="281"/>
                  <a:pt x="609" y="268"/>
                  <a:pt x="875" y="243"/>
                </a:cubicBezTo>
                <a:cubicBezTo>
                  <a:pt x="1141" y="219"/>
                  <a:pt x="1362" y="183"/>
                  <a:pt x="1516" y="140"/>
                </a:cubicBezTo>
                <a:cubicBezTo>
                  <a:pt x="1669" y="98"/>
                  <a:pt x="1750" y="49"/>
                  <a:pt x="175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254560" y="4968720"/>
            <a:ext cx="439560" cy="26028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80120" y="4683240"/>
            <a:ext cx="1258920" cy="201600"/>
          </a:xfrm>
          <a:prstGeom prst="ellipse">
            <a:avLst/>
          </a:pr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97760" y="4800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16720" y="4800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80120" y="5188680"/>
            <a:ext cx="629640" cy="101160"/>
          </a:xfrm>
          <a:custGeom>
            <a:avLst/>
            <a:gdLst/>
            <a:ahLst/>
            <a:rect l="0" t="0" r="r" b="b"/>
            <a:pathLst>
              <a:path w="1749" h="281">
                <a:moveTo>
                  <a:pt x="1749" y="0"/>
                </a:moveTo>
                <a:lnTo>
                  <a:pt x="0" y="4"/>
                </a:lnTo>
                <a:lnTo>
                  <a:pt x="0" y="4"/>
                </a:lnTo>
                <a:cubicBezTo>
                  <a:pt x="4" y="52"/>
                  <a:pt x="85" y="99"/>
                  <a:pt x="234" y="141"/>
                </a:cubicBezTo>
                <a:cubicBezTo>
                  <a:pt x="388" y="183"/>
                  <a:pt x="608" y="219"/>
                  <a:pt x="874" y="243"/>
                </a:cubicBezTo>
                <a:cubicBezTo>
                  <a:pt x="1140" y="268"/>
                  <a:pt x="1442" y="281"/>
                  <a:pt x="1749" y="281"/>
                </a:cubicBezTo>
                <a:lnTo>
                  <a:pt x="1749" y="281"/>
                </a:lnTo>
                <a:lnTo>
                  <a:pt x="1749" y="0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9400" y="5188680"/>
            <a:ext cx="629640" cy="101160"/>
          </a:xfrm>
          <a:custGeom>
            <a:avLst/>
            <a:gdLst/>
            <a:ahLst/>
            <a:rect l="0" t="0" r="r" b="b"/>
            <a:pathLst>
              <a:path w="1749" h="281">
                <a:moveTo>
                  <a:pt x="0" y="0"/>
                </a:moveTo>
                <a:lnTo>
                  <a:pt x="0" y="281"/>
                </a:lnTo>
                <a:lnTo>
                  <a:pt x="0" y="281"/>
                </a:lnTo>
                <a:lnTo>
                  <a:pt x="0" y="281"/>
                </a:lnTo>
                <a:cubicBezTo>
                  <a:pt x="307" y="281"/>
                  <a:pt x="609" y="268"/>
                  <a:pt x="875" y="243"/>
                </a:cubicBezTo>
                <a:cubicBezTo>
                  <a:pt x="1141" y="219"/>
                  <a:pt x="1361" y="183"/>
                  <a:pt x="1515" y="141"/>
                </a:cubicBezTo>
                <a:cubicBezTo>
                  <a:pt x="1664" y="99"/>
                  <a:pt x="1745" y="52"/>
                  <a:pt x="1749" y="4"/>
                </a:cubicBezTo>
                <a:lnTo>
                  <a:pt x="0" y="0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327720" y="4978440"/>
            <a:ext cx="936720" cy="26028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CT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89640" y="3225960"/>
            <a:ext cx="8128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21560" y="2998800"/>
            <a:ext cx="1500120" cy="546120"/>
          </a:xfrm>
          <a:prstGeom prst="roundRect">
            <a:avLst/>
          </a:pr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71880" y="3192480"/>
            <a:ext cx="1257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UniversS 55 Roman"/>
                <a:ea typeface="UniversS 55 Roman"/>
              </a:rPr>
              <a:t>models (ibischk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UniversS 55 Roman"/>
                <a:ea typeface="UniversS 55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UniversS 55 Roman"/>
                <a:ea typeface="UniversS 55 Roman"/>
              </a:rPr>
              <a:t>typ / min / 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78640" y="3124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165800" y="3149640"/>
            <a:ext cx="64944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1600" y="2133720"/>
            <a:ext cx="5180040" cy="625320"/>
          </a:xfrm>
          <a:prstGeom prst="rect">
            <a:avLst/>
          </a:prstGeom>
          <a:solidFill>
            <a:srgbClr val="eaec5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330720" y="2149560"/>
            <a:ext cx="4255920" cy="596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of QUAD models - 60 criteria + QUAD dbase with all mod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 -&gt; IB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sca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1600" y="3809880"/>
            <a:ext cx="5180040" cy="625320"/>
          </a:xfrm>
          <a:prstGeom prst="rect">
            <a:avLst/>
          </a:prstGeom>
          <a:solidFill>
            <a:srgbClr val="eaec5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11600" y="3825720"/>
            <a:ext cx="3381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of IBIS models - 60 cri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CHK3 after generating special model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-&gt; QUAD (typ/Xtalk/netdelay min ma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1600" y="5486400"/>
            <a:ext cx="5180040" cy="609480"/>
          </a:xfrm>
          <a:prstGeom prst="rect">
            <a:avLst/>
          </a:prstGeom>
          <a:solidFill>
            <a:srgbClr val="eaec5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54400" y="5578560"/>
            <a:ext cx="522936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of QUAD models - 60 criteria + QUAD dbase with all mod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QUAD old lib &lt;-&gt; typical QUAD new li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00080" y="1379520"/>
            <a:ext cx="2201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UniversS 55 Roman"/>
                <a:ea typeface="UniversS 55 Roman"/>
              </a:rPr>
              <a:t>OLD QUAD L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76400" y="3056040"/>
            <a:ext cx="11304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UniversS 55 Roman"/>
                <a:ea typeface="UniversS 55 Roman"/>
              </a:rPr>
              <a:t>BIOL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76400" y="4656240"/>
            <a:ext cx="1409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00"/>
                </a:solidFill>
                <a:latin typeface="UniversS 55 Roman"/>
                <a:ea typeface="UniversS 55 Roman"/>
              </a:rPr>
              <a:t>TOOLL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6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  <a:ea typeface="Book Antiqua"/>
              </a:rPr>
              <a:t>Groups of che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00080" y="1600200"/>
            <a:ext cx="7772400" cy="42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ames (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inning, model, package names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eck of all IBIS blocks [Pin], [Diff Pin]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ultiple defined model, pin, ...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innames pinning &lt;-&gt;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innames pinning &lt;-&gt; layout mapping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nus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house naming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66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  <a:ea typeface="Book Antiqua"/>
              </a:rPr>
              <a:t>Groups of che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0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mon data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notonic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yp value between min and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verything scaled: no NA valu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l necessary data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6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  <a:ea typeface="Book Antiqua"/>
              </a:rPr>
              <a:t>Groups of che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00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ecial data checks - e.g. overshoot (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_overshoot &gt; S_overshoot &gt; 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r LVDS and ECL different check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VCC &gt; D_overshoot &gt; S_overshoot &gt; V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ange of D_overshoot_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ecking Clamp &lt;-&gt; D_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Value of current at D_oversh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Value of D_overshoot if no clamp 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66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  <a:ea typeface="Book Antiqua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00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ull support of IBIS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river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ries Model, Series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del Selece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old LDRC data to IBIS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ICE -&gt; IBIS+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6560" y="38088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  <a:ea typeface="Book Antiqua"/>
              </a:rPr>
              <a:t>DOGEN - an internal model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16040" y="1492200"/>
            <a:ext cx="838188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unctionality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ver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QUA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-&gt; I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IBI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-&gt; 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ICE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-&gt; IBIS.e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ICE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-&gt; QUAD.to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IBIS scaling: typ to min/max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eck: QUAD, IBI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Works standalone or inside our BIOLIB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6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  <a:ea typeface="Book Antiqua"/>
              </a:rPr>
              <a:t>DOGEN - an internal model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7148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asons for inhous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deling is THE KEY ISSUE for electric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dels are always to 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change models is very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quality is important and errors are easyly mad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analysis tool needs spec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fferent IBIS versions or subsets of an IBIS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fferent syntax like 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ast response for updates necessary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ndor tools not sufficent for automatic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6560" y="304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  <a:ea typeface="Book Antiqua"/>
              </a:rPr>
              <a:t>QUAD -&gt; IBIS: add on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47800" y="1590840"/>
            <a:ext cx="82882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6560" y="304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  <a:ea typeface="Book Antiqua"/>
              </a:rPr>
              <a:t>QUAD -&gt; IBIS: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00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RAMP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QUAD simulation with thresholds depending on accuracy of QUAD-model (0 or 1 VT curves) to calculate dt of RAM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WER / GND clamp from input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ullup in GND c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ulldown in POWER c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6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  <a:ea typeface="Book Antiqua"/>
              </a:rPr>
              <a:t>SPICE -&gt; .e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7800" y="3200400"/>
            <a:ext cx="3886200" cy="29718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23760" y="3200400"/>
            <a:ext cx="76960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[Path Description]  CK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Pin     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en     0.2651969  L=  126.74n  C=   24.45p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rk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en     1.0000000  L=    0.00n  C=    0.00p  R= 10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en     0.0451181  L=  126.74n  C=   24.45p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| VIA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de    VIA_SPICE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en     2.6070867  L=  157.17n  C=   30.32p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| VIA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de    VIA_SPICE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rk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en     0.3189370  L=  126.74n  C=   24.45p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de    D13.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Endf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7800" y="1295280"/>
            <a:ext cx="7620120" cy="18288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00080" y="1371600"/>
            <a:ext cx="822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.SUBCK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K2_IN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K2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D5 D6 D7 D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D13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0001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K2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R3_1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Z0=72.00     TD=5.775N    L=6.736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R0001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R3_1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R3_2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0002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R3_2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VIA2A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Z0=72.00     TD=5.775N    L=1.146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0003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VIA2A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VIA1A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Z0=72.00     TD=7.162N    L=66.22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0004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VIA1A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D13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Z0=72.00     TD=5.775N    L=8.101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0005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VIA1A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D5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Z0=72.00     TD=5.775N    L=8.114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6560" y="38088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  <a:ea typeface="Book Antiqua"/>
              </a:rPr>
              <a:t>SPICE -&gt; .ebd: add on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57160" y="2057400"/>
            <a:ext cx="8288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65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  <a:ea typeface="Book Antiqua"/>
              </a:rPr>
              <a:t>IBIS scaling:  pulld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2880" y="144792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84240" y="1371600"/>
            <a:ext cx="779292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6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  <a:ea typeface="Book Antiqua"/>
              </a:rPr>
              <a:t>IBIS scaling: VT-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77198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ichlmaier</dc:creator>
  <dc:description/>
  <dc:language>en-US</dc:language>
  <cp:lastModifiedBy>SIEMENS</cp:lastModifiedBy>
  <cp:revision>0</cp:revision>
  <dc:subject>ibis</dc:subject>
  <dc:title>ibis</dc:title>
</cp:coreProperties>
</file>