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CD8-E7CD-4462-B391-3EED92D4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EA4-373C-4AC0-A1BD-46A45E06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96B-20FB-46CD-930F-3E2FF640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43B-B409-47FA-A53A-E6619E59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3BB-95A4-4996-81E7-16643E8B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A06-13B5-4FBE-9D38-BBE36EE6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EFC-7551-4857-AABF-B114BC71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419-2DD2-436C-9AD2-D9F19107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772-94A5-48CF-8A08-6CC671D8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472-4F48-4C34-B0E1-873AA9C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FD0-54BC-4CFB-BCA4-A59ED3EB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560-97BF-4303-AAE8-E612BB5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19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’99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3326-10B5-443F-8398-56C3F1E9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BIS Fu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s on where we are, and were we need to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phen Peters - Intel Co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ce Chair, EIA/IBIS Open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5600" y="600120"/>
          <a:ext cx="2158920" cy="18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5600" y="600120"/>
                    <a:ext cx="215892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 do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a single buffer/receiver in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V - V/T great for CMOS/TTL/E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river Schedule] expands methodology to controlled rise time parts (GTL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hold, etc. now available for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a Pad to Pin conn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BD and Enhanced packages model complex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 long as you don’t want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 don’t do so well (or at al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Multiple buffers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O effects due to pin to pin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O effects due to power/gnd rail bo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description of  Lossy Transmission 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matrix and/or frequency dependent loss needed for .ebd and enhanced .pkg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effects of non ideal ground return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eded capability in the next generation sim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Are These Important 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Fast Processor Bu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 budgets are super tight, can’t just ‘guestimat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Synchronous 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 previously “2nd Order” now dom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kew due to gnd/pwr bounc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kew due to ground return paths and l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osstalk (both package and boar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BIS and The SSO Problem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Pin Mapping] is a start, but it is not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really include on-die capac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 involved to abstract complex package power distribution into simple (fixed) R/L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 to Pin coupl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board extraction not always appropriate for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may lend itself to ‘regular’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champ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Thoughts and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for SSO modeling is to make buffer pwr/gnd nodes availabl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C is interesting, but it doesn’t use standard I/V - V/T description of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dd Submodel] keyword has lots of pos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 file provides the shell, but submodel becomes a group of buff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buffer imbeds package descrip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6:59:49Z</dcterms:created>
  <dc:creator>MD6 Engineering Computing</dc:creator>
  <dc:description/>
  <dc:language>en-US</dc:language>
  <cp:lastModifiedBy>MD6 Engineering Computing</cp:lastModifiedBy>
  <dcterms:modified xsi:type="dcterms:W3CDTF">1999-02-19T16:12:11Z</dcterms:modified>
  <cp:revision>13</cp:revision>
  <dc:subject/>
  <dc:title>IBIS Version 3.1 - Update</dc:title>
</cp:coreProperties>
</file>