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IS Version 3.2 -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for the 1999 IBIS Open Forum Summ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hen Peters - Vice Chair, EIA/IBIS Ope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5600" y="600120"/>
            <a:ext cx="21970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- Enhanced Package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line description added to .pkg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trace divided into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ection described as a lumped or distributed element (i.e. transmission l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 (fork, endfork)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pling only supported for pin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describing PGA and BGA pad to pin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- Enhanced Package Descrip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Board Description (.ebd)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bd file describes path between IC(s) mounted on a circuit board and external conn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s described as lumped elements or uncoupled transmission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coupling is desired use a physical dat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bd files directly supports Pentium® II Processor cartridge descri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Ahead For IB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or models (coupled and uncoupled) are in th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dd Submodel] can be a path for general purpose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odel can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merge or incorporation with IMIC standard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IBIS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 spec ratified at Jan. 1999 phone con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en Parser complete and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IS website: http://www.eia.org/EIG/IBIS/ibi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3.2 going for ANSI-EIA ra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 known at ANSI-EIA 656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- IBIS 2.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/O described with I/V curves and V/T cu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support for GTL+ 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re were limitation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elements could not be described in I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dequate for multi-stage I/O and cartridge packaging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 limited to lumped L/R/C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IS 3.2 Enhancements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basic areas were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 Support for additional devic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(2 pin) devices, terminators, bu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- Extended model specs and simulation h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gback and hysteresis specs, model sel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- Support for advanced driver/receiver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staged outputs, bus hold, dynamic cl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- Enhanced package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line package stubs, .eb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- Additional Device Typ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passive (2 pin)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eries Pin Mapping] keyword allows pin to pin map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s’ model type is added to [Model]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now describe series R/L/C, Lc, Rc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eries Current] keyword describes diode I/V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termination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ed ‘Terminator’ model type to [Model]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d to model terminator packs (including 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- Additional Device Types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FET bus switches (Quickswit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s_switch’ model type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n], [Off] keyword added to describ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tate uses [Series MOSFET] keyword  to describe I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 state model falls back to series R (very high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eries Switch Groups] allows user to describe functionality of a crossbar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- Extended Model Spec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gback/Hysteresis/Immunity limits ad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specifies both static and dynamic overshoot/undershoot with [Model Spec]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Pentium® Pro processor specing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odel Selector] keyword for swapping in and ou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one model can be mapped to a 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(thru simulator I/F) selects which model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- Advanced Driver Technolog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IS 3.2 can directly model multi-stage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river Schedule] allows user to switch in/out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GTL+  PMOS ki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ed support for diode transient tim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supplies a ‘transit time’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o [GND clamp] or [Power Clamp] curves on IC input to model diode kickba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- Advanced Driver Tech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IS 3.2 introduces [Add Submodel]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top level [Model] to call out additional function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defined submodel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_clamp - switch on and off extra clamp t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_Hold - switch on or off extra output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ver Schedule will most likely mov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D6 Engineering Computing</dc:creator>
  <dc:description/>
  <dc:language>en-US</dc:language>
  <cp:lastModifiedBy>MD6 Engineering Computing</cp:lastModifiedBy>
  <cp:revision>0</cp:revision>
  <dc:subject/>
  <dc:title>IBIS Version 3.1 - Update</dc:title>
</cp:coreProperties>
</file>