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890640" y="4728960"/>
            <a:ext cx="4881600" cy="449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014480" y="863280"/>
            <a:ext cx="463536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4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5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5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4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04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mple animatio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he only slides that have trans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se are to be spread sparingly through the presentation to help punctuate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uggestion, these could be used at the start and/or end of s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5600" y="417168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484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08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560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484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08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5600" y="2120760"/>
            <a:ext cx="8634240" cy="56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5600" y="417168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484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080" y="342864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560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484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080" y="4171680"/>
            <a:ext cx="277992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5600" y="2120760"/>
            <a:ext cx="8634240" cy="56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17168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56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3428640"/>
            <a:ext cx="42134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5600" y="4171680"/>
            <a:ext cx="8634240" cy="6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3000" y="6591240"/>
            <a:ext cx="684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5EC6-8314-4E64-B907-1E0D0ACC479D}" type="slidenum">
              <a:rPr b="0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Nokia Siemens Networks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iver schedule:  pre-/de-emphasis and frequency/data rate  issues     Lenski / 14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arch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43000" y="6454800"/>
            <a:ext cx="304488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68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2286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94000" indent="-2286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94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94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37560" y="6243480"/>
            <a:ext cx="10555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7837560" y="6243480"/>
            <a:ext cx="1055520" cy="444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600" y="2120760"/>
            <a:ext cx="8634240" cy="12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000" y="6591240"/>
            <a:ext cx="684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223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E5B2-7913-4405-B204-8327789C730F}" type="slidenum">
              <a:rPr b="0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Nokia Siemens Networks</a:t>
            </a:r>
            <a:r>
              <a:rPr b="0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river schedule: pre-/de-emphasis and frequency/data-rate issues        Lenski  / 14th March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000" y="6454800"/>
            <a:ext cx="304488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49280" algn="ctr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57160" algn="ctr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65400" algn="ctr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265400">
              <a:spcBef>
                <a:spcPts val="4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265400">
              <a:spcBef>
                <a:spcPts val="4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59520" y="1192320"/>
            <a:ext cx="360036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48578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65" name="" descr=""/>
          <p:cNvPicPr/>
          <p:nvPr/>
        </p:nvPicPr>
        <p:blipFill>
          <a:blip r:embed="rId2"/>
          <a:stretch/>
        </p:blipFill>
        <p:spPr>
          <a:xfrm>
            <a:off x="4041720" y="6635880"/>
            <a:ext cx="528840" cy="222120"/>
          </a:xfrm>
          <a:prstGeom prst="rect">
            <a:avLst/>
          </a:prstGeom>
          <a:ln w="0">
            <a:noFill/>
          </a:ln>
        </p:spPr>
      </p:pic>
      <p:sp>
        <p:nvSpPr>
          <p:cNvPr id="1366" name=""/>
          <p:cNvSpPr/>
          <p:nvPr/>
        </p:nvSpPr>
        <p:spPr>
          <a:xfrm>
            <a:off x="1158840" y="1208880"/>
            <a:ext cx="1893960" cy="1819800"/>
          </a:xfrm>
          <a:prstGeom prst="horizontalScroll">
            <a:avLst>
              <a:gd name="adj" fmla="val 12500"/>
            </a:avLst>
          </a:prstGeom>
          <a:solidFill>
            <a:srgbClr val="ffcc00">
              <a:alpha val="50000"/>
            </a:srgbClr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onotype Corsiva"/>
              </a:rPr>
              <a:t>driver schedule: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Monotype Corsiva"/>
              </a:rPr>
              <a:t>pre-/de-emphasis and frequency/data-rate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1222200" y="2568600"/>
            <a:ext cx="1955880" cy="811080"/>
            <a:chOff x="1222200" y="2568600"/>
            <a:chExt cx="1955880" cy="811080"/>
          </a:xfrm>
        </p:grpSpPr>
        <p:grpSp>
          <p:nvGrpSpPr>
            <p:cNvPr id="1368" name=""/>
            <p:cNvGrpSpPr/>
            <p:nvPr/>
          </p:nvGrpSpPr>
          <p:grpSpPr>
            <a:xfrm>
              <a:off x="1222200" y="2865240"/>
              <a:ext cx="1955880" cy="514440"/>
              <a:chOff x="1222200" y="2865240"/>
              <a:chExt cx="1955880" cy="51444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1222200" y="3251880"/>
                <a:ext cx="1955880" cy="127800"/>
                <a:chOff x="1222200" y="3251880"/>
                <a:chExt cx="1955880" cy="12780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1548360" y="325188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2201040" y="325188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2527200" y="325188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2853720" y="325188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1874520" y="325188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1222200" y="325188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1386000" y="3123000"/>
                <a:ext cx="1629720" cy="127800"/>
                <a:chOff x="1386000" y="3123000"/>
                <a:chExt cx="1629720" cy="12780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1386000" y="31230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2038680" y="31230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364840" y="31230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2691360" y="31230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1712160" y="31230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1549080" y="2865240"/>
                <a:ext cx="1303200" cy="256680"/>
                <a:chOff x="1549080" y="2865240"/>
                <a:chExt cx="1303200" cy="25668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1875240" y="29941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2527920" y="29941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201400" y="29941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549080" y="29941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1712880" y="28652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2365560" y="28652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039040" y="28652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0" name=""/>
            <p:cNvGrpSpPr/>
            <p:nvPr/>
          </p:nvGrpSpPr>
          <p:grpSpPr>
            <a:xfrm>
              <a:off x="1960560" y="2865240"/>
              <a:ext cx="486360" cy="512640"/>
              <a:chOff x="1960560" y="2865240"/>
              <a:chExt cx="486360" cy="51264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1960560" y="3251880"/>
                <a:ext cx="486360" cy="126000"/>
                <a:chOff x="1960560" y="3251880"/>
                <a:chExt cx="486360" cy="12600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1980720" y="3292920"/>
                  <a:ext cx="44604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960560" y="3335400"/>
                  <a:ext cx="48636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000880" y="3251880"/>
                  <a:ext cx="40536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2021040" y="3123000"/>
                <a:ext cx="364680" cy="126000"/>
                <a:chOff x="2021040" y="3123000"/>
                <a:chExt cx="364680" cy="12600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2036160" y="3164040"/>
                  <a:ext cx="33444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2021040" y="3206520"/>
                  <a:ext cx="364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2051280" y="3123000"/>
                  <a:ext cx="30420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2062080" y="2994120"/>
                <a:ext cx="283680" cy="126000"/>
                <a:chOff x="2062080" y="2994120"/>
                <a:chExt cx="283680" cy="12600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2073600" y="3035160"/>
                  <a:ext cx="2602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2062080" y="3077640"/>
                  <a:ext cx="283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085480" y="2994120"/>
                  <a:ext cx="23652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3" name=""/>
              <p:cNvGrpSpPr/>
              <p:nvPr/>
            </p:nvGrpSpPr>
            <p:grpSpPr>
              <a:xfrm>
                <a:off x="2102760" y="2865240"/>
                <a:ext cx="202680" cy="126000"/>
                <a:chOff x="2102760" y="2865240"/>
                <a:chExt cx="202680" cy="12600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2111040" y="2906280"/>
                  <a:ext cx="18612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2102760" y="2948760"/>
                  <a:ext cx="202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2119320" y="2865240"/>
                  <a:ext cx="16920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"/>
            <p:cNvSpPr/>
            <p:nvPr/>
          </p:nvSpPr>
          <p:spPr>
            <a:xfrm>
              <a:off x="1795320" y="2710440"/>
              <a:ext cx="811080" cy="151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"/>
            <p:cNvGrpSpPr/>
            <p:nvPr/>
          </p:nvGrpSpPr>
          <p:grpSpPr>
            <a:xfrm>
              <a:off x="1907280" y="2768400"/>
              <a:ext cx="587160" cy="91440"/>
              <a:chOff x="1907280" y="2768400"/>
              <a:chExt cx="587160" cy="91440"/>
            </a:xfrm>
          </p:grpSpPr>
          <p:sp>
            <p:nvSpPr>
              <p:cNvPr id="1409" name=""/>
              <p:cNvSpPr/>
              <p:nvPr/>
            </p:nvSpPr>
            <p:spPr>
              <a:xfrm>
                <a:off x="1907280" y="276840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035080" y="2768400"/>
                <a:ext cx="81000" cy="9108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413440" y="276840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284920" y="276840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158200" y="276840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>
              <a:off x="1771560" y="2697480"/>
              <a:ext cx="858600" cy="25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1788840" y="2594520"/>
              <a:ext cx="824040" cy="102960"/>
            </a:xfrm>
            <a:custGeom>
              <a:avLst/>
              <a:gdLst>
                <a:gd name="textAreaLeft" fmla="*/ 85680 w 824040"/>
                <a:gd name="textAreaRight" fmla="*/ 738360 w 824040"/>
                <a:gd name="textAreaTop" fmla="*/ 10440 h 102960"/>
                <a:gd name="textAreaBottom" fmla="*/ 92520 h 10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01" y="21600"/>
                  </a:lnTo>
                  <a:lnTo>
                    <a:pt x="899" y="2160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813320" y="2568600"/>
              <a:ext cx="770760" cy="25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2928240" y="2247840"/>
            <a:ext cx="1776600" cy="852120"/>
            <a:chOff x="2928240" y="2247840"/>
            <a:chExt cx="1776600" cy="852120"/>
          </a:xfrm>
        </p:grpSpPr>
        <p:sp>
          <p:nvSpPr>
            <p:cNvPr id="1418" name=""/>
            <p:cNvSpPr/>
            <p:nvPr/>
          </p:nvSpPr>
          <p:spPr>
            <a:xfrm>
              <a:off x="2928240" y="2247840"/>
              <a:ext cx="1776600" cy="3992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Pre-/De-empha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9" name=""/>
            <p:cNvGrpSpPr/>
            <p:nvPr/>
          </p:nvGrpSpPr>
          <p:grpSpPr>
            <a:xfrm>
              <a:off x="3164040" y="2593800"/>
              <a:ext cx="1220400" cy="506160"/>
              <a:chOff x="3164040" y="2593800"/>
              <a:chExt cx="1220400" cy="506160"/>
            </a:xfrm>
          </p:grpSpPr>
          <p:grpSp>
            <p:nvGrpSpPr>
              <p:cNvPr id="1420" name=""/>
              <p:cNvGrpSpPr/>
              <p:nvPr/>
            </p:nvGrpSpPr>
            <p:grpSpPr>
              <a:xfrm>
                <a:off x="3164040" y="2778840"/>
                <a:ext cx="1220400" cy="321120"/>
                <a:chOff x="3164040" y="2778840"/>
                <a:chExt cx="1220400" cy="321120"/>
              </a:xfrm>
            </p:grpSpPr>
            <p:grpSp>
              <p:nvGrpSpPr>
                <p:cNvPr id="1421" name=""/>
                <p:cNvGrpSpPr/>
                <p:nvPr/>
              </p:nvGrpSpPr>
              <p:grpSpPr>
                <a:xfrm>
                  <a:off x="3164040" y="3020400"/>
                  <a:ext cx="1220400" cy="79560"/>
                  <a:chOff x="3164040" y="3020400"/>
                  <a:chExt cx="1220400" cy="79560"/>
                </a:xfrm>
              </p:grpSpPr>
              <p:sp>
                <p:nvSpPr>
                  <p:cNvPr id="1422" name=""/>
                  <p:cNvSpPr/>
                  <p:nvPr/>
                </p:nvSpPr>
                <p:spPr>
                  <a:xfrm>
                    <a:off x="3367440" y="30204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3774600" y="30204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3978360" y="30204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4182120" y="30204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3571200" y="30204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3164040" y="30204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8" name=""/>
                <p:cNvGrpSpPr/>
                <p:nvPr/>
              </p:nvGrpSpPr>
              <p:grpSpPr>
                <a:xfrm>
                  <a:off x="3266280" y="2939760"/>
                  <a:ext cx="1017000" cy="79560"/>
                  <a:chOff x="3266280" y="2939760"/>
                  <a:chExt cx="1017000" cy="79560"/>
                </a:xfrm>
              </p:grpSpPr>
              <p:sp>
                <p:nvSpPr>
                  <p:cNvPr id="1429" name=""/>
                  <p:cNvSpPr/>
                  <p:nvPr/>
                </p:nvSpPr>
                <p:spPr>
                  <a:xfrm>
                    <a:off x="3266280" y="2939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3673440" y="2939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3877200" y="2939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4080960" y="2939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3469680" y="2939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" name=""/>
                <p:cNvGrpSpPr/>
                <p:nvPr/>
              </p:nvGrpSpPr>
              <p:grpSpPr>
                <a:xfrm>
                  <a:off x="3367800" y="2778840"/>
                  <a:ext cx="813240" cy="159840"/>
                  <a:chOff x="3367800" y="2778840"/>
                  <a:chExt cx="813240" cy="159840"/>
                </a:xfrm>
              </p:grpSpPr>
              <p:sp>
                <p:nvSpPr>
                  <p:cNvPr id="1435" name=""/>
                  <p:cNvSpPr/>
                  <p:nvPr/>
                </p:nvSpPr>
                <p:spPr>
                  <a:xfrm>
                    <a:off x="3571200" y="28591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3978720" y="28591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3774960" y="28591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3367800" y="28591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3470040" y="27788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3877200" y="27788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3673440" y="27788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2" name=""/>
              <p:cNvGrpSpPr/>
              <p:nvPr/>
            </p:nvGrpSpPr>
            <p:grpSpPr>
              <a:xfrm>
                <a:off x="3624480" y="2778840"/>
                <a:ext cx="303840" cy="320400"/>
                <a:chOff x="3624480" y="2778840"/>
                <a:chExt cx="303840" cy="320400"/>
              </a:xfrm>
            </p:grpSpPr>
            <p:grpSp>
              <p:nvGrpSpPr>
                <p:cNvPr id="1443" name=""/>
                <p:cNvGrpSpPr/>
                <p:nvPr/>
              </p:nvGrpSpPr>
              <p:grpSpPr>
                <a:xfrm>
                  <a:off x="3624480" y="3020400"/>
                  <a:ext cx="303840" cy="78840"/>
                  <a:chOff x="3624480" y="3020400"/>
                  <a:chExt cx="303840" cy="78840"/>
                </a:xfrm>
              </p:grpSpPr>
              <p:sp>
                <p:nvSpPr>
                  <p:cNvPr id="1444" name=""/>
                  <p:cNvSpPr/>
                  <p:nvPr/>
                </p:nvSpPr>
                <p:spPr>
                  <a:xfrm>
                    <a:off x="3637080" y="3046320"/>
                    <a:ext cx="2786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3624480" y="3072600"/>
                    <a:ext cx="3038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3649680" y="3020400"/>
                    <a:ext cx="2534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3662280" y="2939760"/>
                  <a:ext cx="227880" cy="78840"/>
                  <a:chOff x="3662280" y="2939760"/>
                  <a:chExt cx="227880" cy="7884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>
                    <a:off x="3671640" y="2965680"/>
                    <a:ext cx="2091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3662280" y="2991960"/>
                    <a:ext cx="2278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3681000" y="2939760"/>
                    <a:ext cx="1900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1" name=""/>
                <p:cNvGrpSpPr/>
                <p:nvPr/>
              </p:nvGrpSpPr>
              <p:grpSpPr>
                <a:xfrm>
                  <a:off x="3687840" y="2859120"/>
                  <a:ext cx="177120" cy="78840"/>
                  <a:chOff x="3687840" y="2859120"/>
                  <a:chExt cx="177120" cy="78840"/>
                </a:xfrm>
              </p:grpSpPr>
              <p:sp>
                <p:nvSpPr>
                  <p:cNvPr id="1452" name=""/>
                  <p:cNvSpPr/>
                  <p:nvPr/>
                </p:nvSpPr>
                <p:spPr>
                  <a:xfrm>
                    <a:off x="3695040" y="2885040"/>
                    <a:ext cx="162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3687840" y="2911320"/>
                    <a:ext cx="1771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3702240" y="2859120"/>
                    <a:ext cx="147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5" name=""/>
                <p:cNvGrpSpPr/>
                <p:nvPr/>
              </p:nvGrpSpPr>
              <p:grpSpPr>
                <a:xfrm>
                  <a:off x="3713040" y="2778840"/>
                  <a:ext cx="126720" cy="78840"/>
                  <a:chOff x="3713040" y="2778840"/>
                  <a:chExt cx="126720" cy="78840"/>
                </a:xfrm>
              </p:grpSpPr>
              <p:sp>
                <p:nvSpPr>
                  <p:cNvPr id="1456" name=""/>
                  <p:cNvSpPr/>
                  <p:nvPr/>
                </p:nvSpPr>
                <p:spPr>
                  <a:xfrm>
                    <a:off x="3718080" y="2804760"/>
                    <a:ext cx="116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3713040" y="2831040"/>
                    <a:ext cx="126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3723480" y="2778840"/>
                    <a:ext cx="1058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59" name=""/>
              <p:cNvSpPr/>
              <p:nvPr/>
            </p:nvSpPr>
            <p:spPr>
              <a:xfrm>
                <a:off x="3521160" y="2682720"/>
                <a:ext cx="506520" cy="946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"/>
              <p:cNvGrpSpPr/>
              <p:nvPr/>
            </p:nvGrpSpPr>
            <p:grpSpPr>
              <a:xfrm>
                <a:off x="3591000" y="2718360"/>
                <a:ext cx="366480" cy="56880"/>
                <a:chOff x="3591000" y="2718360"/>
                <a:chExt cx="366480" cy="56880"/>
              </a:xfrm>
            </p:grpSpPr>
            <p:sp>
              <p:nvSpPr>
                <p:cNvPr id="1461" name=""/>
                <p:cNvSpPr/>
                <p:nvPr/>
              </p:nvSpPr>
              <p:spPr>
                <a:xfrm>
                  <a:off x="3591000" y="271836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3671280" y="271836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3906720" y="271836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3826800" y="271836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3747960" y="2718360"/>
                  <a:ext cx="5004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6" name=""/>
              <p:cNvSpPr/>
              <p:nvPr/>
            </p:nvSpPr>
            <p:spPr>
              <a:xfrm>
                <a:off x="3506760" y="2673720"/>
                <a:ext cx="53568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3517200" y="260964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533040" y="2593800"/>
                <a:ext cx="48024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9" name=""/>
          <p:cNvSpPr/>
          <p:nvPr/>
        </p:nvSpPr>
        <p:spPr>
          <a:xfrm>
            <a:off x="3887280" y="3300840"/>
            <a:ext cx="4745880" cy="76536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Frequency / 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2744640" y="4170240"/>
            <a:ext cx="6398640" cy="2277360"/>
            <a:chOff x="2744640" y="4170240"/>
            <a:chExt cx="6398640" cy="2277360"/>
          </a:xfrm>
        </p:grpSpPr>
        <p:grpSp>
          <p:nvGrpSpPr>
            <p:cNvPr id="1471" name=""/>
            <p:cNvGrpSpPr/>
            <p:nvPr/>
          </p:nvGrpSpPr>
          <p:grpSpPr>
            <a:xfrm>
              <a:off x="2744640" y="5002920"/>
              <a:ext cx="6398640" cy="1444680"/>
              <a:chOff x="2744640" y="5002920"/>
              <a:chExt cx="6398640" cy="1444680"/>
            </a:xfrm>
          </p:grpSpPr>
          <p:grpSp>
            <p:nvGrpSpPr>
              <p:cNvPr id="1472" name=""/>
              <p:cNvGrpSpPr/>
              <p:nvPr/>
            </p:nvGrpSpPr>
            <p:grpSpPr>
              <a:xfrm>
                <a:off x="2744640" y="6088680"/>
                <a:ext cx="6398640" cy="358920"/>
                <a:chOff x="2744640" y="6088680"/>
                <a:chExt cx="6398640" cy="35892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3812040" y="6088680"/>
                  <a:ext cx="106128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5946840" y="6088680"/>
                  <a:ext cx="106164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014240" y="6088680"/>
                  <a:ext cx="106128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081640" y="6088680"/>
                  <a:ext cx="106164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879080" y="6088680"/>
                  <a:ext cx="106164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2744640" y="6088680"/>
                  <a:ext cx="106164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3280680" y="5726520"/>
                <a:ext cx="5330520" cy="358920"/>
                <a:chOff x="3280680" y="5726520"/>
                <a:chExt cx="5330520" cy="35892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3280680" y="5726520"/>
                  <a:ext cx="106128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5415120" y="5726520"/>
                  <a:ext cx="106128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6482520" y="5726520"/>
                  <a:ext cx="106128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7549920" y="5726520"/>
                  <a:ext cx="106128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347720" y="5726520"/>
                  <a:ext cx="106128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3814200" y="5002920"/>
                <a:ext cx="4263120" cy="720360"/>
                <a:chOff x="3814200" y="5002920"/>
                <a:chExt cx="4263120" cy="72036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4881600" y="5364720"/>
                  <a:ext cx="106128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7016040" y="5364720"/>
                  <a:ext cx="106128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5949000" y="5364720"/>
                  <a:ext cx="106128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3814200" y="5364720"/>
                  <a:ext cx="106128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4350240" y="5002920"/>
                  <a:ext cx="106128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6484680" y="5002920"/>
                  <a:ext cx="106128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5417640" y="5002920"/>
                  <a:ext cx="106128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3" name=""/>
            <p:cNvGrpSpPr/>
            <p:nvPr/>
          </p:nvGrpSpPr>
          <p:grpSpPr>
            <a:xfrm>
              <a:off x="5159520" y="5002920"/>
              <a:ext cx="1593360" cy="1440720"/>
              <a:chOff x="5159520" y="5002920"/>
              <a:chExt cx="1593360" cy="1440720"/>
            </a:xfrm>
          </p:grpSpPr>
          <p:grpSp>
            <p:nvGrpSpPr>
              <p:cNvPr id="1494" name=""/>
              <p:cNvGrpSpPr/>
              <p:nvPr/>
            </p:nvGrpSpPr>
            <p:grpSpPr>
              <a:xfrm>
                <a:off x="5159520" y="6089040"/>
                <a:ext cx="1593360" cy="354600"/>
                <a:chOff x="5159520" y="6089040"/>
                <a:chExt cx="1593360" cy="35460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5225400" y="6204960"/>
                  <a:ext cx="146088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159520" y="6323760"/>
                  <a:ext cx="159336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5291640" y="6089040"/>
                  <a:ext cx="132804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"/>
              <p:cNvGrpSpPr/>
              <p:nvPr/>
            </p:nvGrpSpPr>
            <p:grpSpPr>
              <a:xfrm>
                <a:off x="5358600" y="5726880"/>
                <a:ext cx="1195200" cy="354600"/>
                <a:chOff x="5358600" y="5726880"/>
                <a:chExt cx="1195200" cy="354600"/>
              </a:xfrm>
            </p:grpSpPr>
            <p:sp>
              <p:nvSpPr>
                <p:cNvPr id="1499" name=""/>
                <p:cNvSpPr/>
                <p:nvPr/>
              </p:nvSpPr>
              <p:spPr>
                <a:xfrm>
                  <a:off x="5407920" y="5842800"/>
                  <a:ext cx="109584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5358600" y="5961600"/>
                  <a:ext cx="119520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5457960" y="5726880"/>
                  <a:ext cx="99612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5492160" y="5364720"/>
                <a:ext cx="929520" cy="353880"/>
                <a:chOff x="5492160" y="5364720"/>
                <a:chExt cx="929520" cy="35388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5530680" y="5480640"/>
                  <a:ext cx="85248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5492160" y="5599080"/>
                  <a:ext cx="92952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569200" y="5364720"/>
                  <a:ext cx="77472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5625000" y="5002920"/>
                <a:ext cx="664200" cy="354600"/>
                <a:chOff x="5625000" y="5002920"/>
                <a:chExt cx="664200" cy="35460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5652360" y="5118840"/>
                  <a:ext cx="60912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625000" y="5237640"/>
                  <a:ext cx="66420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5680080" y="5002920"/>
                  <a:ext cx="55368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0" name=""/>
            <p:cNvSpPr/>
            <p:nvPr/>
          </p:nvSpPr>
          <p:spPr>
            <a:xfrm>
              <a:off x="4619880" y="4569840"/>
              <a:ext cx="2650680" cy="4255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1" name=""/>
            <p:cNvGrpSpPr/>
            <p:nvPr/>
          </p:nvGrpSpPr>
          <p:grpSpPr>
            <a:xfrm>
              <a:off x="4984560" y="4731120"/>
              <a:ext cx="1920960" cy="255960"/>
              <a:chOff x="4984560" y="4731120"/>
              <a:chExt cx="1920960" cy="255960"/>
            </a:xfrm>
          </p:grpSpPr>
          <p:sp>
            <p:nvSpPr>
              <p:cNvPr id="1512" name=""/>
              <p:cNvSpPr/>
              <p:nvPr/>
            </p:nvSpPr>
            <p:spPr>
              <a:xfrm>
                <a:off x="4984560" y="4731120"/>
                <a:ext cx="263880" cy="25596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402160" y="4731120"/>
                <a:ext cx="267840" cy="25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641640" y="4731120"/>
                <a:ext cx="263880" cy="25596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220440" y="4731120"/>
                <a:ext cx="263880" cy="25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805720" y="4731120"/>
                <a:ext cx="264600" cy="25596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7" name=""/>
            <p:cNvSpPr/>
            <p:nvPr/>
          </p:nvSpPr>
          <p:spPr>
            <a:xfrm>
              <a:off x="4541400" y="4530960"/>
              <a:ext cx="2808000" cy="75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4599000" y="4241520"/>
              <a:ext cx="2697120" cy="289440"/>
            </a:xfrm>
            <a:custGeom>
              <a:avLst/>
              <a:gdLst>
                <a:gd name="textAreaLeft" fmla="*/ 280800 w 2697120"/>
                <a:gd name="textAreaRight" fmla="*/ 2416320 w 2697120"/>
                <a:gd name="textAreaTop" fmla="*/ 29880 h 289440"/>
                <a:gd name="textAreaBottom" fmla="*/ 259560 h 28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01" y="21600"/>
                  </a:lnTo>
                  <a:lnTo>
                    <a:pt x="899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680720" y="4170240"/>
              <a:ext cx="2518560" cy="71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195120" y="3532320"/>
            <a:ext cx="1274760" cy="852120"/>
            <a:chOff x="195120" y="3532320"/>
            <a:chExt cx="1274760" cy="852120"/>
          </a:xfrm>
        </p:grpSpPr>
        <p:sp>
          <p:nvSpPr>
            <p:cNvPr id="1521" name=""/>
            <p:cNvSpPr/>
            <p:nvPr/>
          </p:nvSpPr>
          <p:spPr>
            <a:xfrm>
              <a:off x="321840" y="3532320"/>
              <a:ext cx="1079640" cy="3992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2" name=""/>
            <p:cNvGrpSpPr/>
            <p:nvPr/>
          </p:nvGrpSpPr>
          <p:grpSpPr>
            <a:xfrm>
              <a:off x="195120" y="3879000"/>
              <a:ext cx="1274760" cy="505440"/>
              <a:chOff x="195120" y="3879000"/>
              <a:chExt cx="1274760" cy="505440"/>
            </a:xfrm>
          </p:grpSpPr>
          <p:grpSp>
            <p:nvGrpSpPr>
              <p:cNvPr id="1523" name=""/>
              <p:cNvGrpSpPr/>
              <p:nvPr/>
            </p:nvGrpSpPr>
            <p:grpSpPr>
              <a:xfrm>
                <a:off x="195120" y="4063680"/>
                <a:ext cx="1274760" cy="320760"/>
                <a:chOff x="195120" y="4063680"/>
                <a:chExt cx="1274760" cy="320760"/>
              </a:xfrm>
            </p:grpSpPr>
            <p:grpSp>
              <p:nvGrpSpPr>
                <p:cNvPr id="1524" name=""/>
                <p:cNvGrpSpPr/>
                <p:nvPr/>
              </p:nvGrpSpPr>
              <p:grpSpPr>
                <a:xfrm>
                  <a:off x="195120" y="4304880"/>
                  <a:ext cx="1274760" cy="79560"/>
                  <a:chOff x="195120" y="4304880"/>
                  <a:chExt cx="1274760" cy="7956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>
                    <a:off x="407520" y="430488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833040" y="430488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1045800" y="430488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1258560" y="430488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620280" y="430488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195120" y="430488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1" name=""/>
                <p:cNvGrpSpPr/>
                <p:nvPr/>
              </p:nvGrpSpPr>
              <p:grpSpPr>
                <a:xfrm>
                  <a:off x="301680" y="4224240"/>
                  <a:ext cx="1062000" cy="79560"/>
                  <a:chOff x="301680" y="4224240"/>
                  <a:chExt cx="1062000" cy="79560"/>
                </a:xfrm>
              </p:grpSpPr>
              <p:sp>
                <p:nvSpPr>
                  <p:cNvPr id="1532" name=""/>
                  <p:cNvSpPr/>
                  <p:nvPr/>
                </p:nvSpPr>
                <p:spPr>
                  <a:xfrm>
                    <a:off x="301680" y="422424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726840" y="422424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939600" y="422424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1152360" y="422424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514080" y="422424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7" name=""/>
                <p:cNvGrpSpPr/>
                <p:nvPr/>
              </p:nvGrpSpPr>
              <p:grpSpPr>
                <a:xfrm>
                  <a:off x="408240" y="4063680"/>
                  <a:ext cx="849600" cy="159840"/>
                  <a:chOff x="408240" y="4063680"/>
                  <a:chExt cx="849600" cy="159840"/>
                </a:xfrm>
              </p:grpSpPr>
              <p:sp>
                <p:nvSpPr>
                  <p:cNvPr id="1538" name=""/>
                  <p:cNvSpPr/>
                  <p:nvPr/>
                </p:nvSpPr>
                <p:spPr>
                  <a:xfrm>
                    <a:off x="621000" y="414396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1046520" y="414396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833760" y="414396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408240" y="414396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514800" y="406368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940320" y="406368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727560" y="406368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5" name=""/>
              <p:cNvGrpSpPr/>
              <p:nvPr/>
            </p:nvGrpSpPr>
            <p:grpSpPr>
              <a:xfrm>
                <a:off x="676080" y="4063680"/>
                <a:ext cx="317160" cy="319680"/>
                <a:chOff x="676080" y="4063680"/>
                <a:chExt cx="317160" cy="319680"/>
              </a:xfrm>
            </p:grpSpPr>
            <p:grpSp>
              <p:nvGrpSpPr>
                <p:cNvPr id="1546" name=""/>
                <p:cNvGrpSpPr/>
                <p:nvPr/>
              </p:nvGrpSpPr>
              <p:grpSpPr>
                <a:xfrm>
                  <a:off x="676080" y="4304880"/>
                  <a:ext cx="317160" cy="78480"/>
                  <a:chOff x="676080" y="4304880"/>
                  <a:chExt cx="317160" cy="7848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689040" y="4330440"/>
                    <a:ext cx="2908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676080" y="4356720"/>
                    <a:ext cx="3171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702360" y="4304880"/>
                    <a:ext cx="264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715680" y="4224240"/>
                  <a:ext cx="237960" cy="78480"/>
                  <a:chOff x="715680" y="4224240"/>
                  <a:chExt cx="237960" cy="7848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725400" y="4249800"/>
                    <a:ext cx="2181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715680" y="4276080"/>
                    <a:ext cx="2379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735480" y="4224240"/>
                    <a:ext cx="198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4" name=""/>
                <p:cNvGrpSpPr/>
                <p:nvPr/>
              </p:nvGrpSpPr>
              <p:grpSpPr>
                <a:xfrm>
                  <a:off x="742320" y="4143960"/>
                  <a:ext cx="185040" cy="78480"/>
                  <a:chOff x="742320" y="4143960"/>
                  <a:chExt cx="185040" cy="7848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>
                    <a:off x="749880" y="4169520"/>
                    <a:ext cx="1699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742320" y="4195800"/>
                    <a:ext cx="1850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757440" y="4143960"/>
                    <a:ext cx="1544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8" name=""/>
                <p:cNvGrpSpPr/>
                <p:nvPr/>
              </p:nvGrpSpPr>
              <p:grpSpPr>
                <a:xfrm>
                  <a:off x="768600" y="4063680"/>
                  <a:ext cx="132120" cy="78480"/>
                  <a:chOff x="768600" y="4063680"/>
                  <a:chExt cx="132120" cy="78480"/>
                </a:xfrm>
              </p:grpSpPr>
              <p:sp>
                <p:nvSpPr>
                  <p:cNvPr id="1559" name=""/>
                  <p:cNvSpPr/>
                  <p:nvPr/>
                </p:nvSpPr>
                <p:spPr>
                  <a:xfrm>
                    <a:off x="774000" y="4089240"/>
                    <a:ext cx="1213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768600" y="4115520"/>
                    <a:ext cx="1321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779400" y="4063680"/>
                    <a:ext cx="1101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62" name=""/>
              <p:cNvSpPr/>
              <p:nvPr/>
            </p:nvSpPr>
            <p:spPr>
              <a:xfrm>
                <a:off x="568800" y="3967560"/>
                <a:ext cx="528480" cy="9432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3" name=""/>
              <p:cNvGrpSpPr/>
              <p:nvPr/>
            </p:nvGrpSpPr>
            <p:grpSpPr>
              <a:xfrm>
                <a:off x="641880" y="4003560"/>
                <a:ext cx="382320" cy="56880"/>
                <a:chOff x="641880" y="4003560"/>
                <a:chExt cx="382320" cy="5688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641880" y="400356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725040" y="400356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971280" y="400356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887760" y="400356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05320" y="4003560"/>
                  <a:ext cx="532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9" name=""/>
              <p:cNvSpPr/>
              <p:nvPr/>
            </p:nvSpPr>
            <p:spPr>
              <a:xfrm>
                <a:off x="552960" y="3958920"/>
                <a:ext cx="55944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564120" y="3894840"/>
                <a:ext cx="537120" cy="64080"/>
              </a:xfrm>
              <a:custGeom>
                <a:avLst/>
                <a:gdLst>
                  <a:gd name="textAreaLeft" fmla="*/ 55800 w 537120"/>
                  <a:gd name="textAreaRight" fmla="*/ 481320 w 53712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80680" y="3879000"/>
                <a:ext cx="50148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2" name=""/>
          <p:cNvGrpSpPr/>
          <p:nvPr/>
        </p:nvGrpSpPr>
        <p:grpSpPr>
          <a:xfrm>
            <a:off x="2185920" y="3453120"/>
            <a:ext cx="2842920" cy="845280"/>
            <a:chOff x="2185920" y="3453120"/>
            <a:chExt cx="2842920" cy="845280"/>
          </a:xfrm>
        </p:grpSpPr>
        <p:sp>
          <p:nvSpPr>
            <p:cNvPr id="1573" name=""/>
            <p:cNvSpPr/>
            <p:nvPr/>
          </p:nvSpPr>
          <p:spPr>
            <a:xfrm>
              <a:off x="2185920" y="3453120"/>
              <a:ext cx="2842920" cy="39960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Driver schedule retrosp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"/>
            <p:cNvGrpSpPr/>
            <p:nvPr/>
          </p:nvGrpSpPr>
          <p:grpSpPr>
            <a:xfrm>
              <a:off x="2943360" y="3792600"/>
              <a:ext cx="1409400" cy="505800"/>
              <a:chOff x="2943360" y="3792600"/>
              <a:chExt cx="1409400" cy="505800"/>
            </a:xfrm>
          </p:grpSpPr>
          <p:grpSp>
            <p:nvGrpSpPr>
              <p:cNvPr id="1575" name=""/>
              <p:cNvGrpSpPr/>
              <p:nvPr/>
            </p:nvGrpSpPr>
            <p:grpSpPr>
              <a:xfrm>
                <a:off x="2943360" y="3977640"/>
                <a:ext cx="1409400" cy="320760"/>
                <a:chOff x="2943360" y="3977640"/>
                <a:chExt cx="1409400" cy="320760"/>
              </a:xfrm>
            </p:grpSpPr>
            <p:grpSp>
              <p:nvGrpSpPr>
                <p:cNvPr id="1576" name=""/>
                <p:cNvGrpSpPr/>
                <p:nvPr/>
              </p:nvGrpSpPr>
              <p:grpSpPr>
                <a:xfrm>
                  <a:off x="2943360" y="4218840"/>
                  <a:ext cx="1409400" cy="79560"/>
                  <a:chOff x="2943360" y="4218840"/>
                  <a:chExt cx="1409400" cy="7956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3178440" y="42188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3648960" y="42188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3884040" y="42188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4119120" y="42188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3413520" y="42188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2943360" y="42188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3" name=""/>
                <p:cNvGrpSpPr/>
                <p:nvPr/>
              </p:nvGrpSpPr>
              <p:grpSpPr>
                <a:xfrm>
                  <a:off x="3061440" y="4138200"/>
                  <a:ext cx="1174320" cy="79560"/>
                  <a:chOff x="3061440" y="4138200"/>
                  <a:chExt cx="1174320" cy="79560"/>
                </a:xfrm>
              </p:grpSpPr>
              <p:sp>
                <p:nvSpPr>
                  <p:cNvPr id="1584" name=""/>
                  <p:cNvSpPr/>
                  <p:nvPr/>
                </p:nvSpPr>
                <p:spPr>
                  <a:xfrm>
                    <a:off x="3061440" y="41382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3531600" y="41382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3767040" y="41382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4002120" y="41382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3296520" y="41382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9" name=""/>
                <p:cNvGrpSpPr/>
                <p:nvPr/>
              </p:nvGrpSpPr>
              <p:grpSpPr>
                <a:xfrm>
                  <a:off x="3178800" y="3977640"/>
                  <a:ext cx="939240" cy="159840"/>
                  <a:chOff x="3178800" y="3977640"/>
                  <a:chExt cx="939240" cy="159840"/>
                </a:xfrm>
              </p:grpSpPr>
              <p:sp>
                <p:nvSpPr>
                  <p:cNvPr id="1590" name=""/>
                  <p:cNvSpPr/>
                  <p:nvPr/>
                </p:nvSpPr>
                <p:spPr>
                  <a:xfrm>
                    <a:off x="3413880" y="40579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3884400" y="40579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3648960" y="40579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3178800" y="40579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3296880" y="39776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3767040" y="39776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3531960" y="39776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7" name=""/>
              <p:cNvGrpSpPr/>
              <p:nvPr/>
            </p:nvGrpSpPr>
            <p:grpSpPr>
              <a:xfrm>
                <a:off x="3475440" y="3977640"/>
                <a:ext cx="351000" cy="320040"/>
                <a:chOff x="3475440" y="3977640"/>
                <a:chExt cx="351000" cy="320040"/>
              </a:xfrm>
            </p:grpSpPr>
            <p:grpSp>
              <p:nvGrpSpPr>
                <p:cNvPr id="1598" name=""/>
                <p:cNvGrpSpPr/>
                <p:nvPr/>
              </p:nvGrpSpPr>
              <p:grpSpPr>
                <a:xfrm>
                  <a:off x="3475440" y="4218840"/>
                  <a:ext cx="351000" cy="78840"/>
                  <a:chOff x="3475440" y="4218840"/>
                  <a:chExt cx="351000" cy="78840"/>
                </a:xfrm>
              </p:grpSpPr>
              <p:sp>
                <p:nvSpPr>
                  <p:cNvPr id="1599" name=""/>
                  <p:cNvSpPr/>
                  <p:nvPr/>
                </p:nvSpPr>
                <p:spPr>
                  <a:xfrm>
                    <a:off x="3489840" y="4244760"/>
                    <a:ext cx="3218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475440" y="4271040"/>
                    <a:ext cx="3510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3504600" y="4218840"/>
                    <a:ext cx="2926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2" name=""/>
                <p:cNvGrpSpPr/>
                <p:nvPr/>
              </p:nvGrpSpPr>
              <p:grpSpPr>
                <a:xfrm>
                  <a:off x="3519000" y="4138560"/>
                  <a:ext cx="263160" cy="78840"/>
                  <a:chOff x="3519000" y="4138560"/>
                  <a:chExt cx="263160" cy="78840"/>
                </a:xfrm>
              </p:grpSpPr>
              <p:sp>
                <p:nvSpPr>
                  <p:cNvPr id="1603" name=""/>
                  <p:cNvSpPr/>
                  <p:nvPr/>
                </p:nvSpPr>
                <p:spPr>
                  <a:xfrm>
                    <a:off x="3529800" y="4164480"/>
                    <a:ext cx="2415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3519000" y="4190760"/>
                    <a:ext cx="2631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3540600" y="4138560"/>
                    <a:ext cx="219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6" name=""/>
                <p:cNvGrpSpPr/>
                <p:nvPr/>
              </p:nvGrpSpPr>
              <p:grpSpPr>
                <a:xfrm>
                  <a:off x="3548520" y="4057920"/>
                  <a:ext cx="204840" cy="78480"/>
                  <a:chOff x="3548520" y="4057920"/>
                  <a:chExt cx="204840" cy="78480"/>
                </a:xfrm>
              </p:grpSpPr>
              <p:sp>
                <p:nvSpPr>
                  <p:cNvPr id="1607" name=""/>
                  <p:cNvSpPr/>
                  <p:nvPr/>
                </p:nvSpPr>
                <p:spPr>
                  <a:xfrm>
                    <a:off x="3556800" y="4083480"/>
                    <a:ext cx="1879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3548520" y="4109760"/>
                    <a:ext cx="2048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565440" y="4057920"/>
                    <a:ext cx="1710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0" name=""/>
                <p:cNvGrpSpPr/>
                <p:nvPr/>
              </p:nvGrpSpPr>
              <p:grpSpPr>
                <a:xfrm>
                  <a:off x="3578040" y="3977640"/>
                  <a:ext cx="146160" cy="78840"/>
                  <a:chOff x="3578040" y="3977640"/>
                  <a:chExt cx="146160" cy="78840"/>
                </a:xfrm>
              </p:grpSpPr>
              <p:sp>
                <p:nvSpPr>
                  <p:cNvPr id="1611" name=""/>
                  <p:cNvSpPr/>
                  <p:nvPr/>
                </p:nvSpPr>
                <p:spPr>
                  <a:xfrm>
                    <a:off x="3583800" y="4003560"/>
                    <a:ext cx="134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3578040" y="4029840"/>
                    <a:ext cx="1461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3589920" y="3977640"/>
                    <a:ext cx="1220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14" name=""/>
              <p:cNvSpPr/>
              <p:nvPr/>
            </p:nvSpPr>
            <p:spPr>
              <a:xfrm>
                <a:off x="3356280" y="3881520"/>
                <a:ext cx="584640" cy="9432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5" name=""/>
              <p:cNvGrpSpPr/>
              <p:nvPr/>
            </p:nvGrpSpPr>
            <p:grpSpPr>
              <a:xfrm>
                <a:off x="3437280" y="3917160"/>
                <a:ext cx="423000" cy="56880"/>
                <a:chOff x="3437280" y="3917160"/>
                <a:chExt cx="423000" cy="5688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3437280" y="391716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529080" y="391716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801600" y="391716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709440" y="3917160"/>
                  <a:ext cx="5796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618000" y="391716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1" name=""/>
              <p:cNvSpPr/>
              <p:nvPr/>
            </p:nvSpPr>
            <p:spPr>
              <a:xfrm>
                <a:off x="3339360" y="3872880"/>
                <a:ext cx="61884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3351600" y="3808440"/>
                <a:ext cx="594000" cy="64080"/>
              </a:xfrm>
              <a:custGeom>
                <a:avLst/>
                <a:gdLst>
                  <a:gd name="textAreaLeft" fmla="*/ 61560 w 594000"/>
                  <a:gd name="textAreaRight" fmla="*/ 532440 w 59400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369600" y="3792600"/>
                <a:ext cx="55512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4" name=""/>
          <p:cNvGrpSpPr/>
          <p:nvPr/>
        </p:nvGrpSpPr>
        <p:grpSpPr>
          <a:xfrm>
            <a:off x="0" y="2254320"/>
            <a:ext cx="1220760" cy="852480"/>
            <a:chOff x="0" y="2254320"/>
            <a:chExt cx="1220760" cy="852480"/>
          </a:xfrm>
        </p:grpSpPr>
        <p:sp>
          <p:nvSpPr>
            <p:cNvPr id="1625" name=""/>
            <p:cNvSpPr/>
            <p:nvPr/>
          </p:nvSpPr>
          <p:spPr>
            <a:xfrm>
              <a:off x="113040" y="2254320"/>
              <a:ext cx="1069560" cy="3992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6" name=""/>
            <p:cNvGrpSpPr/>
            <p:nvPr/>
          </p:nvGrpSpPr>
          <p:grpSpPr>
            <a:xfrm>
              <a:off x="0" y="2600640"/>
              <a:ext cx="1220760" cy="506160"/>
              <a:chOff x="0" y="2600640"/>
              <a:chExt cx="1220760" cy="506160"/>
            </a:xfrm>
          </p:grpSpPr>
          <p:grpSp>
            <p:nvGrpSpPr>
              <p:cNvPr id="1627" name=""/>
              <p:cNvGrpSpPr/>
              <p:nvPr/>
            </p:nvGrpSpPr>
            <p:grpSpPr>
              <a:xfrm>
                <a:off x="0" y="2785680"/>
                <a:ext cx="1220760" cy="321120"/>
                <a:chOff x="0" y="2785680"/>
                <a:chExt cx="1220760" cy="321120"/>
              </a:xfrm>
            </p:grpSpPr>
            <p:grpSp>
              <p:nvGrpSpPr>
                <p:cNvPr id="1628" name=""/>
                <p:cNvGrpSpPr/>
                <p:nvPr/>
              </p:nvGrpSpPr>
              <p:grpSpPr>
                <a:xfrm>
                  <a:off x="0" y="3027240"/>
                  <a:ext cx="1220760" cy="79560"/>
                  <a:chOff x="0" y="3027240"/>
                  <a:chExt cx="1220760" cy="79560"/>
                </a:xfrm>
              </p:grpSpPr>
              <p:sp>
                <p:nvSpPr>
                  <p:cNvPr id="1629" name=""/>
                  <p:cNvSpPr/>
                  <p:nvPr/>
                </p:nvSpPr>
                <p:spPr>
                  <a:xfrm>
                    <a:off x="203400" y="30272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610920" y="30272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814680" y="30272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1018440" y="30272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407160" y="30272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0" y="30272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5" name=""/>
                <p:cNvGrpSpPr/>
                <p:nvPr/>
              </p:nvGrpSpPr>
              <p:grpSpPr>
                <a:xfrm>
                  <a:off x="102240" y="2946600"/>
                  <a:ext cx="1017000" cy="79560"/>
                  <a:chOff x="102240" y="2946600"/>
                  <a:chExt cx="1017000" cy="7956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>
                    <a:off x="102240" y="29466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509400" y="29466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713160" y="29466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916920" y="29466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305640" y="29466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1" name=""/>
                <p:cNvGrpSpPr/>
                <p:nvPr/>
              </p:nvGrpSpPr>
              <p:grpSpPr>
                <a:xfrm>
                  <a:off x="204120" y="2785680"/>
                  <a:ext cx="813240" cy="159840"/>
                  <a:chOff x="204120" y="2785680"/>
                  <a:chExt cx="813240" cy="159840"/>
                </a:xfrm>
              </p:grpSpPr>
              <p:sp>
                <p:nvSpPr>
                  <p:cNvPr id="1642" name=""/>
                  <p:cNvSpPr/>
                  <p:nvPr/>
                </p:nvSpPr>
                <p:spPr>
                  <a:xfrm>
                    <a:off x="407880" y="28659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815040" y="28659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611640" y="28659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204120" y="28659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306360" y="27856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713880" y="27856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510120" y="27856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9" name=""/>
              <p:cNvGrpSpPr/>
              <p:nvPr/>
            </p:nvGrpSpPr>
            <p:grpSpPr>
              <a:xfrm>
                <a:off x="460800" y="2785680"/>
                <a:ext cx="303480" cy="320040"/>
                <a:chOff x="460800" y="2785680"/>
                <a:chExt cx="303480" cy="320040"/>
              </a:xfrm>
            </p:grpSpPr>
            <p:grpSp>
              <p:nvGrpSpPr>
                <p:cNvPr id="1650" name=""/>
                <p:cNvGrpSpPr/>
                <p:nvPr/>
              </p:nvGrpSpPr>
              <p:grpSpPr>
                <a:xfrm>
                  <a:off x="460800" y="3026880"/>
                  <a:ext cx="303480" cy="78840"/>
                  <a:chOff x="460800" y="3026880"/>
                  <a:chExt cx="303480" cy="78840"/>
                </a:xfrm>
              </p:grpSpPr>
              <p:sp>
                <p:nvSpPr>
                  <p:cNvPr id="1651" name=""/>
                  <p:cNvSpPr/>
                  <p:nvPr/>
                </p:nvSpPr>
                <p:spPr>
                  <a:xfrm>
                    <a:off x="473400" y="3052800"/>
                    <a:ext cx="278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460800" y="3079080"/>
                    <a:ext cx="303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486000" y="3026880"/>
                    <a:ext cx="2530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4" name=""/>
                <p:cNvGrpSpPr/>
                <p:nvPr/>
              </p:nvGrpSpPr>
              <p:grpSpPr>
                <a:xfrm>
                  <a:off x="498600" y="2946600"/>
                  <a:ext cx="227520" cy="78840"/>
                  <a:chOff x="498600" y="2946600"/>
                  <a:chExt cx="227520" cy="78840"/>
                </a:xfrm>
              </p:grpSpPr>
              <p:sp>
                <p:nvSpPr>
                  <p:cNvPr id="1655" name=""/>
                  <p:cNvSpPr/>
                  <p:nvPr/>
                </p:nvSpPr>
                <p:spPr>
                  <a:xfrm>
                    <a:off x="507960" y="2972520"/>
                    <a:ext cx="2088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498600" y="2998800"/>
                    <a:ext cx="227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517320" y="2946600"/>
                    <a:ext cx="189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8" name=""/>
                <p:cNvGrpSpPr/>
                <p:nvPr/>
              </p:nvGrpSpPr>
              <p:grpSpPr>
                <a:xfrm>
                  <a:off x="524160" y="2865960"/>
                  <a:ext cx="177120" cy="78480"/>
                  <a:chOff x="524160" y="2865960"/>
                  <a:chExt cx="177120" cy="78480"/>
                </a:xfrm>
              </p:grpSpPr>
              <p:sp>
                <p:nvSpPr>
                  <p:cNvPr id="1659" name=""/>
                  <p:cNvSpPr/>
                  <p:nvPr/>
                </p:nvSpPr>
                <p:spPr>
                  <a:xfrm>
                    <a:off x="531360" y="2891520"/>
                    <a:ext cx="162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524160" y="2917800"/>
                    <a:ext cx="1771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538560" y="2865960"/>
                    <a:ext cx="147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2" name=""/>
                <p:cNvGrpSpPr/>
                <p:nvPr/>
              </p:nvGrpSpPr>
              <p:grpSpPr>
                <a:xfrm>
                  <a:off x="549360" y="2785680"/>
                  <a:ext cx="126360" cy="78840"/>
                  <a:chOff x="549360" y="2785680"/>
                  <a:chExt cx="126360" cy="78840"/>
                </a:xfrm>
              </p:grpSpPr>
              <p:sp>
                <p:nvSpPr>
                  <p:cNvPr id="1663" name=""/>
                  <p:cNvSpPr/>
                  <p:nvPr/>
                </p:nvSpPr>
                <p:spPr>
                  <a:xfrm>
                    <a:off x="554400" y="2811600"/>
                    <a:ext cx="1159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549360" y="2837880"/>
                    <a:ext cx="126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559800" y="2785680"/>
                    <a:ext cx="105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6" name=""/>
              <p:cNvSpPr/>
              <p:nvPr/>
            </p:nvSpPr>
            <p:spPr>
              <a:xfrm>
                <a:off x="357480" y="2689200"/>
                <a:ext cx="506160" cy="9504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7" name=""/>
              <p:cNvGrpSpPr/>
              <p:nvPr/>
            </p:nvGrpSpPr>
            <p:grpSpPr>
              <a:xfrm>
                <a:off x="427680" y="2725560"/>
                <a:ext cx="366480" cy="56880"/>
                <a:chOff x="427680" y="2725560"/>
                <a:chExt cx="366480" cy="5688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427680" y="272556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507600" y="272556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743760" y="272556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663480" y="272556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584280" y="272556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3" name=""/>
              <p:cNvSpPr/>
              <p:nvPr/>
            </p:nvSpPr>
            <p:spPr>
              <a:xfrm>
                <a:off x="342720" y="2680920"/>
                <a:ext cx="53604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353520" y="261684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69000" y="2600640"/>
                <a:ext cx="48096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ata signal   &amp;  clock signal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1678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1680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1681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1682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8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1689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4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1695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2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1703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1704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7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1708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1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5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1716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19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0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6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9" name=""/>
          <p:cNvGrpSpPr/>
          <p:nvPr/>
        </p:nvGrpSpPr>
        <p:grpSpPr>
          <a:xfrm>
            <a:off x="1800" y="730080"/>
            <a:ext cx="8118360" cy="888840"/>
            <a:chOff x="1800" y="730080"/>
            <a:chExt cx="8118360" cy="888840"/>
          </a:xfrm>
        </p:grpSpPr>
        <p:sp>
          <p:nvSpPr>
            <p:cNvPr id="1730" name=""/>
            <p:cNvSpPr/>
            <p:nvPr/>
          </p:nvSpPr>
          <p:spPr>
            <a:xfrm>
              <a:off x="1800" y="1227240"/>
              <a:ext cx="2361600" cy="3916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ata signal1 (NR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2247840" y="730080"/>
              <a:ext cx="5872320" cy="849600"/>
              <a:chOff x="2247840" y="730080"/>
              <a:chExt cx="5872320" cy="84960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2247840" y="1218960"/>
                <a:ext cx="5761800" cy="360720"/>
                <a:chOff x="2247840" y="1218960"/>
                <a:chExt cx="5761800" cy="360720"/>
              </a:xfrm>
            </p:grpSpPr>
            <p:grpSp>
              <p:nvGrpSpPr>
                <p:cNvPr id="1733" name=""/>
                <p:cNvGrpSpPr/>
                <p:nvPr/>
              </p:nvGrpSpPr>
              <p:grpSpPr>
                <a:xfrm>
                  <a:off x="2247840" y="1218960"/>
                  <a:ext cx="1440720" cy="360720"/>
                  <a:chOff x="2247840" y="1218960"/>
                  <a:chExt cx="1440720" cy="360720"/>
                </a:xfrm>
              </p:grpSpPr>
              <p:grpSp>
                <p:nvGrpSpPr>
                  <p:cNvPr id="1734" name=""/>
                  <p:cNvGrpSpPr/>
                  <p:nvPr/>
                </p:nvGrpSpPr>
                <p:grpSpPr>
                  <a:xfrm>
                    <a:off x="2247840" y="1219320"/>
                    <a:ext cx="720360" cy="360360"/>
                    <a:chOff x="2247840" y="1219320"/>
                    <a:chExt cx="720360" cy="360360"/>
                  </a:xfrm>
                </p:grpSpPr>
                <p:sp>
                  <p:nvSpPr>
                    <p:cNvPr id="1735" name=""/>
                    <p:cNvSpPr/>
                    <p:nvPr/>
                  </p:nvSpPr>
                  <p:spPr>
                    <a:xfrm>
                      <a:off x="2247840" y="1579680"/>
                      <a:ext cx="72036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6" name=""/>
                    <p:cNvSpPr/>
                    <p:nvPr/>
                  </p:nvSpPr>
                  <p:spPr>
                    <a:xfrm>
                      <a:off x="2968200" y="121932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37" name=""/>
                  <p:cNvGrpSpPr/>
                  <p:nvPr/>
                </p:nvGrpSpPr>
                <p:grpSpPr>
                  <a:xfrm>
                    <a:off x="2968200" y="1218960"/>
                    <a:ext cx="720360" cy="360360"/>
                    <a:chOff x="2968200" y="1218960"/>
                    <a:chExt cx="720360" cy="360360"/>
                  </a:xfrm>
                </p:grpSpPr>
                <p:sp>
                  <p:nvSpPr>
                    <p:cNvPr id="1738" name=""/>
                    <p:cNvSpPr/>
                    <p:nvPr/>
                  </p:nvSpPr>
                  <p:spPr>
                    <a:xfrm>
                      <a:off x="2968200" y="1218960"/>
                      <a:ext cx="72036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9" name=""/>
                    <p:cNvSpPr/>
                    <p:nvPr/>
                  </p:nvSpPr>
                  <p:spPr>
                    <a:xfrm flipV="1">
                      <a:off x="3688560" y="121896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40" name=""/>
                <p:cNvGrpSpPr/>
                <p:nvPr/>
              </p:nvGrpSpPr>
              <p:grpSpPr>
                <a:xfrm>
                  <a:off x="3687480" y="1218960"/>
                  <a:ext cx="1440720" cy="360720"/>
                  <a:chOff x="3687480" y="1218960"/>
                  <a:chExt cx="1440720" cy="360720"/>
                </a:xfrm>
              </p:grpSpPr>
              <p:grpSp>
                <p:nvGrpSpPr>
                  <p:cNvPr id="1741" name=""/>
                  <p:cNvGrpSpPr/>
                  <p:nvPr/>
                </p:nvGrpSpPr>
                <p:grpSpPr>
                  <a:xfrm>
                    <a:off x="3687480" y="1219320"/>
                    <a:ext cx="720360" cy="360360"/>
                    <a:chOff x="3687480" y="1219320"/>
                    <a:chExt cx="720360" cy="360360"/>
                  </a:xfrm>
                </p:grpSpPr>
                <p:sp>
                  <p:nvSpPr>
                    <p:cNvPr id="1742" name=""/>
                    <p:cNvSpPr/>
                    <p:nvPr/>
                  </p:nvSpPr>
                  <p:spPr>
                    <a:xfrm>
                      <a:off x="3687480" y="1579680"/>
                      <a:ext cx="72036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3" name=""/>
                    <p:cNvSpPr/>
                    <p:nvPr/>
                  </p:nvSpPr>
                  <p:spPr>
                    <a:xfrm>
                      <a:off x="4407840" y="121932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4" name=""/>
                  <p:cNvGrpSpPr/>
                  <p:nvPr/>
                </p:nvGrpSpPr>
                <p:grpSpPr>
                  <a:xfrm>
                    <a:off x="4407840" y="1218960"/>
                    <a:ext cx="720360" cy="360360"/>
                    <a:chOff x="4407840" y="1218960"/>
                    <a:chExt cx="720360" cy="360360"/>
                  </a:xfrm>
                </p:grpSpPr>
                <p:sp>
                  <p:nvSpPr>
                    <p:cNvPr id="1745" name=""/>
                    <p:cNvSpPr/>
                    <p:nvPr/>
                  </p:nvSpPr>
                  <p:spPr>
                    <a:xfrm>
                      <a:off x="4407840" y="1218960"/>
                      <a:ext cx="72036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6" name=""/>
                    <p:cNvSpPr/>
                    <p:nvPr/>
                  </p:nvSpPr>
                  <p:spPr>
                    <a:xfrm flipV="1">
                      <a:off x="5128200" y="121896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47" name=""/>
                <p:cNvGrpSpPr/>
                <p:nvPr/>
              </p:nvGrpSpPr>
              <p:grpSpPr>
                <a:xfrm>
                  <a:off x="5128920" y="1218960"/>
                  <a:ext cx="1440720" cy="360720"/>
                  <a:chOff x="5128920" y="1218960"/>
                  <a:chExt cx="1440720" cy="360720"/>
                </a:xfrm>
              </p:grpSpPr>
              <p:grpSp>
                <p:nvGrpSpPr>
                  <p:cNvPr id="1748" name=""/>
                  <p:cNvGrpSpPr/>
                  <p:nvPr/>
                </p:nvGrpSpPr>
                <p:grpSpPr>
                  <a:xfrm>
                    <a:off x="5128920" y="1219320"/>
                    <a:ext cx="720360" cy="360360"/>
                    <a:chOff x="5128920" y="1219320"/>
                    <a:chExt cx="720360" cy="360360"/>
                  </a:xfrm>
                </p:grpSpPr>
                <p:sp>
                  <p:nvSpPr>
                    <p:cNvPr id="1749" name=""/>
                    <p:cNvSpPr/>
                    <p:nvPr/>
                  </p:nvSpPr>
                  <p:spPr>
                    <a:xfrm>
                      <a:off x="5128920" y="1579680"/>
                      <a:ext cx="72036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0" name=""/>
                    <p:cNvSpPr/>
                    <p:nvPr/>
                  </p:nvSpPr>
                  <p:spPr>
                    <a:xfrm>
                      <a:off x="5849280" y="121932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1" name=""/>
                  <p:cNvGrpSpPr/>
                  <p:nvPr/>
                </p:nvGrpSpPr>
                <p:grpSpPr>
                  <a:xfrm>
                    <a:off x="5849280" y="1218960"/>
                    <a:ext cx="720360" cy="360360"/>
                    <a:chOff x="5849280" y="1218960"/>
                    <a:chExt cx="720360" cy="360360"/>
                  </a:xfrm>
                </p:grpSpPr>
                <p:sp>
                  <p:nvSpPr>
                    <p:cNvPr id="1752" name=""/>
                    <p:cNvSpPr/>
                    <p:nvPr/>
                  </p:nvSpPr>
                  <p:spPr>
                    <a:xfrm>
                      <a:off x="5849280" y="1218960"/>
                      <a:ext cx="72036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"/>
                    <p:cNvSpPr/>
                    <p:nvPr/>
                  </p:nvSpPr>
                  <p:spPr>
                    <a:xfrm flipV="1">
                      <a:off x="6569640" y="121896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54" name=""/>
                <p:cNvGrpSpPr/>
                <p:nvPr/>
              </p:nvGrpSpPr>
              <p:grpSpPr>
                <a:xfrm>
                  <a:off x="6568920" y="1218960"/>
                  <a:ext cx="1440720" cy="360720"/>
                  <a:chOff x="6568920" y="1218960"/>
                  <a:chExt cx="1440720" cy="360720"/>
                </a:xfrm>
              </p:grpSpPr>
              <p:grpSp>
                <p:nvGrpSpPr>
                  <p:cNvPr id="1755" name=""/>
                  <p:cNvGrpSpPr/>
                  <p:nvPr/>
                </p:nvGrpSpPr>
                <p:grpSpPr>
                  <a:xfrm>
                    <a:off x="6568920" y="1219320"/>
                    <a:ext cx="720360" cy="360360"/>
                    <a:chOff x="6568920" y="1219320"/>
                    <a:chExt cx="720360" cy="360360"/>
                  </a:xfrm>
                </p:grpSpPr>
                <p:sp>
                  <p:nvSpPr>
                    <p:cNvPr id="1756" name=""/>
                    <p:cNvSpPr/>
                    <p:nvPr/>
                  </p:nvSpPr>
                  <p:spPr>
                    <a:xfrm>
                      <a:off x="6568920" y="1579680"/>
                      <a:ext cx="72036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"/>
                    <p:cNvSpPr/>
                    <p:nvPr/>
                  </p:nvSpPr>
                  <p:spPr>
                    <a:xfrm>
                      <a:off x="7289280" y="121932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8" name=""/>
                  <p:cNvGrpSpPr/>
                  <p:nvPr/>
                </p:nvGrpSpPr>
                <p:grpSpPr>
                  <a:xfrm>
                    <a:off x="7289280" y="1218960"/>
                    <a:ext cx="720360" cy="360360"/>
                    <a:chOff x="7289280" y="1218960"/>
                    <a:chExt cx="720360" cy="360360"/>
                  </a:xfrm>
                </p:grpSpPr>
                <p:sp>
                  <p:nvSpPr>
                    <p:cNvPr id="1759" name=""/>
                    <p:cNvSpPr/>
                    <p:nvPr/>
                  </p:nvSpPr>
                  <p:spPr>
                    <a:xfrm>
                      <a:off x="7289280" y="1218960"/>
                      <a:ext cx="72036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0" name=""/>
                    <p:cNvSpPr/>
                    <p:nvPr/>
                  </p:nvSpPr>
                  <p:spPr>
                    <a:xfrm flipV="1">
                      <a:off x="8009640" y="121896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61" name=""/>
              <p:cNvSpPr/>
              <p:nvPr/>
            </p:nvSpPr>
            <p:spPr>
              <a:xfrm>
                <a:off x="2389320" y="730080"/>
                <a:ext cx="573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Lo       Hi        Lo       Hi        Lo        Hi        Lo       Hi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2" name=""/>
          <p:cNvGrpSpPr/>
          <p:nvPr/>
        </p:nvGrpSpPr>
        <p:grpSpPr>
          <a:xfrm>
            <a:off x="2262240" y="1047600"/>
            <a:ext cx="5740200" cy="3151440"/>
            <a:chOff x="2262240" y="1047600"/>
            <a:chExt cx="5740200" cy="3151440"/>
          </a:xfrm>
        </p:grpSpPr>
        <p:sp>
          <p:nvSpPr>
            <p:cNvPr id="1763" name=""/>
            <p:cNvSpPr/>
            <p:nvPr/>
          </p:nvSpPr>
          <p:spPr>
            <a:xfrm flipV="1">
              <a:off x="6570720" y="1047600"/>
              <a:ext cx="0" cy="315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2981160" y="1047600"/>
              <a:ext cx="0" cy="315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3697200" y="1047600"/>
              <a:ext cx="0" cy="315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4411800" y="1047600"/>
              <a:ext cx="0" cy="315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5140440" y="1047600"/>
              <a:ext cx="0" cy="315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5854680" y="1047600"/>
              <a:ext cx="0" cy="315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7302600" y="1047600"/>
              <a:ext cx="0" cy="315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8002440" y="1047600"/>
              <a:ext cx="0" cy="315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2262240" y="1047600"/>
              <a:ext cx="0" cy="315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3240" y="1403280"/>
            <a:ext cx="3709800" cy="2256480"/>
            <a:chOff x="3240" y="1403280"/>
            <a:chExt cx="3709800" cy="2256480"/>
          </a:xfrm>
        </p:grpSpPr>
        <p:sp>
          <p:nvSpPr>
            <p:cNvPr id="1773" name=""/>
            <p:cNvSpPr/>
            <p:nvPr/>
          </p:nvSpPr>
          <p:spPr>
            <a:xfrm>
              <a:off x="3240" y="2876400"/>
              <a:ext cx="24606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ta sampling wind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24000" y="3298680"/>
              <a:ext cx="15019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it time or 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236680" y="3614760"/>
              <a:ext cx="760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952720" y="1403280"/>
              <a:ext cx="760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223560" y="4275000"/>
            <a:ext cx="7804440" cy="391680"/>
            <a:chOff x="223560" y="4275000"/>
            <a:chExt cx="7804440" cy="391680"/>
          </a:xfrm>
        </p:grpSpPr>
        <p:grpSp>
          <p:nvGrpSpPr>
            <p:cNvPr id="1778" name=""/>
            <p:cNvGrpSpPr/>
            <p:nvPr/>
          </p:nvGrpSpPr>
          <p:grpSpPr>
            <a:xfrm>
              <a:off x="2270520" y="4301640"/>
              <a:ext cx="5757480" cy="360720"/>
              <a:chOff x="2270520" y="4301640"/>
              <a:chExt cx="5757480" cy="360720"/>
            </a:xfrm>
          </p:grpSpPr>
          <p:grpSp>
            <p:nvGrpSpPr>
              <p:cNvPr id="1779" name=""/>
              <p:cNvGrpSpPr/>
              <p:nvPr/>
            </p:nvGrpSpPr>
            <p:grpSpPr>
              <a:xfrm>
                <a:off x="6590160" y="4301640"/>
                <a:ext cx="1437840" cy="360720"/>
                <a:chOff x="6590160" y="4301640"/>
                <a:chExt cx="1437840" cy="360720"/>
              </a:xfrm>
            </p:grpSpPr>
            <p:grpSp>
              <p:nvGrpSpPr>
                <p:cNvPr id="1780" name=""/>
                <p:cNvGrpSpPr/>
                <p:nvPr/>
              </p:nvGrpSpPr>
              <p:grpSpPr>
                <a:xfrm>
                  <a:off x="7309080" y="4301640"/>
                  <a:ext cx="718920" cy="360720"/>
                  <a:chOff x="7309080" y="4301640"/>
                  <a:chExt cx="718920" cy="360720"/>
                </a:xfrm>
              </p:grpSpPr>
              <p:grpSp>
                <p:nvGrpSpPr>
                  <p:cNvPr id="1781" name=""/>
                  <p:cNvGrpSpPr/>
                  <p:nvPr/>
                </p:nvGrpSpPr>
                <p:grpSpPr>
                  <a:xfrm>
                    <a:off x="7667640" y="4301640"/>
                    <a:ext cx="360360" cy="360720"/>
                    <a:chOff x="7667640" y="4301640"/>
                    <a:chExt cx="360360" cy="360720"/>
                  </a:xfrm>
                </p:grpSpPr>
                <p:sp>
                  <p:nvSpPr>
                    <p:cNvPr id="1782" name=""/>
                    <p:cNvSpPr/>
                    <p:nvPr/>
                  </p:nvSpPr>
                  <p:spPr>
                    <a:xfrm flipH="1">
                      <a:off x="7667640" y="466236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"/>
                    <p:cNvSpPr/>
                    <p:nvPr/>
                  </p:nvSpPr>
                  <p:spPr>
                    <a:xfrm flipV="1">
                      <a:off x="766764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4" name=""/>
                  <p:cNvGrpSpPr/>
                  <p:nvPr/>
                </p:nvGrpSpPr>
                <p:grpSpPr>
                  <a:xfrm>
                    <a:off x="7309080" y="4301640"/>
                    <a:ext cx="360720" cy="360360"/>
                    <a:chOff x="7309080" y="4301640"/>
                    <a:chExt cx="360720" cy="360360"/>
                  </a:xfrm>
                </p:grpSpPr>
                <p:sp>
                  <p:nvSpPr>
                    <p:cNvPr id="1785" name=""/>
                    <p:cNvSpPr/>
                    <p:nvPr/>
                  </p:nvSpPr>
                  <p:spPr>
                    <a:xfrm flipV="1">
                      <a:off x="730908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"/>
                    <p:cNvSpPr/>
                    <p:nvPr/>
                  </p:nvSpPr>
                  <p:spPr>
                    <a:xfrm>
                      <a:off x="7309440" y="430164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87" name=""/>
                <p:cNvGrpSpPr/>
                <p:nvPr/>
              </p:nvGrpSpPr>
              <p:grpSpPr>
                <a:xfrm>
                  <a:off x="6590160" y="4301640"/>
                  <a:ext cx="718920" cy="360720"/>
                  <a:chOff x="6590160" y="4301640"/>
                  <a:chExt cx="718920" cy="360720"/>
                </a:xfrm>
              </p:grpSpPr>
              <p:grpSp>
                <p:nvGrpSpPr>
                  <p:cNvPr id="1788" name=""/>
                  <p:cNvGrpSpPr/>
                  <p:nvPr/>
                </p:nvGrpSpPr>
                <p:grpSpPr>
                  <a:xfrm>
                    <a:off x="6948720" y="4301640"/>
                    <a:ext cx="360360" cy="360720"/>
                    <a:chOff x="6948720" y="4301640"/>
                    <a:chExt cx="360360" cy="360720"/>
                  </a:xfrm>
                </p:grpSpPr>
                <p:sp>
                  <p:nvSpPr>
                    <p:cNvPr id="1789" name=""/>
                    <p:cNvSpPr/>
                    <p:nvPr/>
                  </p:nvSpPr>
                  <p:spPr>
                    <a:xfrm flipH="1">
                      <a:off x="6948720" y="466236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"/>
                    <p:cNvSpPr/>
                    <p:nvPr/>
                  </p:nvSpPr>
                  <p:spPr>
                    <a:xfrm flipV="1">
                      <a:off x="694872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1" name=""/>
                  <p:cNvGrpSpPr/>
                  <p:nvPr/>
                </p:nvGrpSpPr>
                <p:grpSpPr>
                  <a:xfrm>
                    <a:off x="6590160" y="4301640"/>
                    <a:ext cx="360720" cy="360360"/>
                    <a:chOff x="6590160" y="4301640"/>
                    <a:chExt cx="360720" cy="360360"/>
                  </a:xfrm>
                </p:grpSpPr>
                <p:sp>
                  <p:nvSpPr>
                    <p:cNvPr id="1792" name=""/>
                    <p:cNvSpPr/>
                    <p:nvPr/>
                  </p:nvSpPr>
                  <p:spPr>
                    <a:xfrm flipV="1">
                      <a:off x="659016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3" name=""/>
                    <p:cNvSpPr/>
                    <p:nvPr/>
                  </p:nvSpPr>
                  <p:spPr>
                    <a:xfrm>
                      <a:off x="6590520" y="430164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94" name=""/>
              <p:cNvGrpSpPr/>
              <p:nvPr/>
            </p:nvGrpSpPr>
            <p:grpSpPr>
              <a:xfrm>
                <a:off x="5150520" y="4301640"/>
                <a:ext cx="1437840" cy="360720"/>
                <a:chOff x="5150520" y="4301640"/>
                <a:chExt cx="1437840" cy="3607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5869440" y="4301640"/>
                  <a:ext cx="718920" cy="360720"/>
                  <a:chOff x="5869440" y="4301640"/>
                  <a:chExt cx="718920" cy="360720"/>
                </a:xfrm>
              </p:grpSpPr>
              <p:grpSp>
                <p:nvGrpSpPr>
                  <p:cNvPr id="1796" name=""/>
                  <p:cNvGrpSpPr/>
                  <p:nvPr/>
                </p:nvGrpSpPr>
                <p:grpSpPr>
                  <a:xfrm>
                    <a:off x="6228000" y="4301640"/>
                    <a:ext cx="360360" cy="360720"/>
                    <a:chOff x="6228000" y="4301640"/>
                    <a:chExt cx="360360" cy="360720"/>
                  </a:xfrm>
                </p:grpSpPr>
                <p:sp>
                  <p:nvSpPr>
                    <p:cNvPr id="1797" name=""/>
                    <p:cNvSpPr/>
                    <p:nvPr/>
                  </p:nvSpPr>
                  <p:spPr>
                    <a:xfrm flipH="1">
                      <a:off x="6228000" y="466236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8" name=""/>
                    <p:cNvSpPr/>
                    <p:nvPr/>
                  </p:nvSpPr>
                  <p:spPr>
                    <a:xfrm flipV="1">
                      <a:off x="622800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9" name=""/>
                  <p:cNvGrpSpPr/>
                  <p:nvPr/>
                </p:nvGrpSpPr>
                <p:grpSpPr>
                  <a:xfrm>
                    <a:off x="5869440" y="4301640"/>
                    <a:ext cx="360720" cy="360360"/>
                    <a:chOff x="5869440" y="4301640"/>
                    <a:chExt cx="360720" cy="360360"/>
                  </a:xfrm>
                </p:grpSpPr>
                <p:sp>
                  <p:nvSpPr>
                    <p:cNvPr id="1800" name=""/>
                    <p:cNvSpPr/>
                    <p:nvPr/>
                  </p:nvSpPr>
                  <p:spPr>
                    <a:xfrm flipV="1">
                      <a:off x="586944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"/>
                    <p:cNvSpPr/>
                    <p:nvPr/>
                  </p:nvSpPr>
                  <p:spPr>
                    <a:xfrm>
                      <a:off x="5869800" y="430164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02" name=""/>
                <p:cNvGrpSpPr/>
                <p:nvPr/>
              </p:nvGrpSpPr>
              <p:grpSpPr>
                <a:xfrm>
                  <a:off x="5150520" y="4301640"/>
                  <a:ext cx="718920" cy="360720"/>
                  <a:chOff x="5150520" y="4301640"/>
                  <a:chExt cx="718920" cy="360720"/>
                </a:xfrm>
              </p:grpSpPr>
              <p:grpSp>
                <p:nvGrpSpPr>
                  <p:cNvPr id="1803" name=""/>
                  <p:cNvGrpSpPr/>
                  <p:nvPr/>
                </p:nvGrpSpPr>
                <p:grpSpPr>
                  <a:xfrm>
                    <a:off x="5509080" y="4301640"/>
                    <a:ext cx="360360" cy="360720"/>
                    <a:chOff x="5509080" y="4301640"/>
                    <a:chExt cx="360360" cy="360720"/>
                  </a:xfrm>
                </p:grpSpPr>
                <p:sp>
                  <p:nvSpPr>
                    <p:cNvPr id="1804" name=""/>
                    <p:cNvSpPr/>
                    <p:nvPr/>
                  </p:nvSpPr>
                  <p:spPr>
                    <a:xfrm flipH="1">
                      <a:off x="5509080" y="466236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"/>
                    <p:cNvSpPr/>
                    <p:nvPr/>
                  </p:nvSpPr>
                  <p:spPr>
                    <a:xfrm flipV="1">
                      <a:off x="550908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6" name=""/>
                  <p:cNvGrpSpPr/>
                  <p:nvPr/>
                </p:nvGrpSpPr>
                <p:grpSpPr>
                  <a:xfrm>
                    <a:off x="5150520" y="4301640"/>
                    <a:ext cx="360720" cy="360360"/>
                    <a:chOff x="5150520" y="4301640"/>
                    <a:chExt cx="360720" cy="360360"/>
                  </a:xfrm>
                </p:grpSpPr>
                <p:sp>
                  <p:nvSpPr>
                    <p:cNvPr id="1807" name=""/>
                    <p:cNvSpPr/>
                    <p:nvPr/>
                  </p:nvSpPr>
                  <p:spPr>
                    <a:xfrm flipV="1">
                      <a:off x="515052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8" name=""/>
                    <p:cNvSpPr/>
                    <p:nvPr/>
                  </p:nvSpPr>
                  <p:spPr>
                    <a:xfrm>
                      <a:off x="5150880" y="430164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09" name=""/>
              <p:cNvGrpSpPr/>
              <p:nvPr/>
            </p:nvGrpSpPr>
            <p:grpSpPr>
              <a:xfrm>
                <a:off x="3710520" y="4301640"/>
                <a:ext cx="1437840" cy="360720"/>
                <a:chOff x="3710520" y="4301640"/>
                <a:chExt cx="1437840" cy="360720"/>
              </a:xfrm>
            </p:grpSpPr>
            <p:grpSp>
              <p:nvGrpSpPr>
                <p:cNvPr id="1810" name=""/>
                <p:cNvGrpSpPr/>
                <p:nvPr/>
              </p:nvGrpSpPr>
              <p:grpSpPr>
                <a:xfrm>
                  <a:off x="4429440" y="4301640"/>
                  <a:ext cx="718920" cy="360720"/>
                  <a:chOff x="4429440" y="4301640"/>
                  <a:chExt cx="718920" cy="360720"/>
                </a:xfrm>
              </p:grpSpPr>
              <p:grpSp>
                <p:nvGrpSpPr>
                  <p:cNvPr id="1811" name=""/>
                  <p:cNvGrpSpPr/>
                  <p:nvPr/>
                </p:nvGrpSpPr>
                <p:grpSpPr>
                  <a:xfrm>
                    <a:off x="4788000" y="4301640"/>
                    <a:ext cx="360360" cy="360720"/>
                    <a:chOff x="4788000" y="4301640"/>
                    <a:chExt cx="360360" cy="360720"/>
                  </a:xfrm>
                </p:grpSpPr>
                <p:sp>
                  <p:nvSpPr>
                    <p:cNvPr id="1812" name=""/>
                    <p:cNvSpPr/>
                    <p:nvPr/>
                  </p:nvSpPr>
                  <p:spPr>
                    <a:xfrm flipH="1">
                      <a:off x="4788000" y="466236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3" name=""/>
                    <p:cNvSpPr/>
                    <p:nvPr/>
                  </p:nvSpPr>
                  <p:spPr>
                    <a:xfrm flipV="1">
                      <a:off x="478800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4" name=""/>
                  <p:cNvGrpSpPr/>
                  <p:nvPr/>
                </p:nvGrpSpPr>
                <p:grpSpPr>
                  <a:xfrm>
                    <a:off x="4429440" y="4301640"/>
                    <a:ext cx="360720" cy="360360"/>
                    <a:chOff x="4429440" y="4301640"/>
                    <a:chExt cx="360720" cy="360360"/>
                  </a:xfrm>
                </p:grpSpPr>
                <p:sp>
                  <p:nvSpPr>
                    <p:cNvPr id="1815" name=""/>
                    <p:cNvSpPr/>
                    <p:nvPr/>
                  </p:nvSpPr>
                  <p:spPr>
                    <a:xfrm flipV="1">
                      <a:off x="442944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6" name=""/>
                    <p:cNvSpPr/>
                    <p:nvPr/>
                  </p:nvSpPr>
                  <p:spPr>
                    <a:xfrm>
                      <a:off x="4429800" y="430164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17" name=""/>
                <p:cNvGrpSpPr/>
                <p:nvPr/>
              </p:nvGrpSpPr>
              <p:grpSpPr>
                <a:xfrm>
                  <a:off x="3710520" y="4301640"/>
                  <a:ext cx="718920" cy="360720"/>
                  <a:chOff x="3710520" y="4301640"/>
                  <a:chExt cx="718920" cy="360720"/>
                </a:xfrm>
              </p:grpSpPr>
              <p:grpSp>
                <p:nvGrpSpPr>
                  <p:cNvPr id="1818" name=""/>
                  <p:cNvGrpSpPr/>
                  <p:nvPr/>
                </p:nvGrpSpPr>
                <p:grpSpPr>
                  <a:xfrm>
                    <a:off x="4069080" y="4301640"/>
                    <a:ext cx="360360" cy="360720"/>
                    <a:chOff x="4069080" y="4301640"/>
                    <a:chExt cx="360360" cy="360720"/>
                  </a:xfrm>
                </p:grpSpPr>
                <p:sp>
                  <p:nvSpPr>
                    <p:cNvPr id="1819" name=""/>
                    <p:cNvSpPr/>
                    <p:nvPr/>
                  </p:nvSpPr>
                  <p:spPr>
                    <a:xfrm flipH="1">
                      <a:off x="4069080" y="466236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0" name=""/>
                    <p:cNvSpPr/>
                    <p:nvPr/>
                  </p:nvSpPr>
                  <p:spPr>
                    <a:xfrm flipV="1">
                      <a:off x="406908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1" name=""/>
                  <p:cNvGrpSpPr/>
                  <p:nvPr/>
                </p:nvGrpSpPr>
                <p:grpSpPr>
                  <a:xfrm>
                    <a:off x="3710520" y="4301640"/>
                    <a:ext cx="360720" cy="360360"/>
                    <a:chOff x="3710520" y="4301640"/>
                    <a:chExt cx="360720" cy="360360"/>
                  </a:xfrm>
                </p:grpSpPr>
                <p:sp>
                  <p:nvSpPr>
                    <p:cNvPr id="1822" name=""/>
                    <p:cNvSpPr/>
                    <p:nvPr/>
                  </p:nvSpPr>
                  <p:spPr>
                    <a:xfrm flipV="1">
                      <a:off x="371052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"/>
                    <p:cNvSpPr/>
                    <p:nvPr/>
                  </p:nvSpPr>
                  <p:spPr>
                    <a:xfrm>
                      <a:off x="3710880" y="430164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24" name=""/>
              <p:cNvGrpSpPr/>
              <p:nvPr/>
            </p:nvGrpSpPr>
            <p:grpSpPr>
              <a:xfrm>
                <a:off x="2270520" y="4301640"/>
                <a:ext cx="1437840" cy="360720"/>
                <a:chOff x="2270520" y="4301640"/>
                <a:chExt cx="1437840" cy="360720"/>
              </a:xfrm>
            </p:grpSpPr>
            <p:grpSp>
              <p:nvGrpSpPr>
                <p:cNvPr id="1825" name=""/>
                <p:cNvGrpSpPr/>
                <p:nvPr/>
              </p:nvGrpSpPr>
              <p:grpSpPr>
                <a:xfrm>
                  <a:off x="2989440" y="4301640"/>
                  <a:ext cx="718920" cy="360720"/>
                  <a:chOff x="2989440" y="4301640"/>
                  <a:chExt cx="718920" cy="360720"/>
                </a:xfrm>
              </p:grpSpPr>
              <p:grpSp>
                <p:nvGrpSpPr>
                  <p:cNvPr id="1826" name=""/>
                  <p:cNvGrpSpPr/>
                  <p:nvPr/>
                </p:nvGrpSpPr>
                <p:grpSpPr>
                  <a:xfrm>
                    <a:off x="3348000" y="4301640"/>
                    <a:ext cx="360360" cy="360720"/>
                    <a:chOff x="3348000" y="4301640"/>
                    <a:chExt cx="360360" cy="360720"/>
                  </a:xfrm>
                </p:grpSpPr>
                <p:sp>
                  <p:nvSpPr>
                    <p:cNvPr id="1827" name=""/>
                    <p:cNvSpPr/>
                    <p:nvPr/>
                  </p:nvSpPr>
                  <p:spPr>
                    <a:xfrm flipH="1">
                      <a:off x="3348000" y="466236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8" name=""/>
                    <p:cNvSpPr/>
                    <p:nvPr/>
                  </p:nvSpPr>
                  <p:spPr>
                    <a:xfrm flipV="1">
                      <a:off x="334800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9" name=""/>
                  <p:cNvGrpSpPr/>
                  <p:nvPr/>
                </p:nvGrpSpPr>
                <p:grpSpPr>
                  <a:xfrm>
                    <a:off x="2989440" y="4301640"/>
                    <a:ext cx="360720" cy="360360"/>
                    <a:chOff x="2989440" y="4301640"/>
                    <a:chExt cx="360720" cy="360360"/>
                  </a:xfrm>
                </p:grpSpPr>
                <p:sp>
                  <p:nvSpPr>
                    <p:cNvPr id="1830" name=""/>
                    <p:cNvSpPr/>
                    <p:nvPr/>
                  </p:nvSpPr>
                  <p:spPr>
                    <a:xfrm flipV="1">
                      <a:off x="298944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1" name=""/>
                    <p:cNvSpPr/>
                    <p:nvPr/>
                  </p:nvSpPr>
                  <p:spPr>
                    <a:xfrm>
                      <a:off x="2989800" y="430164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2" name=""/>
                <p:cNvGrpSpPr/>
                <p:nvPr/>
              </p:nvGrpSpPr>
              <p:grpSpPr>
                <a:xfrm>
                  <a:off x="2270520" y="4301640"/>
                  <a:ext cx="718920" cy="360720"/>
                  <a:chOff x="2270520" y="4301640"/>
                  <a:chExt cx="718920" cy="360720"/>
                </a:xfrm>
              </p:grpSpPr>
              <p:grpSp>
                <p:nvGrpSpPr>
                  <p:cNvPr id="1833" name=""/>
                  <p:cNvGrpSpPr/>
                  <p:nvPr/>
                </p:nvGrpSpPr>
                <p:grpSpPr>
                  <a:xfrm>
                    <a:off x="2629080" y="4301640"/>
                    <a:ext cx="360360" cy="360720"/>
                    <a:chOff x="2629080" y="4301640"/>
                    <a:chExt cx="360360" cy="360720"/>
                  </a:xfrm>
                </p:grpSpPr>
                <p:sp>
                  <p:nvSpPr>
                    <p:cNvPr id="1834" name=""/>
                    <p:cNvSpPr/>
                    <p:nvPr/>
                  </p:nvSpPr>
                  <p:spPr>
                    <a:xfrm flipH="1">
                      <a:off x="2629080" y="466236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5" name=""/>
                    <p:cNvSpPr/>
                    <p:nvPr/>
                  </p:nvSpPr>
                  <p:spPr>
                    <a:xfrm flipV="1">
                      <a:off x="262908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6" name=""/>
                  <p:cNvGrpSpPr/>
                  <p:nvPr/>
                </p:nvGrpSpPr>
                <p:grpSpPr>
                  <a:xfrm>
                    <a:off x="2270520" y="4301640"/>
                    <a:ext cx="360720" cy="360360"/>
                    <a:chOff x="2270520" y="4301640"/>
                    <a:chExt cx="360720" cy="360360"/>
                  </a:xfrm>
                </p:grpSpPr>
                <p:sp>
                  <p:nvSpPr>
                    <p:cNvPr id="1837" name=""/>
                    <p:cNvSpPr/>
                    <p:nvPr/>
                  </p:nvSpPr>
                  <p:spPr>
                    <a:xfrm flipV="1">
                      <a:off x="2270520" y="4301640"/>
                      <a:ext cx="0" cy="3603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8" name=""/>
                    <p:cNvSpPr/>
                    <p:nvPr/>
                  </p:nvSpPr>
                  <p:spPr>
                    <a:xfrm>
                      <a:off x="2270880" y="4301640"/>
                      <a:ext cx="36036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839" name=""/>
            <p:cNvSpPr/>
            <p:nvPr/>
          </p:nvSpPr>
          <p:spPr>
            <a:xfrm>
              <a:off x="223560" y="4275000"/>
              <a:ext cx="1499040" cy="391680"/>
            </a:xfrm>
            <a:prstGeom prst="rect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lock sig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1800" y="1671480"/>
            <a:ext cx="8021520" cy="944280"/>
            <a:chOff x="1800" y="1671480"/>
            <a:chExt cx="8021520" cy="944280"/>
          </a:xfrm>
        </p:grpSpPr>
        <p:grpSp>
          <p:nvGrpSpPr>
            <p:cNvPr id="1841" name=""/>
            <p:cNvGrpSpPr/>
            <p:nvPr/>
          </p:nvGrpSpPr>
          <p:grpSpPr>
            <a:xfrm>
              <a:off x="2260440" y="1671480"/>
              <a:ext cx="5762880" cy="833760"/>
              <a:chOff x="2260440" y="1671480"/>
              <a:chExt cx="5762880" cy="833760"/>
            </a:xfrm>
          </p:grpSpPr>
          <p:grpSp>
            <p:nvGrpSpPr>
              <p:cNvPr id="1842" name=""/>
              <p:cNvGrpSpPr/>
              <p:nvPr/>
            </p:nvGrpSpPr>
            <p:grpSpPr>
              <a:xfrm>
                <a:off x="2260440" y="2144520"/>
                <a:ext cx="5762880" cy="360720"/>
                <a:chOff x="2260440" y="2144520"/>
                <a:chExt cx="5762880" cy="360720"/>
              </a:xfrm>
            </p:grpSpPr>
            <p:grpSp>
              <p:nvGrpSpPr>
                <p:cNvPr id="1843" name=""/>
                <p:cNvGrpSpPr/>
                <p:nvPr/>
              </p:nvGrpSpPr>
              <p:grpSpPr>
                <a:xfrm>
                  <a:off x="2260440" y="2144520"/>
                  <a:ext cx="1441440" cy="360720"/>
                  <a:chOff x="2260440" y="2144520"/>
                  <a:chExt cx="1441440" cy="360720"/>
                </a:xfrm>
              </p:grpSpPr>
              <p:grpSp>
                <p:nvGrpSpPr>
                  <p:cNvPr id="1844" name=""/>
                  <p:cNvGrpSpPr/>
                  <p:nvPr/>
                </p:nvGrpSpPr>
                <p:grpSpPr>
                  <a:xfrm>
                    <a:off x="2260440" y="2144880"/>
                    <a:ext cx="720720" cy="360360"/>
                    <a:chOff x="2260440" y="2144880"/>
                    <a:chExt cx="720720" cy="360360"/>
                  </a:xfrm>
                </p:grpSpPr>
                <p:sp>
                  <p:nvSpPr>
                    <p:cNvPr id="1845" name=""/>
                    <p:cNvSpPr/>
                    <p:nvPr/>
                  </p:nvSpPr>
                  <p:spPr>
                    <a:xfrm>
                      <a:off x="2260440" y="2505240"/>
                      <a:ext cx="72072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"/>
                    <p:cNvSpPr/>
                    <p:nvPr/>
                  </p:nvSpPr>
                  <p:spPr>
                    <a:xfrm>
                      <a:off x="2981160" y="214488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7" name=""/>
                  <p:cNvGrpSpPr/>
                  <p:nvPr/>
                </p:nvGrpSpPr>
                <p:grpSpPr>
                  <a:xfrm>
                    <a:off x="2981160" y="2144520"/>
                    <a:ext cx="720720" cy="360360"/>
                    <a:chOff x="2981160" y="2144520"/>
                    <a:chExt cx="720720" cy="360360"/>
                  </a:xfrm>
                </p:grpSpPr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2981160" y="2144520"/>
                      <a:ext cx="72072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 flipV="1">
                      <a:off x="3701880" y="214452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50" name=""/>
                <p:cNvSpPr/>
                <p:nvPr/>
              </p:nvSpPr>
              <p:spPr>
                <a:xfrm>
                  <a:off x="3700440" y="2505240"/>
                  <a:ext cx="72072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4421160" y="2502000"/>
                  <a:ext cx="720720" cy="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2" name=""/>
                <p:cNvGrpSpPr/>
                <p:nvPr/>
              </p:nvGrpSpPr>
              <p:grpSpPr>
                <a:xfrm>
                  <a:off x="5141880" y="2144520"/>
                  <a:ext cx="1441440" cy="360720"/>
                  <a:chOff x="5141880" y="2144520"/>
                  <a:chExt cx="1441440" cy="360720"/>
                </a:xfrm>
              </p:grpSpPr>
              <p:grpSp>
                <p:nvGrpSpPr>
                  <p:cNvPr id="1853" name=""/>
                  <p:cNvGrpSpPr/>
                  <p:nvPr/>
                </p:nvGrpSpPr>
                <p:grpSpPr>
                  <a:xfrm>
                    <a:off x="5141880" y="2144880"/>
                    <a:ext cx="720720" cy="360360"/>
                    <a:chOff x="5141880" y="2144880"/>
                    <a:chExt cx="720720" cy="360360"/>
                  </a:xfrm>
                </p:grpSpPr>
                <p:sp>
                  <p:nvSpPr>
                    <p:cNvPr id="1854" name=""/>
                    <p:cNvSpPr/>
                    <p:nvPr/>
                  </p:nvSpPr>
                  <p:spPr>
                    <a:xfrm>
                      <a:off x="5141880" y="2505240"/>
                      <a:ext cx="72072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"/>
                    <p:cNvSpPr/>
                    <p:nvPr/>
                  </p:nvSpPr>
                  <p:spPr>
                    <a:xfrm>
                      <a:off x="5862600" y="214488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6" name=""/>
                  <p:cNvGrpSpPr/>
                  <p:nvPr/>
                </p:nvGrpSpPr>
                <p:grpSpPr>
                  <a:xfrm>
                    <a:off x="5862600" y="2144520"/>
                    <a:ext cx="720720" cy="360360"/>
                    <a:chOff x="5862600" y="2144520"/>
                    <a:chExt cx="720720" cy="360360"/>
                  </a:xfrm>
                </p:grpSpPr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5862600" y="2144520"/>
                      <a:ext cx="72072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 flipV="1">
                      <a:off x="6583320" y="214452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59" name=""/>
                <p:cNvGrpSpPr/>
                <p:nvPr/>
              </p:nvGrpSpPr>
              <p:grpSpPr>
                <a:xfrm>
                  <a:off x="6581880" y="2144520"/>
                  <a:ext cx="1441440" cy="360720"/>
                  <a:chOff x="6581880" y="2144520"/>
                  <a:chExt cx="1441440" cy="360720"/>
                </a:xfrm>
              </p:grpSpPr>
              <p:grpSp>
                <p:nvGrpSpPr>
                  <p:cNvPr id="1860" name=""/>
                  <p:cNvGrpSpPr/>
                  <p:nvPr/>
                </p:nvGrpSpPr>
                <p:grpSpPr>
                  <a:xfrm>
                    <a:off x="6581880" y="2144880"/>
                    <a:ext cx="720720" cy="360360"/>
                    <a:chOff x="6581880" y="2144880"/>
                    <a:chExt cx="720720" cy="360360"/>
                  </a:xfrm>
                </p:grpSpPr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6581880" y="2505240"/>
                      <a:ext cx="72072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7302600" y="214488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3" name=""/>
                  <p:cNvGrpSpPr/>
                  <p:nvPr/>
                </p:nvGrpSpPr>
                <p:grpSpPr>
                  <a:xfrm>
                    <a:off x="7302600" y="2144520"/>
                    <a:ext cx="720720" cy="360360"/>
                    <a:chOff x="7302600" y="2144520"/>
                    <a:chExt cx="720720" cy="360360"/>
                  </a:xfrm>
                </p:grpSpPr>
                <p:sp>
                  <p:nvSpPr>
                    <p:cNvPr id="1864" name=""/>
                    <p:cNvSpPr/>
                    <p:nvPr/>
                  </p:nvSpPr>
                  <p:spPr>
                    <a:xfrm>
                      <a:off x="7302600" y="2144520"/>
                      <a:ext cx="72072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"/>
                    <p:cNvSpPr/>
                    <p:nvPr/>
                  </p:nvSpPr>
                  <p:spPr>
                    <a:xfrm flipV="1">
                      <a:off x="8023320" y="2144520"/>
                      <a:ext cx="0" cy="36036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66" name=""/>
              <p:cNvSpPr/>
              <p:nvPr/>
            </p:nvSpPr>
            <p:spPr>
              <a:xfrm>
                <a:off x="2441520" y="1671480"/>
                <a:ext cx="549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Lo       Hi        Lo        Lo        Lo       Hi        Lo       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1800" y="2224080"/>
              <a:ext cx="2361600" cy="3916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74"/>
                </a:spcBef>
                <a:spcAft>
                  <a:spcPts val="37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ata signal2 (NR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3797640" y="4751280"/>
            <a:ext cx="1447200" cy="678600"/>
            <a:chOff x="3797640" y="4751280"/>
            <a:chExt cx="1447200" cy="678600"/>
          </a:xfrm>
        </p:grpSpPr>
        <p:sp>
          <p:nvSpPr>
            <p:cNvPr id="1869" name=""/>
            <p:cNvSpPr/>
            <p:nvPr/>
          </p:nvSpPr>
          <p:spPr>
            <a:xfrm>
              <a:off x="4443480" y="4751280"/>
              <a:ext cx="76032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797640" y="5068800"/>
              <a:ext cx="14472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lock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unit intervall and data rate  </a:t>
            </a:r>
            <a:r>
              <a:rPr b="1" lang="fi-FI" sz="2000" spc="-1" strike="noStrike">
                <a:solidFill>
                  <a:srgbClr val="666666"/>
                </a:solidFill>
                <a:latin typeface="Arial"/>
              </a:rPr>
              <a:t>(and frequency )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1873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4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1875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1876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1877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3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1884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9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1890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97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1898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1899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2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1903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6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1907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0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1911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4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5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1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-360" y="2817360"/>
            <a:ext cx="4738680" cy="26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it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tervall  and Data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tarate = 1/ 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85760" indent="-22860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110000"/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25Gbps = 1 / 800e-12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 takes one UI for one bit to be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4799160" y="2817720"/>
            <a:ext cx="43448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suming a 1010.. Patter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binary data signal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quency = data rate 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is not the clock frequency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g. :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rate 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Gbps    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2.5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25Gbp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625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"/>
          <p:cNvGrpSpPr/>
          <p:nvPr/>
        </p:nvGrpSpPr>
        <p:grpSpPr>
          <a:xfrm>
            <a:off x="1455480" y="835200"/>
            <a:ext cx="5661360" cy="1710360"/>
            <a:chOff x="1455480" y="835200"/>
            <a:chExt cx="5661360" cy="1710360"/>
          </a:xfrm>
        </p:grpSpPr>
        <p:grpSp>
          <p:nvGrpSpPr>
            <p:cNvPr id="1927" name=""/>
            <p:cNvGrpSpPr/>
            <p:nvPr/>
          </p:nvGrpSpPr>
          <p:grpSpPr>
            <a:xfrm>
              <a:off x="3763800" y="1525680"/>
              <a:ext cx="2205360" cy="1440"/>
              <a:chOff x="3763800" y="1525680"/>
              <a:chExt cx="2205360" cy="1440"/>
            </a:xfrm>
          </p:grpSpPr>
          <p:sp>
            <p:nvSpPr>
              <p:cNvPr id="1928" name=""/>
              <p:cNvSpPr/>
              <p:nvPr/>
            </p:nvSpPr>
            <p:spPr>
              <a:xfrm>
                <a:off x="3763800" y="1527120"/>
                <a:ext cx="365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603760" y="1525680"/>
                <a:ext cx="365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0" name=""/>
            <p:cNvGrpSpPr/>
            <p:nvPr/>
          </p:nvGrpSpPr>
          <p:grpSpPr>
            <a:xfrm>
              <a:off x="1455480" y="835200"/>
              <a:ext cx="5661360" cy="1710360"/>
              <a:chOff x="1455480" y="835200"/>
              <a:chExt cx="5661360" cy="1710360"/>
            </a:xfrm>
          </p:grpSpPr>
          <p:grpSp>
            <p:nvGrpSpPr>
              <p:cNvPr id="1931" name=""/>
              <p:cNvGrpSpPr/>
              <p:nvPr/>
            </p:nvGrpSpPr>
            <p:grpSpPr>
              <a:xfrm>
                <a:off x="1455480" y="835200"/>
                <a:ext cx="5661360" cy="1697760"/>
                <a:chOff x="1455480" y="835200"/>
                <a:chExt cx="5661360" cy="1697760"/>
              </a:xfrm>
            </p:grpSpPr>
            <p:grpSp>
              <p:nvGrpSpPr>
                <p:cNvPr id="1932" name=""/>
                <p:cNvGrpSpPr/>
                <p:nvPr/>
              </p:nvGrpSpPr>
              <p:grpSpPr>
                <a:xfrm>
                  <a:off x="3220560" y="835200"/>
                  <a:ext cx="3114360" cy="833040"/>
                  <a:chOff x="3220560" y="835200"/>
                  <a:chExt cx="3114360" cy="833040"/>
                </a:xfrm>
              </p:grpSpPr>
              <p:grpSp>
                <p:nvGrpSpPr>
                  <p:cNvPr id="1933" name=""/>
                  <p:cNvGrpSpPr/>
                  <p:nvPr/>
                </p:nvGrpSpPr>
                <p:grpSpPr>
                  <a:xfrm>
                    <a:off x="3407760" y="1308240"/>
                    <a:ext cx="2880000" cy="360000"/>
                    <a:chOff x="3407760" y="1308240"/>
                    <a:chExt cx="2880000" cy="360000"/>
                  </a:xfrm>
                </p:grpSpPr>
                <p:grpSp>
                  <p:nvGrpSpPr>
                    <p:cNvPr id="1934" name=""/>
                    <p:cNvGrpSpPr/>
                    <p:nvPr/>
                  </p:nvGrpSpPr>
                  <p:grpSpPr>
                    <a:xfrm>
                      <a:off x="3407760" y="1308240"/>
                      <a:ext cx="720000" cy="360000"/>
                      <a:chOff x="3407760" y="1308240"/>
                      <a:chExt cx="720000" cy="360000"/>
                    </a:xfrm>
                  </p:grpSpPr>
                  <p:grpSp>
                    <p:nvGrpSpPr>
                      <p:cNvPr id="1935" name=""/>
                      <p:cNvGrpSpPr/>
                      <p:nvPr/>
                    </p:nvGrpSpPr>
                    <p:grpSpPr>
                      <a:xfrm>
                        <a:off x="3407760" y="1308240"/>
                        <a:ext cx="360000" cy="360000"/>
                        <a:chOff x="3407760" y="1308240"/>
                        <a:chExt cx="360000" cy="360000"/>
                      </a:xfrm>
                    </p:grpSpPr>
                    <p:sp>
                      <p:nvSpPr>
                        <p:cNvPr id="1936" name=""/>
                        <p:cNvSpPr/>
                        <p:nvPr/>
                      </p:nvSpPr>
                      <p:spPr>
                        <a:xfrm>
                          <a:off x="3407760" y="1668240"/>
                          <a:ext cx="36000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7" name=""/>
                        <p:cNvSpPr/>
                        <p:nvPr/>
                      </p:nvSpPr>
                      <p:spPr>
                        <a:xfrm>
                          <a:off x="3767760" y="1308240"/>
                          <a:ext cx="0" cy="36000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38" name=""/>
                      <p:cNvGrpSpPr/>
                      <p:nvPr/>
                    </p:nvGrpSpPr>
                    <p:grpSpPr>
                      <a:xfrm>
                        <a:off x="3767760" y="1308240"/>
                        <a:ext cx="360000" cy="360000"/>
                        <a:chOff x="3767760" y="1308240"/>
                        <a:chExt cx="360000" cy="360000"/>
                      </a:xfrm>
                    </p:grpSpPr>
                    <p:sp>
                      <p:nvSpPr>
                        <p:cNvPr id="1939" name=""/>
                        <p:cNvSpPr/>
                        <p:nvPr/>
                      </p:nvSpPr>
                      <p:spPr>
                        <a:xfrm>
                          <a:off x="3767760" y="1308240"/>
                          <a:ext cx="36000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0" name=""/>
                        <p:cNvSpPr/>
                        <p:nvPr/>
                      </p:nvSpPr>
                      <p:spPr>
                        <a:xfrm flipV="1">
                          <a:off x="4127760" y="1308240"/>
                          <a:ext cx="0" cy="36000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941" name=""/>
                    <p:cNvSpPr/>
                    <p:nvPr/>
                  </p:nvSpPr>
                  <p:spPr>
                    <a:xfrm>
                      <a:off x="4127400" y="1668240"/>
                      <a:ext cx="36000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"/>
                    <p:cNvSpPr/>
                    <p:nvPr/>
                  </p:nvSpPr>
                  <p:spPr>
                    <a:xfrm>
                      <a:off x="4487760" y="1665000"/>
                      <a:ext cx="360000" cy="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43" name=""/>
                    <p:cNvGrpSpPr/>
                    <p:nvPr/>
                  </p:nvGrpSpPr>
                  <p:grpSpPr>
                    <a:xfrm>
                      <a:off x="4848120" y="1308240"/>
                      <a:ext cx="720000" cy="360000"/>
                      <a:chOff x="4848120" y="1308240"/>
                      <a:chExt cx="720000" cy="360000"/>
                    </a:xfrm>
                  </p:grpSpPr>
                  <p:grpSp>
                    <p:nvGrpSpPr>
                      <p:cNvPr id="1944" name=""/>
                      <p:cNvGrpSpPr/>
                      <p:nvPr/>
                    </p:nvGrpSpPr>
                    <p:grpSpPr>
                      <a:xfrm>
                        <a:off x="4848120" y="1308240"/>
                        <a:ext cx="360000" cy="360000"/>
                        <a:chOff x="4848120" y="1308240"/>
                        <a:chExt cx="360000" cy="360000"/>
                      </a:xfrm>
                    </p:grpSpPr>
                    <p:sp>
                      <p:nvSpPr>
                        <p:cNvPr id="1945" name=""/>
                        <p:cNvSpPr/>
                        <p:nvPr/>
                      </p:nvSpPr>
                      <p:spPr>
                        <a:xfrm>
                          <a:off x="4848120" y="1668240"/>
                          <a:ext cx="36000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6" name=""/>
                        <p:cNvSpPr/>
                        <p:nvPr/>
                      </p:nvSpPr>
                      <p:spPr>
                        <a:xfrm>
                          <a:off x="5208120" y="1308240"/>
                          <a:ext cx="0" cy="36000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47" name=""/>
                      <p:cNvGrpSpPr/>
                      <p:nvPr/>
                    </p:nvGrpSpPr>
                    <p:grpSpPr>
                      <a:xfrm>
                        <a:off x="5208120" y="1308240"/>
                        <a:ext cx="360000" cy="360000"/>
                        <a:chOff x="5208120" y="1308240"/>
                        <a:chExt cx="360000" cy="360000"/>
                      </a:xfrm>
                    </p:grpSpPr>
                    <p:sp>
                      <p:nvSpPr>
                        <p:cNvPr id="1948" name=""/>
                        <p:cNvSpPr/>
                        <p:nvPr/>
                      </p:nvSpPr>
                      <p:spPr>
                        <a:xfrm>
                          <a:off x="5208120" y="1308240"/>
                          <a:ext cx="36000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9" name=""/>
                        <p:cNvSpPr/>
                        <p:nvPr/>
                      </p:nvSpPr>
                      <p:spPr>
                        <a:xfrm flipV="1">
                          <a:off x="5568120" y="1308240"/>
                          <a:ext cx="0" cy="36000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950" name=""/>
                    <p:cNvGrpSpPr/>
                    <p:nvPr/>
                  </p:nvGrpSpPr>
                  <p:grpSpPr>
                    <a:xfrm>
                      <a:off x="5567760" y="1308240"/>
                      <a:ext cx="720000" cy="360000"/>
                      <a:chOff x="5567760" y="1308240"/>
                      <a:chExt cx="720000" cy="360000"/>
                    </a:xfrm>
                  </p:grpSpPr>
                  <p:grpSp>
                    <p:nvGrpSpPr>
                      <p:cNvPr id="1951" name=""/>
                      <p:cNvGrpSpPr/>
                      <p:nvPr/>
                    </p:nvGrpSpPr>
                    <p:grpSpPr>
                      <a:xfrm>
                        <a:off x="5567760" y="1308240"/>
                        <a:ext cx="360000" cy="360000"/>
                        <a:chOff x="5567760" y="1308240"/>
                        <a:chExt cx="360000" cy="360000"/>
                      </a:xfrm>
                    </p:grpSpPr>
                    <p:sp>
                      <p:nvSpPr>
                        <p:cNvPr id="1952" name=""/>
                        <p:cNvSpPr/>
                        <p:nvPr/>
                      </p:nvSpPr>
                      <p:spPr>
                        <a:xfrm>
                          <a:off x="5567760" y="1668240"/>
                          <a:ext cx="36000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3" name=""/>
                        <p:cNvSpPr/>
                        <p:nvPr/>
                      </p:nvSpPr>
                      <p:spPr>
                        <a:xfrm>
                          <a:off x="5927760" y="1308240"/>
                          <a:ext cx="0" cy="36000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54" name=""/>
                      <p:cNvGrpSpPr/>
                      <p:nvPr/>
                    </p:nvGrpSpPr>
                    <p:grpSpPr>
                      <a:xfrm>
                        <a:off x="5927760" y="1308240"/>
                        <a:ext cx="360000" cy="360000"/>
                        <a:chOff x="5927760" y="1308240"/>
                        <a:chExt cx="360000" cy="360000"/>
                      </a:xfrm>
                    </p:grpSpPr>
                    <p:sp>
                      <p:nvSpPr>
                        <p:cNvPr id="1955" name=""/>
                        <p:cNvSpPr/>
                        <p:nvPr/>
                      </p:nvSpPr>
                      <p:spPr>
                        <a:xfrm>
                          <a:off x="5927760" y="1308240"/>
                          <a:ext cx="36000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6" name=""/>
                        <p:cNvSpPr/>
                        <p:nvPr/>
                      </p:nvSpPr>
                      <p:spPr>
                        <a:xfrm flipV="1">
                          <a:off x="6287760" y="1308240"/>
                          <a:ext cx="0" cy="36000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957" name=""/>
                  <p:cNvSpPr/>
                  <p:nvPr/>
                </p:nvSpPr>
                <p:spPr>
                  <a:xfrm>
                    <a:off x="3220560" y="835200"/>
                    <a:ext cx="311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o   Hi   Lo  Lo  Lo  Hi  Lo H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58" name=""/>
                <p:cNvSpPr/>
                <p:nvPr/>
              </p:nvSpPr>
              <p:spPr>
                <a:xfrm>
                  <a:off x="1455480" y="1074600"/>
                  <a:ext cx="1511280" cy="361080"/>
                </a:xfrm>
                <a:prstGeom prst="rect">
                  <a:avLst/>
                </a:prstGeom>
                <a:noFill/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Data signal2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5541840" y="1897200"/>
                  <a:ext cx="753480" cy="14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3760560" y="1914480"/>
                  <a:ext cx="141876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3410640" y="2171880"/>
                  <a:ext cx="175356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Duty cycle 25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3743280" y="1569960"/>
                  <a:ext cx="0" cy="478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5203440" y="1566720"/>
                  <a:ext cx="0" cy="478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5538600" y="1563840"/>
                  <a:ext cx="0" cy="477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6295680" y="1562040"/>
                  <a:ext cx="0" cy="477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5363280" y="2155680"/>
                  <a:ext cx="175356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Duty cycle 5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7" name=""/>
              <p:cNvGrpSpPr/>
              <p:nvPr/>
            </p:nvGrpSpPr>
            <p:grpSpPr>
              <a:xfrm>
                <a:off x="2058840" y="2184480"/>
                <a:ext cx="918720" cy="361080"/>
                <a:chOff x="2058840" y="2184480"/>
                <a:chExt cx="918720" cy="36108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2058840" y="2368440"/>
                  <a:ext cx="3650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2568240" y="2184480"/>
                  <a:ext cx="40932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U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ifferent pattern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1971" name=""/>
          <p:cNvGrpSpPr/>
          <p:nvPr/>
        </p:nvGrpSpPr>
        <p:grpSpPr>
          <a:xfrm>
            <a:off x="7913520" y="154800"/>
            <a:ext cx="1212840" cy="762840"/>
            <a:chOff x="7913520" y="154800"/>
            <a:chExt cx="1212840" cy="762840"/>
          </a:xfrm>
        </p:grpSpPr>
        <p:sp>
          <p:nvSpPr>
            <p:cNvPr id="1972" name=""/>
            <p:cNvSpPr/>
            <p:nvPr/>
          </p:nvSpPr>
          <p:spPr>
            <a:xfrm>
              <a:off x="7913520" y="154800"/>
              <a:ext cx="1212840" cy="43956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patter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3" name=""/>
            <p:cNvGrpSpPr/>
            <p:nvPr/>
          </p:nvGrpSpPr>
          <p:grpSpPr>
            <a:xfrm>
              <a:off x="8272080" y="663480"/>
              <a:ext cx="612720" cy="254160"/>
              <a:chOff x="8272080" y="663480"/>
              <a:chExt cx="612720" cy="254160"/>
            </a:xfrm>
          </p:grpSpPr>
          <p:grpSp>
            <p:nvGrpSpPr>
              <p:cNvPr id="1974" name=""/>
              <p:cNvGrpSpPr/>
              <p:nvPr/>
            </p:nvGrpSpPr>
            <p:grpSpPr>
              <a:xfrm>
                <a:off x="8272080" y="756360"/>
                <a:ext cx="612720" cy="161280"/>
                <a:chOff x="8272080" y="756360"/>
                <a:chExt cx="612720" cy="161280"/>
              </a:xfrm>
            </p:grpSpPr>
            <p:grpSp>
              <p:nvGrpSpPr>
                <p:cNvPr id="1975" name=""/>
                <p:cNvGrpSpPr/>
                <p:nvPr/>
              </p:nvGrpSpPr>
              <p:grpSpPr>
                <a:xfrm>
                  <a:off x="8272080" y="877680"/>
                  <a:ext cx="612720" cy="39960"/>
                  <a:chOff x="8272080" y="877680"/>
                  <a:chExt cx="612720" cy="39960"/>
                </a:xfrm>
              </p:grpSpPr>
              <p:sp>
                <p:nvSpPr>
                  <p:cNvPr id="1976" name=""/>
                  <p:cNvSpPr/>
                  <p:nvPr/>
                </p:nvSpPr>
                <p:spPr>
                  <a:xfrm>
                    <a:off x="83743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85788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86810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87832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84765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82720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2" name=""/>
                <p:cNvGrpSpPr/>
                <p:nvPr/>
              </p:nvGrpSpPr>
              <p:grpSpPr>
                <a:xfrm>
                  <a:off x="8323200" y="837000"/>
                  <a:ext cx="510480" cy="39960"/>
                  <a:chOff x="8323200" y="837000"/>
                  <a:chExt cx="510480" cy="39960"/>
                </a:xfrm>
              </p:grpSpPr>
              <p:sp>
                <p:nvSpPr>
                  <p:cNvPr id="1983" name=""/>
                  <p:cNvSpPr/>
                  <p:nvPr/>
                </p:nvSpPr>
                <p:spPr>
                  <a:xfrm>
                    <a:off x="83232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85276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86299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87321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84254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8" name=""/>
                <p:cNvGrpSpPr/>
                <p:nvPr/>
              </p:nvGrpSpPr>
              <p:grpSpPr>
                <a:xfrm>
                  <a:off x="8374320" y="756360"/>
                  <a:ext cx="408240" cy="80280"/>
                  <a:chOff x="8374320" y="756360"/>
                  <a:chExt cx="408240" cy="8028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84765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868104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85788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83743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84254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862992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85276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6" name=""/>
              <p:cNvGrpSpPr/>
              <p:nvPr/>
            </p:nvGrpSpPr>
            <p:grpSpPr>
              <a:xfrm>
                <a:off x="8503200" y="756360"/>
                <a:ext cx="152280" cy="160200"/>
                <a:chOff x="8503200" y="756360"/>
                <a:chExt cx="152280" cy="160200"/>
              </a:xfrm>
            </p:grpSpPr>
            <p:grpSp>
              <p:nvGrpSpPr>
                <p:cNvPr id="1997" name=""/>
                <p:cNvGrpSpPr/>
                <p:nvPr/>
              </p:nvGrpSpPr>
              <p:grpSpPr>
                <a:xfrm>
                  <a:off x="8503200" y="877320"/>
                  <a:ext cx="152280" cy="39240"/>
                  <a:chOff x="8503200" y="877320"/>
                  <a:chExt cx="152280" cy="39240"/>
                </a:xfrm>
              </p:grpSpPr>
              <p:sp>
                <p:nvSpPr>
                  <p:cNvPr id="1998" name=""/>
                  <p:cNvSpPr/>
                  <p:nvPr/>
                </p:nvSpPr>
                <p:spPr>
                  <a:xfrm>
                    <a:off x="850932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850320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851580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1" name=""/>
                <p:cNvGrpSpPr/>
                <p:nvPr/>
              </p:nvGrpSpPr>
              <p:grpSpPr>
                <a:xfrm>
                  <a:off x="8521920" y="837000"/>
                  <a:ext cx="114120" cy="39240"/>
                  <a:chOff x="8521920" y="837000"/>
                  <a:chExt cx="114120" cy="39240"/>
                </a:xfrm>
              </p:grpSpPr>
              <p:sp>
                <p:nvSpPr>
                  <p:cNvPr id="2002" name=""/>
                  <p:cNvSpPr/>
                  <p:nvPr/>
                </p:nvSpPr>
                <p:spPr>
                  <a:xfrm>
                    <a:off x="852660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852192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853128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5" name=""/>
                <p:cNvGrpSpPr/>
                <p:nvPr/>
              </p:nvGrpSpPr>
              <p:grpSpPr>
                <a:xfrm>
                  <a:off x="8534880" y="796680"/>
                  <a:ext cx="88920" cy="39240"/>
                  <a:chOff x="8534880" y="796680"/>
                  <a:chExt cx="88920" cy="39240"/>
                </a:xfrm>
              </p:grpSpPr>
              <p:sp>
                <p:nvSpPr>
                  <p:cNvPr id="2006" name=""/>
                  <p:cNvSpPr/>
                  <p:nvPr/>
                </p:nvSpPr>
                <p:spPr>
                  <a:xfrm>
                    <a:off x="853848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853488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854208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9" name=""/>
                <p:cNvGrpSpPr/>
                <p:nvPr/>
              </p:nvGrpSpPr>
              <p:grpSpPr>
                <a:xfrm>
                  <a:off x="8547480" y="756360"/>
                  <a:ext cx="63360" cy="39240"/>
                  <a:chOff x="8547480" y="756360"/>
                  <a:chExt cx="63360" cy="39240"/>
                </a:xfrm>
              </p:grpSpPr>
              <p:sp>
                <p:nvSpPr>
                  <p:cNvPr id="2010" name=""/>
                  <p:cNvSpPr/>
                  <p:nvPr/>
                </p:nvSpPr>
                <p:spPr>
                  <a:xfrm>
                    <a:off x="855000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854748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855252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3" name=""/>
              <p:cNvSpPr/>
              <p:nvPr/>
            </p:nvSpPr>
            <p:spPr>
              <a:xfrm>
                <a:off x="845136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4" name=""/>
              <p:cNvGrpSpPr/>
              <p:nvPr/>
            </p:nvGrpSpPr>
            <p:grpSpPr>
              <a:xfrm>
                <a:off x="8486640" y="726120"/>
                <a:ext cx="183960" cy="28440"/>
                <a:chOff x="8486640" y="726120"/>
                <a:chExt cx="183960" cy="28440"/>
              </a:xfrm>
            </p:grpSpPr>
            <p:sp>
              <p:nvSpPr>
                <p:cNvPr id="2015" name=""/>
                <p:cNvSpPr/>
                <p:nvPr/>
              </p:nvSpPr>
              <p:spPr>
                <a:xfrm>
                  <a:off x="84866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85266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86454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86050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856512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0" name=""/>
              <p:cNvSpPr/>
              <p:nvPr/>
            </p:nvSpPr>
            <p:spPr>
              <a:xfrm>
                <a:off x="844416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844956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845712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3" name=""/>
          <p:cNvGrpSpPr/>
          <p:nvPr/>
        </p:nvGrpSpPr>
        <p:grpSpPr>
          <a:xfrm>
            <a:off x="243360" y="596520"/>
            <a:ext cx="8384760" cy="1979640"/>
            <a:chOff x="243360" y="596520"/>
            <a:chExt cx="8384760" cy="1979640"/>
          </a:xfrm>
        </p:grpSpPr>
        <p:grpSp>
          <p:nvGrpSpPr>
            <p:cNvPr id="2024" name=""/>
            <p:cNvGrpSpPr/>
            <p:nvPr/>
          </p:nvGrpSpPr>
          <p:grpSpPr>
            <a:xfrm>
              <a:off x="243360" y="596520"/>
              <a:ext cx="6207120" cy="1979640"/>
              <a:chOff x="243360" y="596520"/>
              <a:chExt cx="6207120" cy="1979640"/>
            </a:xfrm>
          </p:grpSpPr>
          <p:grpSp>
            <p:nvGrpSpPr>
              <p:cNvPr id="2025" name=""/>
              <p:cNvGrpSpPr/>
              <p:nvPr/>
            </p:nvGrpSpPr>
            <p:grpSpPr>
              <a:xfrm>
                <a:off x="560880" y="630000"/>
                <a:ext cx="5244840" cy="1616040"/>
                <a:chOff x="560880" y="630000"/>
                <a:chExt cx="5244840" cy="1616040"/>
              </a:xfrm>
            </p:grpSpPr>
            <p:grpSp>
              <p:nvGrpSpPr>
                <p:cNvPr id="2026" name=""/>
                <p:cNvGrpSpPr/>
                <p:nvPr/>
              </p:nvGrpSpPr>
              <p:grpSpPr>
                <a:xfrm>
                  <a:off x="560880" y="1146600"/>
                  <a:ext cx="5118120" cy="1099440"/>
                  <a:chOff x="560880" y="1146600"/>
                  <a:chExt cx="5118120" cy="1099440"/>
                </a:xfrm>
              </p:grpSpPr>
              <p:grpSp>
                <p:nvGrpSpPr>
                  <p:cNvPr id="2027" name=""/>
                  <p:cNvGrpSpPr/>
                  <p:nvPr/>
                </p:nvGrpSpPr>
                <p:grpSpPr>
                  <a:xfrm>
                    <a:off x="560880" y="1146600"/>
                    <a:ext cx="1279440" cy="1099440"/>
                    <a:chOff x="560880" y="1146600"/>
                    <a:chExt cx="1279440" cy="1099440"/>
                  </a:xfrm>
                </p:grpSpPr>
                <p:sp>
                  <p:nvSpPr>
                    <p:cNvPr id="2028" name=""/>
                    <p:cNvSpPr/>
                    <p:nvPr/>
                  </p:nvSpPr>
                  <p:spPr>
                    <a:xfrm flipV="1">
                      <a:off x="56088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"/>
                    <p:cNvSpPr/>
                    <p:nvPr/>
                  </p:nvSpPr>
                  <p:spPr>
                    <a:xfrm flipH="1" flipV="1">
                      <a:off x="120060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"/>
                    <p:cNvSpPr/>
                    <p:nvPr/>
                  </p:nvSpPr>
                  <p:spPr>
                    <a:xfrm>
                      <a:off x="774000" y="1146600"/>
                      <a:ext cx="4262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"/>
                    <p:cNvSpPr/>
                    <p:nvPr/>
                  </p:nvSpPr>
                  <p:spPr>
                    <a:xfrm>
                      <a:off x="1414080" y="2246040"/>
                      <a:ext cx="4262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2" name=""/>
                  <p:cNvGrpSpPr/>
                  <p:nvPr/>
                </p:nvGrpSpPr>
                <p:grpSpPr>
                  <a:xfrm>
                    <a:off x="560880" y="1146600"/>
                    <a:ext cx="1279440" cy="1099440"/>
                    <a:chOff x="560880" y="1146600"/>
                    <a:chExt cx="1279440" cy="1099440"/>
                  </a:xfrm>
                </p:grpSpPr>
                <p:sp>
                  <p:nvSpPr>
                    <p:cNvPr id="2033" name=""/>
                    <p:cNvSpPr/>
                    <p:nvPr/>
                  </p:nvSpPr>
                  <p:spPr>
                    <a:xfrm>
                      <a:off x="56088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"/>
                    <p:cNvSpPr/>
                    <p:nvPr/>
                  </p:nvSpPr>
                  <p:spPr>
                    <a:xfrm flipH="1">
                      <a:off x="120060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"/>
                    <p:cNvSpPr/>
                    <p:nvPr/>
                  </p:nvSpPr>
                  <p:spPr>
                    <a:xfrm>
                      <a:off x="774000" y="2246040"/>
                      <a:ext cx="426240" cy="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"/>
                    <p:cNvSpPr/>
                    <p:nvPr/>
                  </p:nvSpPr>
                  <p:spPr>
                    <a:xfrm>
                      <a:off x="1414080" y="1146600"/>
                      <a:ext cx="426240" cy="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7" name=""/>
                  <p:cNvGrpSpPr/>
                  <p:nvPr/>
                </p:nvGrpSpPr>
                <p:grpSpPr>
                  <a:xfrm>
                    <a:off x="1840680" y="1146600"/>
                    <a:ext cx="1279440" cy="1099440"/>
                    <a:chOff x="1840680" y="1146600"/>
                    <a:chExt cx="1279440" cy="1099440"/>
                  </a:xfrm>
                </p:grpSpPr>
                <p:sp>
                  <p:nvSpPr>
                    <p:cNvPr id="2038" name=""/>
                    <p:cNvSpPr/>
                    <p:nvPr/>
                  </p:nvSpPr>
                  <p:spPr>
                    <a:xfrm flipV="1">
                      <a:off x="184068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"/>
                    <p:cNvSpPr/>
                    <p:nvPr/>
                  </p:nvSpPr>
                  <p:spPr>
                    <a:xfrm flipH="1" flipV="1">
                      <a:off x="248040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0" name=""/>
                    <p:cNvSpPr/>
                    <p:nvPr/>
                  </p:nvSpPr>
                  <p:spPr>
                    <a:xfrm>
                      <a:off x="2053800" y="1146600"/>
                      <a:ext cx="4262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"/>
                    <p:cNvSpPr/>
                    <p:nvPr/>
                  </p:nvSpPr>
                  <p:spPr>
                    <a:xfrm>
                      <a:off x="2693880" y="2246040"/>
                      <a:ext cx="4262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2" name=""/>
                  <p:cNvGrpSpPr/>
                  <p:nvPr/>
                </p:nvGrpSpPr>
                <p:grpSpPr>
                  <a:xfrm>
                    <a:off x="1840680" y="1146600"/>
                    <a:ext cx="1279440" cy="1099440"/>
                    <a:chOff x="1840680" y="1146600"/>
                    <a:chExt cx="1279440" cy="1099440"/>
                  </a:xfrm>
                </p:grpSpPr>
                <p:sp>
                  <p:nvSpPr>
                    <p:cNvPr id="2043" name=""/>
                    <p:cNvSpPr/>
                    <p:nvPr/>
                  </p:nvSpPr>
                  <p:spPr>
                    <a:xfrm>
                      <a:off x="184068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"/>
                    <p:cNvSpPr/>
                    <p:nvPr/>
                  </p:nvSpPr>
                  <p:spPr>
                    <a:xfrm flipH="1">
                      <a:off x="248040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"/>
                    <p:cNvSpPr/>
                    <p:nvPr/>
                  </p:nvSpPr>
                  <p:spPr>
                    <a:xfrm>
                      <a:off x="2053800" y="2246040"/>
                      <a:ext cx="426240" cy="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"/>
                    <p:cNvSpPr/>
                    <p:nvPr/>
                  </p:nvSpPr>
                  <p:spPr>
                    <a:xfrm>
                      <a:off x="2693880" y="1146600"/>
                      <a:ext cx="426240" cy="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7" name=""/>
                  <p:cNvGrpSpPr/>
                  <p:nvPr/>
                </p:nvGrpSpPr>
                <p:grpSpPr>
                  <a:xfrm>
                    <a:off x="3120480" y="1146600"/>
                    <a:ext cx="1278360" cy="1099440"/>
                    <a:chOff x="3120480" y="1146600"/>
                    <a:chExt cx="1278360" cy="1099440"/>
                  </a:xfrm>
                </p:grpSpPr>
                <p:sp>
                  <p:nvSpPr>
                    <p:cNvPr id="2048" name=""/>
                    <p:cNvSpPr/>
                    <p:nvPr/>
                  </p:nvSpPr>
                  <p:spPr>
                    <a:xfrm flipV="1">
                      <a:off x="312048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"/>
                    <p:cNvSpPr/>
                    <p:nvPr/>
                  </p:nvSpPr>
                  <p:spPr>
                    <a:xfrm flipH="1" flipV="1">
                      <a:off x="375984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"/>
                    <p:cNvSpPr/>
                    <p:nvPr/>
                  </p:nvSpPr>
                  <p:spPr>
                    <a:xfrm>
                      <a:off x="3333600" y="1146600"/>
                      <a:ext cx="425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"/>
                    <p:cNvSpPr/>
                    <p:nvPr/>
                  </p:nvSpPr>
                  <p:spPr>
                    <a:xfrm>
                      <a:off x="3972960" y="2246040"/>
                      <a:ext cx="425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2" name=""/>
                  <p:cNvGrpSpPr/>
                  <p:nvPr/>
                </p:nvGrpSpPr>
                <p:grpSpPr>
                  <a:xfrm>
                    <a:off x="3120480" y="1146600"/>
                    <a:ext cx="1278360" cy="1099440"/>
                    <a:chOff x="3120480" y="1146600"/>
                    <a:chExt cx="1278360" cy="1099440"/>
                  </a:xfrm>
                </p:grpSpPr>
                <p:sp>
                  <p:nvSpPr>
                    <p:cNvPr id="2053" name=""/>
                    <p:cNvSpPr/>
                    <p:nvPr/>
                  </p:nvSpPr>
                  <p:spPr>
                    <a:xfrm>
                      <a:off x="312048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"/>
                    <p:cNvSpPr/>
                    <p:nvPr/>
                  </p:nvSpPr>
                  <p:spPr>
                    <a:xfrm flipH="1">
                      <a:off x="375984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5" name=""/>
                    <p:cNvSpPr/>
                    <p:nvPr/>
                  </p:nvSpPr>
                  <p:spPr>
                    <a:xfrm>
                      <a:off x="3333600" y="2246040"/>
                      <a:ext cx="425880" cy="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"/>
                    <p:cNvSpPr/>
                    <p:nvPr/>
                  </p:nvSpPr>
                  <p:spPr>
                    <a:xfrm>
                      <a:off x="3972960" y="1146600"/>
                      <a:ext cx="425880" cy="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7" name=""/>
                  <p:cNvGrpSpPr/>
                  <p:nvPr/>
                </p:nvGrpSpPr>
                <p:grpSpPr>
                  <a:xfrm>
                    <a:off x="4399200" y="1146600"/>
                    <a:ext cx="1279800" cy="1099440"/>
                    <a:chOff x="4399200" y="1146600"/>
                    <a:chExt cx="1279800" cy="1099440"/>
                  </a:xfrm>
                </p:grpSpPr>
                <p:sp>
                  <p:nvSpPr>
                    <p:cNvPr id="2058" name=""/>
                    <p:cNvSpPr/>
                    <p:nvPr/>
                  </p:nvSpPr>
                  <p:spPr>
                    <a:xfrm flipV="1">
                      <a:off x="439920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"/>
                    <p:cNvSpPr/>
                    <p:nvPr/>
                  </p:nvSpPr>
                  <p:spPr>
                    <a:xfrm flipH="1" flipV="1">
                      <a:off x="5038920" y="1146600"/>
                      <a:ext cx="213120" cy="109944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"/>
                    <p:cNvSpPr/>
                    <p:nvPr/>
                  </p:nvSpPr>
                  <p:spPr>
                    <a:xfrm>
                      <a:off x="4612320" y="1146600"/>
                      <a:ext cx="4266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"/>
                    <p:cNvSpPr/>
                    <p:nvPr/>
                  </p:nvSpPr>
                  <p:spPr>
                    <a:xfrm>
                      <a:off x="5252400" y="2246040"/>
                      <a:ext cx="4266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62" name=""/>
                  <p:cNvSpPr/>
                  <p:nvPr/>
                </p:nvSpPr>
                <p:spPr>
                  <a:xfrm>
                    <a:off x="4399200" y="1146600"/>
                    <a:ext cx="213120" cy="109944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 flipH="1">
                    <a:off x="5038920" y="1146600"/>
                    <a:ext cx="213120" cy="109944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4612320" y="2246040"/>
                    <a:ext cx="426600" cy="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5252040" y="1146600"/>
                    <a:ext cx="426600" cy="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6" name=""/>
                <p:cNvGrpSpPr/>
                <p:nvPr/>
              </p:nvGrpSpPr>
              <p:grpSpPr>
                <a:xfrm>
                  <a:off x="646200" y="630000"/>
                  <a:ext cx="5159520" cy="406800"/>
                  <a:chOff x="646200" y="630000"/>
                  <a:chExt cx="5159520" cy="406800"/>
                </a:xfrm>
              </p:grpSpPr>
              <p:grpSp>
                <p:nvGrpSpPr>
                  <p:cNvPr id="2067" name=""/>
                  <p:cNvGrpSpPr/>
                  <p:nvPr/>
                </p:nvGrpSpPr>
                <p:grpSpPr>
                  <a:xfrm>
                    <a:off x="646200" y="630000"/>
                    <a:ext cx="3837600" cy="406800"/>
                    <a:chOff x="646200" y="630000"/>
                    <a:chExt cx="3837600" cy="406800"/>
                  </a:xfrm>
                </p:grpSpPr>
                <p:sp>
                  <p:nvSpPr>
                    <p:cNvPr id="2068" name=""/>
                    <p:cNvSpPr/>
                    <p:nvPr/>
                  </p:nvSpPr>
                  <p:spPr>
                    <a:xfrm>
                      <a:off x="860400" y="630000"/>
                      <a:ext cx="32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"/>
                    <p:cNvSpPr/>
                    <p:nvPr/>
                  </p:nvSpPr>
                  <p:spPr>
                    <a:xfrm>
                      <a:off x="1545120" y="630000"/>
                      <a:ext cx="32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70" name=""/>
                    <p:cNvGrpSpPr/>
                    <p:nvPr/>
                  </p:nvGrpSpPr>
                  <p:grpSpPr>
                    <a:xfrm>
                      <a:off x="646200" y="1036800"/>
                      <a:ext cx="3837600" cy="0"/>
                      <a:chOff x="646200" y="1036800"/>
                      <a:chExt cx="3837600" cy="0"/>
                    </a:xfrm>
                  </p:grpSpPr>
                  <p:sp>
                    <p:nvSpPr>
                      <p:cNvPr id="2071" name=""/>
                      <p:cNvSpPr/>
                      <p:nvPr/>
                    </p:nvSpPr>
                    <p:spPr>
                      <a:xfrm>
                        <a:off x="3844440" y="1036800"/>
                        <a:ext cx="639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2" name=""/>
                      <p:cNvSpPr/>
                      <p:nvPr/>
                    </p:nvSpPr>
                    <p:spPr>
                      <a:xfrm>
                        <a:off x="3204720" y="1036800"/>
                        <a:ext cx="639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3" name=""/>
                      <p:cNvSpPr/>
                      <p:nvPr/>
                    </p:nvSpPr>
                    <p:spPr>
                      <a:xfrm>
                        <a:off x="1925280" y="1036800"/>
                        <a:ext cx="639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4" name=""/>
                      <p:cNvSpPr/>
                      <p:nvPr/>
                    </p:nvSpPr>
                    <p:spPr>
                      <a:xfrm>
                        <a:off x="646200" y="1036800"/>
                        <a:ext cx="639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5" name=""/>
                      <p:cNvSpPr/>
                      <p:nvPr/>
                    </p:nvSpPr>
                    <p:spPr>
                      <a:xfrm>
                        <a:off x="1328040" y="1036800"/>
                        <a:ext cx="639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6" name=""/>
                      <p:cNvSpPr/>
                      <p:nvPr/>
                    </p:nvSpPr>
                    <p:spPr>
                      <a:xfrm>
                        <a:off x="2607480" y="1036800"/>
                        <a:ext cx="639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77" name=""/>
                    <p:cNvSpPr/>
                    <p:nvPr/>
                  </p:nvSpPr>
                  <p:spPr>
                    <a:xfrm>
                      <a:off x="2183400" y="630000"/>
                      <a:ext cx="32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"/>
                    <p:cNvSpPr/>
                    <p:nvPr/>
                  </p:nvSpPr>
                  <p:spPr>
                    <a:xfrm>
                      <a:off x="3461400" y="630000"/>
                      <a:ext cx="32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"/>
                    <p:cNvSpPr/>
                    <p:nvPr/>
                  </p:nvSpPr>
                  <p:spPr>
                    <a:xfrm>
                      <a:off x="4102200" y="630000"/>
                      <a:ext cx="32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"/>
                    <p:cNvSpPr/>
                    <p:nvPr/>
                  </p:nvSpPr>
                  <p:spPr>
                    <a:xfrm>
                      <a:off x="2780280" y="630000"/>
                      <a:ext cx="32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1" name=""/>
                  <p:cNvGrpSpPr/>
                  <p:nvPr/>
                </p:nvGrpSpPr>
                <p:grpSpPr>
                  <a:xfrm>
                    <a:off x="4527000" y="630000"/>
                    <a:ext cx="1278720" cy="406800"/>
                    <a:chOff x="4527000" y="630000"/>
                    <a:chExt cx="1278720" cy="406800"/>
                  </a:xfrm>
                </p:grpSpPr>
                <p:sp>
                  <p:nvSpPr>
                    <p:cNvPr id="2082" name=""/>
                    <p:cNvSpPr/>
                    <p:nvPr/>
                  </p:nvSpPr>
                  <p:spPr>
                    <a:xfrm>
                      <a:off x="4527000" y="1036800"/>
                      <a:ext cx="63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"/>
                    <p:cNvSpPr/>
                    <p:nvPr/>
                  </p:nvSpPr>
                  <p:spPr>
                    <a:xfrm>
                      <a:off x="4738320" y="630000"/>
                      <a:ext cx="32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"/>
                    <p:cNvSpPr/>
                    <p:nvPr/>
                  </p:nvSpPr>
                  <p:spPr>
                    <a:xfrm>
                      <a:off x="5166360" y="1036800"/>
                      <a:ext cx="63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"/>
                    <p:cNvSpPr/>
                    <p:nvPr/>
                  </p:nvSpPr>
                  <p:spPr>
                    <a:xfrm>
                      <a:off x="5379840" y="630000"/>
                      <a:ext cx="3225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6" name=""/>
              <p:cNvGrpSpPr/>
              <p:nvPr/>
            </p:nvGrpSpPr>
            <p:grpSpPr>
              <a:xfrm>
                <a:off x="243360" y="596520"/>
                <a:ext cx="6207120" cy="1979640"/>
                <a:chOff x="243360" y="596520"/>
                <a:chExt cx="6207120" cy="1979640"/>
              </a:xfrm>
            </p:grpSpPr>
            <p:grpSp>
              <p:nvGrpSpPr>
                <p:cNvPr id="2087" name=""/>
                <p:cNvGrpSpPr/>
                <p:nvPr/>
              </p:nvGrpSpPr>
              <p:grpSpPr>
                <a:xfrm>
                  <a:off x="401040" y="596520"/>
                  <a:ext cx="5706000" cy="1979640"/>
                  <a:chOff x="401040" y="596520"/>
                  <a:chExt cx="5706000" cy="1979640"/>
                </a:xfrm>
              </p:grpSpPr>
              <p:sp>
                <p:nvSpPr>
                  <p:cNvPr id="2088" name=""/>
                  <p:cNvSpPr/>
                  <p:nvPr/>
                </p:nvSpPr>
                <p:spPr>
                  <a:xfrm>
                    <a:off x="401040" y="2411640"/>
                    <a:ext cx="5706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 flipV="1">
                    <a:off x="454320" y="596520"/>
                    <a:ext cx="0" cy="197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0" name=""/>
                <p:cNvSpPr/>
                <p:nvPr/>
              </p:nvSpPr>
              <p:spPr>
                <a:xfrm>
                  <a:off x="5789520" y="2058480"/>
                  <a:ext cx="66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243360" y="68508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2" name=""/>
            <p:cNvSpPr/>
            <p:nvPr/>
          </p:nvSpPr>
          <p:spPr>
            <a:xfrm>
              <a:off x="6570720" y="15289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ata pattern 10101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243360" y="4458960"/>
            <a:ext cx="8384760" cy="1957320"/>
            <a:chOff x="243360" y="4458960"/>
            <a:chExt cx="8384760" cy="1957320"/>
          </a:xfrm>
        </p:grpSpPr>
        <p:grpSp>
          <p:nvGrpSpPr>
            <p:cNvPr id="2094" name=""/>
            <p:cNvGrpSpPr/>
            <p:nvPr/>
          </p:nvGrpSpPr>
          <p:grpSpPr>
            <a:xfrm>
              <a:off x="243360" y="4458960"/>
              <a:ext cx="6268680" cy="1957320"/>
              <a:chOff x="243360" y="4458960"/>
              <a:chExt cx="6268680" cy="1957320"/>
            </a:xfrm>
          </p:grpSpPr>
          <p:grpSp>
            <p:nvGrpSpPr>
              <p:cNvPr id="2095" name=""/>
              <p:cNvGrpSpPr/>
              <p:nvPr/>
            </p:nvGrpSpPr>
            <p:grpSpPr>
              <a:xfrm>
                <a:off x="582480" y="4493160"/>
                <a:ext cx="5316480" cy="1596600"/>
                <a:chOff x="582480" y="4493160"/>
                <a:chExt cx="5316480" cy="1596600"/>
              </a:xfrm>
            </p:grpSpPr>
            <p:grpSp>
              <p:nvGrpSpPr>
                <p:cNvPr id="2096" name=""/>
                <p:cNvGrpSpPr/>
                <p:nvPr/>
              </p:nvGrpSpPr>
              <p:grpSpPr>
                <a:xfrm>
                  <a:off x="667800" y="4493160"/>
                  <a:ext cx="5231160" cy="398880"/>
                  <a:chOff x="667800" y="4493160"/>
                  <a:chExt cx="5231160" cy="398880"/>
                </a:xfrm>
              </p:grpSpPr>
              <p:sp>
                <p:nvSpPr>
                  <p:cNvPr id="2097" name=""/>
                  <p:cNvSpPr/>
                  <p:nvPr/>
                </p:nvSpPr>
                <p:spPr>
                  <a:xfrm>
                    <a:off x="4549320" y="4839120"/>
                    <a:ext cx="639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882360" y="449316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1564560" y="449316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2803320" y="449316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4806360" y="449316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3484440" y="449316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>
                    <a:off x="2204640" y="449316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4125240" y="449316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3867120" y="4839120"/>
                    <a:ext cx="639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3227400" y="4839120"/>
                    <a:ext cx="639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1947600" y="4839120"/>
                    <a:ext cx="639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667800" y="4839120"/>
                    <a:ext cx="639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9" name=""/>
                  <p:cNvSpPr/>
                  <p:nvPr/>
                </p:nvSpPr>
                <p:spPr>
                  <a:xfrm>
                    <a:off x="1350000" y="4839120"/>
                    <a:ext cx="639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"/>
                  <p:cNvSpPr/>
                  <p:nvPr/>
                </p:nvSpPr>
                <p:spPr>
                  <a:xfrm>
                    <a:off x="2629800" y="4839120"/>
                    <a:ext cx="639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>
                    <a:off x="5189400" y="4839120"/>
                    <a:ext cx="639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5576400" y="449316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3" name=""/>
                <p:cNvGrpSpPr/>
                <p:nvPr/>
              </p:nvGrpSpPr>
              <p:grpSpPr>
                <a:xfrm>
                  <a:off x="582480" y="5002560"/>
                  <a:ext cx="5118840" cy="1087200"/>
                  <a:chOff x="582480" y="5002560"/>
                  <a:chExt cx="5118840" cy="1087200"/>
                </a:xfrm>
              </p:grpSpPr>
              <p:sp>
                <p:nvSpPr>
                  <p:cNvPr id="2114" name=""/>
                  <p:cNvSpPr/>
                  <p:nvPr/>
                </p:nvSpPr>
                <p:spPr>
                  <a:xfrm>
                    <a:off x="753480" y="6089760"/>
                    <a:ext cx="127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 flipV="1">
                    <a:off x="582480" y="5002560"/>
                    <a:ext cx="213120" cy="10872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>
                    <a:off x="795600" y="5002560"/>
                    <a:ext cx="4266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>
                    <a:off x="582480" y="5002560"/>
                    <a:ext cx="213120" cy="108720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>
                    <a:off x="795600" y="6089760"/>
                    <a:ext cx="426600" cy="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>
                    <a:off x="1222200" y="5002560"/>
                    <a:ext cx="213120" cy="1627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>
                    <a:off x="1435320" y="5165280"/>
                    <a:ext cx="17064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 flipV="1">
                    <a:off x="1222200" y="5980680"/>
                    <a:ext cx="213120" cy="108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>
                    <a:off x="1435320" y="5980680"/>
                    <a:ext cx="1706400" cy="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 flipH="1" flipV="1">
                    <a:off x="3142080" y="5164920"/>
                    <a:ext cx="213120" cy="9241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>
                    <a:off x="3355200" y="6089760"/>
                    <a:ext cx="4266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H="1">
                    <a:off x="3142080" y="5002560"/>
                    <a:ext cx="213120" cy="9781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"/>
                  <p:cNvSpPr/>
                  <p:nvPr/>
                </p:nvSpPr>
                <p:spPr>
                  <a:xfrm>
                    <a:off x="3355200" y="5002560"/>
                    <a:ext cx="426600" cy="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27" name=""/>
                  <p:cNvGrpSpPr/>
                  <p:nvPr/>
                </p:nvGrpSpPr>
                <p:grpSpPr>
                  <a:xfrm>
                    <a:off x="3781800" y="5002560"/>
                    <a:ext cx="1279440" cy="1087200"/>
                    <a:chOff x="3781800" y="5002560"/>
                    <a:chExt cx="1279440" cy="1087200"/>
                  </a:xfrm>
                </p:grpSpPr>
                <p:sp>
                  <p:nvSpPr>
                    <p:cNvPr id="2128" name=""/>
                    <p:cNvSpPr/>
                    <p:nvPr/>
                  </p:nvSpPr>
                  <p:spPr>
                    <a:xfrm>
                      <a:off x="3781800" y="5002560"/>
                      <a:ext cx="213120" cy="108720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9" name=""/>
                    <p:cNvSpPr/>
                    <p:nvPr/>
                  </p:nvSpPr>
                  <p:spPr>
                    <a:xfrm flipH="1">
                      <a:off x="4421520" y="5002560"/>
                      <a:ext cx="213120" cy="108720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0" name=""/>
                    <p:cNvSpPr/>
                    <p:nvPr/>
                  </p:nvSpPr>
                  <p:spPr>
                    <a:xfrm>
                      <a:off x="3994920" y="6089760"/>
                      <a:ext cx="426240" cy="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1" name=""/>
                    <p:cNvSpPr/>
                    <p:nvPr/>
                  </p:nvSpPr>
                  <p:spPr>
                    <a:xfrm>
                      <a:off x="4635000" y="5002560"/>
                      <a:ext cx="426240" cy="0"/>
                    </a:xfrm>
                    <a:prstGeom prst="line">
                      <a:avLst/>
                    </a:prstGeom>
                    <a:ln w="381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2" name=""/>
                  <p:cNvGrpSpPr/>
                  <p:nvPr/>
                </p:nvGrpSpPr>
                <p:grpSpPr>
                  <a:xfrm>
                    <a:off x="3781800" y="5002560"/>
                    <a:ext cx="1279440" cy="1087200"/>
                    <a:chOff x="3781800" y="5002560"/>
                    <a:chExt cx="1279440" cy="1087200"/>
                  </a:xfrm>
                </p:grpSpPr>
                <p:sp>
                  <p:nvSpPr>
                    <p:cNvPr id="2133" name=""/>
                    <p:cNvSpPr/>
                    <p:nvPr/>
                  </p:nvSpPr>
                  <p:spPr>
                    <a:xfrm flipV="1">
                      <a:off x="3781800" y="5002560"/>
                      <a:ext cx="213120" cy="10872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4" name=""/>
                    <p:cNvSpPr/>
                    <p:nvPr/>
                  </p:nvSpPr>
                  <p:spPr>
                    <a:xfrm flipH="1" flipV="1">
                      <a:off x="4421520" y="5002560"/>
                      <a:ext cx="213120" cy="10872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5" name=""/>
                    <p:cNvSpPr/>
                    <p:nvPr/>
                  </p:nvSpPr>
                  <p:spPr>
                    <a:xfrm>
                      <a:off x="3994920" y="5002560"/>
                      <a:ext cx="4262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6" name=""/>
                    <p:cNvSpPr/>
                    <p:nvPr/>
                  </p:nvSpPr>
                  <p:spPr>
                    <a:xfrm>
                      <a:off x="4635000" y="6089760"/>
                      <a:ext cx="4262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37" name=""/>
                  <p:cNvSpPr/>
                  <p:nvPr/>
                </p:nvSpPr>
                <p:spPr>
                  <a:xfrm flipV="1">
                    <a:off x="5061600" y="5980680"/>
                    <a:ext cx="213120" cy="1087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5274720" y="5980680"/>
                    <a:ext cx="4266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>
                    <a:off x="5061600" y="5002560"/>
                    <a:ext cx="213120" cy="16272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5274720" y="5165280"/>
                    <a:ext cx="426600" cy="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1" name=""/>
              <p:cNvGrpSpPr/>
              <p:nvPr/>
            </p:nvGrpSpPr>
            <p:grpSpPr>
              <a:xfrm>
                <a:off x="243360" y="4458960"/>
                <a:ext cx="6268680" cy="1957320"/>
                <a:chOff x="243360" y="4458960"/>
                <a:chExt cx="6268680" cy="1957320"/>
              </a:xfrm>
            </p:grpSpPr>
            <p:grpSp>
              <p:nvGrpSpPr>
                <p:cNvPr id="2142" name=""/>
                <p:cNvGrpSpPr/>
                <p:nvPr/>
              </p:nvGrpSpPr>
              <p:grpSpPr>
                <a:xfrm>
                  <a:off x="401040" y="4458960"/>
                  <a:ext cx="5706000" cy="1957320"/>
                  <a:chOff x="401040" y="4458960"/>
                  <a:chExt cx="5706000" cy="1957320"/>
                </a:xfrm>
              </p:grpSpPr>
              <p:sp>
                <p:nvSpPr>
                  <p:cNvPr id="2143" name=""/>
                  <p:cNvSpPr/>
                  <p:nvPr/>
                </p:nvSpPr>
                <p:spPr>
                  <a:xfrm>
                    <a:off x="401040" y="6253560"/>
                    <a:ext cx="5706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 flipV="1">
                    <a:off x="454320" y="4458960"/>
                    <a:ext cx="0" cy="195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5" name=""/>
                <p:cNvSpPr/>
                <p:nvPr/>
              </p:nvSpPr>
              <p:spPr>
                <a:xfrm>
                  <a:off x="5787360" y="5874120"/>
                  <a:ext cx="724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Times New Roman"/>
                    </a:rPr>
                    <a:t>tim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43360" y="454752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7" name=""/>
            <p:cNvSpPr/>
            <p:nvPr/>
          </p:nvSpPr>
          <p:spPr>
            <a:xfrm>
              <a:off x="6570720" y="528336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ata pattern 11110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8" name=""/>
          <p:cNvSpPr/>
          <p:nvPr/>
        </p:nvSpPr>
        <p:spPr>
          <a:xfrm>
            <a:off x="914400" y="4876920"/>
            <a:ext cx="556272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9" name=""/>
          <p:cNvGrpSpPr/>
          <p:nvPr/>
        </p:nvGrpSpPr>
        <p:grpSpPr>
          <a:xfrm>
            <a:off x="243360" y="2415960"/>
            <a:ext cx="8384760" cy="1979640"/>
            <a:chOff x="243360" y="2415960"/>
            <a:chExt cx="8384760" cy="1979640"/>
          </a:xfrm>
        </p:grpSpPr>
        <p:grpSp>
          <p:nvGrpSpPr>
            <p:cNvPr id="2150" name=""/>
            <p:cNvGrpSpPr/>
            <p:nvPr/>
          </p:nvGrpSpPr>
          <p:grpSpPr>
            <a:xfrm>
              <a:off x="668160" y="2449440"/>
              <a:ext cx="5231160" cy="398880"/>
              <a:chOff x="668160" y="2449440"/>
              <a:chExt cx="5231160" cy="398880"/>
            </a:xfrm>
          </p:grpSpPr>
          <p:sp>
            <p:nvSpPr>
              <p:cNvPr id="2151" name=""/>
              <p:cNvSpPr/>
              <p:nvPr/>
            </p:nvSpPr>
            <p:spPr>
              <a:xfrm>
                <a:off x="4549680" y="2801520"/>
                <a:ext cx="63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881640" y="2449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564920" y="2449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803680" y="2449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4806720" y="2449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484800" y="2449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205000" y="2449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4125600" y="2449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867480" y="2801520"/>
                <a:ext cx="63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227760" y="2801520"/>
                <a:ext cx="63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1947960" y="2801520"/>
                <a:ext cx="63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68160" y="2801520"/>
                <a:ext cx="63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1350360" y="2801520"/>
                <a:ext cx="63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630160" y="2801520"/>
                <a:ext cx="63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189760" y="2801520"/>
                <a:ext cx="63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576760" y="2449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243360" y="2415960"/>
              <a:ext cx="6269040" cy="1979640"/>
              <a:chOff x="243360" y="2415960"/>
              <a:chExt cx="6269040" cy="1979640"/>
            </a:xfrm>
          </p:grpSpPr>
          <p:grpSp>
            <p:nvGrpSpPr>
              <p:cNvPr id="2168" name=""/>
              <p:cNvGrpSpPr/>
              <p:nvPr/>
            </p:nvGrpSpPr>
            <p:grpSpPr>
              <a:xfrm>
                <a:off x="401040" y="2415960"/>
                <a:ext cx="5706360" cy="1979640"/>
                <a:chOff x="401040" y="2415960"/>
                <a:chExt cx="5706360" cy="1979640"/>
              </a:xfrm>
            </p:grpSpPr>
            <p:sp>
              <p:nvSpPr>
                <p:cNvPr id="2169" name=""/>
                <p:cNvSpPr/>
                <p:nvPr/>
              </p:nvSpPr>
              <p:spPr>
                <a:xfrm>
                  <a:off x="401040" y="4231080"/>
                  <a:ext cx="57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flipV="1">
                  <a:off x="454320" y="2415960"/>
                  <a:ext cx="0" cy="197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1" name=""/>
              <p:cNvSpPr/>
              <p:nvPr/>
            </p:nvSpPr>
            <p:spPr>
              <a:xfrm>
                <a:off x="5787720" y="3847320"/>
                <a:ext cx="72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243360" y="25056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3" name=""/>
            <p:cNvSpPr/>
            <p:nvPr/>
          </p:nvSpPr>
          <p:spPr>
            <a:xfrm>
              <a:off x="6570720" y="32018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ata pattern 11001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4" name=""/>
            <p:cNvGrpSpPr/>
            <p:nvPr/>
          </p:nvGrpSpPr>
          <p:grpSpPr>
            <a:xfrm>
              <a:off x="606240" y="2908440"/>
              <a:ext cx="5274360" cy="1129680"/>
              <a:chOff x="606240" y="2908440"/>
              <a:chExt cx="5274360" cy="1129680"/>
            </a:xfrm>
          </p:grpSpPr>
          <p:grpSp>
            <p:nvGrpSpPr>
              <p:cNvPr id="2175" name=""/>
              <p:cNvGrpSpPr/>
              <p:nvPr/>
            </p:nvGrpSpPr>
            <p:grpSpPr>
              <a:xfrm>
                <a:off x="1920600" y="2940840"/>
                <a:ext cx="1335960" cy="1097280"/>
                <a:chOff x="1920600" y="2940840"/>
                <a:chExt cx="1335960" cy="1097280"/>
              </a:xfrm>
            </p:grpSpPr>
            <p:grpSp>
              <p:nvGrpSpPr>
                <p:cNvPr id="2176" name=""/>
                <p:cNvGrpSpPr/>
                <p:nvPr/>
              </p:nvGrpSpPr>
              <p:grpSpPr>
                <a:xfrm>
                  <a:off x="1920600" y="2940840"/>
                  <a:ext cx="683280" cy="1097280"/>
                  <a:chOff x="1920600" y="2940840"/>
                  <a:chExt cx="683280" cy="1097280"/>
                </a:xfrm>
              </p:grpSpPr>
              <p:sp>
                <p:nvSpPr>
                  <p:cNvPr id="2177" name=""/>
                  <p:cNvSpPr/>
                  <p:nvPr/>
                </p:nvSpPr>
                <p:spPr>
                  <a:xfrm flipH="1" flipV="1">
                    <a:off x="1920600" y="3105360"/>
                    <a:ext cx="227160" cy="9320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2148120" y="403812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 flipH="1">
                    <a:off x="1920600" y="2940840"/>
                    <a:ext cx="227160" cy="98748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>
                    <a:off x="2148120" y="294084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1" name=""/>
                <p:cNvGrpSpPr/>
                <p:nvPr/>
              </p:nvGrpSpPr>
              <p:grpSpPr>
                <a:xfrm>
                  <a:off x="2573640" y="2940840"/>
                  <a:ext cx="682920" cy="1096920"/>
                  <a:chOff x="2573640" y="2940840"/>
                  <a:chExt cx="682920" cy="1096920"/>
                </a:xfrm>
              </p:grpSpPr>
              <p:sp>
                <p:nvSpPr>
                  <p:cNvPr id="2182" name=""/>
                  <p:cNvSpPr/>
                  <p:nvPr/>
                </p:nvSpPr>
                <p:spPr>
                  <a:xfrm flipV="1">
                    <a:off x="2573640" y="3928320"/>
                    <a:ext cx="227160" cy="1094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2800800" y="392832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2573640" y="2940840"/>
                    <a:ext cx="227160" cy="16488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2800800" y="310572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86" name=""/>
              <p:cNvGrpSpPr/>
              <p:nvPr/>
            </p:nvGrpSpPr>
            <p:grpSpPr>
              <a:xfrm>
                <a:off x="3224880" y="2923560"/>
                <a:ext cx="1335960" cy="1097640"/>
                <a:chOff x="3224880" y="2923560"/>
                <a:chExt cx="1335960" cy="1097640"/>
              </a:xfrm>
            </p:grpSpPr>
            <p:grpSp>
              <p:nvGrpSpPr>
                <p:cNvPr id="2187" name=""/>
                <p:cNvGrpSpPr/>
                <p:nvPr/>
              </p:nvGrpSpPr>
              <p:grpSpPr>
                <a:xfrm>
                  <a:off x="3224880" y="2923560"/>
                  <a:ext cx="683280" cy="1097640"/>
                  <a:chOff x="3224880" y="2923560"/>
                  <a:chExt cx="683280" cy="1097640"/>
                </a:xfrm>
              </p:grpSpPr>
              <p:sp>
                <p:nvSpPr>
                  <p:cNvPr id="2188" name=""/>
                  <p:cNvSpPr/>
                  <p:nvPr/>
                </p:nvSpPr>
                <p:spPr>
                  <a:xfrm flipH="1" flipV="1">
                    <a:off x="3224880" y="3088440"/>
                    <a:ext cx="227160" cy="932400"/>
                  </a:xfrm>
                  <a:prstGeom prst="line">
                    <a:avLst/>
                  </a:prstGeom>
                  <a:ln w="381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3452400" y="402120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0" name=""/>
                  <p:cNvSpPr/>
                  <p:nvPr/>
                </p:nvSpPr>
                <p:spPr>
                  <a:xfrm flipH="1">
                    <a:off x="3224880" y="2923560"/>
                    <a:ext cx="227160" cy="9882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>
                    <a:off x="3452400" y="292356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2" name=""/>
                <p:cNvGrpSpPr/>
                <p:nvPr/>
              </p:nvGrpSpPr>
              <p:grpSpPr>
                <a:xfrm>
                  <a:off x="3877920" y="2923560"/>
                  <a:ext cx="682920" cy="1096920"/>
                  <a:chOff x="3877920" y="2923560"/>
                  <a:chExt cx="682920" cy="1096920"/>
                </a:xfrm>
              </p:grpSpPr>
              <p:sp>
                <p:nvSpPr>
                  <p:cNvPr id="2193" name=""/>
                  <p:cNvSpPr/>
                  <p:nvPr/>
                </p:nvSpPr>
                <p:spPr>
                  <a:xfrm flipV="1">
                    <a:off x="3877920" y="3911400"/>
                    <a:ext cx="227160" cy="10908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>
                    <a:off x="4105080" y="391176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>
                    <a:off x="3877920" y="2923560"/>
                    <a:ext cx="227160" cy="164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>
                    <a:off x="4105080" y="308844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97" name=""/>
              <p:cNvGrpSpPr/>
              <p:nvPr/>
            </p:nvGrpSpPr>
            <p:grpSpPr>
              <a:xfrm>
                <a:off x="4544640" y="2908440"/>
                <a:ext cx="1335960" cy="1097640"/>
                <a:chOff x="4544640" y="2908440"/>
                <a:chExt cx="1335960" cy="1097640"/>
              </a:xfrm>
            </p:grpSpPr>
            <p:grpSp>
              <p:nvGrpSpPr>
                <p:cNvPr id="2198" name=""/>
                <p:cNvGrpSpPr/>
                <p:nvPr/>
              </p:nvGrpSpPr>
              <p:grpSpPr>
                <a:xfrm>
                  <a:off x="4544640" y="2908440"/>
                  <a:ext cx="683280" cy="1097640"/>
                  <a:chOff x="4544640" y="2908440"/>
                  <a:chExt cx="683280" cy="1097640"/>
                </a:xfrm>
              </p:grpSpPr>
              <p:sp>
                <p:nvSpPr>
                  <p:cNvPr id="2199" name=""/>
                  <p:cNvSpPr/>
                  <p:nvPr/>
                </p:nvSpPr>
                <p:spPr>
                  <a:xfrm flipH="1" flipV="1">
                    <a:off x="4544640" y="3073320"/>
                    <a:ext cx="227160" cy="9324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>
                    <a:off x="4772160" y="400608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 flipH="1">
                    <a:off x="4544640" y="2908440"/>
                    <a:ext cx="227160" cy="98784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4772160" y="290844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3" name=""/>
                <p:cNvGrpSpPr/>
                <p:nvPr/>
              </p:nvGrpSpPr>
              <p:grpSpPr>
                <a:xfrm>
                  <a:off x="5197680" y="2908440"/>
                  <a:ext cx="682920" cy="1097280"/>
                  <a:chOff x="5197680" y="2908440"/>
                  <a:chExt cx="682920" cy="1097280"/>
                </a:xfrm>
              </p:grpSpPr>
              <p:sp>
                <p:nvSpPr>
                  <p:cNvPr id="2204" name=""/>
                  <p:cNvSpPr/>
                  <p:nvPr/>
                </p:nvSpPr>
                <p:spPr>
                  <a:xfrm flipV="1">
                    <a:off x="5197680" y="3896280"/>
                    <a:ext cx="227160" cy="1094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5424840" y="389628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5197680" y="2908440"/>
                    <a:ext cx="227160" cy="16488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5424840" y="307332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8" name=""/>
              <p:cNvGrpSpPr/>
              <p:nvPr/>
            </p:nvGrpSpPr>
            <p:grpSpPr>
              <a:xfrm>
                <a:off x="606240" y="2934360"/>
                <a:ext cx="1335960" cy="1097640"/>
                <a:chOff x="606240" y="2934360"/>
                <a:chExt cx="1335960" cy="1097640"/>
              </a:xfrm>
            </p:grpSpPr>
            <p:grpSp>
              <p:nvGrpSpPr>
                <p:cNvPr id="2209" name=""/>
                <p:cNvGrpSpPr/>
                <p:nvPr/>
              </p:nvGrpSpPr>
              <p:grpSpPr>
                <a:xfrm>
                  <a:off x="606240" y="2934360"/>
                  <a:ext cx="683280" cy="1097640"/>
                  <a:chOff x="606240" y="2934360"/>
                  <a:chExt cx="683280" cy="1097640"/>
                </a:xfrm>
              </p:grpSpPr>
              <p:sp>
                <p:nvSpPr>
                  <p:cNvPr id="2210" name=""/>
                  <p:cNvSpPr/>
                  <p:nvPr/>
                </p:nvSpPr>
                <p:spPr>
                  <a:xfrm flipH="1" flipV="1">
                    <a:off x="606240" y="3099240"/>
                    <a:ext cx="227160" cy="932400"/>
                  </a:xfrm>
                  <a:prstGeom prst="line">
                    <a:avLst/>
                  </a:prstGeom>
                  <a:ln w="381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833760" y="403200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 flipH="1">
                    <a:off x="606240" y="2934360"/>
                    <a:ext cx="227160" cy="9882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833760" y="293436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4" name=""/>
                <p:cNvGrpSpPr/>
                <p:nvPr/>
              </p:nvGrpSpPr>
              <p:grpSpPr>
                <a:xfrm>
                  <a:off x="1259280" y="2934360"/>
                  <a:ext cx="682920" cy="1096920"/>
                  <a:chOff x="1259280" y="2934360"/>
                  <a:chExt cx="682920" cy="1096920"/>
                </a:xfrm>
              </p:grpSpPr>
              <p:sp>
                <p:nvSpPr>
                  <p:cNvPr id="2215" name=""/>
                  <p:cNvSpPr/>
                  <p:nvPr/>
                </p:nvSpPr>
                <p:spPr>
                  <a:xfrm flipV="1">
                    <a:off x="1259280" y="3922200"/>
                    <a:ext cx="227160" cy="10908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1486440" y="392256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1259280" y="2934360"/>
                    <a:ext cx="227160" cy="1648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1486440" y="3099240"/>
                    <a:ext cx="45576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classic IBIS   model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426600" y="1082520"/>
            <a:ext cx="7157520" cy="27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rmaly the rising and falling times of the IBIS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termines  the max. frequency where the model can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ule of thumb : Fmax IBIS model = 1/ ( trise + tfal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g.:    IBIS model with trise 2ns, tfall 2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max = 1/ 4ns = 250M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"/>
          <p:cNvGrpSpPr/>
          <p:nvPr/>
        </p:nvGrpSpPr>
        <p:grpSpPr>
          <a:xfrm>
            <a:off x="4542120" y="4248000"/>
            <a:ext cx="3292560" cy="2008440"/>
            <a:chOff x="4542120" y="4248000"/>
            <a:chExt cx="3292560" cy="2008440"/>
          </a:xfrm>
        </p:grpSpPr>
        <p:grpSp>
          <p:nvGrpSpPr>
            <p:cNvPr id="2222" name=""/>
            <p:cNvGrpSpPr/>
            <p:nvPr/>
          </p:nvGrpSpPr>
          <p:grpSpPr>
            <a:xfrm>
              <a:off x="4542120" y="4594320"/>
              <a:ext cx="2615760" cy="1662120"/>
              <a:chOff x="4542120" y="4594320"/>
              <a:chExt cx="2615760" cy="1662120"/>
            </a:xfrm>
          </p:grpSpPr>
          <p:grpSp>
            <p:nvGrpSpPr>
              <p:cNvPr id="2223" name=""/>
              <p:cNvGrpSpPr/>
              <p:nvPr/>
            </p:nvGrpSpPr>
            <p:grpSpPr>
              <a:xfrm>
                <a:off x="5152680" y="4782960"/>
                <a:ext cx="1653120" cy="839520"/>
                <a:chOff x="5152680" y="4782960"/>
                <a:chExt cx="1653120" cy="839520"/>
              </a:xfrm>
            </p:grpSpPr>
            <p:sp>
              <p:nvSpPr>
                <p:cNvPr id="2224" name=""/>
                <p:cNvSpPr/>
                <p:nvPr/>
              </p:nvSpPr>
              <p:spPr>
                <a:xfrm flipV="1">
                  <a:off x="5152680" y="4787280"/>
                  <a:ext cx="835200" cy="8352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flipH="1" flipV="1">
                  <a:off x="5970600" y="4782960"/>
                  <a:ext cx="835200" cy="835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6" name=""/>
              <p:cNvSpPr/>
              <p:nvPr/>
            </p:nvSpPr>
            <p:spPr>
              <a:xfrm>
                <a:off x="5329440" y="5748120"/>
                <a:ext cx="131148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Trise   Tf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H="1">
                <a:off x="5133600" y="5614920"/>
                <a:ext cx="83196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H="1">
                <a:off x="5972400" y="5616360"/>
                <a:ext cx="83160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119280" y="5816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0" name=""/>
              <p:cNvGrpSpPr/>
              <p:nvPr/>
            </p:nvGrpSpPr>
            <p:grpSpPr>
              <a:xfrm>
                <a:off x="4542120" y="4594320"/>
                <a:ext cx="2615760" cy="1662120"/>
                <a:chOff x="4542120" y="4594320"/>
                <a:chExt cx="2615760" cy="1662120"/>
              </a:xfrm>
            </p:grpSpPr>
            <p:sp>
              <p:nvSpPr>
                <p:cNvPr id="2231" name=""/>
                <p:cNvSpPr/>
                <p:nvPr/>
              </p:nvSpPr>
              <p:spPr>
                <a:xfrm>
                  <a:off x="4542120" y="459432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2" name=""/>
                <p:cNvGrpSpPr/>
                <p:nvPr/>
              </p:nvGrpSpPr>
              <p:grpSpPr>
                <a:xfrm>
                  <a:off x="4980600" y="4698360"/>
                  <a:ext cx="2147400" cy="1139400"/>
                  <a:chOff x="4980600" y="4698360"/>
                  <a:chExt cx="2147400" cy="1139400"/>
                </a:xfrm>
              </p:grpSpPr>
              <p:sp>
                <p:nvSpPr>
                  <p:cNvPr id="2233" name=""/>
                  <p:cNvSpPr/>
                  <p:nvPr/>
                </p:nvSpPr>
                <p:spPr>
                  <a:xfrm>
                    <a:off x="4980600" y="5757120"/>
                    <a:ext cx="2147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 flipV="1">
                    <a:off x="5115240" y="4698360"/>
                    <a:ext cx="0" cy="113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5" name=""/>
                <p:cNvSpPr/>
                <p:nvPr/>
              </p:nvSpPr>
              <p:spPr>
                <a:xfrm>
                  <a:off x="6906960" y="585756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36" name=""/>
            <p:cNvSpPr/>
            <p:nvPr/>
          </p:nvSpPr>
          <p:spPr>
            <a:xfrm>
              <a:off x="5319360" y="4248000"/>
              <a:ext cx="25153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ery simple IBIS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2238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9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2240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2241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2242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8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2249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4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2255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2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2263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2264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7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2268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1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2272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5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2276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9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0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2281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6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9" name=""/>
          <p:cNvGrpSpPr/>
          <p:nvPr/>
        </p:nvGrpSpPr>
        <p:grpSpPr>
          <a:xfrm>
            <a:off x="551160" y="4011480"/>
            <a:ext cx="2615760" cy="2297880"/>
            <a:chOff x="551160" y="4011480"/>
            <a:chExt cx="2615760" cy="2297880"/>
          </a:xfrm>
        </p:grpSpPr>
        <p:grpSp>
          <p:nvGrpSpPr>
            <p:cNvPr id="2290" name=""/>
            <p:cNvGrpSpPr/>
            <p:nvPr/>
          </p:nvGrpSpPr>
          <p:grpSpPr>
            <a:xfrm>
              <a:off x="1108800" y="4514400"/>
              <a:ext cx="837360" cy="719640"/>
              <a:chOff x="1108800" y="4514400"/>
              <a:chExt cx="837360" cy="719640"/>
            </a:xfrm>
          </p:grpSpPr>
          <p:sp>
            <p:nvSpPr>
              <p:cNvPr id="2291" name=""/>
              <p:cNvSpPr/>
              <p:nvPr/>
            </p:nvSpPr>
            <p:spPr>
              <a:xfrm>
                <a:off x="1125360" y="5234040"/>
                <a:ext cx="174960" cy="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739160" y="4514760"/>
                <a:ext cx="174960" cy="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3" name=""/>
              <p:cNvGrpSpPr/>
              <p:nvPr/>
            </p:nvGrpSpPr>
            <p:grpSpPr>
              <a:xfrm>
                <a:off x="1108800" y="4514400"/>
                <a:ext cx="837360" cy="718560"/>
                <a:chOff x="1108800" y="4514400"/>
                <a:chExt cx="837360" cy="718560"/>
              </a:xfrm>
            </p:grpSpPr>
            <p:sp>
              <p:nvSpPr>
                <p:cNvPr id="2294" name=""/>
                <p:cNvSpPr/>
                <p:nvPr/>
              </p:nvSpPr>
              <p:spPr>
                <a:xfrm flipV="1">
                  <a:off x="1108800" y="4514040"/>
                  <a:ext cx="419400" cy="71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864" y="41"/>
                      </a:moveTo>
                      <a:arcTo wR="10800" hR="10800" stAng="-5698349" swAng="56983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864" y="41"/>
                      </a:moveTo>
                      <a:arcTo wR="10800" hR="10800" stAng="-5698349" swAng="5698349"/>
                    </a:path>
                  </a:pathLst>
                </a:custGeom>
                <a:noFill/>
                <a:ln w="381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flipV="1" rot="10800000">
                  <a:off x="1528560" y="4514400"/>
                  <a:ext cx="417600" cy="71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6" name=""/>
            <p:cNvGrpSpPr/>
            <p:nvPr/>
          </p:nvGrpSpPr>
          <p:grpSpPr>
            <a:xfrm>
              <a:off x="1870560" y="4514400"/>
              <a:ext cx="1241280" cy="719640"/>
              <a:chOff x="1870560" y="4514400"/>
              <a:chExt cx="1241280" cy="719640"/>
            </a:xfrm>
          </p:grpSpPr>
          <p:sp>
            <p:nvSpPr>
              <p:cNvPr id="2297" name=""/>
              <p:cNvSpPr/>
              <p:nvPr/>
            </p:nvSpPr>
            <p:spPr>
              <a:xfrm>
                <a:off x="2827800" y="5234040"/>
                <a:ext cx="2592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8" name=""/>
              <p:cNvGrpSpPr/>
              <p:nvPr/>
            </p:nvGrpSpPr>
            <p:grpSpPr>
              <a:xfrm>
                <a:off x="1870560" y="4514400"/>
                <a:ext cx="1241280" cy="718560"/>
                <a:chOff x="1870560" y="4514400"/>
                <a:chExt cx="1241280" cy="718560"/>
              </a:xfrm>
            </p:grpSpPr>
            <p:sp>
              <p:nvSpPr>
                <p:cNvPr id="2299" name=""/>
                <p:cNvSpPr/>
                <p:nvPr/>
              </p:nvSpPr>
              <p:spPr>
                <a:xfrm flipH="1" flipV="1">
                  <a:off x="2489760" y="4514040"/>
                  <a:ext cx="621720" cy="71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864" y="41"/>
                      </a:moveTo>
                      <a:arcTo wR="10800" hR="10800" stAng="-5698349" swAng="56983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864" y="41"/>
                      </a:moveTo>
                      <a:arcTo wR="10800" hR="10800" stAng="-5698349" swAng="5698349"/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H="1" flipV="1" rot="10800000">
                  <a:off x="1870560" y="4514400"/>
                  <a:ext cx="619200" cy="71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1" name=""/>
              <p:cNvSpPr/>
              <p:nvPr/>
            </p:nvSpPr>
            <p:spPr>
              <a:xfrm>
                <a:off x="1919160" y="4514760"/>
                <a:ext cx="2592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551160" y="4540320"/>
              <a:ext cx="2615760" cy="1662120"/>
              <a:chOff x="551160" y="4540320"/>
              <a:chExt cx="2615760" cy="1662120"/>
            </a:xfrm>
          </p:grpSpPr>
          <p:sp>
            <p:nvSpPr>
              <p:cNvPr id="2303" name=""/>
              <p:cNvSpPr/>
              <p:nvPr/>
            </p:nvSpPr>
            <p:spPr>
              <a:xfrm>
                <a:off x="551160" y="4540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4" name=""/>
              <p:cNvGrpSpPr/>
              <p:nvPr/>
            </p:nvGrpSpPr>
            <p:grpSpPr>
              <a:xfrm>
                <a:off x="989640" y="4644360"/>
                <a:ext cx="2147400" cy="1139400"/>
                <a:chOff x="989640" y="4644360"/>
                <a:chExt cx="2147400" cy="1139400"/>
              </a:xfrm>
            </p:grpSpPr>
            <p:sp>
              <p:nvSpPr>
                <p:cNvPr id="2305" name=""/>
                <p:cNvSpPr/>
                <p:nvPr/>
              </p:nvSpPr>
              <p:spPr>
                <a:xfrm>
                  <a:off x="989640" y="5703120"/>
                  <a:ext cx="214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flipV="1">
                  <a:off x="1124280" y="4644360"/>
                  <a:ext cx="0" cy="113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7" name=""/>
              <p:cNvSpPr/>
              <p:nvPr/>
            </p:nvSpPr>
            <p:spPr>
              <a:xfrm>
                <a:off x="2916000" y="580356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8" name=""/>
            <p:cNvGrpSpPr/>
            <p:nvPr/>
          </p:nvGrpSpPr>
          <p:grpSpPr>
            <a:xfrm>
              <a:off x="1122480" y="5810400"/>
              <a:ext cx="1964880" cy="498960"/>
              <a:chOff x="1122480" y="5810400"/>
              <a:chExt cx="1964880" cy="498960"/>
            </a:xfrm>
          </p:grpSpPr>
          <p:sp>
            <p:nvSpPr>
              <p:cNvPr id="2309" name=""/>
              <p:cNvSpPr/>
              <p:nvPr/>
            </p:nvSpPr>
            <p:spPr>
              <a:xfrm>
                <a:off x="1352880" y="5948280"/>
                <a:ext cx="131148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Trise   Tf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1122480" y="5810400"/>
                <a:ext cx="712800" cy="432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H="1">
                <a:off x="1841400" y="5816160"/>
                <a:ext cx="124596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2" name=""/>
            <p:cNvSpPr/>
            <p:nvPr/>
          </p:nvSpPr>
          <p:spPr>
            <a:xfrm>
              <a:off x="1386360" y="4011480"/>
              <a:ext cx="12978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BIS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3" name=""/>
            <p:cNvGrpSpPr/>
            <p:nvPr/>
          </p:nvGrpSpPr>
          <p:grpSpPr>
            <a:xfrm>
              <a:off x="1086840" y="4962240"/>
              <a:ext cx="1240560" cy="719280"/>
              <a:chOff x="1086840" y="4962240"/>
              <a:chExt cx="1240560" cy="719280"/>
            </a:xfrm>
          </p:grpSpPr>
          <p:sp>
            <p:nvSpPr>
              <p:cNvPr id="2314" name=""/>
              <p:cNvSpPr/>
              <p:nvPr/>
            </p:nvSpPr>
            <p:spPr>
              <a:xfrm>
                <a:off x="1111320" y="5681520"/>
                <a:ext cx="259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019600" y="4962600"/>
                <a:ext cx="259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6" name=""/>
              <p:cNvGrpSpPr/>
              <p:nvPr/>
            </p:nvGrpSpPr>
            <p:grpSpPr>
              <a:xfrm>
                <a:off x="1086840" y="4962240"/>
                <a:ext cx="1240560" cy="718560"/>
                <a:chOff x="1086840" y="4962240"/>
                <a:chExt cx="1240560" cy="718560"/>
              </a:xfrm>
            </p:grpSpPr>
            <p:sp>
              <p:nvSpPr>
                <p:cNvPr id="2317" name=""/>
                <p:cNvSpPr/>
                <p:nvPr/>
              </p:nvSpPr>
              <p:spPr>
                <a:xfrm flipV="1">
                  <a:off x="1086840" y="4961880"/>
                  <a:ext cx="621000" cy="71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864" y="41"/>
                      </a:moveTo>
                      <a:arcTo wR="10800" hR="10800" stAng="-5698349" swAng="56983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864" y="41"/>
                      </a:moveTo>
                      <a:arcTo wR="10800" hR="10800" stAng="-5698349" swAng="5698349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flipV="1" rot="10800000">
                  <a:off x="1708200" y="4962240"/>
                  <a:ext cx="619200" cy="71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9" name=""/>
            <p:cNvGrpSpPr/>
            <p:nvPr/>
          </p:nvGrpSpPr>
          <p:grpSpPr>
            <a:xfrm>
              <a:off x="2236680" y="4962240"/>
              <a:ext cx="853200" cy="719280"/>
              <a:chOff x="2236680" y="4962240"/>
              <a:chExt cx="853200" cy="719280"/>
            </a:xfrm>
          </p:grpSpPr>
          <p:sp>
            <p:nvSpPr>
              <p:cNvPr id="2320" name=""/>
              <p:cNvSpPr/>
              <p:nvPr/>
            </p:nvSpPr>
            <p:spPr>
              <a:xfrm>
                <a:off x="2894760" y="5681520"/>
                <a:ext cx="178200" cy="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1" name=""/>
              <p:cNvGrpSpPr/>
              <p:nvPr/>
            </p:nvGrpSpPr>
            <p:grpSpPr>
              <a:xfrm>
                <a:off x="2236680" y="4962240"/>
                <a:ext cx="853200" cy="718560"/>
                <a:chOff x="2236680" y="4962240"/>
                <a:chExt cx="853200" cy="718560"/>
              </a:xfrm>
            </p:grpSpPr>
            <p:sp>
              <p:nvSpPr>
                <p:cNvPr id="2322" name=""/>
                <p:cNvSpPr/>
                <p:nvPr/>
              </p:nvSpPr>
              <p:spPr>
                <a:xfrm flipH="1" flipV="1">
                  <a:off x="2662920" y="4961880"/>
                  <a:ext cx="426960" cy="71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864" y="41"/>
                      </a:moveTo>
                      <a:arcTo wR="10800" hR="10800" stAng="-5698349" swAng="56983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864" y="41"/>
                      </a:moveTo>
                      <a:arcTo wR="10800" hR="10800" stAng="-5698349" swAng="5698349"/>
                    </a:path>
                  </a:pathLst>
                </a:custGeom>
                <a:noFill/>
                <a:ln w="381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flipH="1" flipV="1" rot="10800000">
                  <a:off x="2236680" y="4962240"/>
                  <a:ext cx="425520" cy="71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4" name=""/>
              <p:cNvSpPr/>
              <p:nvPr/>
            </p:nvSpPr>
            <p:spPr>
              <a:xfrm>
                <a:off x="2270160" y="4962600"/>
                <a:ext cx="178200" cy="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river schedule for Multi-Gigabit application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288720" y="835200"/>
            <a:ext cx="63392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ld rule of thumb : Fmax IBIS model = 1/ ( trise + tfal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is rule is no longer vali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7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2328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9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2330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2331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2332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8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2339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4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2345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52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2353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2354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7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2358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1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2362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5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2366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69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0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2371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6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9" name=""/>
          <p:cNvSpPr/>
          <p:nvPr/>
        </p:nvSpPr>
        <p:spPr>
          <a:xfrm>
            <a:off x="662040" y="4389480"/>
            <a:ext cx="37364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signal needs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long enoug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bove high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Long enoug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elow low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 this for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0" name=""/>
          <p:cNvGrpSpPr/>
          <p:nvPr/>
        </p:nvGrpSpPr>
        <p:grpSpPr>
          <a:xfrm>
            <a:off x="4692600" y="3967200"/>
            <a:ext cx="4182840" cy="2349360"/>
            <a:chOff x="4692600" y="3967200"/>
            <a:chExt cx="4182840" cy="2349360"/>
          </a:xfrm>
        </p:grpSpPr>
        <p:sp>
          <p:nvSpPr>
            <p:cNvPr id="2381" name=""/>
            <p:cNvSpPr/>
            <p:nvPr/>
          </p:nvSpPr>
          <p:spPr>
            <a:xfrm>
              <a:off x="5981760" y="4599000"/>
              <a:ext cx="1779480" cy="1084320"/>
            </a:xfrm>
            <a:prstGeom prst="flowChartPreparation">
              <a:avLst/>
            </a:prstGeom>
            <a:solidFill>
              <a:srgbClr val="ff9900"/>
            </a:solidFill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2" name=""/>
            <p:cNvGrpSpPr/>
            <p:nvPr/>
          </p:nvGrpSpPr>
          <p:grpSpPr>
            <a:xfrm>
              <a:off x="5529240" y="4332240"/>
              <a:ext cx="2700720" cy="1365480"/>
              <a:chOff x="5529240" y="4332240"/>
              <a:chExt cx="2700720" cy="1365480"/>
            </a:xfrm>
          </p:grpSpPr>
          <p:sp>
            <p:nvSpPr>
              <p:cNvPr id="2383" name=""/>
              <p:cNvSpPr/>
              <p:nvPr/>
            </p:nvSpPr>
            <p:spPr>
              <a:xfrm flipV="1">
                <a:off x="5529240" y="4346280"/>
                <a:ext cx="617400" cy="133668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84" name=""/>
              <p:cNvCxnSpPr>
                <a:stCxn id="2383" idx="0"/>
              </p:cNvCxnSpPr>
              <p:nvPr/>
            </p:nvCxnSpPr>
            <p:spPr>
              <a:xfrm>
                <a:off x="6144840" y="4332240"/>
                <a:ext cx="1521720" cy="16560"/>
              </a:xfrm>
              <a:prstGeom prst="straightConnector1">
                <a:avLst/>
              </a:prstGeom>
              <a:ln w="19080">
                <a:solidFill>
                  <a:srgbClr val="660066"/>
                </a:solidFill>
                <a:miter/>
              </a:ln>
            </p:spPr>
          </p:cxnSp>
          <p:cxnSp>
            <p:nvCxnSpPr>
              <p:cNvPr id="2385" name=""/>
              <p:cNvCxnSpPr/>
              <p:nvPr/>
            </p:nvCxnSpPr>
            <p:spPr>
              <a:xfrm>
                <a:off x="7694640" y="4332240"/>
                <a:ext cx="535680" cy="1365840"/>
              </a:xfrm>
              <a:prstGeom prst="straightConnector1">
                <a:avLst/>
              </a:prstGeom>
              <a:ln w="19080">
                <a:solidFill>
                  <a:srgbClr val="660066"/>
                </a:solidFill>
                <a:miter/>
              </a:ln>
            </p:spPr>
          </p:cxnSp>
        </p:grpSp>
        <p:grpSp>
          <p:nvGrpSpPr>
            <p:cNvPr id="2386" name=""/>
            <p:cNvGrpSpPr/>
            <p:nvPr/>
          </p:nvGrpSpPr>
          <p:grpSpPr>
            <a:xfrm>
              <a:off x="5521320" y="4470120"/>
              <a:ext cx="2700720" cy="1365480"/>
              <a:chOff x="5521320" y="4470120"/>
              <a:chExt cx="2700720" cy="1365480"/>
            </a:xfrm>
          </p:grpSpPr>
          <p:sp>
            <p:nvSpPr>
              <p:cNvPr id="2387" name=""/>
              <p:cNvSpPr/>
              <p:nvPr/>
            </p:nvSpPr>
            <p:spPr>
              <a:xfrm>
                <a:off x="5521320" y="4484880"/>
                <a:ext cx="617400" cy="133668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88" name=""/>
              <p:cNvCxnSpPr>
                <a:stCxn id="2387" idx="0"/>
              </p:cNvCxnSpPr>
              <p:nvPr/>
            </p:nvCxnSpPr>
            <p:spPr>
              <a:xfrm flipV="1">
                <a:off x="6136920" y="5819400"/>
                <a:ext cx="1521720" cy="16560"/>
              </a:xfrm>
              <a:prstGeom prst="straightConnector1">
                <a:avLst/>
              </a:prstGeom>
              <a:ln w="19080">
                <a:solidFill>
                  <a:srgbClr val="660066"/>
                </a:solidFill>
                <a:miter/>
              </a:ln>
            </p:spPr>
          </p:cxnSp>
          <p:cxnSp>
            <p:nvCxnSpPr>
              <p:cNvPr id="2389" name=""/>
              <p:cNvCxnSpPr/>
              <p:nvPr/>
            </p:nvCxnSpPr>
            <p:spPr>
              <a:xfrm flipV="1">
                <a:off x="7686720" y="4470120"/>
                <a:ext cx="535680" cy="1365840"/>
              </a:xfrm>
              <a:prstGeom prst="straightConnector1">
                <a:avLst/>
              </a:prstGeom>
              <a:ln w="19080">
                <a:solidFill>
                  <a:srgbClr val="660066"/>
                </a:solidFill>
                <a:miter/>
              </a:ln>
            </p:spPr>
          </p:cxnSp>
        </p:grpSp>
        <p:grpSp>
          <p:nvGrpSpPr>
            <p:cNvPr id="2390" name=""/>
            <p:cNvGrpSpPr/>
            <p:nvPr/>
          </p:nvGrpSpPr>
          <p:grpSpPr>
            <a:xfrm>
              <a:off x="5442120" y="4259160"/>
              <a:ext cx="2699640" cy="1365480"/>
              <a:chOff x="5442120" y="4259160"/>
              <a:chExt cx="2699640" cy="1365480"/>
            </a:xfrm>
          </p:grpSpPr>
          <p:sp>
            <p:nvSpPr>
              <p:cNvPr id="2391" name=""/>
              <p:cNvSpPr/>
              <p:nvPr/>
            </p:nvSpPr>
            <p:spPr>
              <a:xfrm flipV="1">
                <a:off x="5442120" y="4273200"/>
                <a:ext cx="617040" cy="133668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92" name=""/>
              <p:cNvCxnSpPr>
                <a:stCxn id="2391" idx="0"/>
              </p:cNvCxnSpPr>
              <p:nvPr/>
            </p:nvCxnSpPr>
            <p:spPr>
              <a:xfrm>
                <a:off x="6057720" y="4259160"/>
                <a:ext cx="1521360" cy="16560"/>
              </a:xfrm>
              <a:prstGeom prst="straightConnector1">
                <a:avLst/>
              </a:prstGeom>
              <a:ln w="19080">
                <a:solidFill>
                  <a:srgbClr val="660066"/>
                </a:solidFill>
                <a:miter/>
              </a:ln>
            </p:spPr>
          </p:cxnSp>
          <p:cxnSp>
            <p:nvCxnSpPr>
              <p:cNvPr id="2393" name=""/>
              <p:cNvCxnSpPr/>
              <p:nvPr/>
            </p:nvCxnSpPr>
            <p:spPr>
              <a:xfrm>
                <a:off x="7606800" y="4259160"/>
                <a:ext cx="535320" cy="1365840"/>
              </a:xfrm>
              <a:prstGeom prst="straightConnector1">
                <a:avLst/>
              </a:prstGeom>
              <a:ln w="19080">
                <a:solidFill>
                  <a:srgbClr val="660066"/>
                </a:solidFill>
                <a:miter/>
              </a:ln>
            </p:spPr>
          </p:cxnSp>
        </p:grpSp>
        <p:grpSp>
          <p:nvGrpSpPr>
            <p:cNvPr id="2394" name=""/>
            <p:cNvGrpSpPr/>
            <p:nvPr/>
          </p:nvGrpSpPr>
          <p:grpSpPr>
            <a:xfrm>
              <a:off x="5572440" y="4367520"/>
              <a:ext cx="2689560" cy="1538640"/>
              <a:chOff x="5572440" y="4367520"/>
              <a:chExt cx="2689560" cy="1538640"/>
            </a:xfrm>
          </p:grpSpPr>
          <p:sp>
            <p:nvSpPr>
              <p:cNvPr id="2395" name=""/>
              <p:cNvSpPr/>
              <p:nvPr/>
            </p:nvSpPr>
            <p:spPr>
              <a:xfrm flipV="1">
                <a:off x="5572440" y="4381560"/>
                <a:ext cx="729360" cy="127908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96" name=""/>
              <p:cNvCxnSpPr>
                <a:stCxn id="2395" idx="0"/>
              </p:cNvCxnSpPr>
              <p:nvPr/>
            </p:nvCxnSpPr>
            <p:spPr>
              <a:xfrm>
                <a:off x="6301080" y="4367520"/>
                <a:ext cx="1514880" cy="146160"/>
              </a:xfrm>
              <a:prstGeom prst="straightConnector1">
                <a:avLst/>
              </a:prstGeom>
              <a:ln w="19080">
                <a:solidFill>
                  <a:srgbClr val="660066"/>
                </a:solidFill>
                <a:miter/>
              </a:ln>
            </p:spPr>
          </p:cxnSp>
          <p:cxnSp>
            <p:nvCxnSpPr>
              <p:cNvPr id="2397" name=""/>
              <p:cNvCxnSpPr/>
              <p:nvPr/>
            </p:nvCxnSpPr>
            <p:spPr>
              <a:xfrm>
                <a:off x="7845480" y="4499640"/>
                <a:ext cx="416880" cy="1406880"/>
              </a:xfrm>
              <a:prstGeom prst="straightConnector1">
                <a:avLst/>
              </a:prstGeom>
              <a:ln w="19080">
                <a:solidFill>
                  <a:srgbClr val="660066"/>
                </a:solidFill>
                <a:miter/>
              </a:ln>
            </p:spPr>
          </p:cxnSp>
        </p:grpSp>
        <p:grpSp>
          <p:nvGrpSpPr>
            <p:cNvPr id="2398" name=""/>
            <p:cNvGrpSpPr/>
            <p:nvPr/>
          </p:nvGrpSpPr>
          <p:grpSpPr>
            <a:xfrm>
              <a:off x="5599800" y="4456800"/>
              <a:ext cx="2677320" cy="1618560"/>
              <a:chOff x="5599800" y="4456800"/>
              <a:chExt cx="2677320" cy="1618560"/>
            </a:xfrm>
          </p:grpSpPr>
          <p:sp>
            <p:nvSpPr>
              <p:cNvPr id="2399" name=""/>
              <p:cNvSpPr/>
              <p:nvPr/>
            </p:nvSpPr>
            <p:spPr>
              <a:xfrm>
                <a:off x="5599800" y="4813200"/>
                <a:ext cx="781560" cy="124812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00" name=""/>
              <p:cNvCxnSpPr>
                <a:stCxn id="2399" idx="0"/>
              </p:cNvCxnSpPr>
              <p:nvPr/>
            </p:nvCxnSpPr>
            <p:spPr>
              <a:xfrm flipV="1">
                <a:off x="6381360" y="5866560"/>
                <a:ext cx="1507680" cy="209160"/>
              </a:xfrm>
              <a:prstGeom prst="straightConnector1">
                <a:avLst/>
              </a:prstGeom>
              <a:ln w="19080">
                <a:solidFill>
                  <a:srgbClr val="660066"/>
                </a:solidFill>
                <a:miter/>
              </a:ln>
            </p:spPr>
          </p:cxnSp>
          <p:cxnSp>
            <p:nvCxnSpPr>
              <p:cNvPr id="2401" name=""/>
              <p:cNvCxnSpPr/>
              <p:nvPr/>
            </p:nvCxnSpPr>
            <p:spPr>
              <a:xfrm flipV="1">
                <a:off x="7918920" y="4456800"/>
                <a:ext cx="358560" cy="1422720"/>
              </a:xfrm>
              <a:prstGeom prst="straightConnector1">
                <a:avLst/>
              </a:prstGeom>
              <a:ln w="19080">
                <a:solidFill>
                  <a:srgbClr val="660066"/>
                </a:solidFill>
                <a:miter/>
              </a:ln>
            </p:spPr>
          </p:cxnSp>
        </p:grpSp>
        <p:grpSp>
          <p:nvGrpSpPr>
            <p:cNvPr id="2402" name=""/>
            <p:cNvGrpSpPr/>
            <p:nvPr/>
          </p:nvGrpSpPr>
          <p:grpSpPr>
            <a:xfrm>
              <a:off x="5573880" y="4522320"/>
              <a:ext cx="2699640" cy="1365480"/>
              <a:chOff x="5573880" y="4522320"/>
              <a:chExt cx="2699640" cy="1365480"/>
            </a:xfrm>
          </p:grpSpPr>
          <p:sp>
            <p:nvSpPr>
              <p:cNvPr id="2403" name=""/>
              <p:cNvSpPr/>
              <p:nvPr/>
            </p:nvSpPr>
            <p:spPr>
              <a:xfrm>
                <a:off x="5573880" y="4537080"/>
                <a:ext cx="617040" cy="133668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04" name=""/>
              <p:cNvCxnSpPr>
                <a:stCxn id="2403" idx="0"/>
              </p:cNvCxnSpPr>
              <p:nvPr/>
            </p:nvCxnSpPr>
            <p:spPr>
              <a:xfrm flipV="1">
                <a:off x="6189480" y="5871600"/>
                <a:ext cx="1521360" cy="16560"/>
              </a:xfrm>
              <a:prstGeom prst="straightConnector1">
                <a:avLst/>
              </a:prstGeom>
              <a:ln w="19080">
                <a:solidFill>
                  <a:srgbClr val="660066"/>
                </a:solidFill>
                <a:miter/>
              </a:ln>
            </p:spPr>
          </p:cxnSp>
          <p:cxnSp>
            <p:nvCxnSpPr>
              <p:cNvPr id="2405" name=""/>
              <p:cNvCxnSpPr/>
              <p:nvPr/>
            </p:nvCxnSpPr>
            <p:spPr>
              <a:xfrm flipV="1">
                <a:off x="7738560" y="4522320"/>
                <a:ext cx="535320" cy="1365840"/>
              </a:xfrm>
              <a:prstGeom prst="straightConnector1">
                <a:avLst/>
              </a:prstGeom>
              <a:ln w="19080">
                <a:solidFill>
                  <a:srgbClr val="660066"/>
                </a:solidFill>
                <a:miter/>
              </a:ln>
            </p:spPr>
          </p:cxnSp>
        </p:grpSp>
        <p:sp>
          <p:nvSpPr>
            <p:cNvPr id="2406" name=""/>
            <p:cNvSpPr/>
            <p:nvPr/>
          </p:nvSpPr>
          <p:spPr>
            <a:xfrm>
              <a:off x="5148360" y="6189840"/>
              <a:ext cx="36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5148360" y="3967200"/>
              <a:ext cx="0" cy="23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692600" y="4052880"/>
              <a:ext cx="3330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618400" y="5686560"/>
              <a:ext cx="2570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078600" y="4640400"/>
              <a:ext cx="1630440" cy="1012680"/>
            </a:xfrm>
            <a:custGeom>
              <a:avLst/>
              <a:gdLst>
                <a:gd name="textAreaLeft" fmla="*/ 0 w 1630440"/>
                <a:gd name="textAreaRight" fmla="*/ 1630800 w 1630440"/>
                <a:gd name="textAreaTop" fmla="*/ 0 h 1012680"/>
                <a:gd name="textAreaBottom" fmla="*/ 1013040 h 101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1" name=""/>
          <p:cNvGrpSpPr/>
          <p:nvPr/>
        </p:nvGrpSpPr>
        <p:grpSpPr>
          <a:xfrm>
            <a:off x="324000" y="1828800"/>
            <a:ext cx="6864120" cy="2098800"/>
            <a:chOff x="324000" y="1828800"/>
            <a:chExt cx="6864120" cy="2098800"/>
          </a:xfrm>
        </p:grpSpPr>
        <p:sp>
          <p:nvSpPr>
            <p:cNvPr id="2412" name=""/>
            <p:cNvSpPr/>
            <p:nvPr/>
          </p:nvSpPr>
          <p:spPr>
            <a:xfrm>
              <a:off x="324000" y="1828800"/>
              <a:ext cx="6864120" cy="2098800"/>
            </a:xfrm>
            <a:prstGeom prst="bracketPair">
              <a:avLst>
                <a:gd name="adj" fmla="val 17129"/>
              </a:avLst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3" name=""/>
            <p:cNvGrpSpPr/>
            <p:nvPr/>
          </p:nvGrpSpPr>
          <p:grpSpPr>
            <a:xfrm>
              <a:off x="363600" y="2239920"/>
              <a:ext cx="2615760" cy="1662120"/>
              <a:chOff x="363600" y="2239920"/>
              <a:chExt cx="2615760" cy="1662120"/>
            </a:xfrm>
          </p:grpSpPr>
          <p:grpSp>
            <p:nvGrpSpPr>
              <p:cNvPr id="2414" name=""/>
              <p:cNvGrpSpPr/>
              <p:nvPr/>
            </p:nvGrpSpPr>
            <p:grpSpPr>
              <a:xfrm>
                <a:off x="974160" y="2431800"/>
                <a:ext cx="1653120" cy="839880"/>
                <a:chOff x="974160" y="2431800"/>
                <a:chExt cx="1653120" cy="839880"/>
              </a:xfrm>
            </p:grpSpPr>
            <p:sp>
              <p:nvSpPr>
                <p:cNvPr id="2415" name=""/>
                <p:cNvSpPr/>
                <p:nvPr/>
              </p:nvSpPr>
              <p:spPr>
                <a:xfrm flipV="1">
                  <a:off x="974160" y="2436480"/>
                  <a:ext cx="835200" cy="8352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flipH="1" flipV="1">
                  <a:off x="1792080" y="2431800"/>
                  <a:ext cx="835200" cy="835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7" name=""/>
              <p:cNvSpPr/>
              <p:nvPr/>
            </p:nvSpPr>
            <p:spPr>
              <a:xfrm>
                <a:off x="1150920" y="3396960"/>
                <a:ext cx="131148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Trise   Tf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H="1">
                <a:off x="955080" y="3263760"/>
                <a:ext cx="83196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H="1">
                <a:off x="1793880" y="3265200"/>
                <a:ext cx="83160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941120" y="3462120"/>
                <a:ext cx="3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1" name=""/>
              <p:cNvGrpSpPr/>
              <p:nvPr/>
            </p:nvGrpSpPr>
            <p:grpSpPr>
              <a:xfrm>
                <a:off x="363600" y="2239920"/>
                <a:ext cx="2615760" cy="1662120"/>
                <a:chOff x="363600" y="2239920"/>
                <a:chExt cx="2615760" cy="1662120"/>
              </a:xfrm>
            </p:grpSpPr>
            <p:sp>
              <p:nvSpPr>
                <p:cNvPr id="2422" name=""/>
                <p:cNvSpPr/>
                <p:nvPr/>
              </p:nvSpPr>
              <p:spPr>
                <a:xfrm>
                  <a:off x="363600" y="2239920"/>
                  <a:ext cx="349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3" name=""/>
                <p:cNvGrpSpPr/>
                <p:nvPr/>
              </p:nvGrpSpPr>
              <p:grpSpPr>
                <a:xfrm>
                  <a:off x="802080" y="2347200"/>
                  <a:ext cx="2147400" cy="1139400"/>
                  <a:chOff x="802080" y="2347200"/>
                  <a:chExt cx="2147400" cy="1139400"/>
                </a:xfrm>
              </p:grpSpPr>
              <p:sp>
                <p:nvSpPr>
                  <p:cNvPr id="2424" name=""/>
                  <p:cNvSpPr/>
                  <p:nvPr/>
                </p:nvSpPr>
                <p:spPr>
                  <a:xfrm>
                    <a:off x="802080" y="3405960"/>
                    <a:ext cx="2147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 flipV="1">
                    <a:off x="936720" y="2347200"/>
                    <a:ext cx="0" cy="113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26" name=""/>
                <p:cNvSpPr/>
                <p:nvPr/>
              </p:nvSpPr>
              <p:spPr>
                <a:xfrm>
                  <a:off x="2728440" y="350316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7" name=""/>
            <p:cNvSpPr/>
            <p:nvPr/>
          </p:nvSpPr>
          <p:spPr>
            <a:xfrm>
              <a:off x="1140840" y="1897200"/>
              <a:ext cx="25153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ery simple IBIS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46200" y="2741760"/>
              <a:ext cx="2236680" cy="0"/>
            </a:xfrm>
            <a:prstGeom prst="line">
              <a:avLst/>
            </a:prstGeom>
            <a:ln w="3816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79320" y="3133800"/>
              <a:ext cx="2237040" cy="0"/>
            </a:xfrm>
            <a:prstGeom prst="line">
              <a:avLst/>
            </a:prstGeom>
            <a:ln w="38160">
              <a:solidFill>
                <a:srgbClr val="66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386960" y="2084400"/>
              <a:ext cx="2690640" cy="14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he signal needed to b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bove high thresh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low low thresh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475080" y="2320920"/>
              <a:ext cx="252360" cy="407880"/>
            </a:xfrm>
            <a:prstGeom prst="upArrow">
              <a:avLst>
                <a:gd name="adj1" fmla="val 50000"/>
                <a:gd name="adj2" fmla="val 4040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3486240" y="3133080"/>
              <a:ext cx="252360" cy="407880"/>
            </a:xfrm>
            <a:prstGeom prst="upArrow">
              <a:avLst>
                <a:gd name="adj1" fmla="val 50000"/>
                <a:gd name="adj2" fmla="val 4040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181080" y="1785960"/>
            <a:ext cx="7331040" cy="2058840"/>
            <a:chOff x="181080" y="1785960"/>
            <a:chExt cx="7331040" cy="2058840"/>
          </a:xfrm>
        </p:grpSpPr>
        <p:sp>
          <p:nvSpPr>
            <p:cNvPr id="2434" name=""/>
            <p:cNvSpPr/>
            <p:nvPr/>
          </p:nvSpPr>
          <p:spPr>
            <a:xfrm>
              <a:off x="210960" y="1785960"/>
              <a:ext cx="7301160" cy="20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V="1">
              <a:off x="181080" y="1790640"/>
              <a:ext cx="7300800" cy="20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48578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438" name="" descr=""/>
          <p:cNvPicPr/>
          <p:nvPr/>
        </p:nvPicPr>
        <p:blipFill>
          <a:blip r:embed="rId2"/>
          <a:stretch/>
        </p:blipFill>
        <p:spPr>
          <a:xfrm>
            <a:off x="8210520" y="5452920"/>
            <a:ext cx="528840" cy="222480"/>
          </a:xfrm>
          <a:prstGeom prst="rect">
            <a:avLst/>
          </a:prstGeom>
          <a:ln w="0">
            <a:noFill/>
          </a:ln>
        </p:spPr>
      </p:pic>
      <p:sp>
        <p:nvSpPr>
          <p:cNvPr id="2439" name=""/>
          <p:cNvSpPr/>
          <p:nvPr/>
        </p:nvSpPr>
        <p:spPr>
          <a:xfrm>
            <a:off x="5568840" y="2104200"/>
            <a:ext cx="1893960" cy="1819800"/>
          </a:xfrm>
          <a:prstGeom prst="horizontalScroll">
            <a:avLst>
              <a:gd name="adj" fmla="val 12500"/>
            </a:avLst>
          </a:prstGeom>
          <a:solidFill>
            <a:srgbClr val="ffcc00">
              <a:alpha val="50000"/>
            </a:srgbClr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onotype Corsiva"/>
              </a:rPr>
              <a:t>driver schedule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Monotype Corsiva"/>
              </a:rPr>
              <a:t>pre-/de-emphasis and frequency/data-rate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5632560" y="3463920"/>
            <a:ext cx="1955520" cy="811080"/>
            <a:chOff x="5632560" y="3463920"/>
            <a:chExt cx="1955520" cy="811080"/>
          </a:xfrm>
        </p:grpSpPr>
        <p:grpSp>
          <p:nvGrpSpPr>
            <p:cNvPr id="2441" name=""/>
            <p:cNvGrpSpPr/>
            <p:nvPr/>
          </p:nvGrpSpPr>
          <p:grpSpPr>
            <a:xfrm>
              <a:off x="5632560" y="3760560"/>
              <a:ext cx="1955520" cy="514440"/>
              <a:chOff x="5632560" y="3760560"/>
              <a:chExt cx="1955520" cy="514440"/>
            </a:xfrm>
          </p:grpSpPr>
          <p:grpSp>
            <p:nvGrpSpPr>
              <p:cNvPr id="2442" name=""/>
              <p:cNvGrpSpPr/>
              <p:nvPr/>
            </p:nvGrpSpPr>
            <p:grpSpPr>
              <a:xfrm>
                <a:off x="5632560" y="4147200"/>
                <a:ext cx="1955520" cy="127800"/>
                <a:chOff x="5632560" y="4147200"/>
                <a:chExt cx="1955520" cy="127800"/>
              </a:xfrm>
            </p:grpSpPr>
            <p:sp>
              <p:nvSpPr>
                <p:cNvPr id="2443" name=""/>
                <p:cNvSpPr/>
                <p:nvPr/>
              </p:nvSpPr>
              <p:spPr>
                <a:xfrm>
                  <a:off x="5958720" y="41472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6611040" y="41472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6937560" y="41472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7263720" y="41472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6284880" y="41472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5632560" y="41472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9" name=""/>
              <p:cNvGrpSpPr/>
              <p:nvPr/>
            </p:nvGrpSpPr>
            <p:grpSpPr>
              <a:xfrm>
                <a:off x="5796360" y="4018320"/>
                <a:ext cx="1629360" cy="127800"/>
                <a:chOff x="5796360" y="4018320"/>
                <a:chExt cx="1629360" cy="127800"/>
              </a:xfrm>
            </p:grpSpPr>
            <p:sp>
              <p:nvSpPr>
                <p:cNvPr id="2450" name=""/>
                <p:cNvSpPr/>
                <p:nvPr/>
              </p:nvSpPr>
              <p:spPr>
                <a:xfrm>
                  <a:off x="5796360" y="40183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6448680" y="40183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6775200" y="40183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7101360" y="40183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6122520" y="40183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5" name=""/>
              <p:cNvGrpSpPr/>
              <p:nvPr/>
            </p:nvGrpSpPr>
            <p:grpSpPr>
              <a:xfrm>
                <a:off x="5959440" y="3760560"/>
                <a:ext cx="1303200" cy="256680"/>
                <a:chOff x="5959440" y="3760560"/>
                <a:chExt cx="1303200" cy="256680"/>
              </a:xfrm>
            </p:grpSpPr>
            <p:sp>
              <p:nvSpPr>
                <p:cNvPr id="2456" name=""/>
                <p:cNvSpPr/>
                <p:nvPr/>
              </p:nvSpPr>
              <p:spPr>
                <a:xfrm>
                  <a:off x="6285600" y="38894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6938280" y="38894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6611760" y="38894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5959440" y="38894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6123240" y="37605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775920" y="37605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449400" y="37605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3" name=""/>
            <p:cNvGrpSpPr/>
            <p:nvPr/>
          </p:nvGrpSpPr>
          <p:grpSpPr>
            <a:xfrm>
              <a:off x="6370920" y="3760560"/>
              <a:ext cx="486360" cy="512640"/>
              <a:chOff x="6370920" y="3760560"/>
              <a:chExt cx="486360" cy="512640"/>
            </a:xfrm>
          </p:grpSpPr>
          <p:grpSp>
            <p:nvGrpSpPr>
              <p:cNvPr id="2464" name=""/>
              <p:cNvGrpSpPr/>
              <p:nvPr/>
            </p:nvGrpSpPr>
            <p:grpSpPr>
              <a:xfrm>
                <a:off x="6370920" y="4147200"/>
                <a:ext cx="486360" cy="126000"/>
                <a:chOff x="6370920" y="4147200"/>
                <a:chExt cx="486360" cy="126000"/>
              </a:xfrm>
            </p:grpSpPr>
            <p:sp>
              <p:nvSpPr>
                <p:cNvPr id="2465" name=""/>
                <p:cNvSpPr/>
                <p:nvPr/>
              </p:nvSpPr>
              <p:spPr>
                <a:xfrm>
                  <a:off x="6391080" y="4188240"/>
                  <a:ext cx="44604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6370920" y="4230720"/>
                  <a:ext cx="48636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6411240" y="4147200"/>
                  <a:ext cx="40536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8" name=""/>
              <p:cNvGrpSpPr/>
              <p:nvPr/>
            </p:nvGrpSpPr>
            <p:grpSpPr>
              <a:xfrm>
                <a:off x="6431400" y="4018320"/>
                <a:ext cx="364680" cy="126000"/>
                <a:chOff x="6431400" y="4018320"/>
                <a:chExt cx="364680" cy="12600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6446520" y="4059360"/>
                  <a:ext cx="33444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6431400" y="4101840"/>
                  <a:ext cx="364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6461640" y="4018320"/>
                  <a:ext cx="30420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6472440" y="3889440"/>
                <a:ext cx="283680" cy="126000"/>
                <a:chOff x="6472440" y="3889440"/>
                <a:chExt cx="283680" cy="126000"/>
              </a:xfrm>
            </p:grpSpPr>
            <p:sp>
              <p:nvSpPr>
                <p:cNvPr id="2473" name=""/>
                <p:cNvSpPr/>
                <p:nvPr/>
              </p:nvSpPr>
              <p:spPr>
                <a:xfrm>
                  <a:off x="6483960" y="3930480"/>
                  <a:ext cx="2602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6472440" y="3972960"/>
                  <a:ext cx="283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6495840" y="3889440"/>
                  <a:ext cx="23652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6" name=""/>
              <p:cNvGrpSpPr/>
              <p:nvPr/>
            </p:nvGrpSpPr>
            <p:grpSpPr>
              <a:xfrm>
                <a:off x="6513120" y="3760560"/>
                <a:ext cx="202680" cy="126000"/>
                <a:chOff x="6513120" y="3760560"/>
                <a:chExt cx="202680" cy="126000"/>
              </a:xfrm>
            </p:grpSpPr>
            <p:sp>
              <p:nvSpPr>
                <p:cNvPr id="2477" name=""/>
                <p:cNvSpPr/>
                <p:nvPr/>
              </p:nvSpPr>
              <p:spPr>
                <a:xfrm>
                  <a:off x="6521400" y="3801600"/>
                  <a:ext cx="18612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6513120" y="3844080"/>
                  <a:ext cx="202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6529680" y="3760560"/>
                  <a:ext cx="16920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0" name=""/>
            <p:cNvSpPr/>
            <p:nvPr/>
          </p:nvSpPr>
          <p:spPr>
            <a:xfrm>
              <a:off x="6205320" y="3605760"/>
              <a:ext cx="810720" cy="1519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1" name=""/>
            <p:cNvGrpSpPr/>
            <p:nvPr/>
          </p:nvGrpSpPr>
          <p:grpSpPr>
            <a:xfrm>
              <a:off x="6317640" y="3663720"/>
              <a:ext cx="587160" cy="91440"/>
              <a:chOff x="6317640" y="3663720"/>
              <a:chExt cx="587160" cy="91440"/>
            </a:xfrm>
          </p:grpSpPr>
          <p:sp>
            <p:nvSpPr>
              <p:cNvPr id="2482" name=""/>
              <p:cNvSpPr/>
              <p:nvPr/>
            </p:nvSpPr>
            <p:spPr>
              <a:xfrm>
                <a:off x="6317640" y="366372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445440" y="3663720"/>
                <a:ext cx="81000" cy="9108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823800" y="366372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695280" y="366372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568560" y="366372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7" name=""/>
            <p:cNvSpPr/>
            <p:nvPr/>
          </p:nvSpPr>
          <p:spPr>
            <a:xfrm>
              <a:off x="6181920" y="3592800"/>
              <a:ext cx="858600" cy="25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V="1">
              <a:off x="6199200" y="3489840"/>
              <a:ext cx="824040" cy="102960"/>
            </a:xfrm>
            <a:custGeom>
              <a:avLst/>
              <a:gdLst>
                <a:gd name="textAreaLeft" fmla="*/ 85680 w 824040"/>
                <a:gd name="textAreaRight" fmla="*/ 738360 w 824040"/>
                <a:gd name="textAreaTop" fmla="*/ 10440 h 102960"/>
                <a:gd name="textAreaBottom" fmla="*/ 92520 h 10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01" y="21600"/>
                  </a:lnTo>
                  <a:lnTo>
                    <a:pt x="899" y="2160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223680" y="3463920"/>
              <a:ext cx="770400" cy="25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0" name=""/>
          <p:cNvGrpSpPr/>
          <p:nvPr/>
        </p:nvGrpSpPr>
        <p:grpSpPr>
          <a:xfrm>
            <a:off x="7337160" y="3143160"/>
            <a:ext cx="1776600" cy="852120"/>
            <a:chOff x="7337160" y="3143160"/>
            <a:chExt cx="1776600" cy="852120"/>
          </a:xfrm>
        </p:grpSpPr>
        <p:sp>
          <p:nvSpPr>
            <p:cNvPr id="2491" name=""/>
            <p:cNvSpPr/>
            <p:nvPr/>
          </p:nvSpPr>
          <p:spPr>
            <a:xfrm>
              <a:off x="7337160" y="3143160"/>
              <a:ext cx="1776600" cy="3992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Pre-/De-empha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2" name=""/>
            <p:cNvGrpSpPr/>
            <p:nvPr/>
          </p:nvGrpSpPr>
          <p:grpSpPr>
            <a:xfrm>
              <a:off x="7573680" y="3489120"/>
              <a:ext cx="1220760" cy="506160"/>
              <a:chOff x="7573680" y="3489120"/>
              <a:chExt cx="1220760" cy="506160"/>
            </a:xfrm>
          </p:grpSpPr>
          <p:grpSp>
            <p:nvGrpSpPr>
              <p:cNvPr id="2493" name=""/>
              <p:cNvGrpSpPr/>
              <p:nvPr/>
            </p:nvGrpSpPr>
            <p:grpSpPr>
              <a:xfrm>
                <a:off x="7573680" y="3674160"/>
                <a:ext cx="1220760" cy="321120"/>
                <a:chOff x="7573680" y="3674160"/>
                <a:chExt cx="1220760" cy="321120"/>
              </a:xfrm>
            </p:grpSpPr>
            <p:grpSp>
              <p:nvGrpSpPr>
                <p:cNvPr id="2494" name=""/>
                <p:cNvGrpSpPr/>
                <p:nvPr/>
              </p:nvGrpSpPr>
              <p:grpSpPr>
                <a:xfrm>
                  <a:off x="7573680" y="3915720"/>
                  <a:ext cx="1220760" cy="79560"/>
                  <a:chOff x="7573680" y="3915720"/>
                  <a:chExt cx="1220760" cy="79560"/>
                </a:xfrm>
              </p:grpSpPr>
              <p:sp>
                <p:nvSpPr>
                  <p:cNvPr id="2495" name=""/>
                  <p:cNvSpPr/>
                  <p:nvPr/>
                </p:nvSpPr>
                <p:spPr>
                  <a:xfrm>
                    <a:off x="7777080" y="39157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>
                    <a:off x="8184600" y="39157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8388360" y="39157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>
                    <a:off x="8592120" y="39157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>
                    <a:off x="7980840" y="39157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7573680" y="39157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1" name=""/>
                <p:cNvGrpSpPr/>
                <p:nvPr/>
              </p:nvGrpSpPr>
              <p:grpSpPr>
                <a:xfrm>
                  <a:off x="7675920" y="3835080"/>
                  <a:ext cx="1017000" cy="79560"/>
                  <a:chOff x="7675920" y="3835080"/>
                  <a:chExt cx="1017000" cy="79560"/>
                </a:xfrm>
              </p:grpSpPr>
              <p:sp>
                <p:nvSpPr>
                  <p:cNvPr id="2502" name=""/>
                  <p:cNvSpPr/>
                  <p:nvPr/>
                </p:nvSpPr>
                <p:spPr>
                  <a:xfrm>
                    <a:off x="7675920" y="38350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>
                    <a:off x="8083080" y="38350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8286840" y="38350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>
                    <a:off x="8490600" y="38350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7879320" y="38350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7" name=""/>
                <p:cNvGrpSpPr/>
                <p:nvPr/>
              </p:nvGrpSpPr>
              <p:grpSpPr>
                <a:xfrm>
                  <a:off x="7777800" y="3674160"/>
                  <a:ext cx="813240" cy="159840"/>
                  <a:chOff x="7777800" y="3674160"/>
                  <a:chExt cx="813240" cy="159840"/>
                </a:xfrm>
              </p:grpSpPr>
              <p:sp>
                <p:nvSpPr>
                  <p:cNvPr id="2508" name=""/>
                  <p:cNvSpPr/>
                  <p:nvPr/>
                </p:nvSpPr>
                <p:spPr>
                  <a:xfrm>
                    <a:off x="7981560" y="37544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>
                    <a:off x="8388720" y="37544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8185320" y="37544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>
                    <a:off x="7777800" y="37544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7880040" y="3674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8287560" y="3674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8083800" y="3674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15" name=""/>
              <p:cNvGrpSpPr/>
              <p:nvPr/>
            </p:nvGrpSpPr>
            <p:grpSpPr>
              <a:xfrm>
                <a:off x="8034120" y="3674160"/>
                <a:ext cx="304200" cy="320400"/>
                <a:chOff x="8034120" y="3674160"/>
                <a:chExt cx="304200" cy="320400"/>
              </a:xfrm>
            </p:grpSpPr>
            <p:grpSp>
              <p:nvGrpSpPr>
                <p:cNvPr id="2516" name=""/>
                <p:cNvGrpSpPr/>
                <p:nvPr/>
              </p:nvGrpSpPr>
              <p:grpSpPr>
                <a:xfrm>
                  <a:off x="8034120" y="3915720"/>
                  <a:ext cx="304200" cy="78840"/>
                  <a:chOff x="8034120" y="3915720"/>
                  <a:chExt cx="304200" cy="78840"/>
                </a:xfrm>
              </p:grpSpPr>
              <p:sp>
                <p:nvSpPr>
                  <p:cNvPr id="2517" name=""/>
                  <p:cNvSpPr/>
                  <p:nvPr/>
                </p:nvSpPr>
                <p:spPr>
                  <a:xfrm>
                    <a:off x="8046720" y="3941640"/>
                    <a:ext cx="2790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"/>
                  <p:cNvSpPr/>
                  <p:nvPr/>
                </p:nvSpPr>
                <p:spPr>
                  <a:xfrm>
                    <a:off x="8034120" y="3967920"/>
                    <a:ext cx="3042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>
                    <a:off x="8059320" y="3915720"/>
                    <a:ext cx="2538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0" name=""/>
                <p:cNvGrpSpPr/>
                <p:nvPr/>
              </p:nvGrpSpPr>
              <p:grpSpPr>
                <a:xfrm>
                  <a:off x="8071920" y="3835080"/>
                  <a:ext cx="228240" cy="78840"/>
                  <a:chOff x="8071920" y="3835080"/>
                  <a:chExt cx="228240" cy="78840"/>
                </a:xfrm>
              </p:grpSpPr>
              <p:sp>
                <p:nvSpPr>
                  <p:cNvPr id="2521" name=""/>
                  <p:cNvSpPr/>
                  <p:nvPr/>
                </p:nvSpPr>
                <p:spPr>
                  <a:xfrm>
                    <a:off x="8081280" y="3861000"/>
                    <a:ext cx="209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>
                    <a:off x="8071920" y="3887280"/>
                    <a:ext cx="2282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8090640" y="3835080"/>
                    <a:ext cx="1904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4" name=""/>
                <p:cNvGrpSpPr/>
                <p:nvPr/>
              </p:nvGrpSpPr>
              <p:grpSpPr>
                <a:xfrm>
                  <a:off x="8097480" y="3754440"/>
                  <a:ext cx="177480" cy="78840"/>
                  <a:chOff x="8097480" y="3754440"/>
                  <a:chExt cx="177480" cy="78840"/>
                </a:xfrm>
              </p:grpSpPr>
              <p:sp>
                <p:nvSpPr>
                  <p:cNvPr id="2525" name=""/>
                  <p:cNvSpPr/>
                  <p:nvPr/>
                </p:nvSpPr>
                <p:spPr>
                  <a:xfrm>
                    <a:off x="8104680" y="3780360"/>
                    <a:ext cx="162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>
                    <a:off x="8097480" y="3806640"/>
                    <a:ext cx="177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8112240" y="3754440"/>
                    <a:ext cx="1479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8" name=""/>
                <p:cNvGrpSpPr/>
                <p:nvPr/>
              </p:nvGrpSpPr>
              <p:grpSpPr>
                <a:xfrm>
                  <a:off x="8123040" y="3674160"/>
                  <a:ext cx="126720" cy="78840"/>
                  <a:chOff x="8123040" y="3674160"/>
                  <a:chExt cx="126720" cy="78840"/>
                </a:xfrm>
              </p:grpSpPr>
              <p:sp>
                <p:nvSpPr>
                  <p:cNvPr id="2529" name=""/>
                  <p:cNvSpPr/>
                  <p:nvPr/>
                </p:nvSpPr>
                <p:spPr>
                  <a:xfrm>
                    <a:off x="8128080" y="3700080"/>
                    <a:ext cx="116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8123040" y="3726360"/>
                    <a:ext cx="126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>
                    <a:off x="8133480" y="3674160"/>
                    <a:ext cx="1058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2" name=""/>
              <p:cNvSpPr/>
              <p:nvPr/>
            </p:nvSpPr>
            <p:spPr>
              <a:xfrm>
                <a:off x="7930800" y="3578040"/>
                <a:ext cx="506880" cy="946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3" name=""/>
              <p:cNvGrpSpPr/>
              <p:nvPr/>
            </p:nvGrpSpPr>
            <p:grpSpPr>
              <a:xfrm>
                <a:off x="8000640" y="3613680"/>
                <a:ext cx="366480" cy="56880"/>
                <a:chOff x="8000640" y="3613680"/>
                <a:chExt cx="366480" cy="56880"/>
              </a:xfrm>
            </p:grpSpPr>
            <p:sp>
              <p:nvSpPr>
                <p:cNvPr id="2534" name=""/>
                <p:cNvSpPr/>
                <p:nvPr/>
              </p:nvSpPr>
              <p:spPr>
                <a:xfrm>
                  <a:off x="8000640" y="361368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8080920" y="361368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8316360" y="361368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8236440" y="361368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8157600" y="3613680"/>
                  <a:ext cx="5004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9" name=""/>
              <p:cNvSpPr/>
              <p:nvPr/>
            </p:nvSpPr>
            <p:spPr>
              <a:xfrm>
                <a:off x="7916760" y="3569040"/>
                <a:ext cx="53604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7926840" y="3504960"/>
                <a:ext cx="514800" cy="64080"/>
              </a:xfrm>
              <a:custGeom>
                <a:avLst/>
                <a:gdLst>
                  <a:gd name="textAreaLeft" fmla="*/ 53640 w 514800"/>
                  <a:gd name="textAreaRight" fmla="*/ 461160 w 51480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942680" y="3489120"/>
                <a:ext cx="48024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2" name=""/>
          <p:cNvGrpSpPr/>
          <p:nvPr/>
        </p:nvGrpSpPr>
        <p:grpSpPr>
          <a:xfrm>
            <a:off x="5711400" y="4657680"/>
            <a:ext cx="2070360" cy="851760"/>
            <a:chOff x="5711400" y="4657680"/>
            <a:chExt cx="2070360" cy="851760"/>
          </a:xfrm>
        </p:grpSpPr>
        <p:sp>
          <p:nvSpPr>
            <p:cNvPr id="2543" name=""/>
            <p:cNvSpPr/>
            <p:nvPr/>
          </p:nvSpPr>
          <p:spPr>
            <a:xfrm>
              <a:off x="5711400" y="4657680"/>
              <a:ext cx="2070360" cy="39960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4" name=""/>
            <p:cNvGrpSpPr/>
            <p:nvPr/>
          </p:nvGrpSpPr>
          <p:grpSpPr>
            <a:xfrm>
              <a:off x="6013080" y="5004000"/>
              <a:ext cx="1422360" cy="505440"/>
              <a:chOff x="6013080" y="5004000"/>
              <a:chExt cx="1422360" cy="505440"/>
            </a:xfrm>
          </p:grpSpPr>
          <p:grpSp>
            <p:nvGrpSpPr>
              <p:cNvPr id="2545" name=""/>
              <p:cNvGrpSpPr/>
              <p:nvPr/>
            </p:nvGrpSpPr>
            <p:grpSpPr>
              <a:xfrm>
                <a:off x="6013080" y="5188680"/>
                <a:ext cx="1422360" cy="320760"/>
                <a:chOff x="6013080" y="5188680"/>
                <a:chExt cx="1422360" cy="320760"/>
              </a:xfrm>
            </p:grpSpPr>
            <p:grpSp>
              <p:nvGrpSpPr>
                <p:cNvPr id="2546" name=""/>
                <p:cNvGrpSpPr/>
                <p:nvPr/>
              </p:nvGrpSpPr>
              <p:grpSpPr>
                <a:xfrm>
                  <a:off x="6013080" y="5429880"/>
                  <a:ext cx="1422360" cy="79560"/>
                  <a:chOff x="6013080" y="5429880"/>
                  <a:chExt cx="1422360" cy="79560"/>
                </a:xfrm>
              </p:grpSpPr>
              <p:sp>
                <p:nvSpPr>
                  <p:cNvPr id="2547" name=""/>
                  <p:cNvSpPr/>
                  <p:nvPr/>
                </p:nvSpPr>
                <p:spPr>
                  <a:xfrm>
                    <a:off x="6250320" y="54298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6724800" y="54298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6962400" y="54298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>
                    <a:off x="7199640" y="54298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6487560" y="54298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6013080" y="54298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3" name=""/>
                <p:cNvGrpSpPr/>
                <p:nvPr/>
              </p:nvGrpSpPr>
              <p:grpSpPr>
                <a:xfrm>
                  <a:off x="6132240" y="5349240"/>
                  <a:ext cx="1185120" cy="79560"/>
                  <a:chOff x="6132240" y="5349240"/>
                  <a:chExt cx="1185120" cy="79560"/>
                </a:xfrm>
              </p:grpSpPr>
              <p:sp>
                <p:nvSpPr>
                  <p:cNvPr id="2554" name=""/>
                  <p:cNvSpPr/>
                  <p:nvPr/>
                </p:nvSpPr>
                <p:spPr>
                  <a:xfrm>
                    <a:off x="6132240" y="534924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6606720" y="534924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6843960" y="534924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7081560" y="534924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6369480" y="534924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9" name=""/>
                <p:cNvGrpSpPr/>
                <p:nvPr/>
              </p:nvGrpSpPr>
              <p:grpSpPr>
                <a:xfrm>
                  <a:off x="6250680" y="5188680"/>
                  <a:ext cx="947880" cy="159840"/>
                  <a:chOff x="6250680" y="5188680"/>
                  <a:chExt cx="947880" cy="159840"/>
                </a:xfrm>
              </p:grpSpPr>
              <p:sp>
                <p:nvSpPr>
                  <p:cNvPr id="2560" name=""/>
                  <p:cNvSpPr/>
                  <p:nvPr/>
                </p:nvSpPr>
                <p:spPr>
                  <a:xfrm>
                    <a:off x="6487920" y="526896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6962760" y="526896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6725160" y="526896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6250680" y="526896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6369840" y="51886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>
                    <a:off x="6844320" y="51886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>
                    <a:off x="6607080" y="51886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67" name=""/>
              <p:cNvGrpSpPr/>
              <p:nvPr/>
            </p:nvGrpSpPr>
            <p:grpSpPr>
              <a:xfrm>
                <a:off x="6549840" y="5188680"/>
                <a:ext cx="354240" cy="320040"/>
                <a:chOff x="6549840" y="5188680"/>
                <a:chExt cx="354240" cy="320040"/>
              </a:xfrm>
            </p:grpSpPr>
            <p:grpSp>
              <p:nvGrpSpPr>
                <p:cNvPr id="2568" name=""/>
                <p:cNvGrpSpPr/>
                <p:nvPr/>
              </p:nvGrpSpPr>
              <p:grpSpPr>
                <a:xfrm>
                  <a:off x="6549840" y="5429880"/>
                  <a:ext cx="354240" cy="78840"/>
                  <a:chOff x="6549840" y="5429880"/>
                  <a:chExt cx="354240" cy="78840"/>
                </a:xfrm>
              </p:grpSpPr>
              <p:sp>
                <p:nvSpPr>
                  <p:cNvPr id="2569" name=""/>
                  <p:cNvSpPr/>
                  <p:nvPr/>
                </p:nvSpPr>
                <p:spPr>
                  <a:xfrm>
                    <a:off x="6564240" y="5455800"/>
                    <a:ext cx="3250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6549840" y="5482080"/>
                    <a:ext cx="3542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6579000" y="5429880"/>
                    <a:ext cx="2952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2" name=""/>
                <p:cNvGrpSpPr/>
                <p:nvPr/>
              </p:nvGrpSpPr>
              <p:grpSpPr>
                <a:xfrm>
                  <a:off x="6594120" y="5349600"/>
                  <a:ext cx="265680" cy="78840"/>
                  <a:chOff x="6594120" y="5349600"/>
                  <a:chExt cx="265680" cy="78840"/>
                </a:xfrm>
              </p:grpSpPr>
              <p:sp>
                <p:nvSpPr>
                  <p:cNvPr id="2573" name=""/>
                  <p:cNvSpPr/>
                  <p:nvPr/>
                </p:nvSpPr>
                <p:spPr>
                  <a:xfrm>
                    <a:off x="6604920" y="5375520"/>
                    <a:ext cx="243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6594120" y="5401800"/>
                    <a:ext cx="2656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>
                    <a:off x="6616080" y="5349600"/>
                    <a:ext cx="2214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6" name=""/>
                <p:cNvGrpSpPr/>
                <p:nvPr/>
              </p:nvGrpSpPr>
              <p:grpSpPr>
                <a:xfrm>
                  <a:off x="6623640" y="5268960"/>
                  <a:ext cx="206640" cy="78480"/>
                  <a:chOff x="6623640" y="5268960"/>
                  <a:chExt cx="206640" cy="78480"/>
                </a:xfrm>
              </p:grpSpPr>
              <p:sp>
                <p:nvSpPr>
                  <p:cNvPr id="2577" name=""/>
                  <p:cNvSpPr/>
                  <p:nvPr/>
                </p:nvSpPr>
                <p:spPr>
                  <a:xfrm>
                    <a:off x="6631920" y="5294520"/>
                    <a:ext cx="189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6623640" y="5320800"/>
                    <a:ext cx="2066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6640560" y="5268960"/>
                    <a:ext cx="1724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0" name=""/>
                <p:cNvGrpSpPr/>
                <p:nvPr/>
              </p:nvGrpSpPr>
              <p:grpSpPr>
                <a:xfrm>
                  <a:off x="6653160" y="5188680"/>
                  <a:ext cx="147600" cy="78840"/>
                  <a:chOff x="6653160" y="5188680"/>
                  <a:chExt cx="147600" cy="78840"/>
                </a:xfrm>
              </p:grpSpPr>
              <p:sp>
                <p:nvSpPr>
                  <p:cNvPr id="2581" name=""/>
                  <p:cNvSpPr/>
                  <p:nvPr/>
                </p:nvSpPr>
                <p:spPr>
                  <a:xfrm>
                    <a:off x="6659280" y="5214600"/>
                    <a:ext cx="135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6653160" y="5240880"/>
                    <a:ext cx="147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6665400" y="5188680"/>
                    <a:ext cx="1231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84" name=""/>
              <p:cNvSpPr/>
              <p:nvPr/>
            </p:nvSpPr>
            <p:spPr>
              <a:xfrm>
                <a:off x="6429960" y="5092560"/>
                <a:ext cx="589320" cy="9432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5" name=""/>
              <p:cNvGrpSpPr/>
              <p:nvPr/>
            </p:nvGrpSpPr>
            <p:grpSpPr>
              <a:xfrm>
                <a:off x="6510960" y="5128560"/>
                <a:ext cx="426960" cy="56880"/>
                <a:chOff x="6510960" y="5128560"/>
                <a:chExt cx="426960" cy="5688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6510960" y="512856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6603840" y="5128560"/>
                  <a:ext cx="5940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879240" y="512856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6785640" y="512856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6693480" y="512856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1" name=""/>
              <p:cNvSpPr/>
              <p:nvPr/>
            </p:nvSpPr>
            <p:spPr>
              <a:xfrm>
                <a:off x="6412320" y="5083920"/>
                <a:ext cx="62424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 flipV="1">
                <a:off x="6425280" y="5019840"/>
                <a:ext cx="599400" cy="64080"/>
              </a:xfrm>
              <a:custGeom>
                <a:avLst/>
                <a:gdLst>
                  <a:gd name="textAreaLeft" fmla="*/ 62280 w 599400"/>
                  <a:gd name="textAreaRight" fmla="*/ 537120 w 59940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443280" y="5004000"/>
                <a:ext cx="55980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4" name=""/>
          <p:cNvSpPr/>
          <p:nvPr/>
        </p:nvSpPr>
        <p:spPr>
          <a:xfrm>
            <a:off x="1095480" y="3124440"/>
            <a:ext cx="2298960" cy="76536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5" name=""/>
          <p:cNvGrpSpPr/>
          <p:nvPr/>
        </p:nvGrpSpPr>
        <p:grpSpPr>
          <a:xfrm>
            <a:off x="0" y="3890880"/>
            <a:ext cx="5736240" cy="2272680"/>
            <a:chOff x="0" y="3890880"/>
            <a:chExt cx="5736240" cy="2272680"/>
          </a:xfrm>
        </p:grpSpPr>
        <p:grpSp>
          <p:nvGrpSpPr>
            <p:cNvPr id="2596" name=""/>
            <p:cNvGrpSpPr/>
            <p:nvPr/>
          </p:nvGrpSpPr>
          <p:grpSpPr>
            <a:xfrm>
              <a:off x="0" y="4721760"/>
              <a:ext cx="5736240" cy="1441800"/>
              <a:chOff x="0" y="4721760"/>
              <a:chExt cx="5736240" cy="1441800"/>
            </a:xfrm>
          </p:grpSpPr>
          <p:grpSp>
            <p:nvGrpSpPr>
              <p:cNvPr id="2597" name=""/>
              <p:cNvGrpSpPr/>
              <p:nvPr/>
            </p:nvGrpSpPr>
            <p:grpSpPr>
              <a:xfrm>
                <a:off x="0" y="5805360"/>
                <a:ext cx="5736240" cy="358200"/>
                <a:chOff x="0" y="5805360"/>
                <a:chExt cx="5736240" cy="358200"/>
              </a:xfrm>
            </p:grpSpPr>
            <p:sp>
              <p:nvSpPr>
                <p:cNvPr id="2598" name=""/>
                <p:cNvSpPr/>
                <p:nvPr/>
              </p:nvSpPr>
              <p:spPr>
                <a:xfrm>
                  <a:off x="956880" y="5805360"/>
                  <a:ext cx="951480" cy="358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2870640" y="5805360"/>
                  <a:ext cx="951480" cy="358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3827880" y="5805360"/>
                  <a:ext cx="951480" cy="358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4784760" y="5805360"/>
                  <a:ext cx="951480" cy="358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1913760" y="5805360"/>
                  <a:ext cx="951480" cy="358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0" y="5805360"/>
                  <a:ext cx="951480" cy="358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4" name=""/>
              <p:cNvGrpSpPr/>
              <p:nvPr/>
            </p:nvGrpSpPr>
            <p:grpSpPr>
              <a:xfrm>
                <a:off x="480600" y="5443920"/>
                <a:ext cx="4779000" cy="358200"/>
                <a:chOff x="480600" y="5443920"/>
                <a:chExt cx="4779000" cy="358200"/>
              </a:xfrm>
            </p:grpSpPr>
            <p:sp>
              <p:nvSpPr>
                <p:cNvPr id="2605" name=""/>
                <p:cNvSpPr/>
                <p:nvPr/>
              </p:nvSpPr>
              <p:spPr>
                <a:xfrm>
                  <a:off x="480600" y="5443920"/>
                  <a:ext cx="951480" cy="358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2394360" y="5443920"/>
                  <a:ext cx="951480" cy="358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3351240" y="5443920"/>
                  <a:ext cx="951480" cy="358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4308120" y="5443920"/>
                  <a:ext cx="951480" cy="358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1437120" y="5443920"/>
                  <a:ext cx="951480" cy="358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0" name=""/>
              <p:cNvGrpSpPr/>
              <p:nvPr/>
            </p:nvGrpSpPr>
            <p:grpSpPr>
              <a:xfrm>
                <a:off x="959040" y="4721760"/>
                <a:ext cx="3822120" cy="718920"/>
                <a:chOff x="959040" y="4721760"/>
                <a:chExt cx="3822120" cy="718920"/>
              </a:xfrm>
            </p:grpSpPr>
            <p:sp>
              <p:nvSpPr>
                <p:cNvPr id="2611" name=""/>
                <p:cNvSpPr/>
                <p:nvPr/>
              </p:nvSpPr>
              <p:spPr>
                <a:xfrm>
                  <a:off x="1915920" y="5082840"/>
                  <a:ext cx="951480" cy="3578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3829680" y="5082840"/>
                  <a:ext cx="951480" cy="3578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2872800" y="5082840"/>
                  <a:ext cx="951480" cy="3578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959040" y="5082840"/>
                  <a:ext cx="951480" cy="3578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1439640" y="4721760"/>
                  <a:ext cx="951480" cy="3578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3353400" y="4721760"/>
                  <a:ext cx="951480" cy="3578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2396520" y="4721760"/>
                  <a:ext cx="951480" cy="3578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8" name=""/>
            <p:cNvGrpSpPr/>
            <p:nvPr/>
          </p:nvGrpSpPr>
          <p:grpSpPr>
            <a:xfrm>
              <a:off x="2165040" y="4721760"/>
              <a:ext cx="1428120" cy="1437480"/>
              <a:chOff x="2165040" y="4721760"/>
              <a:chExt cx="1428120" cy="1437480"/>
            </a:xfrm>
          </p:grpSpPr>
          <p:grpSp>
            <p:nvGrpSpPr>
              <p:cNvPr id="2619" name=""/>
              <p:cNvGrpSpPr/>
              <p:nvPr/>
            </p:nvGrpSpPr>
            <p:grpSpPr>
              <a:xfrm>
                <a:off x="2165040" y="5805720"/>
                <a:ext cx="1428120" cy="353520"/>
                <a:chOff x="2165040" y="5805720"/>
                <a:chExt cx="1428120" cy="353520"/>
              </a:xfrm>
            </p:grpSpPr>
            <p:sp>
              <p:nvSpPr>
                <p:cNvPr id="2620" name=""/>
                <p:cNvSpPr/>
                <p:nvPr/>
              </p:nvSpPr>
              <p:spPr>
                <a:xfrm>
                  <a:off x="2224080" y="5921640"/>
                  <a:ext cx="130932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2165040" y="6039720"/>
                  <a:ext cx="142812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2283480" y="5805720"/>
                  <a:ext cx="119016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3" name=""/>
              <p:cNvGrpSpPr/>
              <p:nvPr/>
            </p:nvGrpSpPr>
            <p:grpSpPr>
              <a:xfrm>
                <a:off x="2343240" y="5444280"/>
                <a:ext cx="1071000" cy="353520"/>
                <a:chOff x="2343240" y="5444280"/>
                <a:chExt cx="1071000" cy="353520"/>
              </a:xfrm>
            </p:grpSpPr>
            <p:sp>
              <p:nvSpPr>
                <p:cNvPr id="2624" name=""/>
                <p:cNvSpPr/>
                <p:nvPr/>
              </p:nvSpPr>
              <p:spPr>
                <a:xfrm>
                  <a:off x="2387520" y="5560200"/>
                  <a:ext cx="98208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2343240" y="5678280"/>
                  <a:ext cx="107100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2432160" y="5444280"/>
                  <a:ext cx="89280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7" name=""/>
              <p:cNvGrpSpPr/>
              <p:nvPr/>
            </p:nvGrpSpPr>
            <p:grpSpPr>
              <a:xfrm>
                <a:off x="2463120" y="5082840"/>
                <a:ext cx="833040" cy="353520"/>
                <a:chOff x="2463120" y="5082840"/>
                <a:chExt cx="833040" cy="353520"/>
              </a:xfrm>
            </p:grpSpPr>
            <p:sp>
              <p:nvSpPr>
                <p:cNvPr id="2628" name=""/>
                <p:cNvSpPr/>
                <p:nvPr/>
              </p:nvSpPr>
              <p:spPr>
                <a:xfrm>
                  <a:off x="2497680" y="5198400"/>
                  <a:ext cx="76392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2463120" y="5316840"/>
                  <a:ext cx="83304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2532240" y="5082840"/>
                  <a:ext cx="69444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2582280" y="4721760"/>
                <a:ext cx="595440" cy="353520"/>
                <a:chOff x="2582280" y="4721760"/>
                <a:chExt cx="595440" cy="35352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2606760" y="4837680"/>
                  <a:ext cx="54612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2582280" y="4955760"/>
                  <a:ext cx="59544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2631600" y="4721760"/>
                  <a:ext cx="49644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5" name=""/>
            <p:cNvSpPr/>
            <p:nvPr/>
          </p:nvSpPr>
          <p:spPr>
            <a:xfrm>
              <a:off x="1682280" y="4289760"/>
              <a:ext cx="2378880" cy="424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6" name=""/>
            <p:cNvGrpSpPr/>
            <p:nvPr/>
          </p:nvGrpSpPr>
          <p:grpSpPr>
            <a:xfrm>
              <a:off x="2011320" y="4450680"/>
              <a:ext cx="1720440" cy="255600"/>
              <a:chOff x="2011320" y="4450680"/>
              <a:chExt cx="1720440" cy="255600"/>
            </a:xfrm>
          </p:grpSpPr>
          <p:sp>
            <p:nvSpPr>
              <p:cNvPr id="2637" name=""/>
              <p:cNvSpPr/>
              <p:nvPr/>
            </p:nvSpPr>
            <p:spPr>
              <a:xfrm>
                <a:off x="2011320" y="4450680"/>
                <a:ext cx="238680" cy="25560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386080" y="4450680"/>
                <a:ext cx="238680" cy="25560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3493080" y="4450680"/>
                <a:ext cx="238680" cy="25560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3117960" y="4450680"/>
                <a:ext cx="238680" cy="25560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746440" y="4450680"/>
                <a:ext cx="239400" cy="25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2" name=""/>
            <p:cNvSpPr/>
            <p:nvPr/>
          </p:nvSpPr>
          <p:spPr>
            <a:xfrm>
              <a:off x="1611000" y="4250880"/>
              <a:ext cx="2518200" cy="75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1661400" y="3961800"/>
              <a:ext cx="2417760" cy="288720"/>
            </a:xfrm>
            <a:custGeom>
              <a:avLst/>
              <a:gdLst>
                <a:gd name="textAreaLeft" fmla="*/ 251640 w 2417760"/>
                <a:gd name="textAreaRight" fmla="*/ 2166120 w 2417760"/>
                <a:gd name="textAreaTop" fmla="*/ 29880 h 288720"/>
                <a:gd name="textAreaBottom" fmla="*/ 258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01" y="21600"/>
                  </a:lnTo>
                  <a:lnTo>
                    <a:pt x="899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735920" y="3890880"/>
              <a:ext cx="2257560" cy="70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5" name=""/>
          <p:cNvGrpSpPr/>
          <p:nvPr/>
        </p:nvGrpSpPr>
        <p:grpSpPr>
          <a:xfrm>
            <a:off x="6595920" y="4348440"/>
            <a:ext cx="2842920" cy="845280"/>
            <a:chOff x="6595920" y="4348440"/>
            <a:chExt cx="2842920" cy="845280"/>
          </a:xfrm>
        </p:grpSpPr>
        <p:sp>
          <p:nvSpPr>
            <p:cNvPr id="2646" name=""/>
            <p:cNvSpPr/>
            <p:nvPr/>
          </p:nvSpPr>
          <p:spPr>
            <a:xfrm>
              <a:off x="6595920" y="4348440"/>
              <a:ext cx="2842920" cy="39960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Driver schedule retrosp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7" name=""/>
            <p:cNvGrpSpPr/>
            <p:nvPr/>
          </p:nvGrpSpPr>
          <p:grpSpPr>
            <a:xfrm>
              <a:off x="7353360" y="4687920"/>
              <a:ext cx="1409400" cy="505800"/>
              <a:chOff x="7353360" y="4687920"/>
              <a:chExt cx="1409400" cy="505800"/>
            </a:xfrm>
          </p:grpSpPr>
          <p:grpSp>
            <p:nvGrpSpPr>
              <p:cNvPr id="2648" name=""/>
              <p:cNvGrpSpPr/>
              <p:nvPr/>
            </p:nvGrpSpPr>
            <p:grpSpPr>
              <a:xfrm>
                <a:off x="7353360" y="4872960"/>
                <a:ext cx="1409400" cy="320760"/>
                <a:chOff x="7353360" y="4872960"/>
                <a:chExt cx="1409400" cy="320760"/>
              </a:xfrm>
            </p:grpSpPr>
            <p:grpSp>
              <p:nvGrpSpPr>
                <p:cNvPr id="2649" name=""/>
                <p:cNvGrpSpPr/>
                <p:nvPr/>
              </p:nvGrpSpPr>
              <p:grpSpPr>
                <a:xfrm>
                  <a:off x="7353360" y="5114160"/>
                  <a:ext cx="1409400" cy="79560"/>
                  <a:chOff x="7353360" y="5114160"/>
                  <a:chExt cx="1409400" cy="79560"/>
                </a:xfrm>
              </p:grpSpPr>
              <p:sp>
                <p:nvSpPr>
                  <p:cNvPr id="2650" name=""/>
                  <p:cNvSpPr/>
                  <p:nvPr/>
                </p:nvSpPr>
                <p:spPr>
                  <a:xfrm>
                    <a:off x="7588440" y="51141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>
                    <a:off x="8058960" y="51141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8294040" y="51141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8529120" y="51141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7823520" y="51141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7353360" y="51141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6" name=""/>
                <p:cNvGrpSpPr/>
                <p:nvPr/>
              </p:nvGrpSpPr>
              <p:grpSpPr>
                <a:xfrm>
                  <a:off x="7471440" y="5033520"/>
                  <a:ext cx="1174320" cy="79560"/>
                  <a:chOff x="7471440" y="5033520"/>
                  <a:chExt cx="1174320" cy="79560"/>
                </a:xfrm>
              </p:grpSpPr>
              <p:sp>
                <p:nvSpPr>
                  <p:cNvPr id="2657" name=""/>
                  <p:cNvSpPr/>
                  <p:nvPr/>
                </p:nvSpPr>
                <p:spPr>
                  <a:xfrm>
                    <a:off x="7471440" y="50335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7941600" y="50335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>
                    <a:off x="8177040" y="50335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>
                    <a:off x="8412120" y="50335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>
                    <a:off x="7706520" y="50335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2" name=""/>
                <p:cNvGrpSpPr/>
                <p:nvPr/>
              </p:nvGrpSpPr>
              <p:grpSpPr>
                <a:xfrm>
                  <a:off x="7588800" y="4872960"/>
                  <a:ext cx="939240" cy="159840"/>
                  <a:chOff x="7588800" y="4872960"/>
                  <a:chExt cx="939240" cy="159840"/>
                </a:xfrm>
              </p:grpSpPr>
              <p:sp>
                <p:nvSpPr>
                  <p:cNvPr id="2663" name=""/>
                  <p:cNvSpPr/>
                  <p:nvPr/>
                </p:nvSpPr>
                <p:spPr>
                  <a:xfrm>
                    <a:off x="7823880" y="49532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>
                    <a:off x="8294400" y="49532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>
                    <a:off x="8058960" y="49532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>
                    <a:off x="7588800" y="49532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>
                    <a:off x="7706880" y="48729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>
                    <a:off x="8177040" y="48729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>
                    <a:off x="7941960" y="48729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0" name=""/>
              <p:cNvGrpSpPr/>
              <p:nvPr/>
            </p:nvGrpSpPr>
            <p:grpSpPr>
              <a:xfrm>
                <a:off x="7885440" y="4872960"/>
                <a:ext cx="351000" cy="320040"/>
                <a:chOff x="7885440" y="4872960"/>
                <a:chExt cx="351000" cy="320040"/>
              </a:xfrm>
            </p:grpSpPr>
            <p:grpSp>
              <p:nvGrpSpPr>
                <p:cNvPr id="2671" name=""/>
                <p:cNvGrpSpPr/>
                <p:nvPr/>
              </p:nvGrpSpPr>
              <p:grpSpPr>
                <a:xfrm>
                  <a:off x="7885440" y="5114160"/>
                  <a:ext cx="351000" cy="78840"/>
                  <a:chOff x="7885440" y="5114160"/>
                  <a:chExt cx="351000" cy="78840"/>
                </a:xfrm>
              </p:grpSpPr>
              <p:sp>
                <p:nvSpPr>
                  <p:cNvPr id="2672" name=""/>
                  <p:cNvSpPr/>
                  <p:nvPr/>
                </p:nvSpPr>
                <p:spPr>
                  <a:xfrm>
                    <a:off x="7899840" y="5140080"/>
                    <a:ext cx="3218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>
                    <a:off x="7885440" y="5166360"/>
                    <a:ext cx="3510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>
                    <a:off x="7914600" y="5114160"/>
                    <a:ext cx="2926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5" name=""/>
                <p:cNvGrpSpPr/>
                <p:nvPr/>
              </p:nvGrpSpPr>
              <p:grpSpPr>
                <a:xfrm>
                  <a:off x="7929000" y="5033880"/>
                  <a:ext cx="263160" cy="78840"/>
                  <a:chOff x="7929000" y="5033880"/>
                  <a:chExt cx="263160" cy="78840"/>
                </a:xfrm>
              </p:grpSpPr>
              <p:sp>
                <p:nvSpPr>
                  <p:cNvPr id="2676" name=""/>
                  <p:cNvSpPr/>
                  <p:nvPr/>
                </p:nvSpPr>
                <p:spPr>
                  <a:xfrm>
                    <a:off x="7939800" y="5059800"/>
                    <a:ext cx="2415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7929000" y="5086080"/>
                    <a:ext cx="2631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>
                    <a:off x="7950600" y="5033880"/>
                    <a:ext cx="219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9" name=""/>
                <p:cNvGrpSpPr/>
                <p:nvPr/>
              </p:nvGrpSpPr>
              <p:grpSpPr>
                <a:xfrm>
                  <a:off x="7958520" y="4953240"/>
                  <a:ext cx="204840" cy="78480"/>
                  <a:chOff x="7958520" y="4953240"/>
                  <a:chExt cx="204840" cy="78480"/>
                </a:xfrm>
              </p:grpSpPr>
              <p:sp>
                <p:nvSpPr>
                  <p:cNvPr id="2680" name=""/>
                  <p:cNvSpPr/>
                  <p:nvPr/>
                </p:nvSpPr>
                <p:spPr>
                  <a:xfrm>
                    <a:off x="7966800" y="4978800"/>
                    <a:ext cx="1879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>
                    <a:off x="7958520" y="5005080"/>
                    <a:ext cx="2048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>
                    <a:off x="7975440" y="4953240"/>
                    <a:ext cx="1710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3" name=""/>
                <p:cNvGrpSpPr/>
                <p:nvPr/>
              </p:nvGrpSpPr>
              <p:grpSpPr>
                <a:xfrm>
                  <a:off x="7988040" y="4872960"/>
                  <a:ext cx="146160" cy="78840"/>
                  <a:chOff x="7988040" y="4872960"/>
                  <a:chExt cx="146160" cy="78840"/>
                </a:xfrm>
              </p:grpSpPr>
              <p:sp>
                <p:nvSpPr>
                  <p:cNvPr id="2684" name=""/>
                  <p:cNvSpPr/>
                  <p:nvPr/>
                </p:nvSpPr>
                <p:spPr>
                  <a:xfrm>
                    <a:off x="7993800" y="4898880"/>
                    <a:ext cx="134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>
                    <a:off x="7988040" y="4925160"/>
                    <a:ext cx="1461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7999920" y="4872960"/>
                    <a:ext cx="1220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7" name=""/>
              <p:cNvSpPr/>
              <p:nvPr/>
            </p:nvSpPr>
            <p:spPr>
              <a:xfrm>
                <a:off x="7766280" y="4776840"/>
                <a:ext cx="584640" cy="9432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8" name=""/>
              <p:cNvGrpSpPr/>
              <p:nvPr/>
            </p:nvGrpSpPr>
            <p:grpSpPr>
              <a:xfrm>
                <a:off x="7847280" y="4812480"/>
                <a:ext cx="423000" cy="56880"/>
                <a:chOff x="7847280" y="4812480"/>
                <a:chExt cx="423000" cy="56880"/>
              </a:xfrm>
            </p:grpSpPr>
            <p:sp>
              <p:nvSpPr>
                <p:cNvPr id="2689" name=""/>
                <p:cNvSpPr/>
                <p:nvPr/>
              </p:nvSpPr>
              <p:spPr>
                <a:xfrm>
                  <a:off x="7847280" y="481248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7939080" y="481248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8211600" y="481248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8119440" y="4812480"/>
                  <a:ext cx="5796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8028000" y="481248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4" name=""/>
              <p:cNvSpPr/>
              <p:nvPr/>
            </p:nvSpPr>
            <p:spPr>
              <a:xfrm>
                <a:off x="7749360" y="4768200"/>
                <a:ext cx="61884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761600" y="4703760"/>
                <a:ext cx="594000" cy="64080"/>
              </a:xfrm>
              <a:custGeom>
                <a:avLst/>
                <a:gdLst>
                  <a:gd name="textAreaLeft" fmla="*/ 61560 w 594000"/>
                  <a:gd name="textAreaRight" fmla="*/ 532440 w 59400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779600" y="4687920"/>
                <a:ext cx="55512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7" name=""/>
          <p:cNvGrpSpPr/>
          <p:nvPr/>
        </p:nvGrpSpPr>
        <p:grpSpPr>
          <a:xfrm>
            <a:off x="4410000" y="3149640"/>
            <a:ext cx="1220760" cy="852480"/>
            <a:chOff x="4410000" y="3149640"/>
            <a:chExt cx="1220760" cy="852480"/>
          </a:xfrm>
        </p:grpSpPr>
        <p:sp>
          <p:nvSpPr>
            <p:cNvPr id="2698" name=""/>
            <p:cNvSpPr/>
            <p:nvPr/>
          </p:nvSpPr>
          <p:spPr>
            <a:xfrm>
              <a:off x="4523040" y="3149640"/>
              <a:ext cx="1069560" cy="3992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9" name=""/>
            <p:cNvGrpSpPr/>
            <p:nvPr/>
          </p:nvGrpSpPr>
          <p:grpSpPr>
            <a:xfrm>
              <a:off x="4410000" y="3495960"/>
              <a:ext cx="1220760" cy="506160"/>
              <a:chOff x="4410000" y="3495960"/>
              <a:chExt cx="1220760" cy="506160"/>
            </a:xfrm>
          </p:grpSpPr>
          <p:grpSp>
            <p:nvGrpSpPr>
              <p:cNvPr id="2700" name=""/>
              <p:cNvGrpSpPr/>
              <p:nvPr/>
            </p:nvGrpSpPr>
            <p:grpSpPr>
              <a:xfrm>
                <a:off x="4410000" y="3681000"/>
                <a:ext cx="1220760" cy="321120"/>
                <a:chOff x="4410000" y="3681000"/>
                <a:chExt cx="1220760" cy="321120"/>
              </a:xfrm>
            </p:grpSpPr>
            <p:grpSp>
              <p:nvGrpSpPr>
                <p:cNvPr id="2701" name=""/>
                <p:cNvGrpSpPr/>
                <p:nvPr/>
              </p:nvGrpSpPr>
              <p:grpSpPr>
                <a:xfrm>
                  <a:off x="4410000" y="3922560"/>
                  <a:ext cx="1220760" cy="79560"/>
                  <a:chOff x="4410000" y="3922560"/>
                  <a:chExt cx="1220760" cy="79560"/>
                </a:xfrm>
              </p:grpSpPr>
              <p:sp>
                <p:nvSpPr>
                  <p:cNvPr id="2702" name=""/>
                  <p:cNvSpPr/>
                  <p:nvPr/>
                </p:nvSpPr>
                <p:spPr>
                  <a:xfrm>
                    <a:off x="4613400" y="39225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>
                    <a:off x="5020920" y="39225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>
                    <a:off x="5224680" y="39225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>
                    <a:off x="5428440" y="39225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>
                    <a:off x="4817160" y="39225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>
                    <a:off x="4410000" y="39225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8" name=""/>
                <p:cNvGrpSpPr/>
                <p:nvPr/>
              </p:nvGrpSpPr>
              <p:grpSpPr>
                <a:xfrm>
                  <a:off x="4512240" y="3841920"/>
                  <a:ext cx="1017000" cy="79560"/>
                  <a:chOff x="4512240" y="3841920"/>
                  <a:chExt cx="1017000" cy="79560"/>
                </a:xfrm>
              </p:grpSpPr>
              <p:sp>
                <p:nvSpPr>
                  <p:cNvPr id="2709" name=""/>
                  <p:cNvSpPr/>
                  <p:nvPr/>
                </p:nvSpPr>
                <p:spPr>
                  <a:xfrm>
                    <a:off x="4512240" y="38419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>
                    <a:off x="4919400" y="38419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>
                    <a:off x="5123160" y="38419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>
                    <a:off x="5326920" y="38419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>
                    <a:off x="4715640" y="38419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4" name=""/>
                <p:cNvGrpSpPr/>
                <p:nvPr/>
              </p:nvGrpSpPr>
              <p:grpSpPr>
                <a:xfrm>
                  <a:off x="4614120" y="3681000"/>
                  <a:ext cx="813240" cy="159840"/>
                  <a:chOff x="4614120" y="3681000"/>
                  <a:chExt cx="813240" cy="159840"/>
                </a:xfrm>
              </p:grpSpPr>
              <p:sp>
                <p:nvSpPr>
                  <p:cNvPr id="2715" name=""/>
                  <p:cNvSpPr/>
                  <p:nvPr/>
                </p:nvSpPr>
                <p:spPr>
                  <a:xfrm>
                    <a:off x="4817880" y="37612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6" name=""/>
                  <p:cNvSpPr/>
                  <p:nvPr/>
                </p:nvSpPr>
                <p:spPr>
                  <a:xfrm>
                    <a:off x="5225040" y="37612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>
                    <a:off x="5021640" y="37612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>
                    <a:off x="4614120" y="37612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9" name=""/>
                  <p:cNvSpPr/>
                  <p:nvPr/>
                </p:nvSpPr>
                <p:spPr>
                  <a:xfrm>
                    <a:off x="4716360" y="36810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0" name=""/>
                  <p:cNvSpPr/>
                  <p:nvPr/>
                </p:nvSpPr>
                <p:spPr>
                  <a:xfrm>
                    <a:off x="5123880" y="36810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1" name=""/>
                  <p:cNvSpPr/>
                  <p:nvPr/>
                </p:nvSpPr>
                <p:spPr>
                  <a:xfrm>
                    <a:off x="4920120" y="36810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22" name=""/>
              <p:cNvGrpSpPr/>
              <p:nvPr/>
            </p:nvGrpSpPr>
            <p:grpSpPr>
              <a:xfrm>
                <a:off x="4870800" y="3681000"/>
                <a:ext cx="303480" cy="320040"/>
                <a:chOff x="4870800" y="3681000"/>
                <a:chExt cx="303480" cy="320040"/>
              </a:xfrm>
            </p:grpSpPr>
            <p:grpSp>
              <p:nvGrpSpPr>
                <p:cNvPr id="2723" name=""/>
                <p:cNvGrpSpPr/>
                <p:nvPr/>
              </p:nvGrpSpPr>
              <p:grpSpPr>
                <a:xfrm>
                  <a:off x="4870800" y="3922200"/>
                  <a:ext cx="303480" cy="78840"/>
                  <a:chOff x="4870800" y="3922200"/>
                  <a:chExt cx="303480" cy="78840"/>
                </a:xfrm>
              </p:grpSpPr>
              <p:sp>
                <p:nvSpPr>
                  <p:cNvPr id="2724" name=""/>
                  <p:cNvSpPr/>
                  <p:nvPr/>
                </p:nvSpPr>
                <p:spPr>
                  <a:xfrm>
                    <a:off x="4883400" y="3948120"/>
                    <a:ext cx="278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5" name=""/>
                  <p:cNvSpPr/>
                  <p:nvPr/>
                </p:nvSpPr>
                <p:spPr>
                  <a:xfrm>
                    <a:off x="4870800" y="3974400"/>
                    <a:ext cx="303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6" name=""/>
                  <p:cNvSpPr/>
                  <p:nvPr/>
                </p:nvSpPr>
                <p:spPr>
                  <a:xfrm>
                    <a:off x="4896000" y="3922200"/>
                    <a:ext cx="2530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7" name=""/>
                <p:cNvGrpSpPr/>
                <p:nvPr/>
              </p:nvGrpSpPr>
              <p:grpSpPr>
                <a:xfrm>
                  <a:off x="4908600" y="3841920"/>
                  <a:ext cx="227520" cy="78840"/>
                  <a:chOff x="4908600" y="3841920"/>
                  <a:chExt cx="227520" cy="78840"/>
                </a:xfrm>
              </p:grpSpPr>
              <p:sp>
                <p:nvSpPr>
                  <p:cNvPr id="2728" name=""/>
                  <p:cNvSpPr/>
                  <p:nvPr/>
                </p:nvSpPr>
                <p:spPr>
                  <a:xfrm>
                    <a:off x="4917960" y="3867840"/>
                    <a:ext cx="2088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9" name=""/>
                  <p:cNvSpPr/>
                  <p:nvPr/>
                </p:nvSpPr>
                <p:spPr>
                  <a:xfrm>
                    <a:off x="4908600" y="3894120"/>
                    <a:ext cx="227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>
                    <a:off x="4927320" y="3841920"/>
                    <a:ext cx="189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1" name=""/>
                <p:cNvGrpSpPr/>
                <p:nvPr/>
              </p:nvGrpSpPr>
              <p:grpSpPr>
                <a:xfrm>
                  <a:off x="4934160" y="3761280"/>
                  <a:ext cx="177120" cy="78480"/>
                  <a:chOff x="4934160" y="3761280"/>
                  <a:chExt cx="177120" cy="78480"/>
                </a:xfrm>
              </p:grpSpPr>
              <p:sp>
                <p:nvSpPr>
                  <p:cNvPr id="2732" name=""/>
                  <p:cNvSpPr/>
                  <p:nvPr/>
                </p:nvSpPr>
                <p:spPr>
                  <a:xfrm>
                    <a:off x="4941360" y="3786840"/>
                    <a:ext cx="162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>
                    <a:off x="4934160" y="3813120"/>
                    <a:ext cx="1771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>
                    <a:off x="4948560" y="3761280"/>
                    <a:ext cx="147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5" name=""/>
                <p:cNvGrpSpPr/>
                <p:nvPr/>
              </p:nvGrpSpPr>
              <p:grpSpPr>
                <a:xfrm>
                  <a:off x="4959360" y="3681000"/>
                  <a:ext cx="126360" cy="78840"/>
                  <a:chOff x="4959360" y="3681000"/>
                  <a:chExt cx="126360" cy="78840"/>
                </a:xfrm>
              </p:grpSpPr>
              <p:sp>
                <p:nvSpPr>
                  <p:cNvPr id="2736" name=""/>
                  <p:cNvSpPr/>
                  <p:nvPr/>
                </p:nvSpPr>
                <p:spPr>
                  <a:xfrm>
                    <a:off x="4964400" y="3706920"/>
                    <a:ext cx="1159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>
                    <a:off x="4959360" y="3733200"/>
                    <a:ext cx="126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>
                    <a:off x="4969800" y="3681000"/>
                    <a:ext cx="105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39" name=""/>
              <p:cNvSpPr/>
              <p:nvPr/>
            </p:nvSpPr>
            <p:spPr>
              <a:xfrm>
                <a:off x="4767480" y="3584520"/>
                <a:ext cx="506160" cy="9504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0" name=""/>
              <p:cNvGrpSpPr/>
              <p:nvPr/>
            </p:nvGrpSpPr>
            <p:grpSpPr>
              <a:xfrm>
                <a:off x="4837680" y="3620880"/>
                <a:ext cx="366480" cy="56880"/>
                <a:chOff x="4837680" y="3620880"/>
                <a:chExt cx="366480" cy="5688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4837680" y="36208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4917600" y="36208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5153760" y="36208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5073480" y="36208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4994280" y="36208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6" name=""/>
              <p:cNvSpPr/>
              <p:nvPr/>
            </p:nvSpPr>
            <p:spPr>
              <a:xfrm>
                <a:off x="4752720" y="3576240"/>
                <a:ext cx="53604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V="1">
                <a:off x="4763520" y="351216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4779000" y="3495960"/>
                <a:ext cx="48096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low  frequencies  pushpull-cmos model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985000" y="1905120"/>
            <a:ext cx="266652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el has got rise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 falltime of about 1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 it could be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p to 500MHz   !!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1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2752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3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2754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2755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2756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9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0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1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2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2763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4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5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7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8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2769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0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1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3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4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5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76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2777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2778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9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1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2782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4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5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2786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9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2790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93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4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2795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0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3" name=""/>
          <p:cNvGrpSpPr/>
          <p:nvPr/>
        </p:nvGrpSpPr>
        <p:grpSpPr>
          <a:xfrm>
            <a:off x="1146240" y="3882960"/>
            <a:ext cx="5018400" cy="2274120"/>
            <a:chOff x="1146240" y="3882960"/>
            <a:chExt cx="5018400" cy="2274120"/>
          </a:xfrm>
        </p:grpSpPr>
        <p:grpSp>
          <p:nvGrpSpPr>
            <p:cNvPr id="2804" name=""/>
            <p:cNvGrpSpPr/>
            <p:nvPr/>
          </p:nvGrpSpPr>
          <p:grpSpPr>
            <a:xfrm>
              <a:off x="1770120" y="3882960"/>
              <a:ext cx="3600720" cy="2151360"/>
              <a:chOff x="1770120" y="3882960"/>
              <a:chExt cx="3600720" cy="2151360"/>
            </a:xfrm>
          </p:grpSpPr>
          <p:sp>
            <p:nvSpPr>
              <p:cNvPr id="2805" name=""/>
              <p:cNvSpPr/>
              <p:nvPr/>
            </p:nvSpPr>
            <p:spPr>
              <a:xfrm>
                <a:off x="2142000" y="4052160"/>
                <a:ext cx="3143880" cy="15829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142000" y="5366520"/>
                <a:ext cx="3143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142000" y="5112360"/>
                <a:ext cx="3143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142000" y="4843800"/>
                <a:ext cx="3143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142000" y="4574880"/>
                <a:ext cx="314388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142000" y="4320720"/>
                <a:ext cx="3143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142000" y="4052160"/>
                <a:ext cx="314388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142000" y="4052160"/>
                <a:ext cx="3143880" cy="1582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2142000" y="4052160"/>
                <a:ext cx="1440" cy="158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104920" y="5635440"/>
                <a:ext cx="3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2104920" y="5366520"/>
                <a:ext cx="3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2104920" y="5112360"/>
                <a:ext cx="3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2104920" y="4843800"/>
                <a:ext cx="3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2104920" y="4574880"/>
                <a:ext cx="3708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2104920" y="4320720"/>
                <a:ext cx="37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2104920" y="4052160"/>
                <a:ext cx="3708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2142000" y="5635440"/>
                <a:ext cx="3143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flipV="1">
                <a:off x="2142000" y="5635080"/>
                <a:ext cx="1440" cy="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V="1">
                <a:off x="2770920" y="5635080"/>
                <a:ext cx="1080" cy="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V="1">
                <a:off x="3399840" y="5635080"/>
                <a:ext cx="1080" cy="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4028040" y="5635080"/>
                <a:ext cx="1440" cy="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V="1">
                <a:off x="4656960" y="5635080"/>
                <a:ext cx="1440" cy="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V="1">
                <a:off x="5285880" y="5635080"/>
                <a:ext cx="1080" cy="55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V="1">
                <a:off x="2142000" y="4447800"/>
                <a:ext cx="318960" cy="7912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V="1">
                <a:off x="2461320" y="4179240"/>
                <a:ext cx="309600" cy="2685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2770920" y="4179240"/>
                <a:ext cx="31896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090240" y="4179240"/>
                <a:ext cx="30960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399840" y="4179240"/>
                <a:ext cx="318600" cy="2685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718440" y="4447800"/>
                <a:ext cx="309600" cy="7912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4028040" y="5239440"/>
                <a:ext cx="31896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347360" y="5239440"/>
                <a:ext cx="30960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 flipV="1">
                <a:off x="4656960" y="4447800"/>
                <a:ext cx="318960" cy="7912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 flipV="1">
                <a:off x="4976280" y="4179240"/>
                <a:ext cx="309600" cy="2685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2085840" y="5154480"/>
                <a:ext cx="112320" cy="1692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2404800" y="4362840"/>
                <a:ext cx="112680" cy="16956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2714400" y="4095000"/>
                <a:ext cx="112680" cy="1692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033720" y="4095000"/>
                <a:ext cx="112320" cy="1692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343320" y="4095000"/>
                <a:ext cx="112680" cy="1692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662640" y="4362840"/>
                <a:ext cx="112320" cy="16956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972240" y="5154480"/>
                <a:ext cx="112320" cy="1692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4290840" y="5154480"/>
                <a:ext cx="112680" cy="1692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600800" y="5154480"/>
                <a:ext cx="112680" cy="1692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919760" y="4362840"/>
                <a:ext cx="112680" cy="16956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229360" y="4095000"/>
                <a:ext cx="112680" cy="1692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2680560" y="4648320"/>
                <a:ext cx="84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250MH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0" name=""/>
              <p:cNvGrpSpPr/>
              <p:nvPr/>
            </p:nvGrpSpPr>
            <p:grpSpPr>
              <a:xfrm>
                <a:off x="1770120" y="3882960"/>
                <a:ext cx="282600" cy="1826280"/>
                <a:chOff x="1770120" y="3882960"/>
                <a:chExt cx="282600" cy="1826280"/>
              </a:xfrm>
            </p:grpSpPr>
            <p:sp>
              <p:nvSpPr>
                <p:cNvPr id="2851" name=""/>
                <p:cNvSpPr/>
                <p:nvPr/>
              </p:nvSpPr>
              <p:spPr>
                <a:xfrm>
                  <a:off x="1863720" y="546552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1770120" y="519696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1770120" y="494496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1770120" y="467388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1770120" y="440532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1863720" y="41508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1770120" y="388296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,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8" name=""/>
              <p:cNvSpPr/>
              <p:nvPr/>
            </p:nvSpPr>
            <p:spPr>
              <a:xfrm>
                <a:off x="2113560" y="57906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2742480" y="57906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371040" y="57906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3999960" y="57906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628520" y="57906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257440" y="57906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4" name=""/>
            <p:cNvGrpSpPr/>
            <p:nvPr/>
          </p:nvGrpSpPr>
          <p:grpSpPr>
            <a:xfrm>
              <a:off x="1146240" y="4024440"/>
              <a:ext cx="385560" cy="393480"/>
              <a:chOff x="1146240" y="4024440"/>
              <a:chExt cx="385560" cy="393480"/>
            </a:xfrm>
          </p:grpSpPr>
          <p:sp>
            <p:nvSpPr>
              <p:cNvPr id="2865" name=""/>
              <p:cNvSpPr/>
              <p:nvPr/>
            </p:nvSpPr>
            <p:spPr>
              <a:xfrm>
                <a:off x="1531800" y="4024440"/>
                <a:ext cx="0" cy="39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1146240" y="4040280"/>
                <a:ext cx="3330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7" name=""/>
            <p:cNvGrpSpPr/>
            <p:nvPr/>
          </p:nvGrpSpPr>
          <p:grpSpPr>
            <a:xfrm>
              <a:off x="5462640" y="5667480"/>
              <a:ext cx="702000" cy="489600"/>
              <a:chOff x="5462640" y="5667480"/>
              <a:chExt cx="702000" cy="489600"/>
            </a:xfrm>
          </p:grpSpPr>
          <p:sp>
            <p:nvSpPr>
              <p:cNvPr id="2868" name=""/>
              <p:cNvSpPr/>
              <p:nvPr/>
            </p:nvSpPr>
            <p:spPr>
              <a:xfrm>
                <a:off x="5524560" y="5667480"/>
                <a:ext cx="47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462640" y="5796000"/>
                <a:ext cx="7020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t (n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0" name=""/>
          <p:cNvGrpSpPr/>
          <p:nvPr/>
        </p:nvGrpSpPr>
        <p:grpSpPr>
          <a:xfrm>
            <a:off x="182520" y="1195560"/>
            <a:ext cx="4773960" cy="2133000"/>
            <a:chOff x="182520" y="1195560"/>
            <a:chExt cx="4773960" cy="2133000"/>
          </a:xfrm>
        </p:grpSpPr>
        <p:grpSp>
          <p:nvGrpSpPr>
            <p:cNvPr id="2871" name=""/>
            <p:cNvGrpSpPr/>
            <p:nvPr/>
          </p:nvGrpSpPr>
          <p:grpSpPr>
            <a:xfrm>
              <a:off x="4254480" y="2814480"/>
              <a:ext cx="702000" cy="482400"/>
              <a:chOff x="4254480" y="2814480"/>
              <a:chExt cx="702000" cy="482400"/>
            </a:xfrm>
          </p:grpSpPr>
          <p:sp>
            <p:nvSpPr>
              <p:cNvPr id="2872" name=""/>
              <p:cNvSpPr/>
              <p:nvPr/>
            </p:nvSpPr>
            <p:spPr>
              <a:xfrm>
                <a:off x="4316400" y="2814480"/>
                <a:ext cx="47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4254480" y="2935800"/>
                <a:ext cx="7020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t (n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4" name=""/>
            <p:cNvGrpSpPr/>
            <p:nvPr/>
          </p:nvGrpSpPr>
          <p:grpSpPr>
            <a:xfrm>
              <a:off x="182520" y="1195560"/>
              <a:ext cx="4773960" cy="2133000"/>
              <a:chOff x="182520" y="1195560"/>
              <a:chExt cx="4773960" cy="2133000"/>
            </a:xfrm>
          </p:grpSpPr>
          <p:grpSp>
            <p:nvGrpSpPr>
              <p:cNvPr id="2875" name=""/>
              <p:cNvGrpSpPr/>
              <p:nvPr/>
            </p:nvGrpSpPr>
            <p:grpSpPr>
              <a:xfrm>
                <a:off x="625320" y="1195560"/>
                <a:ext cx="3599280" cy="2133000"/>
                <a:chOff x="625320" y="1195560"/>
                <a:chExt cx="3599280" cy="2133000"/>
              </a:xfrm>
            </p:grpSpPr>
            <p:sp>
              <p:nvSpPr>
                <p:cNvPr id="2876" name=""/>
                <p:cNvSpPr/>
                <p:nvPr/>
              </p:nvSpPr>
              <p:spPr>
                <a:xfrm>
                  <a:off x="947520" y="1296720"/>
                  <a:ext cx="3192480" cy="153648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947520" y="2579400"/>
                  <a:ext cx="31924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947520" y="2325600"/>
                  <a:ext cx="31924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947520" y="2071080"/>
                  <a:ext cx="31924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947520" y="1805040"/>
                  <a:ext cx="31924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947520" y="1550880"/>
                  <a:ext cx="31924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947520" y="1296720"/>
                  <a:ext cx="319248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947520" y="1296720"/>
                  <a:ext cx="3192480" cy="1536480"/>
                </a:xfrm>
                <a:prstGeom prst="rect">
                  <a:avLst/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947520" y="1296720"/>
                  <a:ext cx="1080" cy="1536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909360" y="2833200"/>
                  <a:ext cx="37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909360" y="2579400"/>
                  <a:ext cx="37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909360" y="2325600"/>
                  <a:ext cx="37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909360" y="2071080"/>
                  <a:ext cx="37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909360" y="1805040"/>
                  <a:ext cx="37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909360" y="1550880"/>
                  <a:ext cx="378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909360" y="1296720"/>
                  <a:ext cx="3780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947520" y="2833200"/>
                  <a:ext cx="31924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 flipV="1">
                  <a:off x="947520" y="2832840"/>
                  <a:ext cx="108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flipV="1">
                  <a:off x="1582200" y="2832840"/>
                  <a:ext cx="108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flipV="1">
                  <a:off x="2226600" y="2832840"/>
                  <a:ext cx="108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 flipV="1">
                  <a:off x="2861280" y="283284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 flipV="1">
                  <a:off x="3505680" y="2832840"/>
                  <a:ext cx="108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flipV="1">
                  <a:off x="4140360" y="2832840"/>
                  <a:ext cx="1440" cy="50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flipV="1">
                  <a:off x="947520" y="1677240"/>
                  <a:ext cx="321840" cy="77436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flipV="1">
                  <a:off x="1269360" y="1423440"/>
                  <a:ext cx="312840" cy="25380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1582200" y="1423800"/>
                  <a:ext cx="321840" cy="180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1904400" y="1423800"/>
                  <a:ext cx="1601280" cy="180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3505680" y="1423800"/>
                  <a:ext cx="312480" cy="25380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3818160" y="1677600"/>
                  <a:ext cx="321840" cy="77436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4140360" y="2452320"/>
                  <a:ext cx="66240" cy="216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890640" y="2376000"/>
                  <a:ext cx="113760" cy="15228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36" y="0"/>
                      </a:moveTo>
                      <a:lnTo>
                        <a:pt x="72" y="36"/>
                      </a:lnTo>
                      <a:lnTo>
                        <a:pt x="36" y="72"/>
                      </a:lnTo>
                      <a:lnTo>
                        <a:pt x="0" y="36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1212840" y="1601280"/>
                  <a:ext cx="113400" cy="15228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36" y="0"/>
                      </a:moveTo>
                      <a:lnTo>
                        <a:pt x="72" y="36"/>
                      </a:lnTo>
                      <a:lnTo>
                        <a:pt x="36" y="72"/>
                      </a:lnTo>
                      <a:lnTo>
                        <a:pt x="0" y="36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1525320" y="1347480"/>
                  <a:ext cx="113400" cy="15228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36" y="0"/>
                      </a:moveTo>
                      <a:lnTo>
                        <a:pt x="72" y="36"/>
                      </a:lnTo>
                      <a:lnTo>
                        <a:pt x="36" y="72"/>
                      </a:lnTo>
                      <a:lnTo>
                        <a:pt x="0" y="36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1847520" y="1347480"/>
                  <a:ext cx="113760" cy="15228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36" y="0"/>
                      </a:moveTo>
                      <a:lnTo>
                        <a:pt x="72" y="36"/>
                      </a:lnTo>
                      <a:lnTo>
                        <a:pt x="36" y="72"/>
                      </a:lnTo>
                      <a:lnTo>
                        <a:pt x="0" y="36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3448800" y="1347480"/>
                  <a:ext cx="113400" cy="15228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36" y="0"/>
                      </a:moveTo>
                      <a:lnTo>
                        <a:pt x="72" y="36"/>
                      </a:lnTo>
                      <a:lnTo>
                        <a:pt x="36" y="72"/>
                      </a:lnTo>
                      <a:lnTo>
                        <a:pt x="0" y="36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3761280" y="1601280"/>
                  <a:ext cx="113400" cy="15228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36" y="0"/>
                      </a:moveTo>
                      <a:lnTo>
                        <a:pt x="72" y="36"/>
                      </a:lnTo>
                      <a:lnTo>
                        <a:pt x="36" y="72"/>
                      </a:lnTo>
                      <a:lnTo>
                        <a:pt x="0" y="36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4083840" y="2376000"/>
                  <a:ext cx="113400" cy="152280"/>
                </a:xfrm>
                <a:custGeom>
                  <a:avLst/>
                  <a:gdLst/>
                  <a:ahLst/>
                  <a:rect l="l" t="t" r="r" b="b"/>
                  <a:pathLst>
                    <a:path w="72" h="72">
                      <a:moveTo>
                        <a:pt x="36" y="0"/>
                      </a:moveTo>
                      <a:lnTo>
                        <a:pt x="72" y="36"/>
                      </a:lnTo>
                      <a:lnTo>
                        <a:pt x="36" y="72"/>
                      </a:lnTo>
                      <a:lnTo>
                        <a:pt x="0" y="36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2085840" y="1889280"/>
                  <a:ext cx="913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100MHz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14" name=""/>
                <p:cNvGrpSpPr/>
                <p:nvPr/>
              </p:nvGrpSpPr>
              <p:grpSpPr>
                <a:xfrm>
                  <a:off x="625320" y="1195560"/>
                  <a:ext cx="282600" cy="1779480"/>
                  <a:chOff x="625320" y="1195560"/>
                  <a:chExt cx="282600" cy="1779480"/>
                </a:xfrm>
              </p:grpSpPr>
              <p:sp>
                <p:nvSpPr>
                  <p:cNvPr id="2915" name=""/>
                  <p:cNvSpPr/>
                  <p:nvPr/>
                </p:nvSpPr>
                <p:spPr>
                  <a:xfrm>
                    <a:off x="720000" y="2731320"/>
                    <a:ext cx="1134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spcBef>
                        <a:spcPts val="300"/>
                      </a:spcBef>
                      <a:spcAft>
                        <a:spcPts val="30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6" name=""/>
                  <p:cNvSpPr/>
                  <p:nvPr/>
                </p:nvSpPr>
                <p:spPr>
                  <a:xfrm>
                    <a:off x="625320" y="2477520"/>
                    <a:ext cx="282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spcBef>
                        <a:spcPts val="300"/>
                      </a:spcBef>
                      <a:spcAft>
                        <a:spcPts val="30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Arial"/>
                      </a:rPr>
                      <a:t>0,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>
                    <a:off x="625320" y="2223720"/>
                    <a:ext cx="282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spcBef>
                        <a:spcPts val="300"/>
                      </a:spcBef>
                      <a:spcAft>
                        <a:spcPts val="30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Arial"/>
                      </a:rPr>
                      <a:t>0,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>
                    <a:off x="625320" y="1969920"/>
                    <a:ext cx="282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spcBef>
                        <a:spcPts val="300"/>
                      </a:spcBef>
                      <a:spcAft>
                        <a:spcPts val="30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Arial"/>
                      </a:rPr>
                      <a:t>0,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>
                    <a:off x="625320" y="1703160"/>
                    <a:ext cx="282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spcBef>
                        <a:spcPts val="300"/>
                      </a:spcBef>
                      <a:spcAft>
                        <a:spcPts val="30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Arial"/>
                      </a:rPr>
                      <a:t>0,8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>
                    <a:off x="720000" y="1449360"/>
                    <a:ext cx="1134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spcBef>
                        <a:spcPts val="300"/>
                      </a:spcBef>
                      <a:spcAft>
                        <a:spcPts val="30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>
                    <a:off x="625320" y="1195560"/>
                    <a:ext cx="282600" cy="24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spcBef>
                        <a:spcPts val="300"/>
                      </a:spcBef>
                      <a:spcAft>
                        <a:spcPts val="300"/>
                      </a:spcAft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de-DE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,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2" name=""/>
                <p:cNvSpPr/>
                <p:nvPr/>
              </p:nvSpPr>
              <p:spPr>
                <a:xfrm>
                  <a:off x="918360" y="297288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1553040" y="297288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2197800" y="297288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2832840" y="297288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3476520" y="297288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4111200" y="297288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2516400" y="3252240"/>
                  <a:ext cx="280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8"/>
                    </a:spcBef>
                    <a:spcAft>
                      <a:spcPts val="88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de-DE" sz="500" spc="-1" strike="noStrike">
                      <a:solidFill>
                        <a:srgbClr val="000000"/>
                      </a:solidFill>
                      <a:latin typeface="Small Fonts"/>
                    </a:rPr>
                    <a:t>t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9" name=""/>
              <p:cNvGrpSpPr/>
              <p:nvPr/>
            </p:nvGrpSpPr>
            <p:grpSpPr>
              <a:xfrm>
                <a:off x="182520" y="1382760"/>
                <a:ext cx="385920" cy="393480"/>
                <a:chOff x="182520" y="1382760"/>
                <a:chExt cx="385920" cy="393480"/>
              </a:xfrm>
            </p:grpSpPr>
            <p:sp>
              <p:nvSpPr>
                <p:cNvPr id="2930" name=""/>
                <p:cNvSpPr/>
                <p:nvPr/>
              </p:nvSpPr>
              <p:spPr>
                <a:xfrm>
                  <a:off x="568440" y="1382760"/>
                  <a:ext cx="0" cy="39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182520" y="1398600"/>
                  <a:ext cx="33300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2" name=""/>
              <p:cNvGrpSpPr/>
              <p:nvPr/>
            </p:nvGrpSpPr>
            <p:grpSpPr>
              <a:xfrm>
                <a:off x="4254480" y="2814480"/>
                <a:ext cx="702000" cy="482400"/>
                <a:chOff x="4254480" y="2814480"/>
                <a:chExt cx="702000" cy="482400"/>
              </a:xfrm>
            </p:grpSpPr>
            <p:sp>
              <p:nvSpPr>
                <p:cNvPr id="2933" name=""/>
                <p:cNvSpPr/>
                <p:nvPr/>
              </p:nvSpPr>
              <p:spPr>
                <a:xfrm>
                  <a:off x="4316400" y="2814480"/>
                  <a:ext cx="47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4254480" y="2935800"/>
                  <a:ext cx="70200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t (ns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5" name=""/>
          <p:cNvSpPr/>
          <p:nvPr/>
        </p:nvSpPr>
        <p:spPr>
          <a:xfrm rot="1689000">
            <a:off x="914040" y="1012680"/>
            <a:ext cx="577800" cy="17161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flipH="1" rot="19911000">
            <a:off x="3404880" y="1011240"/>
            <a:ext cx="577800" cy="17161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high  frequencies  pushpull-cmos model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5254560" y="3943440"/>
            <a:ext cx="323496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ove 500MHz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behavior looks suspic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9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2940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1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2942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2943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2944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0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2951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3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6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2957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8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9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3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64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2965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2966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7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9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2970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3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2974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7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2978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9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0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81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2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8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1" name=""/>
          <p:cNvGrpSpPr/>
          <p:nvPr/>
        </p:nvGrpSpPr>
        <p:grpSpPr>
          <a:xfrm>
            <a:off x="239760" y="1106640"/>
            <a:ext cx="4902480" cy="2211480"/>
            <a:chOff x="239760" y="1106640"/>
            <a:chExt cx="4902480" cy="2211480"/>
          </a:xfrm>
        </p:grpSpPr>
        <p:grpSp>
          <p:nvGrpSpPr>
            <p:cNvPr id="2992" name=""/>
            <p:cNvGrpSpPr/>
            <p:nvPr/>
          </p:nvGrpSpPr>
          <p:grpSpPr>
            <a:xfrm>
              <a:off x="690480" y="1106640"/>
              <a:ext cx="3599280" cy="2099520"/>
              <a:chOff x="690480" y="1106640"/>
              <a:chExt cx="3599280" cy="2099520"/>
            </a:xfrm>
          </p:grpSpPr>
          <p:sp>
            <p:nvSpPr>
              <p:cNvPr id="2993" name=""/>
              <p:cNvSpPr/>
              <p:nvPr/>
            </p:nvSpPr>
            <p:spPr>
              <a:xfrm>
                <a:off x="1014480" y="1236600"/>
                <a:ext cx="3191040" cy="1595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1014480" y="2571840"/>
                <a:ext cx="31910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1014480" y="2300040"/>
                <a:ext cx="3191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1014480" y="2040120"/>
                <a:ext cx="3191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014480" y="1767960"/>
                <a:ext cx="31910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014480" y="1508040"/>
                <a:ext cx="31910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1014480" y="1236600"/>
                <a:ext cx="3191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1014480" y="1236600"/>
                <a:ext cx="3191040" cy="15955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1014480" y="1236600"/>
                <a:ext cx="1440" cy="159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976320" y="28324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976320" y="2571840"/>
                <a:ext cx="38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976320" y="23000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976320" y="20401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976320" y="1767960"/>
                <a:ext cx="38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976320" y="1508040"/>
                <a:ext cx="38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976320" y="12366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1014480" y="2832480"/>
                <a:ext cx="3191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1014480" y="2832480"/>
                <a:ext cx="1440" cy="46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1652760" y="2832480"/>
                <a:ext cx="1440" cy="46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290680" y="2832480"/>
                <a:ext cx="1800" cy="46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928960" y="2832480"/>
                <a:ext cx="1800" cy="46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567240" y="2832480"/>
                <a:ext cx="1440" cy="46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4205520" y="2832480"/>
                <a:ext cx="1440" cy="46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1014480" y="1638000"/>
                <a:ext cx="324000" cy="7920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1338480" y="1366560"/>
                <a:ext cx="314280" cy="271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1652760" y="1366560"/>
                <a:ext cx="323640" cy="271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1976400" y="1638000"/>
                <a:ext cx="314280" cy="7920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2290680" y="1638000"/>
                <a:ext cx="324000" cy="7920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V="1">
                <a:off x="2614680" y="1366560"/>
                <a:ext cx="314280" cy="271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2928960" y="1366560"/>
                <a:ext cx="324000" cy="271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252960" y="1638000"/>
                <a:ext cx="314280" cy="7920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957240" y="2359080"/>
                <a:ext cx="114480" cy="1418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1281240" y="1567440"/>
                <a:ext cx="114120" cy="141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1595520" y="1295280"/>
                <a:ext cx="114120" cy="141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1919520" y="1567440"/>
                <a:ext cx="114120" cy="141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2233800" y="2359080"/>
                <a:ext cx="114120" cy="1418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2557440" y="1567440"/>
                <a:ext cx="114480" cy="141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2871720" y="1295280"/>
                <a:ext cx="114480" cy="141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195720" y="1567440"/>
                <a:ext cx="114120" cy="141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510000" y="2359080"/>
                <a:ext cx="114480" cy="1418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2515320" y="2193840"/>
                <a:ext cx="84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500MH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4" name=""/>
              <p:cNvGrpSpPr/>
              <p:nvPr/>
            </p:nvGrpSpPr>
            <p:grpSpPr>
              <a:xfrm>
                <a:off x="690480" y="1106640"/>
                <a:ext cx="282600" cy="1838880"/>
                <a:chOff x="690480" y="1106640"/>
                <a:chExt cx="282600" cy="1838880"/>
              </a:xfrm>
            </p:grpSpPr>
            <p:sp>
              <p:nvSpPr>
                <p:cNvPr id="3035" name=""/>
                <p:cNvSpPr/>
                <p:nvPr/>
              </p:nvSpPr>
              <p:spPr>
                <a:xfrm>
                  <a:off x="785160" y="27018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690480" y="244188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690480" y="216972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690480" y="19098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690480" y="163836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785160" y="137844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690480" y="110664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,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2" name=""/>
              <p:cNvGrpSpPr/>
              <p:nvPr/>
            </p:nvGrpSpPr>
            <p:grpSpPr>
              <a:xfrm>
                <a:off x="985680" y="2962440"/>
                <a:ext cx="3304080" cy="243720"/>
                <a:chOff x="985680" y="2962440"/>
                <a:chExt cx="3304080" cy="243720"/>
              </a:xfrm>
            </p:grpSpPr>
            <p:sp>
              <p:nvSpPr>
                <p:cNvPr id="3043" name=""/>
                <p:cNvSpPr/>
                <p:nvPr/>
              </p:nvSpPr>
              <p:spPr>
                <a:xfrm>
                  <a:off x="985680" y="296244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1623600" y="296244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2261880" y="296244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2900160" y="296244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3538440" y="296244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4176360" y="296244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9" name=""/>
            <p:cNvGrpSpPr/>
            <p:nvPr/>
          </p:nvGrpSpPr>
          <p:grpSpPr>
            <a:xfrm>
              <a:off x="4440240" y="2828880"/>
              <a:ext cx="702000" cy="489240"/>
              <a:chOff x="4440240" y="2828880"/>
              <a:chExt cx="702000" cy="489240"/>
            </a:xfrm>
          </p:grpSpPr>
          <p:sp>
            <p:nvSpPr>
              <p:cNvPr id="3050" name=""/>
              <p:cNvSpPr/>
              <p:nvPr/>
            </p:nvSpPr>
            <p:spPr>
              <a:xfrm>
                <a:off x="4502160" y="2828880"/>
                <a:ext cx="47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440240" y="2957040"/>
                <a:ext cx="7020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t (n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2" name=""/>
            <p:cNvGrpSpPr/>
            <p:nvPr/>
          </p:nvGrpSpPr>
          <p:grpSpPr>
            <a:xfrm>
              <a:off x="239760" y="1280880"/>
              <a:ext cx="385920" cy="393480"/>
              <a:chOff x="239760" y="1280880"/>
              <a:chExt cx="385920" cy="393480"/>
            </a:xfrm>
          </p:grpSpPr>
          <p:sp>
            <p:nvSpPr>
              <p:cNvPr id="3053" name=""/>
              <p:cNvSpPr/>
              <p:nvPr/>
            </p:nvSpPr>
            <p:spPr>
              <a:xfrm>
                <a:off x="625680" y="1280880"/>
                <a:ext cx="0" cy="39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239760" y="1296720"/>
                <a:ext cx="3330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5" name=""/>
          <p:cNvGrpSpPr/>
          <p:nvPr/>
        </p:nvGrpSpPr>
        <p:grpSpPr>
          <a:xfrm>
            <a:off x="217440" y="3511440"/>
            <a:ext cx="4839120" cy="2310480"/>
            <a:chOff x="217440" y="3511440"/>
            <a:chExt cx="4839120" cy="2310480"/>
          </a:xfrm>
        </p:grpSpPr>
        <p:grpSp>
          <p:nvGrpSpPr>
            <p:cNvPr id="3056" name=""/>
            <p:cNvGrpSpPr/>
            <p:nvPr/>
          </p:nvGrpSpPr>
          <p:grpSpPr>
            <a:xfrm>
              <a:off x="669960" y="3511440"/>
              <a:ext cx="3598920" cy="2143800"/>
              <a:chOff x="669960" y="3511440"/>
              <a:chExt cx="3598920" cy="2143800"/>
            </a:xfrm>
          </p:grpSpPr>
          <p:sp>
            <p:nvSpPr>
              <p:cNvPr id="3057" name=""/>
              <p:cNvSpPr/>
              <p:nvPr/>
            </p:nvSpPr>
            <p:spPr>
              <a:xfrm>
                <a:off x="1015920" y="3632040"/>
                <a:ext cx="3168720" cy="1668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1015920" y="5019480"/>
                <a:ext cx="3168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1015920" y="4748040"/>
                <a:ext cx="3168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1015920" y="4466520"/>
                <a:ext cx="3168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1015920" y="4185000"/>
                <a:ext cx="3168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1015920" y="3913560"/>
                <a:ext cx="3168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1015920" y="3632040"/>
                <a:ext cx="3168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1015920" y="3632040"/>
                <a:ext cx="3168720" cy="16686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1015920" y="3632040"/>
                <a:ext cx="1440" cy="1668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978120" y="5301000"/>
                <a:ext cx="37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978120" y="5019480"/>
                <a:ext cx="37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978120" y="4748040"/>
                <a:ext cx="37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978120" y="4466520"/>
                <a:ext cx="37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978120" y="4185000"/>
                <a:ext cx="37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978120" y="3913560"/>
                <a:ext cx="37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978120" y="3632040"/>
                <a:ext cx="37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1015920" y="5301000"/>
                <a:ext cx="3168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V="1">
                <a:off x="1015920" y="530064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1651680" y="530064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V="1">
                <a:off x="2287440" y="5300640"/>
                <a:ext cx="108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V="1">
                <a:off x="2913480" y="5300640"/>
                <a:ext cx="108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V="1">
                <a:off x="3549240" y="5300640"/>
                <a:ext cx="108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V="1">
                <a:off x="4184640" y="530064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V="1">
                <a:off x="1015920" y="4043880"/>
                <a:ext cx="313200" cy="8442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V="1">
                <a:off x="1329120" y="3913200"/>
                <a:ext cx="66240" cy="1306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1395720" y="3913560"/>
                <a:ext cx="312840" cy="5526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1708560" y="4466520"/>
                <a:ext cx="66240" cy="281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V="1">
                <a:off x="1775160" y="4044240"/>
                <a:ext cx="322560" cy="703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V="1">
                <a:off x="2097720" y="3913200"/>
                <a:ext cx="123120" cy="1306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2221200" y="3913560"/>
                <a:ext cx="312840" cy="8341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V="1">
                <a:off x="2534040" y="4044240"/>
                <a:ext cx="322200" cy="703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V="1">
                <a:off x="2856600" y="3913200"/>
                <a:ext cx="189360" cy="1306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046320" y="3913560"/>
                <a:ext cx="246600" cy="6933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V="1">
                <a:off x="3292920" y="4043880"/>
                <a:ext cx="256320" cy="5626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V="1">
                <a:off x="3549240" y="3913200"/>
                <a:ext cx="66240" cy="1306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959040" y="4828320"/>
                <a:ext cx="113400" cy="1206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1272240" y="3984120"/>
                <a:ext cx="113400" cy="120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1338480" y="3853080"/>
                <a:ext cx="113400" cy="1206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1651680" y="4406040"/>
                <a:ext cx="113760" cy="1206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1717920" y="4687560"/>
                <a:ext cx="113760" cy="1206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2040840" y="3984120"/>
                <a:ext cx="113400" cy="120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2163960" y="3853080"/>
                <a:ext cx="113400" cy="1206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2477160" y="4687560"/>
                <a:ext cx="113400" cy="1206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2799720" y="3984120"/>
                <a:ext cx="113400" cy="120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2989440" y="3853080"/>
                <a:ext cx="113400" cy="1206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236400" y="4547160"/>
                <a:ext cx="113400" cy="120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492360" y="3984120"/>
                <a:ext cx="113760" cy="120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558600" y="3853080"/>
                <a:ext cx="113760" cy="12060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2719440" y="4798080"/>
                <a:ext cx="84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750MH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6" name=""/>
              <p:cNvGrpSpPr/>
              <p:nvPr/>
            </p:nvGrpSpPr>
            <p:grpSpPr>
              <a:xfrm>
                <a:off x="669960" y="3511440"/>
                <a:ext cx="282600" cy="1912320"/>
                <a:chOff x="669960" y="3511440"/>
                <a:chExt cx="282600" cy="1912320"/>
              </a:xfrm>
            </p:grpSpPr>
            <p:sp>
              <p:nvSpPr>
                <p:cNvPr id="3107" name=""/>
                <p:cNvSpPr/>
                <p:nvPr/>
              </p:nvSpPr>
              <p:spPr>
                <a:xfrm>
                  <a:off x="774000" y="518004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669960" y="489888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669960" y="462708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669960" y="434556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669960" y="406404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774000" y="379296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669960" y="351144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,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4" name=""/>
              <p:cNvGrpSpPr/>
              <p:nvPr/>
            </p:nvGrpSpPr>
            <p:grpSpPr>
              <a:xfrm>
                <a:off x="986760" y="5411520"/>
                <a:ext cx="3282120" cy="243720"/>
                <a:chOff x="986760" y="5411520"/>
                <a:chExt cx="3282120" cy="243720"/>
              </a:xfrm>
            </p:grpSpPr>
            <p:sp>
              <p:nvSpPr>
                <p:cNvPr id="3115" name=""/>
                <p:cNvSpPr/>
                <p:nvPr/>
              </p:nvSpPr>
              <p:spPr>
                <a:xfrm>
                  <a:off x="986760" y="541152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1621440" y="541152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2258280" y="541152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2884320" y="541152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3519720" y="541152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4155480" y="541152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1" name=""/>
            <p:cNvGrpSpPr/>
            <p:nvPr/>
          </p:nvGrpSpPr>
          <p:grpSpPr>
            <a:xfrm>
              <a:off x="4354560" y="5332320"/>
              <a:ext cx="702000" cy="489600"/>
              <a:chOff x="4354560" y="5332320"/>
              <a:chExt cx="702000" cy="489600"/>
            </a:xfrm>
          </p:grpSpPr>
          <p:sp>
            <p:nvSpPr>
              <p:cNvPr id="3122" name=""/>
              <p:cNvSpPr/>
              <p:nvPr/>
            </p:nvSpPr>
            <p:spPr>
              <a:xfrm>
                <a:off x="4416480" y="5332320"/>
                <a:ext cx="47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4354560" y="5460840"/>
                <a:ext cx="7020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t (n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4" name=""/>
            <p:cNvGrpSpPr/>
            <p:nvPr/>
          </p:nvGrpSpPr>
          <p:grpSpPr>
            <a:xfrm>
              <a:off x="217440" y="3728880"/>
              <a:ext cx="385920" cy="393480"/>
              <a:chOff x="217440" y="3728880"/>
              <a:chExt cx="385920" cy="393480"/>
            </a:xfrm>
          </p:grpSpPr>
          <p:sp>
            <p:nvSpPr>
              <p:cNvPr id="3125" name=""/>
              <p:cNvSpPr/>
              <p:nvPr/>
            </p:nvSpPr>
            <p:spPr>
              <a:xfrm>
                <a:off x="603360" y="3728880"/>
                <a:ext cx="0" cy="39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17440" y="3744720"/>
                <a:ext cx="3330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ignal characteristics for pre-emphasi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128" name=""/>
          <p:cNvGrpSpPr/>
          <p:nvPr/>
        </p:nvGrpSpPr>
        <p:grpSpPr>
          <a:xfrm>
            <a:off x="684360" y="1197000"/>
            <a:ext cx="6806520" cy="2744640"/>
            <a:chOff x="684360" y="1197000"/>
            <a:chExt cx="6806520" cy="2744640"/>
          </a:xfrm>
        </p:grpSpPr>
        <p:grpSp>
          <p:nvGrpSpPr>
            <p:cNvPr id="3129" name=""/>
            <p:cNvGrpSpPr/>
            <p:nvPr/>
          </p:nvGrpSpPr>
          <p:grpSpPr>
            <a:xfrm>
              <a:off x="684360" y="1916280"/>
              <a:ext cx="6481080" cy="1295280"/>
              <a:chOff x="684360" y="1916280"/>
              <a:chExt cx="6481080" cy="1295280"/>
            </a:xfrm>
          </p:grpSpPr>
          <p:sp>
            <p:nvSpPr>
              <p:cNvPr id="3130" name=""/>
              <p:cNvSpPr/>
              <p:nvPr/>
            </p:nvSpPr>
            <p:spPr>
              <a:xfrm>
                <a:off x="684360" y="288792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404720" y="1917720"/>
                <a:ext cx="0" cy="96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844720" y="2241360"/>
                <a:ext cx="0" cy="96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284360" y="1917720"/>
                <a:ext cx="0" cy="96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445080" y="2887920"/>
                <a:ext cx="0" cy="32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124000" y="224136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284360" y="191772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3565440" y="288792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844720" y="321156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1404720" y="191628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5005080" y="1917720"/>
                <a:ext cx="0" cy="32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3565440" y="2887920"/>
                <a:ext cx="0" cy="32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2124000" y="1917720"/>
                <a:ext cx="0" cy="32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5724360" y="321156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5005080" y="224136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5724360" y="2241360"/>
                <a:ext cx="0" cy="96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445080" y="288792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7" name=""/>
            <p:cNvSpPr/>
            <p:nvPr/>
          </p:nvSpPr>
          <p:spPr>
            <a:xfrm>
              <a:off x="684360" y="3716280"/>
              <a:ext cx="60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684360" y="119700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878880" y="35733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0" name=""/>
          <p:cNvSpPr/>
          <p:nvPr/>
        </p:nvSpPr>
        <p:spPr>
          <a:xfrm>
            <a:off x="6468120" y="1295280"/>
            <a:ext cx="230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ach bit after a 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 the logic stat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‚emphasized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1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3152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3154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3155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3156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0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1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2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3163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4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5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6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8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3169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2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5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6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3177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3178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1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3182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4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5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3186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9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3190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1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2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93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4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3195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0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03" name=""/>
          <p:cNvGrpSpPr/>
          <p:nvPr/>
        </p:nvGrpSpPr>
        <p:grpSpPr>
          <a:xfrm>
            <a:off x="923760" y="888840"/>
            <a:ext cx="7399440" cy="4140360"/>
            <a:chOff x="923760" y="888840"/>
            <a:chExt cx="7399440" cy="4140360"/>
          </a:xfrm>
        </p:grpSpPr>
        <p:sp>
          <p:nvSpPr>
            <p:cNvPr id="3204" name=""/>
            <p:cNvSpPr/>
            <p:nvPr/>
          </p:nvSpPr>
          <p:spPr>
            <a:xfrm>
              <a:off x="1642680" y="888840"/>
              <a:ext cx="1073880" cy="361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1         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5" name=""/>
            <p:cNvGrpSpPr/>
            <p:nvPr/>
          </p:nvGrpSpPr>
          <p:grpSpPr>
            <a:xfrm>
              <a:off x="923760" y="1261800"/>
              <a:ext cx="7399440" cy="3767400"/>
              <a:chOff x="923760" y="1261800"/>
              <a:chExt cx="7399440" cy="3767400"/>
            </a:xfrm>
          </p:grpSpPr>
          <p:sp>
            <p:nvSpPr>
              <p:cNvPr id="3206" name=""/>
              <p:cNvSpPr/>
              <p:nvPr/>
            </p:nvSpPr>
            <p:spPr>
              <a:xfrm>
                <a:off x="3205080" y="170028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2124360" y="1268280"/>
                <a:ext cx="1186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High-P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rot="18900000">
                <a:off x="2484360" y="1773000"/>
                <a:ext cx="576360" cy="360360"/>
              </a:xfrm>
              <a:prstGeom prst="leftArrow">
                <a:avLst>
                  <a:gd name="adj1" fmla="val 50000"/>
                  <a:gd name="adj2" fmla="val 39985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 rot="18900000">
                <a:off x="1619280" y="1412640"/>
                <a:ext cx="576360" cy="360360"/>
              </a:xfrm>
              <a:prstGeom prst="leftArrow">
                <a:avLst>
                  <a:gd name="adj1" fmla="val 50000"/>
                  <a:gd name="adj2" fmla="val 39985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1224000" y="1646280"/>
                <a:ext cx="1646280" cy="1617480"/>
              </a:xfrm>
              <a:prstGeom prst="ellipse">
                <a:avLst/>
              </a:prstGeom>
              <a:noFill/>
              <a:ln w="572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950760" y="4462560"/>
                <a:ext cx="7145280" cy="45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451"/>
                  </a:spcBef>
                  <a:spcAft>
                    <a:spcPts val="451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rising egde contains information for datapattern 1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923760" y="4340160"/>
                <a:ext cx="7399440" cy="689040"/>
              </a:xfrm>
              <a:prstGeom prst="ellipse">
                <a:avLst/>
              </a:prstGeom>
              <a:noFill/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13" name=""/>
          <p:cNvGrpSpPr/>
          <p:nvPr/>
        </p:nvGrpSpPr>
        <p:grpSpPr>
          <a:xfrm>
            <a:off x="870120" y="901800"/>
            <a:ext cx="7399080" cy="4946400"/>
            <a:chOff x="870120" y="901800"/>
            <a:chExt cx="7399080" cy="4946400"/>
          </a:xfrm>
        </p:grpSpPr>
        <p:sp>
          <p:nvSpPr>
            <p:cNvPr id="3214" name=""/>
            <p:cNvSpPr/>
            <p:nvPr/>
          </p:nvSpPr>
          <p:spPr>
            <a:xfrm>
              <a:off x="3741840" y="372420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ow-P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4776120" y="31561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 rot="2700000">
              <a:off x="3311280" y="3321000"/>
              <a:ext cx="576360" cy="360360"/>
            </a:xfrm>
            <a:prstGeom prst="leftArrow">
              <a:avLst>
                <a:gd name="adj1" fmla="val 50000"/>
                <a:gd name="adj2" fmla="val 39985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 rot="2700000">
              <a:off x="4044600" y="3027240"/>
              <a:ext cx="576360" cy="360360"/>
            </a:xfrm>
            <a:prstGeom prst="leftArrow">
              <a:avLst>
                <a:gd name="adj1" fmla="val 50000"/>
                <a:gd name="adj2" fmla="val 39985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770200" y="2346480"/>
              <a:ext cx="1646280" cy="1617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935640" y="5276880"/>
              <a:ext cx="72126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falling egde contains information for datapattern 0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70120" y="5159520"/>
              <a:ext cx="7399080" cy="688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992320" y="901800"/>
              <a:ext cx="1009800" cy="361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0        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3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5600" y="1028520"/>
            <a:ext cx="8634240" cy="23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666666"/>
                </a:solidFill>
                <a:latin typeface="Arial"/>
              </a:rPr>
              <a:t>driver schedules: </a:t>
            </a:r>
            <a:br>
              <a:rPr sz="3200"/>
            </a:br>
            <a:r>
              <a:rPr b="1" lang="fi-FI" sz="3200" spc="-1" strike="noStrike">
                <a:solidFill>
                  <a:srgbClr val="666666"/>
                </a:solidFill>
                <a:latin typeface="Arial"/>
              </a:rPr>
              <a:t>  pre-/de-emphasis and </a:t>
            </a:r>
            <a:br>
              <a:rPr sz="3200"/>
            </a:br>
            <a:r>
              <a:rPr b="1" lang="fi-FI" sz="3200" spc="-1" strike="noStrike">
                <a:solidFill>
                  <a:srgbClr val="666666"/>
                </a:solidFill>
                <a:latin typeface="Arial"/>
              </a:rPr>
              <a:t>  frequency/data-rate issues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" y="3428640"/>
            <a:ext cx="8634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ckhard Lensk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DATE , Munich , Germ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14th March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river schedule @ 250MHz </a:t>
            </a:r>
            <a:r>
              <a:rPr b="1" lang="fi-FI" sz="2000" spc="-1" strike="noStrike">
                <a:solidFill>
                  <a:srgbClr val="666666"/>
                </a:solidFill>
                <a:latin typeface="Arial"/>
              </a:rPr>
              <a:t>(tp=4ns)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223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3224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5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3226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3227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3228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3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4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3235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9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0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3241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4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5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6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7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48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3249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3250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1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3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3254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6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7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3258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9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1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3262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3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4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65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6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3267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2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75" name=""/>
          <p:cNvGrpSpPr/>
          <p:nvPr/>
        </p:nvGrpSpPr>
        <p:grpSpPr>
          <a:xfrm>
            <a:off x="4576320" y="525600"/>
            <a:ext cx="4567680" cy="2992320"/>
            <a:chOff x="4576320" y="525600"/>
            <a:chExt cx="4567680" cy="2992320"/>
          </a:xfrm>
        </p:grpSpPr>
        <p:pic>
          <p:nvPicPr>
            <p:cNvPr id="3276" name="" descr=""/>
            <p:cNvPicPr/>
            <p:nvPr/>
          </p:nvPicPr>
          <p:blipFill>
            <a:blip r:embed="rId1"/>
            <a:stretch/>
          </p:blipFill>
          <p:spPr>
            <a:xfrm>
              <a:off x="5332320" y="525600"/>
              <a:ext cx="3811680" cy="29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77" name=""/>
            <p:cNvGrpSpPr/>
            <p:nvPr/>
          </p:nvGrpSpPr>
          <p:grpSpPr>
            <a:xfrm>
              <a:off x="4576320" y="835200"/>
              <a:ext cx="738720" cy="447480"/>
              <a:chOff x="4576320" y="835200"/>
              <a:chExt cx="738720" cy="447480"/>
            </a:xfrm>
          </p:grpSpPr>
          <p:sp>
            <p:nvSpPr>
              <p:cNvPr id="3278" name=""/>
              <p:cNvSpPr/>
              <p:nvPr/>
            </p:nvSpPr>
            <p:spPr>
              <a:xfrm rot="5400000">
                <a:off x="4905000" y="796680"/>
                <a:ext cx="92520" cy="2473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rot="5400000">
                <a:off x="4579200" y="832320"/>
                <a:ext cx="170280" cy="1760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216760" y="951840"/>
                <a:ext cx="91440" cy="163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208840" y="1169280"/>
                <a:ext cx="106200" cy="113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82" name=""/>
              <p:cNvCxnSpPr>
                <a:stCxn id="3279" idx="0"/>
                <a:endCxn id="3278" idx="3"/>
              </p:cNvCxnSpPr>
              <p:nvPr/>
            </p:nvCxnSpPr>
            <p:spPr>
              <a:xfrm flipV="1">
                <a:off x="4753440" y="919440"/>
                <a:ext cx="73800" cy="1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283" name=""/>
              <p:cNvCxnSpPr>
                <a:stCxn id="3278" idx="1"/>
                <a:endCxn id="3280" idx="0"/>
              </p:cNvCxnSpPr>
              <p:nvPr/>
            </p:nvCxnSpPr>
            <p:spPr>
              <a:xfrm>
                <a:off x="5074200" y="919800"/>
                <a:ext cx="189000" cy="3240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284" name=""/>
              <p:cNvCxnSpPr>
                <a:stCxn id="3280" idx="2"/>
                <a:endCxn id="3281" idx="0"/>
              </p:cNvCxnSpPr>
              <p:nvPr/>
            </p:nvCxnSpPr>
            <p:spPr>
              <a:xfrm flipH="1">
                <a:off x="5262120" y="1114560"/>
                <a:ext cx="1440" cy="55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285" name=""/>
          <p:cNvGrpSpPr/>
          <p:nvPr/>
        </p:nvGrpSpPr>
        <p:grpSpPr>
          <a:xfrm>
            <a:off x="4589280" y="3584520"/>
            <a:ext cx="4554720" cy="2992320"/>
            <a:chOff x="4589280" y="3584520"/>
            <a:chExt cx="4554720" cy="2992320"/>
          </a:xfrm>
        </p:grpSpPr>
        <p:pic>
          <p:nvPicPr>
            <p:cNvPr id="3286" name="" descr=""/>
            <p:cNvPicPr/>
            <p:nvPr/>
          </p:nvPicPr>
          <p:blipFill>
            <a:blip r:embed="rId2"/>
            <a:stretch/>
          </p:blipFill>
          <p:spPr>
            <a:xfrm>
              <a:off x="5332320" y="3584520"/>
              <a:ext cx="3811680" cy="29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7" name=""/>
            <p:cNvGrpSpPr/>
            <p:nvPr/>
          </p:nvGrpSpPr>
          <p:grpSpPr>
            <a:xfrm>
              <a:off x="4589280" y="5779800"/>
              <a:ext cx="738360" cy="452880"/>
              <a:chOff x="4589280" y="5779800"/>
              <a:chExt cx="738360" cy="452880"/>
            </a:xfrm>
          </p:grpSpPr>
          <p:grpSp>
            <p:nvGrpSpPr>
              <p:cNvPr id="3288" name=""/>
              <p:cNvGrpSpPr/>
              <p:nvPr/>
            </p:nvGrpSpPr>
            <p:grpSpPr>
              <a:xfrm>
                <a:off x="4589280" y="5784840"/>
                <a:ext cx="738360" cy="447840"/>
                <a:chOff x="4589280" y="5784840"/>
                <a:chExt cx="738360" cy="447840"/>
              </a:xfrm>
            </p:grpSpPr>
            <p:sp>
              <p:nvSpPr>
                <p:cNvPr id="3289" name=""/>
                <p:cNvSpPr/>
                <p:nvPr/>
              </p:nvSpPr>
              <p:spPr>
                <a:xfrm rot="5400000">
                  <a:off x="4917960" y="5746320"/>
                  <a:ext cx="92520" cy="247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 rot="5400000">
                  <a:off x="4592160" y="5781960"/>
                  <a:ext cx="170280" cy="176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5229360" y="5901480"/>
                  <a:ext cx="91440" cy="16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5221440" y="6119280"/>
                  <a:ext cx="106200" cy="1134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293" name=""/>
                <p:cNvCxnSpPr>
                  <a:stCxn id="3290" idx="0"/>
                  <a:endCxn id="3289" idx="3"/>
                </p:cNvCxnSpPr>
                <p:nvPr/>
              </p:nvCxnSpPr>
              <p:spPr>
                <a:xfrm flipV="1">
                  <a:off x="4766400" y="5869080"/>
                  <a:ext cx="73800" cy="14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294" name=""/>
                <p:cNvCxnSpPr>
                  <a:stCxn id="3289" idx="1"/>
                  <a:endCxn id="3291" idx="0"/>
                </p:cNvCxnSpPr>
                <p:nvPr/>
              </p:nvCxnSpPr>
              <p:spPr>
                <a:xfrm>
                  <a:off x="5086800" y="5869440"/>
                  <a:ext cx="189000" cy="3240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295" name=""/>
                <p:cNvCxnSpPr>
                  <a:stCxn id="3291" idx="2"/>
                  <a:endCxn id="3292" idx="0"/>
                </p:cNvCxnSpPr>
                <p:nvPr/>
              </p:nvCxnSpPr>
              <p:spPr>
                <a:xfrm flipH="1">
                  <a:off x="5274720" y="6064200"/>
                  <a:ext cx="1440" cy="5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3296" name=""/>
              <p:cNvGrpSpPr/>
              <p:nvPr/>
            </p:nvGrpSpPr>
            <p:grpSpPr>
              <a:xfrm>
                <a:off x="4880880" y="5779800"/>
                <a:ext cx="179640" cy="178560"/>
                <a:chOff x="4880880" y="5779800"/>
                <a:chExt cx="179640" cy="178560"/>
              </a:xfrm>
            </p:grpSpPr>
            <p:sp>
              <p:nvSpPr>
                <p:cNvPr id="3297" name=""/>
                <p:cNvSpPr/>
                <p:nvPr/>
              </p:nvSpPr>
              <p:spPr>
                <a:xfrm flipH="1">
                  <a:off x="4880880" y="577980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4887720" y="578556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99" name=""/>
          <p:cNvGrpSpPr/>
          <p:nvPr/>
        </p:nvGrpSpPr>
        <p:grpSpPr>
          <a:xfrm>
            <a:off x="1524960" y="3440160"/>
            <a:ext cx="3849120" cy="1263240"/>
            <a:chOff x="1524960" y="3440160"/>
            <a:chExt cx="3849120" cy="1263240"/>
          </a:xfrm>
        </p:grpSpPr>
        <p:sp>
          <p:nvSpPr>
            <p:cNvPr id="3300" name=""/>
            <p:cNvSpPr/>
            <p:nvPr/>
          </p:nvSpPr>
          <p:spPr>
            <a:xfrm>
              <a:off x="1601640" y="3440160"/>
              <a:ext cx="787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524960" y="3622320"/>
              <a:ext cx="38491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ising part finished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odel stays in this logic HIGH state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until „tool“ switches to 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2" name=""/>
          <p:cNvGrpSpPr/>
          <p:nvPr/>
        </p:nvGrpSpPr>
        <p:grpSpPr>
          <a:xfrm>
            <a:off x="704880" y="3416400"/>
            <a:ext cx="4625280" cy="1684800"/>
            <a:chOff x="704880" y="3416400"/>
            <a:chExt cx="4625280" cy="1684800"/>
          </a:xfrm>
        </p:grpSpPr>
        <p:grpSp>
          <p:nvGrpSpPr>
            <p:cNvPr id="3303" name=""/>
            <p:cNvGrpSpPr/>
            <p:nvPr/>
          </p:nvGrpSpPr>
          <p:grpSpPr>
            <a:xfrm>
              <a:off x="704880" y="4740120"/>
              <a:ext cx="4625280" cy="361080"/>
              <a:chOff x="704880" y="4740120"/>
              <a:chExt cx="4625280" cy="361080"/>
            </a:xfrm>
          </p:grpSpPr>
          <p:sp>
            <p:nvSpPr>
              <p:cNvPr id="3304" name=""/>
              <p:cNvSpPr/>
              <p:nvPr/>
            </p:nvSpPr>
            <p:spPr>
              <a:xfrm>
                <a:off x="704880" y="4906800"/>
                <a:ext cx="88596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1626120" y="4740120"/>
                <a:ext cx="37040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Rising egde part of driver schedu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6" name=""/>
            <p:cNvSpPr/>
            <p:nvPr/>
          </p:nvSpPr>
          <p:spPr>
            <a:xfrm>
              <a:off x="735120" y="3416400"/>
              <a:ext cx="0" cy="16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549440" y="3416400"/>
              <a:ext cx="0" cy="16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8" name=""/>
          <p:cNvGrpSpPr/>
          <p:nvPr/>
        </p:nvGrpSpPr>
        <p:grpSpPr>
          <a:xfrm>
            <a:off x="0" y="706320"/>
            <a:ext cx="4956480" cy="2596680"/>
            <a:chOff x="0" y="706320"/>
            <a:chExt cx="4956480" cy="2596680"/>
          </a:xfrm>
        </p:grpSpPr>
        <p:grpSp>
          <p:nvGrpSpPr>
            <p:cNvPr id="3309" name=""/>
            <p:cNvGrpSpPr/>
            <p:nvPr/>
          </p:nvGrpSpPr>
          <p:grpSpPr>
            <a:xfrm>
              <a:off x="0" y="706320"/>
              <a:ext cx="4956480" cy="2596680"/>
              <a:chOff x="0" y="706320"/>
              <a:chExt cx="4956480" cy="2596680"/>
            </a:xfrm>
          </p:grpSpPr>
          <p:sp>
            <p:nvSpPr>
              <p:cNvPr id="3310" name=""/>
              <p:cNvSpPr/>
              <p:nvPr/>
            </p:nvSpPr>
            <p:spPr>
              <a:xfrm>
                <a:off x="746280" y="1452600"/>
                <a:ext cx="3270240" cy="1503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746280" y="2709720"/>
                <a:ext cx="3270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746280" y="2454120"/>
                <a:ext cx="3270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746280" y="2208240"/>
                <a:ext cx="327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746280" y="1952640"/>
                <a:ext cx="327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746280" y="1706400"/>
                <a:ext cx="3270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46280" y="1452600"/>
                <a:ext cx="327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1157400" y="1452600"/>
                <a:ext cx="1440" cy="150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1560600" y="1452600"/>
                <a:ext cx="1440" cy="150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1973160" y="1452600"/>
                <a:ext cx="1800" cy="150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2384280" y="1452600"/>
                <a:ext cx="1800" cy="150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2787480" y="1452600"/>
                <a:ext cx="1800" cy="150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3200400" y="1452600"/>
                <a:ext cx="1440" cy="150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3603600" y="1452600"/>
                <a:ext cx="1440" cy="150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4016520" y="1452600"/>
                <a:ext cx="0" cy="150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746280" y="1452600"/>
                <a:ext cx="3270240" cy="15033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746280" y="2955960"/>
                <a:ext cx="327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 flipV="1">
                <a:off x="1157400" y="2955600"/>
                <a:ext cx="1440" cy="36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V="1">
                <a:off x="1560600" y="2955600"/>
                <a:ext cx="1440" cy="36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 flipV="1">
                <a:off x="1973160" y="2955600"/>
                <a:ext cx="1800" cy="36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 flipV="1">
                <a:off x="2384280" y="2955600"/>
                <a:ext cx="1800" cy="36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V="1">
                <a:off x="2787480" y="2955600"/>
                <a:ext cx="1800" cy="36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 flipV="1">
                <a:off x="3200400" y="2955600"/>
                <a:ext cx="1440" cy="36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 flipV="1">
                <a:off x="3603600" y="2955600"/>
                <a:ext cx="1440" cy="36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V="1">
                <a:off x="4016520" y="2955600"/>
                <a:ext cx="0" cy="36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85880" y="1574640"/>
                <a:ext cx="37152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1157400" y="1574640"/>
                <a:ext cx="41040" cy="2556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1198440" y="1830240"/>
                <a:ext cx="36216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1560600" y="1830240"/>
                <a:ext cx="82368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2384280" y="1830240"/>
                <a:ext cx="41400" cy="7462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2425680" y="2576520"/>
                <a:ext cx="361800" cy="1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V="1">
                <a:off x="2787480" y="2331720"/>
                <a:ext cx="41400" cy="244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2828880" y="2332080"/>
                <a:ext cx="37152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200400" y="2332080"/>
                <a:ext cx="81612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96960" y="2274840"/>
                <a:ext cx="968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38360" y="1517760"/>
                <a:ext cx="9684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1109520" y="1517760"/>
                <a:ext cx="9684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1149480" y="1773360"/>
                <a:ext cx="9684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1512720" y="1773360"/>
                <a:ext cx="9684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2336760" y="1773360"/>
                <a:ext cx="9684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2376360" y="2521080"/>
                <a:ext cx="968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2739960" y="2521080"/>
                <a:ext cx="968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2779560" y="2274840"/>
                <a:ext cx="968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3151080" y="2274840"/>
                <a:ext cx="968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967200" y="2274840"/>
                <a:ext cx="968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5" name=""/>
              <p:cNvGrpSpPr/>
              <p:nvPr/>
            </p:nvGrpSpPr>
            <p:grpSpPr>
              <a:xfrm>
                <a:off x="720360" y="3059280"/>
                <a:ext cx="3385080" cy="243720"/>
                <a:chOff x="720360" y="3059280"/>
                <a:chExt cx="3385080" cy="243720"/>
              </a:xfrm>
            </p:grpSpPr>
            <p:sp>
              <p:nvSpPr>
                <p:cNvPr id="3356" name=""/>
                <p:cNvSpPr/>
                <p:nvPr/>
              </p:nvSpPr>
              <p:spPr>
                <a:xfrm>
                  <a:off x="720360" y="305928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1085400" y="305928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>
                  <a:off x="1537200" y="305928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>
                  <a:off x="1900800" y="305928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,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>
                  <a:off x="2359440" y="305928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2716200" y="305928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2,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2" name=""/>
                <p:cNvSpPr/>
                <p:nvPr/>
              </p:nvSpPr>
              <p:spPr>
                <a:xfrm>
                  <a:off x="3176280" y="305928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3531960" y="305928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3,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3992040" y="305928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5" name=""/>
              <p:cNvGrpSpPr/>
              <p:nvPr/>
            </p:nvGrpSpPr>
            <p:grpSpPr>
              <a:xfrm>
                <a:off x="4254480" y="2814480"/>
                <a:ext cx="702000" cy="482400"/>
                <a:chOff x="4254480" y="2814480"/>
                <a:chExt cx="702000" cy="482400"/>
              </a:xfrm>
            </p:grpSpPr>
            <p:sp>
              <p:nvSpPr>
                <p:cNvPr id="3366" name=""/>
                <p:cNvSpPr/>
                <p:nvPr/>
              </p:nvSpPr>
              <p:spPr>
                <a:xfrm>
                  <a:off x="4316400" y="2814480"/>
                  <a:ext cx="47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4254480" y="2935800"/>
                  <a:ext cx="70200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t (ns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8" name=""/>
              <p:cNvGrpSpPr/>
              <p:nvPr/>
            </p:nvGrpSpPr>
            <p:grpSpPr>
              <a:xfrm>
                <a:off x="0" y="1397160"/>
                <a:ext cx="385920" cy="393480"/>
                <a:chOff x="0" y="1397160"/>
                <a:chExt cx="385920" cy="393480"/>
              </a:xfrm>
            </p:grpSpPr>
            <p:sp>
              <p:nvSpPr>
                <p:cNvPr id="3369" name=""/>
                <p:cNvSpPr/>
                <p:nvPr/>
              </p:nvSpPr>
              <p:spPr>
                <a:xfrm>
                  <a:off x="385920" y="1397160"/>
                  <a:ext cx="0" cy="39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0" y="1413000"/>
                  <a:ext cx="33300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1" name=""/>
              <p:cNvGrpSpPr/>
              <p:nvPr/>
            </p:nvGrpSpPr>
            <p:grpSpPr>
              <a:xfrm>
                <a:off x="433440" y="1290600"/>
                <a:ext cx="295200" cy="1748880"/>
                <a:chOff x="433440" y="1290600"/>
                <a:chExt cx="295200" cy="1748880"/>
              </a:xfrm>
            </p:grpSpPr>
            <p:sp>
              <p:nvSpPr>
                <p:cNvPr id="3372" name=""/>
                <p:cNvSpPr/>
                <p:nvPr/>
              </p:nvSpPr>
              <p:spPr>
                <a:xfrm>
                  <a:off x="522000" y="279576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433440" y="254304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>
                  <a:off x="433440" y="229068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.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433440" y="20430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.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433440" y="179064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.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446040" y="153828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433440" y="12906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9" name=""/>
              <p:cNvSpPr/>
              <p:nvPr/>
            </p:nvSpPr>
            <p:spPr>
              <a:xfrm>
                <a:off x="1112040" y="706320"/>
                <a:ext cx="24818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1                               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0" name=""/>
              <p:cNvGrpSpPr/>
              <p:nvPr/>
            </p:nvGrpSpPr>
            <p:grpSpPr>
              <a:xfrm>
                <a:off x="749160" y="798480"/>
                <a:ext cx="3270240" cy="717480"/>
                <a:chOff x="749160" y="798480"/>
                <a:chExt cx="3270240" cy="717480"/>
              </a:xfrm>
            </p:grpSpPr>
            <p:sp>
              <p:nvSpPr>
                <p:cNvPr id="3381" name=""/>
                <p:cNvSpPr/>
                <p:nvPr/>
              </p:nvSpPr>
              <p:spPr>
                <a:xfrm>
                  <a:off x="749160" y="798480"/>
                  <a:ext cx="0" cy="71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2387520" y="798480"/>
                  <a:ext cx="0" cy="71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4019400" y="798480"/>
                  <a:ext cx="0" cy="71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4" name=""/>
            <p:cNvSpPr/>
            <p:nvPr/>
          </p:nvSpPr>
          <p:spPr>
            <a:xfrm flipH="1">
              <a:off x="743040" y="1571760"/>
              <a:ext cx="38160" cy="7714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river schedule @ 500MHz </a:t>
            </a:r>
            <a:r>
              <a:rPr b="1" lang="fi-FI" sz="2000" spc="-1" strike="noStrike">
                <a:solidFill>
                  <a:srgbClr val="666666"/>
                </a:solidFill>
                <a:latin typeface="Arial"/>
              </a:rPr>
              <a:t>(tp=2ns)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3960" y="5632560"/>
            <a:ext cx="485928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el shows the pre-emphasis behavi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cause the pattern 11 and 00 can be fulfi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7" name=""/>
          <p:cNvGrpSpPr/>
          <p:nvPr/>
        </p:nvGrpSpPr>
        <p:grpSpPr>
          <a:xfrm>
            <a:off x="1515960" y="3341520"/>
            <a:ext cx="3498480" cy="946800"/>
            <a:chOff x="1515960" y="3341520"/>
            <a:chExt cx="3498480" cy="946800"/>
          </a:xfrm>
        </p:grpSpPr>
        <p:sp>
          <p:nvSpPr>
            <p:cNvPr id="3388" name=""/>
            <p:cNvSpPr/>
            <p:nvPr/>
          </p:nvSpPr>
          <p:spPr>
            <a:xfrm>
              <a:off x="1515960" y="3341520"/>
              <a:ext cx="716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1621080" y="3567240"/>
              <a:ext cx="339336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ising part finished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nd the „tool“ switches to  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0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3391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2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3393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3394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3395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6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7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8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9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0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1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3402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3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4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5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6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7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3408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9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0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1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2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3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4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15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3416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3417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8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9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0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3421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2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3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4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3425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6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7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8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3429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0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32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3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3434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9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2" name=""/>
          <p:cNvGrpSpPr/>
          <p:nvPr/>
        </p:nvGrpSpPr>
        <p:grpSpPr>
          <a:xfrm>
            <a:off x="4576320" y="709560"/>
            <a:ext cx="4296240" cy="3078360"/>
            <a:chOff x="4576320" y="709560"/>
            <a:chExt cx="4296240" cy="3078360"/>
          </a:xfrm>
        </p:grpSpPr>
        <p:pic>
          <p:nvPicPr>
            <p:cNvPr id="3443" name="" descr=""/>
            <p:cNvPicPr/>
            <p:nvPr/>
          </p:nvPicPr>
          <p:blipFill>
            <a:blip r:embed="rId1"/>
            <a:stretch/>
          </p:blipFill>
          <p:spPr>
            <a:xfrm>
              <a:off x="5060880" y="709560"/>
              <a:ext cx="3811680" cy="307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44" name=""/>
            <p:cNvGrpSpPr/>
            <p:nvPr/>
          </p:nvGrpSpPr>
          <p:grpSpPr>
            <a:xfrm>
              <a:off x="4576320" y="835200"/>
              <a:ext cx="738720" cy="447480"/>
              <a:chOff x="4576320" y="835200"/>
              <a:chExt cx="738720" cy="447480"/>
            </a:xfrm>
          </p:grpSpPr>
          <p:sp>
            <p:nvSpPr>
              <p:cNvPr id="3445" name=""/>
              <p:cNvSpPr/>
              <p:nvPr/>
            </p:nvSpPr>
            <p:spPr>
              <a:xfrm rot="5400000">
                <a:off x="4905000" y="796680"/>
                <a:ext cx="92520" cy="2473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rot="5400000">
                <a:off x="4579200" y="832320"/>
                <a:ext cx="170280" cy="1760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216760" y="951840"/>
                <a:ext cx="91440" cy="163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208840" y="1169280"/>
                <a:ext cx="106200" cy="113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49" name=""/>
              <p:cNvCxnSpPr>
                <a:stCxn id="3446" idx="0"/>
                <a:endCxn id="3445" idx="3"/>
              </p:cNvCxnSpPr>
              <p:nvPr/>
            </p:nvCxnSpPr>
            <p:spPr>
              <a:xfrm flipV="1">
                <a:off x="4753440" y="919440"/>
                <a:ext cx="73800" cy="1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450" name=""/>
              <p:cNvCxnSpPr>
                <a:stCxn id="3445" idx="1"/>
                <a:endCxn id="3447" idx="0"/>
              </p:cNvCxnSpPr>
              <p:nvPr/>
            </p:nvCxnSpPr>
            <p:spPr>
              <a:xfrm>
                <a:off x="5074200" y="919800"/>
                <a:ext cx="189000" cy="3240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451" name=""/>
              <p:cNvCxnSpPr>
                <a:stCxn id="3447" idx="2"/>
                <a:endCxn id="3448" idx="0"/>
              </p:cNvCxnSpPr>
              <p:nvPr/>
            </p:nvCxnSpPr>
            <p:spPr>
              <a:xfrm flipH="1">
                <a:off x="5262120" y="1114560"/>
                <a:ext cx="1440" cy="55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452" name=""/>
          <p:cNvGrpSpPr/>
          <p:nvPr/>
        </p:nvGrpSpPr>
        <p:grpSpPr>
          <a:xfrm>
            <a:off x="4589280" y="3666960"/>
            <a:ext cx="4278600" cy="2992680"/>
            <a:chOff x="4589280" y="3666960"/>
            <a:chExt cx="4278600" cy="2992680"/>
          </a:xfrm>
        </p:grpSpPr>
        <p:pic>
          <p:nvPicPr>
            <p:cNvPr id="3453" name="" descr=""/>
            <p:cNvPicPr/>
            <p:nvPr/>
          </p:nvPicPr>
          <p:blipFill>
            <a:blip r:embed="rId2"/>
            <a:stretch/>
          </p:blipFill>
          <p:spPr>
            <a:xfrm>
              <a:off x="5056200" y="3666960"/>
              <a:ext cx="3811680" cy="299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54" name=""/>
            <p:cNvGrpSpPr/>
            <p:nvPr/>
          </p:nvGrpSpPr>
          <p:grpSpPr>
            <a:xfrm>
              <a:off x="4589280" y="5779800"/>
              <a:ext cx="738360" cy="452880"/>
              <a:chOff x="4589280" y="5779800"/>
              <a:chExt cx="738360" cy="452880"/>
            </a:xfrm>
          </p:grpSpPr>
          <p:grpSp>
            <p:nvGrpSpPr>
              <p:cNvPr id="3455" name=""/>
              <p:cNvGrpSpPr/>
              <p:nvPr/>
            </p:nvGrpSpPr>
            <p:grpSpPr>
              <a:xfrm>
                <a:off x="4589280" y="5784840"/>
                <a:ext cx="738360" cy="447840"/>
                <a:chOff x="4589280" y="5784840"/>
                <a:chExt cx="738360" cy="447840"/>
              </a:xfrm>
            </p:grpSpPr>
            <p:sp>
              <p:nvSpPr>
                <p:cNvPr id="3456" name=""/>
                <p:cNvSpPr/>
                <p:nvPr/>
              </p:nvSpPr>
              <p:spPr>
                <a:xfrm rot="5400000">
                  <a:off x="4917960" y="5746320"/>
                  <a:ext cx="92520" cy="247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 rot="5400000">
                  <a:off x="4592160" y="5781960"/>
                  <a:ext cx="170280" cy="176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5229360" y="5901480"/>
                  <a:ext cx="91440" cy="16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5221440" y="6119280"/>
                  <a:ext cx="106200" cy="1134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460" name=""/>
                <p:cNvCxnSpPr>
                  <a:stCxn id="3457" idx="0"/>
                  <a:endCxn id="3456" idx="3"/>
                </p:cNvCxnSpPr>
                <p:nvPr/>
              </p:nvCxnSpPr>
              <p:spPr>
                <a:xfrm flipV="1">
                  <a:off x="4766400" y="5869080"/>
                  <a:ext cx="73800" cy="14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461" name=""/>
                <p:cNvCxnSpPr>
                  <a:stCxn id="3456" idx="1"/>
                  <a:endCxn id="3458" idx="0"/>
                </p:cNvCxnSpPr>
                <p:nvPr/>
              </p:nvCxnSpPr>
              <p:spPr>
                <a:xfrm>
                  <a:off x="5086800" y="5869440"/>
                  <a:ext cx="189000" cy="3240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462" name=""/>
                <p:cNvCxnSpPr>
                  <a:stCxn id="3458" idx="2"/>
                  <a:endCxn id="3459" idx="0"/>
                </p:cNvCxnSpPr>
                <p:nvPr/>
              </p:nvCxnSpPr>
              <p:spPr>
                <a:xfrm flipH="1">
                  <a:off x="5274720" y="6064200"/>
                  <a:ext cx="1440" cy="5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3463" name=""/>
              <p:cNvGrpSpPr/>
              <p:nvPr/>
            </p:nvGrpSpPr>
            <p:grpSpPr>
              <a:xfrm>
                <a:off x="4880880" y="5779800"/>
                <a:ext cx="179640" cy="178560"/>
                <a:chOff x="4880880" y="5779800"/>
                <a:chExt cx="179640" cy="178560"/>
              </a:xfrm>
            </p:grpSpPr>
            <p:sp>
              <p:nvSpPr>
                <p:cNvPr id="3464" name=""/>
                <p:cNvSpPr/>
                <p:nvPr/>
              </p:nvSpPr>
              <p:spPr>
                <a:xfrm flipH="1">
                  <a:off x="4880880" y="577980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4887720" y="578556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66" name=""/>
          <p:cNvGrpSpPr/>
          <p:nvPr/>
        </p:nvGrpSpPr>
        <p:grpSpPr>
          <a:xfrm>
            <a:off x="0" y="798480"/>
            <a:ext cx="4745520" cy="2510640"/>
            <a:chOff x="0" y="798480"/>
            <a:chExt cx="4745520" cy="2510640"/>
          </a:xfrm>
        </p:grpSpPr>
        <p:grpSp>
          <p:nvGrpSpPr>
            <p:cNvPr id="3467" name=""/>
            <p:cNvGrpSpPr/>
            <p:nvPr/>
          </p:nvGrpSpPr>
          <p:grpSpPr>
            <a:xfrm>
              <a:off x="0" y="1276200"/>
              <a:ext cx="4745520" cy="2032920"/>
              <a:chOff x="0" y="1276200"/>
              <a:chExt cx="4745520" cy="2032920"/>
            </a:xfrm>
          </p:grpSpPr>
          <p:sp>
            <p:nvSpPr>
              <p:cNvPr id="3468" name=""/>
              <p:cNvSpPr/>
              <p:nvPr/>
            </p:nvSpPr>
            <p:spPr>
              <a:xfrm>
                <a:off x="673200" y="1455840"/>
                <a:ext cx="3260520" cy="15066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73200" y="2709720"/>
                <a:ext cx="3260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73200" y="2457360"/>
                <a:ext cx="3260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73200" y="2214720"/>
                <a:ext cx="326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73200" y="1962000"/>
                <a:ext cx="3260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73200" y="1708200"/>
                <a:ext cx="326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73200" y="1455840"/>
                <a:ext cx="326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1084320" y="1455840"/>
                <a:ext cx="0" cy="150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1486080" y="1455840"/>
                <a:ext cx="1440" cy="150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1897200" y="1455840"/>
                <a:ext cx="1440" cy="150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306520" y="1455840"/>
                <a:ext cx="1800" cy="150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2709720" y="1455840"/>
                <a:ext cx="1800" cy="150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121200" y="1455840"/>
                <a:ext cx="0" cy="150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3522600" y="1455840"/>
                <a:ext cx="1800" cy="150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3933720" y="1455840"/>
                <a:ext cx="0" cy="150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73200" y="1455840"/>
                <a:ext cx="3260520" cy="15066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73200" y="1455840"/>
                <a:ext cx="1440" cy="150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41520" y="2962440"/>
                <a:ext cx="31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41520" y="2709720"/>
                <a:ext cx="31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41520" y="2457360"/>
                <a:ext cx="31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41520" y="2214720"/>
                <a:ext cx="31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41520" y="1962000"/>
                <a:ext cx="31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41520" y="1708200"/>
                <a:ext cx="31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41520" y="1455840"/>
                <a:ext cx="31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73200" y="2962440"/>
                <a:ext cx="326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 flipV="1">
                <a:off x="673200" y="296208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 flipV="1">
                <a:off x="1084320" y="2962080"/>
                <a:ext cx="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 flipV="1">
                <a:off x="1486080" y="296208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V="1">
                <a:off x="1897200" y="2962080"/>
                <a:ext cx="144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V="1">
                <a:off x="2306520" y="296208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 flipV="1">
                <a:off x="2709720" y="296208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flipV="1">
                <a:off x="3121200" y="2962080"/>
                <a:ext cx="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V="1">
                <a:off x="3522600" y="2962080"/>
                <a:ext cx="180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flipV="1">
                <a:off x="3933720" y="2962080"/>
                <a:ext cx="0" cy="37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V="1">
                <a:off x="673200" y="1577880"/>
                <a:ext cx="39600" cy="757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712800" y="1577880"/>
                <a:ext cx="37152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1084320" y="1577880"/>
                <a:ext cx="39600" cy="2523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1123920" y="1830240"/>
                <a:ext cx="36216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1486080" y="1830240"/>
                <a:ext cx="41040" cy="757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1527120" y="2587680"/>
                <a:ext cx="370080" cy="1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V="1">
                <a:off x="1897200" y="2334960"/>
                <a:ext cx="39600" cy="2523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1936800" y="2335320"/>
                <a:ext cx="369720" cy="1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 flipV="1">
                <a:off x="2306520" y="1577880"/>
                <a:ext cx="41400" cy="757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347920" y="1577880"/>
                <a:ext cx="36180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2709720" y="1577880"/>
                <a:ext cx="39960" cy="2523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2749680" y="1830240"/>
                <a:ext cx="37152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121200" y="1830240"/>
                <a:ext cx="39600" cy="757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160800" y="2587680"/>
                <a:ext cx="361800" cy="1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 flipV="1">
                <a:off x="3522600" y="2334960"/>
                <a:ext cx="39600" cy="2523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3562200" y="2335320"/>
                <a:ext cx="371520" cy="144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625320" y="2279520"/>
                <a:ext cx="9540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665280" y="1522440"/>
                <a:ext cx="96840" cy="111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1035000" y="1522440"/>
                <a:ext cx="96840" cy="111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1076400" y="1774800"/>
                <a:ext cx="95040" cy="111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1438200" y="1774800"/>
                <a:ext cx="96840" cy="111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1477800" y="2532240"/>
                <a:ext cx="968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1847880" y="2532240"/>
                <a:ext cx="968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1889280" y="2279520"/>
                <a:ext cx="968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2259000" y="2279520"/>
                <a:ext cx="968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2298600" y="1522440"/>
                <a:ext cx="96840" cy="111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2660760" y="1522440"/>
                <a:ext cx="96840" cy="111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2701800" y="1774800"/>
                <a:ext cx="96840" cy="111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3071880" y="1774800"/>
                <a:ext cx="96840" cy="11124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3111480" y="2532240"/>
                <a:ext cx="968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3475080" y="2532240"/>
                <a:ext cx="950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3514680" y="2279520"/>
                <a:ext cx="968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3884760" y="2279520"/>
                <a:ext cx="96840" cy="1126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5" name=""/>
              <p:cNvGrpSpPr/>
              <p:nvPr/>
            </p:nvGrpSpPr>
            <p:grpSpPr>
              <a:xfrm>
                <a:off x="404640" y="1276200"/>
                <a:ext cx="295200" cy="1748880"/>
                <a:chOff x="404640" y="1276200"/>
                <a:chExt cx="295200" cy="1748880"/>
              </a:xfrm>
            </p:grpSpPr>
            <p:sp>
              <p:nvSpPr>
                <p:cNvPr id="3536" name=""/>
                <p:cNvSpPr/>
                <p:nvPr/>
              </p:nvSpPr>
              <p:spPr>
                <a:xfrm>
                  <a:off x="493200" y="278136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404640" y="252864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404640" y="227628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.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>
                  <a:off x="404640" y="20286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.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404640" y="177624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.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417240" y="152388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>
                  <a:off x="404640" y="12762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3" name=""/>
              <p:cNvGrpSpPr/>
              <p:nvPr/>
            </p:nvGrpSpPr>
            <p:grpSpPr>
              <a:xfrm>
                <a:off x="649080" y="3065400"/>
                <a:ext cx="3372480" cy="243720"/>
                <a:chOff x="649080" y="3065400"/>
                <a:chExt cx="3372480" cy="243720"/>
              </a:xfrm>
            </p:grpSpPr>
            <p:sp>
              <p:nvSpPr>
                <p:cNvPr id="3544" name=""/>
                <p:cNvSpPr/>
                <p:nvPr/>
              </p:nvSpPr>
              <p:spPr>
                <a:xfrm>
                  <a:off x="649080" y="30654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1011600" y="30654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1461600" y="30654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1824120" y="30654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,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2282400" y="30654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2637000" y="30654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2,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3095280" y="30654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3449520" y="30654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3,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3908160" y="30654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3" name=""/>
              <p:cNvGrpSpPr/>
              <p:nvPr/>
            </p:nvGrpSpPr>
            <p:grpSpPr>
              <a:xfrm>
                <a:off x="4043520" y="2800440"/>
                <a:ext cx="702000" cy="482040"/>
                <a:chOff x="4043520" y="2800440"/>
                <a:chExt cx="702000" cy="482040"/>
              </a:xfrm>
            </p:grpSpPr>
            <p:sp>
              <p:nvSpPr>
                <p:cNvPr id="3554" name=""/>
                <p:cNvSpPr/>
                <p:nvPr/>
              </p:nvSpPr>
              <p:spPr>
                <a:xfrm>
                  <a:off x="4105440" y="2800440"/>
                  <a:ext cx="477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>
                  <a:off x="4043520" y="2921400"/>
                  <a:ext cx="70200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t (ns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6" name=""/>
              <p:cNvGrpSpPr/>
              <p:nvPr/>
            </p:nvGrpSpPr>
            <p:grpSpPr>
              <a:xfrm>
                <a:off x="0" y="1382760"/>
                <a:ext cx="385920" cy="393480"/>
                <a:chOff x="0" y="1382760"/>
                <a:chExt cx="385920" cy="393480"/>
              </a:xfrm>
            </p:grpSpPr>
            <p:sp>
              <p:nvSpPr>
                <p:cNvPr id="3557" name=""/>
                <p:cNvSpPr/>
                <p:nvPr/>
              </p:nvSpPr>
              <p:spPr>
                <a:xfrm>
                  <a:off x="385920" y="1382760"/>
                  <a:ext cx="0" cy="39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>
                  <a:off x="0" y="1398600"/>
                  <a:ext cx="33300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9" name=""/>
            <p:cNvSpPr/>
            <p:nvPr/>
          </p:nvSpPr>
          <p:spPr>
            <a:xfrm>
              <a:off x="67788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148752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30364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941760" y="798480"/>
              <a:ext cx="286308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1          0            1           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13056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94488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5" name=""/>
          <p:cNvGrpSpPr/>
          <p:nvPr/>
        </p:nvGrpSpPr>
        <p:grpSpPr>
          <a:xfrm>
            <a:off x="677880" y="3416400"/>
            <a:ext cx="4580640" cy="1618200"/>
            <a:chOff x="677880" y="3416400"/>
            <a:chExt cx="4580640" cy="1618200"/>
          </a:xfrm>
        </p:grpSpPr>
        <p:grpSp>
          <p:nvGrpSpPr>
            <p:cNvPr id="3566" name=""/>
            <p:cNvGrpSpPr/>
            <p:nvPr/>
          </p:nvGrpSpPr>
          <p:grpSpPr>
            <a:xfrm>
              <a:off x="703440" y="4673520"/>
              <a:ext cx="4555080" cy="361080"/>
              <a:chOff x="703440" y="4673520"/>
              <a:chExt cx="4555080" cy="361080"/>
            </a:xfrm>
          </p:grpSpPr>
          <p:sp>
            <p:nvSpPr>
              <p:cNvPr id="3567" name=""/>
              <p:cNvSpPr/>
              <p:nvPr/>
            </p:nvSpPr>
            <p:spPr>
              <a:xfrm>
                <a:off x="703440" y="4826160"/>
                <a:ext cx="78732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1554480" y="4673520"/>
                <a:ext cx="37040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Rising edge part of driver schedu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9" name=""/>
            <p:cNvSpPr/>
            <p:nvPr/>
          </p:nvSpPr>
          <p:spPr>
            <a:xfrm>
              <a:off x="677880" y="3416400"/>
              <a:ext cx="0" cy="16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477800" y="3416400"/>
              <a:ext cx="0" cy="16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river schedule @ 750MHz </a:t>
            </a:r>
            <a:r>
              <a:rPr b="1" lang="fi-FI" sz="2000" spc="-1" strike="noStrike">
                <a:solidFill>
                  <a:srgbClr val="666666"/>
                </a:solidFill>
                <a:latin typeface="Arial"/>
              </a:rPr>
              <a:t>(tp=1.333ns)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4320" y="5033880"/>
            <a:ext cx="4655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el shows correct pre-emphasis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 the first bi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t for the second bit, it is switched o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3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3574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5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3576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3577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3578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9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1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2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3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4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3585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6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7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9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0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3591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2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3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4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5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6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7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98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3599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3600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1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2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3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3604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5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6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7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3608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1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3612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3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4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15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6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3617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2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25" name=""/>
          <p:cNvGrpSpPr/>
          <p:nvPr/>
        </p:nvGrpSpPr>
        <p:grpSpPr>
          <a:xfrm>
            <a:off x="4576320" y="525600"/>
            <a:ext cx="4283640" cy="2992320"/>
            <a:chOff x="4576320" y="525600"/>
            <a:chExt cx="4283640" cy="2992320"/>
          </a:xfrm>
        </p:grpSpPr>
        <p:pic>
          <p:nvPicPr>
            <p:cNvPr id="3626" name="" descr=""/>
            <p:cNvPicPr/>
            <p:nvPr/>
          </p:nvPicPr>
          <p:blipFill>
            <a:blip r:embed="rId1"/>
            <a:stretch/>
          </p:blipFill>
          <p:spPr>
            <a:xfrm>
              <a:off x="5048280" y="525600"/>
              <a:ext cx="3811680" cy="29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27" name=""/>
            <p:cNvGrpSpPr/>
            <p:nvPr/>
          </p:nvGrpSpPr>
          <p:grpSpPr>
            <a:xfrm>
              <a:off x="4576320" y="835200"/>
              <a:ext cx="738720" cy="447480"/>
              <a:chOff x="4576320" y="835200"/>
              <a:chExt cx="738720" cy="447480"/>
            </a:xfrm>
          </p:grpSpPr>
          <p:sp>
            <p:nvSpPr>
              <p:cNvPr id="3628" name=""/>
              <p:cNvSpPr/>
              <p:nvPr/>
            </p:nvSpPr>
            <p:spPr>
              <a:xfrm rot="5400000">
                <a:off x="4905000" y="796680"/>
                <a:ext cx="92520" cy="2473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rot="5400000">
                <a:off x="4579200" y="832320"/>
                <a:ext cx="170280" cy="1760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216760" y="951840"/>
                <a:ext cx="91440" cy="163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208840" y="1169280"/>
                <a:ext cx="106200" cy="113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32" name=""/>
              <p:cNvCxnSpPr>
                <a:stCxn id="3629" idx="0"/>
                <a:endCxn id="3628" idx="3"/>
              </p:cNvCxnSpPr>
              <p:nvPr/>
            </p:nvCxnSpPr>
            <p:spPr>
              <a:xfrm flipV="1">
                <a:off x="4753440" y="919440"/>
                <a:ext cx="73800" cy="1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633" name=""/>
              <p:cNvCxnSpPr>
                <a:stCxn id="3628" idx="1"/>
                <a:endCxn id="3630" idx="0"/>
              </p:cNvCxnSpPr>
              <p:nvPr/>
            </p:nvCxnSpPr>
            <p:spPr>
              <a:xfrm>
                <a:off x="5074200" y="919800"/>
                <a:ext cx="189000" cy="3240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634" name=""/>
              <p:cNvCxnSpPr>
                <a:stCxn id="3630" idx="2"/>
                <a:endCxn id="3631" idx="0"/>
              </p:cNvCxnSpPr>
              <p:nvPr/>
            </p:nvCxnSpPr>
            <p:spPr>
              <a:xfrm flipH="1">
                <a:off x="5262120" y="1114560"/>
                <a:ext cx="1440" cy="55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635" name=""/>
          <p:cNvGrpSpPr/>
          <p:nvPr/>
        </p:nvGrpSpPr>
        <p:grpSpPr>
          <a:xfrm>
            <a:off x="4589280" y="3502080"/>
            <a:ext cx="4235760" cy="2992320"/>
            <a:chOff x="4589280" y="3502080"/>
            <a:chExt cx="4235760" cy="2992320"/>
          </a:xfrm>
        </p:grpSpPr>
        <p:pic>
          <p:nvPicPr>
            <p:cNvPr id="3636" name="" descr=""/>
            <p:cNvPicPr/>
            <p:nvPr/>
          </p:nvPicPr>
          <p:blipFill>
            <a:blip r:embed="rId2"/>
            <a:stretch/>
          </p:blipFill>
          <p:spPr>
            <a:xfrm>
              <a:off x="5013360" y="3502080"/>
              <a:ext cx="3811680" cy="29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37" name=""/>
            <p:cNvGrpSpPr/>
            <p:nvPr/>
          </p:nvGrpSpPr>
          <p:grpSpPr>
            <a:xfrm>
              <a:off x="4589280" y="5779800"/>
              <a:ext cx="738360" cy="452880"/>
              <a:chOff x="4589280" y="5779800"/>
              <a:chExt cx="738360" cy="452880"/>
            </a:xfrm>
          </p:grpSpPr>
          <p:grpSp>
            <p:nvGrpSpPr>
              <p:cNvPr id="3638" name=""/>
              <p:cNvGrpSpPr/>
              <p:nvPr/>
            </p:nvGrpSpPr>
            <p:grpSpPr>
              <a:xfrm>
                <a:off x="4589280" y="5784840"/>
                <a:ext cx="738360" cy="447840"/>
                <a:chOff x="4589280" y="5784840"/>
                <a:chExt cx="738360" cy="447840"/>
              </a:xfrm>
            </p:grpSpPr>
            <p:sp>
              <p:nvSpPr>
                <p:cNvPr id="3639" name=""/>
                <p:cNvSpPr/>
                <p:nvPr/>
              </p:nvSpPr>
              <p:spPr>
                <a:xfrm rot="5400000">
                  <a:off x="4917960" y="5746320"/>
                  <a:ext cx="92520" cy="247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"/>
                <p:cNvSpPr/>
                <p:nvPr/>
              </p:nvSpPr>
              <p:spPr>
                <a:xfrm rot="5400000">
                  <a:off x="4592160" y="5781960"/>
                  <a:ext cx="170280" cy="176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1" name=""/>
                <p:cNvSpPr/>
                <p:nvPr/>
              </p:nvSpPr>
              <p:spPr>
                <a:xfrm>
                  <a:off x="5229360" y="5901480"/>
                  <a:ext cx="91440" cy="16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2" name=""/>
                <p:cNvSpPr/>
                <p:nvPr/>
              </p:nvSpPr>
              <p:spPr>
                <a:xfrm>
                  <a:off x="5221440" y="6119280"/>
                  <a:ext cx="106200" cy="1134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643" name=""/>
                <p:cNvCxnSpPr>
                  <a:stCxn id="3640" idx="0"/>
                  <a:endCxn id="3639" idx="3"/>
                </p:cNvCxnSpPr>
                <p:nvPr/>
              </p:nvCxnSpPr>
              <p:spPr>
                <a:xfrm flipV="1">
                  <a:off x="4766400" y="5869080"/>
                  <a:ext cx="73800" cy="14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644" name=""/>
                <p:cNvCxnSpPr>
                  <a:stCxn id="3639" idx="1"/>
                  <a:endCxn id="3641" idx="0"/>
                </p:cNvCxnSpPr>
                <p:nvPr/>
              </p:nvCxnSpPr>
              <p:spPr>
                <a:xfrm>
                  <a:off x="5086800" y="5869440"/>
                  <a:ext cx="189000" cy="3240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645" name=""/>
                <p:cNvCxnSpPr>
                  <a:stCxn id="3641" idx="2"/>
                  <a:endCxn id="3642" idx="0"/>
                </p:cNvCxnSpPr>
                <p:nvPr/>
              </p:nvCxnSpPr>
              <p:spPr>
                <a:xfrm flipH="1">
                  <a:off x="5274720" y="6064200"/>
                  <a:ext cx="1440" cy="5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3646" name=""/>
              <p:cNvGrpSpPr/>
              <p:nvPr/>
            </p:nvGrpSpPr>
            <p:grpSpPr>
              <a:xfrm>
                <a:off x="4880880" y="5779800"/>
                <a:ext cx="179640" cy="178560"/>
                <a:chOff x="4880880" y="5779800"/>
                <a:chExt cx="179640" cy="178560"/>
              </a:xfrm>
            </p:grpSpPr>
            <p:sp>
              <p:nvSpPr>
                <p:cNvPr id="3647" name=""/>
                <p:cNvSpPr/>
                <p:nvPr/>
              </p:nvSpPr>
              <p:spPr>
                <a:xfrm flipH="1">
                  <a:off x="4880880" y="577980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>
                  <a:off x="4887720" y="578556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49" name=""/>
          <p:cNvGrpSpPr/>
          <p:nvPr/>
        </p:nvGrpSpPr>
        <p:grpSpPr>
          <a:xfrm>
            <a:off x="0" y="700200"/>
            <a:ext cx="4956480" cy="2596680"/>
            <a:chOff x="0" y="700200"/>
            <a:chExt cx="4956480" cy="2596680"/>
          </a:xfrm>
        </p:grpSpPr>
        <p:grpSp>
          <p:nvGrpSpPr>
            <p:cNvPr id="3650" name=""/>
            <p:cNvGrpSpPr/>
            <p:nvPr/>
          </p:nvGrpSpPr>
          <p:grpSpPr>
            <a:xfrm>
              <a:off x="4254480" y="2814480"/>
              <a:ext cx="702000" cy="482400"/>
              <a:chOff x="4254480" y="2814480"/>
              <a:chExt cx="702000" cy="482400"/>
            </a:xfrm>
          </p:grpSpPr>
          <p:sp>
            <p:nvSpPr>
              <p:cNvPr id="3651" name=""/>
              <p:cNvSpPr/>
              <p:nvPr/>
            </p:nvSpPr>
            <p:spPr>
              <a:xfrm>
                <a:off x="4316400" y="2814480"/>
                <a:ext cx="47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4254480" y="2935800"/>
                <a:ext cx="7020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t (n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3" name=""/>
            <p:cNvGrpSpPr/>
            <p:nvPr/>
          </p:nvGrpSpPr>
          <p:grpSpPr>
            <a:xfrm>
              <a:off x="0" y="700200"/>
              <a:ext cx="4123080" cy="2463120"/>
              <a:chOff x="0" y="700200"/>
              <a:chExt cx="4123080" cy="2463120"/>
            </a:xfrm>
          </p:grpSpPr>
          <p:sp>
            <p:nvSpPr>
              <p:cNvPr id="3654" name=""/>
              <p:cNvSpPr/>
              <p:nvPr/>
            </p:nvSpPr>
            <p:spPr>
              <a:xfrm>
                <a:off x="760320" y="1322280"/>
                <a:ext cx="3273480" cy="149400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60320" y="2571840"/>
                <a:ext cx="327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60320" y="2317680"/>
                <a:ext cx="327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760320" y="2075040"/>
                <a:ext cx="327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60320" y="1820880"/>
                <a:ext cx="327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60320" y="1576440"/>
                <a:ext cx="327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60320" y="1322280"/>
                <a:ext cx="327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1171440" y="1322280"/>
                <a:ext cx="1800" cy="149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1576440" y="1322280"/>
                <a:ext cx="1440" cy="149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1989000" y="1322280"/>
                <a:ext cx="1800" cy="149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400480" y="1322280"/>
                <a:ext cx="1440" cy="149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805120" y="1322280"/>
                <a:ext cx="1440" cy="149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3218040" y="1322280"/>
                <a:ext cx="1440" cy="149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3622680" y="1322280"/>
                <a:ext cx="0" cy="149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4033800" y="1322280"/>
                <a:ext cx="1800" cy="149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60320" y="1322280"/>
                <a:ext cx="3273480" cy="14940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60320" y="1322280"/>
                <a:ext cx="0" cy="149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27200" y="257184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27200" y="231768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27200" y="207504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27200" y="182088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27200" y="157644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27200" y="132228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7" name=""/>
              <p:cNvGrpSpPr/>
              <p:nvPr/>
            </p:nvGrpSpPr>
            <p:grpSpPr>
              <a:xfrm>
                <a:off x="711360" y="1389240"/>
                <a:ext cx="2928240" cy="1107720"/>
                <a:chOff x="711360" y="1389240"/>
                <a:chExt cx="2928240" cy="1107720"/>
              </a:xfrm>
            </p:grpSpPr>
            <p:sp>
              <p:nvSpPr>
                <p:cNvPr id="3678" name=""/>
                <p:cNvSpPr/>
                <p:nvPr/>
              </p:nvSpPr>
              <p:spPr>
                <a:xfrm>
                  <a:off x="1678680" y="2190600"/>
                  <a:ext cx="119880" cy="0"/>
                </a:xfrm>
                <a:prstGeom prst="line">
                  <a:avLst/>
                </a:prstGeom>
                <a:ln w="2844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79" name=""/>
                <p:cNvGrpSpPr/>
                <p:nvPr/>
              </p:nvGrpSpPr>
              <p:grpSpPr>
                <a:xfrm>
                  <a:off x="711360" y="1389240"/>
                  <a:ext cx="2928240" cy="1107720"/>
                  <a:chOff x="711360" y="1389240"/>
                  <a:chExt cx="2928240" cy="1107720"/>
                </a:xfrm>
              </p:grpSpPr>
              <p:sp>
                <p:nvSpPr>
                  <p:cNvPr id="3680" name=""/>
                  <p:cNvSpPr/>
                  <p:nvPr/>
                </p:nvSpPr>
                <p:spPr>
                  <a:xfrm flipV="1">
                    <a:off x="753480" y="1444680"/>
                    <a:ext cx="34560" cy="7524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1" name=""/>
                  <p:cNvSpPr/>
                  <p:nvPr/>
                </p:nvSpPr>
                <p:spPr>
                  <a:xfrm>
                    <a:off x="788400" y="1444680"/>
                    <a:ext cx="321480" cy="144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2" name=""/>
                  <p:cNvSpPr/>
                  <p:nvPr/>
                </p:nvSpPr>
                <p:spPr>
                  <a:xfrm>
                    <a:off x="1109880" y="1444680"/>
                    <a:ext cx="35640" cy="2538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3" name=""/>
                  <p:cNvSpPr/>
                  <p:nvPr/>
                </p:nvSpPr>
                <p:spPr>
                  <a:xfrm>
                    <a:off x="1145880" y="1698480"/>
                    <a:ext cx="140040" cy="18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4" name=""/>
                  <p:cNvSpPr/>
                  <p:nvPr/>
                </p:nvSpPr>
                <p:spPr>
                  <a:xfrm>
                    <a:off x="1286280" y="1698480"/>
                    <a:ext cx="34200" cy="7416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5" name=""/>
                  <p:cNvSpPr/>
                  <p:nvPr/>
                </p:nvSpPr>
                <p:spPr>
                  <a:xfrm>
                    <a:off x="1320480" y="2440080"/>
                    <a:ext cx="357480" cy="144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6" name=""/>
                  <p:cNvSpPr/>
                  <p:nvPr/>
                </p:nvSpPr>
                <p:spPr>
                  <a:xfrm flipV="1">
                    <a:off x="1678320" y="2196720"/>
                    <a:ext cx="34200" cy="2430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7" name=""/>
                  <p:cNvSpPr/>
                  <p:nvPr/>
                </p:nvSpPr>
                <p:spPr>
                  <a:xfrm flipV="1">
                    <a:off x="1818360" y="1444680"/>
                    <a:ext cx="34560" cy="7524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8" name=""/>
                  <p:cNvSpPr/>
                  <p:nvPr/>
                </p:nvSpPr>
                <p:spPr>
                  <a:xfrm>
                    <a:off x="1852920" y="1444680"/>
                    <a:ext cx="321840" cy="144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9" name=""/>
                  <p:cNvSpPr/>
                  <p:nvPr/>
                </p:nvSpPr>
                <p:spPr>
                  <a:xfrm>
                    <a:off x="2174760" y="1444680"/>
                    <a:ext cx="35280" cy="2538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0" name=""/>
                  <p:cNvSpPr/>
                  <p:nvPr/>
                </p:nvSpPr>
                <p:spPr>
                  <a:xfrm>
                    <a:off x="2210400" y="1698480"/>
                    <a:ext cx="140040" cy="18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1" name=""/>
                  <p:cNvSpPr/>
                  <p:nvPr/>
                </p:nvSpPr>
                <p:spPr>
                  <a:xfrm>
                    <a:off x="2350800" y="1698480"/>
                    <a:ext cx="34200" cy="7416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2" name=""/>
                  <p:cNvSpPr/>
                  <p:nvPr/>
                </p:nvSpPr>
                <p:spPr>
                  <a:xfrm>
                    <a:off x="2385000" y="2440080"/>
                    <a:ext cx="357480" cy="144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3" name=""/>
                  <p:cNvSpPr/>
                  <p:nvPr/>
                </p:nvSpPr>
                <p:spPr>
                  <a:xfrm flipV="1">
                    <a:off x="2742840" y="2196720"/>
                    <a:ext cx="35280" cy="2430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4" name=""/>
                  <p:cNvSpPr/>
                  <p:nvPr/>
                </p:nvSpPr>
                <p:spPr>
                  <a:xfrm>
                    <a:off x="2778480" y="2197080"/>
                    <a:ext cx="104760" cy="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5" name=""/>
                  <p:cNvSpPr/>
                  <p:nvPr/>
                </p:nvSpPr>
                <p:spPr>
                  <a:xfrm flipV="1">
                    <a:off x="2883240" y="1444680"/>
                    <a:ext cx="34200" cy="7524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6" name=""/>
                  <p:cNvSpPr/>
                  <p:nvPr/>
                </p:nvSpPr>
                <p:spPr>
                  <a:xfrm>
                    <a:off x="2917800" y="1444680"/>
                    <a:ext cx="316080" cy="144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7" name=""/>
                  <p:cNvSpPr/>
                  <p:nvPr/>
                </p:nvSpPr>
                <p:spPr>
                  <a:xfrm>
                    <a:off x="3233880" y="1444680"/>
                    <a:ext cx="34200" cy="2538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8" name=""/>
                  <p:cNvSpPr/>
                  <p:nvPr/>
                </p:nvSpPr>
                <p:spPr>
                  <a:xfrm>
                    <a:off x="3268440" y="1698480"/>
                    <a:ext cx="147240" cy="18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9" name=""/>
                  <p:cNvSpPr/>
                  <p:nvPr/>
                </p:nvSpPr>
                <p:spPr>
                  <a:xfrm>
                    <a:off x="3415680" y="1698480"/>
                    <a:ext cx="34200" cy="74160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0" name=""/>
                  <p:cNvSpPr/>
                  <p:nvPr/>
                </p:nvSpPr>
                <p:spPr>
                  <a:xfrm>
                    <a:off x="3449880" y="2440080"/>
                    <a:ext cx="189720" cy="1440"/>
                  </a:xfrm>
                  <a:prstGeom prst="line">
                    <a:avLst/>
                  </a:prstGeom>
                  <a:ln w="28440">
                    <a:solidFill>
                      <a:srgbClr val="8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>
                    <a:off x="711360" y="213984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2" name=""/>
                  <p:cNvSpPr/>
                  <p:nvPr/>
                </p:nvSpPr>
                <p:spPr>
                  <a:xfrm>
                    <a:off x="745560" y="1389240"/>
                    <a:ext cx="849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3" name=""/>
                  <p:cNvSpPr/>
                  <p:nvPr/>
                </p:nvSpPr>
                <p:spPr>
                  <a:xfrm>
                    <a:off x="1068840" y="138924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4" name=""/>
                  <p:cNvSpPr/>
                  <p:nvPr/>
                </p:nvSpPr>
                <p:spPr>
                  <a:xfrm>
                    <a:off x="1103040" y="164160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5" name=""/>
                  <p:cNvSpPr/>
                  <p:nvPr/>
                </p:nvSpPr>
                <p:spPr>
                  <a:xfrm>
                    <a:off x="1243440" y="164160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6" name=""/>
                  <p:cNvSpPr/>
                  <p:nvPr/>
                </p:nvSpPr>
                <p:spPr>
                  <a:xfrm>
                    <a:off x="1279080" y="238428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7" name=""/>
                  <p:cNvSpPr/>
                  <p:nvPr/>
                </p:nvSpPr>
                <p:spPr>
                  <a:xfrm>
                    <a:off x="1635480" y="238428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8" name=""/>
                  <p:cNvSpPr/>
                  <p:nvPr/>
                </p:nvSpPr>
                <p:spPr>
                  <a:xfrm>
                    <a:off x="1671480" y="213984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9" name=""/>
                  <p:cNvSpPr/>
                  <p:nvPr/>
                </p:nvSpPr>
                <p:spPr>
                  <a:xfrm>
                    <a:off x="1775880" y="213984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0" name=""/>
                  <p:cNvSpPr/>
                  <p:nvPr/>
                </p:nvSpPr>
                <p:spPr>
                  <a:xfrm>
                    <a:off x="1811520" y="138924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1" name=""/>
                  <p:cNvSpPr/>
                  <p:nvPr/>
                </p:nvSpPr>
                <p:spPr>
                  <a:xfrm>
                    <a:off x="2133360" y="138924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2" name=""/>
                  <p:cNvSpPr/>
                  <p:nvPr/>
                </p:nvSpPr>
                <p:spPr>
                  <a:xfrm>
                    <a:off x="2167560" y="1641600"/>
                    <a:ext cx="853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3" name=""/>
                  <p:cNvSpPr/>
                  <p:nvPr/>
                </p:nvSpPr>
                <p:spPr>
                  <a:xfrm>
                    <a:off x="2307960" y="164160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4" name=""/>
                  <p:cNvSpPr/>
                  <p:nvPr/>
                </p:nvSpPr>
                <p:spPr>
                  <a:xfrm>
                    <a:off x="2343960" y="238428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5" name=""/>
                  <p:cNvSpPr/>
                  <p:nvPr/>
                </p:nvSpPr>
                <p:spPr>
                  <a:xfrm>
                    <a:off x="2700360" y="2384280"/>
                    <a:ext cx="849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6" name=""/>
                  <p:cNvSpPr/>
                  <p:nvPr/>
                </p:nvSpPr>
                <p:spPr>
                  <a:xfrm>
                    <a:off x="2736000" y="213984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7" name=""/>
                  <p:cNvSpPr/>
                  <p:nvPr/>
                </p:nvSpPr>
                <p:spPr>
                  <a:xfrm>
                    <a:off x="2840760" y="213984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8" name=""/>
                  <p:cNvSpPr/>
                  <p:nvPr/>
                </p:nvSpPr>
                <p:spPr>
                  <a:xfrm>
                    <a:off x="2876040" y="138924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3191400" y="138924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0" name=""/>
                  <p:cNvSpPr/>
                  <p:nvPr/>
                </p:nvSpPr>
                <p:spPr>
                  <a:xfrm>
                    <a:off x="3225960" y="1641600"/>
                    <a:ext cx="849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1" name=""/>
                  <p:cNvSpPr/>
                  <p:nvPr/>
                </p:nvSpPr>
                <p:spPr>
                  <a:xfrm>
                    <a:off x="3372840" y="1641600"/>
                    <a:ext cx="853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2" name=""/>
                  <p:cNvSpPr/>
                  <p:nvPr/>
                </p:nvSpPr>
                <p:spPr>
                  <a:xfrm>
                    <a:off x="3408840" y="2384280"/>
                    <a:ext cx="838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36" y="0"/>
                        </a:moveTo>
                        <a:lnTo>
                          <a:pt x="72" y="36"/>
                        </a:lnTo>
                        <a:lnTo>
                          <a:pt x="36" y="72"/>
                        </a:lnTo>
                        <a:lnTo>
                          <a:pt x="0" y="36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3" name=""/>
              <p:cNvGrpSpPr/>
              <p:nvPr/>
            </p:nvGrpSpPr>
            <p:grpSpPr>
              <a:xfrm>
                <a:off x="461880" y="1219320"/>
                <a:ext cx="295200" cy="1748520"/>
                <a:chOff x="461880" y="1219320"/>
                <a:chExt cx="295200" cy="1748520"/>
              </a:xfrm>
            </p:grpSpPr>
            <p:sp>
              <p:nvSpPr>
                <p:cNvPr id="3724" name=""/>
                <p:cNvSpPr/>
                <p:nvPr/>
              </p:nvSpPr>
              <p:spPr>
                <a:xfrm>
                  <a:off x="550440" y="272412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>
                  <a:off x="461880" y="24714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461880" y="221904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.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461880" y="197136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.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461880" y="17190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.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>
                  <a:off x="474480" y="146664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>
                  <a:off x="461880" y="121932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1" name=""/>
              <p:cNvGrpSpPr/>
              <p:nvPr/>
            </p:nvGrpSpPr>
            <p:grpSpPr>
              <a:xfrm>
                <a:off x="727200" y="2816280"/>
                <a:ext cx="3395880" cy="347040"/>
                <a:chOff x="727200" y="2816280"/>
                <a:chExt cx="3395880" cy="347040"/>
              </a:xfrm>
            </p:grpSpPr>
            <p:sp>
              <p:nvSpPr>
                <p:cNvPr id="3732" name=""/>
                <p:cNvSpPr/>
                <p:nvPr/>
              </p:nvSpPr>
              <p:spPr>
                <a:xfrm>
                  <a:off x="727200" y="2816280"/>
                  <a:ext cx="320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759240" y="2816280"/>
                  <a:ext cx="32745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 flipV="1">
                  <a:off x="759240" y="2816280"/>
                  <a:ext cx="1440" cy="3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 flipV="1">
                  <a:off x="1171800" y="2816280"/>
                  <a:ext cx="1080" cy="3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 flipV="1">
                  <a:off x="1576080" y="2816280"/>
                  <a:ext cx="1080" cy="3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 flipV="1">
                  <a:off x="1988280" y="2816280"/>
                  <a:ext cx="1440" cy="3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 flipV="1">
                  <a:off x="2400840" y="2816280"/>
                  <a:ext cx="1080" cy="3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 flipV="1">
                  <a:off x="2804760" y="2816280"/>
                  <a:ext cx="1440" cy="3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 flipV="1">
                  <a:off x="3217320" y="2816280"/>
                  <a:ext cx="1080" cy="3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 flipV="1">
                  <a:off x="3621600" y="2816280"/>
                  <a:ext cx="1080" cy="3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 flipV="1">
                  <a:off x="4033800" y="2816280"/>
                  <a:ext cx="1080" cy="3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>
                  <a:off x="734400" y="2919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1097280" y="29196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0,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1550160" y="2919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>
                  <a:off x="1915560" y="29196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1,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2376360" y="2919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2732040" y="29196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2,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3192120" y="2919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>
                  <a:off x="3547080" y="2919600"/>
                  <a:ext cx="282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3,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>
                  <a:off x="4009680" y="291960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300"/>
                    </a:spcBef>
                    <a:spcAft>
                      <a:spcPts val="300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2" name=""/>
              <p:cNvGrpSpPr/>
              <p:nvPr/>
            </p:nvGrpSpPr>
            <p:grpSpPr>
              <a:xfrm>
                <a:off x="0" y="1397160"/>
                <a:ext cx="385920" cy="393480"/>
                <a:chOff x="0" y="1397160"/>
                <a:chExt cx="385920" cy="393480"/>
              </a:xfrm>
            </p:grpSpPr>
            <p:sp>
              <p:nvSpPr>
                <p:cNvPr id="3753" name=""/>
                <p:cNvSpPr/>
                <p:nvPr/>
              </p:nvSpPr>
              <p:spPr>
                <a:xfrm>
                  <a:off x="385920" y="1397160"/>
                  <a:ext cx="0" cy="39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>
                  <a:off x="0" y="1413000"/>
                  <a:ext cx="333000" cy="36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5" name=""/>
              <p:cNvSpPr/>
              <p:nvPr/>
            </p:nvSpPr>
            <p:spPr>
              <a:xfrm>
                <a:off x="762120" y="798480"/>
                <a:ext cx="0" cy="71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1333440" y="798480"/>
                <a:ext cx="0" cy="71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2921040" y="798480"/>
                <a:ext cx="0" cy="71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886320" y="700200"/>
                <a:ext cx="217116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1 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  0 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   1 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  0 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1859040" y="798480"/>
                <a:ext cx="0" cy="71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2397240" y="798480"/>
                <a:ext cx="0" cy="71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3422520" y="798480"/>
                <a:ext cx="0" cy="71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62" name=""/>
          <p:cNvGrpSpPr/>
          <p:nvPr/>
        </p:nvGrpSpPr>
        <p:grpSpPr>
          <a:xfrm>
            <a:off x="703440" y="3133800"/>
            <a:ext cx="4683600" cy="1252440"/>
            <a:chOff x="703440" y="3133800"/>
            <a:chExt cx="4683600" cy="1252440"/>
          </a:xfrm>
        </p:grpSpPr>
        <p:grpSp>
          <p:nvGrpSpPr>
            <p:cNvPr id="3763" name=""/>
            <p:cNvGrpSpPr/>
            <p:nvPr/>
          </p:nvGrpSpPr>
          <p:grpSpPr>
            <a:xfrm>
              <a:off x="703440" y="3133800"/>
              <a:ext cx="4683600" cy="361080"/>
              <a:chOff x="703440" y="3133800"/>
              <a:chExt cx="4683600" cy="361080"/>
            </a:xfrm>
          </p:grpSpPr>
          <p:sp>
            <p:nvSpPr>
              <p:cNvPr id="3764" name=""/>
              <p:cNvSpPr/>
              <p:nvPr/>
            </p:nvSpPr>
            <p:spPr>
              <a:xfrm>
                <a:off x="703440" y="3359160"/>
                <a:ext cx="88560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1683000" y="3133800"/>
                <a:ext cx="37040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Rising edge part of driver schedu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6" name=""/>
            <p:cNvSpPr/>
            <p:nvPr/>
          </p:nvSpPr>
          <p:spPr>
            <a:xfrm>
              <a:off x="735120" y="341640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549440" y="341640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"/>
          <p:cNvGrpSpPr/>
          <p:nvPr/>
        </p:nvGrpSpPr>
        <p:grpSpPr>
          <a:xfrm>
            <a:off x="730080" y="1503360"/>
            <a:ext cx="6205680" cy="3236400"/>
            <a:chOff x="730080" y="1503360"/>
            <a:chExt cx="6205680" cy="3236400"/>
          </a:xfrm>
        </p:grpSpPr>
        <p:grpSp>
          <p:nvGrpSpPr>
            <p:cNvPr id="3769" name=""/>
            <p:cNvGrpSpPr/>
            <p:nvPr/>
          </p:nvGrpSpPr>
          <p:grpSpPr>
            <a:xfrm>
              <a:off x="730080" y="3535200"/>
              <a:ext cx="4223160" cy="721080"/>
              <a:chOff x="730080" y="3535200"/>
              <a:chExt cx="4223160" cy="721080"/>
            </a:xfrm>
          </p:grpSpPr>
          <p:sp>
            <p:nvSpPr>
              <p:cNvPr id="3770" name=""/>
              <p:cNvSpPr/>
              <p:nvPr/>
            </p:nvSpPr>
            <p:spPr>
              <a:xfrm>
                <a:off x="730080" y="3665520"/>
                <a:ext cx="605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1622520" y="3535200"/>
                <a:ext cx="3330720" cy="72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Rising part not yet finished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But the „tool“ switches to  L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2" name=""/>
            <p:cNvSpPr/>
            <p:nvPr/>
          </p:nvSpPr>
          <p:spPr>
            <a:xfrm flipV="1">
              <a:off x="5133960" y="3263040"/>
              <a:ext cx="1801800" cy="1476360"/>
            </a:xfrm>
            <a:prstGeom prst="irregularSeal2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320840" y="1503360"/>
              <a:ext cx="15840" cy="288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4" name="PlaceHolder 2"/>
          <p:cNvSpPr>
            <a:spLocks noGrp="1"/>
          </p:cNvSpPr>
          <p:nvPr>
            <p:ph/>
          </p:nvPr>
        </p:nvSpPr>
        <p:spPr>
          <a:xfrm>
            <a:off x="255600" y="1197000"/>
            <a:ext cx="86342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210960" y="225000"/>
            <a:ext cx="71568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river schedule @ 1000MHz </a:t>
            </a:r>
            <a:r>
              <a:rPr b="1" lang="fi-FI" sz="2000" spc="-1" strike="noStrike">
                <a:solidFill>
                  <a:srgbClr val="666666"/>
                </a:solidFill>
                <a:latin typeface="Arial"/>
              </a:rPr>
              <a:t>(tp=1ns)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215640" y="4943520"/>
            <a:ext cx="462024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el shows a switching from High to Lo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t between High-Pre and Low-P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 only the pattern 101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ll be shown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7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3778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9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3780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3781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3782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3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4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5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6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7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8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3789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0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2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3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4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3795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6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02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3803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3804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7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3808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1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3812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5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3816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19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0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3821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4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5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6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29" name=""/>
          <p:cNvGrpSpPr/>
          <p:nvPr/>
        </p:nvGrpSpPr>
        <p:grpSpPr>
          <a:xfrm>
            <a:off x="4576320" y="525600"/>
            <a:ext cx="4118400" cy="2992320"/>
            <a:chOff x="4576320" y="525600"/>
            <a:chExt cx="4118400" cy="2992320"/>
          </a:xfrm>
        </p:grpSpPr>
        <p:pic>
          <p:nvPicPr>
            <p:cNvPr id="3830" name="" descr=""/>
            <p:cNvPicPr/>
            <p:nvPr/>
          </p:nvPicPr>
          <p:blipFill>
            <a:blip r:embed="rId1"/>
            <a:stretch/>
          </p:blipFill>
          <p:spPr>
            <a:xfrm>
              <a:off x="4883040" y="525600"/>
              <a:ext cx="3811680" cy="29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31" name=""/>
            <p:cNvGrpSpPr/>
            <p:nvPr/>
          </p:nvGrpSpPr>
          <p:grpSpPr>
            <a:xfrm>
              <a:off x="4576320" y="835200"/>
              <a:ext cx="738720" cy="447480"/>
              <a:chOff x="4576320" y="835200"/>
              <a:chExt cx="738720" cy="447480"/>
            </a:xfrm>
          </p:grpSpPr>
          <p:sp>
            <p:nvSpPr>
              <p:cNvPr id="3832" name=""/>
              <p:cNvSpPr/>
              <p:nvPr/>
            </p:nvSpPr>
            <p:spPr>
              <a:xfrm rot="5400000">
                <a:off x="4905000" y="796680"/>
                <a:ext cx="92520" cy="2473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rot="5400000">
                <a:off x="4579200" y="832320"/>
                <a:ext cx="170280" cy="1760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5216760" y="951840"/>
                <a:ext cx="91440" cy="163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5208840" y="1169280"/>
                <a:ext cx="106200" cy="113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36" name=""/>
              <p:cNvCxnSpPr>
                <a:stCxn id="3833" idx="0"/>
                <a:endCxn id="3832" idx="3"/>
              </p:cNvCxnSpPr>
              <p:nvPr/>
            </p:nvCxnSpPr>
            <p:spPr>
              <a:xfrm flipV="1">
                <a:off x="4753440" y="919440"/>
                <a:ext cx="73800" cy="1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837" name=""/>
              <p:cNvCxnSpPr>
                <a:stCxn id="3832" idx="1"/>
                <a:endCxn id="3834" idx="0"/>
              </p:cNvCxnSpPr>
              <p:nvPr/>
            </p:nvCxnSpPr>
            <p:spPr>
              <a:xfrm>
                <a:off x="5074200" y="919800"/>
                <a:ext cx="189000" cy="3240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3838" name=""/>
              <p:cNvCxnSpPr>
                <a:stCxn id="3834" idx="2"/>
                <a:endCxn id="3835" idx="0"/>
              </p:cNvCxnSpPr>
              <p:nvPr/>
            </p:nvCxnSpPr>
            <p:spPr>
              <a:xfrm flipH="1">
                <a:off x="5262120" y="1114560"/>
                <a:ext cx="1440" cy="55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3839" name=""/>
          <p:cNvGrpSpPr/>
          <p:nvPr/>
        </p:nvGrpSpPr>
        <p:grpSpPr>
          <a:xfrm>
            <a:off x="4589280" y="3600360"/>
            <a:ext cx="4116600" cy="2992680"/>
            <a:chOff x="4589280" y="3600360"/>
            <a:chExt cx="4116600" cy="2992680"/>
          </a:xfrm>
        </p:grpSpPr>
        <p:pic>
          <p:nvPicPr>
            <p:cNvPr id="3840" name="" descr=""/>
            <p:cNvPicPr/>
            <p:nvPr/>
          </p:nvPicPr>
          <p:blipFill>
            <a:blip r:embed="rId2"/>
            <a:stretch/>
          </p:blipFill>
          <p:spPr>
            <a:xfrm>
              <a:off x="4894200" y="3600360"/>
              <a:ext cx="3811680" cy="299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41" name=""/>
            <p:cNvGrpSpPr/>
            <p:nvPr/>
          </p:nvGrpSpPr>
          <p:grpSpPr>
            <a:xfrm>
              <a:off x="4589280" y="5779800"/>
              <a:ext cx="738360" cy="452880"/>
              <a:chOff x="4589280" y="5779800"/>
              <a:chExt cx="738360" cy="452880"/>
            </a:xfrm>
          </p:grpSpPr>
          <p:grpSp>
            <p:nvGrpSpPr>
              <p:cNvPr id="3842" name=""/>
              <p:cNvGrpSpPr/>
              <p:nvPr/>
            </p:nvGrpSpPr>
            <p:grpSpPr>
              <a:xfrm>
                <a:off x="4589280" y="5784840"/>
                <a:ext cx="738360" cy="447840"/>
                <a:chOff x="4589280" y="5784840"/>
                <a:chExt cx="738360" cy="447840"/>
              </a:xfrm>
            </p:grpSpPr>
            <p:sp>
              <p:nvSpPr>
                <p:cNvPr id="3843" name=""/>
                <p:cNvSpPr/>
                <p:nvPr/>
              </p:nvSpPr>
              <p:spPr>
                <a:xfrm rot="5400000">
                  <a:off x="4917960" y="5746320"/>
                  <a:ext cx="92520" cy="247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4" name=""/>
                <p:cNvSpPr/>
                <p:nvPr/>
              </p:nvSpPr>
              <p:spPr>
                <a:xfrm rot="5400000">
                  <a:off x="4592160" y="5781960"/>
                  <a:ext cx="170280" cy="176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5" name=""/>
                <p:cNvSpPr/>
                <p:nvPr/>
              </p:nvSpPr>
              <p:spPr>
                <a:xfrm>
                  <a:off x="5229360" y="5901480"/>
                  <a:ext cx="91440" cy="16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>
                  <a:off x="5221440" y="6119280"/>
                  <a:ext cx="106200" cy="1134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847" name=""/>
                <p:cNvCxnSpPr>
                  <a:stCxn id="3844" idx="0"/>
                  <a:endCxn id="3843" idx="3"/>
                </p:cNvCxnSpPr>
                <p:nvPr/>
              </p:nvCxnSpPr>
              <p:spPr>
                <a:xfrm flipV="1">
                  <a:off x="4766400" y="5869080"/>
                  <a:ext cx="73800" cy="14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848" name=""/>
                <p:cNvCxnSpPr>
                  <a:stCxn id="3843" idx="1"/>
                  <a:endCxn id="3845" idx="0"/>
                </p:cNvCxnSpPr>
                <p:nvPr/>
              </p:nvCxnSpPr>
              <p:spPr>
                <a:xfrm>
                  <a:off x="5086800" y="5869440"/>
                  <a:ext cx="189000" cy="3240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849" name=""/>
                <p:cNvCxnSpPr>
                  <a:stCxn id="3845" idx="2"/>
                  <a:endCxn id="3846" idx="0"/>
                </p:cNvCxnSpPr>
                <p:nvPr/>
              </p:nvCxnSpPr>
              <p:spPr>
                <a:xfrm flipH="1">
                  <a:off x="5274720" y="6064200"/>
                  <a:ext cx="1440" cy="5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3850" name=""/>
              <p:cNvGrpSpPr/>
              <p:nvPr/>
            </p:nvGrpSpPr>
            <p:grpSpPr>
              <a:xfrm>
                <a:off x="4880880" y="5779800"/>
                <a:ext cx="179640" cy="178560"/>
                <a:chOff x="4880880" y="5779800"/>
                <a:chExt cx="179640" cy="178560"/>
              </a:xfrm>
            </p:grpSpPr>
            <p:sp>
              <p:nvSpPr>
                <p:cNvPr id="3851" name=""/>
                <p:cNvSpPr/>
                <p:nvPr/>
              </p:nvSpPr>
              <p:spPr>
                <a:xfrm flipH="1">
                  <a:off x="4880880" y="577980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>
                  <a:off x="4887720" y="578556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53" name=""/>
          <p:cNvGrpSpPr/>
          <p:nvPr/>
        </p:nvGrpSpPr>
        <p:grpSpPr>
          <a:xfrm>
            <a:off x="0" y="798480"/>
            <a:ext cx="4956480" cy="2564640"/>
            <a:chOff x="0" y="798480"/>
            <a:chExt cx="4956480" cy="2564640"/>
          </a:xfrm>
        </p:grpSpPr>
        <p:sp>
          <p:nvSpPr>
            <p:cNvPr id="3854" name=""/>
            <p:cNvSpPr/>
            <p:nvPr/>
          </p:nvSpPr>
          <p:spPr>
            <a:xfrm>
              <a:off x="939960" y="1503360"/>
              <a:ext cx="3265200" cy="1511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939960" y="2768760"/>
              <a:ext cx="326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939960" y="2511360"/>
              <a:ext cx="326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939960" y="2263680"/>
              <a:ext cx="326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939960" y="2006640"/>
              <a:ext cx="326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939960" y="1758960"/>
              <a:ext cx="326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939960" y="1503360"/>
              <a:ext cx="326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351080" y="1503360"/>
              <a:ext cx="1440" cy="151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754280" y="1503360"/>
              <a:ext cx="1440" cy="151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165400" y="1503360"/>
              <a:ext cx="1440" cy="151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576520" y="1503360"/>
              <a:ext cx="1440" cy="151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979720" y="1503360"/>
              <a:ext cx="1440" cy="151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3390840" y="1503360"/>
              <a:ext cx="1800" cy="151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3794040" y="1503360"/>
              <a:ext cx="1800" cy="151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4205160" y="1503360"/>
              <a:ext cx="1800" cy="151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939960" y="1503360"/>
              <a:ext cx="3265200" cy="15112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939960" y="1503360"/>
              <a:ext cx="1440" cy="151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907920" y="301464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907920" y="276876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907920" y="251136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907920" y="22636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907920" y="200664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907920" y="175896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907920" y="150336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939960" y="3014640"/>
              <a:ext cx="3265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 flipV="1">
              <a:off x="939960" y="301464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 flipV="1">
              <a:off x="1351080" y="301464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V="1">
              <a:off x="1754280" y="301464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V="1">
              <a:off x="2165400" y="301464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 flipV="1">
              <a:off x="2576520" y="301464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V="1">
              <a:off x="2979720" y="301464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 flipV="1">
              <a:off x="3390840" y="301464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 flipV="1">
              <a:off x="3794040" y="301464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V="1">
              <a:off x="4205160" y="301464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939960" y="1627200"/>
              <a:ext cx="39600" cy="76032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979560" y="1627200"/>
              <a:ext cx="371520" cy="144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1351080" y="1627200"/>
              <a:ext cx="39600" cy="10080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1390680" y="2635200"/>
              <a:ext cx="363600" cy="18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V="1">
              <a:off x="1754280" y="1627200"/>
              <a:ext cx="39600" cy="10080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1793880" y="1627200"/>
              <a:ext cx="371520" cy="144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2165400" y="1627200"/>
              <a:ext cx="39600" cy="10080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205000" y="2635200"/>
              <a:ext cx="371520" cy="18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V="1">
              <a:off x="2576520" y="1627200"/>
              <a:ext cx="39600" cy="10080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616120" y="1627200"/>
              <a:ext cx="363600" cy="144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979720" y="1627200"/>
              <a:ext cx="39600" cy="10080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3019320" y="2635200"/>
              <a:ext cx="371520" cy="18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V="1">
              <a:off x="3390840" y="1627200"/>
              <a:ext cx="39600" cy="10080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3430440" y="1627200"/>
              <a:ext cx="363600" cy="144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3794040" y="1627200"/>
              <a:ext cx="39600" cy="10080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3833640" y="2635200"/>
              <a:ext cx="371520" cy="180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890640" y="233028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932040" y="156996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1301760" y="156996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1343160" y="257796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1704960" y="257796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746360" y="156996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116080" y="156996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157480" y="257796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529000" y="2577960"/>
              <a:ext cx="950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568600" y="156996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930400" y="156996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2971800" y="257796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3343320" y="2577960"/>
              <a:ext cx="950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3382920" y="156996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3745080" y="156996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3786120" y="2577960"/>
              <a:ext cx="9684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157640" y="2577960"/>
              <a:ext cx="9540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6" y="0"/>
                  </a:moveTo>
                  <a:lnTo>
                    <a:pt x="72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1" name=""/>
            <p:cNvGrpSpPr/>
            <p:nvPr/>
          </p:nvGrpSpPr>
          <p:grpSpPr>
            <a:xfrm>
              <a:off x="915840" y="3119400"/>
              <a:ext cx="3378240" cy="243720"/>
              <a:chOff x="915840" y="3119400"/>
              <a:chExt cx="3378240" cy="243720"/>
            </a:xfrm>
          </p:grpSpPr>
          <p:sp>
            <p:nvSpPr>
              <p:cNvPr id="3922" name=""/>
              <p:cNvSpPr/>
              <p:nvPr/>
            </p:nvSpPr>
            <p:spPr>
              <a:xfrm>
                <a:off x="915840" y="31194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1278360" y="311940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0,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1731240" y="31194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092320" y="311940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,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2553480" y="31194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907360" y="311940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2,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3366720" y="31194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3722400" y="311940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3,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4180680" y="31194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1" name=""/>
            <p:cNvGrpSpPr/>
            <p:nvPr/>
          </p:nvGrpSpPr>
          <p:grpSpPr>
            <a:xfrm>
              <a:off x="615960" y="1415880"/>
              <a:ext cx="295200" cy="1748880"/>
              <a:chOff x="615960" y="1415880"/>
              <a:chExt cx="295200" cy="1748880"/>
            </a:xfrm>
          </p:grpSpPr>
          <p:sp>
            <p:nvSpPr>
              <p:cNvPr id="3932" name=""/>
              <p:cNvSpPr/>
              <p:nvPr/>
            </p:nvSpPr>
            <p:spPr>
              <a:xfrm>
                <a:off x="704520" y="29210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615960" y="26683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615960" y="24159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615960" y="216828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615960" y="19159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628560" y="16635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615960" y="141588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.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9" name=""/>
            <p:cNvGrpSpPr/>
            <p:nvPr/>
          </p:nvGrpSpPr>
          <p:grpSpPr>
            <a:xfrm>
              <a:off x="4254480" y="2814480"/>
              <a:ext cx="702000" cy="482400"/>
              <a:chOff x="4254480" y="2814480"/>
              <a:chExt cx="702000" cy="482400"/>
            </a:xfrm>
          </p:grpSpPr>
          <p:sp>
            <p:nvSpPr>
              <p:cNvPr id="3940" name=""/>
              <p:cNvSpPr/>
              <p:nvPr/>
            </p:nvSpPr>
            <p:spPr>
              <a:xfrm>
                <a:off x="4316400" y="2814480"/>
                <a:ext cx="47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4254480" y="2935800"/>
                <a:ext cx="7020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t (n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2" name=""/>
            <p:cNvGrpSpPr/>
            <p:nvPr/>
          </p:nvGrpSpPr>
          <p:grpSpPr>
            <a:xfrm>
              <a:off x="0" y="1397160"/>
              <a:ext cx="385920" cy="393480"/>
              <a:chOff x="0" y="1397160"/>
              <a:chExt cx="385920" cy="393480"/>
            </a:xfrm>
          </p:grpSpPr>
          <p:sp>
            <p:nvSpPr>
              <p:cNvPr id="3943" name=""/>
              <p:cNvSpPr/>
              <p:nvPr/>
            </p:nvSpPr>
            <p:spPr>
              <a:xfrm>
                <a:off x="385920" y="1397160"/>
                <a:ext cx="0" cy="39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0" y="1413000"/>
                <a:ext cx="3330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5" name=""/>
            <p:cNvSpPr/>
            <p:nvPr/>
          </p:nvSpPr>
          <p:spPr>
            <a:xfrm>
              <a:off x="298620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57184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338760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959400" y="798480"/>
              <a:ext cx="24120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1     0   1     0    1    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94464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16540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75572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35900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3" name=""/>
          <p:cNvGrpSpPr/>
          <p:nvPr/>
        </p:nvGrpSpPr>
        <p:grpSpPr>
          <a:xfrm>
            <a:off x="946080" y="3357720"/>
            <a:ext cx="4581000" cy="1028520"/>
            <a:chOff x="946080" y="3357720"/>
            <a:chExt cx="4581000" cy="1028520"/>
          </a:xfrm>
        </p:grpSpPr>
        <p:sp>
          <p:nvSpPr>
            <p:cNvPr id="3954" name=""/>
            <p:cNvSpPr/>
            <p:nvPr/>
          </p:nvSpPr>
          <p:spPr>
            <a:xfrm>
              <a:off x="957240" y="3541680"/>
              <a:ext cx="81612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1823040" y="3357720"/>
              <a:ext cx="37040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ising edge part of driver sched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946080" y="3400560"/>
              <a:ext cx="0" cy="985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1746360" y="3400560"/>
              <a:ext cx="0" cy="985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8" name=""/>
          <p:cNvGrpSpPr/>
          <p:nvPr/>
        </p:nvGrpSpPr>
        <p:grpSpPr>
          <a:xfrm>
            <a:off x="939960" y="3263400"/>
            <a:ext cx="5601960" cy="1476360"/>
            <a:chOff x="939960" y="3263400"/>
            <a:chExt cx="5601960" cy="1476360"/>
          </a:xfrm>
        </p:grpSpPr>
        <p:sp>
          <p:nvSpPr>
            <p:cNvPr id="3959" name=""/>
            <p:cNvSpPr/>
            <p:nvPr/>
          </p:nvSpPr>
          <p:spPr>
            <a:xfrm>
              <a:off x="939960" y="3917880"/>
              <a:ext cx="45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651320" y="3800520"/>
              <a:ext cx="346644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ising part only first bit finished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ut the „tool“ switches to  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V="1">
              <a:off x="5133960" y="3263040"/>
              <a:ext cx="1407960" cy="1476360"/>
            </a:xfrm>
            <a:prstGeom prst="irregularSeal2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1378080" y="3400560"/>
              <a:ext cx="0" cy="985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252000" y="254160"/>
            <a:ext cx="6666120" cy="8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river schedule @ 1250MHz </a:t>
            </a:r>
            <a:r>
              <a:rPr b="1" lang="fi-FI" sz="2000" spc="-1" strike="noStrike">
                <a:solidFill>
                  <a:srgbClr val="666666"/>
                </a:solidFill>
                <a:latin typeface="Arial"/>
              </a:rPr>
              <a:t>(tp=0.8ns)</a:t>
            </a:r>
            <a:endParaRPr b="1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>
            <a:off x="213840" y="4998960"/>
            <a:ext cx="415368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e is not enough time for the first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cause the tool starts switching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5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3966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7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3968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3969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3970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6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3977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2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3983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90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3991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3992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5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3996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9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4000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3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4004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07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8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4009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4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7" name=""/>
          <p:cNvGrpSpPr/>
          <p:nvPr/>
        </p:nvGrpSpPr>
        <p:grpSpPr>
          <a:xfrm>
            <a:off x="4576320" y="407880"/>
            <a:ext cx="4358160" cy="2992680"/>
            <a:chOff x="4576320" y="407880"/>
            <a:chExt cx="4358160" cy="2992680"/>
          </a:xfrm>
        </p:grpSpPr>
        <p:pic>
          <p:nvPicPr>
            <p:cNvPr id="4018" name="" descr=""/>
            <p:cNvPicPr/>
            <p:nvPr/>
          </p:nvPicPr>
          <p:blipFill>
            <a:blip r:embed="rId1"/>
            <a:stretch/>
          </p:blipFill>
          <p:spPr>
            <a:xfrm>
              <a:off x="5122800" y="407880"/>
              <a:ext cx="3811680" cy="299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19" name=""/>
            <p:cNvGrpSpPr/>
            <p:nvPr/>
          </p:nvGrpSpPr>
          <p:grpSpPr>
            <a:xfrm>
              <a:off x="4576320" y="835200"/>
              <a:ext cx="738720" cy="447480"/>
              <a:chOff x="4576320" y="835200"/>
              <a:chExt cx="738720" cy="447480"/>
            </a:xfrm>
          </p:grpSpPr>
          <p:sp>
            <p:nvSpPr>
              <p:cNvPr id="4020" name=""/>
              <p:cNvSpPr/>
              <p:nvPr/>
            </p:nvSpPr>
            <p:spPr>
              <a:xfrm rot="5400000">
                <a:off x="4905000" y="796680"/>
                <a:ext cx="92520" cy="2473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 rot="5400000">
                <a:off x="4579200" y="832320"/>
                <a:ext cx="170280" cy="1760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5216760" y="951840"/>
                <a:ext cx="91440" cy="163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208840" y="1169280"/>
                <a:ext cx="106200" cy="113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24" name=""/>
              <p:cNvCxnSpPr>
                <a:stCxn id="4021" idx="0"/>
                <a:endCxn id="4020" idx="3"/>
              </p:cNvCxnSpPr>
              <p:nvPr/>
            </p:nvCxnSpPr>
            <p:spPr>
              <a:xfrm flipV="1">
                <a:off x="4753440" y="919440"/>
                <a:ext cx="73800" cy="1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4025" name=""/>
              <p:cNvCxnSpPr>
                <a:stCxn id="4020" idx="1"/>
                <a:endCxn id="4022" idx="0"/>
              </p:cNvCxnSpPr>
              <p:nvPr/>
            </p:nvCxnSpPr>
            <p:spPr>
              <a:xfrm>
                <a:off x="5074200" y="919800"/>
                <a:ext cx="189000" cy="3240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4026" name=""/>
              <p:cNvCxnSpPr>
                <a:stCxn id="4022" idx="2"/>
                <a:endCxn id="4023" idx="0"/>
              </p:cNvCxnSpPr>
              <p:nvPr/>
            </p:nvCxnSpPr>
            <p:spPr>
              <a:xfrm flipH="1">
                <a:off x="5262120" y="1114560"/>
                <a:ext cx="1440" cy="55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027" name=""/>
          <p:cNvGrpSpPr/>
          <p:nvPr/>
        </p:nvGrpSpPr>
        <p:grpSpPr>
          <a:xfrm>
            <a:off x="4589280" y="3400560"/>
            <a:ext cx="4364280" cy="2992320"/>
            <a:chOff x="4589280" y="3400560"/>
            <a:chExt cx="4364280" cy="2992320"/>
          </a:xfrm>
        </p:grpSpPr>
        <p:pic>
          <p:nvPicPr>
            <p:cNvPr id="4028" name="" descr=""/>
            <p:cNvPicPr/>
            <p:nvPr/>
          </p:nvPicPr>
          <p:blipFill>
            <a:blip r:embed="rId2"/>
            <a:stretch/>
          </p:blipFill>
          <p:spPr>
            <a:xfrm>
              <a:off x="5141880" y="3400560"/>
              <a:ext cx="3811680" cy="29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29" name=""/>
            <p:cNvGrpSpPr/>
            <p:nvPr/>
          </p:nvGrpSpPr>
          <p:grpSpPr>
            <a:xfrm>
              <a:off x="4589280" y="5779800"/>
              <a:ext cx="738360" cy="452880"/>
              <a:chOff x="4589280" y="5779800"/>
              <a:chExt cx="738360" cy="452880"/>
            </a:xfrm>
          </p:grpSpPr>
          <p:grpSp>
            <p:nvGrpSpPr>
              <p:cNvPr id="4030" name=""/>
              <p:cNvGrpSpPr/>
              <p:nvPr/>
            </p:nvGrpSpPr>
            <p:grpSpPr>
              <a:xfrm>
                <a:off x="4589280" y="5784840"/>
                <a:ext cx="738360" cy="447840"/>
                <a:chOff x="4589280" y="5784840"/>
                <a:chExt cx="738360" cy="447840"/>
              </a:xfrm>
            </p:grpSpPr>
            <p:sp>
              <p:nvSpPr>
                <p:cNvPr id="4031" name=""/>
                <p:cNvSpPr/>
                <p:nvPr/>
              </p:nvSpPr>
              <p:spPr>
                <a:xfrm rot="5400000">
                  <a:off x="4917960" y="5746320"/>
                  <a:ext cx="92520" cy="247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rot="5400000">
                  <a:off x="4592160" y="5781960"/>
                  <a:ext cx="170280" cy="176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5229360" y="5901480"/>
                  <a:ext cx="91440" cy="16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5221440" y="6119280"/>
                  <a:ext cx="106200" cy="1134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035" name=""/>
                <p:cNvCxnSpPr>
                  <a:stCxn id="4032" idx="0"/>
                  <a:endCxn id="4031" idx="3"/>
                </p:cNvCxnSpPr>
                <p:nvPr/>
              </p:nvCxnSpPr>
              <p:spPr>
                <a:xfrm flipV="1">
                  <a:off x="4766400" y="5869080"/>
                  <a:ext cx="73800" cy="14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36" name=""/>
                <p:cNvCxnSpPr>
                  <a:stCxn id="4031" idx="1"/>
                  <a:endCxn id="4033" idx="0"/>
                </p:cNvCxnSpPr>
                <p:nvPr/>
              </p:nvCxnSpPr>
              <p:spPr>
                <a:xfrm>
                  <a:off x="5086800" y="5869440"/>
                  <a:ext cx="189000" cy="3240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37" name=""/>
                <p:cNvCxnSpPr>
                  <a:stCxn id="4033" idx="2"/>
                  <a:endCxn id="4034" idx="0"/>
                </p:cNvCxnSpPr>
                <p:nvPr/>
              </p:nvCxnSpPr>
              <p:spPr>
                <a:xfrm flipH="1">
                  <a:off x="5274720" y="6064200"/>
                  <a:ext cx="1440" cy="5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4038" name=""/>
              <p:cNvGrpSpPr/>
              <p:nvPr/>
            </p:nvGrpSpPr>
            <p:grpSpPr>
              <a:xfrm>
                <a:off x="4880880" y="5779800"/>
                <a:ext cx="179640" cy="178560"/>
                <a:chOff x="4880880" y="5779800"/>
                <a:chExt cx="179640" cy="178560"/>
              </a:xfrm>
            </p:grpSpPr>
            <p:sp>
              <p:nvSpPr>
                <p:cNvPr id="4039" name=""/>
                <p:cNvSpPr/>
                <p:nvPr/>
              </p:nvSpPr>
              <p:spPr>
                <a:xfrm flipH="1">
                  <a:off x="4880880" y="577980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0" name=""/>
                <p:cNvSpPr/>
                <p:nvPr/>
              </p:nvSpPr>
              <p:spPr>
                <a:xfrm>
                  <a:off x="4887720" y="578556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41" name=""/>
          <p:cNvGrpSpPr/>
          <p:nvPr/>
        </p:nvGrpSpPr>
        <p:grpSpPr>
          <a:xfrm>
            <a:off x="0" y="650880"/>
            <a:ext cx="4956480" cy="2646000"/>
            <a:chOff x="0" y="650880"/>
            <a:chExt cx="4956480" cy="2646000"/>
          </a:xfrm>
        </p:grpSpPr>
        <p:grpSp>
          <p:nvGrpSpPr>
            <p:cNvPr id="4042" name=""/>
            <p:cNvGrpSpPr/>
            <p:nvPr/>
          </p:nvGrpSpPr>
          <p:grpSpPr>
            <a:xfrm>
              <a:off x="739800" y="2925720"/>
              <a:ext cx="3378240" cy="243720"/>
              <a:chOff x="739800" y="2925720"/>
              <a:chExt cx="3378240" cy="243720"/>
            </a:xfrm>
          </p:grpSpPr>
          <p:sp>
            <p:nvSpPr>
              <p:cNvPr id="4043" name=""/>
              <p:cNvSpPr/>
              <p:nvPr/>
            </p:nvSpPr>
            <p:spPr>
              <a:xfrm>
                <a:off x="739800" y="29257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1102320" y="29257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0,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1555200" y="29257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1916280" y="29257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,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2377440" y="29257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2731320" y="29257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2,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3190680" y="29257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3546360" y="29257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3,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004640" y="29257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2" name=""/>
            <p:cNvGrpSpPr/>
            <p:nvPr/>
          </p:nvGrpSpPr>
          <p:grpSpPr>
            <a:xfrm>
              <a:off x="4254480" y="2814480"/>
              <a:ext cx="702000" cy="482400"/>
              <a:chOff x="4254480" y="2814480"/>
              <a:chExt cx="702000" cy="482400"/>
            </a:xfrm>
          </p:grpSpPr>
          <p:sp>
            <p:nvSpPr>
              <p:cNvPr id="4053" name=""/>
              <p:cNvSpPr/>
              <p:nvPr/>
            </p:nvSpPr>
            <p:spPr>
              <a:xfrm>
                <a:off x="4316400" y="2814480"/>
                <a:ext cx="47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254480" y="2935800"/>
                <a:ext cx="7020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t (n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5" name=""/>
            <p:cNvGrpSpPr/>
            <p:nvPr/>
          </p:nvGrpSpPr>
          <p:grpSpPr>
            <a:xfrm>
              <a:off x="0" y="1397160"/>
              <a:ext cx="385920" cy="393480"/>
              <a:chOff x="0" y="1397160"/>
              <a:chExt cx="385920" cy="393480"/>
            </a:xfrm>
          </p:grpSpPr>
          <p:sp>
            <p:nvSpPr>
              <p:cNvPr id="4056" name=""/>
              <p:cNvSpPr/>
              <p:nvPr/>
            </p:nvSpPr>
            <p:spPr>
              <a:xfrm>
                <a:off x="385920" y="1397160"/>
                <a:ext cx="0" cy="39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0" y="1413000"/>
                <a:ext cx="33300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8" name=""/>
            <p:cNvGrpSpPr/>
            <p:nvPr/>
          </p:nvGrpSpPr>
          <p:grpSpPr>
            <a:xfrm>
              <a:off x="731880" y="1284120"/>
              <a:ext cx="3391920" cy="1533600"/>
              <a:chOff x="731880" y="1284120"/>
              <a:chExt cx="3391920" cy="1533600"/>
            </a:xfrm>
          </p:grpSpPr>
          <p:sp>
            <p:nvSpPr>
              <p:cNvPr id="4059" name=""/>
              <p:cNvSpPr/>
              <p:nvPr/>
            </p:nvSpPr>
            <p:spPr>
              <a:xfrm>
                <a:off x="780480" y="1284120"/>
                <a:ext cx="3294360" cy="14954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780480" y="2531880"/>
                <a:ext cx="3294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780480" y="2284200"/>
                <a:ext cx="3294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780480" y="2036520"/>
                <a:ext cx="3294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780480" y="1779480"/>
                <a:ext cx="3294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780480" y="1531800"/>
                <a:ext cx="3294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780480" y="1284120"/>
                <a:ext cx="3294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1195200" y="1284120"/>
                <a:ext cx="1080" cy="149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1602000" y="1284120"/>
                <a:ext cx="1080" cy="149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2017080" y="1284120"/>
                <a:ext cx="1440" cy="149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2432160" y="1284120"/>
                <a:ext cx="1080" cy="149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2838960" y="1284120"/>
                <a:ext cx="1080" cy="149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3253680" y="1284120"/>
                <a:ext cx="1080" cy="149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3660480" y="1284120"/>
                <a:ext cx="1080" cy="149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4075200" y="1284120"/>
                <a:ext cx="1440" cy="149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780480" y="1284120"/>
                <a:ext cx="3294360" cy="149544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780480" y="1284120"/>
                <a:ext cx="1080" cy="149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748080" y="2779560"/>
                <a:ext cx="32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48080" y="2531880"/>
                <a:ext cx="32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748080" y="2284200"/>
                <a:ext cx="32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48080" y="2036520"/>
                <a:ext cx="32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748080" y="1779480"/>
                <a:ext cx="32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748080" y="1531800"/>
                <a:ext cx="32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748080" y="1284120"/>
                <a:ext cx="32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780480" y="2779560"/>
                <a:ext cx="3294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 flipV="1">
                <a:off x="780480" y="2779560"/>
                <a:ext cx="108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 flipV="1">
                <a:off x="1195200" y="2779560"/>
                <a:ext cx="108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 flipV="1">
                <a:off x="1602000" y="2779560"/>
                <a:ext cx="108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 flipV="1">
                <a:off x="2017080" y="277956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 flipV="1">
                <a:off x="2432160" y="2779560"/>
                <a:ext cx="108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 flipV="1">
                <a:off x="2838960" y="2779560"/>
                <a:ext cx="108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 flipV="1">
                <a:off x="3253680" y="2779560"/>
                <a:ext cx="108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 flipV="1">
                <a:off x="3660480" y="2779560"/>
                <a:ext cx="108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 flipV="1">
                <a:off x="4075200" y="2779560"/>
                <a:ext cx="1440" cy="3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 flipV="1">
                <a:off x="780480" y="1407960"/>
                <a:ext cx="40320" cy="7524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821160" y="1407960"/>
                <a:ext cx="29268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1113840" y="1407960"/>
                <a:ext cx="40680" cy="10000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1154880" y="2408040"/>
                <a:ext cx="28440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 flipV="1">
                <a:off x="1439640" y="1407960"/>
                <a:ext cx="40320" cy="10000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1479960" y="1407960"/>
                <a:ext cx="29268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1773000" y="1407960"/>
                <a:ext cx="40320" cy="10000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1813680" y="2408040"/>
                <a:ext cx="28440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 flipV="1">
                <a:off x="2098440" y="1407960"/>
                <a:ext cx="40320" cy="10000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2139120" y="1407960"/>
                <a:ext cx="29268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2432160" y="1407960"/>
                <a:ext cx="40320" cy="10000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2472480" y="2408040"/>
                <a:ext cx="28440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 flipV="1">
                <a:off x="2757240" y="1407960"/>
                <a:ext cx="40320" cy="10000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2797920" y="1407960"/>
                <a:ext cx="29268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3090960" y="1407960"/>
                <a:ext cx="40320" cy="10000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3131640" y="2408040"/>
                <a:ext cx="28440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 flipV="1">
                <a:off x="3416400" y="1407960"/>
                <a:ext cx="40320" cy="10000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3456720" y="1407960"/>
                <a:ext cx="29268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3749760" y="1407960"/>
                <a:ext cx="40320" cy="100008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3790440" y="2408040"/>
                <a:ext cx="284400" cy="180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731880" y="2103480"/>
                <a:ext cx="9720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772200" y="1350720"/>
                <a:ext cx="9756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1065240" y="1350720"/>
                <a:ext cx="9720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1105920" y="2351160"/>
                <a:ext cx="9720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1390680" y="2351160"/>
                <a:ext cx="9756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1431360" y="1350720"/>
                <a:ext cx="9756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1724040" y="1350720"/>
                <a:ext cx="9720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1764720" y="2351160"/>
                <a:ext cx="9756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2049480" y="2351160"/>
                <a:ext cx="9756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2090160" y="1350720"/>
                <a:ext cx="9756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2383200" y="1350720"/>
                <a:ext cx="9720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2423880" y="2351160"/>
                <a:ext cx="9756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2708280" y="2351160"/>
                <a:ext cx="9756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2749320" y="1350720"/>
                <a:ext cx="9720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3042000" y="1350720"/>
                <a:ext cx="9756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3082680" y="2351160"/>
                <a:ext cx="9756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3367440" y="2351160"/>
                <a:ext cx="9756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3408120" y="1350720"/>
                <a:ext cx="9720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3700800" y="1350720"/>
                <a:ext cx="9756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3741480" y="2351160"/>
                <a:ext cx="9756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026600" y="2351160"/>
                <a:ext cx="9720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36" y="0"/>
                    </a:moveTo>
                    <a:lnTo>
                      <a:pt x="72" y="36"/>
                    </a:lnTo>
                    <a:lnTo>
                      <a:pt x="36" y="72"/>
                    </a:lnTo>
                    <a:lnTo>
                      <a:pt x="0" y="3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4" name=""/>
            <p:cNvGrpSpPr/>
            <p:nvPr/>
          </p:nvGrpSpPr>
          <p:grpSpPr>
            <a:xfrm>
              <a:off x="406440" y="1197000"/>
              <a:ext cx="295200" cy="1748520"/>
              <a:chOff x="406440" y="1197000"/>
              <a:chExt cx="295200" cy="1748520"/>
            </a:xfrm>
          </p:grpSpPr>
          <p:sp>
            <p:nvSpPr>
              <p:cNvPr id="4135" name=""/>
              <p:cNvSpPr/>
              <p:nvPr/>
            </p:nvSpPr>
            <p:spPr>
              <a:xfrm>
                <a:off x="495000" y="270180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406440" y="244908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406440" y="21967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406440" y="194904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406440" y="169668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419040" y="144432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406440" y="119700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1.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2" name=""/>
            <p:cNvSpPr/>
            <p:nvPr/>
          </p:nvSpPr>
          <p:spPr>
            <a:xfrm>
              <a:off x="243684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73996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07800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77240" y="650880"/>
              <a:ext cx="27288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1    0   1    0   1   0  1   0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80496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111276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143496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75572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089080" y="7984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1" name=""/>
          <p:cNvGrpSpPr/>
          <p:nvPr/>
        </p:nvGrpSpPr>
        <p:grpSpPr>
          <a:xfrm>
            <a:off x="777960" y="3103560"/>
            <a:ext cx="4637880" cy="846000"/>
            <a:chOff x="777960" y="3103560"/>
            <a:chExt cx="4637880" cy="846000"/>
          </a:xfrm>
        </p:grpSpPr>
        <p:grpSp>
          <p:nvGrpSpPr>
            <p:cNvPr id="4152" name=""/>
            <p:cNvGrpSpPr/>
            <p:nvPr/>
          </p:nvGrpSpPr>
          <p:grpSpPr>
            <a:xfrm>
              <a:off x="844560" y="3103560"/>
              <a:ext cx="4571280" cy="361080"/>
              <a:chOff x="844560" y="3103560"/>
              <a:chExt cx="4571280" cy="361080"/>
            </a:xfrm>
          </p:grpSpPr>
          <p:sp>
            <p:nvSpPr>
              <p:cNvPr id="4153" name=""/>
              <p:cNvSpPr/>
              <p:nvPr/>
            </p:nvSpPr>
            <p:spPr>
              <a:xfrm>
                <a:off x="844560" y="3259080"/>
                <a:ext cx="773280" cy="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1711800" y="3103560"/>
                <a:ext cx="3704040" cy="36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t">
                <a:spAutoFit/>
              </a:bodyPr>
              <a:p>
                <a:pPr>
                  <a:spcBef>
                    <a:spcPts val="337"/>
                  </a:spcBef>
                  <a:spcAft>
                    <a:spcPts val="337"/>
                  </a:spcAft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Rising edge part of driver schedu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5" name=""/>
            <p:cNvSpPr/>
            <p:nvPr/>
          </p:nvSpPr>
          <p:spPr>
            <a:xfrm>
              <a:off x="777960" y="317808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619280" y="3162240"/>
              <a:ext cx="0" cy="787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784080" y="1798560"/>
            <a:ext cx="5942160" cy="2659320"/>
            <a:chOff x="784080" y="1798560"/>
            <a:chExt cx="5942160" cy="2659320"/>
          </a:xfrm>
        </p:grpSpPr>
        <p:grpSp>
          <p:nvGrpSpPr>
            <p:cNvPr id="4158" name=""/>
            <p:cNvGrpSpPr/>
            <p:nvPr/>
          </p:nvGrpSpPr>
          <p:grpSpPr>
            <a:xfrm>
              <a:off x="784080" y="2981160"/>
              <a:ext cx="5942160" cy="1476720"/>
              <a:chOff x="784080" y="2981160"/>
              <a:chExt cx="5942160" cy="1476720"/>
            </a:xfrm>
          </p:grpSpPr>
          <p:grpSp>
            <p:nvGrpSpPr>
              <p:cNvPr id="4159" name=""/>
              <p:cNvGrpSpPr/>
              <p:nvPr/>
            </p:nvGrpSpPr>
            <p:grpSpPr>
              <a:xfrm>
                <a:off x="784080" y="3581280"/>
                <a:ext cx="4223160" cy="730800"/>
                <a:chOff x="784080" y="3581280"/>
                <a:chExt cx="4223160" cy="730800"/>
              </a:xfrm>
            </p:grpSpPr>
            <p:sp>
              <p:nvSpPr>
                <p:cNvPr id="4160" name=""/>
                <p:cNvSpPr/>
                <p:nvPr/>
              </p:nvSpPr>
              <p:spPr>
                <a:xfrm>
                  <a:off x="784080" y="3581280"/>
                  <a:ext cx="339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1" name=""/>
                <p:cNvSpPr/>
                <p:nvPr/>
              </p:nvSpPr>
              <p:spPr>
                <a:xfrm>
                  <a:off x="1676520" y="3591000"/>
                  <a:ext cx="333072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t">
                  <a:spAutoFit/>
                </a:bodyPr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Rising part not yet finished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337"/>
                    </a:spcBef>
                    <a:spcAft>
                      <a:spcPts val="337"/>
                    </a:spcAft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But the „tool“ switches to  LOW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2" name=""/>
              <p:cNvSpPr/>
              <p:nvPr/>
            </p:nvSpPr>
            <p:spPr>
              <a:xfrm flipV="1">
                <a:off x="5318280" y="2981160"/>
                <a:ext cx="1407960" cy="1476720"/>
              </a:xfrm>
              <a:prstGeom prst="irregularSeal2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3" name=""/>
            <p:cNvSpPr/>
            <p:nvPr/>
          </p:nvSpPr>
          <p:spPr>
            <a:xfrm>
              <a:off x="1127160" y="1798560"/>
              <a:ext cx="0" cy="2151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1252080" y="385920"/>
            <a:ext cx="6032520" cy="8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eye diagrams preliminary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4165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4166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7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4168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4169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4170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1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2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3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4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5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6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4177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8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9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0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1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2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4183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4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5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6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7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8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9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90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4191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4192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3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4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5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4196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7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8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9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4200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1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2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3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4204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5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6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07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8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4209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0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1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2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3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4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7" name="" descr=""/>
          <p:cNvPicPr/>
          <p:nvPr/>
        </p:nvPicPr>
        <p:blipFill>
          <a:blip r:embed="rId1"/>
          <a:stretch/>
        </p:blipFill>
        <p:spPr>
          <a:xfrm>
            <a:off x="6464160" y="3025800"/>
            <a:ext cx="2462400" cy="1846080"/>
          </a:xfrm>
          <a:prstGeom prst="rect">
            <a:avLst/>
          </a:prstGeom>
          <a:ln w="0">
            <a:noFill/>
          </a:ln>
        </p:spPr>
      </p:pic>
      <p:grpSp>
        <p:nvGrpSpPr>
          <p:cNvPr id="4218" name=""/>
          <p:cNvGrpSpPr/>
          <p:nvPr/>
        </p:nvGrpSpPr>
        <p:grpSpPr>
          <a:xfrm>
            <a:off x="314280" y="1362240"/>
            <a:ext cx="5224680" cy="4655880"/>
            <a:chOff x="314280" y="1362240"/>
            <a:chExt cx="5224680" cy="4655880"/>
          </a:xfrm>
        </p:grpSpPr>
        <p:sp>
          <p:nvSpPr>
            <p:cNvPr id="4219" name=""/>
            <p:cNvSpPr/>
            <p:nvPr/>
          </p:nvSpPr>
          <p:spPr>
            <a:xfrm>
              <a:off x="1635120" y="1362240"/>
              <a:ext cx="34466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Monotype Corsiva"/>
                </a:rPr>
                <a:t>!!  Under construction   !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0" name="" descr=""/>
            <p:cNvPicPr/>
            <p:nvPr/>
          </p:nvPicPr>
          <p:blipFill>
            <a:blip r:embed="rId2"/>
            <a:stretch/>
          </p:blipFill>
          <p:spPr>
            <a:xfrm>
              <a:off x="314280" y="2098800"/>
              <a:ext cx="5224680" cy="39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500"/>
                                        <p:tgtEl>
                                          <p:spTgt spid="4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river schedule @ </a:t>
            </a:r>
            <a:r>
              <a:rPr b="1" lang="fi-FI" sz="2000" spc="-1" strike="noStrike">
                <a:solidFill>
                  <a:srgbClr val="666666"/>
                </a:solidFill>
                <a:latin typeface="Arial"/>
              </a:rPr>
              <a:t>(250MHz)</a:t>
            </a: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   UI = 2000p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4222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4223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4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4225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4226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4227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8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9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0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1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2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3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4234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5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6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7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9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4240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1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2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3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4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5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6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7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4248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4249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0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1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2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4253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4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5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6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4257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8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9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0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4261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2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3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4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5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4266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7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0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1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4" name=""/>
          <p:cNvGrpSpPr/>
          <p:nvPr/>
        </p:nvGrpSpPr>
        <p:grpSpPr>
          <a:xfrm>
            <a:off x="4576320" y="525600"/>
            <a:ext cx="4567680" cy="2992320"/>
            <a:chOff x="4576320" y="525600"/>
            <a:chExt cx="4567680" cy="2992320"/>
          </a:xfrm>
        </p:grpSpPr>
        <p:pic>
          <p:nvPicPr>
            <p:cNvPr id="4275" name="" descr=""/>
            <p:cNvPicPr/>
            <p:nvPr/>
          </p:nvPicPr>
          <p:blipFill>
            <a:blip r:embed="rId1"/>
            <a:stretch/>
          </p:blipFill>
          <p:spPr>
            <a:xfrm>
              <a:off x="5332320" y="525600"/>
              <a:ext cx="3811680" cy="29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76" name=""/>
            <p:cNvGrpSpPr/>
            <p:nvPr/>
          </p:nvGrpSpPr>
          <p:grpSpPr>
            <a:xfrm>
              <a:off x="4576320" y="835200"/>
              <a:ext cx="738720" cy="447480"/>
              <a:chOff x="4576320" y="835200"/>
              <a:chExt cx="738720" cy="447480"/>
            </a:xfrm>
          </p:grpSpPr>
          <p:sp>
            <p:nvSpPr>
              <p:cNvPr id="4277" name=""/>
              <p:cNvSpPr/>
              <p:nvPr/>
            </p:nvSpPr>
            <p:spPr>
              <a:xfrm rot="5400000">
                <a:off x="4905000" y="796680"/>
                <a:ext cx="92520" cy="2473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 rot="5400000">
                <a:off x="4579200" y="832320"/>
                <a:ext cx="170280" cy="1760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5216760" y="951840"/>
                <a:ext cx="91440" cy="163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208840" y="1169280"/>
                <a:ext cx="106200" cy="113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81" name=""/>
              <p:cNvCxnSpPr>
                <a:stCxn id="4278" idx="0"/>
                <a:endCxn id="4277" idx="3"/>
              </p:cNvCxnSpPr>
              <p:nvPr/>
            </p:nvCxnSpPr>
            <p:spPr>
              <a:xfrm flipV="1">
                <a:off x="4753440" y="919440"/>
                <a:ext cx="73800" cy="1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4282" name=""/>
              <p:cNvCxnSpPr>
                <a:stCxn id="4277" idx="1"/>
                <a:endCxn id="4279" idx="0"/>
              </p:cNvCxnSpPr>
              <p:nvPr/>
            </p:nvCxnSpPr>
            <p:spPr>
              <a:xfrm>
                <a:off x="5074200" y="919800"/>
                <a:ext cx="189000" cy="3240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4283" name=""/>
              <p:cNvCxnSpPr>
                <a:stCxn id="4279" idx="2"/>
                <a:endCxn id="4280" idx="0"/>
              </p:cNvCxnSpPr>
              <p:nvPr/>
            </p:nvCxnSpPr>
            <p:spPr>
              <a:xfrm flipH="1">
                <a:off x="5262120" y="1114560"/>
                <a:ext cx="1440" cy="55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284" name=""/>
          <p:cNvGrpSpPr/>
          <p:nvPr/>
        </p:nvGrpSpPr>
        <p:grpSpPr>
          <a:xfrm>
            <a:off x="4589280" y="3584520"/>
            <a:ext cx="4554720" cy="2992320"/>
            <a:chOff x="4589280" y="3584520"/>
            <a:chExt cx="4554720" cy="2992320"/>
          </a:xfrm>
        </p:grpSpPr>
        <p:pic>
          <p:nvPicPr>
            <p:cNvPr id="4285" name="" descr=""/>
            <p:cNvPicPr/>
            <p:nvPr/>
          </p:nvPicPr>
          <p:blipFill>
            <a:blip r:embed="rId2"/>
            <a:stretch/>
          </p:blipFill>
          <p:spPr>
            <a:xfrm>
              <a:off x="5332320" y="3584520"/>
              <a:ext cx="3811680" cy="29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6" name=""/>
            <p:cNvGrpSpPr/>
            <p:nvPr/>
          </p:nvGrpSpPr>
          <p:grpSpPr>
            <a:xfrm>
              <a:off x="4589280" y="5779800"/>
              <a:ext cx="738360" cy="452880"/>
              <a:chOff x="4589280" y="5779800"/>
              <a:chExt cx="738360" cy="452880"/>
            </a:xfrm>
          </p:grpSpPr>
          <p:grpSp>
            <p:nvGrpSpPr>
              <p:cNvPr id="4287" name=""/>
              <p:cNvGrpSpPr/>
              <p:nvPr/>
            </p:nvGrpSpPr>
            <p:grpSpPr>
              <a:xfrm>
                <a:off x="4589280" y="5784840"/>
                <a:ext cx="738360" cy="447840"/>
                <a:chOff x="4589280" y="5784840"/>
                <a:chExt cx="738360" cy="447840"/>
              </a:xfrm>
            </p:grpSpPr>
            <p:sp>
              <p:nvSpPr>
                <p:cNvPr id="4288" name=""/>
                <p:cNvSpPr/>
                <p:nvPr/>
              </p:nvSpPr>
              <p:spPr>
                <a:xfrm rot="5400000">
                  <a:off x="4917960" y="5746320"/>
                  <a:ext cx="92520" cy="247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 rot="5400000">
                  <a:off x="4592160" y="5781960"/>
                  <a:ext cx="170280" cy="176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0" name=""/>
                <p:cNvSpPr/>
                <p:nvPr/>
              </p:nvSpPr>
              <p:spPr>
                <a:xfrm>
                  <a:off x="5229360" y="5901480"/>
                  <a:ext cx="91440" cy="16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1" name=""/>
                <p:cNvSpPr/>
                <p:nvPr/>
              </p:nvSpPr>
              <p:spPr>
                <a:xfrm>
                  <a:off x="5221440" y="6119280"/>
                  <a:ext cx="106200" cy="1134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292" name=""/>
                <p:cNvCxnSpPr>
                  <a:stCxn id="4289" idx="0"/>
                  <a:endCxn id="4288" idx="3"/>
                </p:cNvCxnSpPr>
                <p:nvPr/>
              </p:nvCxnSpPr>
              <p:spPr>
                <a:xfrm flipV="1">
                  <a:off x="4766400" y="5869080"/>
                  <a:ext cx="73800" cy="14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293" name=""/>
                <p:cNvCxnSpPr>
                  <a:stCxn id="4288" idx="1"/>
                  <a:endCxn id="4290" idx="0"/>
                </p:cNvCxnSpPr>
                <p:nvPr/>
              </p:nvCxnSpPr>
              <p:spPr>
                <a:xfrm>
                  <a:off x="5086800" y="5869440"/>
                  <a:ext cx="189000" cy="3240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294" name=""/>
                <p:cNvCxnSpPr>
                  <a:stCxn id="4290" idx="2"/>
                  <a:endCxn id="4291" idx="0"/>
                </p:cNvCxnSpPr>
                <p:nvPr/>
              </p:nvCxnSpPr>
              <p:spPr>
                <a:xfrm flipH="1">
                  <a:off x="5274720" y="6064200"/>
                  <a:ext cx="1440" cy="5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4295" name=""/>
              <p:cNvGrpSpPr/>
              <p:nvPr/>
            </p:nvGrpSpPr>
            <p:grpSpPr>
              <a:xfrm>
                <a:off x="4880880" y="5779800"/>
                <a:ext cx="179640" cy="178560"/>
                <a:chOff x="4880880" y="5779800"/>
                <a:chExt cx="179640" cy="178560"/>
              </a:xfrm>
            </p:grpSpPr>
            <p:sp>
              <p:nvSpPr>
                <p:cNvPr id="4296" name=""/>
                <p:cNvSpPr/>
                <p:nvPr/>
              </p:nvSpPr>
              <p:spPr>
                <a:xfrm flipH="1">
                  <a:off x="4880880" y="577980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>
                  <a:off x="4887720" y="578556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298" name="" descr=""/>
          <p:cNvPicPr/>
          <p:nvPr/>
        </p:nvPicPr>
        <p:blipFill>
          <a:blip r:embed="rId3"/>
          <a:stretch/>
        </p:blipFill>
        <p:spPr>
          <a:xfrm>
            <a:off x="0" y="728640"/>
            <a:ext cx="4657680" cy="2828880"/>
          </a:xfrm>
          <a:prstGeom prst="rect">
            <a:avLst/>
          </a:prstGeom>
          <a:ln w="0">
            <a:noFill/>
          </a:ln>
        </p:spPr>
      </p:pic>
      <p:pic>
        <p:nvPicPr>
          <p:cNvPr id="4299" name="" descr=""/>
          <p:cNvPicPr/>
          <p:nvPr/>
        </p:nvPicPr>
        <p:blipFill>
          <a:blip r:embed="rId4"/>
          <a:stretch/>
        </p:blipFill>
        <p:spPr>
          <a:xfrm>
            <a:off x="0" y="3765600"/>
            <a:ext cx="46576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river schedule @ </a:t>
            </a:r>
            <a:r>
              <a:rPr b="1" lang="fi-FI" sz="2000" spc="-1" strike="noStrike">
                <a:solidFill>
                  <a:srgbClr val="666666"/>
                </a:solidFill>
                <a:latin typeface="Arial"/>
              </a:rPr>
              <a:t>(500MHz)</a:t>
            </a: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   UI = 1000p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4301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4302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3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4304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4305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4306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7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8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9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0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1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2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4313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4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5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6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7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8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4319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0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1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2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3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4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5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26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4327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4328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9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0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1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4332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3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4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5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4336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7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8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9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4340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1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2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43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44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4345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7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8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9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0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53" name=""/>
          <p:cNvGrpSpPr/>
          <p:nvPr/>
        </p:nvGrpSpPr>
        <p:grpSpPr>
          <a:xfrm>
            <a:off x="4847760" y="709560"/>
            <a:ext cx="4296240" cy="3078360"/>
            <a:chOff x="4847760" y="709560"/>
            <a:chExt cx="4296240" cy="3078360"/>
          </a:xfrm>
        </p:grpSpPr>
        <p:pic>
          <p:nvPicPr>
            <p:cNvPr id="4354" name="" descr=""/>
            <p:cNvPicPr/>
            <p:nvPr/>
          </p:nvPicPr>
          <p:blipFill>
            <a:blip r:embed="rId1"/>
            <a:stretch/>
          </p:blipFill>
          <p:spPr>
            <a:xfrm>
              <a:off x="5332320" y="709560"/>
              <a:ext cx="3811680" cy="307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55" name=""/>
            <p:cNvGrpSpPr/>
            <p:nvPr/>
          </p:nvGrpSpPr>
          <p:grpSpPr>
            <a:xfrm>
              <a:off x="4847760" y="835200"/>
              <a:ext cx="738720" cy="447480"/>
              <a:chOff x="4847760" y="835200"/>
              <a:chExt cx="738720" cy="447480"/>
            </a:xfrm>
          </p:grpSpPr>
          <p:sp>
            <p:nvSpPr>
              <p:cNvPr id="4356" name=""/>
              <p:cNvSpPr/>
              <p:nvPr/>
            </p:nvSpPr>
            <p:spPr>
              <a:xfrm rot="5400000">
                <a:off x="5176440" y="796680"/>
                <a:ext cx="92520" cy="2473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 rot="5400000">
                <a:off x="4850640" y="832320"/>
                <a:ext cx="170280" cy="1760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5488200" y="951840"/>
                <a:ext cx="91440" cy="163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5480280" y="1169280"/>
                <a:ext cx="106200" cy="113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60" name=""/>
              <p:cNvCxnSpPr>
                <a:stCxn id="4357" idx="0"/>
                <a:endCxn id="4356" idx="3"/>
              </p:cNvCxnSpPr>
              <p:nvPr/>
            </p:nvCxnSpPr>
            <p:spPr>
              <a:xfrm flipV="1">
                <a:off x="5024880" y="919440"/>
                <a:ext cx="73800" cy="1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4361" name=""/>
              <p:cNvCxnSpPr>
                <a:stCxn id="4356" idx="1"/>
                <a:endCxn id="4358" idx="0"/>
              </p:cNvCxnSpPr>
              <p:nvPr/>
            </p:nvCxnSpPr>
            <p:spPr>
              <a:xfrm>
                <a:off x="5345640" y="919800"/>
                <a:ext cx="189000" cy="3240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4362" name=""/>
              <p:cNvCxnSpPr>
                <a:stCxn id="4358" idx="2"/>
                <a:endCxn id="4359" idx="0"/>
              </p:cNvCxnSpPr>
              <p:nvPr/>
            </p:nvCxnSpPr>
            <p:spPr>
              <a:xfrm flipH="1">
                <a:off x="5533560" y="1114560"/>
                <a:ext cx="1440" cy="55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363" name=""/>
          <p:cNvGrpSpPr/>
          <p:nvPr/>
        </p:nvGrpSpPr>
        <p:grpSpPr>
          <a:xfrm>
            <a:off x="4865400" y="3666960"/>
            <a:ext cx="4278600" cy="2992680"/>
            <a:chOff x="4865400" y="3666960"/>
            <a:chExt cx="4278600" cy="2992680"/>
          </a:xfrm>
        </p:grpSpPr>
        <p:pic>
          <p:nvPicPr>
            <p:cNvPr id="4364" name="" descr=""/>
            <p:cNvPicPr/>
            <p:nvPr/>
          </p:nvPicPr>
          <p:blipFill>
            <a:blip r:embed="rId2"/>
            <a:stretch/>
          </p:blipFill>
          <p:spPr>
            <a:xfrm>
              <a:off x="5332320" y="3666960"/>
              <a:ext cx="3811680" cy="299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65" name=""/>
            <p:cNvGrpSpPr/>
            <p:nvPr/>
          </p:nvGrpSpPr>
          <p:grpSpPr>
            <a:xfrm>
              <a:off x="4865400" y="5779800"/>
              <a:ext cx="738360" cy="452880"/>
              <a:chOff x="4865400" y="5779800"/>
              <a:chExt cx="738360" cy="452880"/>
            </a:xfrm>
          </p:grpSpPr>
          <p:grpSp>
            <p:nvGrpSpPr>
              <p:cNvPr id="4366" name=""/>
              <p:cNvGrpSpPr/>
              <p:nvPr/>
            </p:nvGrpSpPr>
            <p:grpSpPr>
              <a:xfrm>
                <a:off x="4865400" y="5784840"/>
                <a:ext cx="738360" cy="447840"/>
                <a:chOff x="4865400" y="5784840"/>
                <a:chExt cx="738360" cy="447840"/>
              </a:xfrm>
            </p:grpSpPr>
            <p:sp>
              <p:nvSpPr>
                <p:cNvPr id="4367" name=""/>
                <p:cNvSpPr/>
                <p:nvPr/>
              </p:nvSpPr>
              <p:spPr>
                <a:xfrm rot="5400000">
                  <a:off x="5194080" y="5746320"/>
                  <a:ext cx="92520" cy="247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 rot="5400000">
                  <a:off x="4868280" y="5781960"/>
                  <a:ext cx="170280" cy="176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>
                  <a:off x="5505480" y="5901480"/>
                  <a:ext cx="91440" cy="16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>
                  <a:off x="5497560" y="6119280"/>
                  <a:ext cx="106200" cy="1134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371" name=""/>
                <p:cNvCxnSpPr>
                  <a:stCxn id="4368" idx="0"/>
                  <a:endCxn id="4367" idx="3"/>
                </p:cNvCxnSpPr>
                <p:nvPr/>
              </p:nvCxnSpPr>
              <p:spPr>
                <a:xfrm flipV="1">
                  <a:off x="5042520" y="5869080"/>
                  <a:ext cx="73800" cy="14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372" name=""/>
                <p:cNvCxnSpPr>
                  <a:stCxn id="4367" idx="1"/>
                  <a:endCxn id="4369" idx="0"/>
                </p:cNvCxnSpPr>
                <p:nvPr/>
              </p:nvCxnSpPr>
              <p:spPr>
                <a:xfrm>
                  <a:off x="5362920" y="5869440"/>
                  <a:ext cx="189000" cy="3240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373" name=""/>
                <p:cNvCxnSpPr>
                  <a:stCxn id="4369" idx="2"/>
                  <a:endCxn id="4370" idx="0"/>
                </p:cNvCxnSpPr>
                <p:nvPr/>
              </p:nvCxnSpPr>
              <p:spPr>
                <a:xfrm flipH="1">
                  <a:off x="5550840" y="6064200"/>
                  <a:ext cx="1440" cy="5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4374" name=""/>
              <p:cNvGrpSpPr/>
              <p:nvPr/>
            </p:nvGrpSpPr>
            <p:grpSpPr>
              <a:xfrm>
                <a:off x="5157000" y="5779800"/>
                <a:ext cx="179640" cy="178560"/>
                <a:chOff x="5157000" y="5779800"/>
                <a:chExt cx="179640" cy="178560"/>
              </a:xfrm>
            </p:grpSpPr>
            <p:sp>
              <p:nvSpPr>
                <p:cNvPr id="4375" name=""/>
                <p:cNvSpPr/>
                <p:nvPr/>
              </p:nvSpPr>
              <p:spPr>
                <a:xfrm flipH="1">
                  <a:off x="5157000" y="577980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>
                  <a:off x="5163840" y="578556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377" name="" descr=""/>
          <p:cNvPicPr/>
          <p:nvPr/>
        </p:nvPicPr>
        <p:blipFill>
          <a:blip r:embed="rId3"/>
          <a:stretch/>
        </p:blipFill>
        <p:spPr>
          <a:xfrm>
            <a:off x="0" y="716040"/>
            <a:ext cx="4657680" cy="2828880"/>
          </a:xfrm>
          <a:prstGeom prst="rect">
            <a:avLst/>
          </a:prstGeom>
          <a:ln w="0">
            <a:noFill/>
          </a:ln>
        </p:spPr>
      </p:pic>
      <p:pic>
        <p:nvPicPr>
          <p:cNvPr id="4378" name="" descr=""/>
          <p:cNvPicPr/>
          <p:nvPr/>
        </p:nvPicPr>
        <p:blipFill>
          <a:blip r:embed="rId4"/>
          <a:stretch/>
        </p:blipFill>
        <p:spPr>
          <a:xfrm>
            <a:off x="0" y="3611520"/>
            <a:ext cx="46576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river schedule @ </a:t>
            </a:r>
            <a:r>
              <a:rPr b="1" lang="fi-FI" sz="2000" spc="-1" strike="noStrike">
                <a:solidFill>
                  <a:srgbClr val="666666"/>
                </a:solidFill>
                <a:latin typeface="Arial"/>
              </a:rPr>
              <a:t>(750MHz)</a:t>
            </a: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 UI = 666.66p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4380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4381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2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4383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4384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4385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6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7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8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9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0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1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4392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3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4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5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6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7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4398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9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0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1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2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3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4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05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4406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4407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8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9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0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4411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2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3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4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4415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6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7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8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4419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0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1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22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3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4424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5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6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8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9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2" name=""/>
          <p:cNvGrpSpPr/>
          <p:nvPr/>
        </p:nvGrpSpPr>
        <p:grpSpPr>
          <a:xfrm>
            <a:off x="4860720" y="633240"/>
            <a:ext cx="4282920" cy="2992320"/>
            <a:chOff x="4860720" y="633240"/>
            <a:chExt cx="4282920" cy="2992320"/>
          </a:xfrm>
        </p:grpSpPr>
        <p:pic>
          <p:nvPicPr>
            <p:cNvPr id="4433" name="" descr=""/>
            <p:cNvPicPr/>
            <p:nvPr/>
          </p:nvPicPr>
          <p:blipFill>
            <a:blip r:embed="rId1"/>
            <a:stretch/>
          </p:blipFill>
          <p:spPr>
            <a:xfrm>
              <a:off x="5332320" y="633240"/>
              <a:ext cx="3811320" cy="29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34" name=""/>
            <p:cNvGrpSpPr/>
            <p:nvPr/>
          </p:nvGrpSpPr>
          <p:grpSpPr>
            <a:xfrm>
              <a:off x="4860720" y="942840"/>
              <a:ext cx="738360" cy="447480"/>
              <a:chOff x="4860720" y="942840"/>
              <a:chExt cx="738360" cy="447480"/>
            </a:xfrm>
          </p:grpSpPr>
          <p:sp>
            <p:nvSpPr>
              <p:cNvPr id="4435" name=""/>
              <p:cNvSpPr/>
              <p:nvPr/>
            </p:nvSpPr>
            <p:spPr>
              <a:xfrm rot="5400000">
                <a:off x="5189400" y="904320"/>
                <a:ext cx="92520" cy="2473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 rot="5400000">
                <a:off x="4863600" y="939960"/>
                <a:ext cx="170280" cy="1760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500800" y="1059480"/>
                <a:ext cx="91440" cy="163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492880" y="1276920"/>
                <a:ext cx="106200" cy="113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439" name=""/>
              <p:cNvCxnSpPr>
                <a:stCxn id="4436" idx="0"/>
                <a:endCxn id="4435" idx="3"/>
              </p:cNvCxnSpPr>
              <p:nvPr/>
            </p:nvCxnSpPr>
            <p:spPr>
              <a:xfrm flipV="1">
                <a:off x="5037840" y="1027080"/>
                <a:ext cx="73800" cy="1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4440" name=""/>
              <p:cNvCxnSpPr>
                <a:stCxn id="4435" idx="1"/>
                <a:endCxn id="4437" idx="0"/>
              </p:cNvCxnSpPr>
              <p:nvPr/>
            </p:nvCxnSpPr>
            <p:spPr>
              <a:xfrm>
                <a:off x="5358240" y="1027440"/>
                <a:ext cx="189000" cy="3240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4441" name=""/>
              <p:cNvCxnSpPr>
                <a:stCxn id="4437" idx="2"/>
                <a:endCxn id="4438" idx="0"/>
              </p:cNvCxnSpPr>
              <p:nvPr/>
            </p:nvCxnSpPr>
            <p:spPr>
              <a:xfrm flipH="1">
                <a:off x="5546160" y="1222200"/>
                <a:ext cx="1440" cy="55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442" name=""/>
          <p:cNvGrpSpPr/>
          <p:nvPr/>
        </p:nvGrpSpPr>
        <p:grpSpPr>
          <a:xfrm>
            <a:off x="4908240" y="3571920"/>
            <a:ext cx="4235760" cy="2992320"/>
            <a:chOff x="4908240" y="3571920"/>
            <a:chExt cx="4235760" cy="2992320"/>
          </a:xfrm>
        </p:grpSpPr>
        <p:pic>
          <p:nvPicPr>
            <p:cNvPr id="4443" name="" descr=""/>
            <p:cNvPicPr/>
            <p:nvPr/>
          </p:nvPicPr>
          <p:blipFill>
            <a:blip r:embed="rId2"/>
            <a:stretch/>
          </p:blipFill>
          <p:spPr>
            <a:xfrm>
              <a:off x="5332320" y="3571920"/>
              <a:ext cx="3811680" cy="29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44" name=""/>
            <p:cNvGrpSpPr/>
            <p:nvPr/>
          </p:nvGrpSpPr>
          <p:grpSpPr>
            <a:xfrm>
              <a:off x="4908240" y="5849640"/>
              <a:ext cx="738360" cy="452880"/>
              <a:chOff x="4908240" y="5849640"/>
              <a:chExt cx="738360" cy="452880"/>
            </a:xfrm>
          </p:grpSpPr>
          <p:grpSp>
            <p:nvGrpSpPr>
              <p:cNvPr id="4445" name=""/>
              <p:cNvGrpSpPr/>
              <p:nvPr/>
            </p:nvGrpSpPr>
            <p:grpSpPr>
              <a:xfrm>
                <a:off x="4908240" y="5854680"/>
                <a:ext cx="738360" cy="447840"/>
                <a:chOff x="4908240" y="5854680"/>
                <a:chExt cx="738360" cy="447840"/>
              </a:xfrm>
            </p:grpSpPr>
            <p:sp>
              <p:nvSpPr>
                <p:cNvPr id="4446" name=""/>
                <p:cNvSpPr/>
                <p:nvPr/>
              </p:nvSpPr>
              <p:spPr>
                <a:xfrm rot="5400000">
                  <a:off x="5236920" y="5816160"/>
                  <a:ext cx="92520" cy="247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7" name=""/>
                <p:cNvSpPr/>
                <p:nvPr/>
              </p:nvSpPr>
              <p:spPr>
                <a:xfrm rot="5400000">
                  <a:off x="4911120" y="5851800"/>
                  <a:ext cx="170280" cy="176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8" name=""/>
                <p:cNvSpPr/>
                <p:nvPr/>
              </p:nvSpPr>
              <p:spPr>
                <a:xfrm>
                  <a:off x="5548320" y="5971320"/>
                  <a:ext cx="91440" cy="16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9" name=""/>
                <p:cNvSpPr/>
                <p:nvPr/>
              </p:nvSpPr>
              <p:spPr>
                <a:xfrm>
                  <a:off x="5540400" y="6189120"/>
                  <a:ext cx="106200" cy="1134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450" name=""/>
                <p:cNvCxnSpPr>
                  <a:stCxn id="4447" idx="0"/>
                  <a:endCxn id="4446" idx="3"/>
                </p:cNvCxnSpPr>
                <p:nvPr/>
              </p:nvCxnSpPr>
              <p:spPr>
                <a:xfrm flipV="1">
                  <a:off x="5085360" y="5938920"/>
                  <a:ext cx="73800" cy="14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451" name=""/>
                <p:cNvCxnSpPr>
                  <a:stCxn id="4446" idx="1"/>
                  <a:endCxn id="4448" idx="0"/>
                </p:cNvCxnSpPr>
                <p:nvPr/>
              </p:nvCxnSpPr>
              <p:spPr>
                <a:xfrm>
                  <a:off x="5405760" y="5939280"/>
                  <a:ext cx="189000" cy="3240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452" name=""/>
                <p:cNvCxnSpPr>
                  <a:stCxn id="4448" idx="2"/>
                  <a:endCxn id="4449" idx="0"/>
                </p:cNvCxnSpPr>
                <p:nvPr/>
              </p:nvCxnSpPr>
              <p:spPr>
                <a:xfrm flipH="1">
                  <a:off x="5593680" y="6134040"/>
                  <a:ext cx="1440" cy="5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4453" name=""/>
              <p:cNvGrpSpPr/>
              <p:nvPr/>
            </p:nvGrpSpPr>
            <p:grpSpPr>
              <a:xfrm>
                <a:off x="5199840" y="5849640"/>
                <a:ext cx="179640" cy="178560"/>
                <a:chOff x="5199840" y="5849640"/>
                <a:chExt cx="179640" cy="178560"/>
              </a:xfrm>
            </p:grpSpPr>
            <p:sp>
              <p:nvSpPr>
                <p:cNvPr id="4454" name=""/>
                <p:cNvSpPr/>
                <p:nvPr/>
              </p:nvSpPr>
              <p:spPr>
                <a:xfrm flipH="1">
                  <a:off x="5199840" y="584964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5" name=""/>
                <p:cNvSpPr/>
                <p:nvPr/>
              </p:nvSpPr>
              <p:spPr>
                <a:xfrm>
                  <a:off x="5206680" y="585540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456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4657680" cy="2828880"/>
          </a:xfrm>
          <a:prstGeom prst="rect">
            <a:avLst/>
          </a:prstGeom>
          <a:ln w="0">
            <a:noFill/>
          </a:ln>
        </p:spPr>
      </p:pic>
      <p:pic>
        <p:nvPicPr>
          <p:cNvPr id="4457" name="" descr=""/>
          <p:cNvPicPr/>
          <p:nvPr/>
        </p:nvPicPr>
        <p:blipFill>
          <a:blip r:embed="rId4"/>
          <a:stretch/>
        </p:blipFill>
        <p:spPr>
          <a:xfrm>
            <a:off x="0" y="3519360"/>
            <a:ext cx="46576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210960" y="225000"/>
            <a:ext cx="71568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river schedule @ </a:t>
            </a:r>
            <a:r>
              <a:rPr b="1" lang="fi-FI" sz="2000" spc="-1" strike="noStrike">
                <a:solidFill>
                  <a:srgbClr val="666666"/>
                </a:solidFill>
                <a:latin typeface="Arial"/>
              </a:rPr>
              <a:t>(1000MHz)</a:t>
            </a: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 UI = 500p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4459" name=""/>
          <p:cNvGrpSpPr/>
          <p:nvPr/>
        </p:nvGrpSpPr>
        <p:grpSpPr>
          <a:xfrm>
            <a:off x="7880400" y="-169560"/>
            <a:ext cx="1262160" cy="1088640"/>
            <a:chOff x="7880400" y="-169560"/>
            <a:chExt cx="1262160" cy="1088640"/>
          </a:xfrm>
        </p:grpSpPr>
        <p:sp>
          <p:nvSpPr>
            <p:cNvPr id="4460" name=""/>
            <p:cNvSpPr/>
            <p:nvPr/>
          </p:nvSpPr>
          <p:spPr>
            <a:xfrm>
              <a:off x="7880400" y="-169560"/>
              <a:ext cx="126216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Frequency / data 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1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4462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4463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4464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5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6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7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8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9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0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4471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2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4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5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6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4477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8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9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0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1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2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3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84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4485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4486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7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8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9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4490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1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2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3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4494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5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6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7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4498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9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0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1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2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4503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4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5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6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7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8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1" name=""/>
          <p:cNvGrpSpPr/>
          <p:nvPr/>
        </p:nvGrpSpPr>
        <p:grpSpPr>
          <a:xfrm>
            <a:off x="5025600" y="584280"/>
            <a:ext cx="4118400" cy="2992320"/>
            <a:chOff x="5025600" y="584280"/>
            <a:chExt cx="4118400" cy="2992320"/>
          </a:xfrm>
        </p:grpSpPr>
        <p:pic>
          <p:nvPicPr>
            <p:cNvPr id="4512" name="" descr=""/>
            <p:cNvPicPr/>
            <p:nvPr/>
          </p:nvPicPr>
          <p:blipFill>
            <a:blip r:embed="rId1"/>
            <a:stretch/>
          </p:blipFill>
          <p:spPr>
            <a:xfrm>
              <a:off x="5332320" y="584280"/>
              <a:ext cx="3811680" cy="29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13" name=""/>
            <p:cNvGrpSpPr/>
            <p:nvPr/>
          </p:nvGrpSpPr>
          <p:grpSpPr>
            <a:xfrm>
              <a:off x="5025600" y="893880"/>
              <a:ext cx="738720" cy="447480"/>
              <a:chOff x="5025600" y="893880"/>
              <a:chExt cx="738720" cy="447480"/>
            </a:xfrm>
          </p:grpSpPr>
          <p:sp>
            <p:nvSpPr>
              <p:cNvPr id="4514" name=""/>
              <p:cNvSpPr/>
              <p:nvPr/>
            </p:nvSpPr>
            <p:spPr>
              <a:xfrm rot="5400000">
                <a:off x="5354280" y="855360"/>
                <a:ext cx="92520" cy="247320"/>
              </a:xfrm>
              <a:prstGeom prst="ca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 rot="5400000">
                <a:off x="5028480" y="891000"/>
                <a:ext cx="170280" cy="1760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5666040" y="1010520"/>
                <a:ext cx="91440" cy="163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5658120" y="1227960"/>
                <a:ext cx="106200" cy="113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18" name=""/>
              <p:cNvCxnSpPr>
                <a:stCxn id="4515" idx="0"/>
                <a:endCxn id="4514" idx="3"/>
              </p:cNvCxnSpPr>
              <p:nvPr/>
            </p:nvCxnSpPr>
            <p:spPr>
              <a:xfrm flipV="1">
                <a:off x="5202720" y="978120"/>
                <a:ext cx="73800" cy="14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4519" name=""/>
              <p:cNvCxnSpPr>
                <a:stCxn id="4514" idx="1"/>
                <a:endCxn id="4516" idx="0"/>
              </p:cNvCxnSpPr>
              <p:nvPr/>
            </p:nvCxnSpPr>
            <p:spPr>
              <a:xfrm>
                <a:off x="5523480" y="978480"/>
                <a:ext cx="189000" cy="3240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4520" name=""/>
              <p:cNvCxnSpPr>
                <a:stCxn id="4516" idx="2"/>
                <a:endCxn id="4517" idx="0"/>
              </p:cNvCxnSpPr>
              <p:nvPr/>
            </p:nvCxnSpPr>
            <p:spPr>
              <a:xfrm flipH="1">
                <a:off x="5711400" y="1173240"/>
                <a:ext cx="1440" cy="55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4521" name=""/>
          <p:cNvGrpSpPr/>
          <p:nvPr/>
        </p:nvGrpSpPr>
        <p:grpSpPr>
          <a:xfrm>
            <a:off x="5027400" y="3587760"/>
            <a:ext cx="4116600" cy="2992320"/>
            <a:chOff x="5027400" y="3587760"/>
            <a:chExt cx="4116600" cy="2992320"/>
          </a:xfrm>
        </p:grpSpPr>
        <p:pic>
          <p:nvPicPr>
            <p:cNvPr id="4522" name="" descr=""/>
            <p:cNvPicPr/>
            <p:nvPr/>
          </p:nvPicPr>
          <p:blipFill>
            <a:blip r:embed="rId2"/>
            <a:stretch/>
          </p:blipFill>
          <p:spPr>
            <a:xfrm>
              <a:off x="5332320" y="3587760"/>
              <a:ext cx="3811680" cy="299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23" name=""/>
            <p:cNvGrpSpPr/>
            <p:nvPr/>
          </p:nvGrpSpPr>
          <p:grpSpPr>
            <a:xfrm>
              <a:off x="5027400" y="5766480"/>
              <a:ext cx="738360" cy="452520"/>
              <a:chOff x="5027400" y="5766480"/>
              <a:chExt cx="738360" cy="452520"/>
            </a:xfrm>
          </p:grpSpPr>
          <p:grpSp>
            <p:nvGrpSpPr>
              <p:cNvPr id="4524" name=""/>
              <p:cNvGrpSpPr/>
              <p:nvPr/>
            </p:nvGrpSpPr>
            <p:grpSpPr>
              <a:xfrm>
                <a:off x="5027400" y="5771520"/>
                <a:ext cx="738360" cy="447480"/>
                <a:chOff x="5027400" y="5771520"/>
                <a:chExt cx="738360" cy="447480"/>
              </a:xfrm>
            </p:grpSpPr>
            <p:sp>
              <p:nvSpPr>
                <p:cNvPr id="4525" name=""/>
                <p:cNvSpPr/>
                <p:nvPr/>
              </p:nvSpPr>
              <p:spPr>
                <a:xfrm rot="5400000">
                  <a:off x="5356080" y="5733000"/>
                  <a:ext cx="92520" cy="24732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6" name=""/>
                <p:cNvSpPr/>
                <p:nvPr/>
              </p:nvSpPr>
              <p:spPr>
                <a:xfrm rot="5400000">
                  <a:off x="5030280" y="5768640"/>
                  <a:ext cx="170280" cy="176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7" name=""/>
                <p:cNvSpPr/>
                <p:nvPr/>
              </p:nvSpPr>
              <p:spPr>
                <a:xfrm>
                  <a:off x="5667480" y="5888160"/>
                  <a:ext cx="91440" cy="163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8" name=""/>
                <p:cNvSpPr/>
                <p:nvPr/>
              </p:nvSpPr>
              <p:spPr>
                <a:xfrm>
                  <a:off x="5659560" y="6105600"/>
                  <a:ext cx="106200" cy="11340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080" bIns="37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529" name=""/>
                <p:cNvCxnSpPr>
                  <a:stCxn id="4526" idx="0"/>
                  <a:endCxn id="4525" idx="3"/>
                </p:cNvCxnSpPr>
                <p:nvPr/>
              </p:nvCxnSpPr>
              <p:spPr>
                <a:xfrm flipV="1">
                  <a:off x="5204520" y="5855760"/>
                  <a:ext cx="73800" cy="14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530" name=""/>
                <p:cNvCxnSpPr>
                  <a:stCxn id="4525" idx="1"/>
                  <a:endCxn id="4527" idx="0"/>
                </p:cNvCxnSpPr>
                <p:nvPr/>
              </p:nvCxnSpPr>
              <p:spPr>
                <a:xfrm>
                  <a:off x="5524920" y="5856120"/>
                  <a:ext cx="189000" cy="3240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531" name=""/>
                <p:cNvCxnSpPr>
                  <a:stCxn id="4527" idx="2"/>
                  <a:endCxn id="4528" idx="0"/>
                </p:cNvCxnSpPr>
                <p:nvPr/>
              </p:nvCxnSpPr>
              <p:spPr>
                <a:xfrm flipH="1">
                  <a:off x="5712840" y="6050880"/>
                  <a:ext cx="1440" cy="55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4532" name=""/>
              <p:cNvGrpSpPr/>
              <p:nvPr/>
            </p:nvGrpSpPr>
            <p:grpSpPr>
              <a:xfrm>
                <a:off x="5319000" y="5766480"/>
                <a:ext cx="179640" cy="178920"/>
                <a:chOff x="5319000" y="5766480"/>
                <a:chExt cx="179640" cy="178920"/>
              </a:xfrm>
            </p:grpSpPr>
            <p:sp>
              <p:nvSpPr>
                <p:cNvPr id="4533" name=""/>
                <p:cNvSpPr/>
                <p:nvPr/>
              </p:nvSpPr>
              <p:spPr>
                <a:xfrm flipH="1">
                  <a:off x="5319000" y="576648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4" name=""/>
                <p:cNvSpPr/>
                <p:nvPr/>
              </p:nvSpPr>
              <p:spPr>
                <a:xfrm>
                  <a:off x="5325840" y="5772600"/>
                  <a:ext cx="172800" cy="17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535" name="" descr=""/>
          <p:cNvPicPr/>
          <p:nvPr/>
        </p:nvPicPr>
        <p:blipFill>
          <a:blip r:embed="rId3"/>
          <a:stretch/>
        </p:blipFill>
        <p:spPr>
          <a:xfrm>
            <a:off x="0" y="3448080"/>
            <a:ext cx="4657680" cy="2828880"/>
          </a:xfrm>
          <a:prstGeom prst="rect">
            <a:avLst/>
          </a:prstGeom>
          <a:ln w="0">
            <a:noFill/>
          </a:ln>
        </p:spPr>
      </p:pic>
      <p:pic>
        <p:nvPicPr>
          <p:cNvPr id="4536" name="" descr=""/>
          <p:cNvPicPr/>
          <p:nvPr/>
        </p:nvPicPr>
        <p:blipFill>
          <a:blip r:embed="rId4"/>
          <a:stretch/>
        </p:blipFill>
        <p:spPr>
          <a:xfrm>
            <a:off x="0" y="679320"/>
            <a:ext cx="4657680" cy="2828880"/>
          </a:xfrm>
          <a:prstGeom prst="rect">
            <a:avLst/>
          </a:prstGeom>
          <a:ln w="0">
            <a:noFill/>
          </a:ln>
        </p:spPr>
      </p:pic>
      <p:pic>
        <p:nvPicPr>
          <p:cNvPr id="4537" name="" descr=""/>
          <p:cNvPicPr/>
          <p:nvPr/>
        </p:nvPicPr>
        <p:blipFill>
          <a:blip r:embed="rId5"/>
          <a:stretch/>
        </p:blipFill>
        <p:spPr>
          <a:xfrm>
            <a:off x="0" y="3695760"/>
            <a:ext cx="46753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rot="9000000">
            <a:off x="974160" y="3251160"/>
            <a:ext cx="1168200" cy="127944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7718" y="1769"/>
                </a:moveTo>
                <a:arcTo wR="-9542" hR="-9542" stAng="-6530591" swAng="-5896465"/>
                <a:lnTo>
                  <a:pt x="20413" y="5877"/>
                </a:lnTo>
                <a:arcTo wR="10800" hR="10800" stAng="-1627056" swAng="5896465"/>
                <a:lnTo>
                  <a:pt x="15160" y="23576"/>
                </a:lnTo>
                <a:lnTo>
                  <a:pt x="10934" y="21501"/>
                </a:lnTo>
                <a:lnTo>
                  <a:pt x="13010" y="1727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7440" y="-342360"/>
            <a:ext cx="3540240" cy="352764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Monotype Corsiva"/>
              </a:rPr>
              <a:t>driver schedule: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Monotype Corsiva"/>
              </a:rPr>
              <a:t>pre-/de-emphasis and frequency/data-rat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684520" y="2270160"/>
            <a:ext cx="3908520" cy="1620720"/>
            <a:chOff x="2684520" y="2270160"/>
            <a:chExt cx="3908520" cy="1620720"/>
          </a:xfrm>
        </p:grpSpPr>
        <p:grpSp>
          <p:nvGrpSpPr>
            <p:cNvPr id="91" name=""/>
            <p:cNvGrpSpPr/>
            <p:nvPr/>
          </p:nvGrpSpPr>
          <p:grpSpPr>
            <a:xfrm>
              <a:off x="2684520" y="2863080"/>
              <a:ext cx="3908520" cy="1027800"/>
              <a:chOff x="2684520" y="2863080"/>
              <a:chExt cx="3908520" cy="10278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684520" y="3635640"/>
                <a:ext cx="3908520" cy="255240"/>
                <a:chOff x="2684520" y="3635640"/>
                <a:chExt cx="3908520" cy="2552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336480" y="363564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40400" y="363564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292720" y="363564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944680" y="363564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988440" y="363564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684520" y="363564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011760" y="3377880"/>
                <a:ext cx="3256200" cy="255240"/>
                <a:chOff x="3011760" y="3377880"/>
                <a:chExt cx="3256200" cy="255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011760" y="337788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315680" y="337788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967640" y="337788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19600" y="337788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663720" y="337788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337920" y="2863080"/>
                <a:ext cx="2604240" cy="512640"/>
                <a:chOff x="3337920" y="2863080"/>
                <a:chExt cx="2604240" cy="5126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989880" y="312048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293800" y="312048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641840" y="3120480"/>
                  <a:ext cx="64800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337920" y="312048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665160" y="286308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969080" y="2863080"/>
                  <a:ext cx="64836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317120" y="2863080"/>
                  <a:ext cx="648000" cy="2552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4160160" y="2863080"/>
              <a:ext cx="972000" cy="1024200"/>
              <a:chOff x="4160160" y="2863080"/>
              <a:chExt cx="972000" cy="102420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4160160" y="3635640"/>
                <a:ext cx="972000" cy="251640"/>
                <a:chOff x="4160160" y="3635640"/>
                <a:chExt cx="972000" cy="2516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200480" y="3718080"/>
                  <a:ext cx="891360" cy="853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160160" y="3802320"/>
                  <a:ext cx="972000" cy="849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240800" y="3635640"/>
                  <a:ext cx="810000" cy="849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281480" y="3377880"/>
                <a:ext cx="729000" cy="251640"/>
                <a:chOff x="4281480" y="3377880"/>
                <a:chExt cx="729000" cy="2516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4311720" y="3460320"/>
                  <a:ext cx="668520" cy="853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281480" y="3544560"/>
                  <a:ext cx="729000" cy="849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341960" y="3377880"/>
                  <a:ext cx="607680" cy="849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363200" y="3120480"/>
                <a:ext cx="567000" cy="251640"/>
                <a:chOff x="4363200" y="3120480"/>
                <a:chExt cx="567000" cy="2516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386600" y="3202920"/>
                  <a:ext cx="519840" cy="853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363200" y="3287160"/>
                  <a:ext cx="567000" cy="849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410000" y="3120480"/>
                  <a:ext cx="472680" cy="849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444200" y="2863080"/>
                <a:ext cx="405000" cy="251640"/>
                <a:chOff x="4444200" y="2863080"/>
                <a:chExt cx="405000" cy="2516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460760" y="2945520"/>
                  <a:ext cx="371520" cy="853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444200" y="3029760"/>
                  <a:ext cx="405000" cy="849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477680" y="2863080"/>
                  <a:ext cx="337680" cy="849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3829680" y="2553840"/>
              <a:ext cx="1620720" cy="303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053600" y="2669760"/>
              <a:ext cx="1173240" cy="182520"/>
              <a:chOff x="4053600" y="2669760"/>
              <a:chExt cx="1173240" cy="182520"/>
            </a:xfrm>
          </p:grpSpPr>
          <p:sp>
            <p:nvSpPr>
              <p:cNvPr id="132" name=""/>
              <p:cNvSpPr/>
              <p:nvPr/>
            </p:nvSpPr>
            <p:spPr>
              <a:xfrm>
                <a:off x="4053600" y="2670120"/>
                <a:ext cx="162000" cy="18216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09560" y="2669760"/>
                <a:ext cx="162000" cy="18180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64840" y="2670120"/>
                <a:ext cx="162000" cy="18216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8520" y="2670120"/>
                <a:ext cx="162000" cy="18216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5440" y="2670120"/>
                <a:ext cx="162000" cy="18216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782520" y="2527920"/>
              <a:ext cx="1715760" cy="51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816720" y="2322000"/>
              <a:ext cx="1647000" cy="205920"/>
            </a:xfrm>
            <a:custGeom>
              <a:avLst/>
              <a:gdLst>
                <a:gd name="textAreaLeft" fmla="*/ 171360 w 1647000"/>
                <a:gd name="textAreaRight" fmla="*/ 1475640 w 1647000"/>
                <a:gd name="textAreaTop" fmla="*/ 21240 h 205920"/>
                <a:gd name="textAreaBottom" fmla="*/ 184680 h 20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01" y="21600"/>
                  </a:lnTo>
                  <a:lnTo>
                    <a:pt x="899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66040" y="2270160"/>
              <a:ext cx="1540080" cy="51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237360" y="1183680"/>
            <a:ext cx="2906640" cy="1848240"/>
            <a:chOff x="6237360" y="1183680"/>
            <a:chExt cx="2906640" cy="1848240"/>
          </a:xfrm>
        </p:grpSpPr>
        <p:sp>
          <p:nvSpPr>
            <p:cNvPr id="141" name=""/>
            <p:cNvSpPr/>
            <p:nvPr/>
          </p:nvSpPr>
          <p:spPr>
            <a:xfrm>
              <a:off x="6237360" y="1183680"/>
              <a:ext cx="2906640" cy="10904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Monotype Corsiva"/>
                </a:rPr>
                <a:t>Pre-/De-emphasis bas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377040" y="2021040"/>
              <a:ext cx="2439720" cy="1010880"/>
              <a:chOff x="6377040" y="2021040"/>
              <a:chExt cx="2439720" cy="101088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6377040" y="2390760"/>
                <a:ext cx="2439720" cy="641160"/>
                <a:chOff x="6377040" y="2390760"/>
                <a:chExt cx="2439720" cy="64116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377040" y="2872800"/>
                  <a:ext cx="2439720" cy="159120"/>
                  <a:chOff x="6377040" y="2872800"/>
                  <a:chExt cx="2439720" cy="1591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6783840" y="2872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7598160" y="2872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005320" y="2872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8412120" y="2872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191000" y="2872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6377040" y="2872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6581160" y="2712240"/>
                  <a:ext cx="2032920" cy="159120"/>
                  <a:chOff x="6581160" y="2712240"/>
                  <a:chExt cx="2032920" cy="1591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6581160" y="27122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395120" y="27122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7802280" y="27122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8209440" y="27122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987960" y="27122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784920" y="2390760"/>
                  <a:ext cx="1625760" cy="319680"/>
                  <a:chOff x="6784920" y="2390760"/>
                  <a:chExt cx="1625760" cy="31968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7191720" y="255132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8006040" y="255132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598880" y="255132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784920" y="255132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989040" y="23907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803360" y="23907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396200" y="239076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5" name=""/>
              <p:cNvGrpSpPr/>
              <p:nvPr/>
            </p:nvGrpSpPr>
            <p:grpSpPr>
              <a:xfrm>
                <a:off x="7297560" y="2390760"/>
                <a:ext cx="608040" cy="639720"/>
                <a:chOff x="7297560" y="2390760"/>
                <a:chExt cx="608040" cy="63972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7297560" y="2873160"/>
                  <a:ext cx="608040" cy="157320"/>
                  <a:chOff x="7297560" y="2873160"/>
                  <a:chExt cx="608040" cy="1573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7322760" y="2924640"/>
                    <a:ext cx="5576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7297560" y="2977200"/>
                    <a:ext cx="6080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347960" y="2873160"/>
                    <a:ext cx="5068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7373520" y="2712240"/>
                  <a:ext cx="456120" cy="157320"/>
                  <a:chOff x="7373520" y="2712240"/>
                  <a:chExt cx="456120" cy="15732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7392240" y="2763720"/>
                    <a:ext cx="4183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373520" y="2816280"/>
                    <a:ext cx="4561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7411320" y="2712240"/>
                    <a:ext cx="3801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424280" y="2551320"/>
                  <a:ext cx="354600" cy="157320"/>
                  <a:chOff x="7424280" y="2551320"/>
                  <a:chExt cx="354600" cy="15732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7438680" y="2602800"/>
                    <a:ext cx="3250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424280" y="2655360"/>
                    <a:ext cx="3546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453440" y="2551320"/>
                    <a:ext cx="2955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475040" y="2390760"/>
                  <a:ext cx="253440" cy="157320"/>
                  <a:chOff x="7475040" y="2390760"/>
                  <a:chExt cx="253440" cy="15732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7485480" y="2442240"/>
                    <a:ext cx="2325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475040" y="2494800"/>
                    <a:ext cx="2534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495920" y="2390760"/>
                    <a:ext cx="2113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2" name=""/>
              <p:cNvSpPr/>
              <p:nvPr/>
            </p:nvSpPr>
            <p:spPr>
              <a:xfrm>
                <a:off x="7091280" y="2198520"/>
                <a:ext cx="1013040" cy="189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7230960" y="2270160"/>
                <a:ext cx="733680" cy="114120"/>
                <a:chOff x="7230960" y="2270160"/>
                <a:chExt cx="733680" cy="1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7230960" y="2270160"/>
                  <a:ext cx="10188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91520" y="2270160"/>
                  <a:ext cx="10152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862760" y="2270160"/>
                  <a:ext cx="10188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702560" y="2270160"/>
                  <a:ext cx="10152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545240" y="2270160"/>
                  <a:ext cx="100080" cy="11412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7062840" y="2181240"/>
                <a:ext cx="1071360" cy="33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7083360" y="2052000"/>
                <a:ext cx="1028880" cy="128520"/>
              </a:xfrm>
              <a:custGeom>
                <a:avLst/>
                <a:gdLst>
                  <a:gd name="textAreaLeft" fmla="*/ 106920 w 1028880"/>
                  <a:gd name="textAreaRight" fmla="*/ 921960 w 1028880"/>
                  <a:gd name="textAreaTop" fmla="*/ 13320 h 128520"/>
                  <a:gd name="textAreaBottom" fmla="*/ 115200 h 1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115040" y="2021040"/>
                <a:ext cx="960480" cy="31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463680" y="4373640"/>
            <a:ext cx="2842920" cy="1604160"/>
            <a:chOff x="463680" y="4373640"/>
            <a:chExt cx="2842920" cy="1604160"/>
          </a:xfrm>
        </p:grpSpPr>
        <p:sp>
          <p:nvSpPr>
            <p:cNvPr id="193" name=""/>
            <p:cNvSpPr/>
            <p:nvPr/>
          </p:nvSpPr>
          <p:spPr>
            <a:xfrm>
              <a:off x="955440" y="4373640"/>
              <a:ext cx="1954080" cy="60300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Monotype Corsiva"/>
                </a:rPr>
                <a:t>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63680" y="4967280"/>
              <a:ext cx="2842920" cy="1010520"/>
              <a:chOff x="463680" y="4967280"/>
              <a:chExt cx="2842920" cy="10105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463680" y="5336640"/>
                <a:ext cx="2842920" cy="641160"/>
                <a:chOff x="463680" y="5336640"/>
                <a:chExt cx="2842920" cy="64116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463680" y="5818680"/>
                  <a:ext cx="2842920" cy="159120"/>
                  <a:chOff x="463680" y="5818680"/>
                  <a:chExt cx="2842920" cy="1591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937800" y="581868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1886400" y="581868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360880" y="581868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835000" y="581868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411920" y="581868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463680" y="581868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01640" y="5657760"/>
                  <a:ext cx="2368800" cy="159120"/>
                  <a:chOff x="701640" y="5657760"/>
                  <a:chExt cx="2368800" cy="1591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701640" y="565776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1650240" y="565776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124360" y="565776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2598840" y="565776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1175760" y="565776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938880" y="5336640"/>
                  <a:ext cx="1894320" cy="319680"/>
                  <a:chOff x="938880" y="5336640"/>
                  <a:chExt cx="1894320" cy="3196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1413000" y="549720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361600" y="549720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1887480" y="549720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938880" y="549720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176840" y="533664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2125440" y="533664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1651320" y="5336640"/>
                    <a:ext cx="4716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1536480" y="5336640"/>
                <a:ext cx="707760" cy="639360"/>
                <a:chOff x="1536480" y="5336640"/>
                <a:chExt cx="707760" cy="63936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1536480" y="5818680"/>
                  <a:ext cx="707760" cy="157320"/>
                  <a:chOff x="1536480" y="5818680"/>
                  <a:chExt cx="707760" cy="1573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1565640" y="5870160"/>
                    <a:ext cx="6490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1536480" y="5922720"/>
                    <a:ext cx="7077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1595160" y="5818680"/>
                    <a:ext cx="5900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1624680" y="5657760"/>
                  <a:ext cx="531000" cy="157320"/>
                  <a:chOff x="1624680" y="5657760"/>
                  <a:chExt cx="531000" cy="1573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1646640" y="5709240"/>
                    <a:ext cx="4870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1624680" y="5761800"/>
                    <a:ext cx="5310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1668600" y="5657760"/>
                    <a:ext cx="4428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684080" y="5497200"/>
                  <a:ext cx="412920" cy="157320"/>
                  <a:chOff x="1684080" y="5497200"/>
                  <a:chExt cx="412920" cy="1573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701000" y="5548680"/>
                    <a:ext cx="3787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684080" y="5601240"/>
                    <a:ext cx="4129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718280" y="5497200"/>
                    <a:ext cx="3441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1743120" y="5336640"/>
                  <a:ext cx="294840" cy="157320"/>
                  <a:chOff x="1743120" y="5336640"/>
                  <a:chExt cx="294840" cy="1573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1755360" y="5388120"/>
                    <a:ext cx="2703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1743120" y="5440680"/>
                    <a:ext cx="2948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1767600" y="5336640"/>
                    <a:ext cx="2458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4" name=""/>
              <p:cNvSpPr/>
              <p:nvPr/>
            </p:nvSpPr>
            <p:spPr>
              <a:xfrm>
                <a:off x="1296720" y="5144400"/>
                <a:ext cx="1177560" cy="1886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1458720" y="5216040"/>
                <a:ext cx="853200" cy="113760"/>
                <a:chOff x="1458720" y="5216040"/>
                <a:chExt cx="853200" cy="1137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458720" y="5216040"/>
                  <a:ext cx="11700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644120" y="5216040"/>
                  <a:ext cx="11880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194920" y="5216040"/>
                  <a:ext cx="11700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007720" y="5216040"/>
                  <a:ext cx="11700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823400" y="5216040"/>
                  <a:ext cx="1173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1261800" y="5127120"/>
                <a:ext cx="1247400" cy="331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287360" y="4998600"/>
                <a:ext cx="1198080" cy="128160"/>
              </a:xfrm>
              <a:custGeom>
                <a:avLst/>
                <a:gdLst>
                  <a:gd name="textAreaLeft" fmla="*/ 124560 w 1198080"/>
                  <a:gd name="textAreaRight" fmla="*/ 1073520 w 1198080"/>
                  <a:gd name="textAreaTop" fmla="*/ 13320 h 128160"/>
                  <a:gd name="textAreaBottom" fmla="*/ 114840 h 128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23720" y="4967280"/>
                <a:ext cx="1118880" cy="31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 rot="19800000">
            <a:off x="7182000" y="2968200"/>
            <a:ext cx="1168200" cy="127944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7718" y="1769"/>
                </a:moveTo>
                <a:arcTo wR="-9542" hR="-9542" stAng="-6530591" swAng="-5896465"/>
                <a:lnTo>
                  <a:pt x="20413" y="5877"/>
                </a:lnTo>
                <a:arcTo wR="10800" hR="10800" stAng="-1627056" swAng="5896465"/>
                <a:lnTo>
                  <a:pt x="15160" y="23576"/>
                </a:lnTo>
                <a:lnTo>
                  <a:pt x="10934" y="21501"/>
                </a:lnTo>
                <a:lnTo>
                  <a:pt x="13010" y="1727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48480" y="4962600"/>
            <a:ext cx="1182600" cy="127944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7718" y="1769"/>
                </a:moveTo>
                <a:arcTo wR="-9542" hR="-9542" stAng="-6530591" swAng="-3888139"/>
                <a:lnTo>
                  <a:pt x="21534" y="11995"/>
                </a:lnTo>
                <a:arcTo wR="10800" hR="10800" stAng="381270" swAng="3888139"/>
                <a:lnTo>
                  <a:pt x="15160" y="23576"/>
                </a:lnTo>
                <a:lnTo>
                  <a:pt x="10934" y="21501"/>
                </a:lnTo>
                <a:lnTo>
                  <a:pt x="13010" y="1727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2135880" y="5396760"/>
            <a:ext cx="1182960" cy="1279440"/>
          </a:xfrm>
          <a:custGeom>
            <a:avLst/>
            <a:gdLst>
              <a:gd name="textAreaLeft" fmla="*/ 0 w 1182960"/>
              <a:gd name="textAreaRight" fmla="*/ 1183320 w 118296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7718" y="1769"/>
                </a:moveTo>
                <a:arcTo wR="-9542" hR="-9542" stAng="-6530591" swAng="-3888139"/>
                <a:lnTo>
                  <a:pt x="21534" y="11995"/>
                </a:lnTo>
                <a:arcTo wR="10800" hR="10800" stAng="381270" swAng="3888139"/>
                <a:lnTo>
                  <a:pt x="15160" y="23576"/>
                </a:lnTo>
                <a:lnTo>
                  <a:pt x="10934" y="21501"/>
                </a:lnTo>
                <a:lnTo>
                  <a:pt x="13010" y="1727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389400" y="4712400"/>
            <a:ext cx="2628360" cy="1847880"/>
            <a:chOff x="3389400" y="4712400"/>
            <a:chExt cx="2628360" cy="1847880"/>
          </a:xfrm>
        </p:grpSpPr>
        <p:sp>
          <p:nvSpPr>
            <p:cNvPr id="248" name=""/>
            <p:cNvSpPr/>
            <p:nvPr/>
          </p:nvSpPr>
          <p:spPr>
            <a:xfrm>
              <a:off x="3417840" y="4712400"/>
              <a:ext cx="2599920" cy="10904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Monotype Corsiva"/>
                </a:rPr>
                <a:t>Frequency /data 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389400" y="5549760"/>
              <a:ext cx="2548800" cy="1010520"/>
              <a:chOff x="3389400" y="5549760"/>
              <a:chExt cx="2548800" cy="101052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3389400" y="5919120"/>
                <a:ext cx="2548800" cy="641160"/>
                <a:chOff x="3389400" y="5919120"/>
                <a:chExt cx="2548800" cy="64116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3389400" y="6401160"/>
                  <a:ext cx="2548800" cy="159120"/>
                  <a:chOff x="3389400" y="6401160"/>
                  <a:chExt cx="2548800" cy="15912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3814560" y="640116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65240" y="640116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5090400" y="640116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515560" y="640116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239720" y="640116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389400" y="640116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3602880" y="6240240"/>
                  <a:ext cx="2124000" cy="159120"/>
                  <a:chOff x="3602880" y="6240240"/>
                  <a:chExt cx="2124000" cy="15912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3602880" y="624024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4453200" y="6240240"/>
                    <a:ext cx="4230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4878720" y="624024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303880" y="6240240"/>
                    <a:ext cx="4230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028040" y="6240240"/>
                    <a:ext cx="42300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3815640" y="5919120"/>
                  <a:ext cx="1698120" cy="319680"/>
                  <a:chOff x="3815640" y="5919120"/>
                  <a:chExt cx="1698120" cy="3196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4240800" y="607968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091120" y="607968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4665960" y="607968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15640" y="607968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029120" y="591912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4879440" y="591912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4454280" y="5919120"/>
                    <a:ext cx="422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4351320" y="5919120"/>
                <a:ext cx="634320" cy="639360"/>
                <a:chOff x="4351320" y="5919120"/>
                <a:chExt cx="634320" cy="63936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4351320" y="6401160"/>
                  <a:ext cx="634320" cy="157320"/>
                  <a:chOff x="4351320" y="6401160"/>
                  <a:chExt cx="634320" cy="15732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4377600" y="6452640"/>
                    <a:ext cx="5817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4351320" y="6505200"/>
                    <a:ext cx="6343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4403880" y="6401160"/>
                    <a:ext cx="5288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4430520" y="6240240"/>
                  <a:ext cx="475920" cy="157320"/>
                  <a:chOff x="4430520" y="6240240"/>
                  <a:chExt cx="475920" cy="1573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4449960" y="6291720"/>
                    <a:ext cx="4363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430520" y="6344280"/>
                    <a:ext cx="4759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469760" y="6240240"/>
                    <a:ext cx="3967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4483800" y="6079680"/>
                  <a:ext cx="370080" cy="157320"/>
                  <a:chOff x="4483800" y="6079680"/>
                  <a:chExt cx="370080" cy="15732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4498920" y="6131160"/>
                    <a:ext cx="3394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4483800" y="6183720"/>
                    <a:ext cx="3700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514400" y="6079680"/>
                    <a:ext cx="3085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4536720" y="5919120"/>
                  <a:ext cx="264240" cy="157320"/>
                  <a:chOff x="4536720" y="5919120"/>
                  <a:chExt cx="264240" cy="1573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4547520" y="5970600"/>
                    <a:ext cx="2422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4536720" y="6023160"/>
                    <a:ext cx="2642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558680" y="5919120"/>
                    <a:ext cx="2203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9" name=""/>
              <p:cNvSpPr/>
              <p:nvPr/>
            </p:nvSpPr>
            <p:spPr>
              <a:xfrm>
                <a:off x="4136760" y="5726880"/>
                <a:ext cx="1056960" cy="1886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4282920" y="5798520"/>
                <a:ext cx="764280" cy="113760"/>
                <a:chOff x="4282920" y="5798520"/>
                <a:chExt cx="764280" cy="1137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282920" y="5798520"/>
                  <a:ext cx="10584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449240" y="5798520"/>
                  <a:ext cx="10584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41360" y="5798520"/>
                  <a:ext cx="10584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774680" y="5798520"/>
                  <a:ext cx="10584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609440" y="5798520"/>
                  <a:ext cx="106200" cy="1137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105080" y="5709600"/>
                <a:ext cx="1118880" cy="331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4127400" y="5581080"/>
                <a:ext cx="1074240" cy="128160"/>
              </a:xfrm>
              <a:custGeom>
                <a:avLst/>
                <a:gdLst>
                  <a:gd name="textAreaLeft" fmla="*/ 111600 w 1074240"/>
                  <a:gd name="textAreaRight" fmla="*/ 962640 w 1074240"/>
                  <a:gd name="textAreaTop" fmla="*/ 13320 h 128160"/>
                  <a:gd name="textAreaBottom" fmla="*/ 114840 h 128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60520" y="5549760"/>
                <a:ext cx="1002960" cy="31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19640" y="3646440"/>
            <a:ext cx="2822040" cy="2079360"/>
            <a:chOff x="6119640" y="3646440"/>
            <a:chExt cx="2822040" cy="2079360"/>
          </a:xfrm>
        </p:grpSpPr>
        <p:sp>
          <p:nvSpPr>
            <p:cNvPr id="300" name=""/>
            <p:cNvSpPr/>
            <p:nvPr/>
          </p:nvSpPr>
          <p:spPr>
            <a:xfrm>
              <a:off x="6119640" y="3646440"/>
              <a:ext cx="2644560" cy="15782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Monotype Corsiva"/>
                </a:rPr>
                <a:t>Driver schedule retrosp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124320" y="4714560"/>
              <a:ext cx="2817360" cy="1011240"/>
              <a:chOff x="6124320" y="4714560"/>
              <a:chExt cx="2817360" cy="101124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6124320" y="5084640"/>
                <a:ext cx="2817360" cy="641160"/>
                <a:chOff x="6124320" y="5084640"/>
                <a:chExt cx="2817360" cy="64116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6124320" y="5566680"/>
                  <a:ext cx="2817360" cy="159120"/>
                  <a:chOff x="6124320" y="5566680"/>
                  <a:chExt cx="2817360" cy="1591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6594120" y="556668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534440" y="556668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8004600" y="556668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8474400" y="556668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064280" y="556668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6124320" y="556668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6360120" y="5405760"/>
                  <a:ext cx="2347200" cy="159120"/>
                  <a:chOff x="6360120" y="5405760"/>
                  <a:chExt cx="2347200" cy="15912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6360120" y="540576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300080" y="540576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770240" y="540576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8240040" y="540576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829920" y="540576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6595200" y="5084640"/>
                  <a:ext cx="1877400" cy="319680"/>
                  <a:chOff x="6595200" y="5084640"/>
                  <a:chExt cx="1877400" cy="31968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7065000" y="524520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8005320" y="524520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535160" y="524520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595200" y="524520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6831000" y="508464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771320" y="508464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7301160" y="5084640"/>
                    <a:ext cx="46728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4" name=""/>
              <p:cNvGrpSpPr/>
              <p:nvPr/>
            </p:nvGrpSpPr>
            <p:grpSpPr>
              <a:xfrm>
                <a:off x="7187760" y="5084640"/>
                <a:ext cx="702000" cy="639720"/>
                <a:chOff x="7187760" y="5084640"/>
                <a:chExt cx="702000" cy="63972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7187760" y="5567040"/>
                  <a:ext cx="702000" cy="157320"/>
                  <a:chOff x="7187760" y="5567040"/>
                  <a:chExt cx="702000" cy="15732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7216560" y="5618520"/>
                    <a:ext cx="6436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7187760" y="5671080"/>
                    <a:ext cx="7020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246080" y="5567040"/>
                    <a:ext cx="5850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275240" y="5406120"/>
                  <a:ext cx="526680" cy="157320"/>
                  <a:chOff x="7275240" y="5406120"/>
                  <a:chExt cx="526680" cy="15732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7296840" y="5457600"/>
                    <a:ext cx="48312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275240" y="5510160"/>
                    <a:ext cx="5266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7318800" y="5406120"/>
                    <a:ext cx="4392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7334280" y="5245200"/>
                  <a:ext cx="409680" cy="157320"/>
                  <a:chOff x="7334280" y="5245200"/>
                  <a:chExt cx="409680" cy="15732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7351200" y="5296680"/>
                    <a:ext cx="3758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34280" y="5349240"/>
                    <a:ext cx="4096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7368120" y="5245200"/>
                    <a:ext cx="3416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7392960" y="5084640"/>
                  <a:ext cx="292680" cy="157320"/>
                  <a:chOff x="7392960" y="5084640"/>
                  <a:chExt cx="292680" cy="15732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7404840" y="5136120"/>
                    <a:ext cx="2685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392960" y="5188680"/>
                    <a:ext cx="2926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417080" y="5084640"/>
                    <a:ext cx="2440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1" name=""/>
              <p:cNvSpPr/>
              <p:nvPr/>
            </p:nvSpPr>
            <p:spPr>
              <a:xfrm>
                <a:off x="6949800" y="4892400"/>
                <a:ext cx="1168560" cy="1890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7111800" y="4964040"/>
                <a:ext cx="846000" cy="114120"/>
                <a:chOff x="7111800" y="4964040"/>
                <a:chExt cx="846000" cy="114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7111800" y="4964040"/>
                  <a:ext cx="1173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295760" y="4964040"/>
                  <a:ext cx="117720" cy="11412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840440" y="4964040"/>
                  <a:ext cx="11736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656120" y="4964040"/>
                  <a:ext cx="115920" cy="11412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473600" y="4964040"/>
                  <a:ext cx="11772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6916320" y="4875120"/>
                <a:ext cx="1236960" cy="331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6940440" y="4745880"/>
                <a:ext cx="1187280" cy="128520"/>
              </a:xfrm>
              <a:custGeom>
                <a:avLst/>
                <a:gdLst>
                  <a:gd name="textAreaLeft" fmla="*/ 123480 w 1187280"/>
                  <a:gd name="textAreaRight" fmla="*/ 1063800 w 1187280"/>
                  <a:gd name="textAreaTop" fmla="*/ 13320 h 128520"/>
                  <a:gd name="textAreaBottom" fmla="*/ 115200 h 1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976800" y="4714560"/>
                <a:ext cx="1109520" cy="32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241200" y="1496520"/>
            <a:ext cx="2439720" cy="1847880"/>
            <a:chOff x="241200" y="1496520"/>
            <a:chExt cx="2439720" cy="1847880"/>
          </a:xfrm>
        </p:grpSpPr>
        <p:sp>
          <p:nvSpPr>
            <p:cNvPr id="352" name=""/>
            <p:cNvSpPr/>
            <p:nvPr/>
          </p:nvSpPr>
          <p:spPr>
            <a:xfrm>
              <a:off x="776160" y="1496520"/>
              <a:ext cx="1528920" cy="10904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241200" y="2333520"/>
              <a:ext cx="2439720" cy="1010880"/>
              <a:chOff x="241200" y="2333520"/>
              <a:chExt cx="2439720" cy="101088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241200" y="2703240"/>
                <a:ext cx="2439720" cy="641160"/>
                <a:chOff x="241200" y="2703240"/>
                <a:chExt cx="2439720" cy="641160"/>
              </a:xfrm>
            </p:grpSpPr>
            <p:grpSp>
              <p:nvGrpSpPr>
                <p:cNvPr id="355" name=""/>
                <p:cNvGrpSpPr/>
                <p:nvPr/>
              </p:nvGrpSpPr>
              <p:grpSpPr>
                <a:xfrm>
                  <a:off x="241200" y="3185280"/>
                  <a:ext cx="2439720" cy="159120"/>
                  <a:chOff x="241200" y="3185280"/>
                  <a:chExt cx="2439720" cy="1591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648000" y="31852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462320" y="31852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869480" y="31852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276280" y="31852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1055160" y="31852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41200" y="318528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445320" y="3024720"/>
                  <a:ext cx="2032920" cy="159120"/>
                  <a:chOff x="445320" y="3024720"/>
                  <a:chExt cx="2032920" cy="15912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445320" y="302472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1259280" y="302472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666440" y="302472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073600" y="302472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52120" y="302472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49080" y="2703240"/>
                  <a:ext cx="1625760" cy="319680"/>
                  <a:chOff x="649080" y="2703240"/>
                  <a:chExt cx="1625760" cy="3196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1055880" y="2863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870200" y="2863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1463040" y="2863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49080" y="286380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53200" y="27032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667520" y="27032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260360" y="2703240"/>
                    <a:ext cx="404640" cy="159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6" name=""/>
              <p:cNvGrpSpPr/>
              <p:nvPr/>
            </p:nvGrpSpPr>
            <p:grpSpPr>
              <a:xfrm>
                <a:off x="1162440" y="2703240"/>
                <a:ext cx="606960" cy="639360"/>
                <a:chOff x="1162440" y="2703240"/>
                <a:chExt cx="606960" cy="63936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1162440" y="3185280"/>
                  <a:ext cx="606960" cy="157320"/>
                  <a:chOff x="1162440" y="3185280"/>
                  <a:chExt cx="606960" cy="15732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1187640" y="3236760"/>
                    <a:ext cx="5565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162440" y="3289320"/>
                    <a:ext cx="6069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1212840" y="3185280"/>
                    <a:ext cx="5058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1238040" y="3024360"/>
                  <a:ext cx="455400" cy="157320"/>
                  <a:chOff x="1238040" y="3024360"/>
                  <a:chExt cx="455400" cy="15732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1256760" y="3075840"/>
                    <a:ext cx="4176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238040" y="3128400"/>
                    <a:ext cx="4554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275840" y="3024360"/>
                    <a:ext cx="3798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1289160" y="2863800"/>
                  <a:ext cx="354240" cy="157320"/>
                  <a:chOff x="1289160" y="2863800"/>
                  <a:chExt cx="354240" cy="1573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1303560" y="2915280"/>
                    <a:ext cx="3250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289160" y="2967840"/>
                    <a:ext cx="35424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318320" y="2863800"/>
                    <a:ext cx="2952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1339920" y="2703240"/>
                  <a:ext cx="253080" cy="157320"/>
                  <a:chOff x="1339920" y="2703240"/>
                  <a:chExt cx="253080" cy="1573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1350360" y="2754720"/>
                    <a:ext cx="23220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339920" y="2807280"/>
                    <a:ext cx="25308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360800" y="2703240"/>
                    <a:ext cx="210960" cy="532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3" name=""/>
              <p:cNvSpPr/>
              <p:nvPr/>
            </p:nvSpPr>
            <p:spPr>
              <a:xfrm>
                <a:off x="956160" y="2510640"/>
                <a:ext cx="1011600" cy="1897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1095840" y="2583000"/>
                <a:ext cx="732600" cy="113760"/>
                <a:chOff x="1095840" y="2583000"/>
                <a:chExt cx="732600" cy="1137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095840" y="258300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255320" y="258300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727280" y="258300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567080" y="258300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409040" y="2583000"/>
                  <a:ext cx="101160" cy="11376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926640" y="2494440"/>
                <a:ext cx="1071360" cy="32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948240" y="2365200"/>
                <a:ext cx="1028160" cy="128520"/>
              </a:xfrm>
              <a:custGeom>
                <a:avLst/>
                <a:gdLst>
                  <a:gd name="textAreaLeft" fmla="*/ 106920 w 1028160"/>
                  <a:gd name="textAreaRight" fmla="*/ 921240 w 1028160"/>
                  <a:gd name="textAreaTop" fmla="*/ 13320 h 128520"/>
                  <a:gd name="textAreaBottom" fmla="*/ 115200 h 1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978840" y="2333520"/>
                <a:ext cx="961200" cy="32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48578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40" name="" descr=""/>
          <p:cNvPicPr/>
          <p:nvPr/>
        </p:nvPicPr>
        <p:blipFill>
          <a:blip r:embed="rId2"/>
          <a:stretch/>
        </p:blipFill>
        <p:spPr>
          <a:xfrm>
            <a:off x="7967520" y="5845320"/>
            <a:ext cx="528840" cy="222120"/>
          </a:xfrm>
          <a:prstGeom prst="rect">
            <a:avLst/>
          </a:prstGeom>
          <a:ln w="0">
            <a:noFill/>
          </a:ln>
        </p:spPr>
      </p:pic>
      <p:sp>
        <p:nvSpPr>
          <p:cNvPr id="4541" name=""/>
          <p:cNvSpPr/>
          <p:nvPr/>
        </p:nvSpPr>
        <p:spPr>
          <a:xfrm>
            <a:off x="5326200" y="2496240"/>
            <a:ext cx="1893600" cy="1819800"/>
          </a:xfrm>
          <a:prstGeom prst="horizontalScroll">
            <a:avLst>
              <a:gd name="adj" fmla="val 12500"/>
            </a:avLst>
          </a:prstGeom>
          <a:solidFill>
            <a:srgbClr val="ffcc00">
              <a:alpha val="50000"/>
            </a:srgbClr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onotype Corsiva"/>
              </a:rPr>
              <a:t>driver schedule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Monotype Corsiva"/>
              </a:rPr>
              <a:t>pre-/de-emphasis and frequency/data-rate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2" name=""/>
          <p:cNvGrpSpPr/>
          <p:nvPr/>
        </p:nvGrpSpPr>
        <p:grpSpPr>
          <a:xfrm>
            <a:off x="5389560" y="3855960"/>
            <a:ext cx="1955880" cy="811440"/>
            <a:chOff x="5389560" y="3855960"/>
            <a:chExt cx="1955880" cy="811440"/>
          </a:xfrm>
        </p:grpSpPr>
        <p:grpSp>
          <p:nvGrpSpPr>
            <p:cNvPr id="4543" name=""/>
            <p:cNvGrpSpPr/>
            <p:nvPr/>
          </p:nvGrpSpPr>
          <p:grpSpPr>
            <a:xfrm>
              <a:off x="5389560" y="4152600"/>
              <a:ext cx="1955880" cy="514800"/>
              <a:chOff x="5389560" y="4152600"/>
              <a:chExt cx="1955880" cy="514800"/>
            </a:xfrm>
          </p:grpSpPr>
          <p:grpSp>
            <p:nvGrpSpPr>
              <p:cNvPr id="4544" name=""/>
              <p:cNvGrpSpPr/>
              <p:nvPr/>
            </p:nvGrpSpPr>
            <p:grpSpPr>
              <a:xfrm>
                <a:off x="5389560" y="4539600"/>
                <a:ext cx="1955880" cy="127800"/>
                <a:chOff x="5389560" y="4539600"/>
                <a:chExt cx="1955880" cy="127800"/>
              </a:xfrm>
            </p:grpSpPr>
            <p:sp>
              <p:nvSpPr>
                <p:cNvPr id="4545" name=""/>
                <p:cNvSpPr/>
                <p:nvPr/>
              </p:nvSpPr>
              <p:spPr>
                <a:xfrm>
                  <a:off x="5715720" y="45396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>
                  <a:off x="6368400" y="45396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7" name=""/>
                <p:cNvSpPr/>
                <p:nvPr/>
              </p:nvSpPr>
              <p:spPr>
                <a:xfrm>
                  <a:off x="6694560" y="45396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>
                  <a:off x="7021080" y="45396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>
                  <a:off x="6041880" y="45396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5389560" y="45396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1" name=""/>
              <p:cNvGrpSpPr/>
              <p:nvPr/>
            </p:nvGrpSpPr>
            <p:grpSpPr>
              <a:xfrm>
                <a:off x="5553360" y="4410360"/>
                <a:ext cx="1629720" cy="127800"/>
                <a:chOff x="5553360" y="4410360"/>
                <a:chExt cx="1629720" cy="127800"/>
              </a:xfrm>
            </p:grpSpPr>
            <p:sp>
              <p:nvSpPr>
                <p:cNvPr id="4552" name=""/>
                <p:cNvSpPr/>
                <p:nvPr/>
              </p:nvSpPr>
              <p:spPr>
                <a:xfrm>
                  <a:off x="5553360" y="44103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3" name=""/>
                <p:cNvSpPr/>
                <p:nvPr/>
              </p:nvSpPr>
              <p:spPr>
                <a:xfrm>
                  <a:off x="6206040" y="44103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4" name=""/>
                <p:cNvSpPr/>
                <p:nvPr/>
              </p:nvSpPr>
              <p:spPr>
                <a:xfrm>
                  <a:off x="6532200" y="44103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6858720" y="44103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>
                  <a:off x="5879520" y="44103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7" name=""/>
              <p:cNvGrpSpPr/>
              <p:nvPr/>
            </p:nvGrpSpPr>
            <p:grpSpPr>
              <a:xfrm>
                <a:off x="5716440" y="4152600"/>
                <a:ext cx="1303200" cy="256680"/>
                <a:chOff x="5716440" y="4152600"/>
                <a:chExt cx="1303200" cy="256680"/>
              </a:xfrm>
            </p:grpSpPr>
            <p:sp>
              <p:nvSpPr>
                <p:cNvPr id="4558" name=""/>
                <p:cNvSpPr/>
                <p:nvPr/>
              </p:nvSpPr>
              <p:spPr>
                <a:xfrm>
                  <a:off x="6042600" y="428148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9" name=""/>
                <p:cNvSpPr/>
                <p:nvPr/>
              </p:nvSpPr>
              <p:spPr>
                <a:xfrm>
                  <a:off x="6695280" y="428148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>
                  <a:off x="6368760" y="428148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1" name=""/>
                <p:cNvSpPr/>
                <p:nvPr/>
              </p:nvSpPr>
              <p:spPr>
                <a:xfrm>
                  <a:off x="5716440" y="428148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2" name=""/>
                <p:cNvSpPr/>
                <p:nvPr/>
              </p:nvSpPr>
              <p:spPr>
                <a:xfrm>
                  <a:off x="5880240" y="41526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>
                  <a:off x="6532920" y="41526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4" name=""/>
                <p:cNvSpPr/>
                <p:nvPr/>
              </p:nvSpPr>
              <p:spPr>
                <a:xfrm>
                  <a:off x="6206400" y="415260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65" name=""/>
            <p:cNvGrpSpPr/>
            <p:nvPr/>
          </p:nvGrpSpPr>
          <p:grpSpPr>
            <a:xfrm>
              <a:off x="6127920" y="4152600"/>
              <a:ext cx="486360" cy="512640"/>
              <a:chOff x="6127920" y="4152600"/>
              <a:chExt cx="486360" cy="512640"/>
            </a:xfrm>
          </p:grpSpPr>
          <p:grpSp>
            <p:nvGrpSpPr>
              <p:cNvPr id="4566" name=""/>
              <p:cNvGrpSpPr/>
              <p:nvPr/>
            </p:nvGrpSpPr>
            <p:grpSpPr>
              <a:xfrm>
                <a:off x="6127920" y="4539240"/>
                <a:ext cx="486360" cy="126000"/>
                <a:chOff x="6127920" y="4539240"/>
                <a:chExt cx="486360" cy="126000"/>
              </a:xfrm>
            </p:grpSpPr>
            <p:sp>
              <p:nvSpPr>
                <p:cNvPr id="4567" name=""/>
                <p:cNvSpPr/>
                <p:nvPr/>
              </p:nvSpPr>
              <p:spPr>
                <a:xfrm>
                  <a:off x="6148080" y="4580280"/>
                  <a:ext cx="44604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8" name=""/>
                <p:cNvSpPr/>
                <p:nvPr/>
              </p:nvSpPr>
              <p:spPr>
                <a:xfrm>
                  <a:off x="6127920" y="4622760"/>
                  <a:ext cx="48636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>
                  <a:off x="6168240" y="4539240"/>
                  <a:ext cx="40536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0" name=""/>
              <p:cNvGrpSpPr/>
              <p:nvPr/>
            </p:nvGrpSpPr>
            <p:grpSpPr>
              <a:xfrm>
                <a:off x="6188400" y="4410360"/>
                <a:ext cx="364680" cy="126000"/>
                <a:chOff x="6188400" y="4410360"/>
                <a:chExt cx="364680" cy="126000"/>
              </a:xfrm>
            </p:grpSpPr>
            <p:sp>
              <p:nvSpPr>
                <p:cNvPr id="4571" name=""/>
                <p:cNvSpPr/>
                <p:nvPr/>
              </p:nvSpPr>
              <p:spPr>
                <a:xfrm>
                  <a:off x="6203520" y="4451400"/>
                  <a:ext cx="33444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2" name=""/>
                <p:cNvSpPr/>
                <p:nvPr/>
              </p:nvSpPr>
              <p:spPr>
                <a:xfrm>
                  <a:off x="6188400" y="4493880"/>
                  <a:ext cx="364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3" name=""/>
                <p:cNvSpPr/>
                <p:nvPr/>
              </p:nvSpPr>
              <p:spPr>
                <a:xfrm>
                  <a:off x="6218640" y="4410360"/>
                  <a:ext cx="30420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4" name=""/>
              <p:cNvGrpSpPr/>
              <p:nvPr/>
            </p:nvGrpSpPr>
            <p:grpSpPr>
              <a:xfrm>
                <a:off x="6229440" y="4281480"/>
                <a:ext cx="283680" cy="126000"/>
                <a:chOff x="6229440" y="4281480"/>
                <a:chExt cx="283680" cy="126000"/>
              </a:xfrm>
            </p:grpSpPr>
            <p:sp>
              <p:nvSpPr>
                <p:cNvPr id="4575" name=""/>
                <p:cNvSpPr/>
                <p:nvPr/>
              </p:nvSpPr>
              <p:spPr>
                <a:xfrm>
                  <a:off x="6240960" y="4322520"/>
                  <a:ext cx="2602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6" name=""/>
                <p:cNvSpPr/>
                <p:nvPr/>
              </p:nvSpPr>
              <p:spPr>
                <a:xfrm>
                  <a:off x="6229440" y="4365000"/>
                  <a:ext cx="283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7" name=""/>
                <p:cNvSpPr/>
                <p:nvPr/>
              </p:nvSpPr>
              <p:spPr>
                <a:xfrm>
                  <a:off x="6252840" y="4281480"/>
                  <a:ext cx="23652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8" name=""/>
              <p:cNvGrpSpPr/>
              <p:nvPr/>
            </p:nvGrpSpPr>
            <p:grpSpPr>
              <a:xfrm>
                <a:off x="6270120" y="4152600"/>
                <a:ext cx="202680" cy="126000"/>
                <a:chOff x="6270120" y="4152600"/>
                <a:chExt cx="202680" cy="126000"/>
              </a:xfrm>
            </p:grpSpPr>
            <p:sp>
              <p:nvSpPr>
                <p:cNvPr id="4579" name=""/>
                <p:cNvSpPr/>
                <p:nvPr/>
              </p:nvSpPr>
              <p:spPr>
                <a:xfrm>
                  <a:off x="6278400" y="4193640"/>
                  <a:ext cx="18612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>
                  <a:off x="6270120" y="4236120"/>
                  <a:ext cx="202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>
                  <a:off x="6286680" y="4152600"/>
                  <a:ext cx="16920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82" name=""/>
            <p:cNvSpPr/>
            <p:nvPr/>
          </p:nvSpPr>
          <p:spPr>
            <a:xfrm>
              <a:off x="5962680" y="3997800"/>
              <a:ext cx="811080" cy="152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3" name=""/>
            <p:cNvGrpSpPr/>
            <p:nvPr/>
          </p:nvGrpSpPr>
          <p:grpSpPr>
            <a:xfrm>
              <a:off x="6074640" y="4056120"/>
              <a:ext cx="587160" cy="91440"/>
              <a:chOff x="6074640" y="4056120"/>
              <a:chExt cx="587160" cy="91440"/>
            </a:xfrm>
          </p:grpSpPr>
          <p:sp>
            <p:nvSpPr>
              <p:cNvPr id="4584" name=""/>
              <p:cNvSpPr/>
              <p:nvPr/>
            </p:nvSpPr>
            <p:spPr>
              <a:xfrm>
                <a:off x="6074640" y="405612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6202440" y="4056120"/>
                <a:ext cx="81000" cy="9108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6580800" y="405612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6452280" y="405612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6325560" y="405612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9" name=""/>
            <p:cNvSpPr/>
            <p:nvPr/>
          </p:nvSpPr>
          <p:spPr>
            <a:xfrm>
              <a:off x="5938920" y="3984840"/>
              <a:ext cx="858600" cy="25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 flipV="1">
              <a:off x="5956200" y="3881880"/>
              <a:ext cx="824040" cy="102960"/>
            </a:xfrm>
            <a:custGeom>
              <a:avLst/>
              <a:gdLst>
                <a:gd name="textAreaLeft" fmla="*/ 85680 w 824040"/>
                <a:gd name="textAreaRight" fmla="*/ 738360 w 824040"/>
                <a:gd name="textAreaTop" fmla="*/ 10440 h 102960"/>
                <a:gd name="textAreaBottom" fmla="*/ 92520 h 10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01" y="21600"/>
                  </a:lnTo>
                  <a:lnTo>
                    <a:pt x="899" y="2160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5980680" y="3855960"/>
              <a:ext cx="770760" cy="25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2" name=""/>
          <p:cNvGrpSpPr/>
          <p:nvPr/>
        </p:nvGrpSpPr>
        <p:grpSpPr>
          <a:xfrm>
            <a:off x="7095240" y="3535200"/>
            <a:ext cx="1776600" cy="852120"/>
            <a:chOff x="7095240" y="3535200"/>
            <a:chExt cx="1776600" cy="852120"/>
          </a:xfrm>
        </p:grpSpPr>
        <p:sp>
          <p:nvSpPr>
            <p:cNvPr id="4593" name=""/>
            <p:cNvSpPr/>
            <p:nvPr/>
          </p:nvSpPr>
          <p:spPr>
            <a:xfrm>
              <a:off x="7095240" y="3535200"/>
              <a:ext cx="1776600" cy="3992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Pre-/De-empha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4" name=""/>
            <p:cNvGrpSpPr/>
            <p:nvPr/>
          </p:nvGrpSpPr>
          <p:grpSpPr>
            <a:xfrm>
              <a:off x="7331040" y="3881160"/>
              <a:ext cx="1220760" cy="506160"/>
              <a:chOff x="7331040" y="3881160"/>
              <a:chExt cx="1220760" cy="506160"/>
            </a:xfrm>
          </p:grpSpPr>
          <p:grpSp>
            <p:nvGrpSpPr>
              <p:cNvPr id="4595" name=""/>
              <p:cNvGrpSpPr/>
              <p:nvPr/>
            </p:nvGrpSpPr>
            <p:grpSpPr>
              <a:xfrm>
                <a:off x="7331040" y="4066200"/>
                <a:ext cx="1220760" cy="321120"/>
                <a:chOff x="7331040" y="4066200"/>
                <a:chExt cx="1220760" cy="321120"/>
              </a:xfrm>
            </p:grpSpPr>
            <p:grpSp>
              <p:nvGrpSpPr>
                <p:cNvPr id="4596" name=""/>
                <p:cNvGrpSpPr/>
                <p:nvPr/>
              </p:nvGrpSpPr>
              <p:grpSpPr>
                <a:xfrm>
                  <a:off x="7331040" y="4307760"/>
                  <a:ext cx="1220760" cy="79560"/>
                  <a:chOff x="7331040" y="4307760"/>
                  <a:chExt cx="1220760" cy="79560"/>
                </a:xfrm>
              </p:grpSpPr>
              <p:sp>
                <p:nvSpPr>
                  <p:cNvPr id="4597" name=""/>
                  <p:cNvSpPr/>
                  <p:nvPr/>
                </p:nvSpPr>
                <p:spPr>
                  <a:xfrm>
                    <a:off x="7534440" y="4307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>
                    <a:off x="7941960" y="4307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9" name=""/>
                  <p:cNvSpPr/>
                  <p:nvPr/>
                </p:nvSpPr>
                <p:spPr>
                  <a:xfrm>
                    <a:off x="8145720" y="4307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0" name=""/>
                  <p:cNvSpPr/>
                  <p:nvPr/>
                </p:nvSpPr>
                <p:spPr>
                  <a:xfrm>
                    <a:off x="8349480" y="4307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1" name=""/>
                  <p:cNvSpPr/>
                  <p:nvPr/>
                </p:nvSpPr>
                <p:spPr>
                  <a:xfrm>
                    <a:off x="7738200" y="4307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2" name=""/>
                  <p:cNvSpPr/>
                  <p:nvPr/>
                </p:nvSpPr>
                <p:spPr>
                  <a:xfrm>
                    <a:off x="7331040" y="4307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3" name=""/>
                <p:cNvGrpSpPr/>
                <p:nvPr/>
              </p:nvGrpSpPr>
              <p:grpSpPr>
                <a:xfrm>
                  <a:off x="7433280" y="4227120"/>
                  <a:ext cx="1017000" cy="79560"/>
                  <a:chOff x="7433280" y="4227120"/>
                  <a:chExt cx="1017000" cy="79560"/>
                </a:xfrm>
              </p:grpSpPr>
              <p:sp>
                <p:nvSpPr>
                  <p:cNvPr id="4604" name=""/>
                  <p:cNvSpPr/>
                  <p:nvPr/>
                </p:nvSpPr>
                <p:spPr>
                  <a:xfrm>
                    <a:off x="7433280" y="42271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>
                    <a:off x="7840440" y="42271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6" name=""/>
                  <p:cNvSpPr/>
                  <p:nvPr/>
                </p:nvSpPr>
                <p:spPr>
                  <a:xfrm>
                    <a:off x="8044200" y="42271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7" name=""/>
                  <p:cNvSpPr/>
                  <p:nvPr/>
                </p:nvSpPr>
                <p:spPr>
                  <a:xfrm>
                    <a:off x="8247960" y="42271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8" name=""/>
                  <p:cNvSpPr/>
                  <p:nvPr/>
                </p:nvSpPr>
                <p:spPr>
                  <a:xfrm>
                    <a:off x="7636680" y="42271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9" name=""/>
                <p:cNvGrpSpPr/>
                <p:nvPr/>
              </p:nvGrpSpPr>
              <p:grpSpPr>
                <a:xfrm>
                  <a:off x="7535160" y="4066200"/>
                  <a:ext cx="813240" cy="159840"/>
                  <a:chOff x="7535160" y="4066200"/>
                  <a:chExt cx="813240" cy="159840"/>
                </a:xfrm>
              </p:grpSpPr>
              <p:sp>
                <p:nvSpPr>
                  <p:cNvPr id="4610" name=""/>
                  <p:cNvSpPr/>
                  <p:nvPr/>
                </p:nvSpPr>
                <p:spPr>
                  <a:xfrm>
                    <a:off x="7738920" y="41464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1" name=""/>
                  <p:cNvSpPr/>
                  <p:nvPr/>
                </p:nvSpPr>
                <p:spPr>
                  <a:xfrm>
                    <a:off x="8146080" y="41464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2" name=""/>
                  <p:cNvSpPr/>
                  <p:nvPr/>
                </p:nvSpPr>
                <p:spPr>
                  <a:xfrm>
                    <a:off x="7942680" y="41464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3" name=""/>
                  <p:cNvSpPr/>
                  <p:nvPr/>
                </p:nvSpPr>
                <p:spPr>
                  <a:xfrm>
                    <a:off x="7535160" y="41464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4" name=""/>
                  <p:cNvSpPr/>
                  <p:nvPr/>
                </p:nvSpPr>
                <p:spPr>
                  <a:xfrm>
                    <a:off x="7637400" y="40662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5" name=""/>
                  <p:cNvSpPr/>
                  <p:nvPr/>
                </p:nvSpPr>
                <p:spPr>
                  <a:xfrm>
                    <a:off x="8044920" y="40662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6" name=""/>
                  <p:cNvSpPr/>
                  <p:nvPr/>
                </p:nvSpPr>
                <p:spPr>
                  <a:xfrm>
                    <a:off x="7841160" y="40662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17" name=""/>
              <p:cNvGrpSpPr/>
              <p:nvPr/>
            </p:nvGrpSpPr>
            <p:grpSpPr>
              <a:xfrm>
                <a:off x="7791480" y="4066200"/>
                <a:ext cx="304200" cy="320400"/>
                <a:chOff x="7791480" y="4066200"/>
                <a:chExt cx="304200" cy="320400"/>
              </a:xfrm>
            </p:grpSpPr>
            <p:grpSp>
              <p:nvGrpSpPr>
                <p:cNvPr id="4618" name=""/>
                <p:cNvGrpSpPr/>
                <p:nvPr/>
              </p:nvGrpSpPr>
              <p:grpSpPr>
                <a:xfrm>
                  <a:off x="7791480" y="4307760"/>
                  <a:ext cx="304200" cy="78840"/>
                  <a:chOff x="7791480" y="4307760"/>
                  <a:chExt cx="304200" cy="78840"/>
                </a:xfrm>
              </p:grpSpPr>
              <p:sp>
                <p:nvSpPr>
                  <p:cNvPr id="4619" name=""/>
                  <p:cNvSpPr/>
                  <p:nvPr/>
                </p:nvSpPr>
                <p:spPr>
                  <a:xfrm>
                    <a:off x="7804080" y="4333680"/>
                    <a:ext cx="2790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0" name=""/>
                  <p:cNvSpPr/>
                  <p:nvPr/>
                </p:nvSpPr>
                <p:spPr>
                  <a:xfrm>
                    <a:off x="7791480" y="4359960"/>
                    <a:ext cx="3042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1" name=""/>
                  <p:cNvSpPr/>
                  <p:nvPr/>
                </p:nvSpPr>
                <p:spPr>
                  <a:xfrm>
                    <a:off x="7816680" y="4307760"/>
                    <a:ext cx="2538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2" name=""/>
                <p:cNvGrpSpPr/>
                <p:nvPr/>
              </p:nvGrpSpPr>
              <p:grpSpPr>
                <a:xfrm>
                  <a:off x="7829280" y="4227120"/>
                  <a:ext cx="228240" cy="78840"/>
                  <a:chOff x="7829280" y="4227120"/>
                  <a:chExt cx="228240" cy="78840"/>
                </a:xfrm>
              </p:grpSpPr>
              <p:sp>
                <p:nvSpPr>
                  <p:cNvPr id="4623" name=""/>
                  <p:cNvSpPr/>
                  <p:nvPr/>
                </p:nvSpPr>
                <p:spPr>
                  <a:xfrm>
                    <a:off x="7838640" y="4253040"/>
                    <a:ext cx="209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4" name=""/>
                  <p:cNvSpPr/>
                  <p:nvPr/>
                </p:nvSpPr>
                <p:spPr>
                  <a:xfrm>
                    <a:off x="7829280" y="4279320"/>
                    <a:ext cx="2282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5" name=""/>
                  <p:cNvSpPr/>
                  <p:nvPr/>
                </p:nvSpPr>
                <p:spPr>
                  <a:xfrm>
                    <a:off x="7848000" y="4227120"/>
                    <a:ext cx="1904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6" name=""/>
                <p:cNvGrpSpPr/>
                <p:nvPr/>
              </p:nvGrpSpPr>
              <p:grpSpPr>
                <a:xfrm>
                  <a:off x="7854840" y="4146480"/>
                  <a:ext cx="177480" cy="78840"/>
                  <a:chOff x="7854840" y="4146480"/>
                  <a:chExt cx="177480" cy="78840"/>
                </a:xfrm>
              </p:grpSpPr>
              <p:sp>
                <p:nvSpPr>
                  <p:cNvPr id="4627" name=""/>
                  <p:cNvSpPr/>
                  <p:nvPr/>
                </p:nvSpPr>
                <p:spPr>
                  <a:xfrm>
                    <a:off x="7862040" y="4172400"/>
                    <a:ext cx="162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8" name=""/>
                  <p:cNvSpPr/>
                  <p:nvPr/>
                </p:nvSpPr>
                <p:spPr>
                  <a:xfrm>
                    <a:off x="7854840" y="4198680"/>
                    <a:ext cx="177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9" name=""/>
                  <p:cNvSpPr/>
                  <p:nvPr/>
                </p:nvSpPr>
                <p:spPr>
                  <a:xfrm>
                    <a:off x="7869600" y="4146480"/>
                    <a:ext cx="1479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0" name=""/>
                <p:cNvGrpSpPr/>
                <p:nvPr/>
              </p:nvGrpSpPr>
              <p:grpSpPr>
                <a:xfrm>
                  <a:off x="7880400" y="4066200"/>
                  <a:ext cx="126720" cy="78840"/>
                  <a:chOff x="7880400" y="4066200"/>
                  <a:chExt cx="126720" cy="78840"/>
                </a:xfrm>
              </p:grpSpPr>
              <p:sp>
                <p:nvSpPr>
                  <p:cNvPr id="4631" name=""/>
                  <p:cNvSpPr/>
                  <p:nvPr/>
                </p:nvSpPr>
                <p:spPr>
                  <a:xfrm>
                    <a:off x="7885440" y="4092120"/>
                    <a:ext cx="116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2" name=""/>
                  <p:cNvSpPr/>
                  <p:nvPr/>
                </p:nvSpPr>
                <p:spPr>
                  <a:xfrm>
                    <a:off x="7880400" y="4118400"/>
                    <a:ext cx="126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3" name=""/>
                  <p:cNvSpPr/>
                  <p:nvPr/>
                </p:nvSpPr>
                <p:spPr>
                  <a:xfrm>
                    <a:off x="7890840" y="4066200"/>
                    <a:ext cx="1058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34" name=""/>
              <p:cNvSpPr/>
              <p:nvPr/>
            </p:nvSpPr>
            <p:spPr>
              <a:xfrm>
                <a:off x="7688160" y="3970080"/>
                <a:ext cx="506880" cy="946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5" name=""/>
              <p:cNvGrpSpPr/>
              <p:nvPr/>
            </p:nvGrpSpPr>
            <p:grpSpPr>
              <a:xfrm>
                <a:off x="7758000" y="4005720"/>
                <a:ext cx="366480" cy="56880"/>
                <a:chOff x="7758000" y="4005720"/>
                <a:chExt cx="366480" cy="56880"/>
              </a:xfrm>
            </p:grpSpPr>
            <p:sp>
              <p:nvSpPr>
                <p:cNvPr id="4636" name=""/>
                <p:cNvSpPr/>
                <p:nvPr/>
              </p:nvSpPr>
              <p:spPr>
                <a:xfrm>
                  <a:off x="7758000" y="400572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>
                  <a:off x="7838280" y="400572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>
                  <a:off x="8073720" y="400572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9" name=""/>
                <p:cNvSpPr/>
                <p:nvPr/>
              </p:nvSpPr>
              <p:spPr>
                <a:xfrm>
                  <a:off x="7993800" y="400572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0" name=""/>
                <p:cNvSpPr/>
                <p:nvPr/>
              </p:nvSpPr>
              <p:spPr>
                <a:xfrm>
                  <a:off x="7914960" y="4005720"/>
                  <a:ext cx="5004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1" name=""/>
              <p:cNvSpPr/>
              <p:nvPr/>
            </p:nvSpPr>
            <p:spPr>
              <a:xfrm>
                <a:off x="7674120" y="3961080"/>
                <a:ext cx="53604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7684200" y="3897000"/>
                <a:ext cx="514800" cy="64080"/>
              </a:xfrm>
              <a:custGeom>
                <a:avLst/>
                <a:gdLst>
                  <a:gd name="textAreaLeft" fmla="*/ 53640 w 514800"/>
                  <a:gd name="textAreaRight" fmla="*/ 461160 w 51480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7700040" y="3881160"/>
                <a:ext cx="48024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4" name=""/>
          <p:cNvGrpSpPr/>
          <p:nvPr/>
        </p:nvGrpSpPr>
        <p:grpSpPr>
          <a:xfrm>
            <a:off x="4575240" y="4781520"/>
            <a:ext cx="1422360" cy="851760"/>
            <a:chOff x="4575240" y="4781520"/>
            <a:chExt cx="1422360" cy="851760"/>
          </a:xfrm>
        </p:grpSpPr>
        <p:sp>
          <p:nvSpPr>
            <p:cNvPr id="4645" name=""/>
            <p:cNvSpPr/>
            <p:nvPr/>
          </p:nvSpPr>
          <p:spPr>
            <a:xfrm>
              <a:off x="4766760" y="4781520"/>
              <a:ext cx="1080000" cy="39960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6" name=""/>
            <p:cNvGrpSpPr/>
            <p:nvPr/>
          </p:nvGrpSpPr>
          <p:grpSpPr>
            <a:xfrm>
              <a:off x="4575240" y="5127840"/>
              <a:ext cx="1422360" cy="505440"/>
              <a:chOff x="4575240" y="5127840"/>
              <a:chExt cx="1422360" cy="505440"/>
            </a:xfrm>
          </p:grpSpPr>
          <p:grpSp>
            <p:nvGrpSpPr>
              <p:cNvPr id="4647" name=""/>
              <p:cNvGrpSpPr/>
              <p:nvPr/>
            </p:nvGrpSpPr>
            <p:grpSpPr>
              <a:xfrm>
                <a:off x="4575240" y="5312520"/>
                <a:ext cx="1422360" cy="320760"/>
                <a:chOff x="4575240" y="5312520"/>
                <a:chExt cx="1422360" cy="320760"/>
              </a:xfrm>
            </p:grpSpPr>
            <p:grpSp>
              <p:nvGrpSpPr>
                <p:cNvPr id="4648" name=""/>
                <p:cNvGrpSpPr/>
                <p:nvPr/>
              </p:nvGrpSpPr>
              <p:grpSpPr>
                <a:xfrm>
                  <a:off x="4575240" y="5553720"/>
                  <a:ext cx="1422360" cy="79560"/>
                  <a:chOff x="4575240" y="5553720"/>
                  <a:chExt cx="1422360" cy="79560"/>
                </a:xfrm>
              </p:grpSpPr>
              <p:sp>
                <p:nvSpPr>
                  <p:cNvPr id="4649" name=""/>
                  <p:cNvSpPr/>
                  <p:nvPr/>
                </p:nvSpPr>
                <p:spPr>
                  <a:xfrm>
                    <a:off x="4812480" y="55537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0" name=""/>
                  <p:cNvSpPr/>
                  <p:nvPr/>
                </p:nvSpPr>
                <p:spPr>
                  <a:xfrm>
                    <a:off x="5286960" y="55537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1" name=""/>
                  <p:cNvSpPr/>
                  <p:nvPr/>
                </p:nvSpPr>
                <p:spPr>
                  <a:xfrm>
                    <a:off x="5524560" y="55537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2" name=""/>
                  <p:cNvSpPr/>
                  <p:nvPr/>
                </p:nvSpPr>
                <p:spPr>
                  <a:xfrm>
                    <a:off x="5761800" y="55537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3" name=""/>
                  <p:cNvSpPr/>
                  <p:nvPr/>
                </p:nvSpPr>
                <p:spPr>
                  <a:xfrm>
                    <a:off x="5049720" y="55537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>
                    <a:off x="4575240" y="55537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5" name=""/>
                <p:cNvGrpSpPr/>
                <p:nvPr/>
              </p:nvGrpSpPr>
              <p:grpSpPr>
                <a:xfrm>
                  <a:off x="4694400" y="5473080"/>
                  <a:ext cx="1185120" cy="79560"/>
                  <a:chOff x="4694400" y="5473080"/>
                  <a:chExt cx="1185120" cy="79560"/>
                </a:xfrm>
              </p:grpSpPr>
              <p:sp>
                <p:nvSpPr>
                  <p:cNvPr id="4656" name=""/>
                  <p:cNvSpPr/>
                  <p:nvPr/>
                </p:nvSpPr>
                <p:spPr>
                  <a:xfrm>
                    <a:off x="4694400" y="54730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7" name=""/>
                  <p:cNvSpPr/>
                  <p:nvPr/>
                </p:nvSpPr>
                <p:spPr>
                  <a:xfrm>
                    <a:off x="5168880" y="54730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8" name=""/>
                  <p:cNvSpPr/>
                  <p:nvPr/>
                </p:nvSpPr>
                <p:spPr>
                  <a:xfrm>
                    <a:off x="5406120" y="54730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9" name=""/>
                  <p:cNvSpPr/>
                  <p:nvPr/>
                </p:nvSpPr>
                <p:spPr>
                  <a:xfrm>
                    <a:off x="5643720" y="54730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0" name=""/>
                  <p:cNvSpPr/>
                  <p:nvPr/>
                </p:nvSpPr>
                <p:spPr>
                  <a:xfrm>
                    <a:off x="4931640" y="54730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1" name=""/>
                <p:cNvGrpSpPr/>
                <p:nvPr/>
              </p:nvGrpSpPr>
              <p:grpSpPr>
                <a:xfrm>
                  <a:off x="4812840" y="5312520"/>
                  <a:ext cx="947880" cy="159840"/>
                  <a:chOff x="4812840" y="5312520"/>
                  <a:chExt cx="947880" cy="159840"/>
                </a:xfrm>
              </p:grpSpPr>
              <p:sp>
                <p:nvSpPr>
                  <p:cNvPr id="4662" name=""/>
                  <p:cNvSpPr/>
                  <p:nvPr/>
                </p:nvSpPr>
                <p:spPr>
                  <a:xfrm>
                    <a:off x="5050080" y="539280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3" name=""/>
                  <p:cNvSpPr/>
                  <p:nvPr/>
                </p:nvSpPr>
                <p:spPr>
                  <a:xfrm>
                    <a:off x="5524920" y="539280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4" name=""/>
                  <p:cNvSpPr/>
                  <p:nvPr/>
                </p:nvSpPr>
                <p:spPr>
                  <a:xfrm>
                    <a:off x="5287320" y="539280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5" name=""/>
                  <p:cNvSpPr/>
                  <p:nvPr/>
                </p:nvSpPr>
                <p:spPr>
                  <a:xfrm>
                    <a:off x="4812840" y="539280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6" name=""/>
                  <p:cNvSpPr/>
                  <p:nvPr/>
                </p:nvSpPr>
                <p:spPr>
                  <a:xfrm>
                    <a:off x="4932000" y="53125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7" name=""/>
                  <p:cNvSpPr/>
                  <p:nvPr/>
                </p:nvSpPr>
                <p:spPr>
                  <a:xfrm>
                    <a:off x="5406480" y="53125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8" name=""/>
                  <p:cNvSpPr/>
                  <p:nvPr/>
                </p:nvSpPr>
                <p:spPr>
                  <a:xfrm>
                    <a:off x="5169240" y="53125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69" name=""/>
              <p:cNvGrpSpPr/>
              <p:nvPr/>
            </p:nvGrpSpPr>
            <p:grpSpPr>
              <a:xfrm>
                <a:off x="5112000" y="5312520"/>
                <a:ext cx="354240" cy="320040"/>
                <a:chOff x="5112000" y="5312520"/>
                <a:chExt cx="354240" cy="320040"/>
              </a:xfrm>
            </p:grpSpPr>
            <p:grpSp>
              <p:nvGrpSpPr>
                <p:cNvPr id="4670" name=""/>
                <p:cNvGrpSpPr/>
                <p:nvPr/>
              </p:nvGrpSpPr>
              <p:grpSpPr>
                <a:xfrm>
                  <a:off x="5112000" y="5553720"/>
                  <a:ext cx="354240" cy="78840"/>
                  <a:chOff x="5112000" y="5553720"/>
                  <a:chExt cx="354240" cy="78840"/>
                </a:xfrm>
              </p:grpSpPr>
              <p:sp>
                <p:nvSpPr>
                  <p:cNvPr id="4671" name=""/>
                  <p:cNvSpPr/>
                  <p:nvPr/>
                </p:nvSpPr>
                <p:spPr>
                  <a:xfrm>
                    <a:off x="5126400" y="5579640"/>
                    <a:ext cx="3250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2" name=""/>
                  <p:cNvSpPr/>
                  <p:nvPr/>
                </p:nvSpPr>
                <p:spPr>
                  <a:xfrm>
                    <a:off x="5112000" y="5605920"/>
                    <a:ext cx="3542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3" name=""/>
                  <p:cNvSpPr/>
                  <p:nvPr/>
                </p:nvSpPr>
                <p:spPr>
                  <a:xfrm>
                    <a:off x="5141160" y="5553720"/>
                    <a:ext cx="2952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4" name=""/>
                <p:cNvGrpSpPr/>
                <p:nvPr/>
              </p:nvGrpSpPr>
              <p:grpSpPr>
                <a:xfrm>
                  <a:off x="5156280" y="5473440"/>
                  <a:ext cx="265680" cy="78840"/>
                  <a:chOff x="5156280" y="5473440"/>
                  <a:chExt cx="265680" cy="78840"/>
                </a:xfrm>
              </p:grpSpPr>
              <p:sp>
                <p:nvSpPr>
                  <p:cNvPr id="4675" name=""/>
                  <p:cNvSpPr/>
                  <p:nvPr/>
                </p:nvSpPr>
                <p:spPr>
                  <a:xfrm>
                    <a:off x="5167080" y="5499360"/>
                    <a:ext cx="243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6" name=""/>
                  <p:cNvSpPr/>
                  <p:nvPr/>
                </p:nvSpPr>
                <p:spPr>
                  <a:xfrm>
                    <a:off x="5156280" y="5525640"/>
                    <a:ext cx="2656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7" name=""/>
                  <p:cNvSpPr/>
                  <p:nvPr/>
                </p:nvSpPr>
                <p:spPr>
                  <a:xfrm>
                    <a:off x="5178240" y="5473440"/>
                    <a:ext cx="2214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8" name=""/>
                <p:cNvGrpSpPr/>
                <p:nvPr/>
              </p:nvGrpSpPr>
              <p:grpSpPr>
                <a:xfrm>
                  <a:off x="5185800" y="5392800"/>
                  <a:ext cx="206640" cy="78480"/>
                  <a:chOff x="5185800" y="5392800"/>
                  <a:chExt cx="206640" cy="78480"/>
                </a:xfrm>
              </p:grpSpPr>
              <p:sp>
                <p:nvSpPr>
                  <p:cNvPr id="4679" name=""/>
                  <p:cNvSpPr/>
                  <p:nvPr/>
                </p:nvSpPr>
                <p:spPr>
                  <a:xfrm>
                    <a:off x="5194080" y="5418360"/>
                    <a:ext cx="189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0" name=""/>
                  <p:cNvSpPr/>
                  <p:nvPr/>
                </p:nvSpPr>
                <p:spPr>
                  <a:xfrm>
                    <a:off x="5185800" y="5444640"/>
                    <a:ext cx="2066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1" name=""/>
                  <p:cNvSpPr/>
                  <p:nvPr/>
                </p:nvSpPr>
                <p:spPr>
                  <a:xfrm>
                    <a:off x="5202720" y="5392800"/>
                    <a:ext cx="1724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2" name=""/>
                <p:cNvGrpSpPr/>
                <p:nvPr/>
              </p:nvGrpSpPr>
              <p:grpSpPr>
                <a:xfrm>
                  <a:off x="5215320" y="5312520"/>
                  <a:ext cx="147600" cy="78840"/>
                  <a:chOff x="5215320" y="5312520"/>
                  <a:chExt cx="147600" cy="78840"/>
                </a:xfrm>
              </p:grpSpPr>
              <p:sp>
                <p:nvSpPr>
                  <p:cNvPr id="4683" name=""/>
                  <p:cNvSpPr/>
                  <p:nvPr/>
                </p:nvSpPr>
                <p:spPr>
                  <a:xfrm>
                    <a:off x="5221440" y="5338440"/>
                    <a:ext cx="135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4" name=""/>
                  <p:cNvSpPr/>
                  <p:nvPr/>
                </p:nvSpPr>
                <p:spPr>
                  <a:xfrm>
                    <a:off x="5215320" y="5364720"/>
                    <a:ext cx="147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5" name=""/>
                  <p:cNvSpPr/>
                  <p:nvPr/>
                </p:nvSpPr>
                <p:spPr>
                  <a:xfrm>
                    <a:off x="5227560" y="5312520"/>
                    <a:ext cx="1231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6" name=""/>
              <p:cNvSpPr/>
              <p:nvPr/>
            </p:nvSpPr>
            <p:spPr>
              <a:xfrm>
                <a:off x="4992120" y="5216400"/>
                <a:ext cx="589320" cy="9432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7" name=""/>
              <p:cNvGrpSpPr/>
              <p:nvPr/>
            </p:nvGrpSpPr>
            <p:grpSpPr>
              <a:xfrm>
                <a:off x="5073120" y="5252400"/>
                <a:ext cx="426960" cy="56880"/>
                <a:chOff x="5073120" y="5252400"/>
                <a:chExt cx="426960" cy="56880"/>
              </a:xfrm>
            </p:grpSpPr>
            <p:sp>
              <p:nvSpPr>
                <p:cNvPr id="4688" name=""/>
                <p:cNvSpPr/>
                <p:nvPr/>
              </p:nvSpPr>
              <p:spPr>
                <a:xfrm>
                  <a:off x="5073120" y="525240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9" name=""/>
                <p:cNvSpPr/>
                <p:nvPr/>
              </p:nvSpPr>
              <p:spPr>
                <a:xfrm>
                  <a:off x="5166000" y="5252400"/>
                  <a:ext cx="5940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0" name=""/>
                <p:cNvSpPr/>
                <p:nvPr/>
              </p:nvSpPr>
              <p:spPr>
                <a:xfrm>
                  <a:off x="5441400" y="525240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1" name=""/>
                <p:cNvSpPr/>
                <p:nvPr/>
              </p:nvSpPr>
              <p:spPr>
                <a:xfrm>
                  <a:off x="5347800" y="525240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2" name=""/>
                <p:cNvSpPr/>
                <p:nvPr/>
              </p:nvSpPr>
              <p:spPr>
                <a:xfrm>
                  <a:off x="5255640" y="525240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3" name=""/>
              <p:cNvSpPr/>
              <p:nvPr/>
            </p:nvSpPr>
            <p:spPr>
              <a:xfrm>
                <a:off x="4974480" y="5207760"/>
                <a:ext cx="62424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V="1">
                <a:off x="4987440" y="5143680"/>
                <a:ext cx="599400" cy="64080"/>
              </a:xfrm>
              <a:custGeom>
                <a:avLst/>
                <a:gdLst>
                  <a:gd name="textAreaLeft" fmla="*/ 62280 w 599400"/>
                  <a:gd name="textAreaRight" fmla="*/ 537120 w 59940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5005440" y="5127840"/>
                <a:ext cx="55980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96" name=""/>
          <p:cNvGrpSpPr/>
          <p:nvPr/>
        </p:nvGrpSpPr>
        <p:grpSpPr>
          <a:xfrm>
            <a:off x="5602680" y="5438880"/>
            <a:ext cx="2023560" cy="852120"/>
            <a:chOff x="5602680" y="5438880"/>
            <a:chExt cx="2023560" cy="852120"/>
          </a:xfrm>
        </p:grpSpPr>
        <p:sp>
          <p:nvSpPr>
            <p:cNvPr id="4697" name=""/>
            <p:cNvSpPr/>
            <p:nvPr/>
          </p:nvSpPr>
          <p:spPr>
            <a:xfrm>
              <a:off x="5602680" y="5438880"/>
              <a:ext cx="2023560" cy="3992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Frequency /data 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8" name=""/>
            <p:cNvGrpSpPr/>
            <p:nvPr/>
          </p:nvGrpSpPr>
          <p:grpSpPr>
            <a:xfrm>
              <a:off x="5951520" y="5785560"/>
              <a:ext cx="1275120" cy="505440"/>
              <a:chOff x="5951520" y="5785560"/>
              <a:chExt cx="1275120" cy="505440"/>
            </a:xfrm>
          </p:grpSpPr>
          <p:grpSp>
            <p:nvGrpSpPr>
              <p:cNvPr id="4699" name=""/>
              <p:cNvGrpSpPr/>
              <p:nvPr/>
            </p:nvGrpSpPr>
            <p:grpSpPr>
              <a:xfrm>
                <a:off x="5951520" y="5970240"/>
                <a:ext cx="1275120" cy="320760"/>
                <a:chOff x="5951520" y="5970240"/>
                <a:chExt cx="1275120" cy="320760"/>
              </a:xfrm>
            </p:grpSpPr>
            <p:grpSp>
              <p:nvGrpSpPr>
                <p:cNvPr id="4700" name=""/>
                <p:cNvGrpSpPr/>
                <p:nvPr/>
              </p:nvGrpSpPr>
              <p:grpSpPr>
                <a:xfrm>
                  <a:off x="5951520" y="6211440"/>
                  <a:ext cx="1275120" cy="79560"/>
                  <a:chOff x="5951520" y="6211440"/>
                  <a:chExt cx="1275120" cy="79560"/>
                </a:xfrm>
              </p:grpSpPr>
              <p:sp>
                <p:nvSpPr>
                  <p:cNvPr id="4701" name=""/>
                  <p:cNvSpPr/>
                  <p:nvPr/>
                </p:nvSpPr>
                <p:spPr>
                  <a:xfrm>
                    <a:off x="6164280" y="621144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2" name=""/>
                  <p:cNvSpPr/>
                  <p:nvPr/>
                </p:nvSpPr>
                <p:spPr>
                  <a:xfrm>
                    <a:off x="6589800" y="621144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3" name=""/>
                  <p:cNvSpPr/>
                  <p:nvPr/>
                </p:nvSpPr>
                <p:spPr>
                  <a:xfrm>
                    <a:off x="6802560" y="621144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4" name=""/>
                  <p:cNvSpPr/>
                  <p:nvPr/>
                </p:nvSpPr>
                <p:spPr>
                  <a:xfrm>
                    <a:off x="7015320" y="621144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5" name=""/>
                  <p:cNvSpPr/>
                  <p:nvPr/>
                </p:nvSpPr>
                <p:spPr>
                  <a:xfrm>
                    <a:off x="6377040" y="621144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6" name=""/>
                  <p:cNvSpPr/>
                  <p:nvPr/>
                </p:nvSpPr>
                <p:spPr>
                  <a:xfrm>
                    <a:off x="5951520" y="621144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7" name=""/>
                <p:cNvGrpSpPr/>
                <p:nvPr/>
              </p:nvGrpSpPr>
              <p:grpSpPr>
                <a:xfrm>
                  <a:off x="6058080" y="6130800"/>
                  <a:ext cx="1062720" cy="79560"/>
                  <a:chOff x="6058080" y="6130800"/>
                  <a:chExt cx="1062720" cy="79560"/>
                </a:xfrm>
              </p:grpSpPr>
              <p:sp>
                <p:nvSpPr>
                  <p:cNvPr id="4708" name=""/>
                  <p:cNvSpPr/>
                  <p:nvPr/>
                </p:nvSpPr>
                <p:spPr>
                  <a:xfrm>
                    <a:off x="6058080" y="613080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9" name=""/>
                  <p:cNvSpPr/>
                  <p:nvPr/>
                </p:nvSpPr>
                <p:spPr>
                  <a:xfrm>
                    <a:off x="6483600" y="613080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0" name=""/>
                  <p:cNvSpPr/>
                  <p:nvPr/>
                </p:nvSpPr>
                <p:spPr>
                  <a:xfrm>
                    <a:off x="6696360" y="613080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1" name=""/>
                  <p:cNvSpPr/>
                  <p:nvPr/>
                </p:nvSpPr>
                <p:spPr>
                  <a:xfrm>
                    <a:off x="6909120" y="613080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2" name=""/>
                  <p:cNvSpPr/>
                  <p:nvPr/>
                </p:nvSpPr>
                <p:spPr>
                  <a:xfrm>
                    <a:off x="6270840" y="613080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3" name=""/>
                <p:cNvGrpSpPr/>
                <p:nvPr/>
              </p:nvGrpSpPr>
              <p:grpSpPr>
                <a:xfrm>
                  <a:off x="6164640" y="5970240"/>
                  <a:ext cx="849960" cy="159840"/>
                  <a:chOff x="6164640" y="5970240"/>
                  <a:chExt cx="849960" cy="159840"/>
                </a:xfrm>
              </p:grpSpPr>
              <p:sp>
                <p:nvSpPr>
                  <p:cNvPr id="4714" name=""/>
                  <p:cNvSpPr/>
                  <p:nvPr/>
                </p:nvSpPr>
                <p:spPr>
                  <a:xfrm>
                    <a:off x="6377400" y="605052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5" name=""/>
                  <p:cNvSpPr/>
                  <p:nvPr/>
                </p:nvSpPr>
                <p:spPr>
                  <a:xfrm>
                    <a:off x="6802920" y="605052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6" name=""/>
                  <p:cNvSpPr/>
                  <p:nvPr/>
                </p:nvSpPr>
                <p:spPr>
                  <a:xfrm>
                    <a:off x="6590160" y="605052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7" name=""/>
                  <p:cNvSpPr/>
                  <p:nvPr/>
                </p:nvSpPr>
                <p:spPr>
                  <a:xfrm>
                    <a:off x="6164640" y="605052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8" name=""/>
                  <p:cNvSpPr/>
                  <p:nvPr/>
                </p:nvSpPr>
                <p:spPr>
                  <a:xfrm>
                    <a:off x="6271200" y="597024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9" name=""/>
                  <p:cNvSpPr/>
                  <p:nvPr/>
                </p:nvSpPr>
                <p:spPr>
                  <a:xfrm>
                    <a:off x="6697080" y="597024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0" name=""/>
                  <p:cNvSpPr/>
                  <p:nvPr/>
                </p:nvSpPr>
                <p:spPr>
                  <a:xfrm>
                    <a:off x="6484320" y="597024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1" name=""/>
              <p:cNvGrpSpPr/>
              <p:nvPr/>
            </p:nvGrpSpPr>
            <p:grpSpPr>
              <a:xfrm>
                <a:off x="6432840" y="5970240"/>
                <a:ext cx="317520" cy="319680"/>
                <a:chOff x="6432840" y="5970240"/>
                <a:chExt cx="317520" cy="319680"/>
              </a:xfrm>
            </p:grpSpPr>
            <p:grpSp>
              <p:nvGrpSpPr>
                <p:cNvPr id="4722" name=""/>
                <p:cNvGrpSpPr/>
                <p:nvPr/>
              </p:nvGrpSpPr>
              <p:grpSpPr>
                <a:xfrm>
                  <a:off x="6432840" y="6211440"/>
                  <a:ext cx="317520" cy="78480"/>
                  <a:chOff x="6432840" y="6211440"/>
                  <a:chExt cx="317520" cy="78480"/>
                </a:xfrm>
              </p:grpSpPr>
              <p:sp>
                <p:nvSpPr>
                  <p:cNvPr id="4723" name=""/>
                  <p:cNvSpPr/>
                  <p:nvPr/>
                </p:nvSpPr>
                <p:spPr>
                  <a:xfrm>
                    <a:off x="6445800" y="6237000"/>
                    <a:ext cx="2912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4" name=""/>
                  <p:cNvSpPr/>
                  <p:nvPr/>
                </p:nvSpPr>
                <p:spPr>
                  <a:xfrm>
                    <a:off x="6432840" y="6263280"/>
                    <a:ext cx="317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5" name=""/>
                  <p:cNvSpPr/>
                  <p:nvPr/>
                </p:nvSpPr>
                <p:spPr>
                  <a:xfrm>
                    <a:off x="6459120" y="6211440"/>
                    <a:ext cx="264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6" name=""/>
                <p:cNvGrpSpPr/>
                <p:nvPr/>
              </p:nvGrpSpPr>
              <p:grpSpPr>
                <a:xfrm>
                  <a:off x="6472440" y="6130800"/>
                  <a:ext cx="238320" cy="78480"/>
                  <a:chOff x="6472440" y="6130800"/>
                  <a:chExt cx="238320" cy="78480"/>
                </a:xfrm>
              </p:grpSpPr>
              <p:sp>
                <p:nvSpPr>
                  <p:cNvPr id="4727" name=""/>
                  <p:cNvSpPr/>
                  <p:nvPr/>
                </p:nvSpPr>
                <p:spPr>
                  <a:xfrm>
                    <a:off x="6482160" y="6156360"/>
                    <a:ext cx="218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8" name=""/>
                  <p:cNvSpPr/>
                  <p:nvPr/>
                </p:nvSpPr>
                <p:spPr>
                  <a:xfrm>
                    <a:off x="6472440" y="6182640"/>
                    <a:ext cx="2383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"/>
                  <p:cNvSpPr/>
                  <p:nvPr/>
                </p:nvSpPr>
                <p:spPr>
                  <a:xfrm>
                    <a:off x="6492240" y="6130800"/>
                    <a:ext cx="198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0" name=""/>
                <p:cNvGrpSpPr/>
                <p:nvPr/>
              </p:nvGrpSpPr>
              <p:grpSpPr>
                <a:xfrm>
                  <a:off x="6499080" y="6050520"/>
                  <a:ext cx="185400" cy="78480"/>
                  <a:chOff x="6499080" y="6050520"/>
                  <a:chExt cx="185400" cy="78480"/>
                </a:xfrm>
              </p:grpSpPr>
              <p:sp>
                <p:nvSpPr>
                  <p:cNvPr id="4731" name=""/>
                  <p:cNvSpPr/>
                  <p:nvPr/>
                </p:nvSpPr>
                <p:spPr>
                  <a:xfrm>
                    <a:off x="6506640" y="6076080"/>
                    <a:ext cx="170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2" name=""/>
                  <p:cNvSpPr/>
                  <p:nvPr/>
                </p:nvSpPr>
                <p:spPr>
                  <a:xfrm>
                    <a:off x="6499080" y="6102360"/>
                    <a:ext cx="1854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3" name=""/>
                  <p:cNvSpPr/>
                  <p:nvPr/>
                </p:nvSpPr>
                <p:spPr>
                  <a:xfrm>
                    <a:off x="6514200" y="6050520"/>
                    <a:ext cx="1548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4" name=""/>
                <p:cNvGrpSpPr/>
                <p:nvPr/>
              </p:nvGrpSpPr>
              <p:grpSpPr>
                <a:xfrm>
                  <a:off x="6525720" y="5970240"/>
                  <a:ext cx="132480" cy="78480"/>
                  <a:chOff x="6525720" y="5970240"/>
                  <a:chExt cx="132480" cy="78480"/>
                </a:xfrm>
              </p:grpSpPr>
              <p:sp>
                <p:nvSpPr>
                  <p:cNvPr id="4735" name=""/>
                  <p:cNvSpPr/>
                  <p:nvPr/>
                </p:nvSpPr>
                <p:spPr>
                  <a:xfrm>
                    <a:off x="6531120" y="5995800"/>
                    <a:ext cx="1216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6" name=""/>
                  <p:cNvSpPr/>
                  <p:nvPr/>
                </p:nvSpPr>
                <p:spPr>
                  <a:xfrm>
                    <a:off x="6525720" y="6022080"/>
                    <a:ext cx="132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7" name=""/>
                  <p:cNvSpPr/>
                  <p:nvPr/>
                </p:nvSpPr>
                <p:spPr>
                  <a:xfrm>
                    <a:off x="6536520" y="5970240"/>
                    <a:ext cx="110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38" name=""/>
              <p:cNvSpPr/>
              <p:nvPr/>
            </p:nvSpPr>
            <p:spPr>
              <a:xfrm>
                <a:off x="6325560" y="5874120"/>
                <a:ext cx="528840" cy="9432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9" name=""/>
              <p:cNvGrpSpPr/>
              <p:nvPr/>
            </p:nvGrpSpPr>
            <p:grpSpPr>
              <a:xfrm>
                <a:off x="6398640" y="5910120"/>
                <a:ext cx="382320" cy="56880"/>
                <a:chOff x="6398640" y="5910120"/>
                <a:chExt cx="382320" cy="56880"/>
              </a:xfrm>
            </p:grpSpPr>
            <p:sp>
              <p:nvSpPr>
                <p:cNvPr id="4740" name=""/>
                <p:cNvSpPr/>
                <p:nvPr/>
              </p:nvSpPr>
              <p:spPr>
                <a:xfrm>
                  <a:off x="6398640" y="591012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1" name=""/>
                <p:cNvSpPr/>
                <p:nvPr/>
              </p:nvSpPr>
              <p:spPr>
                <a:xfrm>
                  <a:off x="6481800" y="591012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2" name=""/>
                <p:cNvSpPr/>
                <p:nvPr/>
              </p:nvSpPr>
              <p:spPr>
                <a:xfrm>
                  <a:off x="6728040" y="591012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3" name=""/>
                <p:cNvSpPr/>
                <p:nvPr/>
              </p:nvSpPr>
              <p:spPr>
                <a:xfrm>
                  <a:off x="6644880" y="591012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4" name=""/>
                <p:cNvSpPr/>
                <p:nvPr/>
              </p:nvSpPr>
              <p:spPr>
                <a:xfrm>
                  <a:off x="6562080" y="5910120"/>
                  <a:ext cx="532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45" name=""/>
              <p:cNvSpPr/>
              <p:nvPr/>
            </p:nvSpPr>
            <p:spPr>
              <a:xfrm>
                <a:off x="6309720" y="5865480"/>
                <a:ext cx="55980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 flipV="1">
                <a:off x="6320880" y="5801400"/>
                <a:ext cx="537480" cy="64080"/>
              </a:xfrm>
              <a:custGeom>
                <a:avLst/>
                <a:gdLst>
                  <a:gd name="textAreaLeft" fmla="*/ 55800 w 537480"/>
                  <a:gd name="textAreaRight" fmla="*/ 481680 w 53748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6337440" y="5785560"/>
                <a:ext cx="50184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8" name=""/>
          <p:cNvGrpSpPr/>
          <p:nvPr/>
        </p:nvGrpSpPr>
        <p:grpSpPr>
          <a:xfrm>
            <a:off x="6353280" y="4740480"/>
            <a:ext cx="2842920" cy="845280"/>
            <a:chOff x="6353280" y="4740480"/>
            <a:chExt cx="2842920" cy="845280"/>
          </a:xfrm>
        </p:grpSpPr>
        <p:sp>
          <p:nvSpPr>
            <p:cNvPr id="4749" name=""/>
            <p:cNvSpPr/>
            <p:nvPr/>
          </p:nvSpPr>
          <p:spPr>
            <a:xfrm>
              <a:off x="6353280" y="4740480"/>
              <a:ext cx="2842920" cy="39960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Driver schedule retrosp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0" name=""/>
            <p:cNvGrpSpPr/>
            <p:nvPr/>
          </p:nvGrpSpPr>
          <p:grpSpPr>
            <a:xfrm>
              <a:off x="7110720" y="5079960"/>
              <a:ext cx="1409400" cy="505800"/>
              <a:chOff x="7110720" y="5079960"/>
              <a:chExt cx="1409400" cy="505800"/>
            </a:xfrm>
          </p:grpSpPr>
          <p:grpSp>
            <p:nvGrpSpPr>
              <p:cNvPr id="4751" name=""/>
              <p:cNvGrpSpPr/>
              <p:nvPr/>
            </p:nvGrpSpPr>
            <p:grpSpPr>
              <a:xfrm>
                <a:off x="7110720" y="5265000"/>
                <a:ext cx="1409400" cy="320760"/>
                <a:chOff x="7110720" y="5265000"/>
                <a:chExt cx="1409400" cy="320760"/>
              </a:xfrm>
            </p:grpSpPr>
            <p:grpSp>
              <p:nvGrpSpPr>
                <p:cNvPr id="4752" name=""/>
                <p:cNvGrpSpPr/>
                <p:nvPr/>
              </p:nvGrpSpPr>
              <p:grpSpPr>
                <a:xfrm>
                  <a:off x="7110720" y="5506200"/>
                  <a:ext cx="1409400" cy="79560"/>
                  <a:chOff x="7110720" y="5506200"/>
                  <a:chExt cx="1409400" cy="79560"/>
                </a:xfrm>
              </p:grpSpPr>
              <p:sp>
                <p:nvSpPr>
                  <p:cNvPr id="4753" name=""/>
                  <p:cNvSpPr/>
                  <p:nvPr/>
                </p:nvSpPr>
                <p:spPr>
                  <a:xfrm>
                    <a:off x="7345800" y="55062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4" name=""/>
                  <p:cNvSpPr/>
                  <p:nvPr/>
                </p:nvSpPr>
                <p:spPr>
                  <a:xfrm>
                    <a:off x="7816320" y="55062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5" name=""/>
                  <p:cNvSpPr/>
                  <p:nvPr/>
                </p:nvSpPr>
                <p:spPr>
                  <a:xfrm>
                    <a:off x="8051400" y="55062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6" name=""/>
                  <p:cNvSpPr/>
                  <p:nvPr/>
                </p:nvSpPr>
                <p:spPr>
                  <a:xfrm>
                    <a:off x="8286480" y="55062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7" name=""/>
                  <p:cNvSpPr/>
                  <p:nvPr/>
                </p:nvSpPr>
                <p:spPr>
                  <a:xfrm>
                    <a:off x="7580880" y="55062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8" name=""/>
                  <p:cNvSpPr/>
                  <p:nvPr/>
                </p:nvSpPr>
                <p:spPr>
                  <a:xfrm>
                    <a:off x="7110720" y="55062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9" name=""/>
                <p:cNvGrpSpPr/>
                <p:nvPr/>
              </p:nvGrpSpPr>
              <p:grpSpPr>
                <a:xfrm>
                  <a:off x="7228800" y="5425560"/>
                  <a:ext cx="1174320" cy="79560"/>
                  <a:chOff x="7228800" y="5425560"/>
                  <a:chExt cx="1174320" cy="79560"/>
                </a:xfrm>
              </p:grpSpPr>
              <p:sp>
                <p:nvSpPr>
                  <p:cNvPr id="4760" name=""/>
                  <p:cNvSpPr/>
                  <p:nvPr/>
                </p:nvSpPr>
                <p:spPr>
                  <a:xfrm>
                    <a:off x="7228800" y="54255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1" name=""/>
                  <p:cNvSpPr/>
                  <p:nvPr/>
                </p:nvSpPr>
                <p:spPr>
                  <a:xfrm>
                    <a:off x="7698960" y="54255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"/>
                  <p:cNvSpPr/>
                  <p:nvPr/>
                </p:nvSpPr>
                <p:spPr>
                  <a:xfrm>
                    <a:off x="7934400" y="54255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3" name=""/>
                  <p:cNvSpPr/>
                  <p:nvPr/>
                </p:nvSpPr>
                <p:spPr>
                  <a:xfrm>
                    <a:off x="8169480" y="54255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4" name=""/>
                  <p:cNvSpPr/>
                  <p:nvPr/>
                </p:nvSpPr>
                <p:spPr>
                  <a:xfrm>
                    <a:off x="7463880" y="54255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5" name=""/>
                <p:cNvGrpSpPr/>
                <p:nvPr/>
              </p:nvGrpSpPr>
              <p:grpSpPr>
                <a:xfrm>
                  <a:off x="7346160" y="5265000"/>
                  <a:ext cx="939240" cy="159840"/>
                  <a:chOff x="7346160" y="5265000"/>
                  <a:chExt cx="939240" cy="159840"/>
                </a:xfrm>
              </p:grpSpPr>
              <p:sp>
                <p:nvSpPr>
                  <p:cNvPr id="4766" name=""/>
                  <p:cNvSpPr/>
                  <p:nvPr/>
                </p:nvSpPr>
                <p:spPr>
                  <a:xfrm>
                    <a:off x="7581240" y="534528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7" name=""/>
                  <p:cNvSpPr/>
                  <p:nvPr/>
                </p:nvSpPr>
                <p:spPr>
                  <a:xfrm>
                    <a:off x="8051760" y="534528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8" name=""/>
                  <p:cNvSpPr/>
                  <p:nvPr/>
                </p:nvSpPr>
                <p:spPr>
                  <a:xfrm>
                    <a:off x="7816320" y="534528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9" name=""/>
                  <p:cNvSpPr/>
                  <p:nvPr/>
                </p:nvSpPr>
                <p:spPr>
                  <a:xfrm>
                    <a:off x="7346160" y="534528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0" name=""/>
                  <p:cNvSpPr/>
                  <p:nvPr/>
                </p:nvSpPr>
                <p:spPr>
                  <a:xfrm>
                    <a:off x="7464240" y="52650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1" name=""/>
                  <p:cNvSpPr/>
                  <p:nvPr/>
                </p:nvSpPr>
                <p:spPr>
                  <a:xfrm>
                    <a:off x="7934400" y="52650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2" name=""/>
                  <p:cNvSpPr/>
                  <p:nvPr/>
                </p:nvSpPr>
                <p:spPr>
                  <a:xfrm>
                    <a:off x="7699320" y="526500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73" name=""/>
              <p:cNvGrpSpPr/>
              <p:nvPr/>
            </p:nvGrpSpPr>
            <p:grpSpPr>
              <a:xfrm>
                <a:off x="7642800" y="5265000"/>
                <a:ext cx="351000" cy="320040"/>
                <a:chOff x="7642800" y="5265000"/>
                <a:chExt cx="351000" cy="320040"/>
              </a:xfrm>
            </p:grpSpPr>
            <p:grpSp>
              <p:nvGrpSpPr>
                <p:cNvPr id="4774" name=""/>
                <p:cNvGrpSpPr/>
                <p:nvPr/>
              </p:nvGrpSpPr>
              <p:grpSpPr>
                <a:xfrm>
                  <a:off x="7642800" y="5506200"/>
                  <a:ext cx="351000" cy="78840"/>
                  <a:chOff x="7642800" y="5506200"/>
                  <a:chExt cx="351000" cy="78840"/>
                </a:xfrm>
              </p:grpSpPr>
              <p:sp>
                <p:nvSpPr>
                  <p:cNvPr id="4775" name=""/>
                  <p:cNvSpPr/>
                  <p:nvPr/>
                </p:nvSpPr>
                <p:spPr>
                  <a:xfrm>
                    <a:off x="7657200" y="5532120"/>
                    <a:ext cx="3218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6" name=""/>
                  <p:cNvSpPr/>
                  <p:nvPr/>
                </p:nvSpPr>
                <p:spPr>
                  <a:xfrm>
                    <a:off x="7642800" y="5558400"/>
                    <a:ext cx="3510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7" name=""/>
                  <p:cNvSpPr/>
                  <p:nvPr/>
                </p:nvSpPr>
                <p:spPr>
                  <a:xfrm>
                    <a:off x="7671960" y="5506200"/>
                    <a:ext cx="2926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8" name=""/>
                <p:cNvGrpSpPr/>
                <p:nvPr/>
              </p:nvGrpSpPr>
              <p:grpSpPr>
                <a:xfrm>
                  <a:off x="7686360" y="5425920"/>
                  <a:ext cx="263160" cy="78840"/>
                  <a:chOff x="7686360" y="5425920"/>
                  <a:chExt cx="263160" cy="78840"/>
                </a:xfrm>
              </p:grpSpPr>
              <p:sp>
                <p:nvSpPr>
                  <p:cNvPr id="4779" name=""/>
                  <p:cNvSpPr/>
                  <p:nvPr/>
                </p:nvSpPr>
                <p:spPr>
                  <a:xfrm>
                    <a:off x="7697160" y="5451840"/>
                    <a:ext cx="2415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0" name=""/>
                  <p:cNvSpPr/>
                  <p:nvPr/>
                </p:nvSpPr>
                <p:spPr>
                  <a:xfrm>
                    <a:off x="7686360" y="5478120"/>
                    <a:ext cx="2631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1" name=""/>
                  <p:cNvSpPr/>
                  <p:nvPr/>
                </p:nvSpPr>
                <p:spPr>
                  <a:xfrm>
                    <a:off x="7707960" y="5425920"/>
                    <a:ext cx="219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2" name=""/>
                <p:cNvGrpSpPr/>
                <p:nvPr/>
              </p:nvGrpSpPr>
              <p:grpSpPr>
                <a:xfrm>
                  <a:off x="7715880" y="5345280"/>
                  <a:ext cx="204840" cy="78480"/>
                  <a:chOff x="7715880" y="5345280"/>
                  <a:chExt cx="204840" cy="78480"/>
                </a:xfrm>
              </p:grpSpPr>
              <p:sp>
                <p:nvSpPr>
                  <p:cNvPr id="4783" name=""/>
                  <p:cNvSpPr/>
                  <p:nvPr/>
                </p:nvSpPr>
                <p:spPr>
                  <a:xfrm>
                    <a:off x="7724160" y="5370840"/>
                    <a:ext cx="1879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4" name=""/>
                  <p:cNvSpPr/>
                  <p:nvPr/>
                </p:nvSpPr>
                <p:spPr>
                  <a:xfrm>
                    <a:off x="7715880" y="5397120"/>
                    <a:ext cx="2048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5" name=""/>
                  <p:cNvSpPr/>
                  <p:nvPr/>
                </p:nvSpPr>
                <p:spPr>
                  <a:xfrm>
                    <a:off x="7732800" y="5345280"/>
                    <a:ext cx="1710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6" name=""/>
                <p:cNvGrpSpPr/>
                <p:nvPr/>
              </p:nvGrpSpPr>
              <p:grpSpPr>
                <a:xfrm>
                  <a:off x="7745400" y="5265000"/>
                  <a:ext cx="146160" cy="78840"/>
                  <a:chOff x="7745400" y="5265000"/>
                  <a:chExt cx="146160" cy="78840"/>
                </a:xfrm>
              </p:grpSpPr>
              <p:sp>
                <p:nvSpPr>
                  <p:cNvPr id="4787" name=""/>
                  <p:cNvSpPr/>
                  <p:nvPr/>
                </p:nvSpPr>
                <p:spPr>
                  <a:xfrm>
                    <a:off x="7751160" y="5290920"/>
                    <a:ext cx="134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8" name=""/>
                  <p:cNvSpPr/>
                  <p:nvPr/>
                </p:nvSpPr>
                <p:spPr>
                  <a:xfrm>
                    <a:off x="7745400" y="5317200"/>
                    <a:ext cx="1461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9" name=""/>
                  <p:cNvSpPr/>
                  <p:nvPr/>
                </p:nvSpPr>
                <p:spPr>
                  <a:xfrm>
                    <a:off x="7757280" y="5265000"/>
                    <a:ext cx="1220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0" name=""/>
              <p:cNvSpPr/>
              <p:nvPr/>
            </p:nvSpPr>
            <p:spPr>
              <a:xfrm>
                <a:off x="7523640" y="5168880"/>
                <a:ext cx="584640" cy="9432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1" name=""/>
              <p:cNvGrpSpPr/>
              <p:nvPr/>
            </p:nvGrpSpPr>
            <p:grpSpPr>
              <a:xfrm>
                <a:off x="7604640" y="5204520"/>
                <a:ext cx="423000" cy="56880"/>
                <a:chOff x="7604640" y="5204520"/>
                <a:chExt cx="423000" cy="56880"/>
              </a:xfrm>
            </p:grpSpPr>
            <p:sp>
              <p:nvSpPr>
                <p:cNvPr id="4792" name=""/>
                <p:cNvSpPr/>
                <p:nvPr/>
              </p:nvSpPr>
              <p:spPr>
                <a:xfrm>
                  <a:off x="7604640" y="520452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3" name=""/>
                <p:cNvSpPr/>
                <p:nvPr/>
              </p:nvSpPr>
              <p:spPr>
                <a:xfrm>
                  <a:off x="7696440" y="520452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4" name=""/>
                <p:cNvSpPr/>
                <p:nvPr/>
              </p:nvSpPr>
              <p:spPr>
                <a:xfrm>
                  <a:off x="7968960" y="520452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5" name=""/>
                <p:cNvSpPr/>
                <p:nvPr/>
              </p:nvSpPr>
              <p:spPr>
                <a:xfrm>
                  <a:off x="7876800" y="5204520"/>
                  <a:ext cx="5796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6" name=""/>
                <p:cNvSpPr/>
                <p:nvPr/>
              </p:nvSpPr>
              <p:spPr>
                <a:xfrm>
                  <a:off x="7785360" y="520452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97" name=""/>
              <p:cNvSpPr/>
              <p:nvPr/>
            </p:nvSpPr>
            <p:spPr>
              <a:xfrm>
                <a:off x="7506720" y="5160240"/>
                <a:ext cx="61884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flipV="1">
                <a:off x="7518960" y="5095800"/>
                <a:ext cx="594000" cy="64080"/>
              </a:xfrm>
              <a:custGeom>
                <a:avLst/>
                <a:gdLst>
                  <a:gd name="textAreaLeft" fmla="*/ 61560 w 594000"/>
                  <a:gd name="textAreaRight" fmla="*/ 532440 w 59400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7536960" y="5079960"/>
                <a:ext cx="55512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00" name=""/>
          <p:cNvSpPr/>
          <p:nvPr/>
        </p:nvSpPr>
        <p:spPr>
          <a:xfrm>
            <a:off x="1555200" y="1527480"/>
            <a:ext cx="2293200" cy="76536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1" name=""/>
          <p:cNvGrpSpPr/>
          <p:nvPr/>
        </p:nvGrpSpPr>
        <p:grpSpPr>
          <a:xfrm>
            <a:off x="0" y="2470320"/>
            <a:ext cx="5490720" cy="2277720"/>
            <a:chOff x="0" y="2470320"/>
            <a:chExt cx="5490720" cy="2277720"/>
          </a:xfrm>
        </p:grpSpPr>
        <p:grpSp>
          <p:nvGrpSpPr>
            <p:cNvPr id="4802" name=""/>
            <p:cNvGrpSpPr/>
            <p:nvPr/>
          </p:nvGrpSpPr>
          <p:grpSpPr>
            <a:xfrm>
              <a:off x="0" y="3303360"/>
              <a:ext cx="5490720" cy="1444680"/>
              <a:chOff x="0" y="3303360"/>
              <a:chExt cx="5490720" cy="1444680"/>
            </a:xfrm>
          </p:grpSpPr>
          <p:grpSp>
            <p:nvGrpSpPr>
              <p:cNvPr id="4803" name=""/>
              <p:cNvGrpSpPr/>
              <p:nvPr/>
            </p:nvGrpSpPr>
            <p:grpSpPr>
              <a:xfrm>
                <a:off x="0" y="4389120"/>
                <a:ext cx="5490720" cy="358920"/>
                <a:chOff x="0" y="4389120"/>
                <a:chExt cx="5490720" cy="358920"/>
              </a:xfrm>
            </p:grpSpPr>
            <p:sp>
              <p:nvSpPr>
                <p:cNvPr id="4804" name=""/>
                <p:cNvSpPr/>
                <p:nvPr/>
              </p:nvSpPr>
              <p:spPr>
                <a:xfrm>
                  <a:off x="915840" y="4389120"/>
                  <a:ext cx="91080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5" name=""/>
                <p:cNvSpPr/>
                <p:nvPr/>
              </p:nvSpPr>
              <p:spPr>
                <a:xfrm>
                  <a:off x="2747880" y="4389120"/>
                  <a:ext cx="91080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6" name=""/>
                <p:cNvSpPr/>
                <p:nvPr/>
              </p:nvSpPr>
              <p:spPr>
                <a:xfrm>
                  <a:off x="3664080" y="4389120"/>
                  <a:ext cx="91080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7" name=""/>
                <p:cNvSpPr/>
                <p:nvPr/>
              </p:nvSpPr>
              <p:spPr>
                <a:xfrm>
                  <a:off x="4579920" y="4389120"/>
                  <a:ext cx="91080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8" name=""/>
                <p:cNvSpPr/>
                <p:nvPr/>
              </p:nvSpPr>
              <p:spPr>
                <a:xfrm>
                  <a:off x="1831680" y="4389120"/>
                  <a:ext cx="91080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9" name=""/>
                <p:cNvSpPr/>
                <p:nvPr/>
              </p:nvSpPr>
              <p:spPr>
                <a:xfrm>
                  <a:off x="0" y="4389120"/>
                  <a:ext cx="91080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0" name=""/>
              <p:cNvGrpSpPr/>
              <p:nvPr/>
            </p:nvGrpSpPr>
            <p:grpSpPr>
              <a:xfrm>
                <a:off x="460080" y="4026960"/>
                <a:ext cx="4574520" cy="358920"/>
                <a:chOff x="460080" y="4026960"/>
                <a:chExt cx="4574520" cy="358920"/>
              </a:xfrm>
            </p:grpSpPr>
            <p:sp>
              <p:nvSpPr>
                <p:cNvPr id="4811" name=""/>
                <p:cNvSpPr/>
                <p:nvPr/>
              </p:nvSpPr>
              <p:spPr>
                <a:xfrm>
                  <a:off x="460080" y="4026960"/>
                  <a:ext cx="91080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>
                  <a:off x="2291760" y="4026960"/>
                  <a:ext cx="91080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3" name=""/>
                <p:cNvSpPr/>
                <p:nvPr/>
              </p:nvSpPr>
              <p:spPr>
                <a:xfrm>
                  <a:off x="3207960" y="4026960"/>
                  <a:ext cx="91080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4" name=""/>
                <p:cNvSpPr/>
                <p:nvPr/>
              </p:nvSpPr>
              <p:spPr>
                <a:xfrm>
                  <a:off x="4123800" y="4026960"/>
                  <a:ext cx="91080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5" name=""/>
                <p:cNvSpPr/>
                <p:nvPr/>
              </p:nvSpPr>
              <p:spPr>
                <a:xfrm>
                  <a:off x="1375920" y="4026960"/>
                  <a:ext cx="910800" cy="3589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6" name=""/>
              <p:cNvGrpSpPr/>
              <p:nvPr/>
            </p:nvGrpSpPr>
            <p:grpSpPr>
              <a:xfrm>
                <a:off x="918000" y="3303360"/>
                <a:ext cx="3658320" cy="720360"/>
                <a:chOff x="918000" y="3303360"/>
                <a:chExt cx="3658320" cy="720360"/>
              </a:xfrm>
            </p:grpSpPr>
            <p:sp>
              <p:nvSpPr>
                <p:cNvPr id="4817" name=""/>
                <p:cNvSpPr/>
                <p:nvPr/>
              </p:nvSpPr>
              <p:spPr>
                <a:xfrm>
                  <a:off x="1833840" y="3665160"/>
                  <a:ext cx="91080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>
                  <a:off x="3665520" y="3665160"/>
                  <a:ext cx="91080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9" name=""/>
                <p:cNvSpPr/>
                <p:nvPr/>
              </p:nvSpPr>
              <p:spPr>
                <a:xfrm>
                  <a:off x="2749680" y="3665160"/>
                  <a:ext cx="91044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0" name=""/>
                <p:cNvSpPr/>
                <p:nvPr/>
              </p:nvSpPr>
              <p:spPr>
                <a:xfrm>
                  <a:off x="918000" y="3665160"/>
                  <a:ext cx="91080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>
                  <a:off x="1377720" y="3303360"/>
                  <a:ext cx="91080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2" name=""/>
                <p:cNvSpPr/>
                <p:nvPr/>
              </p:nvSpPr>
              <p:spPr>
                <a:xfrm>
                  <a:off x="3209760" y="3303360"/>
                  <a:ext cx="91080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>
                  <a:off x="2293920" y="3303360"/>
                  <a:ext cx="910440" cy="3585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24" name=""/>
            <p:cNvGrpSpPr/>
            <p:nvPr/>
          </p:nvGrpSpPr>
          <p:grpSpPr>
            <a:xfrm>
              <a:off x="2072880" y="3303360"/>
              <a:ext cx="1365840" cy="1439280"/>
              <a:chOff x="2072880" y="3303360"/>
              <a:chExt cx="1365840" cy="1439280"/>
            </a:xfrm>
          </p:grpSpPr>
          <p:grpSp>
            <p:nvGrpSpPr>
              <p:cNvPr id="4825" name=""/>
              <p:cNvGrpSpPr/>
              <p:nvPr/>
            </p:nvGrpSpPr>
            <p:grpSpPr>
              <a:xfrm>
                <a:off x="2072880" y="4388760"/>
                <a:ext cx="1365840" cy="353880"/>
                <a:chOff x="2072880" y="4388760"/>
                <a:chExt cx="1365840" cy="353880"/>
              </a:xfrm>
            </p:grpSpPr>
            <p:sp>
              <p:nvSpPr>
                <p:cNvPr id="4826" name=""/>
                <p:cNvSpPr/>
                <p:nvPr/>
              </p:nvSpPr>
              <p:spPr>
                <a:xfrm>
                  <a:off x="2129400" y="4504680"/>
                  <a:ext cx="125244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>
                  <a:off x="2072880" y="4623120"/>
                  <a:ext cx="136584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>
                  <a:off x="2186280" y="4388760"/>
                  <a:ext cx="113832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9" name=""/>
              <p:cNvGrpSpPr/>
              <p:nvPr/>
            </p:nvGrpSpPr>
            <p:grpSpPr>
              <a:xfrm>
                <a:off x="2243520" y="4026960"/>
                <a:ext cx="1024560" cy="353880"/>
                <a:chOff x="2243520" y="4026960"/>
                <a:chExt cx="1024560" cy="353880"/>
              </a:xfrm>
            </p:grpSpPr>
            <p:sp>
              <p:nvSpPr>
                <p:cNvPr id="4830" name=""/>
                <p:cNvSpPr/>
                <p:nvPr/>
              </p:nvSpPr>
              <p:spPr>
                <a:xfrm>
                  <a:off x="2286000" y="4142880"/>
                  <a:ext cx="93960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>
                  <a:off x="2243520" y="4261320"/>
                  <a:ext cx="102456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>
                  <a:off x="2328480" y="4026960"/>
                  <a:ext cx="85392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3" name=""/>
              <p:cNvGrpSpPr/>
              <p:nvPr/>
            </p:nvGrpSpPr>
            <p:grpSpPr>
              <a:xfrm>
                <a:off x="2358000" y="3665160"/>
                <a:ext cx="797040" cy="353880"/>
                <a:chOff x="2358000" y="3665160"/>
                <a:chExt cx="797040" cy="353880"/>
              </a:xfrm>
            </p:grpSpPr>
            <p:sp>
              <p:nvSpPr>
                <p:cNvPr id="4834" name=""/>
                <p:cNvSpPr/>
                <p:nvPr/>
              </p:nvSpPr>
              <p:spPr>
                <a:xfrm>
                  <a:off x="2390760" y="3781080"/>
                  <a:ext cx="73080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5" name=""/>
                <p:cNvSpPr/>
                <p:nvPr/>
              </p:nvSpPr>
              <p:spPr>
                <a:xfrm>
                  <a:off x="2358000" y="3899520"/>
                  <a:ext cx="79704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6" name=""/>
                <p:cNvSpPr/>
                <p:nvPr/>
              </p:nvSpPr>
              <p:spPr>
                <a:xfrm>
                  <a:off x="2424240" y="3665160"/>
                  <a:ext cx="66420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7" name=""/>
              <p:cNvGrpSpPr/>
              <p:nvPr/>
            </p:nvGrpSpPr>
            <p:grpSpPr>
              <a:xfrm>
                <a:off x="2472120" y="3303360"/>
                <a:ext cx="569160" cy="353880"/>
                <a:chOff x="2472120" y="3303360"/>
                <a:chExt cx="569160" cy="353880"/>
              </a:xfrm>
            </p:grpSpPr>
            <p:sp>
              <p:nvSpPr>
                <p:cNvPr id="4838" name=""/>
                <p:cNvSpPr/>
                <p:nvPr/>
              </p:nvSpPr>
              <p:spPr>
                <a:xfrm>
                  <a:off x="2495520" y="3419280"/>
                  <a:ext cx="522000" cy="1198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9" name=""/>
                <p:cNvSpPr/>
                <p:nvPr/>
              </p:nvSpPr>
              <p:spPr>
                <a:xfrm>
                  <a:off x="2472120" y="3537720"/>
                  <a:ext cx="56916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>
                  <a:off x="2519280" y="3303360"/>
                  <a:ext cx="474480" cy="11952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1" name=""/>
            <p:cNvSpPr/>
            <p:nvPr/>
          </p:nvSpPr>
          <p:spPr>
            <a:xfrm>
              <a:off x="1608840" y="2869200"/>
              <a:ext cx="2277000" cy="427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2" name=""/>
            <p:cNvGrpSpPr/>
            <p:nvPr/>
          </p:nvGrpSpPr>
          <p:grpSpPr>
            <a:xfrm>
              <a:off x="1923480" y="3031920"/>
              <a:ext cx="1648800" cy="256320"/>
              <a:chOff x="1923480" y="3031920"/>
              <a:chExt cx="1648800" cy="256320"/>
            </a:xfrm>
          </p:grpSpPr>
          <p:sp>
            <p:nvSpPr>
              <p:cNvPr id="4843" name=""/>
              <p:cNvSpPr/>
              <p:nvPr/>
            </p:nvSpPr>
            <p:spPr>
              <a:xfrm>
                <a:off x="1923480" y="3032280"/>
                <a:ext cx="227880" cy="25596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282760" y="3031920"/>
                <a:ext cx="227880" cy="25596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3344400" y="3032280"/>
                <a:ext cx="227880" cy="25596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83680" y="3032280"/>
                <a:ext cx="227880" cy="25596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2628360" y="3032280"/>
                <a:ext cx="227880" cy="25596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8" name=""/>
            <p:cNvSpPr/>
            <p:nvPr/>
          </p:nvSpPr>
          <p:spPr>
            <a:xfrm>
              <a:off x="1542600" y="2832840"/>
              <a:ext cx="2410560" cy="7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 flipV="1">
              <a:off x="1590840" y="2543400"/>
              <a:ext cx="2314080" cy="289440"/>
            </a:xfrm>
            <a:custGeom>
              <a:avLst/>
              <a:gdLst>
                <a:gd name="textAreaLeft" fmla="*/ 240840 w 2314080"/>
                <a:gd name="textAreaRight" fmla="*/ 2073240 w 2314080"/>
                <a:gd name="textAreaTop" fmla="*/ 29880 h 289440"/>
                <a:gd name="textAreaBottom" fmla="*/ 259560 h 28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01" y="21600"/>
                  </a:lnTo>
                  <a:lnTo>
                    <a:pt x="899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1659960" y="2470320"/>
              <a:ext cx="2163600" cy="72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cope of application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4852" name=""/>
          <p:cNvGrpSpPr/>
          <p:nvPr/>
        </p:nvGrpSpPr>
        <p:grpSpPr>
          <a:xfrm>
            <a:off x="7918560" y="154800"/>
            <a:ext cx="1204920" cy="762840"/>
            <a:chOff x="7918560" y="154800"/>
            <a:chExt cx="1204920" cy="762840"/>
          </a:xfrm>
        </p:grpSpPr>
        <p:sp>
          <p:nvSpPr>
            <p:cNvPr id="4853" name=""/>
            <p:cNvSpPr/>
            <p:nvPr/>
          </p:nvSpPr>
          <p:spPr>
            <a:xfrm>
              <a:off x="7918560" y="154800"/>
              <a:ext cx="1204920" cy="43956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4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4855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4856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4857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8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9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0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1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2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3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4864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5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6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7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8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9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4870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1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2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3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4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5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6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77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4878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4879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0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1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2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4883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4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5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6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4887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8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9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0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4891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2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3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4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5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4896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7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9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0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1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04" name="PlaceHolder 2"/>
          <p:cNvSpPr>
            <a:spLocks noGrp="1"/>
          </p:cNvSpPr>
          <p:nvPr>
            <p:ph/>
          </p:nvPr>
        </p:nvSpPr>
        <p:spPr>
          <a:xfrm>
            <a:off x="167760" y="834840"/>
            <a:ext cx="8634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normal pushpull-cmo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5" name=""/>
          <p:cNvGrpSpPr/>
          <p:nvPr/>
        </p:nvGrpSpPr>
        <p:grpSpPr>
          <a:xfrm>
            <a:off x="763920" y="2019240"/>
            <a:ext cx="4120920" cy="770760"/>
            <a:chOff x="763920" y="2019240"/>
            <a:chExt cx="4120920" cy="770760"/>
          </a:xfrm>
        </p:grpSpPr>
        <p:sp>
          <p:nvSpPr>
            <p:cNvPr id="4906" name=""/>
            <p:cNvSpPr/>
            <p:nvPr/>
          </p:nvSpPr>
          <p:spPr>
            <a:xfrm>
              <a:off x="809640" y="227160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3702960" y="2428920"/>
              <a:ext cx="118188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907920" y="2019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763920" y="2414520"/>
              <a:ext cx="30708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2154240" y="2413080"/>
              <a:ext cx="7524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2565360" y="204480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2" name=""/>
          <p:cNvGrpSpPr/>
          <p:nvPr/>
        </p:nvGrpSpPr>
        <p:grpSpPr>
          <a:xfrm>
            <a:off x="1232280" y="4697280"/>
            <a:ext cx="4342320" cy="1031040"/>
            <a:chOff x="1232280" y="4697280"/>
            <a:chExt cx="4342320" cy="1031040"/>
          </a:xfrm>
        </p:grpSpPr>
        <p:sp>
          <p:nvSpPr>
            <p:cNvPr id="4913" name=""/>
            <p:cNvSpPr/>
            <p:nvPr/>
          </p:nvSpPr>
          <p:spPr>
            <a:xfrm>
              <a:off x="1278000" y="5202360"/>
              <a:ext cx="36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493160" y="4740120"/>
              <a:ext cx="10814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ta 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1376280" y="495000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1232280" y="5345280"/>
              <a:ext cx="30708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2835360" y="5343480"/>
              <a:ext cx="4856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3062160" y="5014800"/>
              <a:ext cx="0" cy="39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3733920" y="5029200"/>
              <a:ext cx="0" cy="39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278240" y="5025960"/>
              <a:ext cx="0" cy="39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3492360" y="5354640"/>
              <a:ext cx="4856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4060800" y="5367240"/>
              <a:ext cx="4856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2936880" y="4697280"/>
              <a:ext cx="285840" cy="284400"/>
            </a:xfrm>
            <a:prstGeom prst="flowChartSummingJunction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557520" y="4710240"/>
              <a:ext cx="370080" cy="317520"/>
            </a:xfrm>
            <a:prstGeom prst="flowChartCollat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4083120" y="4713120"/>
              <a:ext cx="401400" cy="336600"/>
            </a:xfrm>
            <a:prstGeom prst="flowChartExtra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6" name=""/>
          <p:cNvGrpSpPr/>
          <p:nvPr/>
        </p:nvGrpSpPr>
        <p:grpSpPr>
          <a:xfrm>
            <a:off x="6302520" y="3929040"/>
            <a:ext cx="2469960" cy="2287440"/>
            <a:chOff x="6302520" y="3929040"/>
            <a:chExt cx="2469960" cy="2287440"/>
          </a:xfrm>
        </p:grpSpPr>
        <p:sp>
          <p:nvSpPr>
            <p:cNvPr id="4927" name=""/>
            <p:cNvSpPr/>
            <p:nvPr/>
          </p:nvSpPr>
          <p:spPr>
            <a:xfrm>
              <a:off x="6332400" y="4740120"/>
              <a:ext cx="492120" cy="422280"/>
            </a:xfrm>
            <a:prstGeom prst="flowChartCollat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6302520" y="5643720"/>
              <a:ext cx="534960" cy="449280"/>
            </a:xfrm>
            <a:prstGeom prst="flowChartExtra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6386400" y="3938760"/>
              <a:ext cx="381240" cy="379080"/>
            </a:xfrm>
            <a:prstGeom prst="flowChartSummingJunction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7031160" y="3929040"/>
              <a:ext cx="17413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ff9900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.25Gb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ff9900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ff9900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2.5Gb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ff9900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ff9900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3.125Gbps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1" name=""/>
          <p:cNvSpPr/>
          <p:nvPr/>
        </p:nvSpPr>
        <p:spPr>
          <a:xfrm>
            <a:off x="923760" y="1414440"/>
            <a:ext cx="1660680" cy="407880"/>
          </a:xfrm>
          <a:prstGeom prst="leftRightArrow">
            <a:avLst>
              <a:gd name="adj1" fmla="val 50000"/>
              <a:gd name="adj2" fmla="val 81053"/>
            </a:avLst>
          </a:prstGeom>
          <a:solidFill>
            <a:srgbClr val="ff99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"/>
          <p:cNvSpPr/>
          <p:nvPr/>
        </p:nvSpPr>
        <p:spPr>
          <a:xfrm>
            <a:off x="209520" y="3073320"/>
            <a:ext cx="86346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Driver schedule modeling pre-emphas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encoded  pattern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4934" name=""/>
          <p:cNvGrpSpPr/>
          <p:nvPr/>
        </p:nvGrpSpPr>
        <p:grpSpPr>
          <a:xfrm>
            <a:off x="7918560" y="154800"/>
            <a:ext cx="1204920" cy="762840"/>
            <a:chOff x="7918560" y="154800"/>
            <a:chExt cx="1204920" cy="762840"/>
          </a:xfrm>
        </p:grpSpPr>
        <p:sp>
          <p:nvSpPr>
            <p:cNvPr id="4935" name=""/>
            <p:cNvSpPr/>
            <p:nvPr/>
          </p:nvSpPr>
          <p:spPr>
            <a:xfrm>
              <a:off x="7918560" y="154800"/>
              <a:ext cx="1204920" cy="43956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6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4937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4938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4939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0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1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2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3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4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5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4946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7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8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9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0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1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4952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3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4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5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6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7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8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59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4960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4961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2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3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4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4965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6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7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8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4969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0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1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2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4973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4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5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76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77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4978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3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6" name="PlaceHolder 2"/>
          <p:cNvSpPr>
            <a:spLocks noGrp="1"/>
          </p:cNvSpPr>
          <p:nvPr>
            <p:ph/>
          </p:nvPr>
        </p:nvSpPr>
        <p:spPr>
          <a:xfrm>
            <a:off x="223920" y="834840"/>
            <a:ext cx="8634240" cy="36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normal cmo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 pattern is encoded in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 Driver schedule modeling pre-emphas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100 pattern is encoded in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255600" y="759960"/>
            <a:ext cx="863424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bis models (exception of driver schedule )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are ‚valid‘ for a frequency ran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which is set by the risefalltime of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iver schedule modeling pre-emphasis are valid only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for one datarate/frequency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corresponding to the UI they are mad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ol don‘t cares about encoded bitpattern in mode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or the included bit-time / 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has to take care that the „frequency“ corresponds to 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9" name=""/>
          <p:cNvGrpSpPr/>
          <p:nvPr/>
        </p:nvGrpSpPr>
        <p:grpSpPr>
          <a:xfrm>
            <a:off x="7918560" y="154800"/>
            <a:ext cx="1204920" cy="762840"/>
            <a:chOff x="7918560" y="154800"/>
            <a:chExt cx="1204920" cy="762840"/>
          </a:xfrm>
        </p:grpSpPr>
        <p:sp>
          <p:nvSpPr>
            <p:cNvPr id="4990" name=""/>
            <p:cNvSpPr/>
            <p:nvPr/>
          </p:nvSpPr>
          <p:spPr>
            <a:xfrm>
              <a:off x="7918560" y="154800"/>
              <a:ext cx="1204920" cy="43956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1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4992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4993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4994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5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6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7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8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9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0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5001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2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3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4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5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6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5007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8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9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0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1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2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3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14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5015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5016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7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8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9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5020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1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2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3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5024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5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6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7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5028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9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0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31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2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5033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5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6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7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8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4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4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4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0" fill="hold"/>
                                        <p:tgtEl>
                                          <p:spTgt spid="4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0" fill="hold"/>
                                        <p:tgtEl>
                                          <p:spTgt spid="49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0" fill="hold"/>
                                        <p:tgtEl>
                                          <p:spTgt spid="49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0" fill="hold"/>
                                        <p:tgtEl>
                                          <p:spTgt spid="49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0" fill="hold"/>
                                        <p:tgtEl>
                                          <p:spTgt spid="49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1" name="" descr=""/>
          <p:cNvPicPr/>
          <p:nvPr/>
        </p:nvPicPr>
        <p:blipFill>
          <a:blip r:embed="rId2"/>
          <a:stretch/>
        </p:blipFill>
        <p:spPr>
          <a:xfrm>
            <a:off x="5284800" y="263520"/>
            <a:ext cx="3600360" cy="1521000"/>
          </a:xfrm>
          <a:prstGeom prst="rect">
            <a:avLst/>
          </a:prstGeom>
          <a:ln w="0">
            <a:noFill/>
          </a:ln>
        </p:spPr>
      </p:pic>
      <p:sp>
        <p:nvSpPr>
          <p:cNvPr id="5042" name="PlaceHolder 1"/>
          <p:cNvSpPr>
            <a:spLocks noGrp="1"/>
          </p:cNvSpPr>
          <p:nvPr>
            <p:ph type="title"/>
          </p:nvPr>
        </p:nvSpPr>
        <p:spPr>
          <a:xfrm>
            <a:off x="3363480" y="2290320"/>
            <a:ext cx="411948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6666"/>
                </a:solidFill>
                <a:latin typeface="Arial"/>
              </a:rPr>
              <a:t>Thank You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43" name=""/>
          <p:cNvSpPr/>
          <p:nvPr/>
        </p:nvSpPr>
        <p:spPr>
          <a:xfrm>
            <a:off x="5307120" y="4376880"/>
            <a:ext cx="31194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48578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041720" y="6635880"/>
            <a:ext cx="528840" cy="2221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400040" y="3286800"/>
            <a:ext cx="1893960" cy="1819800"/>
          </a:xfrm>
          <a:prstGeom prst="horizontalScroll">
            <a:avLst>
              <a:gd name="adj" fmla="val 12500"/>
            </a:avLst>
          </a:prstGeom>
          <a:solidFill>
            <a:srgbClr val="ffcc00">
              <a:alpha val="50000"/>
            </a:srgbClr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onotype Corsiva"/>
              </a:rPr>
              <a:t>driver schedule: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Monotype Corsiva"/>
              </a:rPr>
              <a:t>pre-/de-emphasis and frequency/data-rate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463760" y="4646520"/>
            <a:ext cx="1955880" cy="811440"/>
            <a:chOff x="1463760" y="4646520"/>
            <a:chExt cx="1955880" cy="811440"/>
          </a:xfrm>
        </p:grpSpPr>
        <p:grpSp>
          <p:nvGrpSpPr>
            <p:cNvPr id="408" name=""/>
            <p:cNvGrpSpPr/>
            <p:nvPr/>
          </p:nvGrpSpPr>
          <p:grpSpPr>
            <a:xfrm>
              <a:off x="1463760" y="4943160"/>
              <a:ext cx="1955880" cy="514800"/>
              <a:chOff x="1463760" y="4943160"/>
              <a:chExt cx="1955880" cy="5148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1463760" y="5330160"/>
                <a:ext cx="1955880" cy="127800"/>
                <a:chOff x="1463760" y="5330160"/>
                <a:chExt cx="1955880" cy="1278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789920" y="5330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442600" y="5330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768760" y="5330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95280" y="5330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116080" y="5330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463760" y="5330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1627560" y="5200920"/>
                <a:ext cx="1629720" cy="127800"/>
                <a:chOff x="1627560" y="5200920"/>
                <a:chExt cx="1629720" cy="1278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627560" y="52009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80240" y="52009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606400" y="52009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932920" y="52009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953720" y="52009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790640" y="4943160"/>
                <a:ext cx="1303200" cy="256680"/>
                <a:chOff x="1790640" y="4943160"/>
                <a:chExt cx="1303200" cy="2566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116800" y="50720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769480" y="50720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442960" y="50720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790640" y="50720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954440" y="4943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607120" y="4943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80600" y="4943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"/>
            <p:cNvGrpSpPr/>
            <p:nvPr/>
          </p:nvGrpSpPr>
          <p:grpSpPr>
            <a:xfrm>
              <a:off x="2202120" y="4943160"/>
              <a:ext cx="486360" cy="512640"/>
              <a:chOff x="2202120" y="4943160"/>
              <a:chExt cx="486360" cy="51264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2202120" y="5329800"/>
                <a:ext cx="486360" cy="126000"/>
                <a:chOff x="2202120" y="5329800"/>
                <a:chExt cx="486360" cy="1260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222280" y="5370840"/>
                  <a:ext cx="44604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02120" y="5413320"/>
                  <a:ext cx="48636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242440" y="5329800"/>
                  <a:ext cx="40536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2262600" y="5200920"/>
                <a:ext cx="364680" cy="126000"/>
                <a:chOff x="2262600" y="5200920"/>
                <a:chExt cx="364680" cy="1260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2277720" y="5241960"/>
                  <a:ext cx="33444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62600" y="5284440"/>
                  <a:ext cx="364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292840" y="5200920"/>
                  <a:ext cx="30420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303640" y="5072040"/>
                <a:ext cx="283680" cy="126000"/>
                <a:chOff x="2303640" y="5072040"/>
                <a:chExt cx="283680" cy="1260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2315160" y="5113080"/>
                  <a:ext cx="2602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303640" y="5155560"/>
                  <a:ext cx="283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327040" y="5072040"/>
                  <a:ext cx="23652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2344320" y="4943160"/>
                <a:ext cx="202680" cy="126000"/>
                <a:chOff x="2344320" y="4943160"/>
                <a:chExt cx="202680" cy="1260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352600" y="4984200"/>
                  <a:ext cx="18612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344320" y="5026680"/>
                  <a:ext cx="202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60880" y="4943160"/>
                  <a:ext cx="16920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2036880" y="4788360"/>
              <a:ext cx="811080" cy="152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2148840" y="4846680"/>
              <a:ext cx="587160" cy="91440"/>
              <a:chOff x="2148840" y="4846680"/>
              <a:chExt cx="587160" cy="91440"/>
            </a:xfrm>
          </p:grpSpPr>
          <p:sp>
            <p:nvSpPr>
              <p:cNvPr id="449" name=""/>
              <p:cNvSpPr/>
              <p:nvPr/>
            </p:nvSpPr>
            <p:spPr>
              <a:xfrm>
                <a:off x="2148840" y="484668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76640" y="4846680"/>
                <a:ext cx="81000" cy="9108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55000" y="484668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26480" y="484668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399760" y="484668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2013120" y="4775400"/>
              <a:ext cx="858600" cy="25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030400" y="4672440"/>
              <a:ext cx="824040" cy="102960"/>
            </a:xfrm>
            <a:custGeom>
              <a:avLst/>
              <a:gdLst>
                <a:gd name="textAreaLeft" fmla="*/ 85680 w 824040"/>
                <a:gd name="textAreaRight" fmla="*/ 738360 w 824040"/>
                <a:gd name="textAreaTop" fmla="*/ 10440 h 102960"/>
                <a:gd name="textAreaBottom" fmla="*/ 92520 h 10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01" y="21600"/>
                  </a:lnTo>
                  <a:lnTo>
                    <a:pt x="899" y="2160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54880" y="4646520"/>
              <a:ext cx="770760" cy="25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014720" y="740880"/>
            <a:ext cx="5043960" cy="3941640"/>
            <a:chOff x="4014720" y="740880"/>
            <a:chExt cx="5043960" cy="3941640"/>
          </a:xfrm>
        </p:grpSpPr>
        <p:sp>
          <p:nvSpPr>
            <p:cNvPr id="458" name=""/>
            <p:cNvSpPr/>
            <p:nvPr/>
          </p:nvSpPr>
          <p:spPr>
            <a:xfrm>
              <a:off x="4940280" y="740880"/>
              <a:ext cx="3305160" cy="206460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Monotype Corsiva"/>
                </a:rPr>
                <a:t>Pre- /De-emphasis bas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4014720" y="2585880"/>
              <a:ext cx="5043960" cy="2096640"/>
              <a:chOff x="4014720" y="2585880"/>
              <a:chExt cx="5043960" cy="209664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4014720" y="3352320"/>
                <a:ext cx="5043960" cy="1330200"/>
                <a:chOff x="4014720" y="3352320"/>
                <a:chExt cx="5043960" cy="133020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4014720" y="4352040"/>
                  <a:ext cx="5043960" cy="330480"/>
                  <a:chOff x="4014720" y="4352040"/>
                  <a:chExt cx="5043960" cy="3304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4856040" y="4352040"/>
                    <a:ext cx="836640" cy="3304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6539040" y="4352040"/>
                    <a:ext cx="836640" cy="3304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380720" y="4352040"/>
                    <a:ext cx="836640" cy="3304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8222040" y="4352040"/>
                    <a:ext cx="836640" cy="3304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697360" y="4352040"/>
                    <a:ext cx="836640" cy="3304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014720" y="4352040"/>
                    <a:ext cx="836640" cy="3304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4437360" y="4018680"/>
                  <a:ext cx="4202280" cy="330480"/>
                  <a:chOff x="4437360" y="4018680"/>
                  <a:chExt cx="4202280" cy="33048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4437360" y="4018680"/>
                    <a:ext cx="836640" cy="3304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6120000" y="4018680"/>
                    <a:ext cx="836640" cy="3304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6961680" y="4018680"/>
                    <a:ext cx="836640" cy="3304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803000" y="4018680"/>
                    <a:ext cx="836640" cy="3304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278680" y="4018680"/>
                    <a:ext cx="836640" cy="3304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"/>
                <p:cNvGrpSpPr/>
                <p:nvPr/>
              </p:nvGrpSpPr>
              <p:grpSpPr>
                <a:xfrm>
                  <a:off x="4857840" y="3352320"/>
                  <a:ext cx="3360600" cy="663120"/>
                  <a:chOff x="4857840" y="3352320"/>
                  <a:chExt cx="3360600" cy="66312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5699160" y="3685320"/>
                    <a:ext cx="83664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381800" y="3685320"/>
                    <a:ext cx="83664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540480" y="3685320"/>
                    <a:ext cx="83664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857840" y="3685320"/>
                    <a:ext cx="83664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280120" y="3352320"/>
                    <a:ext cx="83664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963120" y="3352320"/>
                    <a:ext cx="83664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121800" y="3352320"/>
                    <a:ext cx="836640" cy="33012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"/>
              <p:cNvGrpSpPr/>
              <p:nvPr/>
            </p:nvGrpSpPr>
            <p:grpSpPr>
              <a:xfrm>
                <a:off x="5917680" y="3352320"/>
                <a:ext cx="1256760" cy="1325880"/>
                <a:chOff x="5917680" y="3352320"/>
                <a:chExt cx="1256760" cy="132588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5917680" y="4352040"/>
                  <a:ext cx="1256760" cy="326160"/>
                  <a:chOff x="5917680" y="4352040"/>
                  <a:chExt cx="1256760" cy="3261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5969520" y="4458600"/>
                    <a:ext cx="1152360" cy="110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5917680" y="4568040"/>
                    <a:ext cx="1256760" cy="110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022080" y="4352040"/>
                    <a:ext cx="1047600" cy="110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6074640" y="4018680"/>
                  <a:ext cx="942480" cy="326160"/>
                  <a:chOff x="6074640" y="4018680"/>
                  <a:chExt cx="942480" cy="32616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6113520" y="4125240"/>
                    <a:ext cx="864360" cy="110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074640" y="4234680"/>
                    <a:ext cx="942480" cy="110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152760" y="4018680"/>
                    <a:ext cx="785520" cy="110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6180120" y="3685680"/>
                  <a:ext cx="733320" cy="326160"/>
                  <a:chOff x="6180120" y="3685680"/>
                  <a:chExt cx="733320" cy="32616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6210360" y="3792240"/>
                    <a:ext cx="672480" cy="110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6180120" y="3901680"/>
                    <a:ext cx="733320" cy="110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6240960" y="3685680"/>
                    <a:ext cx="611280" cy="110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6284880" y="3352320"/>
                  <a:ext cx="523800" cy="326160"/>
                  <a:chOff x="6284880" y="3352320"/>
                  <a:chExt cx="523800" cy="32616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6306480" y="3458880"/>
                    <a:ext cx="480240" cy="110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6284880" y="3568320"/>
                    <a:ext cx="523800" cy="110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6328440" y="3352320"/>
                    <a:ext cx="436680" cy="110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9" name=""/>
              <p:cNvSpPr/>
              <p:nvPr/>
            </p:nvSpPr>
            <p:spPr>
              <a:xfrm>
                <a:off x="5491080" y="2953800"/>
                <a:ext cx="2094120" cy="3916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5779800" y="3102120"/>
                <a:ext cx="1515960" cy="235800"/>
                <a:chOff x="5779800" y="3102120"/>
                <a:chExt cx="1515960" cy="2358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779800" y="3102120"/>
                  <a:ext cx="210240" cy="23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111360" y="3102120"/>
                  <a:ext cx="209520" cy="23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085520" y="3102120"/>
                  <a:ext cx="210240" cy="23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754320" y="3102120"/>
                  <a:ext cx="209520" cy="23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429240" y="3102120"/>
                  <a:ext cx="206640" cy="23580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" name=""/>
              <p:cNvSpPr/>
              <p:nvPr/>
            </p:nvSpPr>
            <p:spPr>
              <a:xfrm>
                <a:off x="5432400" y="2917800"/>
                <a:ext cx="2214720" cy="691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5474880" y="2651400"/>
                <a:ext cx="2126880" cy="266400"/>
              </a:xfrm>
              <a:custGeom>
                <a:avLst/>
                <a:gdLst>
                  <a:gd name="textAreaLeft" fmla="*/ 221400 w 2126880"/>
                  <a:gd name="textAreaRight" fmla="*/ 1905480 w 2126880"/>
                  <a:gd name="textAreaTop" fmla="*/ 27720 h 266400"/>
                  <a:gd name="textAreaBottom" fmla="*/ 238680 h 26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540400" y="2585880"/>
                <a:ext cx="1985400" cy="655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227160" y="5292720"/>
            <a:ext cx="1422360" cy="851760"/>
            <a:chOff x="227160" y="5292720"/>
            <a:chExt cx="1422360" cy="851760"/>
          </a:xfrm>
        </p:grpSpPr>
        <p:sp>
          <p:nvSpPr>
            <p:cNvPr id="510" name=""/>
            <p:cNvSpPr/>
            <p:nvPr/>
          </p:nvSpPr>
          <p:spPr>
            <a:xfrm>
              <a:off x="418680" y="5292720"/>
              <a:ext cx="1080000" cy="39960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227160" y="5639040"/>
              <a:ext cx="1422360" cy="505440"/>
              <a:chOff x="227160" y="5639040"/>
              <a:chExt cx="1422360" cy="50544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227160" y="5823720"/>
                <a:ext cx="1422360" cy="320760"/>
                <a:chOff x="227160" y="5823720"/>
                <a:chExt cx="1422360" cy="320760"/>
              </a:xfrm>
            </p:grpSpPr>
            <p:grpSp>
              <p:nvGrpSpPr>
                <p:cNvPr id="513" name=""/>
                <p:cNvGrpSpPr/>
                <p:nvPr/>
              </p:nvGrpSpPr>
              <p:grpSpPr>
                <a:xfrm>
                  <a:off x="227160" y="6064920"/>
                  <a:ext cx="1422360" cy="79560"/>
                  <a:chOff x="227160" y="6064920"/>
                  <a:chExt cx="1422360" cy="795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464400" y="60649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938880" y="60649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176480" y="60649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1413720" y="60649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701640" y="60649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27160" y="60649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346320" y="5984280"/>
                  <a:ext cx="1185120" cy="79560"/>
                  <a:chOff x="346320" y="5984280"/>
                  <a:chExt cx="1185120" cy="7956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346320" y="59842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820800" y="59842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1058040" y="59842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1295640" y="59842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583560" y="598428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464760" y="5823720"/>
                  <a:ext cx="947880" cy="159840"/>
                  <a:chOff x="464760" y="5823720"/>
                  <a:chExt cx="947880" cy="15984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702000" y="590400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1176840" y="590400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939240" y="590400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64760" y="590400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583920" y="58237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058400" y="58237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821160" y="58237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4" name=""/>
              <p:cNvGrpSpPr/>
              <p:nvPr/>
            </p:nvGrpSpPr>
            <p:grpSpPr>
              <a:xfrm>
                <a:off x="763920" y="5823720"/>
                <a:ext cx="354240" cy="320040"/>
                <a:chOff x="763920" y="5823720"/>
                <a:chExt cx="354240" cy="32004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763920" y="6064920"/>
                  <a:ext cx="354240" cy="78840"/>
                  <a:chOff x="763920" y="6064920"/>
                  <a:chExt cx="354240" cy="7884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>
                    <a:off x="778320" y="6090840"/>
                    <a:ext cx="3250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763920" y="6117120"/>
                    <a:ext cx="3542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793080" y="6064920"/>
                    <a:ext cx="2952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808200" y="5984640"/>
                  <a:ext cx="265680" cy="78840"/>
                  <a:chOff x="808200" y="5984640"/>
                  <a:chExt cx="265680" cy="7884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819000" y="6010560"/>
                    <a:ext cx="243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808200" y="6036840"/>
                    <a:ext cx="2656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830160" y="5984640"/>
                    <a:ext cx="2214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837720" y="5904000"/>
                  <a:ext cx="206640" cy="78480"/>
                  <a:chOff x="837720" y="5904000"/>
                  <a:chExt cx="206640" cy="7848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846000" y="5929560"/>
                    <a:ext cx="189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837720" y="5955840"/>
                    <a:ext cx="2066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854640" y="5904000"/>
                    <a:ext cx="1724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867240" y="5823720"/>
                  <a:ext cx="147600" cy="78840"/>
                  <a:chOff x="867240" y="5823720"/>
                  <a:chExt cx="147600" cy="7884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873360" y="5849640"/>
                    <a:ext cx="135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867240" y="5875920"/>
                    <a:ext cx="147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879480" y="5823720"/>
                    <a:ext cx="1231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1" name=""/>
              <p:cNvSpPr/>
              <p:nvPr/>
            </p:nvSpPr>
            <p:spPr>
              <a:xfrm>
                <a:off x="644040" y="5727600"/>
                <a:ext cx="589320" cy="9432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725040" y="5763600"/>
                <a:ext cx="426960" cy="56880"/>
                <a:chOff x="725040" y="5763600"/>
                <a:chExt cx="426960" cy="568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725040" y="576360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17920" y="5763600"/>
                  <a:ext cx="5940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093320" y="576360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999720" y="576360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907560" y="576360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626400" y="5718960"/>
                <a:ext cx="62424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639360" y="5654880"/>
                <a:ext cx="599400" cy="64080"/>
              </a:xfrm>
              <a:custGeom>
                <a:avLst/>
                <a:gdLst>
                  <a:gd name="textAreaLeft" fmla="*/ 62280 w 599400"/>
                  <a:gd name="textAreaRight" fmla="*/ 537120 w 59940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7360" y="5639040"/>
                <a:ext cx="55980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1254240" y="5837400"/>
            <a:ext cx="2023560" cy="852120"/>
            <a:chOff x="1254240" y="5837400"/>
            <a:chExt cx="2023560" cy="852120"/>
          </a:xfrm>
        </p:grpSpPr>
        <p:sp>
          <p:nvSpPr>
            <p:cNvPr id="562" name=""/>
            <p:cNvSpPr/>
            <p:nvPr/>
          </p:nvSpPr>
          <p:spPr>
            <a:xfrm>
              <a:off x="1254240" y="5837400"/>
              <a:ext cx="2023560" cy="3992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Frequency /data 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1603080" y="6184080"/>
              <a:ext cx="1275120" cy="505440"/>
              <a:chOff x="1603080" y="6184080"/>
              <a:chExt cx="1275120" cy="50544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603080" y="6368760"/>
                <a:ext cx="1275120" cy="320760"/>
                <a:chOff x="1603080" y="6368760"/>
                <a:chExt cx="1275120" cy="32076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1603080" y="6609960"/>
                  <a:ext cx="1275120" cy="79560"/>
                  <a:chOff x="1603080" y="6609960"/>
                  <a:chExt cx="1275120" cy="7956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1815840" y="660996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241360" y="660996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454120" y="660996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666880" y="660996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028600" y="660996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1603080" y="660996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1709640" y="6529320"/>
                  <a:ext cx="1062720" cy="79560"/>
                  <a:chOff x="1709640" y="6529320"/>
                  <a:chExt cx="1062720" cy="7956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1709640" y="652932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135160" y="652932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347920" y="652932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560680" y="652932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922400" y="652932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1816200" y="6368760"/>
                  <a:ext cx="849960" cy="159840"/>
                  <a:chOff x="1816200" y="6368760"/>
                  <a:chExt cx="849960" cy="15984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>
                    <a:off x="2028960" y="644904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454480" y="644904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241720" y="644904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1816200" y="644904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1922760" y="636876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48640" y="636876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135880" y="636876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6" name=""/>
              <p:cNvGrpSpPr/>
              <p:nvPr/>
            </p:nvGrpSpPr>
            <p:grpSpPr>
              <a:xfrm>
                <a:off x="2084400" y="6368760"/>
                <a:ext cx="317520" cy="319680"/>
                <a:chOff x="2084400" y="6368760"/>
                <a:chExt cx="317520" cy="319680"/>
              </a:xfrm>
            </p:grpSpPr>
            <p:grpSp>
              <p:nvGrpSpPr>
                <p:cNvPr id="587" name=""/>
                <p:cNvGrpSpPr/>
                <p:nvPr/>
              </p:nvGrpSpPr>
              <p:grpSpPr>
                <a:xfrm>
                  <a:off x="2084400" y="6609960"/>
                  <a:ext cx="317520" cy="78480"/>
                  <a:chOff x="2084400" y="6609960"/>
                  <a:chExt cx="317520" cy="7848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>
                    <a:off x="2097360" y="6635520"/>
                    <a:ext cx="2912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084400" y="6661800"/>
                    <a:ext cx="317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110680" y="6609960"/>
                    <a:ext cx="264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"/>
                <p:cNvGrpSpPr/>
                <p:nvPr/>
              </p:nvGrpSpPr>
              <p:grpSpPr>
                <a:xfrm>
                  <a:off x="2124000" y="6529320"/>
                  <a:ext cx="238320" cy="78480"/>
                  <a:chOff x="2124000" y="6529320"/>
                  <a:chExt cx="238320" cy="78480"/>
                </a:xfrm>
              </p:grpSpPr>
              <p:sp>
                <p:nvSpPr>
                  <p:cNvPr id="592" name=""/>
                  <p:cNvSpPr/>
                  <p:nvPr/>
                </p:nvSpPr>
                <p:spPr>
                  <a:xfrm>
                    <a:off x="2133720" y="6554880"/>
                    <a:ext cx="218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124000" y="6581160"/>
                    <a:ext cx="2383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143800" y="6529320"/>
                    <a:ext cx="198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2150640" y="6449040"/>
                  <a:ext cx="185400" cy="78480"/>
                  <a:chOff x="2150640" y="6449040"/>
                  <a:chExt cx="185400" cy="7848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2158200" y="6474600"/>
                    <a:ext cx="170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150640" y="6500880"/>
                    <a:ext cx="1854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165760" y="6449040"/>
                    <a:ext cx="1548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2177280" y="6368760"/>
                  <a:ext cx="132480" cy="78480"/>
                  <a:chOff x="2177280" y="6368760"/>
                  <a:chExt cx="132480" cy="7848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2182680" y="6394320"/>
                    <a:ext cx="1216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177280" y="6420600"/>
                    <a:ext cx="132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188080" y="6368760"/>
                    <a:ext cx="110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3" name=""/>
              <p:cNvSpPr/>
              <p:nvPr/>
            </p:nvSpPr>
            <p:spPr>
              <a:xfrm>
                <a:off x="1977120" y="6272640"/>
                <a:ext cx="528840" cy="9432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2050200" y="6308640"/>
                <a:ext cx="382320" cy="56880"/>
                <a:chOff x="2050200" y="6308640"/>
                <a:chExt cx="382320" cy="568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2050200" y="630864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133360" y="630864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379600" y="630864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96440" y="630864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213640" y="6308640"/>
                  <a:ext cx="532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1961280" y="6264000"/>
                <a:ext cx="55980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1972440" y="6199920"/>
                <a:ext cx="537480" cy="64080"/>
              </a:xfrm>
              <a:custGeom>
                <a:avLst/>
                <a:gdLst>
                  <a:gd name="textAreaLeft" fmla="*/ 55800 w 537480"/>
                  <a:gd name="textAreaRight" fmla="*/ 481680 w 53748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989000" y="6184080"/>
                <a:ext cx="50184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3" name=""/>
          <p:cNvGrpSpPr/>
          <p:nvPr/>
        </p:nvGrpSpPr>
        <p:grpSpPr>
          <a:xfrm>
            <a:off x="2427120" y="5531040"/>
            <a:ext cx="2842920" cy="845280"/>
            <a:chOff x="2427120" y="5531040"/>
            <a:chExt cx="2842920" cy="845280"/>
          </a:xfrm>
        </p:grpSpPr>
        <p:sp>
          <p:nvSpPr>
            <p:cNvPr id="614" name=""/>
            <p:cNvSpPr/>
            <p:nvPr/>
          </p:nvSpPr>
          <p:spPr>
            <a:xfrm>
              <a:off x="2427120" y="5531040"/>
              <a:ext cx="2842920" cy="39960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Driver schedule retrosp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3184560" y="5870520"/>
              <a:ext cx="1409400" cy="505800"/>
              <a:chOff x="3184560" y="5870520"/>
              <a:chExt cx="1409400" cy="50580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184560" y="6055560"/>
                <a:ext cx="1409400" cy="320760"/>
                <a:chOff x="3184560" y="6055560"/>
                <a:chExt cx="1409400" cy="320760"/>
              </a:xfrm>
            </p:grpSpPr>
            <p:grpSp>
              <p:nvGrpSpPr>
                <p:cNvPr id="617" name=""/>
                <p:cNvGrpSpPr/>
                <p:nvPr/>
              </p:nvGrpSpPr>
              <p:grpSpPr>
                <a:xfrm>
                  <a:off x="3184560" y="6296760"/>
                  <a:ext cx="1409400" cy="79560"/>
                  <a:chOff x="3184560" y="6296760"/>
                  <a:chExt cx="1409400" cy="7956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19640" y="62967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890160" y="62967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4125240" y="62967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4360320" y="62967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3654720" y="62967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184560" y="62967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3302640" y="6216120"/>
                  <a:ext cx="1174320" cy="79560"/>
                  <a:chOff x="3302640" y="6216120"/>
                  <a:chExt cx="1174320" cy="7956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>
                    <a:off x="3302640" y="62161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772800" y="62161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4008240" y="62161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243320" y="62161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3537720" y="621612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3420000" y="6055560"/>
                  <a:ext cx="939240" cy="159840"/>
                  <a:chOff x="3420000" y="6055560"/>
                  <a:chExt cx="939240" cy="15984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3655080" y="61358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125600" y="61358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890160" y="61358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420000" y="613584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3538080" y="60555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4008240" y="60555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3773160" y="6055560"/>
                    <a:ext cx="23364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8" name=""/>
              <p:cNvGrpSpPr/>
              <p:nvPr/>
            </p:nvGrpSpPr>
            <p:grpSpPr>
              <a:xfrm>
                <a:off x="3716640" y="6055560"/>
                <a:ext cx="351000" cy="320040"/>
                <a:chOff x="3716640" y="6055560"/>
                <a:chExt cx="351000" cy="320040"/>
              </a:xfrm>
            </p:grpSpPr>
            <p:grpSp>
              <p:nvGrpSpPr>
                <p:cNvPr id="639" name=""/>
                <p:cNvGrpSpPr/>
                <p:nvPr/>
              </p:nvGrpSpPr>
              <p:grpSpPr>
                <a:xfrm>
                  <a:off x="3716640" y="6296760"/>
                  <a:ext cx="351000" cy="78840"/>
                  <a:chOff x="3716640" y="6296760"/>
                  <a:chExt cx="351000" cy="7884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3731040" y="6322680"/>
                    <a:ext cx="3218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3716640" y="6348960"/>
                    <a:ext cx="3510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3745800" y="6296760"/>
                    <a:ext cx="2926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3760200" y="6216480"/>
                  <a:ext cx="263160" cy="78840"/>
                  <a:chOff x="3760200" y="6216480"/>
                  <a:chExt cx="263160" cy="7884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771000" y="6242400"/>
                    <a:ext cx="2415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760200" y="6268680"/>
                    <a:ext cx="2631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781800" y="6216480"/>
                    <a:ext cx="219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3789720" y="6135840"/>
                  <a:ext cx="204840" cy="78480"/>
                  <a:chOff x="3789720" y="6135840"/>
                  <a:chExt cx="204840" cy="784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3798000" y="6161400"/>
                    <a:ext cx="1879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789720" y="6187680"/>
                    <a:ext cx="2048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806640" y="6135840"/>
                    <a:ext cx="1710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"/>
                <p:cNvGrpSpPr/>
                <p:nvPr/>
              </p:nvGrpSpPr>
              <p:grpSpPr>
                <a:xfrm>
                  <a:off x="3819240" y="6055560"/>
                  <a:ext cx="146160" cy="78840"/>
                  <a:chOff x="3819240" y="6055560"/>
                  <a:chExt cx="146160" cy="7884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3825000" y="6081480"/>
                    <a:ext cx="134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819240" y="6107760"/>
                    <a:ext cx="1461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831120" y="6055560"/>
                    <a:ext cx="1220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5" name=""/>
              <p:cNvSpPr/>
              <p:nvPr/>
            </p:nvSpPr>
            <p:spPr>
              <a:xfrm>
                <a:off x="3597480" y="5959440"/>
                <a:ext cx="584640" cy="9432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3678480" y="5995080"/>
                <a:ext cx="423000" cy="56880"/>
                <a:chOff x="3678480" y="5995080"/>
                <a:chExt cx="423000" cy="5688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3678480" y="599508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770280" y="599508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042800" y="599508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950640" y="5995080"/>
                  <a:ext cx="5796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859200" y="599508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2" name=""/>
              <p:cNvSpPr/>
              <p:nvPr/>
            </p:nvSpPr>
            <p:spPr>
              <a:xfrm>
                <a:off x="3580560" y="5950800"/>
                <a:ext cx="61884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3592800" y="5886360"/>
                <a:ext cx="594000" cy="64080"/>
              </a:xfrm>
              <a:custGeom>
                <a:avLst/>
                <a:gdLst>
                  <a:gd name="textAreaLeft" fmla="*/ 61560 w 594000"/>
                  <a:gd name="textAreaRight" fmla="*/ 532440 w 59400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610800" y="5870520"/>
                <a:ext cx="55512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"/>
          <p:cNvGrpSpPr/>
          <p:nvPr/>
        </p:nvGrpSpPr>
        <p:grpSpPr>
          <a:xfrm>
            <a:off x="241200" y="4332240"/>
            <a:ext cx="1220760" cy="852480"/>
            <a:chOff x="241200" y="4332240"/>
            <a:chExt cx="1220760" cy="852480"/>
          </a:xfrm>
        </p:grpSpPr>
        <p:sp>
          <p:nvSpPr>
            <p:cNvPr id="666" name=""/>
            <p:cNvSpPr/>
            <p:nvPr/>
          </p:nvSpPr>
          <p:spPr>
            <a:xfrm>
              <a:off x="354240" y="4332240"/>
              <a:ext cx="1069560" cy="3992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241200" y="4678560"/>
              <a:ext cx="1220760" cy="506160"/>
              <a:chOff x="241200" y="4678560"/>
              <a:chExt cx="1220760" cy="50616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241200" y="4863600"/>
                <a:ext cx="1220760" cy="321120"/>
                <a:chOff x="241200" y="4863600"/>
                <a:chExt cx="1220760" cy="321120"/>
              </a:xfrm>
            </p:grpSpPr>
            <p:grpSp>
              <p:nvGrpSpPr>
                <p:cNvPr id="669" name=""/>
                <p:cNvGrpSpPr/>
                <p:nvPr/>
              </p:nvGrpSpPr>
              <p:grpSpPr>
                <a:xfrm>
                  <a:off x="241200" y="5105160"/>
                  <a:ext cx="1220760" cy="79560"/>
                  <a:chOff x="241200" y="5105160"/>
                  <a:chExt cx="1220760" cy="7956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444600" y="5105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852120" y="5105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1055880" y="5105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1259640" y="5105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648360" y="5105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41200" y="5105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343440" y="5024520"/>
                  <a:ext cx="1017000" cy="79560"/>
                  <a:chOff x="343440" y="5024520"/>
                  <a:chExt cx="1017000" cy="7956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343440" y="50245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750600" y="50245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954360" y="50245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1158120" y="50245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46840" y="50245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445320" y="4863600"/>
                  <a:ext cx="813240" cy="159840"/>
                  <a:chOff x="445320" y="4863600"/>
                  <a:chExt cx="813240" cy="15984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649080" y="49438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1056240" y="49438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852840" y="49438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445320" y="49438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547560" y="48636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955080" y="48636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751320" y="48636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0" name=""/>
              <p:cNvGrpSpPr/>
              <p:nvPr/>
            </p:nvGrpSpPr>
            <p:grpSpPr>
              <a:xfrm>
                <a:off x="702000" y="4863600"/>
                <a:ext cx="303480" cy="320040"/>
                <a:chOff x="702000" y="4863600"/>
                <a:chExt cx="303480" cy="32004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702000" y="5104800"/>
                  <a:ext cx="303480" cy="78840"/>
                  <a:chOff x="702000" y="5104800"/>
                  <a:chExt cx="303480" cy="7884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714600" y="5130720"/>
                    <a:ext cx="278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702000" y="5157000"/>
                    <a:ext cx="303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727200" y="5104800"/>
                    <a:ext cx="2530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739800" y="5024520"/>
                  <a:ext cx="227520" cy="78840"/>
                  <a:chOff x="739800" y="5024520"/>
                  <a:chExt cx="227520" cy="7884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749160" y="5050440"/>
                    <a:ext cx="2088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739800" y="5076720"/>
                    <a:ext cx="227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758520" y="5024520"/>
                    <a:ext cx="189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"/>
                <p:cNvGrpSpPr/>
                <p:nvPr/>
              </p:nvGrpSpPr>
              <p:grpSpPr>
                <a:xfrm>
                  <a:off x="765360" y="4943880"/>
                  <a:ext cx="177120" cy="78480"/>
                  <a:chOff x="765360" y="4943880"/>
                  <a:chExt cx="177120" cy="7848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772560" y="4969440"/>
                    <a:ext cx="162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765360" y="4995720"/>
                    <a:ext cx="1771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779760" y="4943880"/>
                    <a:ext cx="147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790560" y="4863600"/>
                  <a:ext cx="126360" cy="78840"/>
                  <a:chOff x="790560" y="4863600"/>
                  <a:chExt cx="126360" cy="7884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795600" y="4889520"/>
                    <a:ext cx="1159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790560" y="4915800"/>
                    <a:ext cx="126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801000" y="4863600"/>
                    <a:ext cx="105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7" name=""/>
              <p:cNvSpPr/>
              <p:nvPr/>
            </p:nvSpPr>
            <p:spPr>
              <a:xfrm>
                <a:off x="598680" y="4767120"/>
                <a:ext cx="506160" cy="9504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668880" y="4803480"/>
                <a:ext cx="366480" cy="56880"/>
                <a:chOff x="668880" y="4803480"/>
                <a:chExt cx="366480" cy="5688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68880" y="48034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48800" y="48034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984960" y="48034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904680" y="48034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25480" y="48034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4" name=""/>
              <p:cNvSpPr/>
              <p:nvPr/>
            </p:nvSpPr>
            <p:spPr>
              <a:xfrm>
                <a:off x="583920" y="4758840"/>
                <a:ext cx="53604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594720" y="469476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10200" y="4678560"/>
                <a:ext cx="48096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pre-emphasis overview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878600" y="-169560"/>
            <a:ext cx="1265040" cy="1088640"/>
            <a:chOff x="7878600" y="-169560"/>
            <a:chExt cx="1265040" cy="1088640"/>
          </a:xfrm>
        </p:grpSpPr>
        <p:sp>
          <p:nvSpPr>
            <p:cNvPr id="719" name=""/>
            <p:cNvSpPr/>
            <p:nvPr/>
          </p:nvSpPr>
          <p:spPr>
            <a:xfrm>
              <a:off x="7878600" y="-169560"/>
              <a:ext cx="126504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CML- Preempha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8272080" y="663480"/>
              <a:ext cx="612720" cy="254160"/>
              <a:chOff x="8272080" y="663480"/>
              <a:chExt cx="612720" cy="2541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8272080" y="756360"/>
                <a:ext cx="612720" cy="161280"/>
                <a:chOff x="8272080" y="756360"/>
                <a:chExt cx="612720" cy="16128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8272080" y="877680"/>
                  <a:ext cx="612720" cy="39960"/>
                  <a:chOff x="8272080" y="877680"/>
                  <a:chExt cx="612720" cy="3996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83743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85788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86810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87832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84765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82720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"/>
                <p:cNvGrpSpPr/>
                <p:nvPr/>
              </p:nvGrpSpPr>
              <p:grpSpPr>
                <a:xfrm>
                  <a:off x="8323200" y="837000"/>
                  <a:ext cx="510480" cy="39960"/>
                  <a:chOff x="8323200" y="837000"/>
                  <a:chExt cx="510480" cy="3996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>
                    <a:off x="83232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85276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86299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87321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84254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8374320" y="756360"/>
                  <a:ext cx="408240" cy="80280"/>
                  <a:chOff x="8374320" y="756360"/>
                  <a:chExt cx="408240" cy="8028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84765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868104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5788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83743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84254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862992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85276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3" name=""/>
              <p:cNvGrpSpPr/>
              <p:nvPr/>
            </p:nvGrpSpPr>
            <p:grpSpPr>
              <a:xfrm>
                <a:off x="8503200" y="756360"/>
                <a:ext cx="152280" cy="160200"/>
                <a:chOff x="8503200" y="756360"/>
                <a:chExt cx="152280" cy="160200"/>
              </a:xfrm>
            </p:grpSpPr>
            <p:grpSp>
              <p:nvGrpSpPr>
                <p:cNvPr id="744" name=""/>
                <p:cNvGrpSpPr/>
                <p:nvPr/>
              </p:nvGrpSpPr>
              <p:grpSpPr>
                <a:xfrm>
                  <a:off x="8503200" y="877320"/>
                  <a:ext cx="152280" cy="39240"/>
                  <a:chOff x="8503200" y="877320"/>
                  <a:chExt cx="152280" cy="3924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850932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850320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851580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8" name=""/>
                <p:cNvGrpSpPr/>
                <p:nvPr/>
              </p:nvGrpSpPr>
              <p:grpSpPr>
                <a:xfrm>
                  <a:off x="8521920" y="837000"/>
                  <a:ext cx="114120" cy="39240"/>
                  <a:chOff x="8521920" y="837000"/>
                  <a:chExt cx="114120" cy="3924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852660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852192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853128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2" name=""/>
                <p:cNvGrpSpPr/>
                <p:nvPr/>
              </p:nvGrpSpPr>
              <p:grpSpPr>
                <a:xfrm>
                  <a:off x="8534880" y="796680"/>
                  <a:ext cx="88920" cy="39240"/>
                  <a:chOff x="8534880" y="796680"/>
                  <a:chExt cx="88920" cy="3924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853848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853488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854208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6" name=""/>
                <p:cNvGrpSpPr/>
                <p:nvPr/>
              </p:nvGrpSpPr>
              <p:grpSpPr>
                <a:xfrm>
                  <a:off x="8547480" y="756360"/>
                  <a:ext cx="63360" cy="39240"/>
                  <a:chOff x="8547480" y="756360"/>
                  <a:chExt cx="63360" cy="39240"/>
                </a:xfrm>
              </p:grpSpPr>
              <p:sp>
                <p:nvSpPr>
                  <p:cNvPr id="757" name=""/>
                  <p:cNvSpPr/>
                  <p:nvPr/>
                </p:nvSpPr>
                <p:spPr>
                  <a:xfrm>
                    <a:off x="855000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854748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855252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60" name=""/>
              <p:cNvSpPr/>
              <p:nvPr/>
            </p:nvSpPr>
            <p:spPr>
              <a:xfrm>
                <a:off x="845136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1" name=""/>
              <p:cNvGrpSpPr/>
              <p:nvPr/>
            </p:nvGrpSpPr>
            <p:grpSpPr>
              <a:xfrm>
                <a:off x="8486640" y="726120"/>
                <a:ext cx="183960" cy="28440"/>
                <a:chOff x="8486640" y="726120"/>
                <a:chExt cx="183960" cy="2844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84866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5266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6454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6050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856512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>
                <a:off x="844416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844956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45712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0" name=""/>
          <p:cNvSpPr/>
          <p:nvPr/>
        </p:nvSpPr>
        <p:spPr>
          <a:xfrm>
            <a:off x="347760" y="4149720"/>
            <a:ext cx="73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e- or DE-emphasis is often realized with current-mode-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 you can define 4 st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 e.g. pre-emphasi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-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74160" y="1125360"/>
            <a:ext cx="7416720" cy="2816280"/>
            <a:chOff x="74160" y="1125360"/>
            <a:chExt cx="7416720" cy="2816280"/>
          </a:xfrm>
        </p:grpSpPr>
        <p:grpSp>
          <p:nvGrpSpPr>
            <p:cNvPr id="772" name=""/>
            <p:cNvGrpSpPr/>
            <p:nvPr/>
          </p:nvGrpSpPr>
          <p:grpSpPr>
            <a:xfrm>
              <a:off x="684360" y="1916280"/>
              <a:ext cx="6481080" cy="1295280"/>
              <a:chOff x="684360" y="1916280"/>
              <a:chExt cx="6481080" cy="1295280"/>
            </a:xfrm>
          </p:grpSpPr>
          <p:sp>
            <p:nvSpPr>
              <p:cNvPr id="773" name=""/>
              <p:cNvSpPr/>
              <p:nvPr/>
            </p:nvSpPr>
            <p:spPr>
              <a:xfrm>
                <a:off x="684360" y="288792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404720" y="1917720"/>
                <a:ext cx="0" cy="96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844720" y="2241360"/>
                <a:ext cx="0" cy="96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284360" y="1917720"/>
                <a:ext cx="0" cy="96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445080" y="2887920"/>
                <a:ext cx="0" cy="32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124000" y="224136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284360" y="191772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565440" y="288792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844720" y="321156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404720" y="191628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005080" y="1917720"/>
                <a:ext cx="0" cy="32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565440" y="2887920"/>
                <a:ext cx="0" cy="32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124000" y="1917720"/>
                <a:ext cx="0" cy="32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724360" y="321156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005080" y="224136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724360" y="2241360"/>
                <a:ext cx="0" cy="96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445080" y="2887920"/>
                <a:ext cx="72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684360" y="3716280"/>
              <a:ext cx="60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684360" y="119700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878880" y="35733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160" y="112536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441520" y="1622160"/>
            <a:ext cx="1468440" cy="662400"/>
            <a:chOff x="2441520" y="1622160"/>
            <a:chExt cx="1468440" cy="662400"/>
          </a:xfrm>
        </p:grpSpPr>
        <p:sp>
          <p:nvSpPr>
            <p:cNvPr id="795" name=""/>
            <p:cNvSpPr/>
            <p:nvPr/>
          </p:nvSpPr>
          <p:spPr>
            <a:xfrm>
              <a:off x="3205080" y="1700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8900000">
              <a:off x="2484360" y="1773000"/>
              <a:ext cx="576360" cy="360360"/>
            </a:xfrm>
            <a:prstGeom prst="leftArrow">
              <a:avLst>
                <a:gd name="adj1" fmla="val 50000"/>
                <a:gd name="adj2" fmla="val 39985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3268440" y="3170160"/>
            <a:ext cx="1712880" cy="662400"/>
            <a:chOff x="3268440" y="3170160"/>
            <a:chExt cx="1712880" cy="662400"/>
          </a:xfrm>
        </p:grpSpPr>
        <p:sp>
          <p:nvSpPr>
            <p:cNvPr id="798" name=""/>
            <p:cNvSpPr/>
            <p:nvPr/>
          </p:nvSpPr>
          <p:spPr>
            <a:xfrm>
              <a:off x="3851280" y="342900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ow-P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2700000">
              <a:off x="3311280" y="3321000"/>
              <a:ext cx="576360" cy="360360"/>
            </a:xfrm>
            <a:prstGeom prst="leftArrow">
              <a:avLst>
                <a:gd name="adj1" fmla="val 50000"/>
                <a:gd name="adj2" fmla="val 39985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6440" y="1261800"/>
            <a:ext cx="1734480" cy="662400"/>
            <a:chOff x="1576440" y="1261800"/>
            <a:chExt cx="1734480" cy="662400"/>
          </a:xfrm>
        </p:grpSpPr>
        <p:sp>
          <p:nvSpPr>
            <p:cNvPr id="801" name=""/>
            <p:cNvSpPr/>
            <p:nvPr/>
          </p:nvSpPr>
          <p:spPr>
            <a:xfrm>
              <a:off x="2124360" y="12682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High-P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8900000">
              <a:off x="1619280" y="1412640"/>
              <a:ext cx="576360" cy="360360"/>
            </a:xfrm>
            <a:prstGeom prst="leftArrow">
              <a:avLst>
                <a:gd name="adj1" fmla="val 50000"/>
                <a:gd name="adj2" fmla="val 39985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891720" y="2881440"/>
            <a:ext cx="1367640" cy="662040"/>
            <a:chOff x="891720" y="2881440"/>
            <a:chExt cx="1367640" cy="662040"/>
          </a:xfrm>
        </p:grpSpPr>
        <p:sp>
          <p:nvSpPr>
            <p:cNvPr id="804" name=""/>
            <p:cNvSpPr/>
            <p:nvPr/>
          </p:nvSpPr>
          <p:spPr>
            <a:xfrm>
              <a:off x="1610640" y="31417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2700000">
              <a:off x="934560" y="3032280"/>
              <a:ext cx="576000" cy="360360"/>
            </a:xfrm>
            <a:prstGeom prst="leftArrow">
              <a:avLst>
                <a:gd name="adj1" fmla="val 50000"/>
                <a:gd name="adj2" fmla="val 39960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6091200" y="4902120"/>
            <a:ext cx="284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ach bit after a 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 the logic stat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‚emphasized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pre-emphasis switching modi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7878600" y="-169560"/>
            <a:ext cx="1265040" cy="1088640"/>
            <a:chOff x="7878600" y="-169560"/>
            <a:chExt cx="1265040" cy="1088640"/>
          </a:xfrm>
        </p:grpSpPr>
        <p:sp>
          <p:nvSpPr>
            <p:cNvPr id="809" name=""/>
            <p:cNvSpPr/>
            <p:nvPr/>
          </p:nvSpPr>
          <p:spPr>
            <a:xfrm>
              <a:off x="7878600" y="-169560"/>
              <a:ext cx="1265040" cy="10886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CML- Preempha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8272080" y="663480"/>
              <a:ext cx="612720" cy="254160"/>
              <a:chOff x="8272080" y="663480"/>
              <a:chExt cx="612720" cy="25416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8272080" y="756360"/>
                <a:ext cx="612720" cy="161280"/>
                <a:chOff x="8272080" y="756360"/>
                <a:chExt cx="612720" cy="161280"/>
              </a:xfrm>
            </p:grpSpPr>
            <p:grpSp>
              <p:nvGrpSpPr>
                <p:cNvPr id="812" name=""/>
                <p:cNvGrpSpPr/>
                <p:nvPr/>
              </p:nvGrpSpPr>
              <p:grpSpPr>
                <a:xfrm>
                  <a:off x="8272080" y="877680"/>
                  <a:ext cx="612720" cy="39960"/>
                  <a:chOff x="8272080" y="877680"/>
                  <a:chExt cx="612720" cy="3996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83743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85788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86810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87832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84765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82720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8323200" y="837000"/>
                  <a:ext cx="510480" cy="39960"/>
                  <a:chOff x="8323200" y="837000"/>
                  <a:chExt cx="510480" cy="3996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83232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85276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86299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87321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84254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8374320" y="756360"/>
                  <a:ext cx="408240" cy="80280"/>
                  <a:chOff x="8374320" y="756360"/>
                  <a:chExt cx="408240" cy="8028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84765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868104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85788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83743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84254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862992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85276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3" name=""/>
              <p:cNvGrpSpPr/>
              <p:nvPr/>
            </p:nvGrpSpPr>
            <p:grpSpPr>
              <a:xfrm>
                <a:off x="8503200" y="756360"/>
                <a:ext cx="152280" cy="160200"/>
                <a:chOff x="8503200" y="756360"/>
                <a:chExt cx="152280" cy="160200"/>
              </a:xfrm>
            </p:grpSpPr>
            <p:grpSp>
              <p:nvGrpSpPr>
                <p:cNvPr id="834" name=""/>
                <p:cNvGrpSpPr/>
                <p:nvPr/>
              </p:nvGrpSpPr>
              <p:grpSpPr>
                <a:xfrm>
                  <a:off x="8503200" y="877320"/>
                  <a:ext cx="152280" cy="39240"/>
                  <a:chOff x="8503200" y="877320"/>
                  <a:chExt cx="152280" cy="39240"/>
                </a:xfrm>
              </p:grpSpPr>
              <p:sp>
                <p:nvSpPr>
                  <p:cNvPr id="835" name=""/>
                  <p:cNvSpPr/>
                  <p:nvPr/>
                </p:nvSpPr>
                <p:spPr>
                  <a:xfrm>
                    <a:off x="850932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850320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851580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"/>
                <p:cNvGrpSpPr/>
                <p:nvPr/>
              </p:nvGrpSpPr>
              <p:grpSpPr>
                <a:xfrm>
                  <a:off x="8521920" y="837000"/>
                  <a:ext cx="114120" cy="39240"/>
                  <a:chOff x="8521920" y="837000"/>
                  <a:chExt cx="114120" cy="3924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>
                    <a:off x="852660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852192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853128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8534880" y="796680"/>
                  <a:ext cx="88920" cy="39240"/>
                  <a:chOff x="8534880" y="796680"/>
                  <a:chExt cx="88920" cy="3924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>
                    <a:off x="853848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853488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854208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8547480" y="756360"/>
                  <a:ext cx="63360" cy="39240"/>
                  <a:chOff x="8547480" y="756360"/>
                  <a:chExt cx="63360" cy="3924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855000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854748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855252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0" name=""/>
              <p:cNvSpPr/>
              <p:nvPr/>
            </p:nvSpPr>
            <p:spPr>
              <a:xfrm>
                <a:off x="845136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8486640" y="726120"/>
                <a:ext cx="183960" cy="28440"/>
                <a:chOff x="8486640" y="726120"/>
                <a:chExt cx="183960" cy="2844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84866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85266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86454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86050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56512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"/>
              <p:cNvSpPr/>
              <p:nvPr/>
            </p:nvSpPr>
            <p:spPr>
              <a:xfrm>
                <a:off x="844416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844956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5712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"/>
          <p:cNvGrpSpPr/>
          <p:nvPr/>
        </p:nvGrpSpPr>
        <p:grpSpPr>
          <a:xfrm>
            <a:off x="250920" y="944640"/>
            <a:ext cx="6481800" cy="1875240"/>
            <a:chOff x="250920" y="944640"/>
            <a:chExt cx="6481800" cy="1875240"/>
          </a:xfrm>
        </p:grpSpPr>
        <p:grpSp>
          <p:nvGrpSpPr>
            <p:cNvPr id="861" name=""/>
            <p:cNvGrpSpPr/>
            <p:nvPr/>
          </p:nvGrpSpPr>
          <p:grpSpPr>
            <a:xfrm>
              <a:off x="250920" y="1341360"/>
              <a:ext cx="6481800" cy="1295640"/>
              <a:chOff x="250920" y="1341360"/>
              <a:chExt cx="6481800" cy="1295640"/>
            </a:xfrm>
          </p:grpSpPr>
          <p:sp>
            <p:nvSpPr>
              <p:cNvPr id="862" name=""/>
              <p:cNvSpPr/>
              <p:nvPr/>
            </p:nvSpPr>
            <p:spPr>
              <a:xfrm>
                <a:off x="250920" y="2313360"/>
                <a:ext cx="72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971640" y="1342800"/>
                <a:ext cx="0" cy="96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411640" y="1666440"/>
                <a:ext cx="0" cy="96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851280" y="1342800"/>
                <a:ext cx="0" cy="96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012000" y="2313360"/>
                <a:ext cx="0" cy="32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690920" y="1666440"/>
                <a:ext cx="72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851280" y="1342800"/>
                <a:ext cx="72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132360" y="2313360"/>
                <a:ext cx="72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411640" y="2637000"/>
                <a:ext cx="72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971640" y="1341360"/>
                <a:ext cx="72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572000" y="1342800"/>
                <a:ext cx="0" cy="32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132360" y="2313360"/>
                <a:ext cx="0" cy="32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690920" y="1342800"/>
                <a:ext cx="0" cy="322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291280" y="2637000"/>
                <a:ext cx="72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572000" y="1666440"/>
                <a:ext cx="72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291280" y="1666440"/>
                <a:ext cx="0" cy="96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012000" y="2313360"/>
                <a:ext cx="720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2485800" y="1484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32000" y="242100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ow-P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19640" y="94464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High-P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44000" y="198900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059280" y="1341360"/>
            <a:ext cx="5789520" cy="2570760"/>
            <a:chOff x="3059280" y="1341360"/>
            <a:chExt cx="5789520" cy="2570760"/>
          </a:xfrm>
        </p:grpSpPr>
        <p:sp>
          <p:nvSpPr>
            <p:cNvPr id="884" name=""/>
            <p:cNvSpPr/>
            <p:nvPr/>
          </p:nvSpPr>
          <p:spPr>
            <a:xfrm>
              <a:off x="4079880" y="3208320"/>
              <a:ext cx="4768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Low-Pre </a:t>
              </a:r>
              <a:r>
                <a:rPr b="1" lang="de-DE" sz="2000" spc="-1" strike="noStrike">
                  <a:solidFill>
                    <a:srgbClr val="ff9900"/>
                  </a:solidFill>
                  <a:latin typeface="Wingdings"/>
                  <a:ea typeface="Wingdings"/>
                </a:rPr>
                <a:t>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 High-Pre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	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	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…10</a:t>
              </a:r>
              <a:r>
                <a:rPr b="1" lang="de-DE" sz="2000" spc="-1" strike="noStrike">
                  <a:solidFill>
                    <a:srgbClr val="ff9900"/>
                  </a:solidFill>
                  <a:latin typeface="Wingdings"/>
                  <a:ea typeface="Wingdings"/>
                </a:rPr>
                <a:t>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49600" y="3224160"/>
              <a:ext cx="433440" cy="432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59280" y="1989000"/>
              <a:ext cx="433080" cy="432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92360" y="1341360"/>
              <a:ext cx="287640" cy="1295640"/>
            </a:xfrm>
            <a:prstGeom prst="upArrow">
              <a:avLst>
                <a:gd name="adj1" fmla="val 50000"/>
                <a:gd name="adj2" fmla="val 11261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619200" y="3699000"/>
            <a:ext cx="212256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re exist 4 possible switching m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3549600" y="1700280"/>
            <a:ext cx="5299200" cy="4386240"/>
            <a:chOff x="3549600" y="1700280"/>
            <a:chExt cx="5299200" cy="4386240"/>
          </a:xfrm>
        </p:grpSpPr>
        <p:sp>
          <p:nvSpPr>
            <p:cNvPr id="890" name=""/>
            <p:cNvSpPr/>
            <p:nvPr/>
          </p:nvSpPr>
          <p:spPr>
            <a:xfrm>
              <a:off x="3549600" y="5654520"/>
              <a:ext cx="433440" cy="432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51640" y="1773360"/>
              <a:ext cx="43308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364000" y="1700280"/>
              <a:ext cx="287640" cy="936720"/>
            </a:xfrm>
            <a:prstGeom prst="upArrow">
              <a:avLst>
                <a:gd name="adj1" fmla="val 50000"/>
                <a:gd name="adj2" fmla="val 8141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079880" y="5665680"/>
              <a:ext cx="47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High </a:t>
              </a:r>
              <a:r>
                <a:rPr b="1" lang="de-DE" sz="2000" spc="-1" strike="noStrike">
                  <a:solidFill>
                    <a:srgbClr val="ff9900"/>
                  </a:solidFill>
                  <a:latin typeface="Wingdings"/>
                  <a:ea typeface="Wingdings"/>
                </a:rPr>
                <a:t>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  Low-Pre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	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	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…11</a:t>
              </a:r>
              <a:r>
                <a:rPr b="1" lang="de-DE" sz="2000" spc="-1" strike="noStrike">
                  <a:solidFill>
                    <a:srgbClr val="ff9900"/>
                  </a:solidFill>
                  <a:latin typeface="Wingdings"/>
                  <a:ea typeface="Wingdings"/>
                </a:rPr>
                <a:t>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549600" y="1341000"/>
            <a:ext cx="5299200" cy="4465080"/>
            <a:chOff x="3549600" y="1341000"/>
            <a:chExt cx="5299200" cy="4465080"/>
          </a:xfrm>
        </p:grpSpPr>
        <p:sp>
          <p:nvSpPr>
            <p:cNvPr id="895" name=""/>
            <p:cNvSpPr/>
            <p:nvPr/>
          </p:nvSpPr>
          <p:spPr>
            <a:xfrm>
              <a:off x="3549600" y="5091120"/>
              <a:ext cx="43344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356000" y="1773360"/>
              <a:ext cx="43344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4788000" y="1340640"/>
              <a:ext cx="287280" cy="1295640"/>
            </a:xfrm>
            <a:prstGeom prst="upArrow">
              <a:avLst>
                <a:gd name="adj1" fmla="val 50000"/>
                <a:gd name="adj2" fmla="val 11275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079880" y="5102280"/>
              <a:ext cx="4768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High-Pre </a:t>
              </a:r>
              <a:r>
                <a:rPr b="1" lang="de-DE" sz="2000" spc="-1" strike="noStrike">
                  <a:solidFill>
                    <a:srgbClr val="ff9900"/>
                  </a:solidFill>
                  <a:latin typeface="Wingdings"/>
                  <a:ea typeface="Wingdings"/>
                </a:rPr>
                <a:t>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 Low-Pre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	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	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…01</a:t>
              </a:r>
              <a:r>
                <a:rPr b="1" lang="de-DE" sz="2000" spc="-1" strike="noStrike">
                  <a:solidFill>
                    <a:srgbClr val="ff9900"/>
                  </a:solidFill>
                  <a:latin typeface="Wingdings"/>
                  <a:ea typeface="Wingdings"/>
                </a:rPr>
                <a:t>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250920" y="1341360"/>
            <a:ext cx="8597880" cy="2976480"/>
            <a:chOff x="250920" y="1341360"/>
            <a:chExt cx="8597880" cy="2976480"/>
          </a:xfrm>
        </p:grpSpPr>
        <p:sp>
          <p:nvSpPr>
            <p:cNvPr id="900" name=""/>
            <p:cNvSpPr/>
            <p:nvPr/>
          </p:nvSpPr>
          <p:spPr>
            <a:xfrm>
              <a:off x="3549600" y="3886200"/>
              <a:ext cx="43344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50920" y="1628640"/>
              <a:ext cx="433440" cy="432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4360" y="1341360"/>
              <a:ext cx="287280" cy="936720"/>
            </a:xfrm>
            <a:prstGeom prst="upArrow">
              <a:avLst>
                <a:gd name="adj1" fmla="val 50000"/>
                <a:gd name="adj2" fmla="val 8151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079880" y="3871800"/>
              <a:ext cx="47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Low </a:t>
              </a:r>
              <a:r>
                <a:rPr b="1" lang="de-DE" sz="2000" spc="-1" strike="noStrike">
                  <a:solidFill>
                    <a:srgbClr val="ff9900"/>
                  </a:solidFill>
                  <a:latin typeface="Wingdings"/>
                  <a:ea typeface="Wingdings"/>
                </a:rPr>
                <a:t>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 High Pre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	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	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…00</a:t>
              </a:r>
              <a:r>
                <a:rPr b="1" lang="de-DE" sz="2000" spc="-1" strike="noStrike">
                  <a:solidFill>
                    <a:srgbClr val="ff9900"/>
                  </a:solidFill>
                  <a:latin typeface="Wingdings"/>
                  <a:ea typeface="Wingdings"/>
                </a:rPr>
                <a:t></a:t>
              </a:r>
              <a:r>
                <a:rPr b="1" lang="de-DE" sz="2000" spc="-1" strike="noStrike">
                  <a:solidFill>
                    <a:srgbClr val="ff99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485784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02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4041720" y="6635880"/>
            <a:ext cx="528840" cy="22212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1400040" y="3286800"/>
            <a:ext cx="1893960" cy="1819800"/>
          </a:xfrm>
          <a:prstGeom prst="horizontalScroll">
            <a:avLst>
              <a:gd name="adj" fmla="val 12500"/>
            </a:avLst>
          </a:prstGeom>
          <a:solidFill>
            <a:srgbClr val="ffcc00">
              <a:alpha val="50000"/>
            </a:srgbClr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Monotype Corsiva"/>
              </a:rPr>
              <a:t>driver schedule: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Monotype Corsiva"/>
              </a:rPr>
              <a:t>püre-/de-emphasis and frequency/data-rate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1463760" y="4646520"/>
            <a:ext cx="1955880" cy="811440"/>
            <a:chOff x="1463760" y="4646520"/>
            <a:chExt cx="1955880" cy="811440"/>
          </a:xfrm>
        </p:grpSpPr>
        <p:grpSp>
          <p:nvGrpSpPr>
            <p:cNvPr id="909" name=""/>
            <p:cNvGrpSpPr/>
            <p:nvPr/>
          </p:nvGrpSpPr>
          <p:grpSpPr>
            <a:xfrm>
              <a:off x="1463760" y="4943160"/>
              <a:ext cx="1955880" cy="514800"/>
              <a:chOff x="1463760" y="4943160"/>
              <a:chExt cx="1955880" cy="514800"/>
            </a:xfrm>
          </p:grpSpPr>
          <p:grpSp>
            <p:nvGrpSpPr>
              <p:cNvPr id="910" name=""/>
              <p:cNvGrpSpPr/>
              <p:nvPr/>
            </p:nvGrpSpPr>
            <p:grpSpPr>
              <a:xfrm>
                <a:off x="1463760" y="5330160"/>
                <a:ext cx="1955880" cy="127800"/>
                <a:chOff x="1463760" y="5330160"/>
                <a:chExt cx="1955880" cy="12780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1789920" y="5330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2442600" y="5330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2768760" y="5330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095280" y="5330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2116080" y="5330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463760" y="5330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1627560" y="5200920"/>
                <a:ext cx="1629720" cy="127800"/>
                <a:chOff x="1627560" y="5200920"/>
                <a:chExt cx="1629720" cy="12780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1627560" y="52009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280240" y="52009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2606400" y="52009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932920" y="52009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953720" y="520092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3" name=""/>
              <p:cNvGrpSpPr/>
              <p:nvPr/>
            </p:nvGrpSpPr>
            <p:grpSpPr>
              <a:xfrm>
                <a:off x="1790640" y="4943160"/>
                <a:ext cx="1303200" cy="256680"/>
                <a:chOff x="1790640" y="4943160"/>
                <a:chExt cx="1303200" cy="25668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2116800" y="50720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2769480" y="50720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2442960" y="50720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1790640" y="507204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1954440" y="4943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2607120" y="4943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2280600" y="4943160"/>
                  <a:ext cx="324360" cy="127800"/>
                </a:xfrm>
                <a:prstGeom prst="rect">
                  <a:avLst/>
                </a:prstGeom>
                <a:solidFill>
                  <a:srgbClr val="ffcc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1" name=""/>
            <p:cNvGrpSpPr/>
            <p:nvPr/>
          </p:nvGrpSpPr>
          <p:grpSpPr>
            <a:xfrm>
              <a:off x="2202120" y="4943160"/>
              <a:ext cx="486360" cy="512640"/>
              <a:chOff x="2202120" y="4943160"/>
              <a:chExt cx="486360" cy="512640"/>
            </a:xfrm>
          </p:grpSpPr>
          <p:grpSp>
            <p:nvGrpSpPr>
              <p:cNvPr id="932" name=""/>
              <p:cNvGrpSpPr/>
              <p:nvPr/>
            </p:nvGrpSpPr>
            <p:grpSpPr>
              <a:xfrm>
                <a:off x="2202120" y="5329800"/>
                <a:ext cx="486360" cy="126000"/>
                <a:chOff x="2202120" y="5329800"/>
                <a:chExt cx="486360" cy="12600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2222280" y="5370840"/>
                  <a:ext cx="44604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2202120" y="5413320"/>
                  <a:ext cx="48636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2242440" y="5329800"/>
                  <a:ext cx="40536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2262600" y="5200920"/>
                <a:ext cx="364680" cy="126000"/>
                <a:chOff x="2262600" y="5200920"/>
                <a:chExt cx="364680" cy="12600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2277720" y="5241960"/>
                  <a:ext cx="33444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2262600" y="5284440"/>
                  <a:ext cx="364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2292840" y="5200920"/>
                  <a:ext cx="30420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2303640" y="5072040"/>
                <a:ext cx="283680" cy="126000"/>
                <a:chOff x="2303640" y="5072040"/>
                <a:chExt cx="283680" cy="12600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2315160" y="5113080"/>
                  <a:ext cx="2602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2303640" y="5155560"/>
                  <a:ext cx="283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2327040" y="5072040"/>
                  <a:ext cx="23652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2344320" y="4943160"/>
                <a:ext cx="202680" cy="126000"/>
                <a:chOff x="2344320" y="4943160"/>
                <a:chExt cx="202680" cy="12600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2352600" y="4984200"/>
                  <a:ext cx="18612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2344320" y="5026680"/>
                  <a:ext cx="20268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2360880" y="4943160"/>
                  <a:ext cx="169200" cy="42480"/>
                </a:xfrm>
                <a:prstGeom prst="rect">
                  <a:avLst/>
                </a:prstGeom>
                <a:solidFill>
                  <a:srgbClr val="ff9900">
                    <a:alpha val="50000"/>
                  </a:srgbClr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8" name=""/>
            <p:cNvSpPr/>
            <p:nvPr/>
          </p:nvSpPr>
          <p:spPr>
            <a:xfrm>
              <a:off x="2036880" y="4788360"/>
              <a:ext cx="811080" cy="1522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"/>
            <p:cNvGrpSpPr/>
            <p:nvPr/>
          </p:nvGrpSpPr>
          <p:grpSpPr>
            <a:xfrm>
              <a:off x="2148840" y="4846680"/>
              <a:ext cx="587160" cy="91440"/>
              <a:chOff x="2148840" y="4846680"/>
              <a:chExt cx="587160" cy="91440"/>
            </a:xfrm>
          </p:grpSpPr>
          <p:sp>
            <p:nvSpPr>
              <p:cNvPr id="950" name=""/>
              <p:cNvSpPr/>
              <p:nvPr/>
            </p:nvSpPr>
            <p:spPr>
              <a:xfrm>
                <a:off x="2148840" y="484668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276640" y="4846680"/>
                <a:ext cx="81000" cy="9108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55000" y="484668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526480" y="484668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399760" y="4846680"/>
                <a:ext cx="81000" cy="91440"/>
              </a:xfrm>
              <a:prstGeom prst="rect">
                <a:avLst/>
              </a:prstGeom>
              <a:solidFill>
                <a:srgbClr val="660066">
                  <a:alpha val="50000"/>
                </a:srgbClr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2013120" y="4775400"/>
              <a:ext cx="858600" cy="25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2030400" y="4672440"/>
              <a:ext cx="824040" cy="102960"/>
            </a:xfrm>
            <a:custGeom>
              <a:avLst/>
              <a:gdLst>
                <a:gd name="textAreaLeft" fmla="*/ 85680 w 824040"/>
                <a:gd name="textAreaRight" fmla="*/ 738360 w 824040"/>
                <a:gd name="textAreaTop" fmla="*/ 10440 h 102960"/>
                <a:gd name="textAreaBottom" fmla="*/ 92520 h 10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01" y="21600"/>
                  </a:lnTo>
                  <a:lnTo>
                    <a:pt x="899" y="2160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54880" y="4646520"/>
              <a:ext cx="770760" cy="2556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3124800" y="4325760"/>
            <a:ext cx="1868040" cy="852120"/>
            <a:chOff x="3124800" y="4325760"/>
            <a:chExt cx="1868040" cy="852120"/>
          </a:xfrm>
        </p:grpSpPr>
        <p:sp>
          <p:nvSpPr>
            <p:cNvPr id="959" name=""/>
            <p:cNvSpPr/>
            <p:nvPr/>
          </p:nvSpPr>
          <p:spPr>
            <a:xfrm>
              <a:off x="3124800" y="4325760"/>
              <a:ext cx="1868040" cy="3992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Pre- / De-empha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3404880" y="4671720"/>
              <a:ext cx="1220760" cy="506160"/>
              <a:chOff x="3404880" y="4671720"/>
              <a:chExt cx="1220760" cy="506160"/>
            </a:xfrm>
          </p:grpSpPr>
          <p:grpSp>
            <p:nvGrpSpPr>
              <p:cNvPr id="961" name=""/>
              <p:cNvGrpSpPr/>
              <p:nvPr/>
            </p:nvGrpSpPr>
            <p:grpSpPr>
              <a:xfrm>
                <a:off x="3404880" y="4856760"/>
                <a:ext cx="1220760" cy="321120"/>
                <a:chOff x="3404880" y="4856760"/>
                <a:chExt cx="1220760" cy="321120"/>
              </a:xfrm>
            </p:grpSpPr>
            <p:grpSp>
              <p:nvGrpSpPr>
                <p:cNvPr id="962" name=""/>
                <p:cNvGrpSpPr/>
                <p:nvPr/>
              </p:nvGrpSpPr>
              <p:grpSpPr>
                <a:xfrm>
                  <a:off x="3404880" y="5098320"/>
                  <a:ext cx="1220760" cy="79560"/>
                  <a:chOff x="3404880" y="5098320"/>
                  <a:chExt cx="1220760" cy="7956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>
                    <a:off x="3608280" y="50983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4015800" y="50983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219560" y="50983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4423320" y="50983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3812040" y="50983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404880" y="50983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3507120" y="5017680"/>
                  <a:ext cx="1017000" cy="79560"/>
                  <a:chOff x="3507120" y="5017680"/>
                  <a:chExt cx="1017000" cy="7956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>
                    <a:off x="3507120" y="50176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3914280" y="50176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4118040" y="50176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4321800" y="50176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3710520" y="50176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" name=""/>
                <p:cNvGrpSpPr/>
                <p:nvPr/>
              </p:nvGrpSpPr>
              <p:grpSpPr>
                <a:xfrm>
                  <a:off x="3609000" y="4856760"/>
                  <a:ext cx="813240" cy="159840"/>
                  <a:chOff x="3609000" y="4856760"/>
                  <a:chExt cx="813240" cy="15984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>
                    <a:off x="3812760" y="49370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4219920" y="49370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4016520" y="49370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3609000" y="493704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3711240" y="4856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4118760" y="4856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3915000" y="48567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3" name=""/>
              <p:cNvGrpSpPr/>
              <p:nvPr/>
            </p:nvGrpSpPr>
            <p:grpSpPr>
              <a:xfrm>
                <a:off x="3865320" y="4856760"/>
                <a:ext cx="304200" cy="320400"/>
                <a:chOff x="3865320" y="4856760"/>
                <a:chExt cx="304200" cy="320400"/>
              </a:xfrm>
            </p:grpSpPr>
            <p:grpSp>
              <p:nvGrpSpPr>
                <p:cNvPr id="984" name=""/>
                <p:cNvGrpSpPr/>
                <p:nvPr/>
              </p:nvGrpSpPr>
              <p:grpSpPr>
                <a:xfrm>
                  <a:off x="3865320" y="5098320"/>
                  <a:ext cx="304200" cy="78840"/>
                  <a:chOff x="3865320" y="5098320"/>
                  <a:chExt cx="304200" cy="7884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3877920" y="5124240"/>
                    <a:ext cx="2790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3865320" y="5150520"/>
                    <a:ext cx="3042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3890520" y="5098320"/>
                    <a:ext cx="2538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" name=""/>
                <p:cNvGrpSpPr/>
                <p:nvPr/>
              </p:nvGrpSpPr>
              <p:grpSpPr>
                <a:xfrm>
                  <a:off x="3903120" y="5017680"/>
                  <a:ext cx="228240" cy="78840"/>
                  <a:chOff x="3903120" y="5017680"/>
                  <a:chExt cx="228240" cy="78840"/>
                </a:xfrm>
              </p:grpSpPr>
              <p:sp>
                <p:nvSpPr>
                  <p:cNvPr id="989" name=""/>
                  <p:cNvSpPr/>
                  <p:nvPr/>
                </p:nvSpPr>
                <p:spPr>
                  <a:xfrm>
                    <a:off x="3912480" y="5043600"/>
                    <a:ext cx="209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903120" y="5069880"/>
                    <a:ext cx="2282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3921840" y="5017680"/>
                    <a:ext cx="1904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2" name=""/>
                <p:cNvGrpSpPr/>
                <p:nvPr/>
              </p:nvGrpSpPr>
              <p:grpSpPr>
                <a:xfrm>
                  <a:off x="3928680" y="4937040"/>
                  <a:ext cx="177480" cy="78840"/>
                  <a:chOff x="3928680" y="4937040"/>
                  <a:chExt cx="177480" cy="7884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>
                    <a:off x="3935880" y="4962960"/>
                    <a:ext cx="162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3928680" y="4989240"/>
                    <a:ext cx="177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3943440" y="4937040"/>
                    <a:ext cx="1479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6" name=""/>
                <p:cNvGrpSpPr/>
                <p:nvPr/>
              </p:nvGrpSpPr>
              <p:grpSpPr>
                <a:xfrm>
                  <a:off x="3954240" y="4856760"/>
                  <a:ext cx="126720" cy="78840"/>
                  <a:chOff x="3954240" y="4856760"/>
                  <a:chExt cx="126720" cy="78840"/>
                </a:xfrm>
              </p:grpSpPr>
              <p:sp>
                <p:nvSpPr>
                  <p:cNvPr id="997" name=""/>
                  <p:cNvSpPr/>
                  <p:nvPr/>
                </p:nvSpPr>
                <p:spPr>
                  <a:xfrm>
                    <a:off x="3959280" y="4882680"/>
                    <a:ext cx="116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3954240" y="4908960"/>
                    <a:ext cx="126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3964680" y="4856760"/>
                    <a:ext cx="1058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00" name=""/>
              <p:cNvSpPr/>
              <p:nvPr/>
            </p:nvSpPr>
            <p:spPr>
              <a:xfrm>
                <a:off x="3762000" y="4760640"/>
                <a:ext cx="506880" cy="9468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3831840" y="4796280"/>
                <a:ext cx="366480" cy="56880"/>
                <a:chOff x="3831840" y="4796280"/>
                <a:chExt cx="366480" cy="568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3831840" y="479628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912120" y="479628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147560" y="479628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067640" y="4796280"/>
                  <a:ext cx="5076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988800" y="4796280"/>
                  <a:ext cx="5004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7" name=""/>
              <p:cNvSpPr/>
              <p:nvPr/>
            </p:nvSpPr>
            <p:spPr>
              <a:xfrm>
                <a:off x="3747960" y="4751640"/>
                <a:ext cx="53604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3758040" y="4687560"/>
                <a:ext cx="514800" cy="64080"/>
              </a:xfrm>
              <a:custGeom>
                <a:avLst/>
                <a:gdLst>
                  <a:gd name="textAreaLeft" fmla="*/ 53640 w 514800"/>
                  <a:gd name="textAreaRight" fmla="*/ 461160 w 51480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773880" y="4671720"/>
                <a:ext cx="48024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0" name=""/>
          <p:cNvGrpSpPr/>
          <p:nvPr/>
        </p:nvGrpSpPr>
        <p:grpSpPr>
          <a:xfrm>
            <a:off x="254160" y="5389560"/>
            <a:ext cx="1422360" cy="851760"/>
            <a:chOff x="254160" y="5389560"/>
            <a:chExt cx="1422360" cy="851760"/>
          </a:xfrm>
        </p:grpSpPr>
        <p:sp>
          <p:nvSpPr>
            <p:cNvPr id="1011" name=""/>
            <p:cNvSpPr/>
            <p:nvPr/>
          </p:nvSpPr>
          <p:spPr>
            <a:xfrm>
              <a:off x="445680" y="5389560"/>
              <a:ext cx="1080000" cy="39960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Exam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254160" y="5735880"/>
              <a:ext cx="1422360" cy="505440"/>
              <a:chOff x="254160" y="5735880"/>
              <a:chExt cx="1422360" cy="505440"/>
            </a:xfrm>
          </p:grpSpPr>
          <p:grpSp>
            <p:nvGrpSpPr>
              <p:cNvPr id="1013" name=""/>
              <p:cNvGrpSpPr/>
              <p:nvPr/>
            </p:nvGrpSpPr>
            <p:grpSpPr>
              <a:xfrm>
                <a:off x="254160" y="5920560"/>
                <a:ext cx="1422360" cy="320760"/>
                <a:chOff x="254160" y="5920560"/>
                <a:chExt cx="1422360" cy="320760"/>
              </a:xfrm>
            </p:grpSpPr>
            <p:grpSp>
              <p:nvGrpSpPr>
                <p:cNvPr id="1014" name=""/>
                <p:cNvGrpSpPr/>
                <p:nvPr/>
              </p:nvGrpSpPr>
              <p:grpSpPr>
                <a:xfrm>
                  <a:off x="254160" y="6161760"/>
                  <a:ext cx="1422360" cy="79560"/>
                  <a:chOff x="254160" y="6161760"/>
                  <a:chExt cx="1422360" cy="79560"/>
                </a:xfrm>
              </p:grpSpPr>
              <p:sp>
                <p:nvSpPr>
                  <p:cNvPr id="1015" name=""/>
                  <p:cNvSpPr/>
                  <p:nvPr/>
                </p:nvSpPr>
                <p:spPr>
                  <a:xfrm>
                    <a:off x="491400" y="616176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965880" y="616176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1203480" y="616176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1440720" y="616176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28640" y="616176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254160" y="616176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"/>
                <p:cNvGrpSpPr/>
                <p:nvPr/>
              </p:nvGrpSpPr>
              <p:grpSpPr>
                <a:xfrm>
                  <a:off x="373320" y="6081120"/>
                  <a:ext cx="1185120" cy="79560"/>
                  <a:chOff x="373320" y="6081120"/>
                  <a:chExt cx="1185120" cy="7956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373320" y="60811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847800" y="60811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1085040" y="60811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1322640" y="60811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610560" y="608112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491760" y="5920560"/>
                  <a:ext cx="947880" cy="159840"/>
                  <a:chOff x="491760" y="5920560"/>
                  <a:chExt cx="947880" cy="15984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729000" y="600084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1203840" y="600084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966240" y="600084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491760" y="600084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10920" y="592056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085400" y="592056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848160" y="5920560"/>
                    <a:ext cx="23580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5" name=""/>
              <p:cNvGrpSpPr/>
              <p:nvPr/>
            </p:nvGrpSpPr>
            <p:grpSpPr>
              <a:xfrm>
                <a:off x="790920" y="5920560"/>
                <a:ext cx="354240" cy="320040"/>
                <a:chOff x="790920" y="5920560"/>
                <a:chExt cx="354240" cy="320040"/>
              </a:xfrm>
            </p:grpSpPr>
            <p:grpSp>
              <p:nvGrpSpPr>
                <p:cNvPr id="1036" name=""/>
                <p:cNvGrpSpPr/>
                <p:nvPr/>
              </p:nvGrpSpPr>
              <p:grpSpPr>
                <a:xfrm>
                  <a:off x="790920" y="6161760"/>
                  <a:ext cx="354240" cy="78840"/>
                  <a:chOff x="790920" y="6161760"/>
                  <a:chExt cx="354240" cy="7884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805320" y="6187680"/>
                    <a:ext cx="3250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790920" y="6213960"/>
                    <a:ext cx="3542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820080" y="6161760"/>
                    <a:ext cx="2952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0" name=""/>
                <p:cNvGrpSpPr/>
                <p:nvPr/>
              </p:nvGrpSpPr>
              <p:grpSpPr>
                <a:xfrm>
                  <a:off x="835200" y="6081480"/>
                  <a:ext cx="265680" cy="78840"/>
                  <a:chOff x="835200" y="6081480"/>
                  <a:chExt cx="265680" cy="78840"/>
                </a:xfrm>
              </p:grpSpPr>
              <p:sp>
                <p:nvSpPr>
                  <p:cNvPr id="1041" name=""/>
                  <p:cNvSpPr/>
                  <p:nvPr/>
                </p:nvSpPr>
                <p:spPr>
                  <a:xfrm>
                    <a:off x="846000" y="6107400"/>
                    <a:ext cx="243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835200" y="6133680"/>
                    <a:ext cx="2656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857160" y="6081480"/>
                    <a:ext cx="2214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4" name=""/>
                <p:cNvGrpSpPr/>
                <p:nvPr/>
              </p:nvGrpSpPr>
              <p:grpSpPr>
                <a:xfrm>
                  <a:off x="864720" y="6000840"/>
                  <a:ext cx="206640" cy="78480"/>
                  <a:chOff x="864720" y="6000840"/>
                  <a:chExt cx="206640" cy="7848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>
                    <a:off x="873000" y="6026400"/>
                    <a:ext cx="189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864720" y="6052680"/>
                    <a:ext cx="2066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881640" y="6000840"/>
                    <a:ext cx="1724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894240" y="5920560"/>
                  <a:ext cx="147600" cy="78840"/>
                  <a:chOff x="894240" y="5920560"/>
                  <a:chExt cx="147600" cy="7884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900360" y="5946480"/>
                    <a:ext cx="135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894240" y="5972760"/>
                    <a:ext cx="147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906480" y="5920560"/>
                    <a:ext cx="1231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52" name=""/>
              <p:cNvSpPr/>
              <p:nvPr/>
            </p:nvSpPr>
            <p:spPr>
              <a:xfrm>
                <a:off x="671040" y="5824440"/>
                <a:ext cx="589320" cy="9432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752040" y="5860440"/>
                <a:ext cx="426960" cy="56880"/>
                <a:chOff x="752040" y="5860440"/>
                <a:chExt cx="426960" cy="568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52040" y="586044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44920" y="5860440"/>
                  <a:ext cx="5940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120320" y="586044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1026720" y="5860440"/>
                  <a:ext cx="586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934560" y="5860440"/>
                  <a:ext cx="5868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>
                <a:off x="653400" y="5815800"/>
                <a:ext cx="62424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666360" y="5751720"/>
                <a:ext cx="599400" cy="64080"/>
              </a:xfrm>
              <a:custGeom>
                <a:avLst/>
                <a:gdLst>
                  <a:gd name="textAreaLeft" fmla="*/ 62280 w 599400"/>
                  <a:gd name="textAreaRight" fmla="*/ 537120 w 59940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84360" y="5735880"/>
                <a:ext cx="55980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2" name=""/>
          <p:cNvGrpSpPr/>
          <p:nvPr/>
        </p:nvGrpSpPr>
        <p:grpSpPr>
          <a:xfrm>
            <a:off x="1522800" y="5778360"/>
            <a:ext cx="2023560" cy="852120"/>
            <a:chOff x="1522800" y="5778360"/>
            <a:chExt cx="2023560" cy="852120"/>
          </a:xfrm>
        </p:grpSpPr>
        <p:sp>
          <p:nvSpPr>
            <p:cNvPr id="1063" name=""/>
            <p:cNvSpPr/>
            <p:nvPr/>
          </p:nvSpPr>
          <p:spPr>
            <a:xfrm>
              <a:off x="1522800" y="5778360"/>
              <a:ext cx="2023560" cy="3992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Frequency /data 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1871640" y="6125040"/>
              <a:ext cx="1275120" cy="505440"/>
              <a:chOff x="1871640" y="6125040"/>
              <a:chExt cx="1275120" cy="505440"/>
            </a:xfrm>
          </p:grpSpPr>
          <p:grpSp>
            <p:nvGrpSpPr>
              <p:cNvPr id="1065" name=""/>
              <p:cNvGrpSpPr/>
              <p:nvPr/>
            </p:nvGrpSpPr>
            <p:grpSpPr>
              <a:xfrm>
                <a:off x="1871640" y="6309720"/>
                <a:ext cx="1275120" cy="320760"/>
                <a:chOff x="1871640" y="6309720"/>
                <a:chExt cx="1275120" cy="320760"/>
              </a:xfrm>
            </p:grpSpPr>
            <p:grpSp>
              <p:nvGrpSpPr>
                <p:cNvPr id="1066" name=""/>
                <p:cNvGrpSpPr/>
                <p:nvPr/>
              </p:nvGrpSpPr>
              <p:grpSpPr>
                <a:xfrm>
                  <a:off x="1871640" y="6550920"/>
                  <a:ext cx="1275120" cy="79560"/>
                  <a:chOff x="1871640" y="6550920"/>
                  <a:chExt cx="1275120" cy="7956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2084400" y="655092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509920" y="655092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722680" y="655092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935440" y="655092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297160" y="655092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1871640" y="655092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1978200" y="6470280"/>
                  <a:ext cx="1062720" cy="79560"/>
                  <a:chOff x="1978200" y="6470280"/>
                  <a:chExt cx="1062720" cy="7956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>
                    <a:off x="1978200" y="647028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403720" y="647028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2616480" y="647028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2829240" y="647028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190960" y="647028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2084760" y="6309720"/>
                  <a:ext cx="849960" cy="159840"/>
                  <a:chOff x="2084760" y="6309720"/>
                  <a:chExt cx="849960" cy="15984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2297520" y="639000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723040" y="639000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510280" y="639000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084760" y="639000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191320" y="630972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617200" y="6309720"/>
                    <a:ext cx="21168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404440" y="6309720"/>
                    <a:ext cx="211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7" name=""/>
              <p:cNvGrpSpPr/>
              <p:nvPr/>
            </p:nvGrpSpPr>
            <p:grpSpPr>
              <a:xfrm>
                <a:off x="2352960" y="6309720"/>
                <a:ext cx="317520" cy="319680"/>
                <a:chOff x="2352960" y="6309720"/>
                <a:chExt cx="317520" cy="319680"/>
              </a:xfrm>
            </p:grpSpPr>
            <p:grpSp>
              <p:nvGrpSpPr>
                <p:cNvPr id="1088" name=""/>
                <p:cNvGrpSpPr/>
                <p:nvPr/>
              </p:nvGrpSpPr>
              <p:grpSpPr>
                <a:xfrm>
                  <a:off x="2352960" y="6550920"/>
                  <a:ext cx="317520" cy="78480"/>
                  <a:chOff x="2352960" y="6550920"/>
                  <a:chExt cx="317520" cy="78480"/>
                </a:xfrm>
              </p:grpSpPr>
              <p:sp>
                <p:nvSpPr>
                  <p:cNvPr id="1089" name=""/>
                  <p:cNvSpPr/>
                  <p:nvPr/>
                </p:nvSpPr>
                <p:spPr>
                  <a:xfrm>
                    <a:off x="2365920" y="6576480"/>
                    <a:ext cx="29124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352960" y="6602760"/>
                    <a:ext cx="317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379240" y="6550920"/>
                    <a:ext cx="264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2392560" y="6470280"/>
                  <a:ext cx="238320" cy="78480"/>
                  <a:chOff x="2392560" y="6470280"/>
                  <a:chExt cx="238320" cy="7848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>
                    <a:off x="2402280" y="6495840"/>
                    <a:ext cx="218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392560" y="6522120"/>
                    <a:ext cx="2383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412360" y="6470280"/>
                    <a:ext cx="198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6" name=""/>
                <p:cNvGrpSpPr/>
                <p:nvPr/>
              </p:nvGrpSpPr>
              <p:grpSpPr>
                <a:xfrm>
                  <a:off x="2419200" y="6390000"/>
                  <a:ext cx="185400" cy="78480"/>
                  <a:chOff x="2419200" y="6390000"/>
                  <a:chExt cx="185400" cy="78480"/>
                </a:xfrm>
              </p:grpSpPr>
              <p:sp>
                <p:nvSpPr>
                  <p:cNvPr id="1097" name=""/>
                  <p:cNvSpPr/>
                  <p:nvPr/>
                </p:nvSpPr>
                <p:spPr>
                  <a:xfrm>
                    <a:off x="2426760" y="6415560"/>
                    <a:ext cx="170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419200" y="6441840"/>
                    <a:ext cx="1854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2434320" y="6390000"/>
                    <a:ext cx="1548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2445840" y="6309720"/>
                  <a:ext cx="132480" cy="78480"/>
                  <a:chOff x="2445840" y="6309720"/>
                  <a:chExt cx="132480" cy="7848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>
                    <a:off x="2451240" y="6335280"/>
                    <a:ext cx="1216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445840" y="6361560"/>
                    <a:ext cx="132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456640" y="6309720"/>
                    <a:ext cx="110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04" name=""/>
              <p:cNvSpPr/>
              <p:nvPr/>
            </p:nvSpPr>
            <p:spPr>
              <a:xfrm>
                <a:off x="2245680" y="6213600"/>
                <a:ext cx="528840" cy="9432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5" name=""/>
              <p:cNvGrpSpPr/>
              <p:nvPr/>
            </p:nvGrpSpPr>
            <p:grpSpPr>
              <a:xfrm>
                <a:off x="2318760" y="6249600"/>
                <a:ext cx="382320" cy="56880"/>
                <a:chOff x="2318760" y="6249600"/>
                <a:chExt cx="382320" cy="5688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2318760" y="624960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2401920" y="624960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648160" y="624960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2565000" y="6249600"/>
                  <a:ext cx="5292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2482200" y="6249600"/>
                  <a:ext cx="53280" cy="5688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1" name=""/>
              <p:cNvSpPr/>
              <p:nvPr/>
            </p:nvSpPr>
            <p:spPr>
              <a:xfrm>
                <a:off x="2229840" y="6204960"/>
                <a:ext cx="559800" cy="1656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2241000" y="6140880"/>
                <a:ext cx="537480" cy="64080"/>
              </a:xfrm>
              <a:custGeom>
                <a:avLst/>
                <a:gdLst>
                  <a:gd name="textAreaLeft" fmla="*/ 55800 w 537480"/>
                  <a:gd name="textAreaRight" fmla="*/ 481680 w 53748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257560" y="6125040"/>
                <a:ext cx="50184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4" name=""/>
          <p:cNvSpPr/>
          <p:nvPr/>
        </p:nvSpPr>
        <p:spPr>
          <a:xfrm>
            <a:off x="2945880" y="3308760"/>
            <a:ext cx="6622560" cy="76536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Driver schedule retrosp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3317760" y="4406760"/>
            <a:ext cx="5825160" cy="2093400"/>
            <a:chOff x="3317760" y="4406760"/>
            <a:chExt cx="5825160" cy="2093400"/>
          </a:xfrm>
        </p:grpSpPr>
        <p:grpSp>
          <p:nvGrpSpPr>
            <p:cNvPr id="1116" name=""/>
            <p:cNvGrpSpPr/>
            <p:nvPr/>
          </p:nvGrpSpPr>
          <p:grpSpPr>
            <a:xfrm>
              <a:off x="3317760" y="5172840"/>
              <a:ext cx="5825160" cy="1327320"/>
              <a:chOff x="3317760" y="5172840"/>
              <a:chExt cx="5825160" cy="1327320"/>
            </a:xfrm>
          </p:grpSpPr>
          <p:grpSp>
            <p:nvGrpSpPr>
              <p:cNvPr id="1117" name=""/>
              <p:cNvGrpSpPr/>
              <p:nvPr/>
            </p:nvGrpSpPr>
            <p:grpSpPr>
              <a:xfrm>
                <a:off x="3317760" y="6170400"/>
                <a:ext cx="5825160" cy="329760"/>
                <a:chOff x="3317760" y="6170400"/>
                <a:chExt cx="5825160" cy="32976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4289400" y="6170400"/>
                  <a:ext cx="9662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6233040" y="6170400"/>
                  <a:ext cx="9662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205040" y="6170400"/>
                  <a:ext cx="9662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8176680" y="6170400"/>
                  <a:ext cx="9662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261040" y="6170400"/>
                  <a:ext cx="9662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317760" y="6170400"/>
                  <a:ext cx="9662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3805560" y="5837760"/>
                <a:ext cx="4853160" cy="329760"/>
                <a:chOff x="3805560" y="5837760"/>
                <a:chExt cx="4853160" cy="32976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3805560" y="5837760"/>
                  <a:ext cx="9662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5748840" y="5837760"/>
                  <a:ext cx="9662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720840" y="5837760"/>
                  <a:ext cx="9662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692480" y="5837760"/>
                  <a:ext cx="9662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777200" y="5837760"/>
                  <a:ext cx="966240" cy="3297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4291560" y="5172840"/>
                <a:ext cx="3881160" cy="661680"/>
                <a:chOff x="4291560" y="5172840"/>
                <a:chExt cx="3881160" cy="66168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5263200" y="5505120"/>
                  <a:ext cx="966240" cy="3294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7206480" y="5505120"/>
                  <a:ext cx="966240" cy="3294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234840" y="5505120"/>
                  <a:ext cx="966240" cy="3294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291560" y="5505120"/>
                  <a:ext cx="966240" cy="3294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779360" y="5172840"/>
                  <a:ext cx="966240" cy="3294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722640" y="5172840"/>
                  <a:ext cx="966240" cy="3294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751360" y="5172840"/>
                  <a:ext cx="966240" cy="3294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"/>
            <p:cNvGrpSpPr/>
            <p:nvPr/>
          </p:nvGrpSpPr>
          <p:grpSpPr>
            <a:xfrm>
              <a:off x="5516280" y="5172840"/>
              <a:ext cx="1451160" cy="1324080"/>
              <a:chOff x="5516280" y="5172840"/>
              <a:chExt cx="1451160" cy="132408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5516280" y="6171120"/>
                <a:ext cx="1451160" cy="325800"/>
                <a:chOff x="5516280" y="6171120"/>
                <a:chExt cx="1451160" cy="32580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5576400" y="6277680"/>
                  <a:ext cx="1330560" cy="110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5516280" y="6386760"/>
                  <a:ext cx="1451160" cy="110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636880" y="6171120"/>
                  <a:ext cx="1209600" cy="110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5697360" y="5838480"/>
                <a:ext cx="1088280" cy="325800"/>
                <a:chOff x="5697360" y="5838480"/>
                <a:chExt cx="1088280" cy="3258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5742360" y="5945040"/>
                  <a:ext cx="997920" cy="110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5697360" y="6054120"/>
                  <a:ext cx="1088280" cy="110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5787720" y="5838480"/>
                  <a:ext cx="907200" cy="110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7" name=""/>
              <p:cNvGrpSpPr/>
              <p:nvPr/>
            </p:nvGrpSpPr>
            <p:grpSpPr>
              <a:xfrm>
                <a:off x="5819400" y="5505480"/>
                <a:ext cx="846720" cy="325800"/>
                <a:chOff x="5819400" y="5505480"/>
                <a:chExt cx="846720" cy="32580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5854320" y="5612040"/>
                  <a:ext cx="776520" cy="110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5819400" y="5721120"/>
                  <a:ext cx="846720" cy="110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5889600" y="5505480"/>
                  <a:ext cx="705600" cy="110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5940360" y="5172840"/>
                <a:ext cx="604800" cy="325800"/>
                <a:chOff x="5940360" y="5172840"/>
                <a:chExt cx="604800" cy="3258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5965200" y="5279400"/>
                  <a:ext cx="554760" cy="110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940360" y="5388480"/>
                  <a:ext cx="604800" cy="110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5990400" y="5172840"/>
                  <a:ext cx="504000" cy="110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5" name=""/>
            <p:cNvSpPr/>
            <p:nvPr/>
          </p:nvSpPr>
          <p:spPr>
            <a:xfrm>
              <a:off x="5024160" y="4774680"/>
              <a:ext cx="2415960" cy="390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5359320" y="4923000"/>
              <a:ext cx="1748160" cy="235440"/>
              <a:chOff x="5359320" y="4923000"/>
              <a:chExt cx="1748160" cy="235440"/>
            </a:xfrm>
          </p:grpSpPr>
          <p:sp>
            <p:nvSpPr>
              <p:cNvPr id="1157" name=""/>
              <p:cNvSpPr/>
              <p:nvPr/>
            </p:nvSpPr>
            <p:spPr>
              <a:xfrm>
                <a:off x="5359320" y="4923000"/>
                <a:ext cx="242280" cy="23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739480" y="4923000"/>
                <a:ext cx="243000" cy="23544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865200" y="4923000"/>
                <a:ext cx="242280" cy="23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83960" y="4923000"/>
                <a:ext cx="239400" cy="235440"/>
              </a:xfrm>
              <a:prstGeom prst="rect">
                <a:avLst/>
              </a:prstGeom>
              <a:solidFill>
                <a:srgbClr val="66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107040" y="4923000"/>
                <a:ext cx="243000" cy="23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4955040" y="4739040"/>
              <a:ext cx="2557440" cy="68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005080" y="4472280"/>
              <a:ext cx="2454480" cy="266040"/>
            </a:xfrm>
            <a:custGeom>
              <a:avLst/>
              <a:gdLst>
                <a:gd name="textAreaLeft" fmla="*/ 255600 w 2454480"/>
                <a:gd name="textAreaRight" fmla="*/ 2198880 w 2454480"/>
                <a:gd name="textAreaTop" fmla="*/ 27720 h 266040"/>
                <a:gd name="textAreaBottom" fmla="*/ 238320 h 26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01" y="21600"/>
                  </a:lnTo>
                  <a:lnTo>
                    <a:pt x="899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80320" y="4406760"/>
              <a:ext cx="2293920" cy="66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241200" y="4332240"/>
            <a:ext cx="1220760" cy="852480"/>
            <a:chOff x="241200" y="4332240"/>
            <a:chExt cx="1220760" cy="852480"/>
          </a:xfrm>
        </p:grpSpPr>
        <p:sp>
          <p:nvSpPr>
            <p:cNvPr id="1166" name=""/>
            <p:cNvSpPr/>
            <p:nvPr/>
          </p:nvSpPr>
          <p:spPr>
            <a:xfrm>
              <a:off x="354240" y="4332240"/>
              <a:ext cx="1069560" cy="39924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264"/>
                </a:spcBef>
                <a:spcAft>
                  <a:spcPts val="26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Monotype Corsiva"/>
                </a:rPr>
                <a:t>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7" name=""/>
            <p:cNvGrpSpPr/>
            <p:nvPr/>
          </p:nvGrpSpPr>
          <p:grpSpPr>
            <a:xfrm>
              <a:off x="241200" y="4678560"/>
              <a:ext cx="1220760" cy="506160"/>
              <a:chOff x="241200" y="4678560"/>
              <a:chExt cx="1220760" cy="50616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241200" y="4863600"/>
                <a:ext cx="1220760" cy="321120"/>
                <a:chOff x="241200" y="4863600"/>
                <a:chExt cx="1220760" cy="321120"/>
              </a:xfrm>
            </p:grpSpPr>
            <p:grpSp>
              <p:nvGrpSpPr>
                <p:cNvPr id="1169" name=""/>
                <p:cNvGrpSpPr/>
                <p:nvPr/>
              </p:nvGrpSpPr>
              <p:grpSpPr>
                <a:xfrm>
                  <a:off x="241200" y="5105160"/>
                  <a:ext cx="1220760" cy="79560"/>
                  <a:chOff x="241200" y="5105160"/>
                  <a:chExt cx="1220760" cy="7956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444600" y="5105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852120" y="5105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1055880" y="5105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1259640" y="5105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48360" y="5105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41200" y="510516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6" name=""/>
                <p:cNvGrpSpPr/>
                <p:nvPr/>
              </p:nvGrpSpPr>
              <p:grpSpPr>
                <a:xfrm>
                  <a:off x="343440" y="5024520"/>
                  <a:ext cx="1017000" cy="79560"/>
                  <a:chOff x="343440" y="5024520"/>
                  <a:chExt cx="1017000" cy="7956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>
                    <a:off x="343440" y="50245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750600" y="50245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954360" y="50245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1158120" y="50245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546840" y="502452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" name=""/>
                <p:cNvGrpSpPr/>
                <p:nvPr/>
              </p:nvGrpSpPr>
              <p:grpSpPr>
                <a:xfrm>
                  <a:off x="445320" y="4863600"/>
                  <a:ext cx="813240" cy="159840"/>
                  <a:chOff x="445320" y="4863600"/>
                  <a:chExt cx="813240" cy="159840"/>
                </a:xfrm>
              </p:grpSpPr>
              <p:sp>
                <p:nvSpPr>
                  <p:cNvPr id="1183" name=""/>
                  <p:cNvSpPr/>
                  <p:nvPr/>
                </p:nvSpPr>
                <p:spPr>
                  <a:xfrm>
                    <a:off x="649080" y="49438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1056240" y="49438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852840" y="49438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445320" y="494388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547560" y="48636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955080" y="48636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751320" y="4863600"/>
                    <a:ext cx="202320" cy="79560"/>
                  </a:xfrm>
                  <a:prstGeom prst="rect">
                    <a:avLst/>
                  </a:prstGeom>
                  <a:solidFill>
                    <a:srgbClr val="ffcc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0" name=""/>
              <p:cNvGrpSpPr/>
              <p:nvPr/>
            </p:nvGrpSpPr>
            <p:grpSpPr>
              <a:xfrm>
                <a:off x="702000" y="4863600"/>
                <a:ext cx="303480" cy="320040"/>
                <a:chOff x="702000" y="4863600"/>
                <a:chExt cx="303480" cy="320040"/>
              </a:xfrm>
            </p:grpSpPr>
            <p:grpSp>
              <p:nvGrpSpPr>
                <p:cNvPr id="1191" name=""/>
                <p:cNvGrpSpPr/>
                <p:nvPr/>
              </p:nvGrpSpPr>
              <p:grpSpPr>
                <a:xfrm>
                  <a:off x="702000" y="5104800"/>
                  <a:ext cx="303480" cy="78840"/>
                  <a:chOff x="702000" y="5104800"/>
                  <a:chExt cx="303480" cy="78840"/>
                </a:xfrm>
              </p:grpSpPr>
              <p:sp>
                <p:nvSpPr>
                  <p:cNvPr id="1192" name=""/>
                  <p:cNvSpPr/>
                  <p:nvPr/>
                </p:nvSpPr>
                <p:spPr>
                  <a:xfrm>
                    <a:off x="714600" y="5130720"/>
                    <a:ext cx="2782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702000" y="5157000"/>
                    <a:ext cx="303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727200" y="5104800"/>
                    <a:ext cx="2530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"/>
                <p:cNvGrpSpPr/>
                <p:nvPr/>
              </p:nvGrpSpPr>
              <p:grpSpPr>
                <a:xfrm>
                  <a:off x="739800" y="5024520"/>
                  <a:ext cx="227520" cy="78840"/>
                  <a:chOff x="739800" y="5024520"/>
                  <a:chExt cx="227520" cy="78840"/>
                </a:xfrm>
              </p:grpSpPr>
              <p:sp>
                <p:nvSpPr>
                  <p:cNvPr id="1196" name=""/>
                  <p:cNvSpPr/>
                  <p:nvPr/>
                </p:nvSpPr>
                <p:spPr>
                  <a:xfrm>
                    <a:off x="749160" y="5050440"/>
                    <a:ext cx="2088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739800" y="5076720"/>
                    <a:ext cx="2275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758520" y="5024520"/>
                    <a:ext cx="1897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9" name=""/>
                <p:cNvGrpSpPr/>
                <p:nvPr/>
              </p:nvGrpSpPr>
              <p:grpSpPr>
                <a:xfrm>
                  <a:off x="765360" y="4943880"/>
                  <a:ext cx="177120" cy="78480"/>
                  <a:chOff x="765360" y="4943880"/>
                  <a:chExt cx="177120" cy="7848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772560" y="4969440"/>
                    <a:ext cx="162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765360" y="4995720"/>
                    <a:ext cx="1771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779760" y="4943880"/>
                    <a:ext cx="14760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3" name=""/>
                <p:cNvGrpSpPr/>
                <p:nvPr/>
              </p:nvGrpSpPr>
              <p:grpSpPr>
                <a:xfrm>
                  <a:off x="790560" y="4863600"/>
                  <a:ext cx="126360" cy="78840"/>
                  <a:chOff x="790560" y="4863600"/>
                  <a:chExt cx="126360" cy="7884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795600" y="4889520"/>
                    <a:ext cx="11592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790560" y="4915800"/>
                    <a:ext cx="12636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801000" y="4863600"/>
                    <a:ext cx="105480" cy="26640"/>
                  </a:xfrm>
                  <a:prstGeom prst="rect">
                    <a:avLst/>
                  </a:prstGeom>
                  <a:solidFill>
                    <a:srgbClr val="ff990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07" name=""/>
              <p:cNvSpPr/>
              <p:nvPr/>
            </p:nvSpPr>
            <p:spPr>
              <a:xfrm>
                <a:off x="598680" y="4767120"/>
                <a:ext cx="506160" cy="9504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"/>
              <p:cNvGrpSpPr/>
              <p:nvPr/>
            </p:nvGrpSpPr>
            <p:grpSpPr>
              <a:xfrm>
                <a:off x="668880" y="4803480"/>
                <a:ext cx="366480" cy="56880"/>
                <a:chOff x="668880" y="4803480"/>
                <a:chExt cx="366480" cy="5688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668880" y="48034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748800" y="48034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984960" y="48034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904680" y="48034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825480" y="4803480"/>
                  <a:ext cx="50400" cy="56880"/>
                </a:xfrm>
                <a:prstGeom prst="rect">
                  <a:avLst/>
                </a:prstGeom>
                <a:solidFill>
                  <a:srgbClr val="66006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4" name=""/>
              <p:cNvSpPr/>
              <p:nvPr/>
            </p:nvSpPr>
            <p:spPr>
              <a:xfrm>
                <a:off x="583920" y="4758840"/>
                <a:ext cx="53604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594720" y="4694760"/>
                <a:ext cx="514440" cy="64080"/>
              </a:xfrm>
              <a:custGeom>
                <a:avLst/>
                <a:gdLst>
                  <a:gd name="textAreaLeft" fmla="*/ 53280 w 514440"/>
                  <a:gd name="textAreaRight" fmla="*/ 461160 w 514440"/>
                  <a:gd name="textAreaTop" fmla="*/ 6480 h 64080"/>
                  <a:gd name="textAreaBottom" fmla="*/ 57600 h 6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0200" y="4678560"/>
                <a:ext cx="480960" cy="15840"/>
              </a:xfrm>
              <a:prstGeom prst="rect">
                <a:avLst/>
              </a:prstGeom>
              <a:solidFill>
                <a:srgbClr val="ff99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river schedule information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7880400" y="-7560"/>
            <a:ext cx="1262160" cy="925200"/>
            <a:chOff x="7880400" y="-7560"/>
            <a:chExt cx="1262160" cy="925200"/>
          </a:xfrm>
        </p:grpSpPr>
        <p:sp>
          <p:nvSpPr>
            <p:cNvPr id="1219" name=""/>
            <p:cNvSpPr/>
            <p:nvPr/>
          </p:nvSpPr>
          <p:spPr>
            <a:xfrm>
              <a:off x="7880400" y="-7560"/>
              <a:ext cx="1262160" cy="7642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Driver sche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0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1221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1222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1223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9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1230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5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1236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3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1244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1245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8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1249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2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6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1257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60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1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7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79520" y="954000"/>
            <a:ext cx="659592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BIS summit presen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pad Murany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ris R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zem Heg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ce W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286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BIS cookbook 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BIS spec 4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5167440" y="1123920"/>
            <a:ext cx="3441600" cy="2864520"/>
            <a:chOff x="5167440" y="1123920"/>
            <a:chExt cx="3441600" cy="2864520"/>
          </a:xfrm>
        </p:grpSpPr>
        <p:grpSp>
          <p:nvGrpSpPr>
            <p:cNvPr id="1272" name=""/>
            <p:cNvGrpSpPr/>
            <p:nvPr/>
          </p:nvGrpSpPr>
          <p:grpSpPr>
            <a:xfrm>
              <a:off x="5824080" y="1584000"/>
              <a:ext cx="2476800" cy="1576440"/>
              <a:chOff x="5824080" y="1584000"/>
              <a:chExt cx="2476800" cy="15764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5824080" y="1787400"/>
                <a:ext cx="1067400" cy="1373040"/>
                <a:chOff x="5824080" y="1787400"/>
                <a:chExt cx="1067400" cy="1373040"/>
              </a:xfrm>
            </p:grpSpPr>
            <p:cxnSp>
              <p:nvCxnSpPr>
                <p:cNvPr id="1274" name=""/>
                <p:cNvCxnSpPr/>
                <p:nvPr/>
              </p:nvCxnSpPr>
              <p:spPr>
                <a:xfrm flipH="1" flipV="1" rot="5400000">
                  <a:off x="6049800" y="2521440"/>
                  <a:ext cx="351360" cy="267120"/>
                </a:xfrm>
                <a:prstGeom prst="bentConnector3">
                  <a:avLst>
                    <a:gd name="adj1" fmla="val 49743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75" name=""/>
                <p:cNvCxnSpPr/>
                <p:nvPr/>
              </p:nvCxnSpPr>
              <p:spPr>
                <a:xfrm flipH="1" flipV="1" rot="5400000">
                  <a:off x="6315120" y="2169000"/>
                  <a:ext cx="351360" cy="267120"/>
                </a:xfrm>
                <a:prstGeom prst="bentConnector3">
                  <a:avLst>
                    <a:gd name="adj1" fmla="val 49743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76" name=""/>
                <p:cNvCxnSpPr/>
                <p:nvPr/>
              </p:nvCxnSpPr>
              <p:spPr>
                <a:xfrm flipH="1" flipV="1" rot="5400000">
                  <a:off x="5781600" y="2851560"/>
                  <a:ext cx="351360" cy="267120"/>
                </a:xfrm>
                <a:prstGeom prst="bentConnector3">
                  <a:avLst>
                    <a:gd name="adj1" fmla="val 49743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77" name=""/>
                <p:cNvCxnSpPr/>
                <p:nvPr/>
              </p:nvCxnSpPr>
              <p:spPr>
                <a:xfrm flipH="1" flipV="1" rot="5400000">
                  <a:off x="6582240" y="1829520"/>
                  <a:ext cx="351360" cy="267120"/>
                </a:xfrm>
                <a:prstGeom prst="bentConnector3">
                  <a:avLst>
                    <a:gd name="adj1" fmla="val 52923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278" name=""/>
              <p:cNvGrpSpPr/>
              <p:nvPr/>
            </p:nvGrpSpPr>
            <p:grpSpPr>
              <a:xfrm>
                <a:off x="7233480" y="1787400"/>
                <a:ext cx="1067400" cy="1373040"/>
                <a:chOff x="7233480" y="1787400"/>
                <a:chExt cx="1067400" cy="1373040"/>
              </a:xfrm>
            </p:grpSpPr>
            <p:cxnSp>
              <p:nvCxnSpPr>
                <p:cNvPr id="1279" name=""/>
                <p:cNvCxnSpPr/>
                <p:nvPr/>
              </p:nvCxnSpPr>
              <p:spPr>
                <a:xfrm flipV="1" rot="16200000">
                  <a:off x="7723800" y="2521080"/>
                  <a:ext cx="351360" cy="267120"/>
                </a:xfrm>
                <a:prstGeom prst="bentConnector3">
                  <a:avLst>
                    <a:gd name="adj1" fmla="val 49743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80" name=""/>
                <p:cNvCxnSpPr/>
                <p:nvPr/>
              </p:nvCxnSpPr>
              <p:spPr>
                <a:xfrm flipV="1" rot="16200000">
                  <a:off x="7458480" y="2168640"/>
                  <a:ext cx="351360" cy="267120"/>
                </a:xfrm>
                <a:prstGeom prst="bentConnector3">
                  <a:avLst>
                    <a:gd name="adj1" fmla="val 49743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81" name=""/>
                <p:cNvCxnSpPr/>
                <p:nvPr/>
              </p:nvCxnSpPr>
              <p:spPr>
                <a:xfrm flipV="1" rot="16200000">
                  <a:off x="7992000" y="2851200"/>
                  <a:ext cx="351360" cy="267120"/>
                </a:xfrm>
                <a:prstGeom prst="bentConnector3">
                  <a:avLst>
                    <a:gd name="adj1" fmla="val 49743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282" name=""/>
                <p:cNvCxnSpPr/>
                <p:nvPr/>
              </p:nvCxnSpPr>
              <p:spPr>
                <a:xfrm flipV="1" rot="16200000">
                  <a:off x="7191360" y="1829160"/>
                  <a:ext cx="351360" cy="267120"/>
                </a:xfrm>
                <a:prstGeom prst="bentConnector3">
                  <a:avLst>
                    <a:gd name="adj1" fmla="val 52923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1283" name=""/>
              <p:cNvSpPr/>
              <p:nvPr/>
            </p:nvSpPr>
            <p:spPr>
              <a:xfrm>
                <a:off x="6891120" y="1586160"/>
                <a:ext cx="34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 flipV="1">
                <a:off x="7223040" y="1584000"/>
                <a:ext cx="648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6885000" y="1584000"/>
                <a:ext cx="2880" cy="20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6" name=""/>
            <p:cNvSpPr/>
            <p:nvPr/>
          </p:nvSpPr>
          <p:spPr>
            <a:xfrm>
              <a:off x="5541840" y="3530520"/>
              <a:ext cx="306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5595840" y="11239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915680" y="3627360"/>
              <a:ext cx="6120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167440" y="1293840"/>
              <a:ext cx="29520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t">
              <a:sp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5553360" y="4280040"/>
            <a:ext cx="31327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eled with driver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255600" y="232920"/>
            <a:ext cx="86342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666666"/>
                </a:solidFill>
                <a:latin typeface="Arial"/>
              </a:rPr>
              <a:t>driver schedule static curves</a:t>
            </a:r>
            <a:endParaRPr b="1" lang="en-US" sz="28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7880400" y="-7560"/>
            <a:ext cx="1262160" cy="925200"/>
            <a:chOff x="7880400" y="-7560"/>
            <a:chExt cx="1262160" cy="925200"/>
          </a:xfrm>
        </p:grpSpPr>
        <p:sp>
          <p:nvSpPr>
            <p:cNvPr id="1293" name=""/>
            <p:cNvSpPr/>
            <p:nvPr/>
          </p:nvSpPr>
          <p:spPr>
            <a:xfrm>
              <a:off x="7880400" y="-7560"/>
              <a:ext cx="1262160" cy="76428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Monotype Corsiva"/>
                </a:rPr>
                <a:t>Driver sche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8272440" y="663480"/>
              <a:ext cx="612720" cy="254160"/>
              <a:chOff x="8272440" y="663480"/>
              <a:chExt cx="612720" cy="254160"/>
            </a:xfrm>
          </p:grpSpPr>
          <p:grpSp>
            <p:nvGrpSpPr>
              <p:cNvPr id="1295" name=""/>
              <p:cNvGrpSpPr/>
              <p:nvPr/>
            </p:nvGrpSpPr>
            <p:grpSpPr>
              <a:xfrm>
                <a:off x="8272440" y="756360"/>
                <a:ext cx="612720" cy="161280"/>
                <a:chOff x="8272440" y="756360"/>
                <a:chExt cx="612720" cy="161280"/>
              </a:xfrm>
            </p:grpSpPr>
            <p:grpSp>
              <p:nvGrpSpPr>
                <p:cNvPr id="1296" name=""/>
                <p:cNvGrpSpPr/>
                <p:nvPr/>
              </p:nvGrpSpPr>
              <p:grpSpPr>
                <a:xfrm>
                  <a:off x="8272440" y="877680"/>
                  <a:ext cx="612720" cy="39960"/>
                  <a:chOff x="8272440" y="877680"/>
                  <a:chExt cx="612720" cy="39960"/>
                </a:xfrm>
              </p:grpSpPr>
              <p:sp>
                <p:nvSpPr>
                  <p:cNvPr id="1297" name=""/>
                  <p:cNvSpPr/>
                  <p:nvPr/>
                </p:nvSpPr>
                <p:spPr>
                  <a:xfrm>
                    <a:off x="837468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857916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868140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87836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847692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8272440" y="877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3" name=""/>
                <p:cNvGrpSpPr/>
                <p:nvPr/>
              </p:nvGrpSpPr>
              <p:grpSpPr>
                <a:xfrm>
                  <a:off x="8323560" y="837000"/>
                  <a:ext cx="510480" cy="39960"/>
                  <a:chOff x="8323560" y="837000"/>
                  <a:chExt cx="510480" cy="3996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>
                    <a:off x="832356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852804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863028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873252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8425800" y="83700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9" name=""/>
                <p:cNvGrpSpPr/>
                <p:nvPr/>
              </p:nvGrpSpPr>
              <p:grpSpPr>
                <a:xfrm>
                  <a:off x="8374680" y="756360"/>
                  <a:ext cx="408240" cy="80280"/>
                  <a:chOff x="8374680" y="756360"/>
                  <a:chExt cx="408240" cy="8028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>
                    <a:off x="847692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868140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857916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8374680" y="79668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842580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863028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8528040" y="756360"/>
                    <a:ext cx="101520" cy="3996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7" name=""/>
              <p:cNvGrpSpPr/>
              <p:nvPr/>
            </p:nvGrpSpPr>
            <p:grpSpPr>
              <a:xfrm>
                <a:off x="8503560" y="756360"/>
                <a:ext cx="152280" cy="160200"/>
                <a:chOff x="8503560" y="756360"/>
                <a:chExt cx="152280" cy="160200"/>
              </a:xfrm>
            </p:grpSpPr>
            <p:grpSp>
              <p:nvGrpSpPr>
                <p:cNvPr id="1318" name=""/>
                <p:cNvGrpSpPr/>
                <p:nvPr/>
              </p:nvGrpSpPr>
              <p:grpSpPr>
                <a:xfrm>
                  <a:off x="8503560" y="877320"/>
                  <a:ext cx="152280" cy="39240"/>
                  <a:chOff x="8503560" y="877320"/>
                  <a:chExt cx="152280" cy="39240"/>
                </a:xfrm>
              </p:grpSpPr>
              <p:sp>
                <p:nvSpPr>
                  <p:cNvPr id="1319" name=""/>
                  <p:cNvSpPr/>
                  <p:nvPr/>
                </p:nvSpPr>
                <p:spPr>
                  <a:xfrm>
                    <a:off x="8509680" y="890280"/>
                    <a:ext cx="1396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8503560" y="903240"/>
                    <a:ext cx="1522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8516160" y="877320"/>
                    <a:ext cx="12708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2" name=""/>
                <p:cNvGrpSpPr/>
                <p:nvPr/>
              </p:nvGrpSpPr>
              <p:grpSpPr>
                <a:xfrm>
                  <a:off x="8522280" y="837000"/>
                  <a:ext cx="114120" cy="39240"/>
                  <a:chOff x="8522280" y="837000"/>
                  <a:chExt cx="114120" cy="39240"/>
                </a:xfrm>
              </p:grpSpPr>
              <p:sp>
                <p:nvSpPr>
                  <p:cNvPr id="1323" name=""/>
                  <p:cNvSpPr/>
                  <p:nvPr/>
                </p:nvSpPr>
                <p:spPr>
                  <a:xfrm>
                    <a:off x="8526960" y="849960"/>
                    <a:ext cx="1047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8522280" y="862920"/>
                    <a:ext cx="1141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8531640" y="837000"/>
                    <a:ext cx="9540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6" name=""/>
                <p:cNvGrpSpPr/>
                <p:nvPr/>
              </p:nvGrpSpPr>
              <p:grpSpPr>
                <a:xfrm>
                  <a:off x="8535240" y="796680"/>
                  <a:ext cx="88920" cy="39240"/>
                  <a:chOff x="8535240" y="796680"/>
                  <a:chExt cx="88920" cy="39240"/>
                </a:xfrm>
              </p:grpSpPr>
              <p:sp>
                <p:nvSpPr>
                  <p:cNvPr id="1327" name=""/>
                  <p:cNvSpPr/>
                  <p:nvPr/>
                </p:nvSpPr>
                <p:spPr>
                  <a:xfrm>
                    <a:off x="8538840" y="809640"/>
                    <a:ext cx="817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8535240" y="822600"/>
                    <a:ext cx="88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8542440" y="796680"/>
                    <a:ext cx="741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8547840" y="756360"/>
                  <a:ext cx="63360" cy="39240"/>
                  <a:chOff x="8547840" y="756360"/>
                  <a:chExt cx="63360" cy="39240"/>
                </a:xfrm>
              </p:grpSpPr>
              <p:sp>
                <p:nvSpPr>
                  <p:cNvPr id="1331" name=""/>
                  <p:cNvSpPr/>
                  <p:nvPr/>
                </p:nvSpPr>
                <p:spPr>
                  <a:xfrm>
                    <a:off x="8550360" y="769320"/>
                    <a:ext cx="583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8547840" y="782280"/>
                    <a:ext cx="6336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8552880" y="756360"/>
                    <a:ext cx="52920" cy="1332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34" name=""/>
              <p:cNvSpPr/>
              <p:nvPr/>
            </p:nvSpPr>
            <p:spPr>
              <a:xfrm>
                <a:off x="8451720" y="707760"/>
                <a:ext cx="254160" cy="47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8487000" y="726120"/>
                <a:ext cx="183960" cy="28440"/>
                <a:chOff x="8487000" y="726120"/>
                <a:chExt cx="183960" cy="2844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848700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85269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864576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860544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8565480" y="726120"/>
                  <a:ext cx="25200" cy="28440"/>
                </a:xfrm>
                <a:prstGeom prst="rect">
                  <a:avLst/>
                </a:prstGeom>
                <a:solidFill>
                  <a:srgbClr val="66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>
                <a:off x="8444520" y="703800"/>
                <a:ext cx="26892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V="1">
                <a:off x="8449920" y="670680"/>
                <a:ext cx="258120" cy="32040"/>
              </a:xfrm>
              <a:custGeom>
                <a:avLst/>
                <a:gdLst>
                  <a:gd name="textAreaLeft" fmla="*/ 26640 w 258120"/>
                  <a:gd name="textAreaRight" fmla="*/ 231480 w 258120"/>
                  <a:gd name="textAreaTop" fmla="*/ 3240 h 32040"/>
                  <a:gd name="textAreaBottom" fmla="*/ 28800 h 3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701" y="21600"/>
                    </a:lnTo>
                    <a:lnTo>
                      <a:pt x="899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457480" y="663480"/>
                <a:ext cx="241200" cy="7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4" name=""/>
          <p:cNvSpPr/>
          <p:nvPr/>
        </p:nvSpPr>
        <p:spPr>
          <a:xfrm>
            <a:off x="673200" y="527040"/>
            <a:ext cx="505620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Model]       2-Driver-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Voltage Range]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3.3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1350V      3.4650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ND Clam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lam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Pullup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Driver Schedul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_1       0s                NA               0ns             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_2       0.5ns           NA               0ns              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Model]       Model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GND Clamp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lamp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Pullu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Model]      Model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GND Clamp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lamp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Pullu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0" y="1208160"/>
            <a:ext cx="7919280" cy="1258920"/>
            <a:chOff x="0" y="1208160"/>
            <a:chExt cx="7919280" cy="1258920"/>
          </a:xfrm>
        </p:grpSpPr>
        <p:sp>
          <p:nvSpPr>
            <p:cNvPr id="1346" name=""/>
            <p:cNvSpPr/>
            <p:nvPr/>
          </p:nvSpPr>
          <p:spPr>
            <a:xfrm>
              <a:off x="3164040" y="1268280"/>
              <a:ext cx="1904760" cy="1198800"/>
            </a:xfrm>
            <a:custGeom>
              <a:avLst/>
              <a:gdLst>
                <a:gd name="textAreaLeft" fmla="*/ 0 w 1904760"/>
                <a:gd name="textAreaRight" fmla="*/ 687960 w 1904760"/>
                <a:gd name="textAreaTop" fmla="*/ 48960 h 1198800"/>
                <a:gd name="textAreaBottom" fmla="*/ 1149840 h 11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12"/>
                    <a:pt x="10800" y="2823"/>
                  </a:cubicBezTo>
                  <a:lnTo>
                    <a:pt x="10800" y="3566"/>
                  </a:lnTo>
                  <a:cubicBezTo>
                    <a:pt x="10800" y="4978"/>
                    <a:pt x="16200" y="6389"/>
                    <a:pt x="21600" y="6389"/>
                  </a:cubicBezTo>
                  <a:cubicBezTo>
                    <a:pt x="16200" y="6389"/>
                    <a:pt x="10800" y="7801"/>
                    <a:pt x="10800" y="9212"/>
                  </a:cubicBezTo>
                  <a:lnTo>
                    <a:pt x="10800" y="18777"/>
                  </a:lnTo>
                  <a:cubicBezTo>
                    <a:pt x="10800" y="20189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488840" y="1208160"/>
              <a:ext cx="3430440" cy="489960"/>
            </a:xfrm>
            <a:prstGeom prst="ellipse">
              <a:avLst/>
            </a:prstGeom>
            <a:noFill/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op level model 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0" y="1719360"/>
              <a:ext cx="700200" cy="336600"/>
            </a:xfrm>
            <a:prstGeom prst="rightArrow">
              <a:avLst>
                <a:gd name="adj1" fmla="val 50000"/>
                <a:gd name="adj2" fmla="val 52005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0" y="1319040"/>
              <a:ext cx="700200" cy="336600"/>
            </a:xfrm>
            <a:prstGeom prst="rightArrow">
              <a:avLst>
                <a:gd name="adj1" fmla="val 50000"/>
                <a:gd name="adj2" fmla="val 52005"/>
              </a:avLst>
            </a:prstGeom>
            <a:solidFill>
              <a:srgbClr val="ff9900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0" y="3540240"/>
            <a:ext cx="8178480" cy="3141720"/>
            <a:chOff x="0" y="3540240"/>
            <a:chExt cx="8178480" cy="3141720"/>
          </a:xfrm>
        </p:grpSpPr>
        <p:sp>
          <p:nvSpPr>
            <p:cNvPr id="1351" name=""/>
            <p:cNvSpPr/>
            <p:nvPr/>
          </p:nvSpPr>
          <p:spPr>
            <a:xfrm>
              <a:off x="4534560" y="4494600"/>
              <a:ext cx="3643920" cy="489960"/>
            </a:xfrm>
            <a:prstGeom prst="ellipse">
              <a:avLst/>
            </a:prstGeom>
            <a:noFill/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cheduled model t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0" y="3540240"/>
              <a:ext cx="4933800" cy="3141720"/>
              <a:chOff x="0" y="3540240"/>
              <a:chExt cx="4933800" cy="3141720"/>
            </a:xfrm>
          </p:grpSpPr>
          <p:sp>
            <p:nvSpPr>
              <p:cNvPr id="1353" name=""/>
              <p:cNvSpPr/>
              <p:nvPr/>
            </p:nvSpPr>
            <p:spPr>
              <a:xfrm>
                <a:off x="0" y="5934240"/>
                <a:ext cx="700200" cy="336240"/>
              </a:xfrm>
              <a:prstGeom prst="rightArrow">
                <a:avLst>
                  <a:gd name="adj1" fmla="val 50000"/>
                  <a:gd name="adj2" fmla="val 52061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0" y="6345360"/>
                <a:ext cx="700200" cy="336600"/>
              </a:xfrm>
              <a:prstGeom prst="rightArrow">
                <a:avLst>
                  <a:gd name="adj1" fmla="val 50000"/>
                  <a:gd name="adj2" fmla="val 52005"/>
                </a:avLst>
              </a:prstGeom>
              <a:solidFill>
                <a:srgbClr val="ff99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5" name=""/>
              <p:cNvGrpSpPr/>
              <p:nvPr/>
            </p:nvGrpSpPr>
            <p:grpSpPr>
              <a:xfrm>
                <a:off x="0" y="3540240"/>
                <a:ext cx="4900680" cy="1504800"/>
                <a:chOff x="0" y="3540240"/>
                <a:chExt cx="4900680" cy="150480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2995560" y="3540240"/>
                  <a:ext cx="1905120" cy="1238040"/>
                </a:xfrm>
                <a:custGeom>
                  <a:avLst/>
                  <a:gdLst>
                    <a:gd name="textAreaLeft" fmla="*/ 0 w 1905120"/>
                    <a:gd name="textAreaRight" fmla="*/ 687960 w 1905120"/>
                    <a:gd name="textAreaTop" fmla="*/ 50400 h 1238040"/>
                    <a:gd name="textAreaBottom" fmla="*/ 1187640 h 1238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1412"/>
                        <a:pt x="10800" y="2823"/>
                      </a:cubicBezTo>
                      <a:lnTo>
                        <a:pt x="10800" y="3566"/>
                      </a:lnTo>
                      <a:cubicBezTo>
                        <a:pt x="10800" y="4978"/>
                        <a:pt x="16200" y="6389"/>
                        <a:pt x="21600" y="6389"/>
                      </a:cubicBezTo>
                      <a:cubicBezTo>
                        <a:pt x="16200" y="6389"/>
                        <a:pt x="10800" y="7801"/>
                        <a:pt x="10800" y="9212"/>
                      </a:cubicBezTo>
                      <a:lnTo>
                        <a:pt x="10800" y="18777"/>
                      </a:lnTo>
                      <a:cubicBezTo>
                        <a:pt x="10800" y="20189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0" y="4708440"/>
                  <a:ext cx="700200" cy="336600"/>
                </a:xfrm>
                <a:prstGeom prst="rightArrow">
                  <a:avLst>
                    <a:gd name="adj1" fmla="val 50000"/>
                    <a:gd name="adj2" fmla="val 52005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0" y="4335480"/>
                  <a:ext cx="700200" cy="336600"/>
                </a:xfrm>
                <a:prstGeom prst="rightArrow">
                  <a:avLst>
                    <a:gd name="adj1" fmla="val 50000"/>
                    <a:gd name="adj2" fmla="val 52005"/>
                  </a:avLst>
                </a:prstGeom>
                <a:solidFill>
                  <a:srgbClr val="ff9900"/>
                </a:solidFill>
                <a:ln w="936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9" name=""/>
              <p:cNvSpPr/>
              <p:nvPr/>
            </p:nvSpPr>
            <p:spPr>
              <a:xfrm>
                <a:off x="3029040" y="4930920"/>
                <a:ext cx="1904760" cy="1238040"/>
              </a:xfrm>
              <a:custGeom>
                <a:avLst/>
                <a:gdLst>
                  <a:gd name="textAreaLeft" fmla="*/ 0 w 1904760"/>
                  <a:gd name="textAreaRight" fmla="*/ 687960 w 1904760"/>
                  <a:gd name="textAreaTop" fmla="*/ 50400 h 1238040"/>
                  <a:gd name="textAreaBottom" fmla="*/ 1187640 h 1238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412"/>
                      <a:pt x="10800" y="2823"/>
                    </a:cubicBezTo>
                    <a:lnTo>
                      <a:pt x="10800" y="3566"/>
                    </a:lnTo>
                    <a:cubicBezTo>
                      <a:pt x="10800" y="4978"/>
                      <a:pt x="16200" y="6389"/>
                      <a:pt x="21600" y="6389"/>
                    </a:cubicBezTo>
                    <a:cubicBezTo>
                      <a:pt x="16200" y="6389"/>
                      <a:pt x="10800" y="7801"/>
                      <a:pt x="10800" y="9212"/>
                    </a:cubicBezTo>
                    <a:lnTo>
                      <a:pt x="10800" y="18777"/>
                    </a:lnTo>
                    <a:cubicBezTo>
                      <a:pt x="10800" y="20189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0" name=""/>
          <p:cNvGrpSpPr/>
          <p:nvPr/>
        </p:nvGrpSpPr>
        <p:grpSpPr>
          <a:xfrm>
            <a:off x="4427640" y="2481480"/>
            <a:ext cx="4493880" cy="1028520"/>
            <a:chOff x="4427640" y="2481480"/>
            <a:chExt cx="4493880" cy="1028520"/>
          </a:xfrm>
        </p:grpSpPr>
        <p:sp>
          <p:nvSpPr>
            <p:cNvPr id="1361" name=""/>
            <p:cNvSpPr/>
            <p:nvPr/>
          </p:nvSpPr>
          <p:spPr>
            <a:xfrm>
              <a:off x="4427640" y="2863800"/>
              <a:ext cx="1904760" cy="646200"/>
            </a:xfrm>
            <a:custGeom>
              <a:avLst/>
              <a:gdLst>
                <a:gd name="textAreaLeft" fmla="*/ 0 w 1904760"/>
                <a:gd name="textAreaRight" fmla="*/ 687960 w 1904760"/>
                <a:gd name="textAreaTop" fmla="*/ 26280 h 646200"/>
                <a:gd name="textAreaBottom" fmla="*/ 619920 h 64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412"/>
                    <a:pt x="10800" y="2823"/>
                  </a:cubicBezTo>
                  <a:lnTo>
                    <a:pt x="10800" y="3566"/>
                  </a:lnTo>
                  <a:cubicBezTo>
                    <a:pt x="10800" y="4978"/>
                    <a:pt x="16200" y="6389"/>
                    <a:pt x="21600" y="6389"/>
                  </a:cubicBezTo>
                  <a:cubicBezTo>
                    <a:pt x="16200" y="6389"/>
                    <a:pt x="10800" y="7801"/>
                    <a:pt x="10800" y="9212"/>
                  </a:cubicBezTo>
                  <a:lnTo>
                    <a:pt x="10800" y="18777"/>
                  </a:lnTo>
                  <a:cubicBezTo>
                    <a:pt x="10800" y="20189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36000" bIns="36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527800" y="2481480"/>
              <a:ext cx="3393720" cy="4899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ctr">
              <a:spAutoFit/>
            </a:bodyPr>
            <a:p>
              <a:pPr algn="ctr"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river schedule tim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8:17:14Z</dcterms:created>
  <dc:creator>Lenski</dc:creator>
  <dc:description/>
  <cp:keywords/>
  <dc:language>en-US</dc:language>
  <cp:lastModifiedBy>ICN Windows2000 Netz</cp:lastModifiedBy>
  <cp:lastPrinted>1998-09-04T08:04:32Z</cp:lastPrinted>
  <dcterms:modified xsi:type="dcterms:W3CDTF">2008-03-11T10:42:48Z</dcterms:modified>
  <cp:revision>100</cp:revision>
  <dc:subject>Nokia Siemens Networks template</dc:subject>
  <dc:title>Experiences with driver schedules</dc:title>
</cp:coreProperties>
</file>