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12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41.png" ContentType="image/png"/>
  <Override PartName="/ppt/media/image9.wmf" ContentType="image/x-wmf"/>
  <Override PartName="/ppt/media/image4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F6F0B88-EE2E-4458-B565-B66BC167F9B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50800" y="5195880"/>
            <a:ext cx="5297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is Japan Electronics and Information technology Industries Association and  it make EDA stand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And I am working in NECEL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I am in charge of IBIS Model and EM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Specifically (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ｽﾍﾟｼﾌｨｶﾘ）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, We generate IBIS model of our company’s LSI for customers and other way we develop EMC Simulation technology for LSI and PCB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 EDA-WG Activity and study of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Micheal-san, Syed-san, BOB-san, Lance-s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 appreciate  your (EIA/IBIS Forum) support and we are glad to attend thi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Model;     Connector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tion in Thickness, 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Tool; Cadence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0AAFABE-6A10-417C-B0AE-6D442D9AE97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- Type B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ed modu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76630D5-B2A8-4D4F-B4D2-BD7F7F57E2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- Typ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plane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65F57DD-299E-468E-8EFF-E7002F09ED7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 LVDS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66EE617-3247-4DE2-9B18-E07474466B9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Model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L; transmission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 Measurement result to Simulation resu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present this report at next JEITA-IBI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37C9A43-A784-41D4-B306-93A8C5AECAC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Model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L; transmission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 Measurement result to Simulation resu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present this report at next JEITA-IBI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8D68A77-624B-4663-87FA-C8F7FA066B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DE42F98-38CC-49A5-AED9-33E6BDC5346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7A7DE65-4D4D-468F-97A6-779FEE9340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A809CF6-8F9B-48C2-9A73-453D0E4CF8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68320" y="5040360"/>
            <a:ext cx="52959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This is Outline of my presen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1.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2. Short Team Direction of JEITA EDA 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3. Study of Interconnec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4. JEITA IBIS Model Portal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B4AE336-42E7-4320-8A9E-62A9C1FBC55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I introduce JEITA IBIS Model Portal site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looks like kitchen. We are able to cook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sists of these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 this links EIA/IBIS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COOK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anslating cookbook v4.0 into Japan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some more information for Japanese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Library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 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 Storage rac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device model and connector mod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ear future add LS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raining / IBIS 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Verification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MI, SI, PI Simulation tools using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A6621DC-1A97-4102-B3C5-325400EF391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ummary of cont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ITA would like to support for IBIS users in Japan and AS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ｺｰﾎﾟﾚｲ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e hope to continue to cooperate with EIA/IBIS committee strongly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A2BDC34-7EBE-432B-8B84-BCD80B8B428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et me introduce free to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IS indicator  By KAW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visually check IBIS 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current, Rise/Fall speed, Reference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ion I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;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有効に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DB32E88-1D73-414A-953C-A733F5EDDB4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 Phone, LCD TV , PDP and other Display, Digital Camera and Video, DVD Rec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consisted mainly of Digital and RF and ,analog circu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ｴｸﾞｻﾞﾐﾝ　　　　　　　　　　　　　　　　　　　 　ｴﾌｨｶ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examine the possibility of  IBIS V4.1 efficacy or need for New ED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ＥＤＡモデルの標準化を検討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ＩＢＩＳモデルを第一候補としてＩＢＩＳモデルが有効か検証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～の有効性の判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ac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＠】エフィカシ、【【名】 有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61920" y="80316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ITA will assess the possibility of IBIS Mode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 propose to discuss at next JEITA and IBIS technical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インテイン     ﾅｰﾁ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We would like to maintain and nurture friendly relations with EIA/IBIS Committ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 a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nk you for all the help EIA/IBIS Committee and all attend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謝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inte'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【＠】メインテイ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э':(r)t∫э(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動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】 育て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frequency of LSI tend to rise fa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ignal of LSI tend to rise fast to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rious PI , SI, EMI problems because switching current of high density LSI has increased rapid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rder to have the problem lead to EMI, SI, PI solution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, , we will need EDA Model and Simulation techn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t's important for simulation each component level, for example LSI or PC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 　ﾌｧｰｻ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further,  It‘s important for simulation PCB whole board level in the near future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ｽﾀﾝﾀﾞｰｼﾞｽ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's the reason , it is necessary to standardize EDA Model for each component such as LSI and Passive component and display device and PCB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ortunately, each component industry are located in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ジタル家電ではＳＩＰＩＥＭＩ問題が起きてい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ードレベルＬＳＩなど部品レベ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らの最適化が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各パーツ、　　　、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ＥＤＡモデルを標準化して、シミュレーション環境を構築することは、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68320" y="4960800"/>
            <a:ext cx="52959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Necessary EDA Model on PCB board whole Simulation are mainly 10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Cs; such as Memory, Micro controller, ASIC, A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crete Sem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assiv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onn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rystal Osc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and all tha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ボードシミュレーションに必要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各ＥＤＡモデルは、次のよう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ﾊﾟｰﾃｲｼﾍﾟｲ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 companies participate JEITA-EDA-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mber of committee are consisted 7 indus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gital consumer Electronics Supplier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nasonic and Sony, sharp, canon, tosh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micon are NECEL, tosh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ssive components are TDK, Mur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nectors are J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crete IC is Shin De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DA V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ly, let me describe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erm Direction of JEITA EDA W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IS Models of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JEITA IBIS Model 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ﾍﾟﾘｵﾄﾞﾘ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JEITA-IBIS Forum Joint  technical meeting periodic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ope the meeting will be held next sp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ly, let me describe “Study of Interconnect Model 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studying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we start studying SI Model of Connector, PCB(VIA), C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e will examine the accuracy of these SI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4 evaluation bo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normal type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, F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measurement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7623-583E-4D4F-88D1-9101C867F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7DD5-BF00-495E-814C-A50DA31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9536-034C-4029-85CF-DDEE10C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5FFF-DEAC-45FA-A55C-3ECB646CA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936D-133B-4BEF-A6ED-C89086C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014A-4FB1-4AB1-BD29-AA3FE2E6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DE00-DC83-4BE2-84E7-E1CDB3D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04B0-422B-4E1F-B946-B032D96B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6DAE-59EF-45C8-8D44-C3FE90E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66D3-D92C-4082-A01D-C96EFAD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9FE5-7E44-4EEF-BC2F-6C7FFB39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3E18-5081-4F23-93CC-E43BE25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2BBD-23FF-4D2B-9B54-428A1458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14.wmf"/><Relationship Id="rId4" Type="http://schemas.openxmlformats.org/officeDocument/2006/relationships/image" Target="../media/image32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EITA EDA -WG Activity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y of  Interconnect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505320"/>
            <a:ext cx="75200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ch 10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uropean IBIS SUMMIT in Mu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keshi Watanabe (NEC Electronic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suji Ito (Panaso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azuhiko Kusunoki (KAW/Keihin Ar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9109-97BE-4C57-99ED-D7C371C90C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0840" y="1828800"/>
            <a:ext cx="76464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; Connec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Tool; Cadence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04920"/>
            <a:ext cx="670536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 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ignal Integ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57A1-91CA-44FD-9F78-D09067A44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20" y="2666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520" y="4113360"/>
            <a:ext cx="151128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1520" y="432900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9520" y="4257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520" y="4473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9520" y="4689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49520" y="4905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49520" y="5121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329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440" y="4545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2440" y="4761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4976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5192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51320" y="1736280"/>
            <a:ext cx="3600000" cy="3152880"/>
            <a:chOff x="3451320" y="1736280"/>
            <a:chExt cx="3600000" cy="3152880"/>
          </a:xfrm>
        </p:grpSpPr>
        <p:sp>
          <p:nvSpPr>
            <p:cNvPr id="223" name=""/>
            <p:cNvSpPr/>
            <p:nvPr/>
          </p:nvSpPr>
          <p:spPr>
            <a:xfrm>
              <a:off x="5025960" y="296388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5960" y="296388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6360" y="35996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5960" y="331164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066360" y="3425040"/>
              <a:ext cx="2887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66360" y="3772800"/>
              <a:ext cx="2887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5080" y="34250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084640" y="36349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6920" y="264312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456360" y="26395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3840" y="3819960"/>
              <a:ext cx="161676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5960" y="2617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5960" y="26179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66360" y="325296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5960" y="29653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66360" y="30783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066360" y="34257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5080" y="30787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025960" y="2442960"/>
              <a:ext cx="288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5040" y="2443320"/>
              <a:ext cx="104004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084640" y="273240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76880" y="2920680"/>
              <a:ext cx="161640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4920" y="174816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64280" y="1736280"/>
              <a:ext cx="196272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084640" y="371412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84640" y="481176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45200" y="3647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2760" y="383616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3893400"/>
              <a:ext cx="161676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3908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45200" y="273996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084640" y="2795760"/>
              <a:ext cx="196308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71480" y="2986920"/>
              <a:ext cx="161640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65360" y="29206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81520" y="38242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37120" y="40021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08560" y="41641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1840" y="4311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90960" y="447192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62240" y="3897000"/>
            <a:ext cx="72072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162240" y="4113000"/>
            <a:ext cx="100800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162240" y="4272120"/>
            <a:ext cx="126216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62240" y="4406400"/>
            <a:ext cx="148752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62240" y="4594320"/>
            <a:ext cx="1744560" cy="5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433520" y="6171840"/>
            <a:ext cx="19191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930240" y="5336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7160" y="5479920"/>
            <a:ext cx="18543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33880" y="461592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75360" y="4630680"/>
            <a:ext cx="1406520" cy="1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186240" y="3897000"/>
            <a:ext cx="78732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0481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032360" y="3376440"/>
            <a:ext cx="109692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284720" y="3476160"/>
            <a:ext cx="101268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30600" y="3586320"/>
            <a:ext cx="935280" cy="5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746600" y="3700440"/>
            <a:ext cx="89712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14800" y="3776400"/>
            <a:ext cx="774720" cy="71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1880" y="3032280"/>
            <a:ext cx="1297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7080" y="1143000"/>
            <a:ext cx="20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yper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product figure"/>
          <p:cNvPicPr/>
          <p:nvPr/>
        </p:nvPicPr>
        <p:blipFill>
          <a:blip r:embed="rId1"/>
          <a:stretch/>
        </p:blipFill>
        <p:spPr>
          <a:xfrm>
            <a:off x="6227640" y="260280"/>
            <a:ext cx="2676600" cy="2028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772400" y="228600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3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5760" y="42670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9000" y="5867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7840" y="5181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52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- Type B; stacked module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691B-5178-4115-B6B9-0F66B0D3D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258560" y="1844640"/>
            <a:ext cx="3308760" cy="3744720"/>
            <a:chOff x="1258560" y="1844640"/>
            <a:chExt cx="3308760" cy="3744720"/>
          </a:xfrm>
        </p:grpSpPr>
        <p:sp>
          <p:nvSpPr>
            <p:cNvPr id="289" name=""/>
            <p:cNvSpPr/>
            <p:nvPr/>
          </p:nvSpPr>
          <p:spPr>
            <a:xfrm>
              <a:off x="2346840" y="1888560"/>
              <a:ext cx="2089440" cy="17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58560" y="2498040"/>
              <a:ext cx="16974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58920" y="3107160"/>
              <a:ext cx="0" cy="14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99160" y="2541240"/>
              <a:ext cx="0" cy="6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02120" y="2541240"/>
              <a:ext cx="169704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302120" y="4398840"/>
              <a:ext cx="52272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02120" y="3150360"/>
              <a:ext cx="0" cy="14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920" y="3107160"/>
              <a:ext cx="432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56320" y="2498040"/>
              <a:ext cx="4284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58920" y="4543920"/>
              <a:ext cx="4320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04440" y="4639680"/>
              <a:ext cx="113184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36640" y="363024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824480" y="3064320"/>
              <a:ext cx="1915560" cy="2088720"/>
              <a:chOff x="1824480" y="3064320"/>
              <a:chExt cx="1915560" cy="208872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1824480" y="306432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24840" y="3673440"/>
                <a:ext cx="0" cy="14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5440" y="3107160"/>
                <a:ext cx="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867320" y="310716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867320" y="4543920"/>
                <a:ext cx="16974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67680" y="3716640"/>
                <a:ext cx="0" cy="14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4840" y="3673440"/>
                <a:ext cx="428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22240" y="3064320"/>
                <a:ext cx="428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24840" y="5109840"/>
                <a:ext cx="428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348360" y="345564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48360" y="354204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65440" y="345564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522960" y="367344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348360" y="4107960"/>
                <a:ext cx="17352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522960" y="4239720"/>
                <a:ext cx="216720" cy="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48360" y="354276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22240" y="375984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40040" y="3673440"/>
                <a:ext cx="0" cy="56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65440" y="4305600"/>
                <a:ext cx="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346840" y="1905840"/>
              <a:ext cx="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77160" y="1845360"/>
              <a:ext cx="2089800" cy="17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67320" y="358632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436640" y="358632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436640" y="554544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346840" y="1844640"/>
              <a:ext cx="13032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508720" y="378936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4720" y="4005360"/>
            <a:ext cx="6480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53080" y="3933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53080" y="4149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53080" y="4365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3080" y="4581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53080" y="479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84720" y="40053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4720" y="4221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4437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4720" y="4653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84720" y="4869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875640" y="5866920"/>
            <a:ext cx="18874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6372000" y="501300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971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706920" y="3011400"/>
            <a:ext cx="644400" cy="56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38560" y="3933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38560" y="4149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38560" y="4365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38560" y="45813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38560" y="479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733560" y="3795840"/>
            <a:ext cx="406440" cy="2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3727080" y="3898440"/>
            <a:ext cx="41292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733560" y="4025880"/>
            <a:ext cx="40644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733560" y="4222440"/>
            <a:ext cx="406440" cy="64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733560" y="4127400"/>
            <a:ext cx="40644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386064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414972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4437000"/>
            <a:ext cx="144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195640" y="3644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195640" y="3931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195640" y="4147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14920" y="5790960"/>
            <a:ext cx="1838160" cy="1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211280" y="494136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5791320"/>
            <a:ext cx="2403720" cy="1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532240" y="4365360"/>
            <a:ext cx="1247760" cy="14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195280" y="4652640"/>
            <a:ext cx="36036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1800" y="1066680"/>
            <a:ext cx="18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per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product figure"/>
          <p:cNvPicPr/>
          <p:nvPr/>
        </p:nvPicPr>
        <p:blipFill>
          <a:blip r:embed="rId1"/>
          <a:stretch/>
        </p:blipFill>
        <p:spPr>
          <a:xfrm>
            <a:off x="5724360" y="981000"/>
            <a:ext cx="2676600" cy="2028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71752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J04 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0400" y="518148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2560" y="2666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82760" y="54864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9760" y="54864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304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- Type C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7CD3-D830-4D13-91CD-9B732114C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957400" y="2944800"/>
            <a:ext cx="1081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10120" y="2944800"/>
            <a:ext cx="1081080" cy="144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94120" y="337644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65760" y="337644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83200" y="344808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62480" y="3448080"/>
            <a:ext cx="2156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70480" y="3448080"/>
            <a:ext cx="216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30480" y="31608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30480" y="337644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30480" y="3592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30480" y="3808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0480" y="40244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4640" y="503244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974840" y="3879720"/>
            <a:ext cx="64764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19720" y="2513160"/>
            <a:ext cx="113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183200" y="2513160"/>
            <a:ext cx="57456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57760" y="2513160"/>
            <a:ext cx="100800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1208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88320" y="258444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411960" y="25844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5520" y="2286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95560" y="258444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86120" y="2584440"/>
            <a:ext cx="6444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606840" y="5029200"/>
            <a:ext cx="1879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103200" y="4175280"/>
            <a:ext cx="501480" cy="86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200" y="302256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1200" y="323856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19200" y="31669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19200" y="3382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9200" y="3598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19200" y="38149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19200" y="403056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62120" y="32385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62120" y="34545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62120" y="3670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62120" y="3886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62120" y="41022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014480" y="5105160"/>
            <a:ext cx="1881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10840" y="4246200"/>
            <a:ext cx="5014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205740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50840" y="2085840"/>
            <a:ext cx="35892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5760" y="2085840"/>
            <a:ext cx="43344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78120" y="3525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78120" y="3598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78120" y="3670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78120" y="3741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78120" y="3814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53040" y="3525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53040" y="3598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53040" y="3670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53040" y="3741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53040" y="3814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03920" y="3309840"/>
            <a:ext cx="142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3920" y="345456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3920" y="359892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3920" y="374184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03920" y="3886200"/>
            <a:ext cx="1429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3920" y="4030560"/>
            <a:ext cx="142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33526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48280" y="3352680"/>
            <a:ext cx="695160" cy="38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5200" y="2209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6600" y="17524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8920" y="30481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91800" y="4800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9760" y="46483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2720" y="4724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, PCB, Cable, LVDS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B530-F757-4AD5-849D-32ECFCB8C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1676520" cy="128268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1752480" y="1980720"/>
            <a:ext cx="3441960" cy="1153080"/>
            <a:chOff x="1752480" y="1980720"/>
            <a:chExt cx="3441960" cy="1153080"/>
          </a:xfrm>
        </p:grpSpPr>
        <p:grpSp>
          <p:nvGrpSpPr>
            <p:cNvPr id="443" name=""/>
            <p:cNvGrpSpPr/>
            <p:nvPr/>
          </p:nvGrpSpPr>
          <p:grpSpPr>
            <a:xfrm>
              <a:off x="1806840" y="1980720"/>
              <a:ext cx="3331800" cy="1153080"/>
              <a:chOff x="1806840" y="1980720"/>
              <a:chExt cx="3331800" cy="1153080"/>
            </a:xfrm>
          </p:grpSpPr>
          <p:sp>
            <p:nvSpPr>
              <p:cNvPr id="444" name=""/>
              <p:cNvSpPr/>
              <p:nvPr/>
            </p:nvSpPr>
            <p:spPr>
              <a:xfrm>
                <a:off x="505548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7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1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7" y="93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7980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136" y="72"/>
                    </a:moveTo>
                    <a:lnTo>
                      <a:pt x="129" y="93"/>
                    </a:lnTo>
                    <a:lnTo>
                      <a:pt x="122" y="108"/>
                    </a:lnTo>
                    <a:lnTo>
                      <a:pt x="108" y="122"/>
                    </a:lnTo>
                    <a:lnTo>
                      <a:pt x="86" y="136"/>
                    </a:lnTo>
                    <a:lnTo>
                      <a:pt x="64" y="136"/>
                    </a:lnTo>
                    <a:lnTo>
                      <a:pt x="43" y="136"/>
                    </a:lnTo>
                    <a:lnTo>
                      <a:pt x="28" y="122"/>
                    </a:lnTo>
                    <a:lnTo>
                      <a:pt x="7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7" y="28"/>
                    </a:lnTo>
                    <a:lnTo>
                      <a:pt x="28" y="14"/>
                    </a:lnTo>
                    <a:lnTo>
                      <a:pt x="43" y="7"/>
                    </a:lnTo>
                    <a:lnTo>
                      <a:pt x="64" y="0"/>
                    </a:lnTo>
                    <a:lnTo>
                      <a:pt x="86" y="7"/>
                    </a:lnTo>
                    <a:lnTo>
                      <a:pt x="108" y="14"/>
                    </a:lnTo>
                    <a:lnTo>
                      <a:pt x="122" y="28"/>
                    </a:lnTo>
                    <a:lnTo>
                      <a:pt x="129" y="50"/>
                    </a:lnTo>
                    <a:lnTo>
                      <a:pt x="136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7980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6" h="137">
                    <a:moveTo>
                      <a:pt x="136" y="72"/>
                    </a:moveTo>
                    <a:lnTo>
                      <a:pt x="129" y="94"/>
                    </a:lnTo>
                    <a:lnTo>
                      <a:pt x="122" y="108"/>
                    </a:lnTo>
                    <a:lnTo>
                      <a:pt x="108" y="130"/>
                    </a:lnTo>
                    <a:lnTo>
                      <a:pt x="86" y="137"/>
                    </a:lnTo>
                    <a:lnTo>
                      <a:pt x="64" y="137"/>
                    </a:lnTo>
                    <a:lnTo>
                      <a:pt x="43" y="137"/>
                    </a:lnTo>
                    <a:lnTo>
                      <a:pt x="28" y="130"/>
                    </a:lnTo>
                    <a:lnTo>
                      <a:pt x="7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7" y="29"/>
                    </a:lnTo>
                    <a:lnTo>
                      <a:pt x="28" y="14"/>
                    </a:lnTo>
                    <a:lnTo>
                      <a:pt x="43" y="7"/>
                    </a:lnTo>
                    <a:lnTo>
                      <a:pt x="64" y="0"/>
                    </a:lnTo>
                    <a:lnTo>
                      <a:pt x="86" y="7"/>
                    </a:lnTo>
                    <a:lnTo>
                      <a:pt x="108" y="14"/>
                    </a:lnTo>
                    <a:lnTo>
                      <a:pt x="122" y="29"/>
                    </a:lnTo>
                    <a:lnTo>
                      <a:pt x="129" y="50"/>
                    </a:lnTo>
                    <a:lnTo>
                      <a:pt x="136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5548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7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1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7" y="94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0764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7" y="94"/>
                    </a:lnTo>
                    <a:lnTo>
                      <a:pt x="130" y="108"/>
                    </a:lnTo>
                    <a:lnTo>
                      <a:pt x="108" y="130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1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8" y="94"/>
                    </a:lnTo>
                    <a:lnTo>
                      <a:pt x="0" y="72"/>
                    </a:lnTo>
                    <a:lnTo>
                      <a:pt x="8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30" y="29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0764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7" y="93"/>
                    </a:lnTo>
                    <a:lnTo>
                      <a:pt x="130" y="108"/>
                    </a:lnTo>
                    <a:lnTo>
                      <a:pt x="108" y="122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1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8" y="93"/>
                    </a:lnTo>
                    <a:lnTo>
                      <a:pt x="0" y="72"/>
                    </a:lnTo>
                    <a:lnTo>
                      <a:pt x="8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51" y="7"/>
                    </a:lnTo>
                    <a:lnTo>
                      <a:pt x="72" y="0"/>
                    </a:lnTo>
                    <a:lnTo>
                      <a:pt x="94" y="7"/>
                    </a:lnTo>
                    <a:lnTo>
                      <a:pt x="108" y="14"/>
                    </a:lnTo>
                    <a:lnTo>
                      <a:pt x="130" y="28"/>
                    </a:lnTo>
                    <a:lnTo>
                      <a:pt x="137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8476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0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87" y="137"/>
                    </a:lnTo>
                    <a:lnTo>
                      <a:pt x="65" y="137"/>
                    </a:lnTo>
                    <a:lnTo>
                      <a:pt x="43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43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8476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0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87" y="136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43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04040" y="27288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72"/>
                    </a:moveTo>
                    <a:lnTo>
                      <a:pt x="130" y="93"/>
                    </a:lnTo>
                    <a:lnTo>
                      <a:pt x="123" y="108"/>
                    </a:lnTo>
                    <a:lnTo>
                      <a:pt x="108" y="122"/>
                    </a:lnTo>
                    <a:lnTo>
                      <a:pt x="87" y="136"/>
                    </a:lnTo>
                    <a:lnTo>
                      <a:pt x="65" y="136"/>
                    </a:lnTo>
                    <a:lnTo>
                      <a:pt x="44" y="136"/>
                    </a:lnTo>
                    <a:lnTo>
                      <a:pt x="29" y="122"/>
                    </a:lnTo>
                    <a:lnTo>
                      <a:pt x="15" y="108"/>
                    </a:lnTo>
                    <a:lnTo>
                      <a:pt x="0" y="93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8"/>
                    </a:lnTo>
                    <a:lnTo>
                      <a:pt x="29" y="14"/>
                    </a:lnTo>
                    <a:lnTo>
                      <a:pt x="44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8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04040" y="23623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37" h="137">
                    <a:moveTo>
                      <a:pt x="137" y="72"/>
                    </a:moveTo>
                    <a:lnTo>
                      <a:pt x="130" y="94"/>
                    </a:lnTo>
                    <a:lnTo>
                      <a:pt x="123" y="108"/>
                    </a:lnTo>
                    <a:lnTo>
                      <a:pt x="108" y="130"/>
                    </a:lnTo>
                    <a:lnTo>
                      <a:pt x="87" y="137"/>
                    </a:lnTo>
                    <a:lnTo>
                      <a:pt x="65" y="137"/>
                    </a:lnTo>
                    <a:lnTo>
                      <a:pt x="44" y="137"/>
                    </a:lnTo>
                    <a:lnTo>
                      <a:pt x="29" y="130"/>
                    </a:lnTo>
                    <a:lnTo>
                      <a:pt x="15" y="108"/>
                    </a:lnTo>
                    <a:lnTo>
                      <a:pt x="0" y="94"/>
                    </a:lnTo>
                    <a:lnTo>
                      <a:pt x="0" y="72"/>
                    </a:lnTo>
                    <a:lnTo>
                      <a:pt x="0" y="50"/>
                    </a:lnTo>
                    <a:lnTo>
                      <a:pt x="15" y="29"/>
                    </a:lnTo>
                    <a:lnTo>
                      <a:pt x="29" y="14"/>
                    </a:lnTo>
                    <a:lnTo>
                      <a:pt x="44" y="7"/>
                    </a:lnTo>
                    <a:lnTo>
                      <a:pt x="65" y="0"/>
                    </a:lnTo>
                    <a:lnTo>
                      <a:pt x="87" y="7"/>
                    </a:lnTo>
                    <a:lnTo>
                      <a:pt x="108" y="14"/>
                    </a:lnTo>
                    <a:lnTo>
                      <a:pt x="123" y="29"/>
                    </a:lnTo>
                    <a:lnTo>
                      <a:pt x="130" y="50"/>
                    </a:lnTo>
                    <a:lnTo>
                      <a:pt x="137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27280" y="2728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4" h="136">
                    <a:moveTo>
                      <a:pt x="144" y="72"/>
                    </a:moveTo>
                    <a:lnTo>
                      <a:pt x="136" y="93"/>
                    </a:lnTo>
                    <a:lnTo>
                      <a:pt x="129" y="108"/>
                    </a:lnTo>
                    <a:lnTo>
                      <a:pt x="115" y="122"/>
                    </a:lnTo>
                    <a:lnTo>
                      <a:pt x="93" y="136"/>
                    </a:lnTo>
                    <a:lnTo>
                      <a:pt x="72" y="136"/>
                    </a:lnTo>
                    <a:lnTo>
                      <a:pt x="50" y="136"/>
                    </a:lnTo>
                    <a:lnTo>
                      <a:pt x="28" y="122"/>
                    </a:lnTo>
                    <a:lnTo>
                      <a:pt x="14" y="108"/>
                    </a:lnTo>
                    <a:lnTo>
                      <a:pt x="7" y="93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4" y="28"/>
                    </a:lnTo>
                    <a:lnTo>
                      <a:pt x="28" y="14"/>
                    </a:lnTo>
                    <a:lnTo>
                      <a:pt x="50" y="7"/>
                    </a:lnTo>
                    <a:lnTo>
                      <a:pt x="72" y="0"/>
                    </a:lnTo>
                    <a:lnTo>
                      <a:pt x="93" y="7"/>
                    </a:lnTo>
                    <a:lnTo>
                      <a:pt x="115" y="14"/>
                    </a:lnTo>
                    <a:lnTo>
                      <a:pt x="129" y="28"/>
                    </a:lnTo>
                    <a:lnTo>
                      <a:pt x="136" y="50"/>
                    </a:lnTo>
                    <a:lnTo>
                      <a:pt x="144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27280" y="2362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4" h="137">
                    <a:moveTo>
                      <a:pt x="144" y="72"/>
                    </a:moveTo>
                    <a:lnTo>
                      <a:pt x="136" y="94"/>
                    </a:lnTo>
                    <a:lnTo>
                      <a:pt x="129" y="108"/>
                    </a:lnTo>
                    <a:lnTo>
                      <a:pt x="115" y="130"/>
                    </a:lnTo>
                    <a:lnTo>
                      <a:pt x="93" y="137"/>
                    </a:lnTo>
                    <a:lnTo>
                      <a:pt x="72" y="137"/>
                    </a:lnTo>
                    <a:lnTo>
                      <a:pt x="50" y="137"/>
                    </a:lnTo>
                    <a:lnTo>
                      <a:pt x="28" y="130"/>
                    </a:lnTo>
                    <a:lnTo>
                      <a:pt x="14" y="108"/>
                    </a:lnTo>
                    <a:lnTo>
                      <a:pt x="7" y="94"/>
                    </a:lnTo>
                    <a:lnTo>
                      <a:pt x="0" y="72"/>
                    </a:lnTo>
                    <a:lnTo>
                      <a:pt x="7" y="50"/>
                    </a:lnTo>
                    <a:lnTo>
                      <a:pt x="14" y="29"/>
                    </a:lnTo>
                    <a:lnTo>
                      <a:pt x="28" y="14"/>
                    </a:lnTo>
                    <a:lnTo>
                      <a:pt x="50" y="7"/>
                    </a:lnTo>
                    <a:lnTo>
                      <a:pt x="72" y="0"/>
                    </a:lnTo>
                    <a:lnTo>
                      <a:pt x="93" y="7"/>
                    </a:lnTo>
                    <a:lnTo>
                      <a:pt x="115" y="14"/>
                    </a:lnTo>
                    <a:lnTo>
                      <a:pt x="129" y="29"/>
                    </a:lnTo>
                    <a:lnTo>
                      <a:pt x="136" y="50"/>
                    </a:lnTo>
                    <a:lnTo>
                      <a:pt x="144" y="7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97520" y="2740320"/>
                <a:ext cx="698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651040" y="2374200"/>
                <a:ext cx="236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9024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9024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9024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89024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61800" y="255024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61800" y="256932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503280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46120" y="198108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506016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456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5038560" y="2008080"/>
                <a:ext cx="55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6736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06736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5067360" y="2278080"/>
                <a:ext cx="2736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038920" y="2102400"/>
                <a:ext cx="5580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0"/>
                    </a:moveTo>
                    <a:lnTo>
                      <a:pt x="0" y="26"/>
                    </a:lnTo>
                    <a:lnTo>
                      <a:pt x="47" y="53"/>
                    </a:lnTo>
                    <a:lnTo>
                      <a:pt x="0" y="80"/>
                    </a:lnTo>
                    <a:lnTo>
                      <a:pt x="47" y="107"/>
                    </a:lnTo>
                    <a:lnTo>
                      <a:pt x="0" y="133"/>
                    </a:lnTo>
                    <a:lnTo>
                      <a:pt x="24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4855680" y="198072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7008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48841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897440" y="1981080"/>
                <a:ext cx="1620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486288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9024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9024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489024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9024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861800" y="218520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61800" y="220320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5360" y="237420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419720" y="237420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08440" y="23468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453384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1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4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4019040" y="2374200"/>
                <a:ext cx="148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3280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04612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0601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0745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038560" y="3106440"/>
                <a:ext cx="55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506736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736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5067360" y="2819880"/>
                <a:ext cx="2736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038920" y="2835000"/>
                <a:ext cx="5580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147"/>
                    </a:moveTo>
                    <a:lnTo>
                      <a:pt x="0" y="120"/>
                    </a:lnTo>
                    <a:lnTo>
                      <a:pt x="47" y="93"/>
                    </a:lnTo>
                    <a:lnTo>
                      <a:pt x="0" y="67"/>
                    </a:lnTo>
                    <a:lnTo>
                      <a:pt x="47" y="40"/>
                    </a:lnTo>
                    <a:lnTo>
                      <a:pt x="0" y="13"/>
                    </a:lnTo>
                    <a:lnTo>
                      <a:pt x="2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85568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487008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8841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4897440" y="3106440"/>
                <a:ext cx="1620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486288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489024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9024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9024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9024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861800" y="292932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61800" y="2911680"/>
                <a:ext cx="28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25360" y="274032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419720" y="274032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708440" y="273996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453384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1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4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71952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1952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19520" y="255024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719160" y="256932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8964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8964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38617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7540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388908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0240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868200" y="2008080"/>
                <a:ext cx="5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89556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89556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895560" y="2278080"/>
                <a:ext cx="2736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868200" y="2102400"/>
                <a:ext cx="54720" cy="17460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0"/>
                    </a:moveTo>
                    <a:lnTo>
                      <a:pt x="0" y="26"/>
                    </a:lnTo>
                    <a:lnTo>
                      <a:pt x="46" y="53"/>
                    </a:lnTo>
                    <a:lnTo>
                      <a:pt x="0" y="80"/>
                    </a:lnTo>
                    <a:lnTo>
                      <a:pt x="46" y="107"/>
                    </a:lnTo>
                    <a:lnTo>
                      <a:pt x="0" y="133"/>
                    </a:lnTo>
                    <a:lnTo>
                      <a:pt x="23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3685320" y="198072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9936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371232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2672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69180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1952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19520" y="218520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371952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719520" y="220320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68964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68964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53200" y="2374200"/>
                <a:ext cx="41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248640" y="237420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537720" y="23468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36276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0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3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887560" y="2374200"/>
                <a:ext cx="1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8617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87540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88908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390240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868200" y="3106440"/>
                <a:ext cx="54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389556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9556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3895560" y="2819880"/>
                <a:ext cx="2736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868200" y="2835000"/>
                <a:ext cx="54720" cy="17460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147"/>
                    </a:moveTo>
                    <a:lnTo>
                      <a:pt x="0" y="120"/>
                    </a:lnTo>
                    <a:lnTo>
                      <a:pt x="46" y="93"/>
                    </a:lnTo>
                    <a:lnTo>
                      <a:pt x="0" y="67"/>
                    </a:lnTo>
                    <a:lnTo>
                      <a:pt x="46" y="40"/>
                    </a:lnTo>
                    <a:lnTo>
                      <a:pt x="0" y="13"/>
                    </a:lnTo>
                    <a:lnTo>
                      <a:pt x="2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6853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69936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71232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7267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369180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371952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19520" y="292932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1952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19520" y="2911680"/>
                <a:ext cx="28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68964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8964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53200" y="2740320"/>
                <a:ext cx="463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248640" y="2740320"/>
                <a:ext cx="113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3537720" y="273996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336276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0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3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2887560" y="2740320"/>
                <a:ext cx="109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639160" y="2374200"/>
                <a:ext cx="0" cy="17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39160" y="256932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3916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63916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2609280" y="255024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09280" y="256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2781720" y="198072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9468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2808720" y="198072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22040" y="198108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787840" y="2008080"/>
                <a:ext cx="55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14840" y="229464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14840" y="2008080"/>
                <a:ext cx="0" cy="95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814480" y="2278080"/>
                <a:ext cx="28440" cy="16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2787840" y="21024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0"/>
                    </a:moveTo>
                    <a:lnTo>
                      <a:pt x="0" y="26"/>
                    </a:lnTo>
                    <a:lnTo>
                      <a:pt x="47" y="53"/>
                    </a:lnTo>
                    <a:lnTo>
                      <a:pt x="0" y="80"/>
                    </a:lnTo>
                    <a:lnTo>
                      <a:pt x="47" y="107"/>
                    </a:lnTo>
                    <a:lnTo>
                      <a:pt x="0" y="133"/>
                    </a:lnTo>
                    <a:lnTo>
                      <a:pt x="23" y="1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260460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18640" y="1981080"/>
                <a:ext cx="1548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2631960" y="198072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46000" y="1981080"/>
                <a:ext cx="15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611440" y="200808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39160" y="220320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3916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639160" y="200808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3916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609280" y="2185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09280" y="220320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473920" y="2374200"/>
                <a:ext cx="177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2167920" y="2374200"/>
                <a:ext cx="114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57000" y="23468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282400" y="2346840"/>
                <a:ext cx="174600" cy="54720"/>
              </a:xfrm>
              <a:custGeom>
                <a:avLst/>
                <a:gdLst/>
                <a:ahLst/>
                <a:rect l="l" t="t" r="r" b="b"/>
                <a:pathLst>
                  <a:path w="147" h="46">
                    <a:moveTo>
                      <a:pt x="147" y="46"/>
                    </a:moveTo>
                    <a:lnTo>
                      <a:pt x="120" y="0"/>
                    </a:lnTo>
                    <a:lnTo>
                      <a:pt x="94" y="46"/>
                    </a:lnTo>
                    <a:lnTo>
                      <a:pt x="67" y="0"/>
                    </a:lnTo>
                    <a:lnTo>
                      <a:pt x="40" y="46"/>
                    </a:lnTo>
                    <a:lnTo>
                      <a:pt x="13" y="0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1806840" y="2374200"/>
                <a:ext cx="1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78172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79468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280872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82204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787840" y="3106440"/>
                <a:ext cx="55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814840" y="2739960"/>
                <a:ext cx="0" cy="79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4840" y="3010320"/>
                <a:ext cx="0" cy="96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2814480" y="2819880"/>
                <a:ext cx="28440" cy="15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787840" y="28350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47" h="147">
                    <a:moveTo>
                      <a:pt x="47" y="147"/>
                    </a:moveTo>
                    <a:lnTo>
                      <a:pt x="0" y="120"/>
                    </a:lnTo>
                    <a:lnTo>
                      <a:pt x="47" y="93"/>
                    </a:lnTo>
                    <a:lnTo>
                      <a:pt x="0" y="67"/>
                    </a:lnTo>
                    <a:lnTo>
                      <a:pt x="47" y="40"/>
                    </a:lnTo>
                    <a:lnTo>
                      <a:pt x="0" y="13"/>
                    </a:lnTo>
                    <a:lnTo>
                      <a:pt x="2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60460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618640" y="3106440"/>
                <a:ext cx="1548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2631960" y="3106440"/>
                <a:ext cx="1656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2646000" y="3106440"/>
                <a:ext cx="15120" cy="2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611440" y="3106440"/>
                <a:ext cx="5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2639160" y="2739960"/>
                <a:ext cx="0" cy="17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3916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39160" y="2929320"/>
                <a:ext cx="0" cy="17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3916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609280" y="292932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09280" y="2911680"/>
                <a:ext cx="29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73920" y="2740320"/>
                <a:ext cx="413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167920" y="2740320"/>
                <a:ext cx="114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2457000" y="2739960"/>
                <a:ext cx="165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2282400" y="2711160"/>
                <a:ext cx="174600" cy="5580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47" y="0"/>
                    </a:moveTo>
                    <a:lnTo>
                      <a:pt x="120" y="47"/>
                    </a:lnTo>
                    <a:lnTo>
                      <a:pt x="94" y="0"/>
                    </a:lnTo>
                    <a:lnTo>
                      <a:pt x="67" y="47"/>
                    </a:lnTo>
                    <a:lnTo>
                      <a:pt x="40" y="0"/>
                    </a:lnTo>
                    <a:lnTo>
                      <a:pt x="13" y="47"/>
                    </a:lnTo>
                    <a:lnTo>
                      <a:pt x="0" y="2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806840" y="2740320"/>
                <a:ext cx="109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677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2136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2136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7572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757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2936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29360" y="2374200"/>
                <a:ext cx="90000" cy="43560"/>
              </a:xfrm>
              <a:custGeom>
                <a:avLst/>
                <a:gdLst/>
                <a:ahLst/>
                <a:rect l="l" t="t" r="r" b="b"/>
                <a:pathLst>
                  <a:path w="547" h="26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3"/>
                    </a:lnTo>
                    <a:lnTo>
                      <a:pt x="144" y="238"/>
                    </a:lnTo>
                    <a:lnTo>
                      <a:pt x="230" y="266"/>
                    </a:lnTo>
                    <a:lnTo>
                      <a:pt x="317" y="266"/>
                    </a:lnTo>
                    <a:lnTo>
                      <a:pt x="403" y="238"/>
                    </a:lnTo>
                    <a:lnTo>
                      <a:pt x="482" y="173"/>
                    </a:lnTo>
                    <a:lnTo>
                      <a:pt x="533" y="86"/>
                    </a:lnTo>
                    <a:lnTo>
                      <a:pt x="54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6772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3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2136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2136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3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7572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75720" y="2695320"/>
                <a:ext cx="90000" cy="80640"/>
              </a:xfrm>
              <a:custGeom>
                <a:avLst/>
                <a:gdLst/>
                <a:ahLst/>
                <a:rect l="l" t="t" r="r" b="b"/>
                <a:pathLst>
                  <a:path w="547" h="490">
                    <a:moveTo>
                      <a:pt x="439" y="490"/>
                    </a:moveTo>
                    <a:lnTo>
                      <a:pt x="511" y="410"/>
                    </a:lnTo>
                    <a:lnTo>
                      <a:pt x="540" y="324"/>
                    </a:lnTo>
                    <a:lnTo>
                      <a:pt x="547" y="238"/>
                    </a:lnTo>
                    <a:lnTo>
                      <a:pt x="518" y="151"/>
                    </a:lnTo>
                    <a:lnTo>
                      <a:pt x="454" y="72"/>
                    </a:lnTo>
                    <a:lnTo>
                      <a:pt x="367" y="14"/>
                    </a:lnTo>
                    <a:lnTo>
                      <a:pt x="281" y="0"/>
                    </a:lnTo>
                    <a:lnTo>
                      <a:pt x="194" y="14"/>
                    </a:lnTo>
                    <a:lnTo>
                      <a:pt x="108" y="58"/>
                    </a:lnTo>
                    <a:lnTo>
                      <a:pt x="36" y="137"/>
                    </a:lnTo>
                    <a:lnTo>
                      <a:pt x="7" y="223"/>
                    </a:lnTo>
                    <a:lnTo>
                      <a:pt x="0" y="27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329360" y="274032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0" y="0"/>
                    </a:moveTo>
                    <a:lnTo>
                      <a:pt x="14" y="86"/>
                    </a:lnTo>
                    <a:lnTo>
                      <a:pt x="65" y="172"/>
                    </a:lnTo>
                    <a:lnTo>
                      <a:pt x="108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329360" y="2696400"/>
                <a:ext cx="90000" cy="43920"/>
              </a:xfrm>
              <a:custGeom>
                <a:avLst/>
                <a:gdLst/>
                <a:ahLst/>
                <a:rect l="l" t="t" r="r" b="b"/>
                <a:pathLst>
                  <a:path w="547" h="267">
                    <a:moveTo>
                      <a:pt x="547" y="267"/>
                    </a:moveTo>
                    <a:lnTo>
                      <a:pt x="533" y="180"/>
                    </a:lnTo>
                    <a:lnTo>
                      <a:pt x="482" y="94"/>
                    </a:lnTo>
                    <a:lnTo>
                      <a:pt x="403" y="29"/>
                    </a:lnTo>
                    <a:lnTo>
                      <a:pt x="317" y="0"/>
                    </a:lnTo>
                    <a:lnTo>
                      <a:pt x="230" y="0"/>
                    </a:lnTo>
                    <a:lnTo>
                      <a:pt x="144" y="29"/>
                    </a:lnTo>
                    <a:lnTo>
                      <a:pt x="65" y="94"/>
                    </a:lnTo>
                    <a:lnTo>
                      <a:pt x="14" y="180"/>
                    </a:lnTo>
                    <a:lnTo>
                      <a:pt x="0" y="26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9556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4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6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2" y="302"/>
                    </a:lnTo>
                    <a:lnTo>
                      <a:pt x="547" y="216"/>
                    </a:lnTo>
                    <a:lnTo>
                      <a:pt x="532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5028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5028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03920" y="2338560"/>
                <a:ext cx="17640" cy="35640"/>
              </a:xfrm>
              <a:custGeom>
                <a:avLst/>
                <a:gdLst/>
                <a:ahLst/>
                <a:rect l="l" t="t" r="r" b="b"/>
                <a:pathLst>
                  <a:path w="108" h="216">
                    <a:moveTo>
                      <a:pt x="108" y="0"/>
                    </a:moveTo>
                    <a:lnTo>
                      <a:pt x="36" y="79"/>
                    </a:lnTo>
                    <a:lnTo>
                      <a:pt x="7" y="166"/>
                    </a:lnTo>
                    <a:lnTo>
                      <a:pt x="0" y="21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03920" y="233856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547" h="482">
                    <a:moveTo>
                      <a:pt x="0" y="216"/>
                    </a:moveTo>
                    <a:lnTo>
                      <a:pt x="14" y="302"/>
                    </a:lnTo>
                    <a:lnTo>
                      <a:pt x="65" y="389"/>
                    </a:lnTo>
                    <a:lnTo>
                      <a:pt x="144" y="454"/>
                    </a:lnTo>
                    <a:lnTo>
                      <a:pt x="230" y="482"/>
                    </a:lnTo>
                    <a:lnTo>
                      <a:pt x="317" y="482"/>
                    </a:lnTo>
                    <a:lnTo>
                      <a:pt x="403" y="454"/>
                    </a:lnTo>
                    <a:lnTo>
                      <a:pt x="482" y="389"/>
                    </a:lnTo>
                    <a:lnTo>
                      <a:pt x="533" y="302"/>
                    </a:lnTo>
                    <a:lnTo>
                      <a:pt x="547" y="216"/>
                    </a:lnTo>
                    <a:lnTo>
                      <a:pt x="533" y="130"/>
                    </a:lnTo>
                    <a:lnTo>
                      <a:pt x="482" y="43"/>
                    </a:lnTo>
                    <a:lnTo>
                      <a:pt x="43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315864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58640" y="2374200"/>
              <a:ext cx="90000" cy="43560"/>
            </a:xfrm>
            <a:custGeom>
              <a:avLst/>
              <a:gdLst/>
              <a:ahLst/>
              <a:rect l="l" t="t" r="r" b="b"/>
              <a:pathLst>
                <a:path w="547" h="266">
                  <a:moveTo>
                    <a:pt x="0" y="0"/>
                  </a:moveTo>
                  <a:lnTo>
                    <a:pt x="14" y="86"/>
                  </a:lnTo>
                  <a:lnTo>
                    <a:pt x="65" y="173"/>
                  </a:lnTo>
                  <a:lnTo>
                    <a:pt x="144" y="238"/>
                  </a:lnTo>
                  <a:lnTo>
                    <a:pt x="230" y="266"/>
                  </a:lnTo>
                  <a:lnTo>
                    <a:pt x="317" y="266"/>
                  </a:lnTo>
                  <a:lnTo>
                    <a:pt x="403" y="238"/>
                  </a:lnTo>
                  <a:lnTo>
                    <a:pt x="482" y="173"/>
                  </a:lnTo>
                  <a:lnTo>
                    <a:pt x="533" y="86"/>
                  </a:lnTo>
                  <a:lnTo>
                    <a:pt x="54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9556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0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5028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5028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0392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0392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5864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58640" y="2696400"/>
              <a:ext cx="90000" cy="43920"/>
            </a:xfrm>
            <a:custGeom>
              <a:avLst/>
              <a:gdLst/>
              <a:ahLst/>
              <a:rect l="l" t="t" r="r" b="b"/>
              <a:pathLst>
                <a:path w="547" h="267">
                  <a:moveTo>
                    <a:pt x="547" y="267"/>
                  </a:moveTo>
                  <a:lnTo>
                    <a:pt x="533" y="180"/>
                  </a:lnTo>
                  <a:lnTo>
                    <a:pt x="482" y="94"/>
                  </a:lnTo>
                  <a:lnTo>
                    <a:pt x="403" y="29"/>
                  </a:lnTo>
                  <a:lnTo>
                    <a:pt x="317" y="0"/>
                  </a:lnTo>
                  <a:lnTo>
                    <a:pt x="230" y="0"/>
                  </a:lnTo>
                  <a:lnTo>
                    <a:pt x="144" y="29"/>
                  </a:lnTo>
                  <a:lnTo>
                    <a:pt x="65" y="94"/>
                  </a:lnTo>
                  <a:lnTo>
                    <a:pt x="14" y="180"/>
                  </a:lnTo>
                  <a:lnTo>
                    <a:pt x="0" y="2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1520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6992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6992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2320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23200" y="2338560"/>
              <a:ext cx="90000" cy="79200"/>
            </a:xfrm>
            <a:custGeom>
              <a:avLst/>
              <a:gdLst/>
              <a:ahLst/>
              <a:rect l="l" t="t" r="r" b="b"/>
              <a:pathLst>
                <a:path w="547" h="482">
                  <a:moveTo>
                    <a:pt x="0" y="216"/>
                  </a:moveTo>
                  <a:lnTo>
                    <a:pt x="14" y="302"/>
                  </a:lnTo>
                  <a:lnTo>
                    <a:pt x="65" y="389"/>
                  </a:lnTo>
                  <a:lnTo>
                    <a:pt x="144" y="454"/>
                  </a:lnTo>
                  <a:lnTo>
                    <a:pt x="230" y="482"/>
                  </a:lnTo>
                  <a:lnTo>
                    <a:pt x="317" y="482"/>
                  </a:lnTo>
                  <a:lnTo>
                    <a:pt x="403" y="454"/>
                  </a:lnTo>
                  <a:lnTo>
                    <a:pt x="482" y="389"/>
                  </a:lnTo>
                  <a:lnTo>
                    <a:pt x="533" y="302"/>
                  </a:lnTo>
                  <a:lnTo>
                    <a:pt x="547" y="216"/>
                  </a:lnTo>
                  <a:lnTo>
                    <a:pt x="533" y="130"/>
                  </a:lnTo>
                  <a:lnTo>
                    <a:pt x="482" y="43"/>
                  </a:lnTo>
                  <a:lnTo>
                    <a:pt x="43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76840" y="233856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108" y="0"/>
                  </a:moveTo>
                  <a:lnTo>
                    <a:pt x="36" y="79"/>
                  </a:lnTo>
                  <a:lnTo>
                    <a:pt x="7" y="166"/>
                  </a:lnTo>
                  <a:lnTo>
                    <a:pt x="0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76840" y="2374200"/>
              <a:ext cx="90000" cy="43560"/>
            </a:xfrm>
            <a:custGeom>
              <a:avLst/>
              <a:gdLst/>
              <a:ahLst/>
              <a:rect l="l" t="t" r="r" b="b"/>
              <a:pathLst>
                <a:path w="547" h="266">
                  <a:moveTo>
                    <a:pt x="0" y="0"/>
                  </a:moveTo>
                  <a:lnTo>
                    <a:pt x="14" y="86"/>
                  </a:lnTo>
                  <a:lnTo>
                    <a:pt x="65" y="173"/>
                  </a:lnTo>
                  <a:lnTo>
                    <a:pt x="144" y="238"/>
                  </a:lnTo>
                  <a:lnTo>
                    <a:pt x="230" y="266"/>
                  </a:lnTo>
                  <a:lnTo>
                    <a:pt x="317" y="266"/>
                  </a:lnTo>
                  <a:lnTo>
                    <a:pt x="403" y="238"/>
                  </a:lnTo>
                  <a:lnTo>
                    <a:pt x="482" y="173"/>
                  </a:lnTo>
                  <a:lnTo>
                    <a:pt x="533" y="86"/>
                  </a:lnTo>
                  <a:lnTo>
                    <a:pt x="54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1520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3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6992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6992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4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2320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23200" y="2695320"/>
              <a:ext cx="90000" cy="80640"/>
            </a:xfrm>
            <a:custGeom>
              <a:avLst/>
              <a:gdLst/>
              <a:ahLst/>
              <a:rect l="l" t="t" r="r" b="b"/>
              <a:pathLst>
                <a:path w="547" h="490">
                  <a:moveTo>
                    <a:pt x="439" y="490"/>
                  </a:moveTo>
                  <a:lnTo>
                    <a:pt x="511" y="410"/>
                  </a:lnTo>
                  <a:lnTo>
                    <a:pt x="540" y="324"/>
                  </a:lnTo>
                  <a:lnTo>
                    <a:pt x="547" y="238"/>
                  </a:lnTo>
                  <a:lnTo>
                    <a:pt x="518" y="151"/>
                  </a:lnTo>
                  <a:lnTo>
                    <a:pt x="454" y="72"/>
                  </a:lnTo>
                  <a:lnTo>
                    <a:pt x="367" y="14"/>
                  </a:lnTo>
                  <a:lnTo>
                    <a:pt x="281" y="0"/>
                  </a:lnTo>
                  <a:lnTo>
                    <a:pt x="194" y="14"/>
                  </a:lnTo>
                  <a:lnTo>
                    <a:pt x="108" y="58"/>
                  </a:lnTo>
                  <a:lnTo>
                    <a:pt x="36" y="137"/>
                  </a:lnTo>
                  <a:lnTo>
                    <a:pt x="7" y="223"/>
                  </a:lnTo>
                  <a:lnTo>
                    <a:pt x="0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76840" y="2740320"/>
              <a:ext cx="17640" cy="35640"/>
            </a:xfrm>
            <a:custGeom>
              <a:avLst/>
              <a:gdLst/>
              <a:ahLst/>
              <a:rect l="l" t="t" r="r" b="b"/>
              <a:pathLst>
                <a:path w="108" h="216">
                  <a:moveTo>
                    <a:pt x="0" y="0"/>
                  </a:moveTo>
                  <a:lnTo>
                    <a:pt x="14" y="86"/>
                  </a:lnTo>
                  <a:lnTo>
                    <a:pt x="65" y="172"/>
                  </a:lnTo>
                  <a:lnTo>
                    <a:pt x="108" y="21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6840" y="2696400"/>
              <a:ext cx="90000" cy="43920"/>
            </a:xfrm>
            <a:custGeom>
              <a:avLst/>
              <a:gdLst/>
              <a:ahLst/>
              <a:rect l="l" t="t" r="r" b="b"/>
              <a:pathLst>
                <a:path w="547" h="267">
                  <a:moveTo>
                    <a:pt x="547" y="267"/>
                  </a:moveTo>
                  <a:lnTo>
                    <a:pt x="533" y="180"/>
                  </a:lnTo>
                  <a:lnTo>
                    <a:pt x="482" y="94"/>
                  </a:lnTo>
                  <a:lnTo>
                    <a:pt x="403" y="29"/>
                  </a:lnTo>
                  <a:lnTo>
                    <a:pt x="317" y="0"/>
                  </a:lnTo>
                  <a:lnTo>
                    <a:pt x="230" y="0"/>
                  </a:lnTo>
                  <a:lnTo>
                    <a:pt x="144" y="29"/>
                  </a:lnTo>
                  <a:lnTo>
                    <a:pt x="65" y="94"/>
                  </a:lnTo>
                  <a:lnTo>
                    <a:pt x="14" y="180"/>
                  </a:lnTo>
                  <a:lnTo>
                    <a:pt x="0" y="2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565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1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7980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980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565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2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0872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0872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4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6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847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847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0404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1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0404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6" y="22"/>
                  </a:lnTo>
                  <a:lnTo>
                    <a:pt x="8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2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30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28360" y="272988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1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8360" y="2363760"/>
              <a:ext cx="22320" cy="22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137" y="65"/>
                  </a:moveTo>
                  <a:lnTo>
                    <a:pt x="115" y="22"/>
                  </a:lnTo>
                  <a:lnTo>
                    <a:pt x="79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79"/>
                  </a:lnTo>
                  <a:lnTo>
                    <a:pt x="21" y="115"/>
                  </a:lnTo>
                  <a:lnTo>
                    <a:pt x="65" y="137"/>
                  </a:lnTo>
                  <a:lnTo>
                    <a:pt x="108" y="115"/>
                  </a:lnTo>
                  <a:lnTo>
                    <a:pt x="129" y="79"/>
                  </a:lnTo>
                  <a:lnTo>
                    <a:pt x="137" y="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39720" y="2712960"/>
              <a:ext cx="54720" cy="5436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0" y="166"/>
                  </a:moveTo>
                  <a:lnTo>
                    <a:pt x="15" y="230"/>
                  </a:lnTo>
                  <a:lnTo>
                    <a:pt x="58" y="295"/>
                  </a:lnTo>
                  <a:lnTo>
                    <a:pt x="123" y="324"/>
                  </a:lnTo>
                  <a:lnTo>
                    <a:pt x="188" y="331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7"/>
                  </a:lnTo>
                  <a:lnTo>
                    <a:pt x="324" y="122"/>
                  </a:lnTo>
                  <a:lnTo>
                    <a:pt x="296" y="58"/>
                  </a:lnTo>
                  <a:lnTo>
                    <a:pt x="231" y="14"/>
                  </a:lnTo>
                  <a:lnTo>
                    <a:pt x="166" y="0"/>
                  </a:lnTo>
                  <a:lnTo>
                    <a:pt x="101" y="14"/>
                  </a:lnTo>
                  <a:lnTo>
                    <a:pt x="36" y="58"/>
                  </a:lnTo>
                  <a:lnTo>
                    <a:pt x="8" y="122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39720" y="2346840"/>
              <a:ext cx="54720" cy="5472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0" y="166"/>
                  </a:moveTo>
                  <a:lnTo>
                    <a:pt x="15" y="231"/>
                  </a:lnTo>
                  <a:lnTo>
                    <a:pt x="58" y="296"/>
                  </a:lnTo>
                  <a:lnTo>
                    <a:pt x="123" y="324"/>
                  </a:lnTo>
                  <a:lnTo>
                    <a:pt x="188" y="332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8"/>
                  </a:lnTo>
                  <a:lnTo>
                    <a:pt x="324" y="123"/>
                  </a:lnTo>
                  <a:lnTo>
                    <a:pt x="296" y="58"/>
                  </a:lnTo>
                  <a:lnTo>
                    <a:pt x="231" y="15"/>
                  </a:lnTo>
                  <a:lnTo>
                    <a:pt x="166" y="0"/>
                  </a:lnTo>
                  <a:lnTo>
                    <a:pt x="101" y="15"/>
                  </a:lnTo>
                  <a:lnTo>
                    <a:pt x="36" y="58"/>
                  </a:lnTo>
                  <a:lnTo>
                    <a:pt x="8" y="123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2480" y="2346840"/>
              <a:ext cx="54720" cy="5472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0" y="166"/>
                  </a:moveTo>
                  <a:lnTo>
                    <a:pt x="15" y="231"/>
                  </a:lnTo>
                  <a:lnTo>
                    <a:pt x="58" y="296"/>
                  </a:lnTo>
                  <a:lnTo>
                    <a:pt x="123" y="324"/>
                  </a:lnTo>
                  <a:lnTo>
                    <a:pt x="188" y="332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8"/>
                  </a:lnTo>
                  <a:lnTo>
                    <a:pt x="324" y="123"/>
                  </a:lnTo>
                  <a:lnTo>
                    <a:pt x="296" y="58"/>
                  </a:lnTo>
                  <a:lnTo>
                    <a:pt x="231" y="15"/>
                  </a:lnTo>
                  <a:lnTo>
                    <a:pt x="166" y="0"/>
                  </a:lnTo>
                  <a:lnTo>
                    <a:pt x="101" y="15"/>
                  </a:lnTo>
                  <a:lnTo>
                    <a:pt x="36" y="58"/>
                  </a:lnTo>
                  <a:lnTo>
                    <a:pt x="8" y="123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52480" y="2712960"/>
              <a:ext cx="54720" cy="54360"/>
            </a:xfrm>
            <a:custGeom>
              <a:avLst/>
              <a:gdLst/>
              <a:ahLst/>
              <a:rect l="l" t="t" r="r" b="b"/>
              <a:pathLst>
                <a:path w="332" h="331">
                  <a:moveTo>
                    <a:pt x="0" y="166"/>
                  </a:moveTo>
                  <a:lnTo>
                    <a:pt x="15" y="230"/>
                  </a:lnTo>
                  <a:lnTo>
                    <a:pt x="58" y="295"/>
                  </a:lnTo>
                  <a:lnTo>
                    <a:pt x="123" y="324"/>
                  </a:lnTo>
                  <a:lnTo>
                    <a:pt x="188" y="331"/>
                  </a:lnTo>
                  <a:lnTo>
                    <a:pt x="252" y="310"/>
                  </a:lnTo>
                  <a:lnTo>
                    <a:pt x="310" y="252"/>
                  </a:lnTo>
                  <a:lnTo>
                    <a:pt x="332" y="187"/>
                  </a:lnTo>
                  <a:lnTo>
                    <a:pt x="324" y="122"/>
                  </a:lnTo>
                  <a:lnTo>
                    <a:pt x="296" y="58"/>
                  </a:lnTo>
                  <a:lnTo>
                    <a:pt x="231" y="14"/>
                  </a:lnTo>
                  <a:lnTo>
                    <a:pt x="166" y="0"/>
                  </a:lnTo>
                  <a:lnTo>
                    <a:pt x="101" y="14"/>
                  </a:lnTo>
                  <a:lnTo>
                    <a:pt x="36" y="58"/>
                  </a:lnTo>
                  <a:lnTo>
                    <a:pt x="8" y="122"/>
                  </a:lnTo>
                  <a:lnTo>
                    <a:pt x="0" y="16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06080" y="2286360"/>
              <a:ext cx="95040" cy="527760"/>
            </a:xfrm>
            <a:custGeom>
              <a:avLst/>
              <a:gdLst/>
              <a:ahLst/>
              <a:rect l="l" t="t" r="r" b="b"/>
              <a:pathLst>
                <a:path w="576" h="3197">
                  <a:moveTo>
                    <a:pt x="360" y="0"/>
                  </a:moveTo>
                  <a:lnTo>
                    <a:pt x="223" y="195"/>
                  </a:lnTo>
                  <a:lnTo>
                    <a:pt x="115" y="411"/>
                  </a:lnTo>
                  <a:lnTo>
                    <a:pt x="43" y="641"/>
                  </a:lnTo>
                  <a:lnTo>
                    <a:pt x="0" y="886"/>
                  </a:lnTo>
                  <a:lnTo>
                    <a:pt x="0" y="1123"/>
                  </a:lnTo>
                  <a:lnTo>
                    <a:pt x="36" y="1368"/>
                  </a:lnTo>
                  <a:lnTo>
                    <a:pt x="108" y="1591"/>
                  </a:lnTo>
                  <a:lnTo>
                    <a:pt x="172" y="1721"/>
                  </a:lnTo>
                  <a:lnTo>
                    <a:pt x="252" y="1843"/>
                  </a:lnTo>
                  <a:lnTo>
                    <a:pt x="331" y="1966"/>
                  </a:lnTo>
                  <a:lnTo>
                    <a:pt x="403" y="2088"/>
                  </a:lnTo>
                  <a:lnTo>
                    <a:pt x="475" y="2203"/>
                  </a:lnTo>
                  <a:lnTo>
                    <a:pt x="525" y="2326"/>
                  </a:lnTo>
                  <a:lnTo>
                    <a:pt x="568" y="2455"/>
                  </a:lnTo>
                  <a:lnTo>
                    <a:pt x="576" y="2585"/>
                  </a:lnTo>
                  <a:lnTo>
                    <a:pt x="561" y="2722"/>
                  </a:lnTo>
                  <a:lnTo>
                    <a:pt x="504" y="2873"/>
                  </a:lnTo>
                  <a:lnTo>
                    <a:pt x="410" y="3031"/>
                  </a:lnTo>
                  <a:lnTo>
                    <a:pt x="266" y="319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60720" y="2286360"/>
              <a:ext cx="95040" cy="527760"/>
            </a:xfrm>
            <a:custGeom>
              <a:avLst/>
              <a:gdLst/>
              <a:ahLst/>
              <a:rect l="l" t="t" r="r" b="b"/>
              <a:pathLst>
                <a:path w="576" h="3197">
                  <a:moveTo>
                    <a:pt x="360" y="0"/>
                  </a:moveTo>
                  <a:lnTo>
                    <a:pt x="223" y="195"/>
                  </a:lnTo>
                  <a:lnTo>
                    <a:pt x="115" y="411"/>
                  </a:lnTo>
                  <a:lnTo>
                    <a:pt x="43" y="641"/>
                  </a:lnTo>
                  <a:lnTo>
                    <a:pt x="0" y="886"/>
                  </a:lnTo>
                  <a:lnTo>
                    <a:pt x="0" y="1123"/>
                  </a:lnTo>
                  <a:lnTo>
                    <a:pt x="36" y="1368"/>
                  </a:lnTo>
                  <a:lnTo>
                    <a:pt x="108" y="1591"/>
                  </a:lnTo>
                  <a:lnTo>
                    <a:pt x="173" y="1721"/>
                  </a:lnTo>
                  <a:lnTo>
                    <a:pt x="245" y="1843"/>
                  </a:lnTo>
                  <a:lnTo>
                    <a:pt x="324" y="1966"/>
                  </a:lnTo>
                  <a:lnTo>
                    <a:pt x="403" y="2088"/>
                  </a:lnTo>
                  <a:lnTo>
                    <a:pt x="468" y="2203"/>
                  </a:lnTo>
                  <a:lnTo>
                    <a:pt x="526" y="2326"/>
                  </a:lnTo>
                  <a:lnTo>
                    <a:pt x="562" y="2455"/>
                  </a:lnTo>
                  <a:lnTo>
                    <a:pt x="576" y="2585"/>
                  </a:lnTo>
                  <a:lnTo>
                    <a:pt x="554" y="2722"/>
                  </a:lnTo>
                  <a:lnTo>
                    <a:pt x="504" y="2873"/>
                  </a:lnTo>
                  <a:lnTo>
                    <a:pt x="410" y="3031"/>
                  </a:lnTo>
                  <a:lnTo>
                    <a:pt x="266" y="319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676520" y="4419720"/>
            <a:ext cx="3657240" cy="1295280"/>
            <a:chOff x="1676520" y="4419720"/>
            <a:chExt cx="3657240" cy="1295280"/>
          </a:xfrm>
        </p:grpSpPr>
        <p:grpSp>
          <p:nvGrpSpPr>
            <p:cNvPr id="686" name=""/>
            <p:cNvGrpSpPr/>
            <p:nvPr/>
          </p:nvGrpSpPr>
          <p:grpSpPr>
            <a:xfrm>
              <a:off x="1676520" y="4419720"/>
              <a:ext cx="2456280" cy="1295280"/>
              <a:chOff x="1676520" y="4419720"/>
              <a:chExt cx="2456280" cy="12952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1990080" y="4419720"/>
                <a:ext cx="575280" cy="165240"/>
                <a:chOff x="1990080" y="4419720"/>
                <a:chExt cx="575280" cy="1652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1990080" y="441972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041920" y="441972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041920" y="458496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460960" y="442440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1990080" y="4584960"/>
                <a:ext cx="575280" cy="165240"/>
                <a:chOff x="1990080" y="4584960"/>
                <a:chExt cx="575280" cy="165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1990080" y="458496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41920" y="458496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041920" y="4750200"/>
                  <a:ext cx="470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460960" y="458964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1990080" y="5330880"/>
                <a:ext cx="575280" cy="165240"/>
                <a:chOff x="1990080" y="5330880"/>
                <a:chExt cx="575280" cy="1652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1990080" y="533088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041920" y="533088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041920" y="549612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460960" y="533556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1990080" y="5496480"/>
                <a:ext cx="575280" cy="165240"/>
                <a:chOff x="1990080" y="5496480"/>
                <a:chExt cx="575280" cy="1652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990080" y="5496480"/>
                  <a:ext cx="104400" cy="165240"/>
                </a:xfrm>
                <a:prstGeom prst="ellipse">
                  <a:avLst/>
                </a:pr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041920" y="549648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041920" y="5661720"/>
                  <a:ext cx="470520" cy="0"/>
                </a:xfrm>
                <a:prstGeom prst="line">
                  <a:avLst/>
                </a:prstGeom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460960" y="5501160"/>
                  <a:ext cx="104400" cy="1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21616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2161613"/>
                    </a:path>
                  </a:pathLst>
                </a:custGeom>
                <a:noFill/>
                <a:ln w="190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2862720" y="4671360"/>
                <a:ext cx="627120" cy="607680"/>
                <a:chOff x="2862720" y="4671360"/>
                <a:chExt cx="627120" cy="60768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3333240" y="4671360"/>
                  <a:ext cx="156600" cy="606600"/>
                  <a:chOff x="3333240" y="4671360"/>
                  <a:chExt cx="156600" cy="6066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rot="5400000">
                    <a:off x="335628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34898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33332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rot="5400000">
                    <a:off x="335448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3176640" y="4671360"/>
                  <a:ext cx="156600" cy="606600"/>
                  <a:chOff x="3176640" y="4671360"/>
                  <a:chExt cx="156600" cy="60660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rot="5400000">
                    <a:off x="319968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3332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17664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5400000">
                    <a:off x="319788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3019680" y="4672440"/>
                  <a:ext cx="156600" cy="606600"/>
                  <a:chOff x="3019680" y="4672440"/>
                  <a:chExt cx="156600" cy="6066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5400000">
                    <a:off x="304272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1762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0196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5400000">
                    <a:off x="304092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2862720" y="4672440"/>
                  <a:ext cx="156600" cy="606600"/>
                  <a:chOff x="2862720" y="4672440"/>
                  <a:chExt cx="156600" cy="60660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 rot="5400000">
                    <a:off x="288576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01932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86272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rot="5400000">
                    <a:off x="288396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8" name=""/>
              <p:cNvSpPr/>
              <p:nvPr/>
            </p:nvSpPr>
            <p:spPr>
              <a:xfrm>
                <a:off x="1676520" y="544140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6520" y="560700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76520" y="451476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76520" y="4680360"/>
                <a:ext cx="36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66440" y="5607000"/>
                <a:ext cx="5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66440" y="4695480"/>
                <a:ext cx="104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66440" y="4474800"/>
                <a:ext cx="19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3505680" y="4671360"/>
                <a:ext cx="627120" cy="607680"/>
                <a:chOff x="3505680" y="4671360"/>
                <a:chExt cx="627120" cy="60768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3976200" y="4671360"/>
                  <a:ext cx="156600" cy="606600"/>
                  <a:chOff x="3976200" y="4671360"/>
                  <a:chExt cx="156600" cy="60660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rot="5400000">
                    <a:off x="399924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1328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9762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5400000">
                    <a:off x="399744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3819600" y="4671360"/>
                  <a:ext cx="156600" cy="606600"/>
                  <a:chOff x="3819600" y="4671360"/>
                  <a:chExt cx="156600" cy="6066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5400000">
                    <a:off x="3842640" y="464796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39762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819600" y="472608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5400000">
                    <a:off x="3840840" y="514692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3662640" y="4672440"/>
                  <a:ext cx="156600" cy="606600"/>
                  <a:chOff x="3662640" y="4672440"/>
                  <a:chExt cx="156600" cy="60660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5400000">
                    <a:off x="368568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81924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66264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5400000">
                    <a:off x="368388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3505680" y="4672440"/>
                  <a:ext cx="156600" cy="606600"/>
                  <a:chOff x="3505680" y="4672440"/>
                  <a:chExt cx="156600" cy="60660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rot="5400000">
                    <a:off x="3528720" y="4649040"/>
                    <a:ext cx="110160" cy="156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36622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3505680" y="4727160"/>
                    <a:ext cx="0" cy="49608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5400000">
                    <a:off x="3526920" y="5148000"/>
                    <a:ext cx="110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16161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161613"/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6" name=""/>
              <p:cNvSpPr/>
              <p:nvPr/>
            </p:nvSpPr>
            <p:spPr>
              <a:xfrm>
                <a:off x="2911680" y="52966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566440" y="5401080"/>
                <a:ext cx="34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110400" y="5297760"/>
                <a:ext cx="0" cy="31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3110400" y="46198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10400" y="4619880"/>
                <a:ext cx="14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258360" y="52963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962080" y="451440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080" y="4514760"/>
                <a:ext cx="44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3406320" y="5297400"/>
                <a:ext cx="0" cy="41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3258360" y="4619880"/>
                <a:ext cx="0" cy="10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406320" y="451440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664360" y="4691880"/>
                <a:ext cx="0" cy="81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763720" y="4463280"/>
                <a:ext cx="0" cy="125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664360" y="5505840"/>
                <a:ext cx="59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763720" y="5715000"/>
                <a:ext cx="64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444200" y="4419720"/>
              <a:ext cx="575640" cy="165240"/>
              <a:chOff x="4444200" y="4419720"/>
              <a:chExt cx="575640" cy="16524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4915440" y="441972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4497120" y="441972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4497120" y="458496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4444200" y="442440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444200" y="4584960"/>
              <a:ext cx="575640" cy="165240"/>
              <a:chOff x="4444200" y="4584960"/>
              <a:chExt cx="575640" cy="165240"/>
            </a:xfrm>
          </p:grpSpPr>
          <p:sp>
            <p:nvSpPr>
              <p:cNvPr id="777" name=""/>
              <p:cNvSpPr/>
              <p:nvPr/>
            </p:nvSpPr>
            <p:spPr>
              <a:xfrm flipH="1">
                <a:off x="4915440" y="458496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497120" y="458496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497120" y="4750200"/>
                <a:ext cx="4708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444200" y="458964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444200" y="5330880"/>
              <a:ext cx="575640" cy="165240"/>
              <a:chOff x="4444200" y="5330880"/>
              <a:chExt cx="575640" cy="165240"/>
            </a:xfrm>
          </p:grpSpPr>
          <p:sp>
            <p:nvSpPr>
              <p:cNvPr id="782" name=""/>
              <p:cNvSpPr/>
              <p:nvPr/>
            </p:nvSpPr>
            <p:spPr>
              <a:xfrm flipH="1">
                <a:off x="4915440" y="533088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497120" y="533088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497120" y="549612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444200" y="533556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444200" y="5496480"/>
              <a:ext cx="575640" cy="165240"/>
              <a:chOff x="4444200" y="5496480"/>
              <a:chExt cx="575640" cy="165240"/>
            </a:xfrm>
          </p:grpSpPr>
          <p:sp>
            <p:nvSpPr>
              <p:cNvPr id="787" name=""/>
              <p:cNvSpPr/>
              <p:nvPr/>
            </p:nvSpPr>
            <p:spPr>
              <a:xfrm flipH="1">
                <a:off x="4915440" y="5496480"/>
                <a:ext cx="104400" cy="165240"/>
              </a:xfrm>
              <a:prstGeom prst="ellipse">
                <a:avLst/>
              </a:pr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497120" y="549648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497120" y="5661720"/>
                <a:ext cx="470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444200" y="5501160"/>
                <a:ext cx="104400" cy="16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2161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2161613"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 flipH="1">
              <a:off x="4967640" y="544140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67640" y="560700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967640" y="451476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967640" y="468036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900240" y="5607000"/>
              <a:ext cx="54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339080" y="4695480"/>
              <a:ext cx="10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46200" y="447480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98600" y="52966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098600" y="5401080"/>
              <a:ext cx="34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00240" y="529776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3900240" y="46198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751560" y="4619880"/>
              <a:ext cx="14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751920" y="529632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048560" y="451440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603960" y="451476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603960" y="5297400"/>
              <a:ext cx="0" cy="41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751920" y="4619880"/>
              <a:ext cx="0" cy="10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3603960" y="451440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45920" y="4691880"/>
              <a:ext cx="0" cy="81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46560" y="4463280"/>
              <a:ext cx="0" cy="125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751920" y="5505840"/>
              <a:ext cx="59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603600" y="5715000"/>
              <a:ext cx="64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30480" cy="15112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51040" y="4343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05120" y="12193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10040" y="3849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89960" y="129528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5120" y="304920"/>
            <a:ext cx="533376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879C-AF66-48F6-B351-636C9225A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152280"/>
            <a:ext cx="48765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066680" y="1127160"/>
            <a:ext cx="5486400" cy="530064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2"/>
          <a:srcRect l="14956" t="64765" r="57478" b="4352"/>
          <a:stretch/>
        </p:blipFill>
        <p:spPr>
          <a:xfrm>
            <a:off x="5791320" y="2971800"/>
            <a:ext cx="2819160" cy="23526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6101280" y="24382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MAR006D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73640" y="21337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7240" y="46483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06240" y="144792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i-X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07640" y="6172200"/>
            <a:ext cx="91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3560" y="1066680"/>
            <a:ext cx="215424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3C85-1F94-4377-868C-4A3C5095F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476760" cy="42721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4046040" y="330120"/>
            <a:ext cx="110736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0120" y="46483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280" y="59436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6172200" y="762120"/>
            <a:ext cx="2527200" cy="35258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7440" y="5940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1480" y="3276720"/>
            <a:ext cx="65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1240-0EC0-48AF-8D8D-4638FFCD8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019920" cy="59371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481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28880" y="152280"/>
            <a:ext cx="394488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0960" y="4111560"/>
            <a:ext cx="249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40120" y="41911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315200" y="5170320"/>
            <a:ext cx="184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19920" y="5246640"/>
            <a:ext cx="183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26400" y="60930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819520" y="281952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D1A1-8C05-4BC5-8610-E055AFBC1C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541840" cy="57150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4273200" y="152280"/>
            <a:ext cx="9702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19920" y="2209680"/>
            <a:ext cx="2438280" cy="1343520"/>
            <a:chOff x="6019920" y="2209680"/>
            <a:chExt cx="2438280" cy="1343520"/>
          </a:xfrm>
        </p:grpSpPr>
        <p:sp>
          <p:nvSpPr>
            <p:cNvPr id="851" name=""/>
            <p:cNvSpPr/>
            <p:nvPr/>
          </p:nvSpPr>
          <p:spPr>
            <a:xfrm>
              <a:off x="6019920" y="2255760"/>
              <a:ext cx="99072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10640" y="22557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2920" y="2408400"/>
              <a:ext cx="15228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10640" y="332280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20120" y="22557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19920" y="33228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19920" y="24084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15200" y="24084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10640" y="256068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10640" y="29415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20120" y="33228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20120" y="29415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19920" y="29415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9920" y="256068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67840" y="2560680"/>
              <a:ext cx="99036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21560" y="248436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3840" y="22096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73840" y="28954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773840" y="32767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73640" y="220968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3640" y="32767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3640" y="28954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94520" y="251460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4725720" y="426708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93240" y="6172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49920" y="2133720"/>
            <a:ext cx="5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016E-7B7B-4767-BED6-53A4EF41EE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2162160" y="1722600"/>
            <a:ext cx="5105520" cy="427644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517480" y="571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9920" y="2362320"/>
            <a:ext cx="157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20760" y="16765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54160" y="220968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i-X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47320" y="380880"/>
            <a:ext cx="6633360" cy="886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ML, Passive Components, VIA, Conn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55F5-6274-4B7D-83BA-956CAD8A6B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440" y="609480"/>
            <a:ext cx="9137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ut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 JEITA IBIS Model Portal 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 Progr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13CD-9913-4DF7-98F8-16DB15873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3280" cy="633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886" name=""/>
          <p:cNvSpPr/>
          <p:nvPr/>
        </p:nvSpPr>
        <p:spPr>
          <a:xfrm>
            <a:off x="5867280" y="2743200"/>
            <a:ext cx="106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IS COOK      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3244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10080" y="6248520"/>
            <a:ext cx="289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and EMI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236232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ific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99072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752480" y="601992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19800000">
            <a:off x="1600200" y="388584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G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91520" y="114300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1752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476360" cy="17269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7315200" y="39625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655308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95280" y="76320"/>
            <a:ext cx="71629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JEITA IBIS Model Portal site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4307-2C7A-4D32-AC60-E3962999C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914400" y="56386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pport for IBIS 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621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Document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K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Library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 Storage 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Training / IBIS E-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Fre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533520"/>
            <a:ext cx="807732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IBIS  Model Portal Site Cont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2F80-1B5D-4D2C-8CE6-52883EBB42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3581280" cy="26845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62320" cy="1306800"/>
          </a:xfrm>
          <a:prstGeom prst="rect">
            <a:avLst/>
          </a:prstGeom>
          <a:ln cap="sq" w="12600">
            <a:solidFill>
              <a:srgbClr val="3333cc"/>
            </a:solidFill>
            <a:miter/>
          </a:ln>
        </p:spPr>
      </p:pic>
      <p:sp>
        <p:nvSpPr>
          <p:cNvPr id="906" name=""/>
          <p:cNvSpPr/>
          <p:nvPr/>
        </p:nvSpPr>
        <p:spPr>
          <a:xfrm>
            <a:off x="1066680" y="220968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666880" y="22860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19520" y="236232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e/Fall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1219320"/>
            <a:ext cx="1905120" cy="9471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cate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90560" cy="242748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2523960" cy="23655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1905120" y="429084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29280" y="4324320"/>
            <a:ext cx="914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46200" y="5784840"/>
            <a:ext cx="276696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rrection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5"/>
          <a:stretch/>
        </p:blipFill>
        <p:spPr>
          <a:xfrm>
            <a:off x="5638680" y="380880"/>
            <a:ext cx="3276720" cy="18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6" name="" descr=""/>
          <p:cNvPicPr/>
          <p:nvPr/>
        </p:nvPicPr>
        <p:blipFill>
          <a:blip r:embed="rId6"/>
          <a:stretch/>
        </p:blipFill>
        <p:spPr>
          <a:xfrm>
            <a:off x="7253280" y="1447920"/>
            <a:ext cx="1828800" cy="15253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6574320" y="2560680"/>
            <a:ext cx="233424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alidate I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76720" y="4367160"/>
            <a:ext cx="1066680" cy="762120"/>
          </a:xfrm>
          <a:prstGeom prst="rightArrow">
            <a:avLst>
              <a:gd name="adj1" fmla="val 50000"/>
              <a:gd name="adj2" fmla="val 34991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95480" y="5029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2280" y="3124080"/>
            <a:ext cx="8839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BISIndicat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IBIS Model Engineering Statio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AW/JAPAN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kaw.co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86800" y="16002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562720" y="1676520"/>
            <a:ext cx="1143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96080" y="685800"/>
            <a:ext cx="1143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362320" y="1980720"/>
            <a:ext cx="5331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2680" y="91440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3657600" y="2057400"/>
            <a:ext cx="609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7315200" y="4267080"/>
            <a:ext cx="1523880" cy="914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928" name=""/>
          <p:cNvSpPr/>
          <p:nvPr/>
        </p:nvSpPr>
        <p:spPr>
          <a:xfrm>
            <a:off x="7391520" y="5181480"/>
            <a:ext cx="1447560" cy="100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icate Signal W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3B9E-EEA6-46F7-850D-9AEC20B189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1828440" y="2590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Documentation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Fre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4120" y="5334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~March of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00200" y="685800"/>
            <a:ext cx="5791320" cy="1312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. JEITA EDA-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gres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F85E-B915-4FFF-BA13-D8B1B09C09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6705720" y="5257800"/>
            <a:ext cx="2050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648320" y="5257800"/>
            <a:ext cx="2050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G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odel might be better to practical u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very simulation engine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029200" y="152280"/>
            <a:ext cx="3962520" cy="1219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onnect Mod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gnal Integ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12193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</a:rPr>
              <a:t>Evaluation for using different kind of mod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2280" y="22860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2006                              Studying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1600200" y="3200400"/>
            <a:ext cx="5867280" cy="1893960"/>
            <a:chOff x="1600200" y="3200400"/>
            <a:chExt cx="5867280" cy="1893960"/>
          </a:xfrm>
        </p:grpSpPr>
        <p:pic>
          <p:nvPicPr>
            <p:cNvPr id="942" name="" descr=""/>
            <p:cNvPicPr/>
            <p:nvPr/>
          </p:nvPicPr>
          <p:blipFill>
            <a:blip r:embed="rId1"/>
            <a:stretch/>
          </p:blipFill>
          <p:spPr>
            <a:xfrm>
              <a:off x="3657600" y="3200400"/>
              <a:ext cx="3809880" cy="18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2"/>
            <a:stretch/>
          </p:blipFill>
          <p:spPr>
            <a:xfrm>
              <a:off x="1600200" y="3200400"/>
              <a:ext cx="17938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6783480" y="42670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725720" y="4267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D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62320" y="426708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u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2590920" y="5257800"/>
            <a:ext cx="20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0720" y="5257800"/>
            <a:ext cx="2286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par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FB93-15C8-4734-B4C8-FF46E6301D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5334120" y="5334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Ω/H/S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7542000" cy="19227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403640" cy="143352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4343400" y="5181480"/>
            <a:ext cx="838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BatangChe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5880" y="518148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L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133720" y="5181480"/>
            <a:ext cx="1523880" cy="1135080"/>
            <a:chOff x="2133720" y="5181480"/>
            <a:chExt cx="1523880" cy="1135080"/>
          </a:xfrm>
        </p:grpSpPr>
        <p:pic>
          <p:nvPicPr>
            <p:cNvPr id="956" name="" descr=""/>
            <p:cNvPicPr/>
            <p:nvPr/>
          </p:nvPicPr>
          <p:blipFill>
            <a:blip r:embed="rId3"/>
            <a:stretch/>
          </p:blipFill>
          <p:spPr>
            <a:xfrm>
              <a:off x="2133720" y="5410080"/>
              <a:ext cx="137160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514600" y="5181480"/>
              <a:ext cx="1143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-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14479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053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5627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464832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39625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38480" y="39625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5486400" y="40384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2819520"/>
            <a:ext cx="22860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858000" y="243828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962520" y="685800"/>
            <a:ext cx="2286000" cy="1602720"/>
            <a:chOff x="3962520" y="685800"/>
            <a:chExt cx="2286000" cy="1602720"/>
          </a:xfrm>
        </p:grpSpPr>
        <p:pic>
          <p:nvPicPr>
            <p:cNvPr id="968" name="" descr=""/>
            <p:cNvPicPr/>
            <p:nvPr/>
          </p:nvPicPr>
          <p:blipFill>
            <a:blip r:embed="rId4"/>
            <a:stretch/>
          </p:blipFill>
          <p:spPr>
            <a:xfrm>
              <a:off x="4267440" y="685800"/>
              <a:ext cx="1823760" cy="141768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969" name=""/>
            <p:cNvSpPr/>
            <p:nvPr/>
          </p:nvSpPr>
          <p:spPr>
            <a:xfrm>
              <a:off x="3962520" y="1828800"/>
              <a:ext cx="22860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 flipH="1" flipV="1">
            <a:off x="6095520" y="2361960"/>
            <a:ext cx="762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80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125280" bIns="12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ith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6324480" y="609480"/>
            <a:ext cx="2361960" cy="1679040"/>
            <a:chOff x="6324480" y="609480"/>
            <a:chExt cx="2361960" cy="1679040"/>
          </a:xfrm>
        </p:grpSpPr>
        <p:pic>
          <p:nvPicPr>
            <p:cNvPr id="974" name="" descr=""/>
            <p:cNvPicPr/>
            <p:nvPr/>
          </p:nvPicPr>
          <p:blipFill>
            <a:blip r:embed="rId5"/>
            <a:stretch/>
          </p:blipFill>
          <p:spPr>
            <a:xfrm>
              <a:off x="6400440" y="609480"/>
              <a:ext cx="221004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6324480" y="1828800"/>
              <a:ext cx="2361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76760" y="625320"/>
              <a:ext cx="213372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152280" y="2666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Hz~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8033-AD02-40CE-A479-7D911372AC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5228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125280" bIns="12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esting the VIA eff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53080" y="5638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And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0" y="1676520"/>
            <a:ext cx="8001000" cy="2224080"/>
            <a:chOff x="0" y="1676520"/>
            <a:chExt cx="8001000" cy="2224080"/>
          </a:xfrm>
        </p:grpSpPr>
        <p:pic>
          <p:nvPicPr>
            <p:cNvPr id="98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80010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152280" y="20574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Hz~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657600" y="27972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00760" y="2800440"/>
              <a:ext cx="1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28600" y="4191120"/>
            <a:ext cx="8458200" cy="1380960"/>
            <a:chOff x="228600" y="4191120"/>
            <a:chExt cx="8458200" cy="1380960"/>
          </a:xfrm>
        </p:grpSpPr>
        <p:pic>
          <p:nvPicPr>
            <p:cNvPr id="987" name="" descr=""/>
            <p:cNvPicPr/>
            <p:nvPr/>
          </p:nvPicPr>
          <p:blipFill>
            <a:blip r:embed="rId2"/>
            <a:stretch/>
          </p:blipFill>
          <p:spPr>
            <a:xfrm>
              <a:off x="304920" y="4343400"/>
              <a:ext cx="490680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3"/>
            <a:stretch/>
          </p:blipFill>
          <p:spPr>
            <a:xfrm>
              <a:off x="5181480" y="4419720"/>
              <a:ext cx="35053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105520" y="4952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1480" y="4191120"/>
              <a:ext cx="1447920" cy="1371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4191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Hz~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09880" y="49528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5410080" y="34290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6172200" y="228600"/>
            <a:ext cx="267984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D7D9-BA50-4E79-8F3E-ED9E0A25A0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522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BIS Docu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480" y="91440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IBIS Cook Boo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i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Japane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1857600" cy="198108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5105520" y="2514600"/>
            <a:ext cx="3500280" cy="3733560"/>
            <a:chOff x="5105520" y="2514600"/>
            <a:chExt cx="3500280" cy="3733560"/>
          </a:xfrm>
        </p:grpSpPr>
        <p:pic>
          <p:nvPicPr>
            <p:cNvPr id="1000" name="" descr=""/>
            <p:cNvPicPr/>
            <p:nvPr/>
          </p:nvPicPr>
          <p:blipFill>
            <a:blip r:embed="rId2"/>
            <a:stretch/>
          </p:blipFill>
          <p:spPr>
            <a:xfrm>
              <a:off x="5105520" y="2514600"/>
              <a:ext cx="35002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 rot="20712000">
              <a:off x="6933960" y="3657600"/>
              <a:ext cx="114264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JEI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EDA-W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rot="1353000">
            <a:off x="2514240" y="39625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9092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 Black"/>
                <a:ea typeface="Arial Unicode MS"/>
              </a:rPr>
              <a:t>Translation 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743200" y="1752480"/>
            <a:ext cx="2209680" cy="19814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JE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EDA-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580920" y="3733920"/>
            <a:ext cx="2286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" y="5181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ing So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620120" y="4572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J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6019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pricht hier jemand Japanis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29F8-3139-46CC-8ECE-1DE4FC7A39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04920" y="4959360"/>
            <a:ext cx="312408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7200" y="4807080"/>
            <a:ext cx="312408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4654440"/>
            <a:ext cx="3124440" cy="16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2120" y="4502160"/>
            <a:ext cx="312408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14400" y="4349880"/>
            <a:ext cx="312408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066680" y="4087800"/>
            <a:ext cx="31244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19320" y="3935520"/>
            <a:ext cx="31240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71600" y="3782880"/>
            <a:ext cx="31240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23880" y="3630600"/>
            <a:ext cx="31244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3478320"/>
            <a:ext cx="31240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1905120" y="3173400"/>
            <a:ext cx="3124080" cy="185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0" name="" descr=""/>
          <p:cNvPicPr/>
          <p:nvPr/>
        </p:nvPicPr>
        <p:blipFill>
          <a:blip r:embed="rId2"/>
          <a:stretch/>
        </p:blipFill>
        <p:spPr>
          <a:xfrm>
            <a:off x="3733920" y="1725480"/>
            <a:ext cx="358128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1" name="" descr=""/>
          <p:cNvPicPr/>
          <p:nvPr/>
        </p:nvPicPr>
        <p:blipFill>
          <a:blip r:embed="rId3"/>
          <a:stretch/>
        </p:blipFill>
        <p:spPr>
          <a:xfrm>
            <a:off x="5105520" y="539640"/>
            <a:ext cx="3490920" cy="20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2" name=""/>
          <p:cNvSpPr/>
          <p:nvPr/>
        </p:nvSpPr>
        <p:spPr>
          <a:xfrm>
            <a:off x="5562720" y="506520"/>
            <a:ext cx="3429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nvergence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495680" y="32828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mp double-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1800" y="454500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inding Irregular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316680" y="5568840"/>
            <a:ext cx="529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With the exception of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228600" y="1295280"/>
            <a:ext cx="3429000" cy="649080"/>
            <a:chOff x="228600" y="1295280"/>
            <a:chExt cx="3429000" cy="649080"/>
          </a:xfrm>
        </p:grpSpPr>
        <p:sp>
          <p:nvSpPr>
            <p:cNvPr id="1027" name=""/>
            <p:cNvSpPr/>
            <p:nvPr/>
          </p:nvSpPr>
          <p:spPr>
            <a:xfrm>
              <a:off x="228600" y="1371600"/>
              <a:ext cx="33526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3100" spc="-1" strike="noStrike" u="sng">
                  <a:solidFill>
                    <a:srgbClr val="0000ff"/>
                  </a:solidFill>
                  <a:uFillTx/>
                  <a:latin typeface="Arial Black"/>
                </a:rPr>
                <a:t>IBISIndicator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48120" y="12952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182880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307120" y="5035680"/>
            <a:ext cx="3158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20 Check Item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600" y="304920"/>
            <a:ext cx="365760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BIS Fre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8600" y="1066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The Tool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360" y="23623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pporting  IBI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86C5-2340-490B-A50C-F764FBD600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000320" cy="294336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28600" y="380880"/>
            <a:ext cx="4419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3900" spc="-1" strike="noStrike" u="sng">
                <a:solidFill>
                  <a:srgbClr val="0000ff"/>
                </a:solidFill>
                <a:uFillTx/>
                <a:latin typeface="Arial Black"/>
              </a:rPr>
              <a:t>IBISIndicator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341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ER Case Stud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" y="1143000"/>
            <a:ext cx="89154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  <a:ea typeface="Arial Unicode MS"/>
              </a:rPr>
              <a:t>Compare Check IB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hich are same Output current in the data she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heck and Auto-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 IBIS Non-monotonic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Find the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IBIS which has no-error in IBIS Syntax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76520" y="644220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6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09880" y="304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505320" cy="27194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380880" y="44956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F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2920" y="2971800"/>
            <a:ext cx="1523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Check and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3276720" y="4800600"/>
            <a:ext cx="2352600" cy="168912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3048120" y="5867280"/>
            <a:ext cx="167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51C1-12B4-4397-B776-F67E3F375F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93372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8840" y="5762520"/>
            <a:ext cx="45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762120"/>
            <a:ext cx="769644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D5A8-3D8C-4CBB-B559-BF5E0CB9155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0" y="914400"/>
            <a:ext cx="914400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15000" cy="43387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1600200" y="495288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33920" y="2057400"/>
            <a:ext cx="1447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14800" y="4952880"/>
            <a:ext cx="1371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e/Fall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895480" y="47239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48320" y="2666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952880" y="4648320"/>
            <a:ext cx="6098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990720"/>
            <a:ext cx="9144000" cy="67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BISIndicator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e IBI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14800" y="914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26668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us    in 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600200" y="2362320"/>
            <a:ext cx="53352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0428800">
            <a:off x="6229440" y="2034720"/>
            <a:ext cx="2733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Now Availab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for F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5791320"/>
            <a:ext cx="91440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05720" y="4800600"/>
            <a:ext cx="1981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or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07120" y="1447920"/>
            <a:ext cx="241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Limited Edi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25780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ineering Statio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5867280"/>
            <a:ext cx="91440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Down Load: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Arial Unicode MS"/>
              </a:rPr>
              <a:t> www.edaconnect.co.j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6320" y="152280"/>
            <a:ext cx="365760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BIS Fre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CEC9-53A9-4541-9198-587DB5EE01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228600" y="270000"/>
            <a:ext cx="8693280" cy="633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1067" name=""/>
          <p:cNvSpPr/>
          <p:nvPr/>
        </p:nvSpPr>
        <p:spPr>
          <a:xfrm>
            <a:off x="1676520" y="644220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6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193680"/>
            <a:ext cx="8076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JEITA IBIS Model Portal site in Progress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838080" y="2708280"/>
            <a:ext cx="1371600" cy="114444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6324480" y="453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5800" y="87948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52480" y="590868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391520" y="103176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43800" y="164160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3"/>
          <a:stretch/>
        </p:blipFill>
        <p:spPr>
          <a:xfrm>
            <a:off x="7315200" y="2479680"/>
            <a:ext cx="1476360" cy="172728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7315200" y="3851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676520" y="644220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6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4"/>
          <a:stretch/>
        </p:blipFill>
        <p:spPr>
          <a:xfrm>
            <a:off x="6781680" y="4994280"/>
            <a:ext cx="1460520" cy="113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9" name=""/>
          <p:cNvSpPr/>
          <p:nvPr/>
        </p:nvSpPr>
        <p:spPr>
          <a:xfrm>
            <a:off x="7431120" y="4317840"/>
            <a:ext cx="1100160" cy="44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5"/>
          <a:stretch/>
        </p:blipFill>
        <p:spPr>
          <a:xfrm>
            <a:off x="7238880" y="4419720"/>
            <a:ext cx="973080" cy="745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81" name="" descr=""/>
          <p:cNvPicPr/>
          <p:nvPr/>
        </p:nvPicPr>
        <p:blipFill>
          <a:blip r:embed="rId6"/>
          <a:stretch/>
        </p:blipFill>
        <p:spPr>
          <a:xfrm>
            <a:off x="7620120" y="480060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 rot="19800000">
            <a:off x="1599840" y="3733560"/>
            <a:ext cx="1828800" cy="533160"/>
          </a:xfrm>
          <a:prstGeom prst="leftArrow">
            <a:avLst>
              <a:gd name="adj1" fmla="val 50000"/>
              <a:gd name="adj2" fmla="val 857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G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7200" y="2022480"/>
            <a:ext cx="2590920" cy="236232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5800" y="225108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ific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29200" y="2133720"/>
            <a:ext cx="2590920" cy="236196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00800" y="4267080"/>
            <a:ext cx="2590920" cy="236232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7"/>
          <a:stretch/>
        </p:blipFill>
        <p:spPr>
          <a:xfrm>
            <a:off x="4800600" y="2057400"/>
            <a:ext cx="2732040" cy="224460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410080" y="6137280"/>
            <a:ext cx="289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and EMI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92BE-B252-462A-AF8C-41D0E367DD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85800" y="1219320"/>
            <a:ext cx="7696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 hope to discuss case study of IBIS with European IBIS members period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ank you for all the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IA/IBIS Committee!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495288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Auf Wiederseh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3B63-563A-47B9-98AB-785EEA2324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880"/>
            <a:ext cx="8534160" cy="1067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, SI and P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gital Consumer Electron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3240" y="1752480"/>
            <a:ext cx="723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Backg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      High-speed Clock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        DDR, PCI, PCI-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         High density and Large scale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iP and Module, PCB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MI, SI and PI Simul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6C23-00DF-4133-9D76-FC9F9DDED8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85341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EMI, SI and P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8335-A1AE-40C6-AC63-C99801F1F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562360" y="441936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320" y="838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9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89360" y="518148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lexible Printed Circuit Bo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C82E-9FB3-4756-B37C-92AD03988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27720" y="2049480"/>
            <a:ext cx="15429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3280" y="2471760"/>
            <a:ext cx="11923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5240" y="4716360"/>
            <a:ext cx="1065240" cy="69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3760" y="2681280"/>
            <a:ext cx="119412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952880"/>
            <a:ext cx="7128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982920" y="4576320"/>
            <a:ext cx="561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913440" y="3173040"/>
            <a:ext cx="56052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9200" y="275076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0" y="3313080"/>
            <a:ext cx="4000680" cy="16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13120" y="4646520"/>
            <a:ext cx="91260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9000" y="193680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4786200"/>
            <a:ext cx="23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A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(internal/ven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320" y="5486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06280" y="43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0" y="17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em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5040" y="1863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46440" y="5811840"/>
            <a:ext cx="1614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880"/>
            <a:ext cx="74674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5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37200"/>
            <a:ext cx="2286000" cy="12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dence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0320" y="1909800"/>
            <a:ext cx="1403280" cy="175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7E5F-F3FC-460A-BF8F-93EE8D0F4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400" y="1025640"/>
            <a:ext cx="84178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s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IBIS Model 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EITA-IBIS Joint mee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clude European IBIS me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8F45-996F-4A3C-8222-F080446C9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0"/>
            <a:ext cx="74674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nector, PCB, Cable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656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292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456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84652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255888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774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990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206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34225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6960" y="4572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9528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364000" y="3278160"/>
            <a:ext cx="655920" cy="16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6960" y="1600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48360" y="1904760"/>
            <a:ext cx="11761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19112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46560" y="1911240"/>
            <a:ext cx="10080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9040" y="4038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733920" y="4419720"/>
            <a:ext cx="179532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492000" y="3573360"/>
            <a:ext cx="24156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242100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637000"/>
            <a:ext cx="64764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2781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299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21300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852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068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3284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3080" y="4148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03280" y="4495680"/>
            <a:ext cx="194940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900000" y="3644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30160" y="11383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144792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40360" y="1484280"/>
            <a:ext cx="35856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1447920"/>
            <a:ext cx="547560" cy="14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2924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29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306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139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2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2200" y="2852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42200" y="292428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6948360" y="2852280"/>
            <a:ext cx="7164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8560" y="27082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00560" y="2708280"/>
            <a:ext cx="64764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8920" y="2362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263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564000" y="285264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6400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64000" y="313992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64000" y="3213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29973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30686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6950160" y="2997360"/>
            <a:ext cx="712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43640" y="3139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32115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6949800" y="3139560"/>
            <a:ext cx="7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6520" y="106668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ap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product figure"/>
          <p:cNvPicPr/>
          <p:nvPr/>
        </p:nvPicPr>
        <p:blipFill>
          <a:blip r:embed="rId1"/>
          <a:stretch/>
        </p:blipFill>
        <p:spPr>
          <a:xfrm>
            <a:off x="380880" y="4648320"/>
            <a:ext cx="2676600" cy="2028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43800" y="4876920"/>
            <a:ext cx="195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E (Japan Avi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s Indus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-X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200400"/>
            <a:ext cx="15264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3124080"/>
            <a:ext cx="152280" cy="152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8920" y="38862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77120" y="3200400"/>
            <a:ext cx="7596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114800" y="3352320"/>
            <a:ext cx="2362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419112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D5BA-36B6-4707-B783-77BD6C741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渡辺　毅</cp:lastModifiedBy>
  <dcterms:modified xsi:type="dcterms:W3CDTF">2006-02-21T23:38:22Z</dcterms:modified>
  <cp:revision>488</cp:revision>
  <dc:subject/>
  <dc:title>JE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0039219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IBIS Summit presentation material</vt:lpwstr>
  </property>
</Properties>
</file>