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2524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37560" y="141264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1292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2524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37560" y="3782520"/>
            <a:ext cx="26780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12920" y="279360"/>
            <a:ext cx="831816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5320" y="378252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29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5320" y="1412640"/>
            <a:ext cx="4059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12920" y="3782520"/>
            <a:ext cx="8318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2920" y="1412640"/>
            <a:ext cx="83181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177640" y="6453000"/>
            <a:ext cx="655308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5381640" indent="0">
              <a:lnSpc>
                <a:spcPct val="100000"/>
              </a:lnSpc>
              <a:buNone/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.Lenski / Com MN PG R H B 8      DATE  2006     IBIS summit   10th March  2006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069F2131-3F57-4630-8366-0E3583BE98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-425520" y="-200160"/>
            <a:ext cx="9731520" cy="6474240"/>
            <a:chOff x="-425520" y="-200160"/>
            <a:chExt cx="9731520" cy="6474240"/>
          </a:xfrm>
        </p:grpSpPr>
        <p:sp>
          <p:nvSpPr>
            <p:cNvPr id="8" name=""/>
            <p:cNvSpPr/>
            <p:nvPr/>
          </p:nvSpPr>
          <p:spPr>
            <a:xfrm>
              <a:off x="374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24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63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8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25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8954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15892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64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9280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-425520" y="9586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-425520" y="1073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-425520" y="131112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5,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-425520" y="27399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-425520" y="2854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-425520" y="44830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3,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-425520" y="58737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-425520" y="6121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14280" y="6122880"/>
            <a:ext cx="2054160" cy="457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-425520" y="-200160"/>
            <a:ext cx="9731520" cy="6474240"/>
            <a:chOff x="-425520" y="-200160"/>
            <a:chExt cx="9731520" cy="6474240"/>
          </a:xfrm>
        </p:grpSpPr>
        <p:sp>
          <p:nvSpPr>
            <p:cNvPr id="66" name=""/>
            <p:cNvSpPr/>
            <p:nvPr/>
          </p:nvSpPr>
          <p:spPr>
            <a:xfrm>
              <a:off x="374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4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63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8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2576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954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3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5892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464680" y="-200160"/>
              <a:ext cx="37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1,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928000" y="-200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2,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-425520" y="9586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-425520" y="10731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6,3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-425520" y="131112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5,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-425520" y="27399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7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-425520" y="2854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1,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-425520" y="448308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3,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-425520" y="587376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-425520" y="6121440"/>
              <a:ext cx="378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marL="182520" indent="-182520"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ffff"/>
                  </a:solidFill>
                  <a:latin typeface="Arial"/>
                </a:rPr>
                <a:t>7,7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iemens IBIS group update 200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914400" y="2095560"/>
            <a:ext cx="4710240" cy="459720"/>
            <a:chOff x="914400" y="2095560"/>
            <a:chExt cx="4710240" cy="459720"/>
          </a:xfrm>
        </p:grpSpPr>
        <p:sp>
          <p:nvSpPr>
            <p:cNvPr id="601" name=""/>
            <p:cNvSpPr/>
            <p:nvPr/>
          </p:nvSpPr>
          <p:spPr>
            <a:xfrm>
              <a:off x="2363760" y="2095560"/>
              <a:ext cx="32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ww.siemens.com/ib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914400" y="2243160"/>
              <a:ext cx="1066680" cy="281160"/>
              <a:chOff x="914400" y="2243160"/>
              <a:chExt cx="1066680" cy="281160"/>
            </a:xfrm>
          </p:grpSpPr>
          <p:sp>
            <p:nvSpPr>
              <p:cNvPr id="603" name=""/>
              <p:cNvSpPr/>
              <p:nvPr/>
            </p:nvSpPr>
            <p:spPr>
              <a:xfrm>
                <a:off x="1127880" y="2478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234800" y="24372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448280" y="24372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914400" y="2478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341000" y="24782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554120" y="24782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68320" y="2478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287360" y="231264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555560" y="23958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127880" y="23958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341720" y="23958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2040" y="24372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448280" y="23544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234800" y="23544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1281960" y="2354040"/>
                <a:ext cx="330480" cy="170280"/>
                <a:chOff x="1281960" y="2354040"/>
                <a:chExt cx="330480" cy="1702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1341360" y="23540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1335240" y="23680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329840" y="23817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1324440" y="23958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1319400" y="24098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1314000" y="24242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1308600" y="24382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303200" y="24526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1297800" y="24670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1292760" y="24818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1287360" y="24958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1281960" y="25102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 rot="16200000">
                <a:off x="1412640" y="216612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1" name=""/>
              <p:cNvGrpSpPr/>
              <p:nvPr/>
            </p:nvGrpSpPr>
            <p:grpSpPr>
              <a:xfrm>
                <a:off x="1413360" y="2327400"/>
                <a:ext cx="68040" cy="26280"/>
                <a:chOff x="1413360" y="2327400"/>
                <a:chExt cx="68040" cy="26280"/>
              </a:xfrm>
            </p:grpSpPr>
            <p:grpSp>
              <p:nvGrpSpPr>
                <p:cNvPr id="632" name=""/>
                <p:cNvGrpSpPr/>
                <p:nvPr/>
              </p:nvGrpSpPr>
              <p:grpSpPr>
                <a:xfrm>
                  <a:off x="1413360" y="2327400"/>
                  <a:ext cx="68040" cy="26280"/>
                  <a:chOff x="1413360" y="2327400"/>
                  <a:chExt cx="68040" cy="26280"/>
                </a:xfrm>
              </p:grpSpPr>
              <p:sp>
                <p:nvSpPr>
                  <p:cNvPr id="633" name=""/>
                  <p:cNvSpPr/>
                  <p:nvPr/>
                </p:nvSpPr>
                <p:spPr>
                  <a:xfrm>
                    <a:off x="1413360" y="23274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1481400" y="23274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1413360" y="23274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6" name=""/>
                <p:cNvSpPr/>
                <p:nvPr/>
              </p:nvSpPr>
              <p:spPr>
                <a:xfrm>
                  <a:off x="1419120" y="232884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1661040" y="24372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8" name=""/>
          <p:cNvGrpSpPr/>
          <p:nvPr/>
        </p:nvGrpSpPr>
        <p:grpSpPr>
          <a:xfrm>
            <a:off x="914400" y="3171960"/>
            <a:ext cx="5321880" cy="459720"/>
            <a:chOff x="914400" y="3171960"/>
            <a:chExt cx="5321880" cy="459720"/>
          </a:xfrm>
        </p:grpSpPr>
        <p:grpSp>
          <p:nvGrpSpPr>
            <p:cNvPr id="639" name=""/>
            <p:cNvGrpSpPr/>
            <p:nvPr/>
          </p:nvGrpSpPr>
          <p:grpSpPr>
            <a:xfrm>
              <a:off x="914400" y="3273480"/>
              <a:ext cx="1066680" cy="281160"/>
              <a:chOff x="914400" y="3273480"/>
              <a:chExt cx="1066680" cy="281160"/>
            </a:xfrm>
          </p:grpSpPr>
          <p:sp>
            <p:nvSpPr>
              <p:cNvPr id="640" name=""/>
              <p:cNvSpPr/>
              <p:nvPr/>
            </p:nvSpPr>
            <p:spPr>
              <a:xfrm>
                <a:off x="1127880" y="3508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234800" y="3467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48280" y="34675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914400" y="3508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341000" y="35085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554120" y="35085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768320" y="35085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287360" y="33429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555560" y="3426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27880" y="34261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341720" y="34261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022040" y="3467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448280" y="33847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234800" y="33847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" name=""/>
              <p:cNvGrpSpPr/>
              <p:nvPr/>
            </p:nvGrpSpPr>
            <p:grpSpPr>
              <a:xfrm>
                <a:off x="1281960" y="3384360"/>
                <a:ext cx="330480" cy="170280"/>
                <a:chOff x="1281960" y="3384360"/>
                <a:chExt cx="330480" cy="17028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1341360" y="33843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335240" y="33984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329840" y="34120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324440" y="34261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319400" y="34401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314000" y="34545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308600" y="34686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303200" y="34830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1297800" y="34974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1292760" y="35121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287360" y="35262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1281960" y="35406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7" name=""/>
              <p:cNvSpPr/>
              <p:nvPr/>
            </p:nvSpPr>
            <p:spPr>
              <a:xfrm rot="16200000">
                <a:off x="1412640" y="31964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8" name=""/>
              <p:cNvGrpSpPr/>
              <p:nvPr/>
            </p:nvGrpSpPr>
            <p:grpSpPr>
              <a:xfrm>
                <a:off x="1413360" y="3357720"/>
                <a:ext cx="68040" cy="26280"/>
                <a:chOff x="1413360" y="3357720"/>
                <a:chExt cx="68040" cy="26280"/>
              </a:xfrm>
            </p:grpSpPr>
            <p:grpSp>
              <p:nvGrpSpPr>
                <p:cNvPr id="669" name=""/>
                <p:cNvGrpSpPr/>
                <p:nvPr/>
              </p:nvGrpSpPr>
              <p:grpSpPr>
                <a:xfrm>
                  <a:off x="1413360" y="3357720"/>
                  <a:ext cx="68040" cy="26280"/>
                  <a:chOff x="1413360" y="3357720"/>
                  <a:chExt cx="68040" cy="2628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1413360" y="33577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1481400" y="33577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1413360" y="33577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3" name=""/>
                <p:cNvSpPr/>
                <p:nvPr/>
              </p:nvSpPr>
              <p:spPr>
                <a:xfrm>
                  <a:off x="1419120" y="33591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4" name=""/>
              <p:cNvSpPr/>
              <p:nvPr/>
            </p:nvSpPr>
            <p:spPr>
              <a:xfrm>
                <a:off x="1661040" y="34675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2359800" y="3171960"/>
              <a:ext cx="38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art :  june 2006  or earl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914400" y="4361040"/>
            <a:ext cx="6527880" cy="459720"/>
            <a:chOff x="914400" y="4361040"/>
            <a:chExt cx="6527880" cy="459720"/>
          </a:xfrm>
        </p:grpSpPr>
        <p:grpSp>
          <p:nvGrpSpPr>
            <p:cNvPr id="677" name=""/>
            <p:cNvGrpSpPr/>
            <p:nvPr/>
          </p:nvGrpSpPr>
          <p:grpSpPr>
            <a:xfrm>
              <a:off x="914400" y="4481640"/>
              <a:ext cx="1066680" cy="280800"/>
              <a:chOff x="914400" y="4481640"/>
              <a:chExt cx="1066680" cy="280800"/>
            </a:xfrm>
          </p:grpSpPr>
          <p:sp>
            <p:nvSpPr>
              <p:cNvPr id="678" name=""/>
              <p:cNvSpPr/>
              <p:nvPr/>
            </p:nvSpPr>
            <p:spPr>
              <a:xfrm>
                <a:off x="1127880" y="4716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234800" y="467532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448280" y="4675320"/>
                <a:ext cx="21312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14400" y="4716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341000" y="47163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554120" y="47163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768320" y="47163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287360" y="455112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555560" y="4634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127880" y="463428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341720" y="463428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022040" y="467532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8280" y="45925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234800" y="45925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2" name=""/>
              <p:cNvGrpSpPr/>
              <p:nvPr/>
            </p:nvGrpSpPr>
            <p:grpSpPr>
              <a:xfrm>
                <a:off x="1281960" y="4592160"/>
                <a:ext cx="330480" cy="170280"/>
                <a:chOff x="1281960" y="4592160"/>
                <a:chExt cx="330480" cy="17028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1341360" y="45921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335240" y="46062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1329840" y="46198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1324440" y="46339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1319400" y="46479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314000" y="46623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1308600" y="46764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1303200" y="46908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297800" y="47052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292760" y="47199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1287360" y="47340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281960" y="47484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5" name=""/>
              <p:cNvSpPr/>
              <p:nvPr/>
            </p:nvSpPr>
            <p:spPr>
              <a:xfrm rot="16200000">
                <a:off x="1412640" y="440460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1413360" y="4565520"/>
                <a:ext cx="68040" cy="26280"/>
                <a:chOff x="1413360" y="4565520"/>
                <a:chExt cx="68040" cy="26280"/>
              </a:xfrm>
            </p:grpSpPr>
            <p:grpSp>
              <p:nvGrpSpPr>
                <p:cNvPr id="707" name=""/>
                <p:cNvGrpSpPr/>
                <p:nvPr/>
              </p:nvGrpSpPr>
              <p:grpSpPr>
                <a:xfrm>
                  <a:off x="1413360" y="4565520"/>
                  <a:ext cx="68040" cy="26280"/>
                  <a:chOff x="1413360" y="4565520"/>
                  <a:chExt cx="68040" cy="2628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1413360" y="45655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1481400" y="45655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1413360" y="45655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1" name=""/>
                <p:cNvSpPr/>
                <p:nvPr/>
              </p:nvSpPr>
              <p:spPr>
                <a:xfrm>
                  <a:off x="1419120" y="45669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2" name=""/>
              <p:cNvSpPr/>
              <p:nvPr/>
            </p:nvSpPr>
            <p:spPr>
              <a:xfrm>
                <a:off x="1661040" y="467532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3" name=""/>
            <p:cNvSpPr/>
            <p:nvPr/>
          </p:nvSpPr>
          <p:spPr>
            <a:xfrm>
              <a:off x="2363400" y="4361040"/>
              <a:ext cx="507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mail to:  ibis-quality@siemens.c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er constr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41280" y="1103400"/>
            <a:ext cx="2790720" cy="2325600"/>
            <a:chOff x="341280" y="1103400"/>
            <a:chExt cx="2790720" cy="232560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341280" y="1103400"/>
              <a:ext cx="2790720" cy="23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 rot="17142600">
              <a:off x="2418120" y="1449720"/>
              <a:ext cx="53316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IBI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85800" y="3621240"/>
            <a:ext cx="2514600" cy="2358720"/>
            <a:chOff x="685800" y="3621240"/>
            <a:chExt cx="2514600" cy="2358720"/>
          </a:xfrm>
        </p:grpSpPr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85800" y="3621240"/>
              <a:ext cx="2514600" cy="23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 rot="4796400">
              <a:off x="2090160" y="4158360"/>
              <a:ext cx="53316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IBI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324480" y="1066680"/>
            <a:ext cx="2281320" cy="2362320"/>
            <a:chOff x="6324480" y="1066680"/>
            <a:chExt cx="2281320" cy="2362320"/>
          </a:xfrm>
        </p:grpSpPr>
        <p:pic>
          <p:nvPicPr>
            <p:cNvPr id="129" name="" descr=""/>
            <p:cNvPicPr/>
            <p:nvPr/>
          </p:nvPicPr>
          <p:blipFill>
            <a:blip r:embed="rId3"/>
            <a:stretch/>
          </p:blipFill>
          <p:spPr>
            <a:xfrm>
              <a:off x="6324480" y="1066680"/>
              <a:ext cx="2281320" cy="236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8115480" y="1704960"/>
              <a:ext cx="433440" cy="6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IBI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867280" y="3633840"/>
            <a:ext cx="2690640" cy="2333520"/>
            <a:chOff x="5867280" y="3633840"/>
            <a:chExt cx="2690640" cy="2333520"/>
          </a:xfrm>
        </p:grpSpPr>
        <p:pic>
          <p:nvPicPr>
            <p:cNvPr id="132" name="" descr=""/>
            <p:cNvPicPr/>
            <p:nvPr/>
          </p:nvPicPr>
          <p:blipFill>
            <a:blip r:embed="rId4"/>
            <a:stretch/>
          </p:blipFill>
          <p:spPr>
            <a:xfrm>
              <a:off x="5867280" y="3633840"/>
              <a:ext cx="269064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 rot="20261400">
              <a:off x="6500520" y="3988800"/>
              <a:ext cx="53352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IBI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287000">
              <a:off x="7252920" y="4160160"/>
              <a:ext cx="53316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SI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66440" y="2149560"/>
            <a:ext cx="2612520" cy="2793600"/>
            <a:chOff x="3466440" y="2149560"/>
            <a:chExt cx="2612520" cy="2793600"/>
          </a:xfrm>
        </p:grpSpPr>
        <p:pic>
          <p:nvPicPr>
            <p:cNvPr id="136" name="" descr=""/>
            <p:cNvPicPr/>
            <p:nvPr/>
          </p:nvPicPr>
          <p:blipFill>
            <a:blip r:embed="rId5"/>
            <a:stretch/>
          </p:blipFill>
          <p:spPr>
            <a:xfrm>
              <a:off x="3903480" y="2149560"/>
              <a:ext cx="2171520" cy="24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rot="20616600">
              <a:off x="4970520" y="4352400"/>
              <a:ext cx="10663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2000" spc="-1" strike="noStrike">
                  <a:solidFill>
                    <a:srgbClr val="000000"/>
                  </a:solidFill>
                  <a:latin typeface="Arial"/>
                </a:rPr>
                <a:t>IB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 rot="16488000">
              <a:off x="3386880" y="2561040"/>
              <a:ext cx="960480" cy="723600"/>
            </a:xfrm>
            <a:prstGeom prst="rect">
              <a:avLst/>
            </a:prstGeom>
          </p:spPr>
          <p:txBody>
            <a:bodyPr wrap="none" fromWordArt="1" lIns="72000" rIns="72000" tIns="72000" bIns="72000" anchor="t" anchorCtr="1">
              <a:prstTxWarp prst="textArchUp">
                <a:avLst>
                  <a:gd name="adj" fmla="val 1062190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IBIS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52280" y="1066680"/>
            <a:ext cx="7686360" cy="1620000"/>
            <a:chOff x="152280" y="1066680"/>
            <a:chExt cx="7686360" cy="1620000"/>
          </a:xfrm>
        </p:grpSpPr>
        <p:sp>
          <p:nvSpPr>
            <p:cNvPr id="141" name=""/>
            <p:cNvSpPr/>
            <p:nvPr/>
          </p:nvSpPr>
          <p:spPr>
            <a:xfrm>
              <a:off x="1596960" y="1066680"/>
              <a:ext cx="62416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IEMENS IBIS GROUP is formed by members of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fferent Siemens divisions. This group has define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on quality level for ibis model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which i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ir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y all SIEMENS division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152280" y="1141200"/>
              <a:ext cx="1066680" cy="281160"/>
              <a:chOff x="152280" y="1141200"/>
              <a:chExt cx="1066680" cy="281160"/>
            </a:xfrm>
          </p:grpSpPr>
          <p:sp>
            <p:nvSpPr>
              <p:cNvPr id="143" name=""/>
              <p:cNvSpPr/>
              <p:nvPr/>
            </p:nvSpPr>
            <p:spPr>
              <a:xfrm>
                <a:off x="365760" y="1376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2680" y="1335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86160" y="13352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2280" y="1376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8880" y="137628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2000" y="137628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006200" y="137628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25240" y="12106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3440" y="1293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5760" y="12938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79600" y="12938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9920" y="1335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86160" y="1252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2680" y="125244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519840" y="1252080"/>
                <a:ext cx="330480" cy="170280"/>
                <a:chOff x="519840" y="1252080"/>
                <a:chExt cx="330480" cy="170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579240" y="125208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73120" y="126612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7720" y="127980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2320" y="129384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557280" y="130788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51880" y="132228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46480" y="133632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541080" y="135072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535680" y="136512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30640" y="137988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25240" y="139392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19840" y="140832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 rot="16200000">
                <a:off x="650520" y="10641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" name=""/>
              <p:cNvGrpSpPr/>
              <p:nvPr/>
            </p:nvGrpSpPr>
            <p:grpSpPr>
              <a:xfrm>
                <a:off x="651240" y="1225440"/>
                <a:ext cx="68040" cy="26280"/>
                <a:chOff x="651240" y="1225440"/>
                <a:chExt cx="68040" cy="2628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651240" y="1225440"/>
                  <a:ext cx="68040" cy="26280"/>
                  <a:chOff x="651240" y="1225440"/>
                  <a:chExt cx="68040" cy="2628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651240" y="1225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719280" y="122544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651240" y="122544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" name=""/>
                <p:cNvSpPr/>
                <p:nvPr/>
              </p:nvSpPr>
              <p:spPr>
                <a:xfrm>
                  <a:off x="657000" y="122688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898920" y="1335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152280" y="3048120"/>
            <a:ext cx="7962480" cy="1620000"/>
            <a:chOff x="152280" y="3048120"/>
            <a:chExt cx="7962480" cy="1620000"/>
          </a:xfrm>
        </p:grpSpPr>
        <p:grpSp>
          <p:nvGrpSpPr>
            <p:cNvPr id="179" name=""/>
            <p:cNvGrpSpPr/>
            <p:nvPr/>
          </p:nvGrpSpPr>
          <p:grpSpPr>
            <a:xfrm>
              <a:off x="152280" y="3076560"/>
              <a:ext cx="1066680" cy="281160"/>
              <a:chOff x="152280" y="3076560"/>
              <a:chExt cx="1066680" cy="281160"/>
            </a:xfrm>
          </p:grpSpPr>
          <p:sp>
            <p:nvSpPr>
              <p:cNvPr id="180" name=""/>
              <p:cNvSpPr/>
              <p:nvPr/>
            </p:nvSpPr>
            <p:spPr>
              <a:xfrm>
                <a:off x="365760" y="3311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2680" y="327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86160" y="32706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52280" y="3311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8880" y="33116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92000" y="33116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006200" y="3311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5240" y="314604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93440" y="32292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5760" y="322920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79600" y="32292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59920" y="327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86160" y="31878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2680" y="31878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"/>
              <p:cNvGrpSpPr/>
              <p:nvPr/>
            </p:nvGrpSpPr>
            <p:grpSpPr>
              <a:xfrm>
                <a:off x="519840" y="3187440"/>
                <a:ext cx="330480" cy="170280"/>
                <a:chOff x="519840" y="3187440"/>
                <a:chExt cx="330480" cy="17028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79240" y="31874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73120" y="32014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67720" y="32151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62320" y="32292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57280" y="32432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1880" y="32576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46480" y="32716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1080" y="32860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35680" y="33004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30640" y="33152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25240" y="33292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19840" y="33436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 rot="16200000">
                <a:off x="650520" y="299952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51240" y="3160800"/>
                <a:ext cx="68040" cy="26280"/>
                <a:chOff x="651240" y="3160800"/>
                <a:chExt cx="68040" cy="2628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651240" y="3160800"/>
                  <a:ext cx="68040" cy="26280"/>
                  <a:chOff x="651240" y="3160800"/>
                  <a:chExt cx="68040" cy="26280"/>
                </a:xfrm>
              </p:grpSpPr>
              <p:sp>
                <p:nvSpPr>
                  <p:cNvPr id="210" name=""/>
                  <p:cNvSpPr/>
                  <p:nvPr/>
                </p:nvSpPr>
                <p:spPr>
                  <a:xfrm>
                    <a:off x="651240" y="31608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719280" y="31608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51240" y="31608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657000" y="316224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898920" y="32706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600200" y="3048120"/>
              <a:ext cx="65145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EMENS design flows include the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oard/system simula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 a main topic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o support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sign to co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 to marke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nitiatives. The quality of the used model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imaril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termines</a:t>
              </a:r>
              <a:r>
                <a:rPr b="0" lang="de-DE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imulation resul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12760" y="4951440"/>
            <a:ext cx="6506280" cy="1202760"/>
            <a:chOff x="212760" y="4951440"/>
            <a:chExt cx="6506280" cy="1202760"/>
          </a:xfrm>
        </p:grpSpPr>
        <p:grpSp>
          <p:nvGrpSpPr>
            <p:cNvPr id="217" name=""/>
            <p:cNvGrpSpPr/>
            <p:nvPr/>
          </p:nvGrpSpPr>
          <p:grpSpPr>
            <a:xfrm>
              <a:off x="212760" y="4999320"/>
              <a:ext cx="1066680" cy="280800"/>
              <a:chOff x="212760" y="4999320"/>
              <a:chExt cx="1066680" cy="280800"/>
            </a:xfrm>
          </p:grpSpPr>
          <p:sp>
            <p:nvSpPr>
              <p:cNvPr id="218" name=""/>
              <p:cNvSpPr/>
              <p:nvPr/>
            </p:nvSpPr>
            <p:spPr>
              <a:xfrm>
                <a:off x="426240" y="52340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33160" y="519300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46640" y="5193000"/>
                <a:ext cx="21312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12760" y="52340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9360" y="52340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52480" y="523404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066680" y="52340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5720" y="506880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53920" y="51519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26240" y="515196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40080" y="51519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20400" y="519300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46640" y="51102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33160" y="511020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580320" y="5109840"/>
                <a:ext cx="330480" cy="170280"/>
                <a:chOff x="580320" y="5109840"/>
                <a:chExt cx="330480" cy="1702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639720" y="510984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33600" y="512388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28200" y="513756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22800" y="515160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17760" y="516564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12360" y="518004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06960" y="519408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601560" y="520848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96160" y="522288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91120" y="523764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85720" y="525168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80320" y="526608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 rot="16200000">
                <a:off x="711000" y="492228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711720" y="5083200"/>
                <a:ext cx="68040" cy="26280"/>
                <a:chOff x="711720" y="5083200"/>
                <a:chExt cx="68040" cy="2628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711720" y="5083200"/>
                  <a:ext cx="68040" cy="26280"/>
                  <a:chOff x="711720" y="5083200"/>
                  <a:chExt cx="68040" cy="2628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711720" y="50832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79760" y="508320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711720" y="508320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717480" y="508464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959400" y="519300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657080" y="4951440"/>
              <a:ext cx="506196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this light of responsibility we expect from o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C vendor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igh IBIS model availabilit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and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 well as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vanced IBIS modeling know h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7640" y="0"/>
            <a:ext cx="9108720" cy="11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0" y="146160"/>
            <a:ext cx="8991360" cy="888840"/>
            <a:chOff x="0" y="146160"/>
            <a:chExt cx="8991360" cy="888840"/>
          </a:xfrm>
        </p:grpSpPr>
        <p:sp>
          <p:nvSpPr>
            <p:cNvPr id="257" name=""/>
            <p:cNvSpPr/>
            <p:nvPr/>
          </p:nvSpPr>
          <p:spPr>
            <a:xfrm>
              <a:off x="0" y="154080"/>
              <a:ext cx="8716680" cy="88092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16680" y="449280"/>
              <a:ext cx="274680" cy="579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716680" y="146160"/>
              <a:ext cx="274680" cy="304560"/>
            </a:xfrm>
            <a:prstGeom prst="rtTriangle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26640" bIns="26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omepage pre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78000" y="6453360"/>
            <a:ext cx="655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5381640" indent="-5381640">
              <a:lnSpc>
                <a:spcPct val="100000"/>
              </a:lnSpc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.Lenski / Com MN PG R H B 8      DATE  2006     IBIS summit   10th March  2006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73BB5203-F988-40E6-9442-EFC37155D72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0" y="68400"/>
            <a:ext cx="9144000" cy="67896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34920" y="0"/>
            <a:ext cx="9109080" cy="110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0" y="146160"/>
            <a:ext cx="8991360" cy="888840"/>
            <a:chOff x="0" y="146160"/>
            <a:chExt cx="8991360" cy="888840"/>
          </a:xfrm>
        </p:grpSpPr>
        <p:sp>
          <p:nvSpPr>
            <p:cNvPr id="266" name=""/>
            <p:cNvSpPr/>
            <p:nvPr/>
          </p:nvSpPr>
          <p:spPr>
            <a:xfrm>
              <a:off x="0" y="154080"/>
              <a:ext cx="8716680" cy="88092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716680" y="449280"/>
              <a:ext cx="274680" cy="579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716680" y="146160"/>
              <a:ext cx="274680" cy="304560"/>
            </a:xfrm>
            <a:prstGeom prst="rtTriangle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26640" bIns="26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78000" y="6453360"/>
            <a:ext cx="655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5381640" indent="-5381640">
              <a:lnSpc>
                <a:spcPct val="100000"/>
              </a:lnSpc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.Lenski / Com MN PG R H B 8      DATE  2006     IBIS summit   10th March  2006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51AF6F88-2E53-41DC-BE11-FEC5D39053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152280" y="1752480"/>
            <a:ext cx="3268800" cy="1638360"/>
            <a:chOff x="152280" y="1752480"/>
            <a:chExt cx="3268800" cy="1638360"/>
          </a:xfrm>
        </p:grpSpPr>
        <p:sp>
          <p:nvSpPr>
            <p:cNvPr id="273" name=""/>
            <p:cNvSpPr/>
            <p:nvPr/>
          </p:nvSpPr>
          <p:spPr>
            <a:xfrm flipV="1">
              <a:off x="228600" y="1828440"/>
              <a:ext cx="1523880" cy="1143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90920" y="1828800"/>
              <a:ext cx="685800" cy="1219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52280" y="2743200"/>
              <a:ext cx="3268800" cy="647640"/>
              <a:chOff x="152280" y="2743200"/>
              <a:chExt cx="3268800" cy="647640"/>
            </a:xfrm>
          </p:grpSpPr>
          <p:sp>
            <p:nvSpPr>
              <p:cNvPr id="276" name=""/>
              <p:cNvSpPr/>
              <p:nvPr/>
            </p:nvSpPr>
            <p:spPr>
              <a:xfrm>
                <a:off x="152280" y="2743200"/>
                <a:ext cx="3124080" cy="64764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79080" y="2790720"/>
                <a:ext cx="3042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Arial"/>
                  </a:rPr>
                  <a:t>Model requiremen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1752480" y="1752480"/>
              <a:ext cx="83844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914400" y="1752480"/>
            <a:ext cx="3124080" cy="3695760"/>
            <a:chOff x="914400" y="1752480"/>
            <a:chExt cx="3124080" cy="3695760"/>
          </a:xfrm>
        </p:grpSpPr>
        <p:grpSp>
          <p:nvGrpSpPr>
            <p:cNvPr id="280" name=""/>
            <p:cNvGrpSpPr/>
            <p:nvPr/>
          </p:nvGrpSpPr>
          <p:grpSpPr>
            <a:xfrm>
              <a:off x="914400" y="1828800"/>
              <a:ext cx="3124080" cy="3619440"/>
              <a:chOff x="914400" y="1828800"/>
              <a:chExt cx="3124080" cy="3619440"/>
            </a:xfrm>
          </p:grpSpPr>
          <p:grpSp>
            <p:nvGrpSpPr>
              <p:cNvPr id="281" name=""/>
              <p:cNvGrpSpPr/>
              <p:nvPr/>
            </p:nvGrpSpPr>
            <p:grpSpPr>
              <a:xfrm>
                <a:off x="914400" y="4800600"/>
                <a:ext cx="3124080" cy="647640"/>
                <a:chOff x="914400" y="4800600"/>
                <a:chExt cx="3124080" cy="6476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914400" y="4800600"/>
                  <a:ext cx="3124080" cy="64764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140480" y="4848120"/>
                  <a:ext cx="2153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000" spc="-1" strike="noStrike">
                      <a:solidFill>
                        <a:srgbClr val="000000"/>
                      </a:solidFill>
                      <a:latin typeface="Arial"/>
                    </a:rPr>
                    <a:t>           </a:t>
                  </a:r>
                  <a:r>
                    <a:rPr b="1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IBIS tre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"/>
              <p:cNvSpPr/>
              <p:nvPr/>
            </p:nvSpPr>
            <p:spPr>
              <a:xfrm flipV="1">
                <a:off x="914400" y="3504960"/>
                <a:ext cx="838080" cy="1600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00400" y="1828800"/>
                <a:ext cx="838080" cy="327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V="1">
              <a:off x="2209680" y="1828800"/>
              <a:ext cx="457200" cy="914400"/>
            </a:xfrm>
            <a:prstGeom prst="line">
              <a:avLst/>
            </a:prstGeom>
            <a:ln cap="rnd" w="93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66880" y="1752480"/>
              <a:ext cx="53352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200400" y="1752480"/>
            <a:ext cx="4647960" cy="3009960"/>
            <a:chOff x="3200400" y="1752480"/>
            <a:chExt cx="4647960" cy="3009960"/>
          </a:xfrm>
        </p:grpSpPr>
        <p:grpSp>
          <p:nvGrpSpPr>
            <p:cNvPr id="289" name=""/>
            <p:cNvGrpSpPr/>
            <p:nvPr/>
          </p:nvGrpSpPr>
          <p:grpSpPr>
            <a:xfrm>
              <a:off x="4724280" y="4114800"/>
              <a:ext cx="3124080" cy="647640"/>
              <a:chOff x="4724280" y="4114800"/>
              <a:chExt cx="3124080" cy="647640"/>
            </a:xfrm>
          </p:grpSpPr>
          <p:sp>
            <p:nvSpPr>
              <p:cNvPr id="290" name=""/>
              <p:cNvSpPr/>
              <p:nvPr/>
            </p:nvSpPr>
            <p:spPr>
              <a:xfrm>
                <a:off x="4724280" y="4114800"/>
                <a:ext cx="3124080" cy="64764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950720" y="4162320"/>
                <a:ext cx="2327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lang="de-DE" sz="2400" spc="-1" strike="noStrike">
                    <a:solidFill>
                      <a:srgbClr val="000000"/>
                    </a:solidFill>
                    <a:latin typeface="Arial"/>
                  </a:rPr>
                  <a:t>Model typ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3809880" y="1905120"/>
              <a:ext cx="3810240" cy="2361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00400" y="1828800"/>
              <a:ext cx="1523880" cy="259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00400" y="1752480"/>
              <a:ext cx="6858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1752480"/>
            <a:ext cx="4647960" cy="1314360"/>
            <a:chOff x="3886200" y="1752480"/>
            <a:chExt cx="4647960" cy="1314360"/>
          </a:xfrm>
        </p:grpSpPr>
        <p:grpSp>
          <p:nvGrpSpPr>
            <p:cNvPr id="296" name=""/>
            <p:cNvGrpSpPr/>
            <p:nvPr/>
          </p:nvGrpSpPr>
          <p:grpSpPr>
            <a:xfrm>
              <a:off x="5410080" y="2419200"/>
              <a:ext cx="3124080" cy="647640"/>
              <a:chOff x="5410080" y="2419200"/>
              <a:chExt cx="3124080" cy="647640"/>
            </a:xfrm>
          </p:grpSpPr>
          <p:sp>
            <p:nvSpPr>
              <p:cNvPr id="297" name=""/>
              <p:cNvSpPr/>
              <p:nvPr/>
            </p:nvSpPr>
            <p:spPr>
              <a:xfrm>
                <a:off x="5410080" y="2419200"/>
                <a:ext cx="3124080" cy="64764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635800" y="2466720"/>
                <a:ext cx="16106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000" rIns="72000" tIns="72000" bIns="720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          </a:t>
                </a:r>
                <a:r>
                  <a:rPr b="1" lang="de-DE" sz="2400" spc="-1" strike="noStrike">
                    <a:solidFill>
                      <a:srgbClr val="000000"/>
                    </a:solidFill>
                    <a:latin typeface="Arial"/>
                  </a:rPr>
                  <a:t>links</a:t>
                </a:r>
                <a:r>
                  <a:rPr b="1" lang="de-DE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4267080" y="1905120"/>
              <a:ext cx="3353040" cy="5331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86200" y="1905120"/>
              <a:ext cx="1523880" cy="838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86200" y="1752480"/>
              <a:ext cx="38088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267080" y="1066680"/>
            <a:ext cx="4114800" cy="914400"/>
            <a:chOff x="4267080" y="1066680"/>
            <a:chExt cx="4114800" cy="914400"/>
          </a:xfrm>
        </p:grpSpPr>
        <p:grpSp>
          <p:nvGrpSpPr>
            <p:cNvPr id="303" name=""/>
            <p:cNvGrpSpPr/>
            <p:nvPr/>
          </p:nvGrpSpPr>
          <p:grpSpPr>
            <a:xfrm>
              <a:off x="4267080" y="1066680"/>
              <a:ext cx="4114800" cy="762120"/>
              <a:chOff x="4267080" y="1066680"/>
              <a:chExt cx="4114800" cy="76212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5257800" y="1066680"/>
                <a:ext cx="3124080" cy="647640"/>
                <a:chOff x="5257800" y="1066680"/>
                <a:chExt cx="3124080" cy="64764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257800" y="1066680"/>
                  <a:ext cx="3124080" cy="64764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2000" rIns="72000" tIns="72000" bIns="720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481000" y="1114200"/>
                  <a:ext cx="2011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2000" rIns="72000" tIns="72000" bIns="720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       </a:t>
                  </a:r>
                  <a:r>
                    <a:rPr b="1" lang="de-DE" sz="2400" spc="-1" strike="noStrike">
                      <a:solidFill>
                        <a:srgbClr val="000000"/>
                      </a:solidFill>
                      <a:latin typeface="Arial"/>
                    </a:rPr>
                    <a:t>about u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 flipV="1">
                <a:off x="4267080" y="1295280"/>
                <a:ext cx="1067040" cy="533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4800600" y="1676160"/>
                <a:ext cx="2743200" cy="15228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0" rIns="72000" tIns="72000" bIns="72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267080" y="1752480"/>
              <a:ext cx="53352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152280" y="1203480"/>
            <a:ext cx="2812680" cy="459720"/>
            <a:chOff x="152280" y="1203480"/>
            <a:chExt cx="2812680" cy="459720"/>
          </a:xfrm>
        </p:grpSpPr>
        <p:sp>
          <p:nvSpPr>
            <p:cNvPr id="311" name=""/>
            <p:cNvSpPr/>
            <p:nvPr/>
          </p:nvSpPr>
          <p:spPr>
            <a:xfrm>
              <a:off x="1596960" y="120348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IBIS tre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152280" y="1351080"/>
              <a:ext cx="1066680" cy="281160"/>
              <a:chOff x="152280" y="1351080"/>
              <a:chExt cx="1066680" cy="281160"/>
            </a:xfrm>
          </p:grpSpPr>
          <p:sp>
            <p:nvSpPr>
              <p:cNvPr id="313" name=""/>
              <p:cNvSpPr/>
              <p:nvPr/>
            </p:nvSpPr>
            <p:spPr>
              <a:xfrm>
                <a:off x="365760" y="1586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72680" y="1545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86160" y="15451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52280" y="1586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78880" y="158616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92000" y="158616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06200" y="158616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5240" y="14205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93440" y="1503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65760" y="15037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9600" y="15037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59920" y="1545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86160" y="14623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72680" y="146232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7" name=""/>
              <p:cNvGrpSpPr/>
              <p:nvPr/>
            </p:nvGrpSpPr>
            <p:grpSpPr>
              <a:xfrm>
                <a:off x="519840" y="1461960"/>
                <a:ext cx="330480" cy="170280"/>
                <a:chOff x="519840" y="1461960"/>
                <a:chExt cx="330480" cy="17028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79240" y="146196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73120" y="147600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7720" y="148968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62320" y="150372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57280" y="151776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551880" y="153216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46480" y="154620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541080" y="156060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535680" y="157500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530640" y="158976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25240" y="160380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19840" y="161820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0" name=""/>
              <p:cNvSpPr/>
              <p:nvPr/>
            </p:nvSpPr>
            <p:spPr>
              <a:xfrm rot="16200000">
                <a:off x="650520" y="12740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651240" y="1435320"/>
                <a:ext cx="68040" cy="26280"/>
                <a:chOff x="651240" y="1435320"/>
                <a:chExt cx="68040" cy="2628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651240" y="1435320"/>
                  <a:ext cx="68040" cy="26280"/>
                  <a:chOff x="651240" y="1435320"/>
                  <a:chExt cx="68040" cy="262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651240" y="1435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19280" y="143532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51240" y="14353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657000" y="143676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898920" y="1545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8" name=""/>
          <p:cNvGrpSpPr/>
          <p:nvPr/>
        </p:nvGrpSpPr>
        <p:grpSpPr>
          <a:xfrm>
            <a:off x="457200" y="1752480"/>
            <a:ext cx="3762360" cy="459720"/>
            <a:chOff x="457200" y="1752480"/>
            <a:chExt cx="3762360" cy="459720"/>
          </a:xfrm>
        </p:grpSpPr>
        <p:grpSp>
          <p:nvGrpSpPr>
            <p:cNvPr id="349" name=""/>
            <p:cNvGrpSpPr/>
            <p:nvPr/>
          </p:nvGrpSpPr>
          <p:grpSpPr>
            <a:xfrm>
              <a:off x="457200" y="1873080"/>
              <a:ext cx="1066680" cy="280800"/>
              <a:chOff x="457200" y="1873080"/>
              <a:chExt cx="1066680" cy="280800"/>
            </a:xfrm>
          </p:grpSpPr>
          <p:sp>
            <p:nvSpPr>
              <p:cNvPr id="350" name=""/>
              <p:cNvSpPr/>
              <p:nvPr/>
            </p:nvSpPr>
            <p:spPr>
              <a:xfrm>
                <a:off x="670680" y="21078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77600" y="206676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91080" y="2066760"/>
                <a:ext cx="21312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7200" y="21078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883800" y="210780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096920" y="210780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11120" y="210780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30160" y="194256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098360" y="2025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70680" y="202572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84520" y="20257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64840" y="206676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991080" y="19839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77600" y="198396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" name=""/>
              <p:cNvGrpSpPr/>
              <p:nvPr/>
            </p:nvGrpSpPr>
            <p:grpSpPr>
              <a:xfrm>
                <a:off x="824760" y="1983600"/>
                <a:ext cx="330480" cy="170280"/>
                <a:chOff x="824760" y="1983600"/>
                <a:chExt cx="330480" cy="1702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884160" y="198360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78040" y="199764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872640" y="201132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867240" y="202536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62200" y="203940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56800" y="205380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51400" y="206784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46000" y="208224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40600" y="209664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35560" y="211140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30160" y="212544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24760" y="213984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7" name=""/>
              <p:cNvSpPr/>
              <p:nvPr/>
            </p:nvSpPr>
            <p:spPr>
              <a:xfrm rot="16200000">
                <a:off x="955440" y="179604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956160" y="1956960"/>
                <a:ext cx="68040" cy="26280"/>
                <a:chOff x="956160" y="1956960"/>
                <a:chExt cx="68040" cy="26280"/>
              </a:xfrm>
            </p:grpSpPr>
            <p:grpSp>
              <p:nvGrpSpPr>
                <p:cNvPr id="379" name=""/>
                <p:cNvGrpSpPr/>
                <p:nvPr/>
              </p:nvGrpSpPr>
              <p:grpSpPr>
                <a:xfrm>
                  <a:off x="956160" y="1956960"/>
                  <a:ext cx="68040" cy="26280"/>
                  <a:chOff x="956160" y="1956960"/>
                  <a:chExt cx="68040" cy="26280"/>
                </a:xfrm>
              </p:grpSpPr>
              <p:sp>
                <p:nvSpPr>
                  <p:cNvPr id="380" name=""/>
                  <p:cNvSpPr/>
                  <p:nvPr/>
                </p:nvSpPr>
                <p:spPr>
                  <a:xfrm>
                    <a:off x="956160" y="19569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1024200" y="195696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956160" y="195696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3" name=""/>
                <p:cNvSpPr/>
                <p:nvPr/>
              </p:nvSpPr>
              <p:spPr>
                <a:xfrm>
                  <a:off x="961920" y="195840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4" name=""/>
              <p:cNvSpPr/>
              <p:nvPr/>
            </p:nvSpPr>
            <p:spPr>
              <a:xfrm>
                <a:off x="1203840" y="206676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1905120" y="1752480"/>
              <a:ext cx="231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odel  keywor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914400" y="2286000"/>
            <a:ext cx="3236400" cy="459720"/>
            <a:chOff x="914400" y="2286000"/>
            <a:chExt cx="3236400" cy="459720"/>
          </a:xfrm>
        </p:grpSpPr>
        <p:grpSp>
          <p:nvGrpSpPr>
            <p:cNvPr id="387" name=""/>
            <p:cNvGrpSpPr/>
            <p:nvPr/>
          </p:nvGrpSpPr>
          <p:grpSpPr>
            <a:xfrm>
              <a:off x="914400" y="2406600"/>
              <a:ext cx="1066680" cy="280800"/>
              <a:chOff x="914400" y="2406600"/>
              <a:chExt cx="1066680" cy="280800"/>
            </a:xfrm>
          </p:grpSpPr>
          <p:sp>
            <p:nvSpPr>
              <p:cNvPr id="388" name=""/>
              <p:cNvSpPr/>
              <p:nvPr/>
            </p:nvSpPr>
            <p:spPr>
              <a:xfrm>
                <a:off x="1127880" y="2641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234800" y="26002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448280" y="2600280"/>
                <a:ext cx="21312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914400" y="2641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341000" y="26413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554120" y="26413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68320" y="26413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287360" y="24760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55560" y="25592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27880" y="25592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341720" y="25592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022040" y="26002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448280" y="25174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34800" y="25174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2" name=""/>
              <p:cNvGrpSpPr/>
              <p:nvPr/>
            </p:nvGrpSpPr>
            <p:grpSpPr>
              <a:xfrm>
                <a:off x="1281960" y="2517120"/>
                <a:ext cx="330480" cy="170280"/>
                <a:chOff x="1281960" y="2517120"/>
                <a:chExt cx="330480" cy="17028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341360" y="251712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35240" y="253116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329840" y="254484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324440" y="255888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1319400" y="257292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314000" y="258732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308600" y="260136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1303200" y="261576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1297800" y="263016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1292760" y="264492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287360" y="265896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281960" y="267336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 rot="16200000">
                <a:off x="1412640" y="23295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1413360" y="2490480"/>
                <a:ext cx="68040" cy="26280"/>
                <a:chOff x="1413360" y="2490480"/>
                <a:chExt cx="68040" cy="2628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1413360" y="2490480"/>
                  <a:ext cx="68040" cy="26280"/>
                  <a:chOff x="1413360" y="2490480"/>
                  <a:chExt cx="68040" cy="2628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1413360" y="24904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481400" y="24904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413360" y="24904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1" name=""/>
                <p:cNvSpPr/>
                <p:nvPr/>
              </p:nvSpPr>
              <p:spPr>
                <a:xfrm>
                  <a:off x="1419120" y="249192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1661040" y="26002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2362320" y="2286000"/>
              <a:ext cx="17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Model Spe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914400" y="2971800"/>
            <a:ext cx="4321080" cy="459720"/>
            <a:chOff x="914400" y="2971800"/>
            <a:chExt cx="4321080" cy="459720"/>
          </a:xfrm>
        </p:grpSpPr>
        <p:grpSp>
          <p:nvGrpSpPr>
            <p:cNvPr id="426" name=""/>
            <p:cNvGrpSpPr/>
            <p:nvPr/>
          </p:nvGrpSpPr>
          <p:grpSpPr>
            <a:xfrm>
              <a:off x="914400" y="3092400"/>
              <a:ext cx="1066680" cy="280800"/>
              <a:chOff x="914400" y="3092400"/>
              <a:chExt cx="1066680" cy="280800"/>
            </a:xfrm>
          </p:grpSpPr>
          <p:sp>
            <p:nvSpPr>
              <p:cNvPr id="427" name=""/>
              <p:cNvSpPr/>
              <p:nvPr/>
            </p:nvSpPr>
            <p:spPr>
              <a:xfrm>
                <a:off x="1127880" y="3327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234800" y="32860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448280" y="3286080"/>
                <a:ext cx="21312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914400" y="3327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341000" y="33271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54120" y="33271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768320" y="33271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87360" y="31618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55560" y="32450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127880" y="32450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341720" y="32450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022040" y="32860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448280" y="32032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234800" y="32032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1281960" y="3202920"/>
                <a:ext cx="330480" cy="170280"/>
                <a:chOff x="1281960" y="3202920"/>
                <a:chExt cx="330480" cy="1702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1341360" y="320292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335240" y="321696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329840" y="323064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324440" y="324468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319400" y="325872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314000" y="327312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308600" y="328716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303200" y="330156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297800" y="331596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292760" y="333072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287360" y="334476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281960" y="335916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 rot="16200000">
                <a:off x="1412640" y="30153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1413360" y="3176280"/>
                <a:ext cx="68040" cy="26280"/>
                <a:chOff x="1413360" y="3176280"/>
                <a:chExt cx="68040" cy="2628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1413360" y="3176280"/>
                  <a:ext cx="68040" cy="26280"/>
                  <a:chOff x="1413360" y="3176280"/>
                  <a:chExt cx="68040" cy="26280"/>
                </a:xfrm>
              </p:grpSpPr>
              <p:sp>
                <p:nvSpPr>
                  <p:cNvPr id="457" name=""/>
                  <p:cNvSpPr/>
                  <p:nvPr/>
                </p:nvSpPr>
                <p:spPr>
                  <a:xfrm>
                    <a:off x="1413360" y="31762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1481400" y="31762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1413360" y="31762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" name=""/>
                <p:cNvSpPr/>
                <p:nvPr/>
              </p:nvSpPr>
              <p:spPr>
                <a:xfrm>
                  <a:off x="1419120" y="317772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1661040" y="32860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2363400" y="2971800"/>
              <a:ext cx="287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Receiver threshold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914400" y="3657600"/>
            <a:ext cx="3525120" cy="459720"/>
            <a:chOff x="914400" y="3657600"/>
            <a:chExt cx="3525120" cy="459720"/>
          </a:xfrm>
        </p:grpSpPr>
        <p:grpSp>
          <p:nvGrpSpPr>
            <p:cNvPr id="464" name=""/>
            <p:cNvGrpSpPr/>
            <p:nvPr/>
          </p:nvGrpSpPr>
          <p:grpSpPr>
            <a:xfrm>
              <a:off x="914400" y="3778200"/>
              <a:ext cx="1066680" cy="280800"/>
              <a:chOff x="914400" y="3778200"/>
              <a:chExt cx="1066680" cy="280800"/>
            </a:xfrm>
          </p:grpSpPr>
          <p:sp>
            <p:nvSpPr>
              <p:cNvPr id="465" name=""/>
              <p:cNvSpPr/>
              <p:nvPr/>
            </p:nvSpPr>
            <p:spPr>
              <a:xfrm>
                <a:off x="1127880" y="4012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234800" y="39718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48280" y="3971880"/>
                <a:ext cx="21312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914400" y="4012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41000" y="40129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554120" y="40129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768320" y="40129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287360" y="38476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555560" y="39308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127880" y="39308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341720" y="39308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022040" y="39718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448280" y="38890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34800" y="38890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281960" y="3888720"/>
                <a:ext cx="330480" cy="170280"/>
                <a:chOff x="1281960" y="3888720"/>
                <a:chExt cx="330480" cy="1702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341360" y="388872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335240" y="390276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329840" y="391644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324440" y="393048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319400" y="394452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314000" y="395892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308600" y="397296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303200" y="398736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297800" y="400176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292760" y="401652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287360" y="403056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281960" y="404496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 rot="16200000">
                <a:off x="1412640" y="37011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3" name=""/>
              <p:cNvGrpSpPr/>
              <p:nvPr/>
            </p:nvGrpSpPr>
            <p:grpSpPr>
              <a:xfrm>
                <a:off x="1413360" y="3862080"/>
                <a:ext cx="68040" cy="26280"/>
                <a:chOff x="1413360" y="3862080"/>
                <a:chExt cx="68040" cy="26280"/>
              </a:xfrm>
            </p:grpSpPr>
            <p:grpSp>
              <p:nvGrpSpPr>
                <p:cNvPr id="494" name=""/>
                <p:cNvGrpSpPr/>
                <p:nvPr/>
              </p:nvGrpSpPr>
              <p:grpSpPr>
                <a:xfrm>
                  <a:off x="1413360" y="3862080"/>
                  <a:ext cx="68040" cy="26280"/>
                  <a:chOff x="1413360" y="3862080"/>
                  <a:chExt cx="68040" cy="26280"/>
                </a:xfrm>
              </p:grpSpPr>
              <p:sp>
                <p:nvSpPr>
                  <p:cNvPr id="495" name=""/>
                  <p:cNvSpPr/>
                  <p:nvPr/>
                </p:nvSpPr>
                <p:spPr>
                  <a:xfrm>
                    <a:off x="1413360" y="38620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1481400" y="38620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1413360" y="38620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1419120" y="386352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661040" y="39718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2363040" y="3657600"/>
              <a:ext cx="20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Voltage r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914400" y="4343400"/>
            <a:ext cx="4592880" cy="459720"/>
            <a:chOff x="914400" y="4343400"/>
            <a:chExt cx="4592880" cy="459720"/>
          </a:xfrm>
        </p:grpSpPr>
        <p:grpSp>
          <p:nvGrpSpPr>
            <p:cNvPr id="502" name=""/>
            <p:cNvGrpSpPr/>
            <p:nvPr/>
          </p:nvGrpSpPr>
          <p:grpSpPr>
            <a:xfrm>
              <a:off x="914400" y="4464000"/>
              <a:ext cx="1066680" cy="280800"/>
              <a:chOff x="914400" y="4464000"/>
              <a:chExt cx="1066680" cy="280800"/>
            </a:xfrm>
          </p:grpSpPr>
          <p:sp>
            <p:nvSpPr>
              <p:cNvPr id="503" name=""/>
              <p:cNvSpPr/>
              <p:nvPr/>
            </p:nvSpPr>
            <p:spPr>
              <a:xfrm>
                <a:off x="1127880" y="4698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34800" y="46576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448280" y="4657680"/>
                <a:ext cx="21312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914400" y="4698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41000" y="469872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554120" y="4698720"/>
                <a:ext cx="21348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768320" y="469872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287360" y="4533480"/>
                <a:ext cx="322560" cy="4140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55560" y="4616640"/>
                <a:ext cx="21276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127880" y="4616640"/>
                <a:ext cx="213120" cy="41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41720" y="4616640"/>
                <a:ext cx="213480" cy="41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022040" y="46576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448280" y="45748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234800" y="4574880"/>
                <a:ext cx="212760" cy="41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1281960" y="4574520"/>
                <a:ext cx="330480" cy="170280"/>
                <a:chOff x="1281960" y="4574520"/>
                <a:chExt cx="330480" cy="1702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1341360" y="4574520"/>
                  <a:ext cx="2131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335240" y="4588560"/>
                  <a:ext cx="22392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329840" y="4602240"/>
                  <a:ext cx="2343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324440" y="4616280"/>
                  <a:ext cx="2451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319400" y="4630320"/>
                  <a:ext cx="25596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1314000" y="4644720"/>
                  <a:ext cx="2664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1308600" y="4658760"/>
                  <a:ext cx="2772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303200" y="4673160"/>
                  <a:ext cx="28800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1297800" y="4687560"/>
                  <a:ext cx="2984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292760" y="4702320"/>
                  <a:ext cx="30924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287360" y="4716360"/>
                  <a:ext cx="3196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281960" y="4730760"/>
                  <a:ext cx="330480" cy="1404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0" name=""/>
              <p:cNvSpPr/>
              <p:nvPr/>
            </p:nvSpPr>
            <p:spPr>
              <a:xfrm rot="16200000">
                <a:off x="1412640" y="4386960"/>
                <a:ext cx="698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1413360" y="4547880"/>
                <a:ext cx="68040" cy="26280"/>
                <a:chOff x="1413360" y="4547880"/>
                <a:chExt cx="68040" cy="2628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1413360" y="4547880"/>
                  <a:ext cx="68040" cy="26280"/>
                  <a:chOff x="1413360" y="4547880"/>
                  <a:chExt cx="68040" cy="2628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>
                    <a:off x="1413360" y="45478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481400" y="4547880"/>
                    <a:ext cx="0" cy="262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1413360" y="454788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6" name=""/>
                <p:cNvSpPr/>
                <p:nvPr/>
              </p:nvSpPr>
              <p:spPr>
                <a:xfrm>
                  <a:off x="1419120" y="4549320"/>
                  <a:ext cx="57600" cy="2484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1661040" y="4657680"/>
                <a:ext cx="212760" cy="4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>
              <a:off x="2357640" y="4343400"/>
              <a:ext cx="31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Ramp  /  ...wavefor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928880" y="4968720"/>
            <a:ext cx="5914440" cy="825480"/>
            <a:chOff x="1928880" y="4968720"/>
            <a:chExt cx="5914440" cy="825480"/>
          </a:xfrm>
        </p:grpSpPr>
        <p:grpSp>
          <p:nvGrpSpPr>
            <p:cNvPr id="540" name=""/>
            <p:cNvGrpSpPr/>
            <p:nvPr/>
          </p:nvGrpSpPr>
          <p:grpSpPr>
            <a:xfrm>
              <a:off x="1928880" y="5088960"/>
              <a:ext cx="1066680" cy="649800"/>
              <a:chOff x="1928880" y="5088960"/>
              <a:chExt cx="1066680" cy="649800"/>
            </a:xfrm>
          </p:grpSpPr>
          <p:sp>
            <p:nvSpPr>
              <p:cNvPr id="541" name=""/>
              <p:cNvSpPr/>
              <p:nvPr/>
            </p:nvSpPr>
            <p:spPr>
              <a:xfrm>
                <a:off x="2142360" y="5632200"/>
                <a:ext cx="212760" cy="9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249280" y="5537160"/>
                <a:ext cx="212760" cy="94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463120" y="5537160"/>
                <a:ext cx="213120" cy="94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928880" y="5632200"/>
                <a:ext cx="212760" cy="9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355840" y="5632200"/>
                <a:ext cx="213480" cy="95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68600" y="5632200"/>
                <a:ext cx="213480" cy="9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782800" y="5632200"/>
                <a:ext cx="212760" cy="9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301840" y="5250240"/>
                <a:ext cx="322560" cy="9576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570040" y="5442120"/>
                <a:ext cx="212760" cy="9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142360" y="5442120"/>
                <a:ext cx="213120" cy="95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56560" y="5442120"/>
                <a:ext cx="213480" cy="95040"/>
              </a:xfrm>
              <a:prstGeom prst="rect">
                <a:avLst/>
              </a:prstGeom>
              <a:solidFill>
                <a:srgbClr val="afc2c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036520" y="5537160"/>
                <a:ext cx="212760" cy="94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463120" y="5346000"/>
                <a:ext cx="212760" cy="9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49280" y="5346000"/>
                <a:ext cx="212760" cy="957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2296440" y="5345280"/>
                <a:ext cx="330840" cy="393480"/>
                <a:chOff x="2296440" y="5345280"/>
                <a:chExt cx="330840" cy="39348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2355840" y="5345280"/>
                  <a:ext cx="213480" cy="327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349720" y="5378040"/>
                  <a:ext cx="224280" cy="327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344320" y="5409360"/>
                  <a:ext cx="234720" cy="327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338920" y="5441760"/>
                  <a:ext cx="245160" cy="327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333880" y="5474520"/>
                  <a:ext cx="256320" cy="327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328480" y="5507640"/>
                  <a:ext cx="266760" cy="327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323080" y="5540040"/>
                  <a:ext cx="277560" cy="327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317680" y="5572800"/>
                  <a:ext cx="288000" cy="327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312280" y="5605920"/>
                  <a:ext cx="298800" cy="327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307240" y="5640480"/>
                  <a:ext cx="309600" cy="327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301840" y="5673240"/>
                  <a:ext cx="320040" cy="327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296440" y="5706000"/>
                  <a:ext cx="330840" cy="32760"/>
                </a:xfrm>
                <a:prstGeom prst="rect">
                  <a:avLst/>
                </a:prstGeom>
                <a:solidFill>
                  <a:srgbClr val="cccc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 rot="16200000">
                <a:off x="2381400" y="5058000"/>
                <a:ext cx="161640" cy="223560"/>
              </a:xfrm>
              <a:prstGeom prst="rect">
                <a:avLst/>
              </a:prstGeom>
              <a:solidFill>
                <a:srgbClr val="cc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2427840" y="5283720"/>
                <a:ext cx="68040" cy="61200"/>
                <a:chOff x="2427840" y="5283720"/>
                <a:chExt cx="68040" cy="61200"/>
              </a:xfrm>
            </p:grpSpPr>
            <p:grpSp>
              <p:nvGrpSpPr>
                <p:cNvPr id="570" name=""/>
                <p:cNvGrpSpPr/>
                <p:nvPr/>
              </p:nvGrpSpPr>
              <p:grpSpPr>
                <a:xfrm>
                  <a:off x="2427840" y="5283720"/>
                  <a:ext cx="68040" cy="61200"/>
                  <a:chOff x="2427840" y="5283720"/>
                  <a:chExt cx="68040" cy="612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2427840" y="5283720"/>
                    <a:ext cx="0" cy="61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495880" y="5283720"/>
                    <a:ext cx="0" cy="61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427840" y="5283720"/>
                    <a:ext cx="68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4" name=""/>
                <p:cNvSpPr/>
                <p:nvPr/>
              </p:nvSpPr>
              <p:spPr>
                <a:xfrm>
                  <a:off x="2433600" y="5287320"/>
                  <a:ext cx="57600" cy="57600"/>
                </a:xfrm>
                <a:prstGeom prst="rect">
                  <a:avLst/>
                </a:prstGeom>
                <a:solidFill>
                  <a:srgbClr val="626465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5" name=""/>
              <p:cNvSpPr/>
              <p:nvPr/>
            </p:nvSpPr>
            <p:spPr>
              <a:xfrm>
                <a:off x="2675880" y="5537160"/>
                <a:ext cx="212760" cy="94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3378600" y="4968720"/>
              <a:ext cx="446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Ramp should be in accordanc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with the static curv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itle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ered ibis keyword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bis referenc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rresponding ibis key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hat i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xplanations and 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in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fos e.g. about ibis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rther information, or related key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planation of model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0" y="0"/>
              <a:ext cx="9144000" cy="11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0" y="146160"/>
            <a:ext cx="8991360" cy="888840"/>
            <a:chOff x="0" y="146160"/>
            <a:chExt cx="8991360" cy="888840"/>
          </a:xfrm>
        </p:grpSpPr>
        <p:sp>
          <p:nvSpPr>
            <p:cNvPr id="583" name=""/>
            <p:cNvSpPr/>
            <p:nvPr/>
          </p:nvSpPr>
          <p:spPr>
            <a:xfrm>
              <a:off x="0" y="154080"/>
              <a:ext cx="8716680" cy="88092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716680" y="449280"/>
              <a:ext cx="274680" cy="579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716680" y="146160"/>
              <a:ext cx="274680" cy="304560"/>
            </a:xfrm>
            <a:prstGeom prst="rtTriangle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26640" bIns="26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bis tree with ex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178000" y="6453360"/>
            <a:ext cx="655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5381640" indent="-5381640">
              <a:lnSpc>
                <a:spcPct val="100000"/>
              </a:lnSpc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.Lenski / Com MN PG R H B 8      DATE  2006     IBIS summit   10th March  2006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DEDD5414-9C33-4D49-ACB0-D185D9E5C49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9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0" y="0"/>
              <a:ext cx="9144000" cy="11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0" y="146160"/>
            <a:ext cx="8991360" cy="888840"/>
            <a:chOff x="0" y="146160"/>
            <a:chExt cx="8991360" cy="888840"/>
          </a:xfrm>
        </p:grpSpPr>
        <p:sp>
          <p:nvSpPr>
            <p:cNvPr id="593" name=""/>
            <p:cNvSpPr/>
            <p:nvPr/>
          </p:nvSpPr>
          <p:spPr>
            <a:xfrm>
              <a:off x="0" y="154080"/>
              <a:ext cx="8716680" cy="88092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716680" y="449280"/>
              <a:ext cx="274680" cy="57960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716680" y="146160"/>
              <a:ext cx="274680" cy="304560"/>
            </a:xfrm>
            <a:prstGeom prst="rtTriangle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26640" bIns="26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12920" y="279360"/>
            <a:ext cx="831816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amp – static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78000" y="6453360"/>
            <a:ext cx="655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marL="5381640" indent="-5381640">
              <a:lnSpc>
                <a:spcPct val="100000"/>
              </a:lnSpc>
              <a:tabLst>
                <a:tab algn="l" pos="0"/>
                <a:tab algn="l" pos="5381640"/>
                <a:tab algn="r" pos="6543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.Lenski / Com MN PG R H B 8      DATE  2006     IBIS summit   10th March  2006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9660F2B9-0262-4B91-B341-37A909EB01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345960" y="6442200"/>
            <a:ext cx="1255680" cy="282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utor/Abteilung, Tite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20:24:34Z</dcterms:created>
  <dc:creator>Lenski Eckhard</dc:creator>
  <dc:description/>
  <dc:language>en-US</dc:language>
  <cp:lastModifiedBy>ICN Windows2000 Netz</cp:lastModifiedBy>
  <dcterms:modified xsi:type="dcterms:W3CDTF">2006-03-09T15:03:13Z</dcterms:modified>
  <cp:revision>63</cp:revision>
  <dc:subject/>
  <dc:title>Vorwort: Powerpoint Template für Siemens Communications</dc:title>
</cp:coreProperties>
</file>