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26C-4273-4680-80C4-750F1498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5B9-C714-4F76-BC15-AA3FB10A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CB7-21FF-41AD-8A9D-050BDD01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B3D-B547-4366-B1C9-9ECA448F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BFC-A75E-4D92-991A-2B8FBEB7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A371-EB0A-4A99-813B-CDD25DCB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7FFF-6839-49A0-8CA6-EDB0D5AF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B58E-83DD-4E95-893B-46F26D4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32E9-5483-401D-95E6-6A1F0A51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4B43-08E3-40CB-B38B-DABF27F2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BB0A-55F3-4D40-A8CA-40267D9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773-52A1-477D-A945-6DC626C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E198-E3BA-4B38-BDF3-4BA431B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BD4E-149A-4252-83F0-4065D1B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E4FA-2793-4B5F-A96E-1C6934BD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72E9-DE18-4752-836E-FC83D016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7AE5-0E63-426D-9CD8-EA91A4E8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70F-2877-421B-A4FC-36E19D94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F05-C4FA-4FBA-9344-DCF40B66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BE6-4E49-445D-949A-7C06D2C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1C7-8567-42C7-8195-2F0551E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081-6E76-4933-ABFB-6621FD83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426-7960-4F7C-8ADB-E86E7F2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747-98EF-4365-969E-2EE51D8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ITA IBIS Confere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15D9-71EE-48C8-9C01-A0323501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05680" y="181080"/>
            <a:ext cx="1833480" cy="21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a.org/ibis/" TargetMode="External"/><Relationship Id="rId2" Type="http://schemas.openxmlformats.org/officeDocument/2006/relationships/hyperlink" Target="http://www.eigroup.org/ibis/" TargetMode="External"/><Relationship Id="rId3" Type="http://schemas.openxmlformats.org/officeDocument/2006/relationships/hyperlink" Target="http://www.eigroup.org/ibis/" TargetMode="External"/><Relationship Id="rId4" Type="http://schemas.openxmlformats.org/officeDocument/2006/relationships/hyperlink" Target="http://www.eigroup.org/ibis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Status and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uture Dire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76640" y="2533680"/>
            <a:ext cx="39621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8280" y="2500200"/>
            <a:ext cx="38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マイケル　マ一マク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インテル　コ一ポレ一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会長，アイビ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3720" y="396252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ITA IBI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da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www.eigroup.org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6E4D-C829-4E17-8170-FC4DC5661C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6040" y="234360"/>
            <a:ext cx="732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What is JEITA’s Opinion?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6800" y="2471760"/>
            <a:ext cx="7699320" cy="33670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are the issues of grea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ortance to the IBIS community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ap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490-2659-482C-8DEF-6BE9B309B7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ja-JP" sz="4000" spc="-1" strike="noStrike">
                <a:solidFill>
                  <a:srgbClr val="006600"/>
                </a:solidFill>
                <a:latin typeface="Arial Black"/>
                <a:ea typeface="ＭＳ Ｐゴシック"/>
              </a:rPr>
              <a:t>どうも　ありがとう　ございます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2640" y="2471760"/>
            <a:ext cx="7623000" cy="336708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どうも　ありがとう　ございます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JEIT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deeply appreciate your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support of IB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3D2-ED47-4463-A8DB-644C168565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6040" y="234360"/>
            <a:ext cx="732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85680" y="2471760"/>
            <a:ext cx="7204320" cy="33670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528-07F1-4DCF-8834-A22DA70E4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9040" y="3801600"/>
            <a:ext cx="8267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BACKUP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109160"/>
            <a:ext cx="7759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329-1DAE-456A-8CAA-E69E3D4487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10916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handle these four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–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17920" y="296532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398772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17920" y="497844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330984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2552760"/>
            <a:ext cx="214632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24360" y="263376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11400" y="36370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11400" y="46530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38280" y="33019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50880" y="4343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450880" y="533412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92440" y="292572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17640" y="397980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79480" y="495792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65720" y="314964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298920" y="3314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35360" y="43387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3120" y="417816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286320" y="4343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35360" y="5316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3120" y="5156280"/>
            <a:ext cx="121896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286320" y="53211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98360" y="265896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34360" y="312912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445880" y="4170240"/>
            <a:ext cx="779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47680" y="5148360"/>
            <a:ext cx="7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378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CM &amp; IB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58B-506B-4C48-9187-EAE24C6B54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7480" y="116064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– Wired-or or “mu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ultiple pins, single [Mode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0" y="39495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3200" y="3271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65560" y="2514600"/>
            <a:ext cx="302256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36680" y="35798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71520" y="399240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30960" y="311148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464160" y="32767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430056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8000" y="414036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451200" y="430524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527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18000" y="511812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451200" y="52833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63600" y="262080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99240" y="309096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11120" y="4132440"/>
            <a:ext cx="779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12560" y="5110200"/>
            <a:ext cx="7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82960" y="431316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3246480"/>
            <a:ext cx="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4165560"/>
            <a:ext cx="2919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378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our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87A-CE91-4137-85F4-2FEDB4777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our Cas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66400" y="10717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3 – Power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ngle model, single signal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41403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19480" y="3449520"/>
            <a:ext cx="2381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75120" y="2692440"/>
            <a:ext cx="308592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58920" y="365616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52480" y="44704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19240" y="410688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03880" y="328932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37080" y="34545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49560" y="4478400"/>
            <a:ext cx="163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91280" y="431784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324480" y="44830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32080" y="5456160"/>
            <a:ext cx="235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91280" y="529596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324480" y="546084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17480" y="279864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72880" y="3268800"/>
            <a:ext cx="889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85120" y="430992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52360" y="5288040"/>
            <a:ext cx="63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63760" y="4832280"/>
            <a:ext cx="0" cy="62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51160" y="3441600"/>
            <a:ext cx="0" cy="69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162-22BC-41E5-986C-4B28B2E18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our Cas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4160" y="104580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4 – Wired-or or “mu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ngle pin, multiple [Model]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92360" y="29145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2360" y="39369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92360" y="492768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22760" y="3259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51360" y="2502000"/>
            <a:ext cx="214632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98800" y="25830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86200" y="358632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86200" y="46022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412720" y="32511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425320" y="429264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425320" y="52833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6880" y="287496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92440" y="392904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54280" y="490680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40160" y="309888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273720" y="326376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10160" y="428796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27560" y="412740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260760" y="429264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10160" y="52657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27560" y="510552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260760" y="5270400"/>
            <a:ext cx="55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73160" y="260820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1400" y="411948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75560" y="3251160"/>
            <a:ext cx="6120" cy="201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61080" y="4203720"/>
            <a:ext cx="228600" cy="171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5DE-8B9A-47A2-9A66-6052FAA78F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Packages Toda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79000" y="11347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3.2 &amp; 4.0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47800" y="277488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5200" y="467352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49600" y="295920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48160" y="486900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92240" y="5013360"/>
            <a:ext cx="24386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8200" y="31194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99000" y="311472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79920" y="501984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0280" y="2362320"/>
            <a:ext cx="5435640" cy="31114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70200" y="29512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1 name io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36000" y="4869000"/>
            <a:ext cx="16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1 name iobu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81280" y="2494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26160" y="250668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ackage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1960" y="24177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 io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03600" y="43480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 io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30440" y="311616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i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43400" y="50720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i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05840" y="182088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 Number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41960" y="2082960"/>
            <a:ext cx="1612800" cy="203040"/>
          </a:xfrm>
          <a:custGeom>
            <a:avLst/>
            <a:gdLst>
              <a:gd name="textAreaLeft" fmla="*/ 282240 w 1612800"/>
              <a:gd name="textAreaRight" fmla="*/ 1169280 w 1612800"/>
              <a:gd name="textAreaTop" fmla="*/ 27000 h 203040"/>
              <a:gd name="textAreaBottom" fmla="*/ 176040 h 20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33600" y="346716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33600" y="3919680"/>
            <a:ext cx="28828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52560" y="376380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2 name 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45920" y="3421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] &amp; [Pin Mapp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49600" y="375912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24560" y="3914640"/>
            <a:ext cx="712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56000" y="39416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i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58A-FEC2-4A0D-89FA-6F8FB5A287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at do we nee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40840" y="1020240"/>
            <a:ext cx="7836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Ca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0200" y="26859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37083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469908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51400" y="301320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82680" y="2273400"/>
            <a:ext cx="543564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09280" y="2773440"/>
            <a:ext cx="4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10000" y="48560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33680" y="240516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32240" y="232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32240" y="3382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32240" y="439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33760" y="3890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784680" y="2666880"/>
            <a:ext cx="1854000" cy="2705040"/>
            <a:chOff x="3784680" y="2666880"/>
            <a:chExt cx="1854000" cy="2705040"/>
          </a:xfrm>
        </p:grpSpPr>
        <p:sp>
          <p:nvSpPr>
            <p:cNvPr id="476" name=""/>
            <p:cNvSpPr/>
            <p:nvPr/>
          </p:nvSpPr>
          <p:spPr>
            <a:xfrm>
              <a:off x="4084200" y="2857320"/>
              <a:ext cx="1218960" cy="30456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95360" y="3890520"/>
              <a:ext cx="1218960" cy="30492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080" y="4870080"/>
              <a:ext cx="1218600" cy="30492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84680" y="2666880"/>
              <a:ext cx="1854000" cy="270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 flipH="1">
            <a:off x="4584600" y="5219640"/>
            <a:ext cx="787680" cy="673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911760" y="2006280"/>
            <a:ext cx="914400" cy="8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61080" y="1643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07600" y="163044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eed explicit link to [Model]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76800" y="58975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eed explicit link to [Pin]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30600" y="3022560"/>
            <a:ext cx="134604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55800" y="4051440"/>
            <a:ext cx="134640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68760" y="5029200"/>
            <a:ext cx="134604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18120" y="3009960"/>
            <a:ext cx="118116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30720" y="4051440"/>
            <a:ext cx="118116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2680" y="4054320"/>
            <a:ext cx="7315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30720" y="5016600"/>
            <a:ext cx="118116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32680" y="501984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7F4-EB77-4DB6-B589-23F6A047E7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IBI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erm Direction of I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JEITA’s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e of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– ICM and IBIS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1F1-68C5-4D7B-85A8-855E79855B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BIS 4.1 parser comple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ree executables are now available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ource code licenses may be purchased from the IBIS Open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BIS Interconnect Modeling Spec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CM 1.1 draft specification in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cludes frequency-dependent RL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ecting approval vote before Jun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CM 1.1 parser now available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Status of IBIS &amp; IC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C87-9800-4CAD-867F-F5F5DE2E73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5640" y="920880"/>
            <a:ext cx="844524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next six month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ICM 1.1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Vote by IBIS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allot by standards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IBIS 4.0 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re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guide to making IBI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mproves on IBIS 2.1 Cookbook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bes extraction of differential buffer data             (examples: Serial ATA, PCI Express®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dds details on use of 3.2, 4.0 keywords  (examples: [Diff Pin], [Driver Schedul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draft of IBIS 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at should it include?  See “Long Term 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46C-7181-4B41-9EC8-39C8A49932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705040" y="2336760"/>
            <a:ext cx="7920" cy="12891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832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724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2084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8120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1560" y="39132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0336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832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8120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98320" y="3760920"/>
            <a:ext cx="1082880" cy="152280"/>
            <a:chOff x="598320" y="3760920"/>
            <a:chExt cx="1082880" cy="152280"/>
          </a:xfrm>
        </p:grpSpPr>
        <p:sp>
          <p:nvSpPr>
            <p:cNvPr id="106" name=""/>
            <p:cNvSpPr/>
            <p:nvPr/>
          </p:nvSpPr>
          <p:spPr>
            <a:xfrm>
              <a:off x="59832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98320" y="3817800"/>
              <a:ext cx="1082880" cy="90360"/>
              <a:chOff x="598320" y="3817800"/>
              <a:chExt cx="1082880" cy="90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9832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1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4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8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31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14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9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8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6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47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31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514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97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81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81200" y="3760920"/>
            <a:ext cx="1085760" cy="152280"/>
            <a:chOff x="1681200" y="3760920"/>
            <a:chExt cx="1085760" cy="152280"/>
          </a:xfrm>
        </p:grpSpPr>
        <p:sp>
          <p:nvSpPr>
            <p:cNvPr id="123" name=""/>
            <p:cNvSpPr/>
            <p:nvPr/>
          </p:nvSpPr>
          <p:spPr>
            <a:xfrm>
              <a:off x="168120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681200" y="3817800"/>
              <a:ext cx="1085760" cy="90360"/>
              <a:chOff x="1681200" y="3817800"/>
              <a:chExt cx="1085760" cy="9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168120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764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478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317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149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984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82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65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49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32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160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99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83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66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3808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605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6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6696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7680" y="39132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3913200"/>
            <a:ext cx="363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308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6696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984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6960" y="376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766960" y="3760920"/>
            <a:ext cx="1082880" cy="152280"/>
            <a:chOff x="2766960" y="3760920"/>
            <a:chExt cx="1082880" cy="152280"/>
          </a:xfrm>
        </p:grpSpPr>
        <p:sp>
          <p:nvSpPr>
            <p:cNvPr id="152" name=""/>
            <p:cNvSpPr/>
            <p:nvPr/>
          </p:nvSpPr>
          <p:spPr>
            <a:xfrm>
              <a:off x="276696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766960" y="3817800"/>
              <a:ext cx="1082880" cy="90360"/>
              <a:chOff x="2766960" y="3817800"/>
              <a:chExt cx="1082880" cy="9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276696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50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332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16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99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83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66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49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3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16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99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82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66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49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3849840" y="3760920"/>
            <a:ext cx="1085760" cy="152280"/>
            <a:chOff x="3849840" y="3760920"/>
            <a:chExt cx="1085760" cy="152280"/>
          </a:xfrm>
        </p:grpSpPr>
        <p:sp>
          <p:nvSpPr>
            <p:cNvPr id="169" name=""/>
            <p:cNvSpPr/>
            <p:nvPr/>
          </p:nvSpPr>
          <p:spPr>
            <a:xfrm>
              <a:off x="384984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849840" y="3817800"/>
              <a:ext cx="1085760" cy="90360"/>
              <a:chOff x="3849840" y="3817800"/>
              <a:chExt cx="1085760" cy="90360"/>
            </a:xfrm>
          </p:grpSpPr>
          <p:sp>
            <p:nvSpPr>
              <p:cNvPr id="171" name=""/>
              <p:cNvSpPr/>
              <p:nvPr/>
            </p:nvSpPr>
            <p:spPr>
              <a:xfrm>
                <a:off x="384984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33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16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004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83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67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34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1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0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8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68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51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356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3635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03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109520"/>
            <a:ext cx="399888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an., 2004: IBIS 4.1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15640" y="220680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232092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7160" y="55879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7680" y="588960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2280" y="426708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94400" y="2624040"/>
            <a:ext cx="669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450880" y="3125520"/>
            <a:ext cx="12600" cy="655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7480" y="3071880"/>
            <a:ext cx="657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19160" y="3492000"/>
            <a:ext cx="0" cy="27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3840" y="428292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79680" y="2610000"/>
            <a:ext cx="803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776760" y="30067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73400" y="3090960"/>
            <a:ext cx="746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62200" y="35100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96080" y="306720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270480" y="347184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53400" y="2664000"/>
            <a:ext cx="66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278840" y="3082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89600" y="42688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81200" y="37656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94040" y="42624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8680" y="42480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97440" y="462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93640" y="5827680"/>
            <a:ext cx="267408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-Roadshows on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35600" y="391176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9416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776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812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8480" y="391176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064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35600" y="4064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8120" y="4064040"/>
            <a:ext cx="1086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935600" y="3759120"/>
            <a:ext cx="1076400" cy="152280"/>
            <a:chOff x="4935600" y="3759120"/>
            <a:chExt cx="1076400" cy="152280"/>
          </a:xfrm>
        </p:grpSpPr>
        <p:sp>
          <p:nvSpPr>
            <p:cNvPr id="229" name=""/>
            <p:cNvSpPr/>
            <p:nvPr/>
          </p:nvSpPr>
          <p:spPr>
            <a:xfrm>
              <a:off x="49356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935600" y="3816000"/>
              <a:ext cx="1076400" cy="90360"/>
              <a:chOff x="4935600" y="3816000"/>
              <a:chExt cx="1076400" cy="90360"/>
            </a:xfrm>
          </p:grpSpPr>
          <p:sp>
            <p:nvSpPr>
              <p:cNvPr id="231" name=""/>
              <p:cNvSpPr/>
              <p:nvPr/>
            </p:nvSpPr>
            <p:spPr>
              <a:xfrm>
                <a:off x="49356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18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00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84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66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4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2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14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98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6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60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8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12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6012000" y="3759120"/>
            <a:ext cx="1085760" cy="152280"/>
            <a:chOff x="6012000" y="3759120"/>
            <a:chExt cx="1085760" cy="152280"/>
          </a:xfrm>
        </p:grpSpPr>
        <p:sp>
          <p:nvSpPr>
            <p:cNvPr id="246" name=""/>
            <p:cNvSpPr/>
            <p:nvPr/>
          </p:nvSpPr>
          <p:spPr>
            <a:xfrm>
              <a:off x="60120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6012000" y="3816000"/>
              <a:ext cx="1085760" cy="90360"/>
              <a:chOff x="6012000" y="3816000"/>
              <a:chExt cx="1085760" cy="90360"/>
            </a:xfrm>
          </p:grpSpPr>
          <p:sp>
            <p:nvSpPr>
              <p:cNvPr id="248" name=""/>
              <p:cNvSpPr/>
              <p:nvPr/>
            </p:nvSpPr>
            <p:spPr>
              <a:xfrm>
                <a:off x="60120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955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786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625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457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2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131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96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801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633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46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03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138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97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579096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97760" y="3911760"/>
            <a:ext cx="366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460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4960" y="391176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7760" y="4064040"/>
            <a:ext cx="1089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`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7760" y="3759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097760" y="3759120"/>
            <a:ext cx="1082520" cy="152280"/>
            <a:chOff x="7097760" y="3759120"/>
            <a:chExt cx="1082520" cy="152280"/>
          </a:xfrm>
        </p:grpSpPr>
        <p:sp>
          <p:nvSpPr>
            <p:cNvPr id="270" name=""/>
            <p:cNvSpPr/>
            <p:nvPr/>
          </p:nvSpPr>
          <p:spPr>
            <a:xfrm>
              <a:off x="709776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097760" y="3816000"/>
              <a:ext cx="1082520" cy="90360"/>
              <a:chOff x="7097760" y="3816000"/>
              <a:chExt cx="1082520" cy="90360"/>
            </a:xfrm>
          </p:grpSpPr>
          <p:sp>
            <p:nvSpPr>
              <p:cNvPr id="272" name=""/>
              <p:cNvSpPr/>
              <p:nvPr/>
            </p:nvSpPr>
            <p:spPr>
              <a:xfrm>
                <a:off x="709776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80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640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476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30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513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597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80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63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846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3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1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96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180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7966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64480" y="426564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2000" y="3770280"/>
            <a:ext cx="2880" cy="493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3360" y="428796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99480" y="424512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5760" y="4070520"/>
            <a:ext cx="7964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44680" y="3093840"/>
            <a:ext cx="1800" cy="67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10240" y="4946760"/>
            <a:ext cx="2091960" cy="10087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egular sum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Asia 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’06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57320" y="2697120"/>
            <a:ext cx="615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FEA-0BBC-4284-B551-A6BECDDE54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ff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su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solu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cu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 proposal to change the IBIS specification              (add features, correct err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BIRD94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: Clarifications on [Diff Pin]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rrects text, examples for [Diff Pin] key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BIRD95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: Power Integrity Analysis Using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dds table for current from source through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dds RLGC values to describe buffer power-ground p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BIRD97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: Gate Modul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New parameters change I-V tables as supply voltage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xample: Power_coeff_typ = 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-V table reduced by 8% for a 10% change in supply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78A-E6A6-449D-BF20-B83869E9F6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6533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etween ICM and I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ed ICM for best description of power rail             current data (BIRD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any users want ICM for packag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reating new syntax for ICM link is </a:t>
            </a:r>
            <a:r>
              <a:rPr b="0" i="1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ver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diffic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BIS 4.0 assumptions are very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ach [Model] has ONLY one pin – no pad na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utures Committee developing work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333440" y="4013280"/>
            <a:ext cx="6364800" cy="2273040"/>
            <a:chOff x="1333440" y="4013280"/>
            <a:chExt cx="6364800" cy="2273040"/>
          </a:xfrm>
        </p:grpSpPr>
        <p:sp>
          <p:nvSpPr>
            <p:cNvPr id="300" name=""/>
            <p:cNvSpPr/>
            <p:nvPr/>
          </p:nvSpPr>
          <p:spPr>
            <a:xfrm>
              <a:off x="1650960" y="4425840"/>
              <a:ext cx="1143000" cy="6858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50960" y="5448240"/>
              <a:ext cx="1143000" cy="6858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3120" y="4610160"/>
              <a:ext cx="1219320" cy="30456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35440" y="5788080"/>
              <a:ext cx="23875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81360" y="4770360"/>
              <a:ext cx="2438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2520" y="4765680"/>
              <a:ext cx="712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3440" y="4013280"/>
              <a:ext cx="5435640" cy="2273040"/>
            </a:xfrm>
            <a:prstGeom prst="rect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60040" y="4513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4800" y="4145040"/>
              <a:ext cx="61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Pi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9680" y="4157640"/>
              <a:ext cx="176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Package Model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3000" y="4068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Model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83000" y="51228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Model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33960" y="4767120"/>
              <a:ext cx="94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implied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8880" y="4775040"/>
              <a:ext cx="0" cy="101592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678480" y="5352840"/>
              <a:ext cx="593640" cy="76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D28-BB5C-4312-A566-281B957F05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61516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4.1 Cook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BIS community needs guidance on               behavioral modeling with 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BIS 4.1 keywords can be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4.2: What should it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Need power delivery (BIRD95, BIRD97)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Need ICM-IBIS links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User-defined measurements for [Ext. Circui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ny tools need these for SI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ajor changes will increase cost of a new 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9CF-CB87-4304-909B-A9CBAF60CE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767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CE Macro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at is the new synt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an a proposal be developed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ow does it relate to A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an it be more successful than transistor SP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BIS 5.0 be completely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1.1-4.0 syntax is very li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xamples: Package format, [Diff Pin], no pad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hould IBIS 5.0 be compatible with 1.1 – 4.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70080" y="5002200"/>
            <a:ext cx="6702480" cy="12272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IBIS baseline ne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next five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live with our choices for a long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1EF-495E-430E-A739-ACD8BFEDDB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5-03-17T22:11:32Z</dcterms:modified>
  <cp:revision>240</cp:revision>
  <dc:subject>Update to JEITA</dc:subject>
  <dc:title>IBIS Status and Future Direction</dc:title>
</cp:coreProperties>
</file>