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48168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948168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E308-3458-439F-925A-7A4EA767A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4080-2222-4424-886E-78108E5300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88159-667E-4534-BC49-2FA00F37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44EE-7015-4E2A-A456-EC853B7B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9DA02-79F1-46B6-B149-37E883BD06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E240-9036-483D-A1D6-4C814DFB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1786-5C74-41DE-B1EA-D5E0D6CB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AE9D-12FC-47C4-9AF1-FB02B91A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BDC24-F69B-456D-A72D-A0F554FD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CC9E6-1C7C-4D15-970D-F62BA5C8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4481A-59AB-4D8C-953E-11AC4DF9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0204-D0E3-4194-8D8A-DDD9D361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3837A-7E76-4B7D-85AD-06542E5F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E3A4-2E94-4D47-ACD0-16C2BF650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3880"/>
            <a:ext cx="8091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JEITA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ー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BIS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NTACT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EETING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JAP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86728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JEITA ; Japan Electronics and Information Technology Industries Assoc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00240" y="3352680"/>
            <a:ext cx="675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ANUARY  31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BIS SUMMIT in Santa Clara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EITA EDA-WG ,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nas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6610A-66E8-4083-8B4C-B042651F1E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05840" y="838080"/>
            <a:ext cx="719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3333cc"/>
                </a:solidFill>
                <a:latin typeface="Arial"/>
              </a:rPr>
              <a:t>JEITA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1" lang="en-US" sz="7200" spc="-1" strike="noStrike">
                <a:solidFill>
                  <a:srgbClr val="3333cc"/>
                </a:solidFill>
                <a:latin typeface="Arial"/>
              </a:rPr>
              <a:t>nvite you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3333cc"/>
                </a:solidFill>
                <a:latin typeface="Arial"/>
              </a:rPr>
              <a:t>at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3333cc"/>
                </a:solidFill>
                <a:latin typeface="Arial"/>
              </a:rPr>
              <a:t>Tokyo meeting!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3E8F-3B40-4D80-BE14-EB60CBE334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0640" y="685800"/>
            <a:ext cx="582660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ut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5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EITA EDA-WG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Japan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eeting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1E2AD-339B-4EDC-B66B-1A86A4CB41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66680" y="1419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01004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Auto Mobile Electronic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5640" y="317016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gital , RF, and Analog circu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5240" y="46180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(Motor Drive, EM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2920" y="2484360"/>
            <a:ext cx="41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 Phone, LCD /PDP TV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Camera/Video, DVD Rec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1952640"/>
            <a:ext cx="601956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933720"/>
            <a:ext cx="601956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6840" y="2027160"/>
            <a:ext cx="51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0640" y="576252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Applicability of IBIS V4.1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762120"/>
            <a:ext cx="8534160" cy="5331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 of JEITA 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2000" y="-157320"/>
            <a:ext cx="617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JEITA EDA-W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B61F-4FDB-42B0-85DB-C434B0938E8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3554280"/>
            <a:ext cx="1763640" cy="142920"/>
          </a:xfrm>
          <a:custGeom>
            <a:avLst/>
            <a:gdLst>
              <a:gd name="textAreaLeft" fmla="*/ 0 w 1763640"/>
              <a:gd name="textAreaRight" fmla="*/ 1764000 w 1763640"/>
              <a:gd name="textAreaTop" fmla="*/ 18360 h 142920"/>
              <a:gd name="textAreaBottom" fmla="*/ 12456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1523880"/>
            <a:ext cx="5970600" cy="4248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99000" y="2919240"/>
            <a:ext cx="2089080" cy="1440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96200" y="4621320"/>
            <a:ext cx="14500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1573200"/>
            <a:ext cx="1506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7120" y="3097080"/>
            <a:ext cx="1872360" cy="11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LCR, Fil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04880" y="1687680"/>
            <a:ext cx="1907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78440" y="4711680"/>
            <a:ext cx="12643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8160" y="3859200"/>
            <a:ext cx="1872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6040" y="3021120"/>
            <a:ext cx="1179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72760" y="2046240"/>
            <a:ext cx="7887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4764240"/>
            <a:ext cx="17337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stal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05200" y="3855960"/>
            <a:ext cx="1805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72080" y="2990880"/>
            <a:ext cx="1657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8240" y="24876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SI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80880"/>
            <a:ext cx="853416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 for SI, PI and EMI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DE30-B1A7-4E23-9584-D43B484178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3880" y="160020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438280"/>
            <a:ext cx="1828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962520"/>
            <a:ext cx="220968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micondu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1600200"/>
            <a:ext cx="19051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LCR, Filte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5029200"/>
            <a:ext cx="23623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5562720"/>
            <a:ext cx="17528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5334120"/>
            <a:ext cx="12193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3962520"/>
            <a:ext cx="838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4648320"/>
            <a:ext cx="1143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167652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2057400"/>
            <a:ext cx="1295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89548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514600" y="40381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209680" y="4266720"/>
            <a:ext cx="12193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495680" y="4495680"/>
            <a:ext cx="763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562360" y="441972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6400440" y="4191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086240" y="3580920"/>
            <a:ext cx="685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715000" y="22860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876920" y="2133360"/>
            <a:ext cx="75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743200"/>
            <a:ext cx="4496040" cy="175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A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28600"/>
            <a:ext cx="85345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f EDA Model for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320" y="838080"/>
            <a:ext cx="31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0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683D4-F1EA-4834-BEE7-A2325A9088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59360" y="1724040"/>
            <a:ext cx="7963200" cy="4676400"/>
            <a:chOff x="459360" y="1724040"/>
            <a:chExt cx="7963200" cy="4676400"/>
          </a:xfrm>
        </p:grpSpPr>
        <p:sp>
          <p:nvSpPr>
            <p:cNvPr id="107" name=""/>
            <p:cNvSpPr/>
            <p:nvPr/>
          </p:nvSpPr>
          <p:spPr>
            <a:xfrm>
              <a:off x="4527000" y="2049840"/>
              <a:ext cx="1543680" cy="70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EC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oshi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58480" y="4084920"/>
              <a:ext cx="1824480" cy="631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hin Den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82920" y="2470680"/>
              <a:ext cx="1192680" cy="70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D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ur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30680" y="1909440"/>
              <a:ext cx="1403280" cy="1753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anason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o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h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an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oshi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44520" y="4716360"/>
              <a:ext cx="771480" cy="420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M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11080" y="5418360"/>
              <a:ext cx="1052280" cy="420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ectr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63760" y="2681280"/>
              <a:ext cx="1193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983320" y="4295160"/>
              <a:ext cx="420840" cy="21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737240" y="4926600"/>
              <a:ext cx="70200" cy="98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6070320" y="4856760"/>
              <a:ext cx="561240" cy="56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6982560" y="4576320"/>
              <a:ext cx="561240" cy="35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912720" y="3172320"/>
              <a:ext cx="56124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298840" y="2751120"/>
              <a:ext cx="0" cy="56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33960" y="3313080"/>
              <a:ext cx="3999600" cy="161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DA Mod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igital Consumer electron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39280" y="5137560"/>
              <a:ext cx="1473480" cy="126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Fujits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itsubish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ps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913120" y="4646520"/>
              <a:ext cx="912240" cy="98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9360" y="1935720"/>
              <a:ext cx="141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Electron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7440" y="4786560"/>
              <a:ext cx="23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EDA</a:t>
              </a:r>
              <a:r>
                <a:rPr b="1" i="1" lang="en-US" sz="1200" spc="-1" strike="noStrike">
                  <a:solidFill>
                    <a:srgbClr val="cc3300"/>
                  </a:solidFill>
                  <a:latin typeface="Arial"/>
                </a:rPr>
                <a:t>(internal/vendo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36840" y="5513400"/>
              <a:ext cx="14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Conne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680" y="5092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FP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05920" y="43905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P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66480" y="172404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Semic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4320" y="1864080"/>
              <a:ext cx="15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Passiv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8200" y="3758760"/>
              <a:ext cx="177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Discrete</a:t>
              </a:r>
              <a:r>
                <a:rPr b="1" i="1" lang="zh-CN" sz="1800" spc="-1" strike="noStrike">
                  <a:solidFill>
                    <a:srgbClr val="cc3300"/>
                  </a:solidFill>
                  <a:latin typeface="Arial"/>
                </a:rPr>
                <a:t>　</a:t>
              </a: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14760" y="5839200"/>
              <a:ext cx="1613520" cy="420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J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04920" y="380880"/>
            <a:ext cx="853416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ITA EDA-WG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101772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6 Major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00A6A-ECA7-4C7F-80DC-D9ED553AB2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83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itle of the meeting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u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 JAP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JEITA-IBIS Contact Meeting in  JAPA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urpo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is the most popular international EDA standard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oceed the advanced and efficiency design of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appliance using simulation, JEITA spons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um to exchange the opinion directly with IBIS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um members about the device model for sim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so helpful to decide the direc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leration of the EDA model circulation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development for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762120"/>
            <a:ext cx="8534160" cy="5331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u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 JAPAN (PL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-228600"/>
            <a:ext cx="7543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 Japan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eeting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4DA2-90F3-440C-8455-A5E40E368E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1143000"/>
            <a:ext cx="838224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about the  specifications of IBIS and the use technolog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inion about the standardization of the EDA mode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at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March 24,2005 (Thursday)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:00-17:00   Meeting,   17:30 ~   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lac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JEITA meeting room  (Tokyo, Japan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esent list mem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 IBI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hael Mirmak            4~5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ITA      EDA-WG member     Total 50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Hosted by JEITA EC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80880"/>
            <a:ext cx="853416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u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 JAPAN (PL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5760" y="533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2FF48-F3D1-4535-953D-F4C4C90050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1073160"/>
            <a:ext cx="836604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genda (Tent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:00-10:15   Greeting &amp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:15-11:00   IBIS report  (History &amp; Roadmap) by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Mirma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:00-12:00   2 Technica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from US members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-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-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  3 Technica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 from US, 2 from Jap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-1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　　　　　　                                                       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-1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  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eting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yle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Language : English (No translato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No Tele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Participant (Permitted person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Open Forum members  and JEI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expenses is self-burden, fundament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80880"/>
            <a:ext cx="853416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u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 JAPAN (PL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35760" y="533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52953-BAD5-42CD-ACA6-D6E16879F5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13:22:28Z</dcterms:created>
  <dc:creator>A.Ito</dc:creator>
  <dc:description/>
  <dc:language>en-US</dc:language>
  <cp:lastModifiedBy>伊藤　厚示</cp:lastModifiedBy>
  <dcterms:modified xsi:type="dcterms:W3CDTF">2005-01-28T04:08:42Z</dcterms:modified>
  <cp:revision>243</cp:revision>
  <dc:subject/>
  <dc:title>JEITA</dc:title>
</cp:coreProperties>
</file>